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.png" ContentType="image/png"/>
  <Override PartName="/ppt/media/image2.jpeg" ContentType="image/jpeg"/>
  <Override PartName="/ppt/media/image4.png" ContentType="image/png"/>
  <Override PartName="/ppt/media/image3.gif" ContentType="image/gif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D61E-32F3-4918-A474-C59F901229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АНРЫ В ИСКУССТ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Разработка темы в </a:t>
            </a:r>
            <a:r>
              <a:rPr b="0" lang="en-US" sz="1200" spc="-1" strike="noStrike">
                <a:solidFill>
                  <a:srgbClr val="77933c"/>
                </a:solidFill>
                <a:latin typeface="Calibri"/>
              </a:rPr>
              <a:t>Power Point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укоевой Ларисы Николаев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учителя ГОУ СОШ №11 г. Моск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3B86-AA41-4CB2-B63E-71C9F20C8A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«ТРИ КИТА» - ТРИ ЖАНРА В МУЗЫК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есня,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танец, </a:t>
            </a: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марш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B175-F8DB-4F05-BCA2-66A5274442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Мар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marshe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– франц.) – «ходьб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В музыке так называют пьесы, написанные в чётком, энергичном ритм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Марш пишется в чётном размере</a:t>
            </a: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(2</a:t>
            </a: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/4, 4 /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A09A-8E78-4F2E-BBD5-A74C950ACB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иды марш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роевой, походный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стреч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100" spc="-1" strike="noStrike">
                <a:solidFill>
                  <a:srgbClr val="0070c0"/>
                </a:solidFill>
                <a:latin typeface="Calibri"/>
              </a:rPr>
              <a:t>исполняется при церемонии встречи гост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портив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онцерт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игрушеч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EFCC-29C9-4098-8385-20492F7D66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Примеры маршей в музыке композиторов-класс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М.И.Глин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рш Черномора из оперы «Руслан и Людмил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.И.Чайковский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Детский альбом» – «Марш деревянных солдатиков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М.Блантер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Футбольный марш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BC0F-858D-4604-8AA9-BE29B37583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а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ru-RU" sz="1200" spc="-1" strike="noStrike">
                <a:solidFill>
                  <a:srgbClr val="ff0000"/>
                </a:solidFill>
                <a:latin typeface="바탕"/>
                <a:ea typeface="바탕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Blackadder ITC"/>
              </a:rPr>
              <a:t>Танец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  <a:ea typeface="바탕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바탕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ru-RU" sz="1200" spc="-1" strike="noStrike">
                <a:solidFill>
                  <a:srgbClr val="0070c0"/>
                </a:solidFill>
                <a:latin typeface="바탕"/>
                <a:ea typeface="바탕"/>
              </a:rPr>
              <a:t>это вид искусства, в котором мысли и чувства передаются при помощи движений под музы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У каждого народа есть свои танц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хоровод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– рус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гопак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– украин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полонез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– поль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полька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– чеш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болеро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– испан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лезгинка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– грузинск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C018-D87B-4B34-889E-1E025A12DD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1400" spc="-1" strike="noStrike">
                <a:solidFill>
                  <a:srgbClr val="ff0000"/>
                </a:solidFill>
                <a:latin typeface="Calibri"/>
              </a:rPr>
              <a:t>Примеры танцев в музыке композиторов-класси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И.Глинка.</a:t>
            </a: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льс – фантаз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П.И.Чайковски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цветов» из балета «Щелкунчи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Равель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ер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Огиньски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лонез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А.Хачатурян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езгинка» из балета «Гаян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Мусоргски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опак» из оперы «Сорочинская ярмар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85DD-E20E-474D-8730-298060B292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ес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b050"/>
                </a:solidFill>
                <a:latin typeface="Calibri"/>
              </a:rPr>
              <a:t>Песня  (мелодия + сло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B0D0-2A33-4B6B-B66F-B0C470B9A2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бщее понятие «жан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Жан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558ed5"/>
                </a:solidFill>
                <a:latin typeface="Calibri"/>
              </a:rPr>
              <a:t>(франц.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ип, род, манера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Этим словом мы называем вид произведения, который имеет свои отличительные черты, своё содержание, форму и наз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1F59-88A6-4EA3-A0A4-B9F0212553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Жанры живопис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ртр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йза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тюрм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91CB-D5BA-4CDF-92B6-909A367577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Картина, на которой изображён человек, называется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B6CF-E041-47B1-97D7-58AAF57842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йза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Если на полотне изображена природа это –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пейзаж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b050"/>
                </a:solidFill>
                <a:latin typeface="Calibri"/>
              </a:rPr>
              <a:t>(франц. – «местность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7D08-D8F0-44A0-98FE-2B62EB0D25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атюрм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жение фруктов, цветов, дичи и т.д. называется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натюрморто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ранц. - «мёртвая природ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FA13-87FA-4CDE-A6D9-4CCCDD90B5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Жанры в литера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литературе есть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весть, роман, рассказ, очер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литературные жан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DA10-BD45-4770-A031-03C7FBBE7F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Жанры в музы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</a:rPr>
              <a:t>Различаются по способу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спол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вокальный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вокально-инструментальный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инструментальны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06EA-EEF0-47D5-925F-A0A13D21AD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Три кита» в музы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Много лет назад замечательный педагог и композитор Д.Б.Кабалевский сравнил музыкальные жанры с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тремя китами»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на которых держится вся му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91BC-06BB-4B76-AEFA-067DD9B0C4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0AE5-0C5A-47A4-985E-5A37A780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EACA-569E-4A56-BE58-2CA3689E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C38E-0530-43C9-A874-74230782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68DB-ECDD-477A-912C-58798C1A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D716-EBBE-4268-B58C-BED5B36C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ACE1-6CB7-462A-B284-3E8473F5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E8A1-B0AE-422E-95EB-A3FA082C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F545-AF8E-48B7-99E3-A3FEC605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EB91-3026-4672-B696-575EF2D6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5349-2AF7-4F41-BC6C-6EFE8705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583F-BBFF-428A-8ADD-4D60D117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5B4B-23C1-48DE-ACC1-B8325AC1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B551-B734-452F-B52C-6D6CA8C017A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C9F8-2C1E-4204-BAB6-8E1A83CD4D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573120" y="2212920"/>
            <a:ext cx="7772400" cy="1646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28840" y="4500720"/>
            <a:ext cx="6400800" cy="1752480"/>
          </a:xfrm>
          <a:prstGeom prst="rect">
            <a:avLst/>
          </a:prstGeom>
          <a:solidFill>
            <a:srgbClr val="ffffff"/>
          </a:solidFill>
          <a:ln w="5508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Calibri"/>
              </a:rPr>
              <a:t>Разработка темы в </a:t>
            </a:r>
            <a:r>
              <a:rPr b="0" lang="en-US" sz="2800" spc="-1" strike="noStrike">
                <a:solidFill>
                  <a:srgbClr val="77933c"/>
                </a:solidFill>
                <a:latin typeface="Calibri"/>
              </a:rPr>
              <a:t>Power Point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укоевой Ларисы Николаевн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Calibri"/>
              </a:rPr>
              <a:t>учителя ГОУ СОШ №11 г. Москв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8" descr="маски.jpg"/>
          <p:cNvPicPr/>
          <p:nvPr/>
        </p:nvPicPr>
        <p:blipFill>
          <a:blip r:embed="rId2"/>
          <a:stretch/>
        </p:blipFill>
        <p:spPr>
          <a:xfrm>
            <a:off x="3214800" y="428760"/>
            <a:ext cx="2857320" cy="1761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0" descr="нотки блеск.gif"/>
          <p:cNvPicPr/>
          <p:nvPr/>
        </p:nvPicPr>
        <p:blipFill>
          <a:blip r:embed="rId3"/>
          <a:stretch/>
        </p:blipFill>
        <p:spPr>
          <a:xfrm>
            <a:off x="285840" y="500040"/>
            <a:ext cx="2214360" cy="171468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есня,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танец,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марш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3" descr="triangle copy.jpg"/>
          <p:cNvPicPr/>
          <p:nvPr/>
        </p:nvPicPr>
        <p:blipFill>
          <a:blip r:embed="rId1"/>
          <a:stretch/>
        </p:blipFill>
        <p:spPr>
          <a:xfrm>
            <a:off x="2357280" y="3571920"/>
            <a:ext cx="4038840" cy="1638360"/>
          </a:xfrm>
          <a:prstGeom prst="rect">
            <a:avLst/>
          </a:prstGeom>
          <a:ln w="0">
            <a:noFill/>
          </a:ln>
        </p:spPr>
      </p:pic>
      <p:pic>
        <p:nvPicPr>
          <p:cNvPr id="86" name="Облако 4" descr=""/>
          <p:cNvPicPr/>
          <p:nvPr/>
        </p:nvPicPr>
        <p:blipFill>
          <a:blip r:embed="rId2"/>
          <a:stretch/>
        </p:blipFill>
        <p:spPr>
          <a:xfrm>
            <a:off x="2200320" y="2060640"/>
            <a:ext cx="4333680" cy="1931760"/>
          </a:xfrm>
          <a:prstGeom prst="rect">
            <a:avLst/>
          </a:prstGeom>
          <a:ln w="0">
            <a:noFill/>
          </a:ln>
        </p:spPr>
      </p:pic>
      <p:cxnSp>
        <p:nvCxnSpPr>
          <p:cNvPr id="87" name="Прямая со стрелкой 6"/>
          <p:cNvCxnSpPr/>
          <p:nvPr/>
        </p:nvCxnSpPr>
        <p:spPr>
          <a:xfrm flipV="1">
            <a:off x="2000160" y="4786200"/>
            <a:ext cx="858240" cy="643320"/>
          </a:xfrm>
          <a:prstGeom prst="straightConnector1">
            <a:avLst/>
          </a:prstGeom>
          <a:ln w="82440">
            <a:solidFill>
              <a:srgbClr val="1f497d"/>
            </a:solidFill>
            <a:prstDash val="sysDot"/>
            <a:bevel/>
            <a:tailEnd len="med" type="stealth" w="med"/>
          </a:ln>
        </p:spPr>
      </p:cxnSp>
      <p:cxnSp>
        <p:nvCxnSpPr>
          <p:cNvPr id="88" name="Прямая со стрелкой 7"/>
          <p:cNvCxnSpPr/>
          <p:nvPr/>
        </p:nvCxnSpPr>
        <p:spPr>
          <a:xfrm flipV="1">
            <a:off x="4500720" y="4714200"/>
            <a:ext cx="2160" cy="786600"/>
          </a:xfrm>
          <a:prstGeom prst="straightConnector1">
            <a:avLst/>
          </a:prstGeom>
          <a:ln w="82440">
            <a:solidFill>
              <a:srgbClr val="1f497d"/>
            </a:solidFill>
            <a:prstDash val="sysDot"/>
            <a:bevel/>
            <a:tailEnd len="med" type="stealth" w="med"/>
          </a:ln>
        </p:spPr>
      </p:cxnSp>
      <p:cxnSp>
        <p:nvCxnSpPr>
          <p:cNvPr id="89" name="Прямая со стрелкой 8"/>
          <p:cNvCxnSpPr/>
          <p:nvPr/>
        </p:nvCxnSpPr>
        <p:spPr>
          <a:xfrm flipH="1" flipV="1">
            <a:off x="5857560" y="4785840"/>
            <a:ext cx="714960" cy="572400"/>
          </a:xfrm>
          <a:prstGeom prst="straightConnector1">
            <a:avLst/>
          </a:prstGeom>
          <a:ln w="82440">
            <a:solidFill>
              <a:srgbClr val="1f497d"/>
            </a:solidFill>
            <a:prstDash val="sysDot"/>
            <a:bevel/>
            <a:tailEnd len="med" type="stealth" w="med"/>
          </a:ln>
        </p:spPr>
      </p:cxnSp>
      <p:sp>
        <p:nvSpPr>
          <p:cNvPr id="90" name="TextBox 17"/>
          <p:cNvSpPr/>
          <p:nvPr/>
        </p:nvSpPr>
        <p:spPr>
          <a:xfrm>
            <a:off x="1143000" y="5500800"/>
            <a:ext cx="19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ес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8"/>
          <p:cNvSpPr/>
          <p:nvPr/>
        </p:nvSpPr>
        <p:spPr>
          <a:xfrm>
            <a:off x="4071960" y="54291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Тан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9"/>
          <p:cNvSpPr/>
          <p:nvPr/>
        </p:nvSpPr>
        <p:spPr>
          <a:xfrm>
            <a:off x="6286680" y="53578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Calibri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20" descr=""/>
          <p:cNvPicPr/>
          <p:nvPr/>
        </p:nvPicPr>
        <p:blipFill>
          <a:blip r:embed="rId3"/>
          <a:stretch/>
        </p:blipFill>
        <p:spPr>
          <a:xfrm>
            <a:off x="304920" y="536400"/>
            <a:ext cx="7980120" cy="10242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1" descr="нотки.jpg"/>
          <p:cNvPicPr/>
          <p:nvPr/>
        </p:nvPicPr>
        <p:blipFill>
          <a:blip r:embed="rId4"/>
          <a:stretch/>
        </p:blipFill>
        <p:spPr>
          <a:xfrm>
            <a:off x="428760" y="178596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2" descr="нотки.jpg"/>
          <p:cNvPicPr/>
          <p:nvPr/>
        </p:nvPicPr>
        <p:blipFill>
          <a:blip r:embed="rId5"/>
          <a:stretch/>
        </p:blipFill>
        <p:spPr>
          <a:xfrm>
            <a:off x="7000920" y="342900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3" descr="нотки.jpg"/>
          <p:cNvPicPr/>
          <p:nvPr/>
        </p:nvPicPr>
        <p:blipFill>
          <a:blip r:embed="rId6"/>
          <a:stretch/>
        </p:blipFill>
        <p:spPr>
          <a:xfrm>
            <a:off x="1000080" y="342900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4" descr="нотки.jpg"/>
          <p:cNvPicPr/>
          <p:nvPr/>
        </p:nvPicPr>
        <p:blipFill>
          <a:blip r:embed="rId7"/>
          <a:stretch/>
        </p:blipFill>
        <p:spPr>
          <a:xfrm>
            <a:off x="7286760" y="1857240"/>
            <a:ext cx="647640" cy="7876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marshe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– франц.) – «ходьб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В музыке так называют пьесы, написанные в чётком, энергичном ритм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Марш пишется в чётном размере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(2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4, 4 /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3" descr="MarchPaganini.gif"/>
          <p:cNvPicPr/>
          <p:nvPr/>
        </p:nvPicPr>
        <p:blipFill>
          <a:blip r:embed="rId1"/>
          <a:stretch/>
        </p:blipFill>
        <p:spPr>
          <a:xfrm>
            <a:off x="1285920" y="3786120"/>
            <a:ext cx="6215040" cy="26431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иды марш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82580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троевой, походный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встречный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исполняется при церемонии встречи госте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портивны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концертны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игрушечны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3" descr="baraban.jpg"/>
          <p:cNvPicPr/>
          <p:nvPr/>
        </p:nvPicPr>
        <p:blipFill>
          <a:blip r:embed="rId1"/>
          <a:stretch/>
        </p:blipFill>
        <p:spPr>
          <a:xfrm>
            <a:off x="6572160" y="3214800"/>
            <a:ext cx="2214720" cy="32385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57120" y="428760"/>
            <a:ext cx="8229600" cy="59292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Примеры маршей в музыке композиторов-класс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.И.Глинк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арш Черномора из оперы «Руслан и Людмил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.И.Чайковский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Детский альбом» – «Марш деревянных солдатиков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.Блантер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Футбольный марш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Тан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solidFill>
            <a:srgbClr val="ffffff"/>
          </a:solidFill>
          <a:ln w="5508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바탕"/>
                <a:ea typeface="바탕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Blackadder ITC"/>
              </a:rPr>
              <a:t>Танец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바탕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바탕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바탕"/>
                <a:ea typeface="바탕"/>
              </a:rPr>
              <a:t>это вид искусства, в котором мысли и чувства передаются при помощи движений под музы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У каждого народа есть свои танцы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хоровод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 – рус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гопак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 – украин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полонез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 – поль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полька 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– чеш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болеро 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– испан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лезгинка 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– грузинский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tanetc.jpg"/>
          <p:cNvPicPr/>
          <p:nvPr/>
        </p:nvPicPr>
        <p:blipFill>
          <a:blip r:embed="rId1"/>
          <a:stretch/>
        </p:blipFill>
        <p:spPr>
          <a:xfrm>
            <a:off x="5572080" y="3143160"/>
            <a:ext cx="2214720" cy="32734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00040" y="285840"/>
            <a:ext cx="8229600" cy="59292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Примеры танцев в музыке композиторов-классик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И.Глинка.</a:t>
            </a: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Вальс – фантази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П.И.Чайковский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Ва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цветов» из балета «Щелкунчик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Равель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Болеро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Огиньский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олонез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А.Хачатурян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Лезгинка» из балета «Гаян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Мусоргский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Гопак» из оперы «Сорочинская ярмарк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Песн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b050"/>
                </a:solidFill>
                <a:latin typeface="Calibri"/>
              </a:rPr>
              <a:t>Песня  (мелодия + слова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ая соединительная линия 4"/>
          <p:cNvSpPr/>
          <p:nvPr/>
        </p:nvSpPr>
        <p:spPr>
          <a:xfrm flipH="1">
            <a:off x="1428840" y="2214720"/>
            <a:ext cx="1285920" cy="64296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6"/>
          <p:cNvSpPr/>
          <p:nvPr/>
        </p:nvSpPr>
        <p:spPr>
          <a:xfrm>
            <a:off x="2928960" y="2214720"/>
            <a:ext cx="1500120" cy="571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1000080" y="27860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народ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3286080" y="278604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композитор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15"/>
          <p:cNvSpPr/>
          <p:nvPr/>
        </p:nvSpPr>
        <p:spPr>
          <a:xfrm flipH="1">
            <a:off x="1855800" y="3286080"/>
            <a:ext cx="1440" cy="3589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7"/>
          <p:cNvSpPr/>
          <p:nvPr/>
        </p:nvSpPr>
        <p:spPr>
          <a:xfrm>
            <a:off x="1000080" y="3714840"/>
            <a:ext cx="214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имеет варианты, подвержена</a:t>
            </a: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измен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19"/>
          <p:cNvSpPr/>
          <p:nvPr/>
        </p:nvSpPr>
        <p:spPr>
          <a:xfrm flipH="1">
            <a:off x="4500720" y="3214800"/>
            <a:ext cx="1440" cy="5000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0"/>
          <p:cNvSpPr/>
          <p:nvPr/>
        </p:nvSpPr>
        <p:spPr>
          <a:xfrm>
            <a:off x="3357720" y="3714840"/>
            <a:ext cx="271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имеет одного автора, не измен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1"/>
          <p:cNvSpPr/>
          <p:nvPr/>
        </p:nvSpPr>
        <p:spPr>
          <a:xfrm>
            <a:off x="1000080" y="5072040"/>
            <a:ext cx="7429680" cy="1373760"/>
          </a:xfrm>
          <a:prstGeom prst="rect">
            <a:avLst/>
          </a:prstGeom>
          <a:solidFill>
            <a:srgbClr val="ffffff"/>
          </a:solidFill>
          <a:ln w="55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Мелодия</a:t>
            </a:r>
            <a:r>
              <a:rPr b="0" i="1" lang="ru-RU" sz="2800" spc="-1" strike="noStrike">
                <a:solidFill>
                  <a:srgbClr val="e46c0a"/>
                </a:solidFill>
                <a:latin typeface="Calibri"/>
              </a:rPr>
              <a:t> – важнейшая часть не только песенной музыки, но и танцевальной и марше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22" descr="76_4418_647.jpg"/>
          <p:cNvPicPr/>
          <p:nvPr/>
        </p:nvPicPr>
        <p:blipFill>
          <a:blip r:embed="rId1"/>
          <a:stretch/>
        </p:blipFill>
        <p:spPr>
          <a:xfrm>
            <a:off x="6072120" y="3071880"/>
            <a:ext cx="2786040" cy="12859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бщее понятие «жанра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186080"/>
          </a:xfrm>
          <a:prstGeom prst="rect">
            <a:avLst/>
          </a:prstGeom>
          <a:solidFill>
            <a:srgbClr val="ffffff"/>
          </a:solidFill>
          <a:ln w="55080">
            <a:solidFill>
              <a:srgbClr val="4bacc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Жанр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(франц.)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тип, род, манера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376092"/>
                </a:solidFill>
                <a:latin typeface="Calibri"/>
              </a:rPr>
              <a:t>Этим словом мы называем вид произведения, который имеет свои отличительные черты, своё содержание, форму и наз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gradFill rotWithShape="0">
            <a:gsLst>
              <a:gs pos="0">
                <a:srgbClr val="cce8a2"/>
              </a:gs>
              <a:gs pos="100000">
                <a:srgbClr val="effddb"/>
              </a:gs>
            </a:gsLst>
            <a:lin ang="16200000"/>
          </a:gradFill>
          <a:ln w="9360">
            <a:solidFill>
              <a:srgbClr val="9bbb59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nstantia"/>
              </a:rPr>
              <a:t>Жанры живопис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2" descr=""/>
          <p:cNvPicPr/>
          <p:nvPr/>
        </p:nvPicPr>
        <p:blipFill>
          <a:blip r:embed="rId1"/>
          <a:stretch/>
        </p:blipFill>
        <p:spPr>
          <a:xfrm>
            <a:off x="103320" y="2109960"/>
            <a:ext cx="8553240" cy="3985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палитра.jpg"/>
          <p:cNvPicPr/>
          <p:nvPr/>
        </p:nvPicPr>
        <p:blipFill>
          <a:blip r:embed="rId2"/>
          <a:stretch/>
        </p:blipFill>
        <p:spPr>
          <a:xfrm>
            <a:off x="5929200" y="2571840"/>
            <a:ext cx="2643480" cy="25718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5" descr="36139_or.jpg"/>
          <p:cNvPicPr/>
          <p:nvPr/>
        </p:nvPicPr>
        <p:blipFill>
          <a:blip r:embed="rId1"/>
          <a:stretch/>
        </p:blipFill>
        <p:spPr>
          <a:xfrm>
            <a:off x="128520" y="1285920"/>
            <a:ext cx="4260960" cy="509580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4286160" y="2928960"/>
            <a:ext cx="485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76092"/>
                </a:solidFill>
                <a:latin typeface="Calibri"/>
              </a:rPr>
              <a:t>Картина, на которой изображён человек, называется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йза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5" descr="071024115130.jpg"/>
          <p:cNvPicPr/>
          <p:nvPr/>
        </p:nvPicPr>
        <p:blipFill>
          <a:blip r:embed="rId1"/>
          <a:stretch/>
        </p:blipFill>
        <p:spPr>
          <a:xfrm>
            <a:off x="428760" y="1714680"/>
            <a:ext cx="269712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" name="TextBox 8"/>
          <p:cNvSpPr/>
          <p:nvPr/>
        </p:nvSpPr>
        <p:spPr>
          <a:xfrm>
            <a:off x="3500280" y="271476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76092"/>
                </a:solidFill>
                <a:latin typeface="Calibri"/>
              </a:rPr>
              <a:t>Если на полотне изображена природа это –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пейзаж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00b050"/>
                </a:solidFill>
                <a:latin typeface="Calibri"/>
              </a:rPr>
              <a:t>(франц. – «местность»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атюрмо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6" descr="231635.jpg"/>
          <p:cNvPicPr/>
          <p:nvPr/>
        </p:nvPicPr>
        <p:blipFill>
          <a:blip r:embed="rId1"/>
          <a:stretch/>
        </p:blipFill>
        <p:spPr>
          <a:xfrm>
            <a:off x="500040" y="1573200"/>
            <a:ext cx="3968640" cy="4522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8"/>
          <p:cNvSpPr/>
          <p:nvPr/>
        </p:nvSpPr>
        <p:spPr>
          <a:xfrm>
            <a:off x="4714920" y="2786040"/>
            <a:ext cx="32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фруктов, цветов, дичи и т.д. называется 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натюрмортом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франц. - «мёртвая природ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Жанры в литератур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1209857647_p7110009-grose-antique-books-with-c.jpg"/>
          <p:cNvPicPr/>
          <p:nvPr/>
        </p:nvPicPr>
        <p:blipFill>
          <a:blip r:embed="rId1"/>
          <a:stretch/>
        </p:blipFill>
        <p:spPr>
          <a:xfrm>
            <a:off x="428760" y="2143080"/>
            <a:ext cx="441468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4" name="TextBox 4"/>
          <p:cNvSpPr/>
          <p:nvPr/>
        </p:nvSpPr>
        <p:spPr>
          <a:xfrm>
            <a:off x="5286240" y="2143080"/>
            <a:ext cx="3643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 литературе есть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весть, роман, рассказ, очер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Это литературные жан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Жанры в музы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0040" y="1856880"/>
            <a:ext cx="8215200" cy="3429000"/>
          </a:xfrm>
          <a:prstGeom prst="rect">
            <a:avLst/>
          </a:prstGeom>
          <a:solidFill>
            <a:srgbClr val="ffffff"/>
          </a:solidFill>
          <a:ln w="55080">
            <a:solidFill>
              <a:srgbClr val="4bacc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Различаются по способу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исполн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окальный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окально-инструментальный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инструментальный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4" descr="ma_nishtana.gif"/>
          <p:cNvPicPr/>
          <p:nvPr/>
        </p:nvPicPr>
        <p:blipFill>
          <a:blip r:embed="rId1"/>
          <a:stretch/>
        </p:blipFill>
        <p:spPr>
          <a:xfrm>
            <a:off x="214200" y="5429160"/>
            <a:ext cx="8210520" cy="9144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«Три кита» в музы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508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Много лет назад замечательный педагог и композитор Д.Б.Кабалевский сравнил музыкальные жанры с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«тремя китами»</a:t>
            </a: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, </a:t>
            </a: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на которых держится вся музы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3" descr="нотки.jpg"/>
          <p:cNvPicPr/>
          <p:nvPr/>
        </p:nvPicPr>
        <p:blipFill>
          <a:blip r:embed="rId1"/>
          <a:stretch/>
        </p:blipFill>
        <p:spPr>
          <a:xfrm>
            <a:off x="7572240" y="5072040"/>
            <a:ext cx="790560" cy="8589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7:44:14Z</dcterms:created>
  <dc:creator>Пользователь Windows</dc:creator>
  <dc:description/>
  <dc:language>en-US</dc:language>
  <cp:lastModifiedBy>LEGION</cp:lastModifiedBy>
  <dcterms:modified xsi:type="dcterms:W3CDTF">2015-04-02T06:57:55Z</dcterms:modified>
  <cp:revision>38</cp:revision>
  <dc:subject/>
  <dc:title>Жанры в искусстве</dc:title>
</cp:coreProperties>
</file>