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4.png" ContentType="image/png"/>
  <Override PartName="/ppt/media/image3.gif" ContentType="image/gif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9F33-6270-4F39-AC51-7975A12854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НРЫ В ИСКУСС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Разработка темы в </a:t>
            </a:r>
            <a:r>
              <a:rPr b="0" lang="en-US" sz="1200" spc="-1" strike="noStrike">
                <a:solidFill>
                  <a:srgbClr val="77933c"/>
                </a:solidFill>
                <a:latin typeface="Calibri"/>
              </a:rPr>
              <a:t>Power Point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укоевой Ларисы Николаев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учителя ГОУ СОШ №11 г. Моск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045D-B0D4-4B2E-BF73-738D4D70AF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«ТРИ КИТА» - ТРИ ЖАНРА В МУЗЫ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есня,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танец, </a:t>
            </a: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марш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1064-B7FB-43B3-BDFE-3A13005AF5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marshe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– франц.) – «ходьб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В музыке так называют пьесы, написанные в чётком, энергичном рит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арш пишется в чётном размере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(2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/4, 4 /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E3EC-BE7B-4281-B27D-5377CE4CF9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иды марш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роевой, походный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треч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70c0"/>
                </a:solidFill>
                <a:latin typeface="Calibri"/>
              </a:rPr>
              <a:t>исполняется при церемонии встречи гост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портив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онцерт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игруше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37C1-00D7-4E5E-B456-7FC1FA66F9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Примеры маршей в музыке композиторов-класс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.И.Гли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рш Черномора из оперы «Руслан и Людмил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.И.Чайковский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Детский альбом» – «Марш деревянных солдатик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.Бланте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Футбольный марш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6E5D-F579-496E-B644-055DF7841D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바탕"/>
                <a:ea typeface="바탕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Blackadder ITC"/>
              </a:rPr>
              <a:t>Танец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바탕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바탕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ru-RU" sz="1200" spc="-1" strike="noStrike">
                <a:solidFill>
                  <a:srgbClr val="0070c0"/>
                </a:solidFill>
                <a:latin typeface="바탕"/>
                <a:ea typeface="바탕"/>
              </a:rPr>
              <a:t>это вид искусства, в котором мысли и чувства передаются при помощи движений под музы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У каждого народа есть свои танц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хоровод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рус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гопак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украин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полонез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поль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полька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чеш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болеро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испан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лезгинка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грузинск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70E4-8112-4445-A85F-3AB41D86E5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0000"/>
                </a:solidFill>
                <a:latin typeface="Calibri"/>
              </a:rPr>
              <a:t>Примеры танцев в музыке композиторов-класс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И.Глинка.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ьс – фантаз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П.И.Чайков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ов» из балета «Щелкунчи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Равель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ер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Огинь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лоне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А.Хачатурян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езгинка» из балета «Гая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Мусорг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пак» из оперы «Сорочинская ярмар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0881-0EAC-4A5D-8F7E-068F9D17F8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b050"/>
                </a:solidFill>
                <a:latin typeface="Calibri"/>
              </a:rPr>
              <a:t>Песня  (мелодия + сло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2D64-09D9-4062-9A0E-7B407BD993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щее понятие «жан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Жан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558ed5"/>
                </a:solidFill>
                <a:latin typeface="Calibri"/>
              </a:rPr>
              <a:t>(франц.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ип, род, манера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Этим словом мы называем вид произведения, который имеет свои отличительные черты, своё содержание, форму и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6B09-07C3-48EA-B06D-3C1155214F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Жанры живопис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тюрм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0BB4-888B-45D0-B767-4623D13733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Картина, на которой изображён человек, называется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E074-61DF-46C6-AA3D-BE38205458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Если на полотне изображена природа это –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пейзаж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alibri"/>
              </a:rPr>
              <a:t>(франц. – «местность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14F1-303B-4B3B-B77C-8388A0C39A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тюрм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фруктов, цветов, дичи и т.д. называется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натюрморт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ранц. - «мёртвая природ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7D7B-C81E-499B-A53C-CD352F6272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Жанры в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литературе есть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весть, роман, рассказ, очер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литературные жан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79C9-EB42-41D0-B80F-4400695FF7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Жанры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</a:rPr>
              <a:t>Различаются по способу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спол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окальный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окально-инструментальный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инструментальны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649C-5AAC-4FB0-932C-961790AAE8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Три кита»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Много лет назад замечательный педагог и композитор Д.Б.Кабалевский сравнил музыкальные жанры с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тремя китами»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на которых держится вся му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1830-35DB-4571-89DF-243E58D692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F98-8B3C-4208-928E-3E90A017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3C4A-6252-4882-A895-C62E49D4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657-5097-4076-A120-23EAAD34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B4A8-7681-4010-8BA2-B53029BD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1FF-C9E0-4388-A107-FB011621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749C-37AB-476E-918B-93087747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A05-25EE-403A-942C-A780974A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C0FF-8469-43BF-A5C6-4108180F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AAFB-034D-4EA5-9A7F-1AF8AC08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17E8-35E7-479A-AE73-A68C0A21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0DD-21BE-4EFE-AC3C-BCF6ED51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4331-3DA5-4C8C-ACD1-DA00B782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0B6D-55FF-4FBA-8139-332444C826E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A92C-0909-46D1-B209-C532925C2F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573120" y="2212920"/>
            <a:ext cx="7772400" cy="1646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28840" y="4500720"/>
            <a:ext cx="6400800" cy="1752480"/>
          </a:xfrm>
          <a:prstGeom prst="rect">
            <a:avLst/>
          </a:prstGeom>
          <a:solidFill>
            <a:srgbClr val="ffffff"/>
          </a:solidFill>
          <a:ln w="5508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Разработка темы в </a:t>
            </a:r>
            <a:r>
              <a:rPr b="0" lang="en-US" sz="2800" spc="-1" strike="noStrike">
                <a:solidFill>
                  <a:srgbClr val="77933c"/>
                </a:solidFill>
                <a:latin typeface="Calibri"/>
              </a:rPr>
              <a:t>Power Point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укоевой Ларисы Николаевн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учителя ГОУ СОШ №11 г. Моск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8" descr="маски.jpg"/>
          <p:cNvPicPr/>
          <p:nvPr/>
        </p:nvPicPr>
        <p:blipFill>
          <a:blip r:embed="rId2"/>
          <a:stretch/>
        </p:blipFill>
        <p:spPr>
          <a:xfrm>
            <a:off x="3214800" y="428760"/>
            <a:ext cx="2857320" cy="1761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0" descr="нотки блеск.gif"/>
          <p:cNvPicPr/>
          <p:nvPr/>
        </p:nvPicPr>
        <p:blipFill>
          <a:blip r:embed="rId3"/>
          <a:stretch/>
        </p:blipFill>
        <p:spPr>
          <a:xfrm>
            <a:off x="285840" y="500040"/>
            <a:ext cx="2214360" cy="171468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есня,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танец,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марш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triangle copy.jpg"/>
          <p:cNvPicPr/>
          <p:nvPr/>
        </p:nvPicPr>
        <p:blipFill>
          <a:blip r:embed="rId1"/>
          <a:stretch/>
        </p:blipFill>
        <p:spPr>
          <a:xfrm>
            <a:off x="2357280" y="3571920"/>
            <a:ext cx="4038840" cy="1638360"/>
          </a:xfrm>
          <a:prstGeom prst="rect">
            <a:avLst/>
          </a:prstGeom>
          <a:ln w="0">
            <a:noFill/>
          </a:ln>
        </p:spPr>
      </p:pic>
      <p:pic>
        <p:nvPicPr>
          <p:cNvPr id="86" name="Облако 4" descr=""/>
          <p:cNvPicPr/>
          <p:nvPr/>
        </p:nvPicPr>
        <p:blipFill>
          <a:blip r:embed="rId2"/>
          <a:stretch/>
        </p:blipFill>
        <p:spPr>
          <a:xfrm>
            <a:off x="2200320" y="2060640"/>
            <a:ext cx="4333680" cy="1931760"/>
          </a:xfrm>
          <a:prstGeom prst="rect">
            <a:avLst/>
          </a:prstGeom>
          <a:ln w="0">
            <a:noFill/>
          </a:ln>
        </p:spPr>
      </p:pic>
      <p:cxnSp>
        <p:nvCxnSpPr>
          <p:cNvPr id="87" name="Прямая со стрелкой 6"/>
          <p:cNvCxnSpPr/>
          <p:nvPr/>
        </p:nvCxnSpPr>
        <p:spPr>
          <a:xfrm flipV="1">
            <a:off x="2000160" y="4786200"/>
            <a:ext cx="858240" cy="64332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cxnSp>
        <p:nvCxnSpPr>
          <p:cNvPr id="88" name="Прямая со стрелкой 7"/>
          <p:cNvCxnSpPr/>
          <p:nvPr/>
        </p:nvCxnSpPr>
        <p:spPr>
          <a:xfrm flipV="1">
            <a:off x="4500720" y="4714200"/>
            <a:ext cx="2160" cy="78660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cxnSp>
        <p:nvCxnSpPr>
          <p:cNvPr id="89" name="Прямая со стрелкой 8"/>
          <p:cNvCxnSpPr/>
          <p:nvPr/>
        </p:nvCxnSpPr>
        <p:spPr>
          <a:xfrm flipH="1" flipV="1">
            <a:off x="5857560" y="4785840"/>
            <a:ext cx="714960" cy="57240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sp>
        <p:nvSpPr>
          <p:cNvPr id="90" name="TextBox 17"/>
          <p:cNvSpPr/>
          <p:nvPr/>
        </p:nvSpPr>
        <p:spPr>
          <a:xfrm>
            <a:off x="1143000" y="550080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4071960" y="54291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Тан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9"/>
          <p:cNvSpPr/>
          <p:nvPr/>
        </p:nvSpPr>
        <p:spPr>
          <a:xfrm>
            <a:off x="6286680" y="5357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Calibri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20" descr=""/>
          <p:cNvPicPr/>
          <p:nvPr/>
        </p:nvPicPr>
        <p:blipFill>
          <a:blip r:embed="rId3"/>
          <a:stretch/>
        </p:blipFill>
        <p:spPr>
          <a:xfrm>
            <a:off x="304920" y="536400"/>
            <a:ext cx="7980120" cy="1024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1" descr="нотки.jpg"/>
          <p:cNvPicPr/>
          <p:nvPr/>
        </p:nvPicPr>
        <p:blipFill>
          <a:blip r:embed="rId4"/>
          <a:stretch/>
        </p:blipFill>
        <p:spPr>
          <a:xfrm>
            <a:off x="428760" y="178596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2" descr="нотки.jpg"/>
          <p:cNvPicPr/>
          <p:nvPr/>
        </p:nvPicPr>
        <p:blipFill>
          <a:blip r:embed="rId5"/>
          <a:stretch/>
        </p:blipFill>
        <p:spPr>
          <a:xfrm>
            <a:off x="7000920" y="3429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3" descr="нотки.jpg"/>
          <p:cNvPicPr/>
          <p:nvPr/>
        </p:nvPicPr>
        <p:blipFill>
          <a:blip r:embed="rId6"/>
          <a:stretch/>
        </p:blipFill>
        <p:spPr>
          <a:xfrm>
            <a:off x="1000080" y="3429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4" descr="нотки.jpg"/>
          <p:cNvPicPr/>
          <p:nvPr/>
        </p:nvPicPr>
        <p:blipFill>
          <a:blip r:embed="rId7"/>
          <a:stretch/>
        </p:blipFill>
        <p:spPr>
          <a:xfrm>
            <a:off x="7286760" y="1857240"/>
            <a:ext cx="647640" cy="7876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arshe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– франц.) – «ходьб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В музыке так называют пьесы, написанные в чётком, энергичном ритм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Марш пишется в чётном размере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2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4, 4 /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MarchPaganini.gif"/>
          <p:cNvPicPr/>
          <p:nvPr/>
        </p:nvPicPr>
        <p:blipFill>
          <a:blip r:embed="rId1"/>
          <a:stretch/>
        </p:blipFill>
        <p:spPr>
          <a:xfrm>
            <a:off x="1285920" y="3786120"/>
            <a:ext cx="6215040" cy="26431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иды марш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82580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троевой, походный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стречный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исполняется при церемонии встречи гост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портив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онцерт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грушечны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3" descr="baraban.jpg"/>
          <p:cNvPicPr/>
          <p:nvPr/>
        </p:nvPicPr>
        <p:blipFill>
          <a:blip r:embed="rId1"/>
          <a:stretch/>
        </p:blipFill>
        <p:spPr>
          <a:xfrm>
            <a:off x="6572160" y="3214800"/>
            <a:ext cx="2214720" cy="32385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57120" y="428760"/>
            <a:ext cx="8229600" cy="59292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Примеры маршей в музыке композиторов-класс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.И.Глинк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арш Черномора из оперы «Руслан и Людмил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.И.Чайковский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Детский альбом» – «Марш деревянных солдатиков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.Блантер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Футбольный марш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solidFill>
            <a:srgbClr val="ffffff"/>
          </a:solidFill>
          <a:ln w="5508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바탕"/>
                <a:ea typeface="바탕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Blackadder ITC"/>
              </a:rPr>
              <a:t>Танец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바탕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바탕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바탕"/>
                <a:ea typeface="바탕"/>
              </a:rPr>
              <a:t>это вид искусства, в котором мысли и чувства передаются при помощи движений под музы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У каждого народа есть свои танцы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хоровод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рус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гопак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украин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полонез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поль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полька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чеш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болеро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испан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лезгинка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грузинский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tanetc.jpg"/>
          <p:cNvPicPr/>
          <p:nvPr/>
        </p:nvPicPr>
        <p:blipFill>
          <a:blip r:embed="rId1"/>
          <a:stretch/>
        </p:blipFill>
        <p:spPr>
          <a:xfrm>
            <a:off x="5572080" y="3143160"/>
            <a:ext cx="2214720" cy="32734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00040" y="285840"/>
            <a:ext cx="8229600" cy="59292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Примеры танцев в музыке композиторов-классик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И.Глинка.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альс – фантази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П.И.Чайков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а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цветов» из балета «Щелкунчик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Равель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Болеро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Огинь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лонез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А.Хачатурян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Лезгинка» из балета «Гаян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Мусорг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Гопак» из оперы «Сорочинская ярмарк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b050"/>
                </a:solidFill>
                <a:latin typeface="Calibri"/>
              </a:rPr>
              <a:t>Песня  (мелодия + слова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ая соединительная линия 4"/>
          <p:cNvSpPr/>
          <p:nvPr/>
        </p:nvSpPr>
        <p:spPr>
          <a:xfrm flipH="1">
            <a:off x="1428840" y="2214720"/>
            <a:ext cx="1285920" cy="64296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>
            <a:off x="2928960" y="2214720"/>
            <a:ext cx="1500120" cy="571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000080" y="27860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нар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3286080" y="278604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композитор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15"/>
          <p:cNvSpPr/>
          <p:nvPr/>
        </p:nvSpPr>
        <p:spPr>
          <a:xfrm flipH="1">
            <a:off x="1855800" y="3286080"/>
            <a:ext cx="1440" cy="3589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1000080" y="3714840"/>
            <a:ext cx="214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меет варианты, подвержена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змен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19"/>
          <p:cNvSpPr/>
          <p:nvPr/>
        </p:nvSpPr>
        <p:spPr>
          <a:xfrm flipH="1">
            <a:off x="4500720" y="3214800"/>
            <a:ext cx="1440" cy="5000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0"/>
          <p:cNvSpPr/>
          <p:nvPr/>
        </p:nvSpPr>
        <p:spPr>
          <a:xfrm>
            <a:off x="3357720" y="3714840"/>
            <a:ext cx="27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меет одного автора, не измен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1"/>
          <p:cNvSpPr/>
          <p:nvPr/>
        </p:nvSpPr>
        <p:spPr>
          <a:xfrm>
            <a:off x="1000080" y="5072040"/>
            <a:ext cx="7429680" cy="1373760"/>
          </a:xfrm>
          <a:prstGeom prst="rect">
            <a:avLst/>
          </a:prstGeom>
          <a:solidFill>
            <a:srgbClr val="ffffff"/>
          </a:solidFill>
          <a:ln w="55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Мелодия</a:t>
            </a:r>
            <a:r>
              <a:rPr b="0" i="1" lang="ru-RU" sz="2800" spc="-1" strike="noStrike">
                <a:solidFill>
                  <a:srgbClr val="e46c0a"/>
                </a:solidFill>
                <a:latin typeface="Calibri"/>
              </a:rPr>
              <a:t> – важнейшая часть не только песенной музыки, но и танцевальной и марше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2" descr="76_4418_647.jpg"/>
          <p:cNvPicPr/>
          <p:nvPr/>
        </p:nvPicPr>
        <p:blipFill>
          <a:blip r:embed="rId1"/>
          <a:stretch/>
        </p:blipFill>
        <p:spPr>
          <a:xfrm>
            <a:off x="6072120" y="3071880"/>
            <a:ext cx="2786040" cy="1285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бщее понятие «жанра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186080"/>
          </a:xfrm>
          <a:prstGeom prst="rect">
            <a:avLst/>
          </a:prstGeom>
          <a:solidFill>
            <a:srgbClr val="ffffff"/>
          </a:solidFill>
          <a:ln w="55080">
            <a:solidFill>
              <a:srgbClr val="4bacc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(франц.)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тип, род, манера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376092"/>
                </a:solidFill>
                <a:latin typeface="Calibri"/>
              </a:rPr>
              <a:t>Этим словом мы называем вид произведения, который имеет свои отличительные черты, своё содержание, форму и наз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gradFill rotWithShape="0">
            <a:gsLst>
              <a:gs pos="0">
                <a:srgbClr val="cce8a2"/>
              </a:gs>
              <a:gs pos="100000">
                <a:srgbClr val="effddb"/>
              </a:gs>
            </a:gsLst>
            <a:lin ang="16200000"/>
          </a:gradFill>
          <a:ln w="9360">
            <a:solidFill>
              <a:srgbClr val="9bbb5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nstantia"/>
              </a:rPr>
              <a:t>Жанры живопис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2" descr=""/>
          <p:cNvPicPr/>
          <p:nvPr/>
        </p:nvPicPr>
        <p:blipFill>
          <a:blip r:embed="rId1"/>
          <a:stretch/>
        </p:blipFill>
        <p:spPr>
          <a:xfrm>
            <a:off x="103320" y="2109960"/>
            <a:ext cx="8553240" cy="3985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палитра.jpg"/>
          <p:cNvPicPr/>
          <p:nvPr/>
        </p:nvPicPr>
        <p:blipFill>
          <a:blip r:embed="rId2"/>
          <a:stretch/>
        </p:blipFill>
        <p:spPr>
          <a:xfrm>
            <a:off x="5929200" y="2571840"/>
            <a:ext cx="2643480" cy="25718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5" descr="36139_or.jpg"/>
          <p:cNvPicPr/>
          <p:nvPr/>
        </p:nvPicPr>
        <p:blipFill>
          <a:blip r:embed="rId1"/>
          <a:stretch/>
        </p:blipFill>
        <p:spPr>
          <a:xfrm>
            <a:off x="128520" y="1285920"/>
            <a:ext cx="4260960" cy="5095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4286160" y="2928960"/>
            <a:ext cx="485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76092"/>
                </a:solidFill>
                <a:latin typeface="Calibri"/>
              </a:rPr>
              <a:t>Картина, на которой изображён человек, называется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5" descr="071024115130.jpg"/>
          <p:cNvPicPr/>
          <p:nvPr/>
        </p:nvPicPr>
        <p:blipFill>
          <a:blip r:embed="rId1"/>
          <a:stretch/>
        </p:blipFill>
        <p:spPr>
          <a:xfrm>
            <a:off x="428760" y="1714680"/>
            <a:ext cx="26971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TextBox 8"/>
          <p:cNvSpPr/>
          <p:nvPr/>
        </p:nvSpPr>
        <p:spPr>
          <a:xfrm>
            <a:off x="3500280" y="271476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76092"/>
                </a:solidFill>
                <a:latin typeface="Calibri"/>
              </a:rPr>
              <a:t>Если на полотне изображена природа это –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пейзаж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alibri"/>
              </a:rPr>
              <a:t>(франц. – «местность»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тюрм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6" descr="231635.jpg"/>
          <p:cNvPicPr/>
          <p:nvPr/>
        </p:nvPicPr>
        <p:blipFill>
          <a:blip r:embed="rId1"/>
          <a:stretch/>
        </p:blipFill>
        <p:spPr>
          <a:xfrm>
            <a:off x="500040" y="1573200"/>
            <a:ext cx="3968640" cy="4522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8"/>
          <p:cNvSpPr/>
          <p:nvPr/>
        </p:nvSpPr>
        <p:spPr>
          <a:xfrm>
            <a:off x="4714920" y="2786040"/>
            <a:ext cx="32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фруктов, цветов, дичи и т.д. называется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натюрморто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франц. - «мёртвая природ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ы в литератур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1209857647_p7110009-grose-antique-books-with-c.jpg"/>
          <p:cNvPicPr/>
          <p:nvPr/>
        </p:nvPicPr>
        <p:blipFill>
          <a:blip r:embed="rId1"/>
          <a:stretch/>
        </p:blipFill>
        <p:spPr>
          <a:xfrm>
            <a:off x="428760" y="2143080"/>
            <a:ext cx="441468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TextBox 4"/>
          <p:cNvSpPr/>
          <p:nvPr/>
        </p:nvSpPr>
        <p:spPr>
          <a:xfrm>
            <a:off x="5286240" y="2143080"/>
            <a:ext cx="3643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литературе есть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весть, роман, рассказ, очер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то литературные жан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ы в музы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856880"/>
            <a:ext cx="8215200" cy="3429000"/>
          </a:xfrm>
          <a:prstGeom prst="rect">
            <a:avLst/>
          </a:prstGeom>
          <a:solidFill>
            <a:srgbClr val="ffffff"/>
          </a:solidFill>
          <a:ln w="55080">
            <a:solidFill>
              <a:srgbClr val="4bacc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Различаются по способу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исполн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окальный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окально-инструментальный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нструментальный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ma_nishtana.gif"/>
          <p:cNvPicPr/>
          <p:nvPr/>
        </p:nvPicPr>
        <p:blipFill>
          <a:blip r:embed="rId1"/>
          <a:stretch/>
        </p:blipFill>
        <p:spPr>
          <a:xfrm>
            <a:off x="214200" y="5429160"/>
            <a:ext cx="8210520" cy="9144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«Три кита» в музы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508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Много лет назад замечательный педагог и композитор Д.Б.Кабалевский сравнил музыкальные жанры с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«тремя китами»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на которых держится вся музы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3" descr="нотки.jpg"/>
          <p:cNvPicPr/>
          <p:nvPr/>
        </p:nvPicPr>
        <p:blipFill>
          <a:blip r:embed="rId1"/>
          <a:stretch/>
        </p:blipFill>
        <p:spPr>
          <a:xfrm>
            <a:off x="7572240" y="5072040"/>
            <a:ext cx="790560" cy="8589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7:44:14Z</dcterms:created>
  <dc:creator>Пользователь Windows</dc:creator>
  <dc:description/>
  <dc:language>en-US</dc:language>
  <cp:lastModifiedBy>LEGION</cp:lastModifiedBy>
  <dcterms:modified xsi:type="dcterms:W3CDTF">2015-04-02T06:57:55Z</dcterms:modified>
  <cp:revision>38</cp:revision>
  <dc:subject/>
  <dc:title>Жанры в искусстве</dc:title>
</cp:coreProperties>
</file>