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8468-9296-4551-A0B9-C0ED1D007D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ии и псих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одаватель: к.филос.наук, доце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вченко Елена 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6BF2-E95C-492B-A43D-4D4CBA306B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Римский клуб и исследование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Глобальные пробл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мографический криз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кономический криз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Римский клуб – неформальная организация ученых, вперв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применивших метод математического моделирования к исследованию социально-экологических процес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здан в 60-е годы ХХ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1185-39EB-4F87-98F2-A709CA06BD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«Пределы роста» - первый доклад Римскому клуб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остроение динамичной модели ми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f2bec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ные данные – население, капиталовложения, земное пространство, использование природных ресурсов и загряз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огноз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сохранении темпов экономики и роста народонаселения человечество придет к глобальной экологической катастрофе в конц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отказ от идеологии потреби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41C0-39AB-4112-902B-9451773C8B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Военная опасность и 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Использование оружия массового поражен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ет быть спровоцировано нарастающим экономическим неравен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Альтернативная цивилизация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– 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это цивилизация низкоэнергетическая, экологически чистая, полностью демилитаризованная, подлинно человеческа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46CB-4C47-47F0-9E6E-AF1567C970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обретенные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различных типов философских позиций в понимании взаимоотношений общества и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различных фактов и причин глобальных пробл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множества современных сценариев будущ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степени сложности тех проблем, с которыми столкнулось человечеств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философских систем, которые стоят за разнообразными сценариями будущего развития челове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6958-3873-49B1-9187-F57C6DED78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Вопросы для самопрове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биосфера и ноосфера, кем были введены эти понятия и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относятся понятия географическая среда и приро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исследования проводились Римским клубо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ы возможные выходы из кризис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оизведите суть прогнозов оптимистического и пессимистического сценариев будущего развития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C534-9B74-4D48-86D9-5D8FE3CE2F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адания для самопрове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Ответить на вопросы те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оосфера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ие человечества в единую мировую систе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а господства разу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глобального моделировани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обализац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20aa"/>
                </a:solidFill>
                <a:latin typeface="Arial"/>
              </a:rPr>
              <a:t>К глобальным проблем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убка тропических ле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графическая пробле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ое неравен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щение минеральных рес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48BF-3863-470D-81B5-6A9E1A71EA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улин В.С. Социальная философия. -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знецов В.Г., Кузнецова И.Д, Миронов В.В., Момджян К.Х. Философия. – М.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ий словар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д ред. И.Т. Фролова. – М.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Бестужев-Лада И.В. Альтернативная цивилизация. – М.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Аксенов Г.П. Вернадский. – М., 199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Глазачев С.Н., Козлова О.Н. Экологическая культура. – М.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Семенов В.С. Уроки ХХ века и путь в Х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социально-философский анализ и прогноз). – М.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38F6-DC45-4AB9-A6D0-350F30B35D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00AF-D609-403E-89C6-B385EAC9EE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лан л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рода и об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сфера и ноо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ая среда и географический детерми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Экологический и демографический кризис как глобальны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Сущность современной экологической ситу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Римский клуб – неформальная организация уче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«Пределы рост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Во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1C92-214F-4DAD-9316-1840710D09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 Narrow"/>
              </a:rPr>
              <a:t>Требования к знаниям, умениям и навы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х типов философских позиций в понимании взаимоотношений общества и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и философии и глобалистики и футур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в  и причин глобальных пробл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Умения и нав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самостоятельного анализа современных соци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ироваться в современных сценариях миров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ять полученные знания в своей профессиональ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3883-7C7E-4E33-A12D-F88369EC16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 Narrow"/>
              </a:rPr>
              <a:t>Материал для восстановления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подготовки к теме «Философия глобальных проблем» необходимо повторить основные проблемы по темам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гма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я Ново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льтура и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как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F15D-2142-44E6-AC2B-AE8FD02597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ый матери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прове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6519-95E8-4A6A-8AEE-437DEEC617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лючевые по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волю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о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ы ро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ий клу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й императи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2F74-42FA-4A2A-BF44-6AD6B85839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Общество и при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рода – совокупность естественных условий существования человека 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о – обособившаяся часть природы, являющаяся условием и продуктом челове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человеком и обществом происходит своеобразный «обмен веществ», который является необходимым условием существования человека 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йчас протекает процесс перехода оболочки планеты-биосферы в новое геологическое состояние – ноосферу, то есть область, преобразованную разумом и трудом человека сообразно целям и потребностям (В.И.Вернадский, Т.де Шарде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9A06-668C-412A-B01B-2D9D963747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Географическая 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Географическая среда – та часть природы, которая включена в непосредственную деятельность людей на данном историческом отрез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ля развития общества имеет значение как неживая, так и живая природа (биосфера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Географический детерминизм – представление о том, что именно географическая среда полностью определяет развитие общ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 представителями были французские просветители и историки (Ш.Монтескье, А.Тюрго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Х в. стало понятно, что теория предлагала упрощенный подход к общественному разви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72B3-BE1A-4AB0-BC5C-D3980F985E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Экологический кризис как глобальн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кризис – тип экологической ситуации, характеризующийся нарушением динамического равновесия систем «общество-при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кризис носит цивилизационны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порожден всем ходом цивилизацион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20aa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120aa"/>
                </a:solidFill>
                <a:latin typeface="Arial"/>
              </a:rPr>
              <a:t>Сущность современной экологической ситуа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ое истощение природны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о увеличивается численность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7D2B-44B9-4D11-BF96-349ACF8943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2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5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24000" y="315900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Философия глобальных пробл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и и псих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одаватель: к.филос.наук, доц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вченко Елена Слав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сех специаль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Римский клуб и исследование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E6EA-1AAB-4BC0-972C-5778483EADD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24000" y="1413000"/>
          <a:ext cx="6119640" cy="4790880"/>
        </p:xfrm>
        <a:graphic>
          <a:graphicData uri="http://schemas.openxmlformats.org/drawingml/2006/table">
            <a:tbl>
              <a:tblPr/>
              <a:tblGrid>
                <a:gridCol w="6119640"/>
              </a:tblGrid>
              <a:tr h="4804920">
                <a:tc>
                  <a:txBody>
                    <a:bodyPr lIns="72000" rIns="0" tIns="36000" bIns="36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Глобальные проблем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ческая катастро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мографический криз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еский криз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енная опа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Римский клуб – неформальная организация ученых, вперв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применивших метод математического моделирования к исследованию социально-экологических процессов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 в 60-е годы ХХ ве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строение динамичной модели ми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ные данные – население, капиталовложения, земное пространство, использование природных ресурсов и загряз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огноз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сохранении темпов экономики и роста народонаселения человечество придет к глобальной экологической катастрофе в конц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ыход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тказ от идеологии потреби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«Пределы роста» - первый доклад Римскому клу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3280-3C17-4A4C-880A-110317134C6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cvalka"/>
          <p:cNvPicPr/>
          <p:nvPr/>
        </p:nvPicPr>
        <p:blipFill>
          <a:blip r:embed="rId1"/>
          <a:stretch/>
        </p:blipFill>
        <p:spPr>
          <a:xfrm>
            <a:off x="287280" y="1484280"/>
            <a:ext cx="4068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Использование оружия массового пораж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быть спровоцировано нарастающим экономическим неравен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Альтернативная цивилиза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цивилизация низкоэнергетическая, экологически чистая, полностью демилитаризованная, подлинно человеческ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Военная опасность и 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85A6-604F-41A5-B2AC-F3D045E31DF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cdfdg"/>
          <p:cNvPicPr/>
          <p:nvPr/>
        </p:nvPicPr>
        <p:blipFill>
          <a:blip r:embed="rId1"/>
          <a:stretch/>
        </p:blipFill>
        <p:spPr>
          <a:xfrm>
            <a:off x="431640" y="1268280"/>
            <a:ext cx="38419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риобретенные 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D08A-5D9B-4C45-9EFB-DC7D3F28207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различных типов философских позиций в понимании взаимоотношений общества и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различных фактов и причин глобальных проб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множества современных сценариев будущ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степени сложности тех проблем, с которыми столкнулось человече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философских систем, которые стоят за разнообразными сценариями будущего развития челове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опросы для самопрове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8FB7-CFFF-4215-AA9B-312F5D99561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такое биосфера и ноосфера, кем были введены эти понятия и почем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 соотносятся понятия географическая среда и природ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ие исследования проводились Римским клубом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вы возможные выходы из кризис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спроизведите суть прогнозов оптимистического и пессимистического сценариев будущего развития обще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дания для самопрове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тветить на вопросы т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BC73-F331-44DC-B349-B735E8DA7DA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оосфера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ие человечества в единую мировую систе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а господства разу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глобального моделировани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обализац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20aa"/>
                </a:solidFill>
                <a:latin typeface="Arial"/>
              </a:rPr>
              <a:t>К глобальным проблем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убка тропических ле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графическая пробле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ое неравен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щение минеральных рес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1E84-CFF2-417C-8622-1F10A4ED7B8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улин В.С. Социальная философия. - М.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знецов В.Г., Кузнецова И.Д, Миронов В.В., Момджян К.Х. Философия. – М., 199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ский словар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д ред. И.Т. Фролова. – М.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Бестужев-Лада И.В. Альтернативная цивилизация. – М.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Аксенов Г.П. Вернадский. – М., 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Глазачев С.Н., Козлова О.Н. Экологическая культура. – М.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Семенов В.С. Уроки ХХ века и путь в Х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оциально-философский анализ и прогноз). – М.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8568-E6ED-4BBC-B3E1-B0C10D12DE3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лан ле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771F-5261-46E9-9551-9B95754D833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рода и об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сфера и но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ографическая среда и географический детерми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и демографический кризис как глобальные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ность современной экологическ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мский клуб – неформальная организация уче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ределы рос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енная 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Narrow"/>
              </a:rPr>
              <a:t>Требования к знаниям, умениям и навы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899A-797E-4448-8D1E-C052585E0B9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ных типов философских позиций в понимании взаимоотношений общества и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связи философии и глобалистики и футур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в  и причин глобальных проб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мения и навы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самостоятельного анализа современных соци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иентироваться в современных сценариях миров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ять полученные знания в своей 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Narrow"/>
              </a:rPr>
              <a:t>Материал для восстановления зн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269F-D076-4F3E-A6C4-968D186AD54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подготовки к теме «Философия глобальных проблем» необходимо повторить основные проблемы по темам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гма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я Ново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льтура и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как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83A7-EC7B-4B94-AB9F-3924382236A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лючев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CE18-F4C4-48D5-833F-0C90C9E883F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и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ьные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эволю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елы ро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мский кл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импера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щество и 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5B18-6984-4E3E-8BE2-613B1BA0067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рода – совокупность естественных условий существования человека 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– обособившаяся часть природы, являющаяся условием и продуктом челове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человеком и обществом происходит своеобразный «обмен веществ», который является необходимым условием существования человека 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йчас протекает процесс перехода оболочки планеты-биосферы в новое геологическое состояние – ноосферу, то есть область, преобразованную разумом и трудом человека сообразно целям и потребностям (В.И.Вернадский, Т.де Шарде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324000" y="180828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4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еографический детерминизм – представление о том, что именно географическая среда полностью определяет развитие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представителями были французские просветители и историки (Ш.Монтескье, А.Тюрго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ХХ в. стало понятно, что теория предлагала упрощенный подход к общественному развит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еографическая среда – та часть природы, которая включена в непосредственную деятельность людей на данном историческом отрез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азвития общества имеет значение как неживая, так и живая природа (биосфе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Географическая ср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E022-0EDB-4F8A-B1A6-85A12E9658B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2"/>
          <p:cNvSpPr/>
          <p:nvPr/>
        </p:nvSpPr>
        <p:spPr>
          <a:xfrm>
            <a:off x="324000" y="3860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24000" y="1413000"/>
            <a:ext cx="8496000" cy="2340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кризис – тип экологической ситуации, характеризующийся нарушением динамического равновесия систем «общество-при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кризис носит цивилизационны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порожден всем ходом цивилизацион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Экологический кризис как глобальная пробл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1257-3F79-4F24-869B-B6F91B601BA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24000" y="3968640"/>
            <a:ext cx="8496000" cy="2340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Сущность современной экологической ситу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е истощение природных 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 увеличивается численность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>study.vvsu.ru</dc:description>
  <dc:language>en-US</dc:language>
  <cp:lastModifiedBy>LEGION</cp:lastModifiedBy>
  <dcterms:modified xsi:type="dcterms:W3CDTF">2014-11-11T07:53:10Z</dcterms:modified>
  <cp:revision>151</cp:revision>
  <dc:subject/>
  <dc:title>Глобальные проблемы человече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03000000000001024140</vt:lpwstr>
  </property>
</Properties>
</file>