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60E6-C6D2-4F7B-95F7-15DCA4156C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ии и псих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одаватель: к.филос.наук, доцен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евченко Елена 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500A-B2E5-478F-8BA5-0279EA8B10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Римский клуб и исследование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Глобальные пробле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мографический криз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кономический криз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енная 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Римский клуб – неформальная организация ученых, вперв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применивших метод математического моделирования к исследованию социально-экологических процесс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здан в 60-е годы ХХ 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245C-7806-4092-B49E-2D1527815D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«Пределы роста» - первый доклад Римскому клуб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остроение динамичной модели мир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f2bec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ные данные – население, капиталовложения, земное пространство, использование природных ресурсов и загрязн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огноз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сохранении темпов экономики и роста народонаселения человечество придет к глобальной экологической катастрофе в конц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отказ от идеологии потреби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C0AA-F29E-4570-B461-9D143F154E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Военная опасность и альтернативная циви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Использование оружия массового поражен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ет быть спровоцировано нарастающим экономическим неравен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Альтернативная цивилизация 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– </a:t>
            </a:r>
            <a:r>
              <a:rPr b="0" lang="ru-RU" sz="1100" spc="-1" strike="noStrike">
                <a:solidFill>
                  <a:srgbClr val="009999"/>
                </a:solidFill>
                <a:latin typeface="Arial"/>
              </a:rPr>
              <a:t>это цивилизация низкоэнергетическая, экологически чистая, полностью демилитаризованная, подлинно человеческа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9497-D0A2-4D42-ABE2-3BE1E7DE88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обретенные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различных типов философских позиций в понимании взаимоотношений общества и прир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различных фактов и причин глобальных пробл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множества современных сценариев будущ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степени сложности тех проблем, с которыми столкнулось человечеств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философских систем, которые стоят за разнообразными сценариями будущего развития челове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3DCB-F13F-44D5-87C4-A78EBA8F9F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Вопросы для самопрове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биосфера и ноосфера, кем были введены эти понятия и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относятся понятия географическая среда и приро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исследования проводились Римским клубо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ы возможные выходы из кризис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оизведите суть прогнозов оптимистического и пессимистического сценариев будущего развития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0977-B211-4736-85E3-AAB4FE2756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Задания для самопрове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Ответить на вопросы те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оосфера 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динение человечества в единую мировую систе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ера господства разу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глобального моделирования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обализация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20aa"/>
                </a:solidFill>
                <a:latin typeface="Arial"/>
              </a:rPr>
              <a:t>К глобальным проблемам относ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убка тропических ле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графическая пробле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ое неравен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щение минеральных ресур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E280-94DA-4446-9A4E-8477FED818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рулин В.С. Социальная философия. - М.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знецов В.Г., Кузнецова И.Д, Миронов В.В., Момджян К.Х. Философия. – М.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ий словар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д ред. И.Т. Фролова. – М.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Бестужев-Лада И.В. Альтернативная цивилизация. – М.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Аксенов Г.П. Вернадский. – М., 199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Глазачев С.Н., Козлова О.Н. Экологическая культура. – М.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Семенов В.С. Уроки ХХ века и путь в Х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социально-философский анализ и прогноз). – М.,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6812-349E-4575-B543-849FEAE1CD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678D-F202-4A47-9734-E7750CEDD9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лан ле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рода и об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сфера и ноо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ческая среда и географический детермин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Экологический и демографический кризис как глобальны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Сущность современной экологической ситу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Римский клуб – неформальная организация уче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«Пределы рост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Военная 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Альтернативная циви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DA80-CA9B-4F7A-9B7F-E3145C3D07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 Narrow"/>
              </a:rPr>
              <a:t>Требования к знаниям, умениям и навы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ных типов философских позиций в понимании взаимоотношений общества и прир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связи философии и глобалистики и футур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в  и причин глобальных пробл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Умения и навы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ность самостоятельного анализа современных соци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иентироваться в современных сценариях миров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ять полученные знания в своей профессиональ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8CDD-41EC-4A38-97C9-778A9708A9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 Narrow"/>
              </a:rPr>
              <a:t>Материал для восстановления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ля подготовки к теме «Философия глобальных проблем» необходимо повторить основные проблемы по темам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гмат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ия Новог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льтура и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как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9E27-D912-483A-A1E0-C470BABFCF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евые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ый матери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самопрове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мендуем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0B97-9A35-4EC6-A0FE-65E3EE0510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лючевые по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ьтернативная циви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обал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обальны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эволю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о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ы ро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мский клу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ий императи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BF74-504D-4066-A173-4A78A15D80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Общество и при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рода – совокупность естественных условий существования человека и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о – обособившаяся часть природы, являющаяся условием и продуктом человече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человеком и обществом происходит своеобразный «обмен веществ», который является необходимым условием существования человека и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йчас протекает процесс перехода оболочки планеты-биосферы в новое геологическое состояние – ноосферу, то есть область, преобразованную разумом и трудом человека сообразно целям и потребностям (В.И.Вернадский, Т.де Шарде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3F95-CBB8-4673-BF1F-2E93E3F48C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Географическая с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Географическая среда – та часть природы, которая включена в непосредственную деятельность людей на данном историческом отрез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ля развития общества имеет значение как неживая, так и живая природа (биосфера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Географический детерминизм – представление о том, что именно географическая среда полностью определяет развитие общ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го представителями были французские просветители и историки (Ш.Монтескье, А.Тюрго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Х в. стало понятно, что теория предлагала упрощенный подход к общественному развит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432E-C74C-4539-9CDF-1E6011CC36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Экологический кризис как глобальная 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кологический кризис – тип экологической ситуации, характеризующийся нарушением динамического равновесия систем «общество-прир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й кризис носит цивилизационный харак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порожден всем ходом цивилизационн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20aa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120aa"/>
                </a:solidFill>
                <a:latin typeface="Arial"/>
              </a:rPr>
              <a:t>Сущность современной экологической ситуа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строе истощение природных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грязнение окружающей природной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стро увеличивается численность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1B71-D767-45D5-B289-3CC45DF7C2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2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5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324000" y="400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324000" y="3159000"/>
            <a:ext cx="849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Философия глобальных пробл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ии и псих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подаватель: к.филос.наук, доц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евченко Елена Слав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324000" y="422100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сех специаль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Римский клуб и исследование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3597-F04D-48A1-A536-FB0945D1107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24000" y="1413000"/>
          <a:ext cx="6119640" cy="4790880"/>
        </p:xfrm>
        <a:graphic>
          <a:graphicData uri="http://schemas.openxmlformats.org/drawingml/2006/table">
            <a:tbl>
              <a:tblPr/>
              <a:tblGrid>
                <a:gridCol w="6119640"/>
              </a:tblGrid>
              <a:tr h="4804920">
                <a:tc>
                  <a:txBody>
                    <a:bodyPr lIns="72000" rIns="0" tIns="36000" bIns="36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f2bec"/>
                          </a:solidFill>
                          <a:latin typeface="Arial"/>
                        </a:rPr>
                        <a:t>Глобальные проблем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ческая катастроф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мографический кризи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ческий кризи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енная опа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f2bec"/>
                          </a:solidFill>
                          <a:latin typeface="Arial"/>
                        </a:rPr>
                        <a:t>Римский клуб – неформальная организация ученых, вперв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f2bec"/>
                          </a:solidFill>
                          <a:latin typeface="Arial"/>
                        </a:rPr>
                        <a:t>применивших метод математического моделирования к исследованию социально-экологических процессов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 в 60-е годы ХХ век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строение динамичной модели ми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bec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ходные данные – население, капиталовложения, земное пространство, использование природных ресурсов и загрязн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огноз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сохранении темпов экономики и роста народонаселения человечество придет к глобальной экологической катастрофе в конц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ыход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тказ от идеологии потреби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«Пределы роста» - первый доклад Римскому клуб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0748-3C0F-457F-8880-43F69CF4B95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1" descr="cvalka"/>
          <p:cNvPicPr/>
          <p:nvPr/>
        </p:nvPicPr>
        <p:blipFill>
          <a:blip r:embed="rId1"/>
          <a:stretch/>
        </p:blipFill>
        <p:spPr>
          <a:xfrm>
            <a:off x="287280" y="1484280"/>
            <a:ext cx="4068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bec"/>
                </a:solidFill>
                <a:latin typeface="Arial"/>
              </a:rPr>
              <a:t>Использование оружия массового пораж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быть спровоцировано нарастающим экономическим неравен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bec"/>
                </a:solidFill>
                <a:latin typeface="Arial"/>
              </a:rPr>
              <a:t>Альтернативная цивилизац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цивилизация низкоэнергетическая, экологически чистая, полностью демилитаризованная, подлинно человеческ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Военная опасность и альтернативная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4E0C-C726-421F-AD4C-917C4136882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cdfdg"/>
          <p:cNvPicPr/>
          <p:nvPr/>
        </p:nvPicPr>
        <p:blipFill>
          <a:blip r:embed="rId1"/>
          <a:stretch/>
        </p:blipFill>
        <p:spPr>
          <a:xfrm>
            <a:off x="431640" y="1268280"/>
            <a:ext cx="38419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риобретенные зн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45C5-9E58-4684-9B5F-99EC6490B2C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различных типов философских позиций в понимании взаимоотношений общества и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различных фактов и причин глобальных пробл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множества современных сценариев будущ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степени сложности тех проблем, с которыми столкнулось человече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философских систем, которые стоят за разнообразными сценариями будущего развития челове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Вопросы для самопрове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2384-26A5-4085-BFE7-027420993E7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 такое биосфера и ноосфера, кем были введены эти понятия и почему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 соотносятся понятия географическая среда и природ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ие исследования проводились Римским клубом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овы возможные выходы из кризис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спроизведите суть прогнозов оптимистического и пессимистического сценариев будущего развития обще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дания для самопрове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тветить на вопросы те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2933-3C84-45AB-98C0-DBD274C3D85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оосфера 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динение человечества в единую мировую систе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ера господства разу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глобального моделирования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обализация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20aa"/>
                </a:solidFill>
                <a:latin typeface="Arial"/>
              </a:rPr>
              <a:t>К глобальным проблемам относ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убка тропических ле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графическая пробле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ое неравен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щение минеральных ресур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56BE-B0E1-409F-B44A-AFB72A35835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рулин В.С. Социальная философия. - М.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знецов В.Г., Кузнецова И.Д, Миронов В.В., Момджян К.Х. Философия. – М., 199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ский словар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д ред. И.Т. Фролова. – М.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Бестужев-Лада И.В. Альтернативная цивилизация. – М.,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Аксенов Г.П. Вернадский. – М., 19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Глазачев С.Н., Козлова О.Н. Экологическая культура. – М.,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Семенов В.С. Уроки ХХ века и путь в Х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оциально-философский анализ и прогноз). – М.,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083C-3519-4C67-9D75-543079FDB8B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лан ле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247E-CA47-46B7-AE29-3FB1A27DF36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рода и об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сфера и но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ографическая среда и географический детермин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кологический и демографический кризис как глобальные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ность современной экологической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мский клуб – неформальная организация уче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ределы рос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енная 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ьтернативная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Narrow"/>
              </a:rPr>
              <a:t>Требования к знаниям, умениям и навык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D3BD-5BC5-4A8E-9CC6-43C8571EB9FE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личных типов философских позиций в понимании взаимоотношений общества и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связи философии и глобалистики и футур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в  и причин глобальных пробл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мения и навы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самостоятельного анализа современных соци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иентироваться в современных сценариях миров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ять полученные знания в своей профессиона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Narrow"/>
              </a:rPr>
              <a:t>Материал для восстановления зна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16F6-C2BA-4CAB-9D7A-B351875AB39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ля подготовки к теме «Философия глобальных проблем» необходимо повторить основные проблемы по темам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гмат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ия Новог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льтура и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как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5AA3-3C54-4F46-9D3F-43D5B1F6063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ые по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Ключевые по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DB2C-5F96-45A8-9DE5-207D856C784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ьтернативная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бали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бальные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эволю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елы ро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мский кл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й импера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бщество и 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14B3-79EF-4958-BB3E-38B35D883DC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рода – совокупность естественных условий существования человека и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– обособившаяся часть природы, являющаяся условием и продуктом человече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 человеком и обществом происходит своеобразный «обмен веществ», который является необходимым условием существования человека и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йчас протекает процесс перехода оболочки планеты-биосферы в новое геологическое состояние – ноосферу, то есть область, преобразованную разумом и трудом человека сообразно целям и потребностям (В.И.Вернадский, Т.де Шарде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324000" y="180828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4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еографический детерминизм – представление о том, что именно географическая среда полностью определяет развитие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представителями были французские просветители и историки (Ш.Монтескье, А.Тюрго и д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ХХ в. стало понятно, что теория предлагала упрощенный подход к общественному развит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еографическая среда – та часть природы, которая включена в непосредственную деятельность людей на данном историческом отрез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развития общества имеет значение как неживая, так и живая природа (биосфе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Географическая сре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3A5F-E349-408A-AE5D-E803E171ABB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2"/>
          <p:cNvSpPr/>
          <p:nvPr/>
        </p:nvSpPr>
        <p:spPr>
          <a:xfrm>
            <a:off x="324000" y="3860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24000" y="1413000"/>
            <a:ext cx="8496000" cy="234000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кологический кризис – тип экологической ситуации, характеризующийся нарушением динамического равновесия систем «общество-прир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й кризис носит цивилизационный харак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порожден всем ходом цивилизационн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Экологический кризис как глобальная пробл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7896-B638-4D56-8824-A13609E70E8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24000" y="3968640"/>
            <a:ext cx="8496000" cy="234000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Сущность современной экологической ситу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е истощение природных ресур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окружающей природно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 увеличивается численность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>study.vvsu.ru</dc:description>
  <dc:language>en-US</dc:language>
  <cp:lastModifiedBy>LEGION</cp:lastModifiedBy>
  <dcterms:modified xsi:type="dcterms:W3CDTF">2014-11-11T07:53:10Z</dcterms:modified>
  <cp:revision>151</cp:revision>
  <dc:subject/>
  <dc:title>Глобальные проблемы человече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03000000000001024140</vt:lpwstr>
  </property>
</Properties>
</file>