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93BAD-B9A9-402B-9498-8F783EAB999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федра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лософии и психолог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подаватель: к.филос.наук, доцен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евченко Елена Славов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99"/>
                </a:solidFill>
                <a:latin typeface="Arial"/>
              </a:rPr>
              <a:t>Философия глобальных пробл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9FD64-13D0-414E-8758-B05FC7AA82C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Учебный материа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f2bec"/>
                </a:solidFill>
                <a:latin typeface="Arial"/>
              </a:rPr>
              <a:t>Римский клуб и исследование глобальных пробл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f2bec"/>
                </a:solidFill>
                <a:latin typeface="Arial"/>
              </a:rPr>
              <a:t>Глобальные проблем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Экологическая катастроф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емографический кризи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Экономический кризи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оенная опас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f2bec"/>
                </a:solidFill>
                <a:latin typeface="Arial"/>
              </a:rPr>
              <a:t>Римский клуб – неформальная организация ученых, впервы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f2bec"/>
                </a:solidFill>
                <a:latin typeface="Arial"/>
              </a:rPr>
              <a:t>применивших метод математического моделирования к исследованию социально-экологических процессо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оздан в 60-е годы ХХ ве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04913-B531-42F1-BB04-DF6EEC4D946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Учебный материа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f2bec"/>
                </a:solidFill>
                <a:latin typeface="Arial"/>
              </a:rPr>
              <a:t>«Пределы роста» - первый доклад Римскому клуб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Построение динамичной модели мира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f2bec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ходные данные – население, капиталовложения, земное пространство, использование природных ресурсов и загрязне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Прогноз–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 сохранении темпов экономики и роста народонаселения человечество придет к глобальной экологической катастрофе в конце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XI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ве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ход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– отказ от идеологии потребитель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EE5E8-A790-4626-9AF0-4DC389B6B73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Учебный материа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f2bec"/>
                </a:solidFill>
                <a:latin typeface="Arial"/>
              </a:rPr>
              <a:t>Военная опасность и альтернативная цивилиз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99"/>
                </a:solidFill>
                <a:latin typeface="Arial"/>
              </a:rPr>
              <a:t>Использование оружия массового поражения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жет быть спровоцировано нарастающим экономическим неравенств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99"/>
                </a:solidFill>
                <a:latin typeface="Arial"/>
              </a:rPr>
              <a:t>Альтернативная цивилизация </a:t>
            </a:r>
            <a:r>
              <a:rPr b="0" lang="ru-RU" sz="1200" spc="-1" strike="noStrike">
                <a:solidFill>
                  <a:srgbClr val="009999"/>
                </a:solidFill>
                <a:latin typeface="Arial"/>
              </a:rPr>
              <a:t>– </a:t>
            </a:r>
            <a:r>
              <a:rPr b="0" lang="ru-RU" sz="1100" spc="-1" strike="noStrike">
                <a:solidFill>
                  <a:srgbClr val="009999"/>
                </a:solidFill>
                <a:latin typeface="Arial"/>
              </a:rPr>
              <a:t>это цивилизация низкоэнергетическая, экологически чистая, полностью демилитаризованная, подлинно человеческая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C6CE0-DA08-4B31-9680-2275CBB496E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99"/>
                </a:solidFill>
                <a:latin typeface="Arial"/>
              </a:rPr>
              <a:t>Приобретенные зн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нание различных типов философских позиций в понимании взаимоотношений общества и природ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нание различных фактов и причин глобальных проблем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нание множества современных сценариев будущег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нание степени сложности тех проблем, с которыми столкнулось человечество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нание философских систем, которые стоят за разнообразными сценариями будущего развития человече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A254B-C462-49D5-B41C-5EE1BBB253D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99"/>
                </a:solidFill>
                <a:latin typeface="Arial"/>
              </a:rPr>
              <a:t>Вопросы для самопровер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такое биосфера и ноосфера, кем были введены эти понятия и почему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соотносятся понятия географическая среда и природ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ие исследования проводились Римским клубом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овы возможные выходы из кризис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спроизведите суть прогнозов оптимистического и пессимистического сценариев будущего развития обще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BD8A7-5E0E-4B8D-96DD-09A8063FF4D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Задания для самопровер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f2bec"/>
                </a:solidFill>
                <a:latin typeface="Arial"/>
              </a:rPr>
              <a:t>Ответить на вопросы тес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Ноосфера – эт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ъединение человечества в единую мировую систем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фера господства разум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истема глобального моделирования окружающей сред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лобализация обще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120aa"/>
                </a:solidFill>
                <a:latin typeface="Arial"/>
              </a:rPr>
              <a:t>К глобальным проблемам относятс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249"/>
              </a:spcBef>
              <a:buClr>
                <a:srgbClr val="ff0000"/>
              </a:buClr>
              <a:buSzPct val="8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рубка тропических лес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249"/>
              </a:spcBef>
              <a:buClr>
                <a:srgbClr val="ff0000"/>
              </a:buClr>
              <a:buSzPct val="8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емографическая проблем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249"/>
              </a:spcBef>
              <a:buClr>
                <a:srgbClr val="ff0000"/>
              </a:buClr>
              <a:buSzPct val="8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кономическое неравенство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249"/>
              </a:spcBef>
              <a:buClr>
                <a:srgbClr val="ff0000"/>
              </a:buClr>
              <a:buSzPct val="8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тощение минеральных ресурс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090AF-D224-4852-B039-164CCA67E77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99"/>
                </a:solidFill>
                <a:latin typeface="Arial"/>
              </a:rPr>
              <a:t>Рекомендуемая литера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арулин В.С. Социальная философия. - М., 200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узнецов В.Г., Кузнецова И.Д, Миронов В.В., Момджян К.Х. Философия. – М., 1999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лософский словарь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Под ред. И.Т. Фролова. – М., 20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Бестужев-Лада И.В. Альтернативная цивилизация. – М., 1998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 Аксенов Г.П. Вернадский. – М., 199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. Глазачев С.Н., Козлова О.Н. Экологическая культура. – М., 1998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. Семенов В.С. Уроки ХХ века и путь в ХХ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(социально-философский анализ и прогноз). – М., 200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06CD3-0E4F-40D6-AFEE-BD3FACA69A1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спользование материалов презент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ользование данной презентации, может осуществляться только при условии соблюдения требований законов  РФ об авторском праве и интеллектуальной собственности, а также с учетом требований настоящего Заяв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зентация является собственностью авторов. Разрешается распечатывать копию любой части презентации для личного некоммерческого использования, однако не допускается распечатывать какую-либо часть презентации с любой иной целью или по каким-либо причинам вносить изменения в любую часть презентации. Использование любой части презентации в другом произведении, как в печатной, электронной, так и иной форме, а также использование любой части презентации в другой презентации посредством ссылки или иным образом допускается только после получения письменного согласия автор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7D066-917C-4491-9FFD-B3FD78E9464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План лек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f2bec"/>
                </a:solidFill>
                <a:latin typeface="Arial"/>
              </a:rPr>
              <a:t>Философия глобальных пробл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99"/>
                </a:solidFill>
                <a:latin typeface="Arial"/>
              </a:rPr>
              <a:t>Природа и обще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иосфера и ноосфе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еографическая среда и географический детерминиз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99"/>
                </a:solidFill>
                <a:latin typeface="Arial"/>
              </a:rPr>
              <a:t>Экологический и демографический кризис как глобальные пробле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99"/>
                </a:solidFill>
                <a:latin typeface="Arial"/>
              </a:rPr>
              <a:t>Сущность современной экологической ситу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99"/>
                </a:solidFill>
                <a:latin typeface="Arial"/>
              </a:rPr>
              <a:t>Римский клуб – неформальная организация учены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99"/>
                </a:solidFill>
                <a:latin typeface="Arial"/>
              </a:rPr>
              <a:t>«Пределы роста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99"/>
                </a:solidFill>
                <a:latin typeface="Arial"/>
              </a:rPr>
              <a:t>Военная опас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99"/>
                </a:solidFill>
                <a:latin typeface="Arial"/>
              </a:rPr>
              <a:t>Альтернативная цивилиз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64189-30F7-482E-8EE4-FABC5411EFA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99"/>
                </a:solidFill>
                <a:latin typeface="Arial Narrow"/>
              </a:rPr>
              <a:t>Требования к знаниям, умениям и навыка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99"/>
                </a:solidFill>
                <a:latin typeface="Arial"/>
              </a:rPr>
              <a:t>Зн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личных типов философских позиций в понимании взаимоотношений общества и приро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заимосвязи философии и глобалистики и футуролог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ктов  и причин глобальных проблем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99"/>
                </a:solidFill>
                <a:latin typeface="Arial"/>
              </a:rPr>
              <a:t>Умения и навы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особность самостоятельного анализа современных социальных пробл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иентироваться в современных сценариях мирового развит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менять полученные знания в своей профессиональной деяте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99768-CA02-4BB2-8614-FC5077FA96B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99"/>
                </a:solidFill>
                <a:latin typeface="Arial Narrow"/>
              </a:rPr>
              <a:t>Материал для восстановления зна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Для подготовки к теме «Философия глобальных проблем» необходимо повторить основные проблемы по темам: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300"/>
              </a:spcBef>
              <a:buClr>
                <a:srgbClr val="ff0000"/>
              </a:buClr>
              <a:buSzPct val="80000"/>
              <a:buFont typeface="Arial"/>
              <a:buChar char="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агматиз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300"/>
              </a:spcBef>
              <a:buClr>
                <a:srgbClr val="ff0000"/>
              </a:buClr>
              <a:buSzPct val="80000"/>
              <a:buFont typeface="Arial"/>
              <a:buChar char="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илософия Нового време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300"/>
              </a:spcBef>
              <a:buClr>
                <a:srgbClr val="ff0000"/>
              </a:buClr>
              <a:buSzPct val="80000"/>
              <a:buFont typeface="Arial"/>
              <a:buChar char="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ультура и цивилиз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300"/>
              </a:spcBef>
              <a:buClr>
                <a:srgbClr val="ff0000"/>
              </a:buClr>
              <a:buSzPct val="80000"/>
              <a:buFont typeface="Arial"/>
              <a:buChar char="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щество как систе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ECAE3-9395-4242-9EF7-7F136017F9E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Содерж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f2bec"/>
                </a:solidFill>
                <a:latin typeface="Arial"/>
              </a:rPr>
              <a:t>Философия глобальных пробл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ючевые понят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ебный материа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просы для самопровер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комендуемая литера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3B9F9-D2D9-492C-86AB-B80B9BA1404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Ключевые понят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f2bec"/>
                </a:solidFill>
                <a:latin typeface="Arial"/>
              </a:rPr>
              <a:t>Философия глобальных пробл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льтернативная цивилиз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обалист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обальные пробле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эволю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осфе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елы рос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р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имский клуб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логический императи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лог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4680C-38D5-419F-9AA4-CE3618FC7C1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Учебный материа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f2bec"/>
                </a:solidFill>
                <a:latin typeface="Arial"/>
              </a:rPr>
              <a:t>Общество и прир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99"/>
                </a:solidFill>
                <a:latin typeface="Arial"/>
              </a:rPr>
              <a:t>Природа – совокупность естественных условий существования человека и обще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щество – обособившаяся часть природы, являющаяся условием и продуктом человеческой деятель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 человеком и обществом происходит своеобразный «обмен веществ», который является необходимым условием существования человека и обще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йчас протекает процесс перехода оболочки планеты-биосферы в новое геологическое состояние – ноосферу, то есть область, преобразованную разумом и трудом человека сообразно целям и потребностям (В.И.Вернадский, Т.де Шарден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43921-44E7-484C-A2AE-C37A668614C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Учебный материа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f2bec"/>
                </a:solidFill>
                <a:latin typeface="Arial"/>
              </a:rPr>
              <a:t>Географическая сре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99"/>
                </a:solidFill>
                <a:latin typeface="Arial"/>
              </a:rPr>
              <a:t>Географическая среда – та часть природы, которая включена в непосредственную деятельность людей на данном историческом отрезк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9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Для развития общества имеет значение как неживая, так и живая природа (биосфера)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Географический детерминизм – представление о том, что именно географическая среда полностью определяет развитие обществ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го представителями были французские просветители и историки (Ш.Монтескье, А.Тюрго и др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ХХ в. стало понятно, что теория предлагала упрощенный подход к общественному развити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9A933-0A09-469C-B860-F74695CCF3A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Учебный материа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f2bec"/>
                </a:solidFill>
                <a:latin typeface="Arial"/>
              </a:rPr>
              <a:t>Экологический кризис как глобальная пробле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Экологический кризис – тип экологической ситуации, характеризующийся нарушением динамического равновесия систем «общество-природ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кологический кризис носит цивилизационный характе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н порожден всем ходом цивилизационного развит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120aa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1120aa"/>
                </a:solidFill>
                <a:latin typeface="Arial"/>
              </a:rPr>
              <a:t>Сущность современной экологической ситуаци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ыстрое истощение природных ресурс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грязнение окружающей природной сре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ыстро увеличивается численность насе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4D2E0-2385-4486-A5F8-D5B8F0D453F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1" descr=""/>
          <p:cNvPicPr/>
          <p:nvPr/>
        </p:nvPicPr>
        <p:blipFill>
          <a:blip r:embed="rId2"/>
          <a:stretch/>
        </p:blipFill>
        <p:spPr>
          <a:xfrm>
            <a:off x="7751880" y="6381720"/>
            <a:ext cx="241200" cy="409680"/>
          </a:xfrm>
          <a:prstGeom prst="rect">
            <a:avLst/>
          </a:prstGeom>
          <a:ln w="0">
            <a:noFill/>
          </a:ln>
        </p:spPr>
      </p:pic>
      <p:pic>
        <p:nvPicPr>
          <p:cNvPr id="1" name="Picture 12" descr=""/>
          <p:cNvPicPr/>
          <p:nvPr/>
        </p:nvPicPr>
        <p:blipFill>
          <a:blip r:embed="rId3"/>
          <a:stretch/>
        </p:blipFill>
        <p:spPr>
          <a:xfrm>
            <a:off x="8066160" y="6489720"/>
            <a:ext cx="718920" cy="214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Line 5"/>
          <p:cNvSpPr/>
          <p:nvPr/>
        </p:nvSpPr>
        <p:spPr>
          <a:xfrm>
            <a:off x="324000" y="303372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6"/>
          <p:cNvSpPr/>
          <p:nvPr/>
        </p:nvSpPr>
        <p:spPr>
          <a:xfrm>
            <a:off x="324000" y="400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7"/>
          <p:cNvSpPr/>
          <p:nvPr/>
        </p:nvSpPr>
        <p:spPr>
          <a:xfrm>
            <a:off x="324000" y="3159000"/>
            <a:ext cx="8496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Философия глобальных пробле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8"/>
          <p:cNvSpPr/>
          <p:nvPr/>
        </p:nvSpPr>
        <p:spPr>
          <a:xfrm>
            <a:off x="324000" y="549360"/>
            <a:ext cx="84960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федр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илософии и психолог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подаватель: к.филос.наук, доцен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Шевченко Елена Славо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324000" y="4221000"/>
            <a:ext cx="84960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всех специальност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Line 3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6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Учебный материа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2bec"/>
                </a:solidFill>
                <a:latin typeface="Arial"/>
              </a:rPr>
              <a:t>Римский клуб и исследование глобальных пробл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7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9A616-B8D9-4920-8D87-04D8BC5A6F90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324000" y="1413000"/>
          <a:ext cx="6119640" cy="4790880"/>
        </p:xfrm>
        <a:graphic>
          <a:graphicData uri="http://schemas.openxmlformats.org/drawingml/2006/table">
            <a:tbl>
              <a:tblPr/>
              <a:tblGrid>
                <a:gridCol w="6119640"/>
              </a:tblGrid>
              <a:tr h="4804920">
                <a:tc>
                  <a:txBody>
                    <a:bodyPr lIns="72000" rIns="0" tIns="36000" bIns="36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f2bec"/>
                          </a:solidFill>
                          <a:latin typeface="Arial"/>
                        </a:rPr>
                        <a:t>Глобальные проблемы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ологическая катастроф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мографический кризи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ономический кризи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енная опас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f2bec"/>
                          </a:solidFill>
                          <a:latin typeface="Arial"/>
                        </a:rPr>
                        <a:t>Римский клуб – неформальная организация ученых, впервые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f2bec"/>
                          </a:solidFill>
                          <a:latin typeface="Arial"/>
                        </a:rPr>
                        <a:t>применивших метод математического моделирования к исследованию социально-экологических процессов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здан в 60-е годы ХХ века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Line 3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324000" y="1413000"/>
            <a:ext cx="4032000" cy="489564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исун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4788000" y="1413000"/>
            <a:ext cx="4032000" cy="489564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Построение динамичной модели мир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f2bec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ходные данные – население, капиталовложения, земное пространство, использование природных ресурсов и загрязне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Прогноз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 сохранении темпов экономики и роста народонаселения человечество придет к глобальной экологической катастрофе в конц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X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е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Выход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отказ от идеологии потребитель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6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Учебный материа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2bec"/>
                </a:solidFill>
                <a:latin typeface="Arial"/>
              </a:rPr>
              <a:t>«Пределы роста» - первый доклад Римскому клуб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F1BF7-101A-4A0E-B140-8D67EC1A577B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8"/>
          <p:cNvSpPr/>
          <p:nvPr/>
        </p:nvSpPr>
        <p:spPr>
          <a:xfrm>
            <a:off x="4572000" y="1413000"/>
            <a:ext cx="0" cy="489564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11" descr="cvalka"/>
          <p:cNvPicPr/>
          <p:nvPr/>
        </p:nvPicPr>
        <p:blipFill>
          <a:blip r:embed="rId1"/>
          <a:stretch/>
        </p:blipFill>
        <p:spPr>
          <a:xfrm>
            <a:off x="287280" y="1484280"/>
            <a:ext cx="406872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Line 2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3"/>
          <p:cNvSpPr/>
          <p:nvPr/>
        </p:nvSpPr>
        <p:spPr>
          <a:xfrm>
            <a:off x="324000" y="1413000"/>
            <a:ext cx="4032000" cy="489564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исун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4788000" y="1413000"/>
            <a:ext cx="4032000" cy="489564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f2bec"/>
                </a:solidFill>
                <a:latin typeface="Arial"/>
              </a:rPr>
              <a:t>Использование оружия массового поражения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жет быть спровоцировано нарастающим экономическим неравенств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f2bec"/>
                </a:solidFill>
                <a:latin typeface="Arial"/>
              </a:rPr>
              <a:t>Альтернативная цивилизация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то цивилизация низкоэнергетическая, экологически чистая, полностью демилитаризованная, подлинно человеческа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Учебный материа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2bec"/>
                </a:solidFill>
                <a:latin typeface="Arial"/>
              </a:rPr>
              <a:t>Военная опасность и альтернативная цивилиз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6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7B502-9B00-447C-831B-B1C4820DCBE1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9" descr="cdfdg"/>
          <p:cNvPicPr/>
          <p:nvPr/>
        </p:nvPicPr>
        <p:blipFill>
          <a:blip r:embed="rId1"/>
          <a:stretch/>
        </p:blipFill>
        <p:spPr>
          <a:xfrm>
            <a:off x="431640" y="1268280"/>
            <a:ext cx="3841920" cy="511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Line 2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3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Приобретенные зна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4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3051C-E9CE-40B0-BB3A-9405DD2C3919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5"/>
          <p:cNvSpPr/>
          <p:nvPr/>
        </p:nvSpPr>
        <p:spPr>
          <a:xfrm>
            <a:off x="324000" y="1413000"/>
            <a:ext cx="8496000" cy="489564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нание различных типов философских позиций в понимании взаимоотношений общества и приро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нание различных фактов и причин глобальных пробле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нание множества современных сценариев будущег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нание степени сложности тех проблем, с которыми столкнулось человечеств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нание философских систем, которые стоят за разнообразными сценариями будущего развития человече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Line 2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3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Вопросы для самопровер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2F86B-C9D2-4F33-9C20-45BA74E0D220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5"/>
          <p:cNvSpPr/>
          <p:nvPr/>
        </p:nvSpPr>
        <p:spPr>
          <a:xfrm>
            <a:off x="324000" y="1413000"/>
            <a:ext cx="8496000" cy="489564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275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Что такое биосфера и ноосфера, кем были введены эти понятия и почему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75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ак соотносятся понятия географическая среда и природа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75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акие исследования проводились Римским клубом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75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аковы возможные выходы из кризиса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75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оспроизведите суть прогнозов оптимистического и пессимистического сценариев будущего развития обществ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75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Line 2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Задания для самопровер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2bec"/>
                </a:solidFill>
                <a:latin typeface="Arial"/>
              </a:rPr>
              <a:t>Ответить на вопросы тес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8A978-8801-4278-A170-09055EA9E6E5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324000" y="1413000"/>
            <a:ext cx="8496000" cy="489564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Ноосфера – эт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49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ъединение человечества в единую мировую систем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49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фера господства разум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49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истема глобального моделирования окружающей сред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49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лобализация обще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120aa"/>
                </a:solidFill>
                <a:latin typeface="Arial"/>
              </a:rPr>
              <a:t>К глобальным проблемам относятс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0280" indent="-254160">
              <a:lnSpc>
                <a:spcPct val="100000"/>
              </a:lnSpc>
              <a:spcBef>
                <a:spcPts val="249"/>
              </a:spcBef>
              <a:buClr>
                <a:srgbClr val="ff0000"/>
              </a:buClr>
              <a:buSzPct val="8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рубка тропических лес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0280" indent="-254160">
              <a:lnSpc>
                <a:spcPct val="100000"/>
              </a:lnSpc>
              <a:spcBef>
                <a:spcPts val="249"/>
              </a:spcBef>
              <a:buClr>
                <a:srgbClr val="ff0000"/>
              </a:buClr>
              <a:buSzPct val="8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емографическая проблем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0280" indent="-254160">
              <a:lnSpc>
                <a:spcPct val="100000"/>
              </a:lnSpc>
              <a:spcBef>
                <a:spcPts val="249"/>
              </a:spcBef>
              <a:buClr>
                <a:srgbClr val="ff0000"/>
              </a:buClr>
              <a:buSzPct val="8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кономическое неравенство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0280" indent="-254160">
              <a:lnSpc>
                <a:spcPct val="100000"/>
              </a:lnSpc>
              <a:spcBef>
                <a:spcPts val="249"/>
              </a:spcBef>
              <a:buClr>
                <a:srgbClr val="ff0000"/>
              </a:buClr>
              <a:buSzPct val="8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тощение минеральных ресурс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Line 2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Рекомендуемая литерату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C7193-B799-4907-9DD2-B3E173334614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5"/>
          <p:cNvSpPr/>
          <p:nvPr/>
        </p:nvSpPr>
        <p:spPr>
          <a:xfrm>
            <a:off x="324000" y="1413000"/>
            <a:ext cx="849600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арулин В.С. Социальная философия. - М., 200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узнецов В.Г., Кузнецова И.Д, Миронов В.В., Момджян К.Х. Философия. – М., 1999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илософский словарь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од ред. И.Т. Фролова. – М., 20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Бестужев-Лада И.В. Альтернативная цивилизация. – М., 1998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. Аксенов Г.П. Вернадский. – М., 199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. Глазачев С.Н., Козлова О.Н. Экологическая культура. – М., 1998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7. Семенов В.С. Уроки ХХ века и путь в ХХ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социально-философский анализ и прогноз). – М., 200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Line 2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58A2F-211A-4B68-B961-EB92432278F6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324000" y="3860640"/>
            <a:ext cx="849600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спользование материалов презент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ользование данной презентации, может осуществляться только при условии соблюдения требований законов  РФ об авторском праве и интеллектуальной собственности, а также с учетом требований настоящего Заяв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зентация является собственностью авторов. Разрешается распечатывать копию любой части презентации для личного некоммерческого использования, однако не допускается распечатывать какую-либо часть презентации с любой иной целью или по каким-либо причинам вносить изменения в любую часть презентации. Использование любой части презентации в другом произведении, как в печатной, электронной, так и иной форме, а также использование любой части презентации в другой презентации посредством ссылки или иным образом допускается только после получения письменного согласия автор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Line 2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План лек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2bec"/>
                </a:solidFill>
                <a:latin typeface="Arial"/>
              </a:rPr>
              <a:t>Философия глобальных пробл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F3B13-B7A0-4819-9CC9-8383C6FA9F38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5"/>
          <p:cNvSpPr/>
          <p:nvPr/>
        </p:nvSpPr>
        <p:spPr>
          <a:xfrm>
            <a:off x="324000" y="1413000"/>
            <a:ext cx="8496000" cy="489564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Природа и обще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иосфера и ноосфе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еографическая среда и географический детерминиз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Экологический и демографический кризис как глобальные пробле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ущность современной экологической ситу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имский клуб – неформальная организация учены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Пределы рост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енная опас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льтернативная цивилиз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Line 2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 Narrow"/>
              </a:rPr>
              <a:t>Требования к знаниям, умениям и навыка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F73E2-17BC-4A17-8FA2-6CC95114CE57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324000" y="1413000"/>
            <a:ext cx="8496000" cy="489564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Зн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личных типов философских позиций в понимании взаимоотношений общества и приро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заимосвязи философии и глобалистики и футуролог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актов  и причин глобальных пробле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Умения и навы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пособность самостоятельного анализа современных социальных пробл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риентироваться в современных сценариях мирового развит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менять полученные знания в своей профессиональной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Line 2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 Narrow"/>
              </a:rPr>
              <a:t>Материал для восстановления знан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DB861-C6E4-4418-8020-0DA1DF3FAF84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324000" y="1413000"/>
            <a:ext cx="8496000" cy="489564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Для подготовки к теме «Философия глобальных проблем» необходимо повторить основные проблемы по темам: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732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73240">
              <a:lnSpc>
                <a:spcPct val="100000"/>
              </a:lnSpc>
              <a:spcBef>
                <a:spcPts val="300"/>
              </a:spcBef>
              <a:buClr>
                <a:srgbClr val="ff0000"/>
              </a:buClr>
              <a:buSzPct val="8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агматиз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73240">
              <a:lnSpc>
                <a:spcPct val="100000"/>
              </a:lnSpc>
              <a:spcBef>
                <a:spcPts val="300"/>
              </a:spcBef>
              <a:buClr>
                <a:srgbClr val="ff0000"/>
              </a:buClr>
              <a:buSzPct val="8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илософия Нового време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73240">
              <a:lnSpc>
                <a:spcPct val="100000"/>
              </a:lnSpc>
              <a:spcBef>
                <a:spcPts val="300"/>
              </a:spcBef>
              <a:buClr>
                <a:srgbClr val="ff0000"/>
              </a:buClr>
              <a:buSzPct val="8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ультура и цивилиз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73240">
              <a:lnSpc>
                <a:spcPct val="100000"/>
              </a:lnSpc>
              <a:spcBef>
                <a:spcPts val="300"/>
              </a:spcBef>
              <a:buClr>
                <a:srgbClr val="ff0000"/>
              </a:buClr>
              <a:buSzPct val="8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щество как систе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Line 2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3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Содерж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2bec"/>
                </a:solidFill>
                <a:latin typeface="Arial"/>
              </a:rPr>
              <a:t>Философия глобальных пробл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2DF19-9E77-49FF-B1E7-10CB9A816970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5"/>
          <p:cNvSpPr/>
          <p:nvPr/>
        </p:nvSpPr>
        <p:spPr>
          <a:xfrm>
            <a:off x="324000" y="1413000"/>
            <a:ext cx="849600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лючевые понят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ебный материа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просы для самопровер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комендуемая литерату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Line 2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Ключевые понят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2bec"/>
                </a:solidFill>
                <a:latin typeface="Arial"/>
              </a:rPr>
              <a:t>Философия глобальных пробл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4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D7875-0B7C-4B7A-B683-2573FBBB7CEF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5"/>
          <p:cNvSpPr/>
          <p:nvPr/>
        </p:nvSpPr>
        <p:spPr>
          <a:xfrm>
            <a:off x="324000" y="1413000"/>
            <a:ext cx="8496000" cy="489564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льтернативная цивилиз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лобалист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лобальные пробле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эволю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осфе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делы рос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р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имский клу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кологический императи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колог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Line 3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4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Учебный материа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2bec"/>
                </a:solidFill>
                <a:latin typeface="Arial"/>
              </a:rPr>
              <a:t>Общество и прир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0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BB596-478C-4424-B327-1CB7DE93A803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1"/>
          <p:cNvSpPr/>
          <p:nvPr/>
        </p:nvSpPr>
        <p:spPr>
          <a:xfrm>
            <a:off x="324000" y="1413000"/>
            <a:ext cx="8496000" cy="489564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Природа – совокупность естественных условий существования человека и обще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щество – обособившаяся часть природы, являющаяся условием и продуктом человеческой деятель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жду человеком и обществом происходит своеобразный «обмен веществ», который является необходимым условием существования человека и обще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ейчас протекает процесс перехода оболочки планеты-биосферы в новое геологическое состояние – ноосферу, то есть область, преобразованную разумом и трудом человека сообразно целям и потребностям (В.И.Вернадский, Т.де Шарден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2"/>
          <p:cNvSpPr/>
          <p:nvPr/>
        </p:nvSpPr>
        <p:spPr>
          <a:xfrm>
            <a:off x="324000" y="2192400"/>
            <a:ext cx="849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3"/>
          <p:cNvSpPr/>
          <p:nvPr/>
        </p:nvSpPr>
        <p:spPr>
          <a:xfrm>
            <a:off x="324000" y="2576520"/>
            <a:ext cx="849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4"/>
          <p:cNvSpPr/>
          <p:nvPr/>
        </p:nvSpPr>
        <p:spPr>
          <a:xfrm>
            <a:off x="324000" y="2960640"/>
            <a:ext cx="849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5"/>
          <p:cNvSpPr/>
          <p:nvPr/>
        </p:nvSpPr>
        <p:spPr>
          <a:xfrm>
            <a:off x="324000" y="1808280"/>
            <a:ext cx="849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" nodeType="afterEffect" fill="hold" presetClass="entr" presetID="10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53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Line 4"/>
          <p:cNvSpPr/>
          <p:nvPr/>
        </p:nvSpPr>
        <p:spPr>
          <a:xfrm>
            <a:off x="4572000" y="1413000"/>
            <a:ext cx="0" cy="489564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5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8"/>
          <p:cNvSpPr/>
          <p:nvPr/>
        </p:nvSpPr>
        <p:spPr>
          <a:xfrm>
            <a:off x="4788000" y="1413000"/>
            <a:ext cx="4032000" cy="489564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Географический детерминизм – представление о том, что именно географическая среда полностью определяет развитие обще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49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го представителями были французские просветители и историки (Ш.Монтескье, А.Тюрго и др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49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ХХ в. стало понятно, что теория предлагала упрощенный подход к общественному развити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9"/>
          <p:cNvSpPr/>
          <p:nvPr/>
        </p:nvSpPr>
        <p:spPr>
          <a:xfrm>
            <a:off x="324000" y="1413000"/>
            <a:ext cx="4032000" cy="489564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Географическая среда – та часть природы, которая включена в непосредственную деятельность людей на данном историческом отрез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49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развития общества имеет значение как неживая, так и живая природа (биосфера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0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Учебный материа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2bec"/>
                </a:solidFill>
                <a:latin typeface="Arial"/>
              </a:rPr>
              <a:t>Географическая сре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4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F346D-A107-41E1-959A-A60252972A64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Line 2"/>
          <p:cNvSpPr/>
          <p:nvPr/>
        </p:nvSpPr>
        <p:spPr>
          <a:xfrm>
            <a:off x="324000" y="386064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3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324000" y="1413000"/>
            <a:ext cx="8496000" cy="234000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Экологический кризис – тип экологической ситуации, характеризующийся нарушением динамического равновесия систем «общество-природ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кологический кризис носит цивилизационный характе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н порожден всем ходом цивилизационного развит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30280" indent="-254160">
              <a:lnSpc>
                <a:spcPct val="100000"/>
              </a:lnSpc>
              <a:spcBef>
                <a:spcPts val="3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6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Учебный материа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2bec"/>
                </a:solidFill>
                <a:latin typeface="Arial"/>
              </a:rPr>
              <a:t>Экологический кризис как глобальная пробле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7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CCBD4-926E-4847-ABD9-776AB25BC212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8"/>
          <p:cNvSpPr/>
          <p:nvPr/>
        </p:nvSpPr>
        <p:spPr>
          <a:xfrm>
            <a:off x="324000" y="3968640"/>
            <a:ext cx="8496000" cy="234000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120aa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1120aa"/>
                </a:solidFill>
                <a:latin typeface="Arial"/>
              </a:rPr>
              <a:t>Сущность современной экологической ситуаци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ыстрое истощение природных ресурс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грязнение окружающей природной сре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ыстро увеличивается численность насел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2T06:20:01Z</dcterms:created>
  <dc:creator>S.V.Ryzhkov</dc:creator>
  <dc:description>study.vvsu.ru</dc:description>
  <dc:language>en-US</dc:language>
  <cp:lastModifiedBy>LEGION</cp:lastModifiedBy>
  <dcterms:modified xsi:type="dcterms:W3CDTF">2014-11-11T07:53:10Z</dcterms:modified>
  <cp:revision>151</cp:revision>
  <dc:subject/>
  <dc:title>Глобальные проблемы человечеств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7203000000000001024140</vt:lpwstr>
  </property>
</Properties>
</file>