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6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2A37-7FA2-4359-B32A-F2DF6917F1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Calibri"/>
              </a:rPr>
              <a:t>Влияние музыки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: Татьяна Иванова, 11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арабельской СОШ имени Н.А. Образ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уководитель: Владислав Николаевич Гали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40A9-ADA2-45F1-8569-98EBB368C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698E-5C83-45E8-B5D0-F8C9533C5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зыка Моц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8128-5B33-4159-91A4-3F0383806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 Моц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6AD-C23C-4D14-9549-B6B2F6BA2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лияние музыки на развитие пл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404F-EA70-46D1-91D0-B407BD1A5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рицательное значение музы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54D8-E079-4F77-B3A7-F84C40266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B7D1-CDC4-4C15-A1A4-EB808020D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200"/>
            </a:b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C148-02B2-4110-9DBD-4CF798BF8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00D0-D89E-4397-8279-8B3515EA1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стал черным и сгнил. Они сказали, что его запах был крайне отврати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микробы, должно быть, сгруппировались в полезные и вредные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038D-069E-4826-906B-7E658286B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1600" spc="-1" strike="noStrike">
                <a:solidFill>
                  <a:srgbClr val="002060"/>
                </a:solidFill>
                <a:latin typeface="Calibri"/>
              </a:rPr>
              <a:t>'Ты надоела мне. Я убью тебя‘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отчете говорится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Ты надоела мне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Я убью тебя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E93-942E-4581-B241-491F0982C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 те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D6C4-E49C-4CAF-A50F-A69856C6A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истиллированная вода, получающая электромагнитные волны '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'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 говорит в своем отчете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2D45-A20C-440C-9A14-DAFF300A5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19DD-75CA-4B68-9032-C3060A18C0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и задачи рефе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выявление позитивных и негативных сторон влияния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дачи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проанализировать получен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7C78-FDEA-4099-BA71-960C8B894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D9C6-6894-4511-83B9-C724F5665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75BD-01D7-4D81-A860-01917F7D4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A3B4-A1C3-482F-AA99-F90A59D2F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7A77-70E0-4A6D-8FD7-D0A4163F8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существует в двух основных формах: активной и рецепти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A675-3725-46C3-A5FC-10842F80C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243A-FFCE-4AD5-A799-A0241ED63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E3F-853A-4AC4-8CFC-9A3D86E7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91F-A6D0-4C3B-B9BC-30315CBA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E9C-7DC3-470E-BFFD-643E4B98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EE1-07CE-41E6-931D-0D21E2BE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E951-7E12-4084-BDCE-578A3E8E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8F4F-E9E8-473D-9F93-D939176D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07EA-8C83-4DC6-AE87-92DB61CE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BB2E-13D0-442C-AA5C-CADE901A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1958-CCD6-4DCF-BC6D-FD1F4A9D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A212-4F3E-49E2-94A3-7B4BD2B0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1ABC-3066-49FA-99BF-E4057DE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719-4BC1-4612-9739-86994C53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6589-0475-4C02-BC6B-1EF68185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C637-0EC9-41AF-BD6A-390B517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6041-621D-4A7B-92CC-9CCE9D28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6203-B7DE-41DE-B150-F4F84C0C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87F0-BA9F-4706-8F6E-A5862B96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1B9F-5D18-45DE-A4DB-3FEEA62B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A6B3-1E52-419F-9893-28816D1B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38314-3B1A-45C3-BD2E-DC7E533E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8D26-8A51-42A7-8F2F-AAAD1091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31B6-16E7-4E49-9D02-4782F497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9F2-0145-4FA2-A3A6-20A5B6E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5CDC-4611-4135-BF6C-DDC2F69B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1808-25D5-4BEC-89A6-9E3C634D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D4C5-8DF6-471D-A61A-42310C8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93EF-2723-40C3-86FB-579EF9F5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10EC-E35F-4CF0-B2F9-27638429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600A-F084-4021-986F-0F4FE7F3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DF068-EFAE-48D9-969A-30C193CF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4A9E-5710-4A63-A686-A64E826E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F996-593E-40E4-BFF5-61B14FBB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B8C7-4D59-49FA-B156-2DDA0166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302-F203-4858-A1A2-3D9EB346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91D3-153B-42F3-9E0B-CD3FDF1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10E2-9F73-42C6-A5AC-AD983DF3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7ECD-02D8-4667-BA8E-4A4FC51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F65B1-AB34-4B05-A8BD-037C80D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2D0A6-A215-4857-BBFF-8398DE5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CB09-93A1-4BBE-A119-02CFEA9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1010-C788-45AE-8DC5-9187132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1647-C993-456F-8B6B-DA3D1BD1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C099-16F0-44F4-9746-5FB73A34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FDAAA-48EC-40B1-8A36-2570F0F7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944-E0E7-4B0D-BAA1-1B864E87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A48F6-29D7-4EBD-B9F0-5F079271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10B3-644C-4488-ACB9-C2EC0C19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42113-E740-452C-AF39-93E02BF9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1574-61BB-4415-9894-D8493E90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5782-1E84-4855-BEDC-C2A0DCD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F8E9-548E-4033-832A-9563D102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EC40B-DD3D-4E6C-B394-1360DE56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61B5-3412-4E84-BA5D-611E49F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9000-EEE1-4D95-BA4C-DD5A47A4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06A68-DEE1-425A-86F8-897B7239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2B2-1FA1-4DE0-AB32-5BC40CE4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8D54F-0355-4ED0-9D53-45D17CB7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E44B4-29D3-4C0A-85DE-C7EF3121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58774-EBCA-43F4-BD9D-26DC031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BE2F-D891-46A5-836C-61526B23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4825A-EF9D-414D-AB08-DAA99D19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3877E-6C62-4587-AB68-0F9A8417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E79C5-ACDA-425D-BB2A-DE663E00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F504A-B327-4CE6-8132-468E9D2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67C23-C435-44FF-897D-7F099646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6124-A770-4332-9A76-22469AE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A91-F8B4-4908-BB4A-55D809B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6DF25-68B4-4305-820F-7EC9E58E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28AAE-3C8D-4F2A-8493-139B627C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69A5F-F4CD-4E85-B930-DBD5C05C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8F5-804A-411E-9F1C-2694C83A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B8F-2797-4A10-9111-3C4317E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7F62-58E8-4CEB-848A-71948470E57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CC0-8E13-4BCB-BA1D-EA0E74616AA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900-E7F6-412E-8EBE-D64CCCA335B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CDD4-A6F2-4D99-908B-99DC90A5177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D91D-AE1E-47B8-A86E-6AEAEFF492D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B005-4229-415A-B0B8-C973AF613BE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8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521560" cy="28717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Автор: Татьяна Иванова, 11 класс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арабельской СОШ имени Н.А. Образцо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уководитель: Владислав Николаевич Галимов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011 ВИВАЛЬДИ - ВРЕМЕНА ГОДА (ЛЕТО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011 ВИВАЛЬДИ - ВРЕМЕНА ГОДА (ЛЕТО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59745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173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86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928960" y="1500120"/>
            <a:ext cx="4929120" cy="25005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15" descr="Rose069"/>
          <p:cNvPicPr/>
          <p:nvPr/>
        </p:nvPicPr>
        <p:blipFill>
          <a:blip r:embed="rId2"/>
          <a:stretch/>
        </p:blipFill>
        <p:spPr>
          <a:xfrm>
            <a:off x="500040" y="1500120"/>
            <a:ext cx="2057400" cy="2543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173"/>
          <p:cNvPicPr/>
          <p:nvPr/>
        </p:nvPicPr>
        <p:blipFill>
          <a:blip r:embed="rId3"/>
          <a:stretch/>
        </p:blipFill>
        <p:spPr>
          <a:xfrm>
            <a:off x="3071880" y="3571920"/>
            <a:ext cx="3071880" cy="220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"/>
          <p:cNvPicPr/>
          <p:nvPr/>
        </p:nvPicPr>
        <p:blipFill>
          <a:blip r:embed="rId4"/>
          <a:stretch/>
        </p:blipFill>
        <p:spPr>
          <a:xfrm>
            <a:off x="6715080" y="4214880"/>
            <a:ext cx="1962360" cy="218592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743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а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3786120" cy="35719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2" descr="mozart"/>
          <p:cNvPicPr/>
          <p:nvPr/>
        </p:nvPicPr>
        <p:blipFill>
          <a:blip r:embed="rId2"/>
          <a:stretch/>
        </p:blipFill>
        <p:spPr>
          <a:xfrm>
            <a:off x="5000760" y="1571760"/>
            <a:ext cx="2886120" cy="36082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100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Эффект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71520" y="1356840"/>
            <a:ext cx="3243240" cy="4467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3" descr="0320076235243"/>
          <p:cNvPicPr/>
          <p:nvPr/>
        </p:nvPicPr>
        <p:blipFill>
          <a:blip r:embed="rId2"/>
          <a:stretch/>
        </p:blipFill>
        <p:spPr>
          <a:xfrm>
            <a:off x="928800" y="2071800"/>
            <a:ext cx="2000160" cy="216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1"/>
          <p:cNvPicPr/>
          <p:nvPr/>
        </p:nvPicPr>
        <p:blipFill>
          <a:blip r:embed="rId3"/>
          <a:stretch/>
        </p:blipFill>
        <p:spPr>
          <a:xfrm>
            <a:off x="6500880" y="207180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774396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лияние музыки на развитие пло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4143240" cy="2071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6" name="Picture 8" descr="Музыка и беременность"/>
          <p:cNvPicPr/>
          <p:nvPr/>
        </p:nvPicPr>
        <p:blipFill>
          <a:blip r:embed="rId2"/>
          <a:stretch/>
        </p:blipFill>
        <p:spPr>
          <a:xfrm>
            <a:off x="428760" y="1285920"/>
            <a:ext cx="3071520" cy="205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14240" y="3643200"/>
            <a:ext cx="47865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9000"/>
          </a:bodyPr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564372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трицательное значение музы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0040" y="1357200"/>
            <a:ext cx="511488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1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2357640" cy="2209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2643120" cy="220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endorfmusic02-1212876829"/>
          <p:cNvPicPr/>
          <p:nvPr/>
        </p:nvPicPr>
        <p:blipFill>
          <a:blip r:embed="rId4"/>
          <a:stretch/>
        </p:blipFill>
        <p:spPr>
          <a:xfrm>
            <a:off x="6215040" y="1214280"/>
            <a:ext cx="1643040" cy="247968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Интересные фа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9" name="Picture 15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500120"/>
            <a:ext cx="3686040" cy="26431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7"/>
          <p:cNvSpPr/>
          <p:nvPr/>
        </p:nvSpPr>
        <p:spPr>
          <a:xfrm>
            <a:off x="4500720" y="1428840"/>
            <a:ext cx="3929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3763"/>
                </a:solidFill>
                <a:latin typeface="Arial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Прикрепленное изображение"/>
          <p:cNvPicPr/>
          <p:nvPr/>
        </p:nvPicPr>
        <p:blipFill>
          <a:blip r:embed="rId3"/>
          <a:stretch/>
        </p:blipFill>
        <p:spPr>
          <a:xfrm>
            <a:off x="4786200" y="3703680"/>
            <a:ext cx="3129120" cy="26542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599840"/>
            <a:ext cx="38289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800"/>
            </a:b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12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4929120" y="1857240"/>
            <a:ext cx="3344760" cy="27576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4429080"/>
            <a:ext cx="8286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1" name="Picture 13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2071800" y="1500120"/>
            <a:ext cx="4628880" cy="25005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856800"/>
            <a:ext cx="83296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стал черным и сгнил. Они сказали, что его запах был крайне отвратительны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микробы, должно быть, сгруппировались в полезные и вредные бактер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173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3938400"/>
            <a:ext cx="79725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отчете говорится: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Ты надоела мн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 и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Я убью теб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9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000080"/>
            <a:ext cx="3246480" cy="2786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929040" y="1213920"/>
            <a:ext cx="45720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'Ты надоела мне. Я убью тебя‘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т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3575160" y="2019240"/>
            <a:ext cx="511164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3938760"/>
            <a:ext cx="818676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Автор говорит в своем отчете: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6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10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1071720" y="1071720"/>
            <a:ext cx="3071520" cy="2655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648320" y="1600200"/>
            <a:ext cx="42098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Дистиллированная вода, получающая электромагнитные волны '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'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664344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ывод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14360" y="1571400"/>
            <a:ext cx="48862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7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83763"/>
                </a:solidFill>
                <a:latin typeface="Constantia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1" name="Picture 12" descr=""/>
          <p:cNvPicPr/>
          <p:nvPr/>
        </p:nvPicPr>
        <p:blipFill>
          <a:blip r:embed="rId2"/>
          <a:stretch/>
        </p:blipFill>
        <p:spPr>
          <a:xfrm>
            <a:off x="7143840" y="3929040"/>
            <a:ext cx="1714320" cy="2511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 Мистицизм звука. Неслышимая жизнь."/>
          <p:cNvPicPr/>
          <p:nvPr/>
        </p:nvPicPr>
        <p:blipFill>
          <a:blip r:embed="rId3"/>
          <a:stretch/>
        </p:blipFill>
        <p:spPr>
          <a:xfrm>
            <a:off x="357120" y="1357200"/>
            <a:ext cx="1643040" cy="2438640"/>
          </a:xfrm>
          <a:prstGeom prst="rect">
            <a:avLst/>
          </a:prstGeom>
          <a:ln w="0">
            <a:noFill/>
          </a:ln>
        </p:spPr>
      </p:pic>
      <p:pic>
        <p:nvPicPr>
          <p:cNvPr id="423" name="035 БЕТХОВЕН - К ЭЛИЗЕ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035 БЕТХОВЕН - К ЭЛИЗЕ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73067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 задачи рефера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выявление позитивных и негативных сторон влияния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Задачи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проанализировать полученную информац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3864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57160" y="1928880"/>
            <a:ext cx="3314880" cy="39290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0520063101356"/>
          <p:cNvPicPr/>
          <p:nvPr/>
        </p:nvPicPr>
        <p:blipFill>
          <a:blip r:embed="rId2"/>
          <a:stretch/>
        </p:blipFill>
        <p:spPr>
          <a:xfrm>
            <a:off x="4214880" y="1785960"/>
            <a:ext cx="1785960" cy="2089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3"/>
          <a:stretch/>
        </p:blipFill>
        <p:spPr>
          <a:xfrm>
            <a:off x="6000840" y="2714760"/>
            <a:ext cx="2762280" cy="3543120"/>
          </a:xfrm>
          <a:prstGeom prst="rect">
            <a:avLst/>
          </a:prstGeom>
          <a:ln w="0">
            <a:noFill/>
          </a:ln>
        </p:spPr>
      </p:pic>
      <p:sp>
        <p:nvSpPr>
          <p:cNvPr id="3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173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4" name="Picture 7" descr="Музыка влияет на духовную сущность личности."/>
          <p:cNvPicPr/>
          <p:nvPr/>
        </p:nvPicPr>
        <p:blipFill>
          <a:blip r:embed="rId2"/>
          <a:stretch/>
        </p:blipFill>
        <p:spPr>
          <a:xfrm>
            <a:off x="6357960" y="1571760"/>
            <a:ext cx="2173320" cy="2757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Влияние музыки на психику человека"/>
          <p:cNvPicPr/>
          <p:nvPr/>
        </p:nvPicPr>
        <p:blipFill>
          <a:blip r:embed="rId3"/>
          <a:stretch/>
        </p:blipFill>
        <p:spPr>
          <a:xfrm>
            <a:off x="357120" y="1571760"/>
            <a:ext cx="1928880" cy="275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 Творчество &lt;i&gt;хиндустани&lt;/i&gt;."/>
          <p:cNvPicPr/>
          <p:nvPr/>
        </p:nvPicPr>
        <p:blipFill>
          <a:blip r:embed="rId4"/>
          <a:stretch/>
        </p:blipFill>
        <p:spPr>
          <a:xfrm>
            <a:off x="2928960" y="4286160"/>
            <a:ext cx="3071880" cy="2370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571840" y="1571400"/>
            <a:ext cx="35719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4457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28861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2"/>
          <a:stretch/>
        </p:blipFill>
        <p:spPr>
          <a:xfrm>
            <a:off x="4214880" y="1428840"/>
            <a:ext cx="3929040" cy="3859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Занятия музыкой влияют на физиологию мозга"/>
          <p:cNvPicPr/>
          <p:nvPr/>
        </p:nvPicPr>
        <p:blipFill>
          <a:blip r:embed="rId3"/>
          <a:stretch/>
        </p:blipFill>
        <p:spPr>
          <a:xfrm>
            <a:off x="1143000" y="3571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02920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2681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11" descr=" Музыкальная терапия для детей"/>
          <p:cNvPicPr/>
          <p:nvPr/>
        </p:nvPicPr>
        <p:blipFill>
          <a:blip r:embed="rId2"/>
          <a:stretch/>
        </p:blipFill>
        <p:spPr>
          <a:xfrm>
            <a:off x="1714680" y="4071960"/>
            <a:ext cx="1714320" cy="2343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Sound Therapy"/>
          <p:cNvPicPr/>
          <p:nvPr/>
        </p:nvPicPr>
        <p:blipFill>
          <a:blip r:embed="rId3"/>
          <a:stretch/>
        </p:blipFill>
        <p:spPr>
          <a:xfrm>
            <a:off x="4214880" y="1571760"/>
            <a:ext cx="3784680" cy="4140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3863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1003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Музыкотерапия существует в двух основных формах: активной и рецептивной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10" descr="8-3"/>
          <p:cNvPicPr/>
          <p:nvPr/>
        </p:nvPicPr>
        <p:blipFill>
          <a:blip r:embed="rId2"/>
          <a:stretch/>
        </p:blipFill>
        <p:spPr>
          <a:xfrm>
            <a:off x="4786200" y="38577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8-1"/>
          <p:cNvPicPr/>
          <p:nvPr/>
        </p:nvPicPr>
        <p:blipFill>
          <a:blip r:embed="rId3"/>
          <a:stretch/>
        </p:blipFill>
        <p:spPr>
          <a:xfrm>
            <a:off x="4000680" y="1428840"/>
            <a:ext cx="2643120" cy="2077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9-1"/>
          <p:cNvPicPr/>
          <p:nvPr/>
        </p:nvPicPr>
        <p:blipFill>
          <a:blip r:embed="rId4"/>
          <a:stretch/>
        </p:blipFill>
        <p:spPr>
          <a:xfrm>
            <a:off x="6786720" y="2357280"/>
            <a:ext cx="2095200" cy="218628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599840"/>
            <a:ext cx="3614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9" descr="Listen"/>
          <p:cNvPicPr/>
          <p:nvPr/>
        </p:nvPicPr>
        <p:blipFill>
          <a:blip r:embed="rId2"/>
          <a:stretch/>
        </p:blipFill>
        <p:spPr>
          <a:xfrm>
            <a:off x="4068720" y="1643040"/>
            <a:ext cx="1720800" cy="1143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1020061785141"/>
          <p:cNvPicPr/>
          <p:nvPr/>
        </p:nvPicPr>
        <p:blipFill>
          <a:blip r:embed="rId3"/>
          <a:stretch/>
        </p:blipFill>
        <p:spPr>
          <a:xfrm>
            <a:off x="6572160" y="4929120"/>
            <a:ext cx="1857600" cy="1333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 Духовное значение звука"/>
          <p:cNvPicPr/>
          <p:nvPr/>
        </p:nvPicPr>
        <p:blipFill>
          <a:blip r:embed="rId4"/>
          <a:stretch/>
        </p:blipFill>
        <p:spPr>
          <a:xfrm>
            <a:off x="5072040" y="2857680"/>
            <a:ext cx="2095560" cy="200952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53:49Z</dcterms:created>
  <dc:creator>Домашний</dc:creator>
  <dc:description/>
  <dc:language>en-US</dc:language>
  <cp:lastModifiedBy>LEGION</cp:lastModifiedBy>
  <dcterms:modified xsi:type="dcterms:W3CDTF">2015-04-02T07:00:02Z</dcterms:modified>
  <cp:revision>55</cp:revision>
  <dc:subject/>
  <dc:title>Введение Общее представление о звуке. Слуховой путь человека Применение свойств музыки в древние времена музыкотерапия: что это? Для чего используется? Направления? Формы? Музыка Моцарта Музыка - это оружие! влияние музыки на развитие плода Отрицательное значение музыки Заключение Приложение 1   Интересные факты</dc:title>
</cp:coreProperties>
</file>