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6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A659-18B3-4868-80F1-FCD754F269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Calibri"/>
              </a:rPr>
              <a:t>Влияние музыки на организм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р: Татьяна Иванова, 11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арабельской СОШ имени Н.А. Образ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уководитель: Владислав Николаевич Галим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DB41-553D-4F30-9CA0-703CA8A58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уховная, религиозная музыка восстанавливает душевное равновесие, дарит чувство покоя. Если сравнивать музыку с лекарствами, то религиозная музыка – анальгетик в мире звуков, то есть она облегчает бо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97E7-C441-4EDC-8DEB-2EFDCD92DC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зыка Моц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Вольфганг Амадей Моцарт родился 27 января 1756 года в австрийском городе Зальцбург. Музыкальный гений Моцарта проявился уже в раннем детстве. Он написал свою первую симфонию, когда ему еще не было 10 лет, а первую успешную оперу - к 12 год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66A4-1FA9-4419-BA1F-A5B23BF63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 Моц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Произведения Моцарта универсальны: они рекомендуются для снятия стресса, эффективного усвоения учебного материала, от головной боли, а также во время восстановительного периода, например, после экстремальных ситуаций. Причем лечебным эффектом обладают все произведения Моцарта. Это явление получило название: эффект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4B5D-4BC0-45C9-852F-3F7DBBCBE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лияние музыки на развитие пл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ети матерей, которые на двадцать восьмой - тридцать шестой неделях беременности слушали музыку, быстрее других начинают реагировать на звуки, узнавать мелодии. У них лучше развита пам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Также доказано, что малыши узнают, активнее реагируют и предпочитают ту музыку, которую они "слышали" до рождения, будучи в утробе ма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Исследования врачей доказали, что уже на пятом месяце беременности ребенок слышит и различает звуки. Он может реагировать на громкость и ритм мелодии. Она может ему нравиться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7E08-0F52-40B4-827F-5BB1D1FD6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рицательное значение музы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В нашем сложном земном мире любое явление можно направить и в положительную и в отрицательную стороны. Музыка - не исключение. Может быть, она служит началом многих духовных язв, но вопрос о гармонии необычно сложен. В последние десятилетия ХХ века появилось множество музыкальных направлений и большинство из них, отмечают исследователи, действуют разрушительно на живые 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DAFB-12C4-4577-8871-22A1ED91F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На фотографии показан опыт где воде дают слушать музыку, снизу фотография - кристаллы, замороженные после прослушивания 'Пасторали' Бетховена, одной из его самых известных симфоний. Это яркая, радостная музыкальная история. И этот красивый кристалл доказывает тот факт, что хорошая музыка позитивно влияет на в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15E0-BA77-4576-B364-A5F962404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Фотография справа - кристаллы, замороженные после прослушивания 'Прощальной Песни' Шопена. </a:t>
            </a:r>
            <a:br>
              <a:rPr sz="1200"/>
            </a:b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Он приобрел такую форму, потому что на него повлияла 'Прощальная Песня'? Основная форма кристалла почти идеально разделена на маленькие частицы, которые 'отделились' друг от друга. И это, несмотря на тот факт, что увеличительная сила микроскопа оставалась такой же, как и на других фотограф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51A3-BAC6-4DF6-89BA-2AA5F3EFB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Интересный эксперимент проводился с человеком, который каждый день говорил две фразы: '</a:t>
            </a: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' и '</a:t>
            </a: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' некоторому количеству риса. В этом эксперименте в два одинаковых контейнера поместили вареный ри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D9F7-5CCD-4FA3-B5C1-F544BB224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ва ученика начальной школы говорили рису слова каждый день, на протяжении месяца, как только они возвращались домой после школы. В результате, рис, которому дети говорил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хорошо бродил, и имел приятный аромат бродившего риса. Другой контейнер с рисом, которому дети говорил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стал черным и сгнил. Они сказали, что его запах был крайне отврати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Здесь не только вода, но также и микробы вовлечены в результат. Микробы так же как и мы, они работают хорошо, если их хвалят, и становятся бездеятельными, если их оскорбляют. Кажется, что слышал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 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микробы, должно быть, сгруппировались в полезные и вредные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2DCA-3B58-4793-9AEF-D21C699100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В следующем эксперименте приняла участие вода. Слова, сказанные воде, были следующими: </a:t>
            </a:r>
            <a:r>
              <a:rPr b="0" i="1" lang="ru-RU" sz="1600" spc="-1" strike="noStrike">
                <a:solidFill>
                  <a:srgbClr val="002060"/>
                </a:solidFill>
                <a:latin typeface="Calibri"/>
              </a:rPr>
              <a:t>'Ты надоела мне. Я убью тебя‘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отчете говорится: 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"Это слова, которые молодые люди часто используют в повседневной жизни. Постепенно форма воды стала настолько уродливой, как мы и ожидали. Кристаллы были искаженными и рассеянными. Это действительно было видимым образом слов: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Ты надоела мне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 и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Я убью тебя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. То, что мы живем в мире, в котором подобные слова часто используются, действительно пугает. Мы должны сделать что-то с самими соб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2D16-DEA3-494A-8763-A7A8C0F83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ктуальность тем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овременные звуки музыки уже не те, что были раньше. И в большей степени их прослушивание  отрицательно сказывается на нашем поведении, восприятии мира и самом главном – здоровье наше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, конечно же, существует и такая музыка, которая благотворно воздействует на орг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И поэтому я решила подробнее узнать об этих негативных сторонах и раскрыть эту, столь важную 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78B2-7231-4A00-87E5-088368649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истиллированная вода, получающая электромагнитные волны '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Любовь, Благодарность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'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р говорит в своем отчете: 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"Мы делали этот эксперимент, основываясь на идее, что даже когда стоит один и тот же телевизор, различные программы изменяют результат. Делая так, даже дистиллированная вода без этикетки 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Любовь, Благодарность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 на ней, показала нам красивый кристалл. После просмотра всех этих фотографий, для нас не трудно сделать следующий вывод: вне зависимости от того, было ли показано письмо, музыка или телевизионная программа, вода показывает невероятную способность улавливать определенные послания, спрятанные за поверхностными формами или даже отличать их моральный уровен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9ED1-D5FF-4596-849B-90921DBC9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В итоге своего мини-исследования  я получила очень много полезной и новой  для меня информации, которой хотелось бы поделиться со всеми людьми и развеять многие мнения о том, что музыка может быть только губительной и неприятной для прослушивания. Думаю, если бы музыкотерапии уделялось больше внимания в различных источниках СМИ, то современное человечество куда серьезнее воспринимало бы это восхитительное, замечательное искус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Напоследок хочется сказать, главное слушайте музыку правильно и она никогда не принесет вам вреда, а только наоборо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D71C-C028-4DB0-88B3-5EB62813E6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и задачи рефе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выявление позитивных и негативных сторон влияния музыки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дачи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изучить информационные источники – книги, энциклопедии, справочники, Интернет-ресурсы по данной тема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проанализировать получен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сделать собственные выводы на основе полученной информации о влиянии музыки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72CE-8F2F-44AC-8C63-5F0E10AFC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представление о звуке. Слуховой путь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С помощью звука такие физиологические функции, как пульс, сердечный ритм, дыхание, пищеварение, могут быть скоординированы. Особое влияние оказывает звук и на психическое состояни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D025-31E0-443C-8B15-1F747C0A5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ение  целебных свойств музыки в древние вре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Многие древнейшие учения содержат в себе различные утверждения и опыт, накопленный тысячелетиями, воздействия музыки на животных, растения и человека. Мудрые всегда признавали особую силу зву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4056-4337-4D4D-936C-7C01094F8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Музыкотерапия - одно из наиболее интересных и пока мало исследованных направлений традиционной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7448-0C89-4E26-A29F-F26D052B8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Терапевтический эффект этой методики базируется на частотном колебании музыкальных звуков, резонирующих с отдельными органами, системами или всем организмом человек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D4B4-CDEC-4497-B471-213F9E740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Музыкотерапия существует в двух основных формах: активной и рецепти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Активная музыкотерапия представляет собой терапевтически направленную, активную музыкальную деятельность: воспроизведение, фантазирование, импровизацию с помощью человеческого голоса и выбранных музыкальных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251A-2459-4E49-A6A4-594EAC71D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Рецептивная музыкотерапия предполагает процесс восприятия музыки с терапевтической целью. Участникам группы предлагают прослушать специально подобранные музыкальные произведения, а затем обсудить их собственные переживания, воспоминания, мысли, ассоциации, фантазии, возникающие у них в ходе прослуш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4D01-D7B6-4A0C-BBE4-77F252455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5D7-540E-4D30-A360-0D479880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39E-E9E9-40CF-8CF3-45BF3860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080-C322-4A2F-B161-50B6DE59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414-3CE8-4DF0-BB8A-C698CA5D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FCDA-F64B-4CAF-8B89-4424F934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9CBC-48EF-4EB7-9219-89077961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7A81-AF9B-46F5-AFFB-92F018AC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312E-70CE-44DC-9140-D097900F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4BE4-BC53-423B-984A-FD756FEA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E4CA-6555-4CE7-BCC6-C2879035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FF0D-3A48-4AA8-AFAD-BA669393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667-5757-46CA-A47A-2D4B85DC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35BC-1075-4850-8B05-96F7FE3D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B846-1771-4C8A-B0FA-591E3B9F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3709-2808-4DEF-B669-F1E7CD3C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C30C-30CF-4A9B-B3CD-3F0A0F82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B71E-CCD4-4728-9DAE-D5FAC452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7CDC-057B-4A2E-9FBB-055F3648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5C0C-0BA6-48C2-B750-79DC0516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D5541-B273-45E3-AA3B-4B41EFE9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6CB17-3855-4599-9724-0B6951F6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9A67-670C-4A02-ABA0-06DD90B4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CEA-4519-4DF5-9934-5B869E32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CA7C-14EA-41BB-8D57-5FE59321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90FB-27B1-475D-9240-14E9665B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B225-CA08-4EC0-A94B-4A249078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CD6C-2F3E-4653-8257-19AAD867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514A-FF06-497B-BBE5-6F46BE80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7CD4-141C-4E0C-8F8F-734064A7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139B-072B-4622-89F3-1C96BDD0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30A1-1BB0-4087-9E61-BBF60795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FDAA-4A67-4643-B0E2-E94E47D2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3992C-9B85-4957-B252-CA87AB8F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2F6-31D6-4011-A9E9-753D170E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42C40-7A1B-45D8-9F4A-108DCCD6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E481-A114-4DF5-99EA-489D9062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330F9-AF6A-46F3-9D3B-3FEA4894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E4F8-0C9C-4A9F-A626-A9B3550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21311-F01A-4870-982B-E9BD2E4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4DD3C-E97B-43CA-B945-00EF66A6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74BD7-B350-47BB-95C9-D372E449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41DA7-6B7E-478F-9CA1-0DC131D0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C604-A6FD-480F-AF3A-190DD559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4EB62-F424-4FF2-AFDA-2F232B6F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5AD-A8EA-4ACA-A335-0374A479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C2731-93C7-42F4-9CF1-E9F73164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DE8BD-94F9-465E-9875-FFA92396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569F-E493-4B91-A565-7D13A2A1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43B03-8835-403E-8794-EC67E1DA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43E0C-2BD0-4195-BC7C-DE5AD9C4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D202E-407A-4790-8C08-5DB45671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2CEA1-0681-49D3-BFCD-A0D45DC7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8A3D-1E45-45A1-AFD2-ED034E4C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1C971-C82A-47F3-B994-1BF14B71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F8A49-EB1A-4C62-B15B-1B2276FD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191-8A2A-4CDA-9286-3A065339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61ADF-B326-48A7-93CB-A08F046B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97389-3E69-4B59-8814-0194F676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5D490-D39F-430F-9805-1BFA2EAC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251DA-A5BF-44F4-A7E4-93921A88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7D841-F37F-47D0-93A8-DF6C831E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72E51-D533-4BDA-BFCA-3BDED6ED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A556E-5FCB-4499-ADB7-CD0D904E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A70F2-E122-4D2A-A775-C0A3C223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876CB-050A-4CCC-BB1B-91017CF9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58210-016D-461C-8B5A-EB172A32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CBE-1F5D-40FB-A68B-D2FE3F79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B9F5E-38E9-4729-8822-889E6B82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72538-06F2-4FD1-98ED-E389696A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524F9-DA63-4E57-A885-09ED0FA7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434-C811-4AAC-B2C8-DEC06578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523-23AB-4768-8A1E-0F4E21BF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CE07-2A35-40D3-A11A-5BA4C904002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A0E8-4CB4-4579-88C6-5737CA16DA9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092E-2E73-425C-B8A0-9F2621D2E92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DF9B-835A-4172-B6AE-B2ADD553204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D8C1-D0EE-42C0-86E8-BDB5E565982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7B1E-8442-44C8-B364-F09E7638CEB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8" descr=""/>
          <p:cNvPicPr/>
          <p:nvPr/>
        </p:nvPicPr>
        <p:blipFill>
          <a:blip r:embed="rId1"/>
          <a:stretch/>
        </p:blipFill>
        <p:spPr>
          <a:xfrm>
            <a:off x="281160" y="914400"/>
            <a:ext cx="8521560" cy="28717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Автор: Татьяна Иванова, 11 класс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арабельской СОШ имени Н.А. Образцо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уководитель: Владислав Николаевич Галимов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учитель биолог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011 ВИВАЛЬДИ - ВРЕМЕНА ГОДА (ЛЕТО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011 ВИВАЛЬДИ - ВРЕМЕНА ГОДА (ЛЕТО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59745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173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6886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928960" y="1500120"/>
            <a:ext cx="4929120" cy="25005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83763"/>
                </a:solidFill>
                <a:latin typeface="Constantia"/>
              </a:rPr>
              <a:t>Духовная, религиозная музыка восстанавливает душевное равновесие, дарит чувство покоя. Если сравнивать музыку с лекарствами, то религиозная музыка – анальгетик в мире звуков, то есть она облегчает бол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8" name="Picture 15" descr="Rose069"/>
          <p:cNvPicPr/>
          <p:nvPr/>
        </p:nvPicPr>
        <p:blipFill>
          <a:blip r:embed="rId2"/>
          <a:stretch/>
        </p:blipFill>
        <p:spPr>
          <a:xfrm>
            <a:off x="500040" y="1500120"/>
            <a:ext cx="2057400" cy="2543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173"/>
          <p:cNvPicPr/>
          <p:nvPr/>
        </p:nvPicPr>
        <p:blipFill>
          <a:blip r:embed="rId3"/>
          <a:stretch/>
        </p:blipFill>
        <p:spPr>
          <a:xfrm>
            <a:off x="3071880" y="3571920"/>
            <a:ext cx="3071880" cy="220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"/>
          <p:cNvPicPr/>
          <p:nvPr/>
        </p:nvPicPr>
        <p:blipFill>
          <a:blip r:embed="rId4"/>
          <a:stretch/>
        </p:blipFill>
        <p:spPr>
          <a:xfrm>
            <a:off x="6715080" y="4214880"/>
            <a:ext cx="1962360" cy="218592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7438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Музыка Моцар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2600" y="1643040"/>
            <a:ext cx="3786120" cy="35719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Вольфганг Амадей Моцарт родился 27 января 1756 года в австрийском городе Зальцбург. Музыкальный гений Моцарта проявился уже в раннем детстве. Он написал свою первую симфонию, когда ему еще не было 10 лет, а первую успешную оперу - к 12 года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2" descr="mozart"/>
          <p:cNvPicPr/>
          <p:nvPr/>
        </p:nvPicPr>
        <p:blipFill>
          <a:blip r:embed="rId2"/>
          <a:stretch/>
        </p:blipFill>
        <p:spPr>
          <a:xfrm>
            <a:off x="5000760" y="1571760"/>
            <a:ext cx="2886120" cy="36082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1009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Эффект Моцар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71520" y="1356840"/>
            <a:ext cx="3243240" cy="4467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Constantia"/>
              </a:rPr>
              <a:t>Произведения Моцарта универсальны: они рекомендуются для снятия стресса, эффективного усвоения учебного материала, от головной боли, а также во время восстановительного периода, например, после экстремальных ситуаций. Причем лечебным эффектом обладают все произведения Моцарта. Это явление получило название: эффект Моцар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0" name="Picture 3" descr="0320076235243"/>
          <p:cNvPicPr/>
          <p:nvPr/>
        </p:nvPicPr>
        <p:blipFill>
          <a:blip r:embed="rId2"/>
          <a:stretch/>
        </p:blipFill>
        <p:spPr>
          <a:xfrm>
            <a:off x="928800" y="2071800"/>
            <a:ext cx="2000160" cy="216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1"/>
          <p:cNvPicPr/>
          <p:nvPr/>
        </p:nvPicPr>
        <p:blipFill>
          <a:blip r:embed="rId3"/>
          <a:stretch/>
        </p:blipFill>
        <p:spPr>
          <a:xfrm>
            <a:off x="6500880" y="207180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17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774396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Влияние музыки на развитие плод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571560" y="1285560"/>
            <a:ext cx="4143240" cy="2071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Исследования врачей доказали, что уже на пятом месяце беременности ребенок слышит и различает звуки. Он может реагировать на громкость и ритм мелодии. Она может ему нравиться или нет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6" name="Picture 8" descr="Музыка и беременность"/>
          <p:cNvPicPr/>
          <p:nvPr/>
        </p:nvPicPr>
        <p:blipFill>
          <a:blip r:embed="rId2"/>
          <a:stretch/>
        </p:blipFill>
        <p:spPr>
          <a:xfrm>
            <a:off x="428760" y="1285920"/>
            <a:ext cx="3071520" cy="2052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14240" y="3643200"/>
            <a:ext cx="47865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89000"/>
          </a:bodyPr>
          <a:p>
            <a:pPr marL="242640" indent="-242640" algn="ct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Дети матерей, которые на двадцать восьмой - тридцать шестой неделях беременности слушали музыку, быстрее других начинают реагировать на звуки, узнавать мелодии. У них лучше развита памя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Также доказано, что малыши узнают, активнее реагируют и предпочитают ту музыку, которую они "слышали" до рождения, будучи в утробе матер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Picture 9" descr=""/>
          <p:cNvPicPr/>
          <p:nvPr/>
        </p:nvPicPr>
        <p:blipFill>
          <a:blip r:embed="rId3"/>
          <a:stretch/>
        </p:blipFill>
        <p:spPr>
          <a:xfrm>
            <a:off x="564372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8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трицательное значение музы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00040" y="1357200"/>
            <a:ext cx="511488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В нашем сложном земном мире любое явление можно направить и в положительную и в отрицательную стороны. Музыка - не исключение. Может быть, она служит началом многих духовных язв, но вопрос о гармонии необычно сложен. В последние десятилетия ХХ века появилось множество музыкальных направлений и большинство из них, отмечают исследователи, действуют разрушительно на живые организм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1" descr=""/>
          <p:cNvPicPr/>
          <p:nvPr/>
        </p:nvPicPr>
        <p:blipFill>
          <a:blip r:embed="rId2"/>
          <a:stretch/>
        </p:blipFill>
        <p:spPr>
          <a:xfrm>
            <a:off x="1500120" y="3929040"/>
            <a:ext cx="2357640" cy="2209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2643120" cy="220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endorfmusic02-1212876829"/>
          <p:cNvPicPr/>
          <p:nvPr/>
        </p:nvPicPr>
        <p:blipFill>
          <a:blip r:embed="rId4"/>
          <a:stretch/>
        </p:blipFill>
        <p:spPr>
          <a:xfrm>
            <a:off x="6215040" y="1214280"/>
            <a:ext cx="1643040" cy="247968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Интересные факт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9" name="Picture 15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642960" y="1500120"/>
            <a:ext cx="3686040" cy="26431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7"/>
          <p:cNvSpPr/>
          <p:nvPr/>
        </p:nvSpPr>
        <p:spPr>
          <a:xfrm>
            <a:off x="4500720" y="1428840"/>
            <a:ext cx="39290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3763"/>
                </a:solidFill>
                <a:latin typeface="Arial"/>
              </a:rPr>
              <a:t>На фотографии показан опыт где воде дают слушать музыку, снизу фотография - кристаллы, замороженные после прослушивания 'Пасторали' Бетховена, одной из его самых известных симфоний. Это яркая, радостная музыкальная история. И этот красивый кристалл доказывает тот факт, что хорошая музыка позитивно влияет на в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Прикрепленное изображение"/>
          <p:cNvPicPr/>
          <p:nvPr/>
        </p:nvPicPr>
        <p:blipFill>
          <a:blip r:embed="rId3"/>
          <a:stretch/>
        </p:blipFill>
        <p:spPr>
          <a:xfrm>
            <a:off x="4786200" y="3703680"/>
            <a:ext cx="3129120" cy="26542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173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599840"/>
            <a:ext cx="382896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Фотография справа - кристаллы, замороженные после прослушивания 'Прощальной Песни' Шопена. </a:t>
            </a:r>
            <a:br>
              <a:rPr sz="1800"/>
            </a:b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Он приобрел такую форму, потому что на него повлияла 'Прощальная Песня'? Основная форма кристалла почти идеально разделена на маленькие частицы, которые 'отделились' друг от друга. И это, несмотря на тот факт, что увеличительная сила микроскопа оставалась такой же, как и на других фотография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12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4929120" y="1857240"/>
            <a:ext cx="3344760" cy="27576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17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4429080"/>
            <a:ext cx="82864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Интересный эксперимент проводился с человеком, который каждый день говорил две фразы: '</a:t>
            </a: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' и '</a:t>
            </a: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' некоторому количеству риса. В этом эксперименте в два одинаковых контейнера поместили вареный ри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1" name="Picture 13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2071800" y="1500120"/>
            <a:ext cx="4628880" cy="250056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856800"/>
            <a:ext cx="832968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Два ученика начальной школы говорили рису слова каждый день, на протяжении месяца, как только они возвращались домой после школы. В результате, рис, которому дети говорил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хорошо бродил, и имел приятный аромат бродившего риса. Другой контейнер с рисом, которому дети говорил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стал черным и сгнил. Они сказали, что его запах был крайне отвратительны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Здесь не только вода, но также и микробы вовлечены в результат. Микробы так же как и мы, они работают хорошо, если их хвалят, и становятся бездеятельными, если их оскорбляют. Кажется, что слышал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 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микробы, должно быть, сгруппировались в полезные и вредные бактер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6" descr="173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3938400"/>
            <a:ext cx="79725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отчете говорится: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"Это слова, которые молодые люди часто используют в повседневной жизни. Постепенно форма воды стала настолько уродливой, как мы и ожидали. Кристаллы были искаженными и рассеянными. Это действительно было видимым образом слов: '</a:t>
            </a:r>
            <a:r>
              <a:rPr b="0" i="1" lang="ru-RU" sz="1800" spc="-1" strike="noStrike">
                <a:solidFill>
                  <a:srgbClr val="002060"/>
                </a:solidFill>
                <a:latin typeface="Constantia"/>
              </a:rPr>
              <a:t>Ты надоела мн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' и '</a:t>
            </a:r>
            <a:r>
              <a:rPr b="0" i="1" lang="ru-RU" sz="1800" spc="-1" strike="noStrike">
                <a:solidFill>
                  <a:srgbClr val="002060"/>
                </a:solidFill>
                <a:latin typeface="Constantia"/>
              </a:rPr>
              <a:t>Я убью тебя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'. То, что мы живем в мире, в котором подобные слова часто используются, действительно пугает. Мы должны сделать что-то с самими собой"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9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642960" y="1000080"/>
            <a:ext cx="3246480" cy="27860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929040" y="1213920"/>
            <a:ext cx="45720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 следующем эксперименте приняла участие вода. Слова, сказанные воде, были следующими: </a:t>
            </a:r>
            <a:r>
              <a:rPr b="0" i="1" lang="ru-RU" sz="2400" spc="-1" strike="noStrike">
                <a:solidFill>
                  <a:srgbClr val="002060"/>
                </a:solidFill>
                <a:latin typeface="Constantia"/>
              </a:rPr>
              <a:t>'Ты надоела мне. Я убью тебя‘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ктуальность т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Современные звуки музыки уже не те, что были раньше. И в большей степени их прослушивание  отрицательно сказывается на нашем поведении, восприятии мира и самом главном – здоровье нашего организм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Но, конечно же, существует и такая музыка, которая благотворно воздействует на организ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И поэтому я решила подробнее узнать об этих негативных сторонах и раскрыть эту, столь важную тему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2"/>
          <a:stretch/>
        </p:blipFill>
        <p:spPr>
          <a:xfrm>
            <a:off x="3575160" y="2019240"/>
            <a:ext cx="5111640" cy="3886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3938760"/>
            <a:ext cx="818676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Автор говорит в своем отчете: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"Мы делали этот эксперимент, основываясь на идее, что даже когда стоит один и тот же телевизор, различные программы изменяют результат. Делая так, даже дистиллированная вода без этикетки  '</a:t>
            </a:r>
            <a:r>
              <a:rPr b="0" i="1" lang="ru-RU" sz="1600" spc="-1" strike="noStrike">
                <a:solidFill>
                  <a:srgbClr val="002060"/>
                </a:solidFill>
                <a:latin typeface="Constantia"/>
              </a:rPr>
              <a:t>Любовь, Благодарность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' на ней, показала нам красивый кристалл. После просмотра всех этих фотографий, для нас не трудно сделать следующий вывод: вне зависимости от того, было ли показано письмо, музыка или телевизионная программа, вода показывает невероятную способность улавливать определенные послания, спрятанные за поверхностными формами или даже отличать их моральный уровень"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10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1071720" y="1071720"/>
            <a:ext cx="3071520" cy="2655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648320" y="1600200"/>
            <a:ext cx="42098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Дистиллированная вода, получающая электромагнитные волны '</a:t>
            </a:r>
            <a:r>
              <a:rPr b="0" i="1" lang="ru-RU" sz="2400" spc="-1" strike="noStrike">
                <a:solidFill>
                  <a:srgbClr val="002060"/>
                </a:solidFill>
                <a:latin typeface="Constantia"/>
              </a:rPr>
              <a:t>Любовь, Благодарность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'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664344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ывод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14360" y="1571400"/>
            <a:ext cx="4886280" cy="3500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7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83763"/>
                </a:solidFill>
                <a:latin typeface="Constantia"/>
              </a:rPr>
              <a:t>В итоге своего мини-исследования  я получила очень много полезной и новой  для меня информации, которой хотелось бы поделиться со всеми людьми и развеять многие мнения о том, что музыка может быть только губительной и неприятной для прослушивания. Думаю, если бы музыкотерапии уделялось больше внимания в различных источниках СМИ, то современное человечество куда серьезнее воспринимало бы это восхитительное, замечательное искусство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Напоследок хочется сказать, главное слушайте музыку правильно и она никогда не принесет вам вреда, а только наоборот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1" name="Picture 12" descr=""/>
          <p:cNvPicPr/>
          <p:nvPr/>
        </p:nvPicPr>
        <p:blipFill>
          <a:blip r:embed="rId2"/>
          <a:stretch/>
        </p:blipFill>
        <p:spPr>
          <a:xfrm>
            <a:off x="7143840" y="3929040"/>
            <a:ext cx="1714320" cy="2511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 Мистицизм звука. Неслышимая жизнь."/>
          <p:cNvPicPr/>
          <p:nvPr/>
        </p:nvPicPr>
        <p:blipFill>
          <a:blip r:embed="rId3"/>
          <a:stretch/>
        </p:blipFill>
        <p:spPr>
          <a:xfrm>
            <a:off x="357120" y="1357200"/>
            <a:ext cx="1643040" cy="2438640"/>
          </a:xfrm>
          <a:prstGeom prst="rect">
            <a:avLst/>
          </a:prstGeom>
          <a:ln w="0">
            <a:noFill/>
          </a:ln>
        </p:spPr>
      </p:pic>
      <p:pic>
        <p:nvPicPr>
          <p:cNvPr id="423" name="035 БЕТХОВЕН - К ЭЛИЗЕ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035 БЕТХОВЕН - К ЭЛИЗЕ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9" dur="173067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ь и задачи рефера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Цель: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выявление позитивных и негативных сторон влияния музыки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Задачи: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изучить информационные источники – книги, энциклопедии, справочники, Интернет-ресурсы по данной темати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проанализировать полученную информац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сделать собственные выводы на основе полученной информации о влиянии музыки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3864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бщее представление о звуке. Слуховой путь человека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57160" y="1928880"/>
            <a:ext cx="3314880" cy="39290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С помощью звука такие физиологические функции, как пульс, сердечный ритм, дыхание, пищеварение, могут быть скоординированы. Особое влияние оказывает звук и на психическое состояние челове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7" descr="0520063101356"/>
          <p:cNvPicPr/>
          <p:nvPr/>
        </p:nvPicPr>
        <p:blipFill>
          <a:blip r:embed="rId2"/>
          <a:stretch/>
        </p:blipFill>
        <p:spPr>
          <a:xfrm>
            <a:off x="4214880" y="1785960"/>
            <a:ext cx="1785960" cy="2089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3"/>
          <a:stretch/>
        </p:blipFill>
        <p:spPr>
          <a:xfrm>
            <a:off x="6000840" y="2714760"/>
            <a:ext cx="2762280" cy="3543120"/>
          </a:xfrm>
          <a:prstGeom prst="rect">
            <a:avLst/>
          </a:prstGeom>
          <a:ln w="0">
            <a:noFill/>
          </a:ln>
        </p:spPr>
      </p:pic>
      <p:sp>
        <p:nvSpPr>
          <p:cNvPr id="3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173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менение  целебных свойств музыки в древние време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4" name="Picture 7" descr="Музыка влияет на духовную сущность личности."/>
          <p:cNvPicPr/>
          <p:nvPr/>
        </p:nvPicPr>
        <p:blipFill>
          <a:blip r:embed="rId2"/>
          <a:stretch/>
        </p:blipFill>
        <p:spPr>
          <a:xfrm>
            <a:off x="6357960" y="1571760"/>
            <a:ext cx="2173320" cy="2757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Влияние музыки на психику человека"/>
          <p:cNvPicPr/>
          <p:nvPr/>
        </p:nvPicPr>
        <p:blipFill>
          <a:blip r:embed="rId3"/>
          <a:stretch/>
        </p:blipFill>
        <p:spPr>
          <a:xfrm>
            <a:off x="357120" y="1571760"/>
            <a:ext cx="1928880" cy="2755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 Творчество &lt;i&gt;хиндустани&lt;/i&gt;."/>
          <p:cNvPicPr/>
          <p:nvPr/>
        </p:nvPicPr>
        <p:blipFill>
          <a:blip r:embed="rId4"/>
          <a:stretch/>
        </p:blipFill>
        <p:spPr>
          <a:xfrm>
            <a:off x="2928960" y="4286160"/>
            <a:ext cx="3071880" cy="2370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571840" y="1571400"/>
            <a:ext cx="35719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Многие древнейшие учения содержат в себе различные утверждения и опыт, накопленный тысячелетиями, воздействия музыки на животных, растения и человека. Мудрые всегда признавали особую силу зву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44578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42600" y="1643040"/>
            <a:ext cx="2886120" cy="396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Музыкотерапия - одно из наиболее интересных и пока мало исследованных направлений традиционной медицин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2"/>
          <a:stretch/>
        </p:blipFill>
        <p:spPr>
          <a:xfrm>
            <a:off x="4214880" y="1428840"/>
            <a:ext cx="3929040" cy="3859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Занятия музыкой влияют на физиологию мозга"/>
          <p:cNvPicPr/>
          <p:nvPr/>
        </p:nvPicPr>
        <p:blipFill>
          <a:blip r:embed="rId3"/>
          <a:stretch/>
        </p:blipFill>
        <p:spPr>
          <a:xfrm>
            <a:off x="1143000" y="3571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502920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2681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Терапевтический эффект этой методики базируется на частотном колебании музыкальных звуков, резонирующих с отдельными органами, системами или всем организмом человека в цел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11" descr=" Музыкальная терапия для детей"/>
          <p:cNvPicPr/>
          <p:nvPr/>
        </p:nvPicPr>
        <p:blipFill>
          <a:blip r:embed="rId2"/>
          <a:stretch/>
        </p:blipFill>
        <p:spPr>
          <a:xfrm>
            <a:off x="1714680" y="4071960"/>
            <a:ext cx="1714320" cy="2343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Sound Therapy"/>
          <p:cNvPicPr/>
          <p:nvPr/>
        </p:nvPicPr>
        <p:blipFill>
          <a:blip r:embed="rId3"/>
          <a:stretch/>
        </p:blipFill>
        <p:spPr>
          <a:xfrm>
            <a:off x="4214880" y="1571760"/>
            <a:ext cx="3784680" cy="4140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53863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100320" cy="396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3000"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Музыкотерапия существует в двух основных формах: активной и рецептивной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Активная музыкотерапия представляет собой терапевтически направленную, активную музыкальную деятельность: воспроизведение, фантазирование, импровизацию с помощью человеческого голоса и выбранных музыкальных инструментов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10" descr="8-3"/>
          <p:cNvPicPr/>
          <p:nvPr/>
        </p:nvPicPr>
        <p:blipFill>
          <a:blip r:embed="rId2"/>
          <a:stretch/>
        </p:blipFill>
        <p:spPr>
          <a:xfrm>
            <a:off x="4786200" y="385776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8-1"/>
          <p:cNvPicPr/>
          <p:nvPr/>
        </p:nvPicPr>
        <p:blipFill>
          <a:blip r:embed="rId3"/>
          <a:stretch/>
        </p:blipFill>
        <p:spPr>
          <a:xfrm>
            <a:off x="4000680" y="1428840"/>
            <a:ext cx="2643120" cy="2077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9-1"/>
          <p:cNvPicPr/>
          <p:nvPr/>
        </p:nvPicPr>
        <p:blipFill>
          <a:blip r:embed="rId4"/>
          <a:stretch/>
        </p:blipFill>
        <p:spPr>
          <a:xfrm>
            <a:off x="6786720" y="2357280"/>
            <a:ext cx="2095200" cy="218628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6" descr="173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599840"/>
            <a:ext cx="36147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Рецептивная музыкотерапия предполагает процесс восприятия музыки с терапевтической целью. Участникам группы предлагают прослушать специально подобранные музыкальные произведения, а затем обсудить их собственные переживания, воспоминания, мысли, ассоциации, фантазии, возникающие у них в ходе прослушив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Picture 9" descr="Listen"/>
          <p:cNvPicPr/>
          <p:nvPr/>
        </p:nvPicPr>
        <p:blipFill>
          <a:blip r:embed="rId2"/>
          <a:stretch/>
        </p:blipFill>
        <p:spPr>
          <a:xfrm>
            <a:off x="4068720" y="1643040"/>
            <a:ext cx="1720800" cy="1143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1020061785141"/>
          <p:cNvPicPr/>
          <p:nvPr/>
        </p:nvPicPr>
        <p:blipFill>
          <a:blip r:embed="rId3"/>
          <a:stretch/>
        </p:blipFill>
        <p:spPr>
          <a:xfrm>
            <a:off x="6572160" y="4929120"/>
            <a:ext cx="1857600" cy="1333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 Духовное значение звука"/>
          <p:cNvPicPr/>
          <p:nvPr/>
        </p:nvPicPr>
        <p:blipFill>
          <a:blip r:embed="rId4"/>
          <a:stretch/>
        </p:blipFill>
        <p:spPr>
          <a:xfrm>
            <a:off x="5072040" y="2857680"/>
            <a:ext cx="2095560" cy="200952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53:49Z</dcterms:created>
  <dc:creator>Домашний</dc:creator>
  <dc:description/>
  <dc:language>en-US</dc:language>
  <cp:lastModifiedBy>LEGION</cp:lastModifiedBy>
  <dcterms:modified xsi:type="dcterms:W3CDTF">2015-04-02T07:00:02Z</dcterms:modified>
  <cp:revision>55</cp:revision>
  <dc:subject/>
  <dc:title>Введение Общее представление о звуке. Слуховой путь человека Применение свойств музыки в древние времена музыкотерапия: что это? Для чего используется? Направления? Формы? Музыка Моцарта Музыка - это оружие! влияние музыки на развитие плода Отрицательное значение музыки Заключение Приложение 1   Интересные факты</dc:title>
</cp:coreProperties>
</file>