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87D3-F1ED-40B6-B841-4C03658F0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вязь универсальных учебных действий</a:t>
            </a:r>
            <a:br>
              <a:rPr sz="1200"/>
            </a:b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 содержанием учебных предме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27AB-81C8-4B14-91C5-3C90519733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 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м действиям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alibri"/>
              </a:rPr>
              <a:t>изучен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узыки будет способствовать формированию действи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и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A73E-4218-4144-9AC2-D2EF3A456E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держание кур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 в жизни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омерности музыкального искусств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льная картина мир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5E1D-C41D-4955-B0F5-F4195D4F3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виды учебн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льное музиц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о-пластическое дви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музыкальны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E282-2BD4-4056-AEB0-93E3F806A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и изучения музык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 музыкаль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рез эмоциональное восприятие музы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воспит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цен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кусству, художественного вку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я музыки, интереса к музыке, образного и ассоциатив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обогаще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 о музыкальном искусст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7A2E-9812-424A-AD42-FD8DE6017F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Результаты изучения предме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Личностн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креп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ной, этнической, гражданск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дент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мысл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жения искусства, расширение ценностной 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обрет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альных навыков социокультурной адаптации  и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зитив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узыкально-творческих возмож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FC3F-AB5E-41B9-947B-5E1CDE78C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 моти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ально-учебной деятельности и</a:t>
            </a:r>
            <a:br>
              <a:rPr sz="1200"/>
            </a:b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еал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ворческого потенц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дук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труднич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уховно-нравственных и этических чувств, эмоциональной отзывчивости, уважитель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традициям друг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8333-FCF3-4BB1-98C8-6D01BC369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апредметные результа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наблю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 явлениями жизни и искусства, понимание их многообраз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риентирова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ультурном многообразии, участие в жизни социу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владение способ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еализации твор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лов через понимание целей, выбор способов решения  проблем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логическим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нтроль и оценка учебных действий, умение корректировать свои 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вместной деятельности на основе сотрудни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м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спринимать окружающий мир во всём его многооб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F967-674F-4924-ABE1-FC98A98D8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метные результа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г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вк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стойчив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нтере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видам музыкально-твор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е восприят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ня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р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и в жизни человек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-нравственном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едставл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художествен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ртине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споль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ментарных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мений и навы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воплощении содержания музыкальных произведений в различных видах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менять полученные знания при организации культурного дос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здании ком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9FB4-0BCD-4853-9466-C15ACE849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Универсальные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 учебные дейст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пособность субъекта к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развити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и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совершенствовани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путем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сознательного 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и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активного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исвоения нового социального опы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 </a:t>
            </a:r>
            <a:r>
              <a:rPr b="1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вокупность действий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учащегося, обеспечивающих его       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культурну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дентичность,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циальну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компетентность,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толерантность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способность к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амостоятельно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своению новых знаний и умений, включая организацию эт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alibri"/>
              </a:rPr>
              <a:t>ВИДЫ 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Личност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Регуля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действия саморег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Познаватель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общеучебные, логические и знаково-симво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Коммуника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alibri"/>
              </a:rPr>
              <a:t>Функции универсальных учебных действ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возмож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чащегос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амостоятель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осуществлять деятельность учения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тавить учебные зада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нтролировать и оценивать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оцесс и результат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услов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дл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развития личности и ее самореализаци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на основе компетентности 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«умени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читьс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»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толера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спешного усвоения знан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формирование картины ми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мпетент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в любой предметной области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3B49-1C66-4122-A180-006D2ED6D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«Музыка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егулятивны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80F6-BAAE-443C-83EA-73DBB23CF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балансирова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обучающихся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огическ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наглядно-образн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наково-символ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ыш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ающее риск развития формализма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D183-6319-40B2-B998-15C484D74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стетических и ценностных ориентаций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итивно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ув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зне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оптим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требности в творческом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выраж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риобщ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сийской гражданской идентичности и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B664-7649-442D-AAE2-90CF1FB32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е</a:t>
            </a:r>
            <a:br>
              <a:rPr sz="1200"/>
            </a:b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эмпа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м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ять выраженные в музыке настроения и чув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ереда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 чувства и эмоции на основе творческого само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F700-56CE-4C93-8DA9-8BFDD609A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645-7207-4425-86D6-C92534EA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609-9440-46A8-85B4-8ADFEB84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C0E-6E05-410E-8947-D1D03925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F52-2D13-47FF-89E1-3C22DDD8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3E49-0377-4CBA-8F3F-EF18FE8B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2D53-0DA2-4EB2-98A2-1C697DD9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D3BE-3279-4CAA-B4ED-BCE2AE77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A3AC-A55C-459D-B957-67AEEBBB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18DA-6DE9-4454-BB66-0092D129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9049-8EA1-4130-B83E-4D807947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F44C-F8ED-4195-8F15-D03A94E3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EE5-6252-4D03-AC47-9B489655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0A72-9365-4A96-8FD4-09E1D00B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3023-0950-424F-8259-196F2B36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E58C-CE46-4759-A218-D95C4305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0587-520E-49AC-90C3-DC06E88A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505F-C319-423F-AD29-A516F0C1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FB8-8834-488A-82D6-C4ECCAEA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B15-AEE0-4CE5-8E00-22DA2EFE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9D3-BE72-4E9D-84C5-68AE56AF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0FD-A6E1-493B-90AB-B8642539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10D-8711-41E6-A49D-A7110DAF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FBC-8898-4F1E-A4CA-50A5B705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579-4AA6-4F58-8AAF-30B7689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DB55-D433-4290-8C37-72ABA5D9B551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8625-2029-4C95-8E5E-76F40D347C5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EFE4-213C-4D93-BCC6-7403ACD25E65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9742-4A11-4A76-9954-C9E495D0850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400" cy="28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вязь универсальных учебных действий</a:t>
            </a:r>
            <a:br>
              <a:rPr sz="4000"/>
            </a:b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 содержанием учебных предмет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Познаватель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903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отовность к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им действиям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изуч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узыки будет способствовать формированию действий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 модел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держание курс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 в жизни человека»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Закономерности музыкального искусства»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льная картина мира»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сновные виды учебной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ятельност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уша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узы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струментальное музиц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зыкально-пластическое движ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аматизация музыкальных произвед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и изучения музыки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 музыкальн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ультур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ерез эмоциональное восприятие музы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воспит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моционально-цен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отнош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искусству, художественного вкус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риятия музыки, интереса к музыке, образного и ассоциативного мышл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обогащ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й о музыкальном искусств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f01"/>
                </a:solidFill>
                <a:latin typeface="Tahoma"/>
              </a:rPr>
              <a:t>Результаты изучения предмет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228600" y="456840"/>
            <a:ext cx="9183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Личностные результат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Укреп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ультурной, этнической, гражданск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дентич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ич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мыс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ижения искусства, расширение ценностной сфе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чальных навыков социокультурной адаптации  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зитив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амооцен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х музыкально-творческих возможнос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426920" y="1880280"/>
            <a:ext cx="29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-1358640"/>
            <a:ext cx="779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574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 мотив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узыкально-учебной деятельности 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еализ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ворческого потенциал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дуктив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трудничество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уховно-нравственных и этических чувств, эмоциональной отзывчивости, уважительн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шение к традициям других народ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-30528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етапредметные результаты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блюд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 явлениями жизни и искусства, понимание их многообраз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риент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культурном многообразии, участие в жизни социум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владение способность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реализации творческ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мыслов через понимание целей, выбор способов решения  проблем поискового характер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логическим действ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нтроль и оценка учебных действий, умение корректировать свои 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овместной деятельности на основе сотрудниче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спринимать окружающий мир во всём его многообраз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метные результат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г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вку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устойчивого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нтере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ным видам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е восприят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ро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и в жизни человека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уховно-нравственном развит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едставле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 художественной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ртине ми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спольз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лементарны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й и навы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 воплощении содержания музыкальных произведений в различных видах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менять полученные знания при организации культурного дос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создании компози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Музыка в жизни человек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ускник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у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осприним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у различных жанров, размышлять о музыкальных произведениях как способе выражения чувств и мыслей челове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эмоциональн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эстетически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кликать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кусство, выражая своё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 нему в различных видах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ориентировать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музыкально-поэтическом творчеств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ногообразии музыкального фольклора России, родного кра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сопоставля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личные образцы народной и профессиональной музы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цен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ечественные народные музыкальные тради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621560" cy="533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Универсальные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 учебные действ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296280" cy="5759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0000"/>
          </a:bodyPr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пособность субъекта к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развити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и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совершенствовани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путем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сознательного 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и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активного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исвоения нового социального опы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 </a:t>
            </a:r>
            <a:r>
              <a:rPr b="1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вокупность действий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учащегося, обеспечивающих его       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культурну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дентичность,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циальну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компетентность,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толерантность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способность к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амостоятельному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своению новых знаний и умений, включая организацию этого процесс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19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ahoma"/>
              </a:rPr>
              <a:t>воплощать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художественно-образное содержание и интонационно-мелодические особенности профессионального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родного творчества (в пении, слове, движении, играх, действах и др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получит возможность научиться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реал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творческий  потенциал, осуществляя собственные замысл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орган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досуг, самостоятельную музыкально-творческую деятельность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музициро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и использовать ИКТ в музыкальных игр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матическое планирование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9000" y="762120"/>
          <a:ext cx="8955000" cy="6433920"/>
        </p:xfrm>
        <a:graphic>
          <a:graphicData uri="http://schemas.openxmlformats.org/drawingml/2006/table">
            <a:tbl>
              <a:tblPr/>
              <a:tblGrid>
                <a:gridCol w="2630520"/>
                <a:gridCol w="2286000"/>
                <a:gridCol w="4038480"/>
              </a:tblGrid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одержание кур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ематическое планир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Характеристика деятельности уча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узыка в жизни человека(30ч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бщённое представление об основных образно-эмоциональных сферах музыки и многообразии музыкальных жанров и стилей. Песня, танец, марш и их разновидности. Песенность, танцевальность, маршевость. Опера, балет, симфония, концерт, сюита, кантата, мюзик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0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ые образно-эмоциональные сферы музыки. Общие представления о многообразии музыкальных жанров и стилей. Модификация жанров в современной музыке. Песня, танец, марш и их разновидности. Опера, балет, симфония, концерт, сюита, кантата, мюзикл. Песенность, танцевальность, маршевость, их значение в музы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зыкальные произведения разных жанров и стилей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мыш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 модификации жанров в современной музыке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лич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енность, танцевальность и маршевость в музыке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ие особенности произведений разных жанр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сполн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личные по характеру музыкальные произведения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нсцениро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ни, танцы, фрагменты опер, мюзикл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мпровизиро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вокальная, инструментальная, танцевальная импровизации) с учётом характера основных жанров музыки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существ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бственный музыкально-исполнительский замысел в пении и импровизац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ahoma"/>
              </a:rPr>
              <a:t>ВИДЫ 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856720" cy="51861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Регуля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действия саморегу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Познаватель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общеучебные, логические и знаково-символ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Коммуника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7480" y="-228960"/>
            <a:ext cx="8713800" cy="1219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ahoma"/>
              </a:rPr>
              <a:t>Функции универсальных учебных действий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640" y="1142640"/>
            <a:ext cx="8893080" cy="5599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возмож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чащегос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амостоятельно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осуществлять деятельность учения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тавить учебные задач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нтролировать и оценивать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оцесс и результаты деятель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оздание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услов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развития личности и ее самореализаци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на основе компетентности 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«умени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читьс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»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толера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спешного усвоения знан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формирование картины мира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мпетент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в любой предметной области позн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5222-4000-4804-A6FC-C5C9068F3EC7}" type="slidenum">
              <a:rPr b="0" lang="ru-RU" sz="1200" spc="-1" strike="noStrike">
                <a:solidFill>
                  <a:srgbClr val="00c993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9280" y="-100080"/>
            <a:ext cx="8642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Tahoma"/>
              </a:rPr>
              <a:t>«Музыка»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ичност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коммуникатив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егулятивны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ознаватель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ейств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ение сбалансированного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азвит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 обучающихся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огического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наглядно-образного 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знаково-символическ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ышл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ключающее риск развития формализма мыш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Личност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стетических и ценностных ориентаций учащихс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зитивной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оцен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уваж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жизненного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оптимиз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потребности в творческом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выражен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Приобщ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оссийской гражданской идентичности и толерант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Коммуникативные</a:t>
            </a: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50164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эмпат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ум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являть выраженные в музыке настроения и чув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ередав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 чувства и эмоции на основе творческого самовыраж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0:42:19Z</dcterms:created>
  <dc:creator>ИДК</dc:creator>
  <dc:description/>
  <dc:language>en-US</dc:language>
  <cp:lastModifiedBy>LEGION</cp:lastModifiedBy>
  <dcterms:modified xsi:type="dcterms:W3CDTF">2015-04-02T07:00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