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08737-EF37-4EE5-975E-648564EC4F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ff"/>
                </a:solidFill>
                <a:latin typeface="Calibri"/>
              </a:rPr>
              <a:t>Связь универсальных учебных действий</a:t>
            </a:r>
            <a:br>
              <a:rPr sz="1200"/>
            </a:br>
            <a:r>
              <a:rPr b="1" lang="ru-RU" sz="1200" spc="-1" strike="noStrike">
                <a:solidFill>
                  <a:srgbClr val="3333ff"/>
                </a:solidFill>
                <a:latin typeface="Calibri"/>
              </a:rPr>
              <a:t>с содержанием учебных предметов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460F3-B59A-42CB-954A-C7AEA8AD93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Познавательные УУ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готовность к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гическим действиям</a:t>
            </a: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примен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знаково-символических и речевых средств для решения коммуникативных и познавательных задач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99"/>
                </a:solidFill>
                <a:latin typeface="Calibri"/>
              </a:rPr>
              <a:t>изучение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музыки будет способствовать формированию действий </a:t>
            </a: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заме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и модел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30828-1E1C-42ED-B2AA-9384B85373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одержание курс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узыка в жизни человека»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акономерности музыкального искусства»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узыкальная картина мира»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3F6B0-6A74-476A-B618-1453AE9F70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новные виды учебной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еятельност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уша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узы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рументальное музиц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зыкально-пластическое движ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аматизация музыкальных произве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15723-51F9-488D-84F6-A7AC2A7E8E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Цели изучения музыки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9999"/>
                </a:solidFill>
                <a:latin typeface="Calibri"/>
              </a:rPr>
              <a:t>формирование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 музыкальной </a:t>
            </a: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культур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через эмоциональное восприятие музы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9999"/>
                </a:solidFill>
                <a:latin typeface="Calibri"/>
              </a:rPr>
              <a:t>воспитание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моционально-ценностного </a:t>
            </a: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отнош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 искусству, художественного вкус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9999"/>
                </a:solidFill>
                <a:latin typeface="Calibri"/>
              </a:rPr>
              <a:t>развитие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риятия музыки, интереса к музыке, образного и ассоциативного мыш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9999"/>
                </a:solidFill>
                <a:latin typeface="Calibri"/>
              </a:rPr>
              <a:t>обогащение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ний о музыкальном искусств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ECD9C-F88D-447A-A5A2-2523E110B7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alibri"/>
              </a:rPr>
              <a:t>Результаты изучения предмета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ff3300"/>
                </a:solidFill>
                <a:uFillTx/>
                <a:latin typeface="Calibri"/>
              </a:rPr>
              <a:t>Личностные результа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Укрепл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ультурной, этнической, гражданской </a:t>
            </a: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идентич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формир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личностного </a:t>
            </a: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смысл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ижения искусства, расширение ценностной сфе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приобрет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чальных навыков социокультурной адаптации  и </a:t>
            </a: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позитивн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самооцен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воих музыкально-творческих возможност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EA821-FECD-44F1-8144-A173DF8744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развитие мотив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узыкально-учебной деятельности и</a:t>
            </a:r>
            <a:br>
              <a:rPr sz="1200"/>
            </a:b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реализац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ворческого потенциа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продуктивно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отрудничеств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развит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уховно-нравственных и этических чувств, эмоциональной отзывчивости, уважительно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е к традициям других нар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0AD4A-4779-4C7E-B321-A0A38C6441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етапредметные результаты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99"/>
                </a:solidFill>
                <a:latin typeface="Calibri"/>
              </a:rPr>
              <a:t>наблюд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за явлениями жизни и искусства, понимание их многообраз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99"/>
                </a:solidFill>
                <a:latin typeface="Calibri"/>
              </a:rPr>
              <a:t>ориентирован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культурном многообразии, участие в жизни социум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99"/>
                </a:solidFill>
                <a:latin typeface="Calibri"/>
              </a:rPr>
              <a:t>овладение способность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 реализации творческих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мыслов через понимание целей, выбор способов решения  проблем поискового характе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99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9999"/>
                </a:solidFill>
                <a:latin typeface="Calibri"/>
              </a:rPr>
              <a:t>примен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знаково-символических и речевых средств для решения коммуникативных и познавательных задач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99"/>
                </a:solidFill>
                <a:latin typeface="Calibri"/>
              </a:rPr>
              <a:t>готов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 логическим действия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99"/>
                </a:solidFill>
                <a:latin typeface="Calibri"/>
              </a:rPr>
              <a:t>планир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нтроль и оценка учебных действий, умение корректировать свои действ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99"/>
                </a:solidFill>
                <a:latin typeface="Calibri"/>
              </a:rPr>
              <a:t>участ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совместной деятельности на основе сотрудниче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99"/>
                </a:solidFill>
                <a:latin typeface="Calibri"/>
              </a:rPr>
              <a:t>ум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оспринимать окружающий мир во всём его многообраз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57DFC-358D-4AC7-8797-FBC444AB05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дметные результат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развит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художественного</a:t>
            </a: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 вкус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устойчивого </a:t>
            </a: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интерес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ным видам музыкально-творческо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развито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художественное восприят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е </a:t>
            </a: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понят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</a:t>
            </a: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 рол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узыки в жизни человека 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го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ховно-нравственном развит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представлени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художественной </a:t>
            </a: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картине мир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использ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лементарных </a:t>
            </a: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умений и навык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и воплощении содержания музыкальных произведений в различных видах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готов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именять полученные знания при организации культурного досуг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участ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создании компози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9B663-4243-40B4-A62C-DF077A1197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1155600" y="933480"/>
            <a:ext cx="4356360" cy="33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body"/>
          </p:nvPr>
        </p:nvSpPr>
        <p:spPr>
          <a:xfrm>
            <a:off x="1031400" y="4626000"/>
            <a:ext cx="4605480" cy="373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1000"/>
              </a:lnSpc>
              <a:spcBef>
                <a:spcPts val="524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Calibri"/>
              </a:rPr>
              <a:t>Универсальные</a:t>
            </a:r>
            <a:br>
              <a:rPr sz="1400"/>
            </a:br>
            <a:r>
              <a:rPr b="1" lang="en-GB" sz="1400" spc="-1" strike="noStrike">
                <a:solidFill>
                  <a:srgbClr val="0000ff"/>
                </a:solidFill>
                <a:latin typeface="Calibri"/>
              </a:rPr>
              <a:t> учебные действ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способность субъекта к </a:t>
            </a:r>
            <a:r>
              <a:rPr b="1" lang="en-GB" sz="1200" spc="-1" strike="noStrike" u="sng">
                <a:solidFill>
                  <a:srgbClr val="ff00ff"/>
                </a:solidFill>
                <a:uFillTx/>
                <a:latin typeface="Calibri"/>
              </a:rPr>
              <a:t>саморазвитию</a:t>
            </a:r>
            <a:r>
              <a:rPr b="0" lang="en-GB" sz="1200" spc="-1" strike="noStrike">
                <a:solidFill>
                  <a:srgbClr val="ff00ff"/>
                </a:solidFill>
                <a:latin typeface="Calibri"/>
              </a:rPr>
              <a:t> и </a:t>
            </a:r>
            <a:r>
              <a:rPr b="1" lang="en-GB" sz="1200" spc="-1" strike="noStrike" u="sng">
                <a:solidFill>
                  <a:srgbClr val="ff00ff"/>
                </a:solidFill>
                <a:uFillTx/>
                <a:latin typeface="Calibri"/>
              </a:rPr>
              <a:t>самосовершенствованию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путем </a:t>
            </a:r>
            <a:r>
              <a:rPr b="1" lang="en-GB" sz="1200" spc="-1" strike="noStrike">
                <a:solidFill>
                  <a:srgbClr val="ff00ff"/>
                </a:solidFill>
                <a:latin typeface="Calibri"/>
              </a:rPr>
              <a:t>сознательного </a:t>
            </a:r>
            <a:r>
              <a:rPr b="0" lang="en-GB" sz="1200" spc="-1" strike="noStrike">
                <a:solidFill>
                  <a:srgbClr val="ff00ff"/>
                </a:solidFill>
                <a:latin typeface="Calibri"/>
              </a:rPr>
              <a:t>и </a:t>
            </a:r>
            <a:r>
              <a:rPr b="1" lang="en-GB" sz="1200" spc="-1" strike="noStrike">
                <a:solidFill>
                  <a:srgbClr val="ff00ff"/>
                </a:solidFill>
                <a:latin typeface="Calibri"/>
              </a:rPr>
              <a:t>активного</a:t>
            </a:r>
            <a:r>
              <a:rPr b="0" lang="en-GB" sz="1200" spc="-1" strike="noStrike">
                <a:solidFill>
                  <a:srgbClr val="ff00ff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присвоения нового социального опы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1200" spc="-1" strike="noStrike" u="sng">
                <a:solidFill>
                  <a:srgbClr val="ff00ff"/>
                </a:solidFill>
                <a:uFillTx/>
                <a:latin typeface="Calibri"/>
              </a:rPr>
              <a:t> </a:t>
            </a:r>
            <a:r>
              <a:rPr b="1" lang="en-GB" sz="1400" spc="-1" strike="noStrike" u="sng">
                <a:solidFill>
                  <a:srgbClr val="ff00ff"/>
                </a:solidFill>
                <a:uFillTx/>
                <a:latin typeface="Calibri"/>
              </a:rPr>
              <a:t>совокупность действий</a:t>
            </a:r>
            <a:r>
              <a:rPr b="0" lang="en-GB" sz="1200" spc="-1" strike="noStrike">
                <a:solidFill>
                  <a:srgbClr val="ff00ff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учащегося, обеспечивающих его                                           </a:t>
            </a:r>
            <a:r>
              <a:rPr b="0" lang="en-GB" sz="1400" spc="-1" strike="noStrike" u="sng">
                <a:solidFill>
                  <a:srgbClr val="ff00ff"/>
                </a:solidFill>
                <a:uFillTx/>
                <a:latin typeface="Calibri"/>
              </a:rPr>
              <a:t>культурную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идентичность,                                    </a:t>
            </a:r>
            <a:r>
              <a:rPr b="0" lang="en-GB" sz="1400" spc="-1" strike="noStrike" u="sng">
                <a:solidFill>
                  <a:srgbClr val="ff00ff"/>
                </a:solidFill>
                <a:uFillTx/>
                <a:latin typeface="Calibri"/>
              </a:rPr>
              <a:t>социальную</a:t>
            </a:r>
            <a:r>
              <a:rPr b="0" lang="en-GB" sz="1200" spc="-1" strike="noStrike">
                <a:solidFill>
                  <a:srgbClr val="ff00ff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компетентность,                    </a:t>
            </a:r>
            <a:r>
              <a:rPr b="0" lang="en-GB" sz="1400" spc="-1" strike="noStrike" u="sng">
                <a:solidFill>
                  <a:srgbClr val="ff00ff"/>
                </a:solidFill>
                <a:uFillTx/>
                <a:latin typeface="Calibri"/>
              </a:rPr>
              <a:t>толерантность</a:t>
            </a:r>
            <a:r>
              <a:rPr b="0" lang="en-GB" sz="1200" spc="-1" strike="noStrike">
                <a:solidFill>
                  <a:srgbClr val="ff00ff"/>
                </a:solidFill>
                <a:latin typeface="Calibri"/>
              </a:rPr>
              <a:t>,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способность к</a:t>
            </a:r>
            <a:r>
              <a:rPr b="0" lang="en-GB" sz="1200" spc="-1" strike="noStrike">
                <a:solidFill>
                  <a:srgbClr val="ff00ff"/>
                </a:solidFill>
                <a:latin typeface="Calibri"/>
              </a:rPr>
              <a:t> </a:t>
            </a:r>
            <a:r>
              <a:rPr b="0" lang="en-GB" sz="1400" spc="-1" strike="noStrike" u="sng">
                <a:solidFill>
                  <a:srgbClr val="ff00ff"/>
                </a:solidFill>
                <a:uFillTx/>
                <a:latin typeface="Calibri"/>
              </a:rPr>
              <a:t>самостоятельном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усвоению новых знаний и умений, включая организацию этого процес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1155600" y="933480"/>
            <a:ext cx="4356360" cy="33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1031400" y="4626000"/>
            <a:ext cx="4605480" cy="373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1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Calibri"/>
              </a:rPr>
              <a:t>ВИДЫ  УУ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00ff"/>
                </a:solidFill>
                <a:latin typeface="Calibri"/>
              </a:rPr>
              <a:t>Личностны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00ff"/>
                </a:solidFill>
                <a:latin typeface="Calibri"/>
              </a:rPr>
              <a:t>Регулятивны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включая действия саморегуля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00ff"/>
                </a:solidFill>
                <a:latin typeface="Calibri"/>
              </a:rPr>
              <a:t>Познавательны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включая общеучебные, логические и знаково-символ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00ff"/>
                </a:solidFill>
                <a:latin typeface="Calibri"/>
              </a:rPr>
              <a:t>Коммуникативны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1155600" y="933480"/>
            <a:ext cx="4356360" cy="33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1031400" y="4626000"/>
            <a:ext cx="4605480" cy="373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Calibri"/>
              </a:rPr>
              <a:t>Функции универсальных учебных действий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 u="sng">
                <a:solidFill>
                  <a:srgbClr val="0000ff"/>
                </a:solidFill>
                <a:uFillTx/>
                <a:latin typeface="Calibri"/>
              </a:rPr>
              <a:t>обеспечени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 u="sng">
                <a:solidFill>
                  <a:srgbClr val="0000ff"/>
                </a:solidFill>
                <a:uFillTx/>
                <a:latin typeface="Calibri"/>
              </a:rPr>
              <a:t>возможностей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учащегося </a:t>
            </a:r>
            <a:r>
              <a:rPr b="0" lang="en-GB" sz="1200" spc="-1" strike="noStrike">
                <a:solidFill>
                  <a:srgbClr val="0000ff"/>
                </a:solidFill>
                <a:latin typeface="Calibri"/>
              </a:rPr>
              <a:t>самостоятельно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осуществлять деятельность учения, </a:t>
            </a:r>
            <a:r>
              <a:rPr b="0" lang="en-GB" sz="1200" spc="-1" strike="noStrike">
                <a:solidFill>
                  <a:srgbClr val="0000ff"/>
                </a:solidFill>
                <a:latin typeface="Calibri"/>
              </a:rPr>
              <a:t>ставить учебные задач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 </a:t>
            </a:r>
            <a:r>
              <a:rPr b="0" lang="en-GB" sz="1200" spc="-1" strike="noStrike">
                <a:solidFill>
                  <a:srgbClr val="0000ff"/>
                </a:solidFill>
                <a:latin typeface="Calibri"/>
              </a:rPr>
              <a:t>контролировать и оценивать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процесс и результаты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создание </a:t>
            </a:r>
            <a:r>
              <a:rPr b="0" lang="en-GB" sz="1200" spc="-1" strike="noStrike" u="sng">
                <a:solidFill>
                  <a:srgbClr val="0000ff"/>
                </a:solidFill>
                <a:uFillTx/>
                <a:latin typeface="Calibri"/>
              </a:rPr>
              <a:t>условий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для </a:t>
            </a:r>
            <a:r>
              <a:rPr b="0" lang="en-GB" sz="1200" spc="-1" strike="noStrike">
                <a:solidFill>
                  <a:srgbClr val="0000ff"/>
                </a:solidFill>
                <a:latin typeface="Calibri"/>
              </a:rPr>
              <a:t>развития личности и ее самореализаци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на основе компетентности  и </a:t>
            </a:r>
            <a:r>
              <a:rPr b="0" lang="en-GB" sz="1200" spc="-1" strike="noStrike">
                <a:solidFill>
                  <a:srgbClr val="0000ff"/>
                </a:solidFill>
                <a:latin typeface="Calibri"/>
              </a:rPr>
              <a:t>«умения</a:t>
            </a:r>
            <a:r>
              <a:rPr b="0" i="1" lang="en-GB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ff"/>
                </a:solidFill>
                <a:latin typeface="Calibri"/>
              </a:rPr>
              <a:t>учиться</a:t>
            </a:r>
            <a:r>
              <a:rPr b="0" i="1" lang="en-GB" sz="1200" spc="-1" strike="noStrike">
                <a:solidFill>
                  <a:srgbClr val="0000ff"/>
                </a:solidFill>
                <a:latin typeface="Calibri"/>
              </a:rPr>
              <a:t>»</a:t>
            </a:r>
            <a:r>
              <a:rPr b="0" i="1" lang="en-GB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GB" sz="1200" spc="-1" strike="noStrike">
                <a:solidFill>
                  <a:srgbClr val="0000ff"/>
                </a:solidFill>
                <a:latin typeface="Calibri"/>
              </a:rPr>
              <a:t>толерант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 u="sng">
                <a:solidFill>
                  <a:srgbClr val="0000ff"/>
                </a:solidFill>
                <a:uFillTx/>
                <a:latin typeface="Calibri"/>
              </a:rPr>
              <a:t>обеспечени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ff"/>
                </a:solidFill>
                <a:latin typeface="Calibri"/>
              </a:rPr>
              <a:t>успешного усвоения знаний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и </a:t>
            </a:r>
            <a:r>
              <a:rPr b="0" lang="en-GB" sz="1200" spc="-1" strike="noStrike">
                <a:solidFill>
                  <a:srgbClr val="0000ff"/>
                </a:solidFill>
                <a:latin typeface="Calibri"/>
              </a:rPr>
              <a:t>формирование картины мир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и  </a:t>
            </a:r>
            <a:r>
              <a:rPr b="0" lang="en-GB" sz="1200" spc="-1" strike="noStrike">
                <a:solidFill>
                  <a:srgbClr val="0000ff"/>
                </a:solidFill>
                <a:latin typeface="Calibri"/>
              </a:rPr>
              <a:t>компетентностей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в любой предметной области позн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Требования к результатам осво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основной образовательной  про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1C0A9-56EE-4405-98AB-32858316DC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ff"/>
                </a:solidFill>
                <a:latin typeface="Calibri"/>
              </a:rPr>
              <a:t>«Музыка»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личностных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коммуникативных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регулятивных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познавательны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ейств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2E139-42FA-4563-A5BC-D17BDFD2B8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сбалансированного </a:t>
            </a: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развит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 обучающихся </a:t>
            </a: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логическог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наглядно-образного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знаково-символическог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ышлен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ключающее риск развития формализма мыш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78B72-054C-4EA2-845E-F3D4049820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Личностные УУ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Формир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стетических и ценностных ориентаций учащихс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Формир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зитивной </a:t>
            </a: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самооценк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самоуваж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жизненного </a:t>
            </a: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оптимизм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отребности в творческом </a:t>
            </a: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самовыражен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Приобщ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 достижениям национальной, и мировой музыкальной культуры, образцам народной и профессиональной музыки обеспеч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Формир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оссийской гражданской идентичности и толерант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16B96-1648-41B3-8501-41F4D87364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Коммуникативные</a:t>
            </a:r>
            <a:br>
              <a:rPr sz="1200"/>
            </a:b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УУ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</a:t>
            </a: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эмпат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</a:t>
            </a: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ум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ыявлять выраженные в музыке настроения и чув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передава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вои чувства и эмоции на основе творческого самовыра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5F669-8EB4-4939-91A0-4429020FC5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F5DE-E4D4-4B64-B4D4-42223B7AA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015D-AD2F-46C4-9E4A-E7D29F565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7C07-3EDD-4A35-8744-AEBE15F45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C204-8649-4EDF-9712-D1A41A117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52C68-6437-455B-9681-C68D41C64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9ACB9-ED18-4321-AE33-0BF5FC8C6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3AAF7-7234-47F4-8EFF-4959278BC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013A6-B06A-4409-A705-40CE58F7D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1E23B-B9F6-41E6-BC2F-465B41D92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D6AD1-25E0-4CFE-B2FD-DC944BF91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16E48-DD06-4C98-92BE-A6BEB460B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BC46-6DE6-4BAC-BE21-EA1C4B547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40D11-F519-45FB-A202-A487151C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1BCDC-FA95-4818-B99F-2E1DBF06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871FB-9FED-4001-9A43-E1586DE3F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750DA-A80A-405D-84AB-AF53F1A39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4234F-98DB-4D98-8A13-D23248763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CB71-B4EE-4E4D-A40E-15FE79688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EEDD-689A-42A5-ACDB-41E1ECC93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E775-BB18-43D1-A3A9-78967A58C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ADB0-8F0C-4055-ADC4-F0D3E0540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AA81-785B-4E74-8ABF-E29C38FE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5F5A-A966-4B3D-A5E6-11640147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4737-20E8-4286-A8A2-53926A6B3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47BE0-47BF-4485-B026-F850052B9998}" type="datetime">
              <a:rPr b="0" lang="ru-RU" sz="1400" spc="-1" strike="noStrike">
                <a:solidFill>
                  <a:srgbClr val="000000"/>
                </a:solidFill>
                <a:latin typeface="Tahom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1AE1E-A65A-4F79-9B85-D212573D934B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5BCE9-E0BA-4B28-997C-7D035705C678}" type="datetime">
              <a:rPr b="0" lang="ru-RU" sz="1400" spc="-1" strike="noStrike">
                <a:solidFill>
                  <a:srgbClr val="1c1c1c"/>
                </a:solidFill>
                <a:latin typeface="Tahom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97C67-C8B2-485D-B593-00123DC549C8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130480"/>
            <a:ext cx="7772400" cy="28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Tahoma"/>
              </a:rPr>
              <a:t>Связь универсальных учебных действий</a:t>
            </a:r>
            <a:br>
              <a:rPr sz="4000"/>
            </a:br>
            <a:r>
              <a:rPr b="1" lang="ru-RU" sz="4000" spc="-1" strike="noStrike">
                <a:solidFill>
                  <a:srgbClr val="3333ff"/>
                </a:solidFill>
                <a:latin typeface="Tahoma"/>
              </a:rPr>
              <a:t>с содержанием учебных предметов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ff"/>
                </a:solidFill>
                <a:latin typeface="Tahoma"/>
              </a:rPr>
              <a:t>Познавательные УУД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-360" y="2286000"/>
            <a:ext cx="9031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готовность к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огическим действиям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применени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знаково-символических и речевых средств для решения коммуникативных и познавательных задач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изучени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музыки будет способствовать формированию действий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замеще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и моделирова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2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Содержание курса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«Музыка в жизни человека»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«Закономерности музыкального искусства»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«Музыкальная картина мира».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7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Основные виды учебной </a:t>
            </a: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деятельности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лушание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музык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ени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нструментальное музицирова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узыкально-пластическое движени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раматизация музыкальных произведен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Цели изучения музыки: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76312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формирование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снов музыкальной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культуры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через эмоциональное восприятие музык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воспитание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моционально-ценностного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отношени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к искусству, художественного вкуса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развитие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осприятия музыки, интереса к музыке, образного и ассоциативного мышления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обогащение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наний о музыкальном искусств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f01"/>
                </a:solidFill>
                <a:latin typeface="Tahoma"/>
              </a:rPr>
              <a:t>Результаты изучения предмета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-228600" y="456840"/>
            <a:ext cx="9183600" cy="56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ff3300"/>
                </a:solidFill>
                <a:uFillTx/>
                <a:latin typeface="Tahoma"/>
              </a:rPr>
              <a:t>Личностные результаты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Укреплени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культурной, этнической, гражданской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идентичност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формировани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личностного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смысла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стижения искусства, расширение ценностной сферы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приобретени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начальных навыков социокультурной адаптации  и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позитивна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самооценк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своих музыкально-творческих возможностей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4426920" y="1880280"/>
            <a:ext cx="2901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-1358640"/>
            <a:ext cx="77932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520" y="304560"/>
            <a:ext cx="857412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развитие мотивов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музыкально-учебной деятельности и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реализаци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творческого потенциала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продуктивно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сотрудничество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развити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духовно-нравственных и этических чувств, эмоциональной отзывчивости, уважительное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тношение к традициям других народо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-30528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Метапредметные результаты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73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наблюдени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за явлениями жизни и искусства, понимание их многообрази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ориентированность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в культурном многообразии, участие в жизни социум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овладение способностью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к реализации творческих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мыслов через понимание целей, выбор способов решения  проблем поискового характер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применени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знаково-символических и речевых средств для решения коммуникативных и познавательных задач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готовность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к логическим действия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планировани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контроль и оценка учебных действий, умение корректировать свои действи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участи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в совместной деятельности на основе сотрудничеств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умени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воспринимать окружающий мир во всём его многообраз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3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Предметные результаты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1920" y="685440"/>
            <a:ext cx="89917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развити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художественного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 вкус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устойчивого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интерес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к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зличным видам музыкально-творческой деятельност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развито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художественное восприятие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щее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поняти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о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 рол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музыки в жизни человека и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его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уховно-нравственном развити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представление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 художественной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картине мир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использовани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элементарных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умений и навыков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при воплощении содержания музыкальных произведений в различных видах деятельност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готовность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применять полученные знания при организации культурного досуг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участи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в создании композици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i="1" lang="ru-RU" sz="4000" spc="-1" strike="noStrike">
                <a:solidFill>
                  <a:srgbClr val="3333ff"/>
                </a:solidFill>
                <a:latin typeface="Tahoma"/>
              </a:rPr>
              <a:t>Музыка в жизни человека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ыпускник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научится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воспринимать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музыку различных жанров, размышлять о музыкальных произведениях как способе выражения чувств и мыслей человека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эмоционально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эстетически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откликатьс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н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скусство, выражая своё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отношени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к нему в различных видах музыкально-творческой деятельност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ahoma"/>
              </a:rPr>
              <a:t>ориентироватьс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в музыкально-поэтическом творчестве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многообразии музыкального фольклора России, родного края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ahoma"/>
              </a:rPr>
              <a:t>сопоставлят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различные образцы народной и профессиональной музыки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33ff"/>
                </a:solidFill>
                <a:latin typeface="Tahoma"/>
              </a:rPr>
              <a:t>ценит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отечественные народные музыкальные традици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7621560" cy="533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ahoma"/>
              </a:rPr>
              <a:t>Универсальные</a:t>
            </a:r>
            <a:br>
              <a:rPr sz="3600"/>
            </a:br>
            <a:r>
              <a:rPr b="1" lang="en-GB" sz="3600" spc="-1" strike="noStrike">
                <a:solidFill>
                  <a:srgbClr val="0000ff"/>
                </a:solidFill>
                <a:latin typeface="Tahoma"/>
              </a:rPr>
              <a:t> учебные действи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9296280" cy="57596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rmAutofit fontScale="90000"/>
          </a:bodyPr>
          <a:p>
            <a:pPr marL="385560" indent="-2916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способность субъекта к </a:t>
            </a:r>
            <a:r>
              <a:rPr b="1" lang="en-GB" sz="3200" spc="-1" strike="noStrike" u="sng">
                <a:solidFill>
                  <a:srgbClr val="ff00ff"/>
                </a:solidFill>
                <a:uFillTx/>
                <a:latin typeface="Tahoma"/>
              </a:rPr>
              <a:t>саморазвитию</a:t>
            </a:r>
            <a:r>
              <a:rPr b="0" lang="en-GB" sz="3200" spc="-1" strike="noStrike">
                <a:solidFill>
                  <a:srgbClr val="ff00ff"/>
                </a:solidFill>
                <a:latin typeface="Tahoma"/>
              </a:rPr>
              <a:t> и </a:t>
            </a:r>
            <a:r>
              <a:rPr b="1" lang="en-GB" sz="3200" spc="-1" strike="noStrike" u="sng">
                <a:solidFill>
                  <a:srgbClr val="ff00ff"/>
                </a:solidFill>
                <a:uFillTx/>
                <a:latin typeface="Tahoma"/>
              </a:rPr>
              <a:t>самосовершенствованию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путем </a:t>
            </a:r>
            <a:r>
              <a:rPr b="1" lang="en-GB" sz="3200" spc="-1" strike="noStrike">
                <a:solidFill>
                  <a:srgbClr val="ff00ff"/>
                </a:solidFill>
                <a:latin typeface="Tahoma"/>
              </a:rPr>
              <a:t>сознательного </a:t>
            </a:r>
            <a:r>
              <a:rPr b="0" lang="en-GB" sz="3200" spc="-1" strike="noStrike">
                <a:solidFill>
                  <a:srgbClr val="ff00ff"/>
                </a:solidFill>
                <a:latin typeface="Tahoma"/>
              </a:rPr>
              <a:t>и </a:t>
            </a:r>
            <a:r>
              <a:rPr b="1" lang="en-GB" sz="3200" spc="-1" strike="noStrike">
                <a:solidFill>
                  <a:srgbClr val="ff00ff"/>
                </a:solidFill>
                <a:latin typeface="Tahoma"/>
              </a:rPr>
              <a:t>активного</a:t>
            </a:r>
            <a:r>
              <a:rPr b="0" lang="en-GB" sz="3200" spc="-1" strike="noStrike">
                <a:solidFill>
                  <a:srgbClr val="ff00ff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присвоения нового социального опыта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85560" indent="-2916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3200" spc="-1" strike="noStrike" u="sng">
                <a:solidFill>
                  <a:srgbClr val="ff00ff"/>
                </a:solidFill>
                <a:uFillTx/>
                <a:latin typeface="Tahoma"/>
              </a:rPr>
              <a:t> </a:t>
            </a:r>
            <a:r>
              <a:rPr b="1" lang="en-GB" sz="3600" spc="-1" strike="noStrike" u="sng">
                <a:solidFill>
                  <a:srgbClr val="ff00ff"/>
                </a:solidFill>
                <a:uFillTx/>
                <a:latin typeface="Tahoma"/>
              </a:rPr>
              <a:t>совокупность действий</a:t>
            </a:r>
            <a:r>
              <a:rPr b="0" lang="en-GB" sz="3200" spc="-1" strike="noStrike">
                <a:solidFill>
                  <a:srgbClr val="ff00ff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учащегося, обеспечивающих его                                           </a:t>
            </a:r>
            <a:r>
              <a:rPr b="0" lang="en-GB" sz="3600" spc="-1" strike="noStrike" u="sng">
                <a:solidFill>
                  <a:srgbClr val="ff00ff"/>
                </a:solidFill>
                <a:uFillTx/>
                <a:latin typeface="Tahoma"/>
              </a:rPr>
              <a:t>культурную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идентичность,                                    </a:t>
            </a:r>
            <a:r>
              <a:rPr b="0" lang="en-GB" sz="3600" spc="-1" strike="noStrike" u="sng">
                <a:solidFill>
                  <a:srgbClr val="ff00ff"/>
                </a:solidFill>
                <a:uFillTx/>
                <a:latin typeface="Tahoma"/>
              </a:rPr>
              <a:t>социальную</a:t>
            </a:r>
            <a:r>
              <a:rPr b="0" lang="en-GB" sz="3200" spc="-1" strike="noStrike">
                <a:solidFill>
                  <a:srgbClr val="ff00ff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компетентность,                    </a:t>
            </a:r>
            <a:r>
              <a:rPr b="0" lang="en-GB" sz="3600" spc="-1" strike="noStrike" u="sng">
                <a:solidFill>
                  <a:srgbClr val="ff00ff"/>
                </a:solidFill>
                <a:uFillTx/>
                <a:latin typeface="Tahoma"/>
              </a:rPr>
              <a:t>толерантность</a:t>
            </a:r>
            <a:r>
              <a:rPr b="0" lang="en-GB" sz="3200" spc="-1" strike="noStrike">
                <a:solidFill>
                  <a:srgbClr val="ff00ff"/>
                </a:solidFill>
                <a:latin typeface="Tahoma"/>
              </a:rPr>
              <a:t>,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способность к</a:t>
            </a:r>
            <a:r>
              <a:rPr b="0" lang="en-GB" sz="3200" spc="-1" strike="noStrike">
                <a:solidFill>
                  <a:srgbClr val="ff00ff"/>
                </a:solidFill>
                <a:latin typeface="Tahoma"/>
              </a:rPr>
              <a:t> </a:t>
            </a:r>
            <a:r>
              <a:rPr b="0" lang="en-GB" sz="3600" spc="-1" strike="noStrike" u="sng">
                <a:solidFill>
                  <a:srgbClr val="ff00ff"/>
                </a:solidFill>
                <a:uFillTx/>
                <a:latin typeface="Tahoma"/>
              </a:rPr>
              <a:t>самостоятельному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усвоению новых знаний и умений, включая организацию этого процесса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-1191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ff"/>
                </a:solidFill>
                <a:latin typeface="Tahoma"/>
              </a:rPr>
              <a:t>воплощать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художественно-образное содержание и интонационно-мелодические особенности профессионального и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народного творчества (в пении, слове, движении, играх, действах и др.)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33ff"/>
                </a:solidFill>
                <a:latin typeface="Tahoma"/>
              </a:rPr>
              <a:t>получит возможность научиться</a:t>
            </a:r>
            <a:r>
              <a:rPr b="0" i="1" lang="ru-RU" sz="4000" spc="-1" strike="noStrike">
                <a:solidFill>
                  <a:srgbClr val="333399"/>
                </a:solidFill>
                <a:latin typeface="Tahoma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3333ff"/>
                </a:solidFill>
                <a:latin typeface="Tahoma"/>
              </a:rPr>
              <a:t>реализовывать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творческий  потенциал, осуществляя собственные замыслы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3333ff"/>
                </a:solidFill>
                <a:latin typeface="Tahoma"/>
              </a:rPr>
              <a:t>организовывать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досуг, самостоятельную музыкально-творческую деятельность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ff"/>
                </a:solidFill>
                <a:latin typeface="Tahoma"/>
              </a:rPr>
              <a:t>музицировать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и использовать ИКТ в музыкальных играх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Тематическое планирование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89000" y="762120"/>
          <a:ext cx="8955000" cy="6433920"/>
        </p:xfrm>
        <a:graphic>
          <a:graphicData uri="http://schemas.openxmlformats.org/drawingml/2006/table">
            <a:tbl>
              <a:tblPr/>
              <a:tblGrid>
                <a:gridCol w="2630520"/>
                <a:gridCol w="2286000"/>
                <a:gridCol w="4038480"/>
              </a:tblGrid>
              <a:tr h="628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Содержание курс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Тематическое планиров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Характеристика деятельности учащихс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Музыка в жизни человека(30ч)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08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бобщённое представление об основных образно-эмоциональных сферах музыки и многообразии музыкальных жанров и стилей. Песня, танец, марш и их разновидности. Песенность, танцевальность, маршевость. Опера, балет, симфония, концерт, сюита, кантата, мюзик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10 ч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сновные образно-эмоциональные сферы музыки. Общие представления о многообразии музыкальных жанров и стилей. Модификация жанров в современной музыке. Песня, танец, марш и их разновидности. Опера, балет, симфония, концерт, сюита, кантата, мюзикл. Песенность, танцевальность, маршевость, их значение в музык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Сравнивать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м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зыкальные произведения разных жанров и стилей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Размышлять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 модификации жанров в современной музыке.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Различать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есенность, танцевальность и маршевость в музыке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Сравнивать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ецифические особенности произведений разных жанров.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Исполнять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зличные по характеру музыкальные произведения.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Инсценировать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есни, танцы, фрагменты опер, мюзиклов.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Импровизировать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вокальная, инструментальная, танцевальная импровизации) с учётом характера основных жанров музыки.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Осуществлять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обственный музыкально-исполнительский замысел в пении и импровизаци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7908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ff"/>
                </a:solidFill>
                <a:latin typeface="Tahoma"/>
              </a:rPr>
              <a:t>ВИДЫ  УУД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8000" y="1413000"/>
            <a:ext cx="8856720" cy="51861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rmAutofit fontScale="94000"/>
          </a:bodyPr>
          <a:p>
            <a:pPr marL="402840" indent="-304560">
              <a:lnSpc>
                <a:spcPct val="95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00ff"/>
                </a:solidFill>
                <a:latin typeface="Tahoma"/>
              </a:rPr>
              <a:t>Личностные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4028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02840" indent="-304560">
              <a:lnSpc>
                <a:spcPct val="95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00ff"/>
                </a:solidFill>
                <a:latin typeface="Tahoma"/>
              </a:rPr>
              <a:t>Регулятивные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, включая действия саморегуляци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028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02840" indent="-304560">
              <a:lnSpc>
                <a:spcPct val="95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00ff"/>
                </a:solidFill>
                <a:latin typeface="Tahoma"/>
              </a:rPr>
              <a:t>Познавательные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, включая общеучебные, логические и знаково-символическ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028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02840" indent="-304560">
              <a:lnSpc>
                <a:spcPct val="95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00ff"/>
                </a:solidFill>
                <a:latin typeface="Tahoma"/>
              </a:rPr>
              <a:t>Коммуникативные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7480" y="-228960"/>
            <a:ext cx="8713800" cy="12193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Tahoma"/>
              </a:rPr>
              <a:t>Функции универсальных учебных действий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7640" y="1142640"/>
            <a:ext cx="8893080" cy="5599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rmAutofit fontScale="94000"/>
          </a:bodyPr>
          <a:p>
            <a:pPr marL="402840" indent="-304560">
              <a:lnSpc>
                <a:spcPct val="76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0000ff"/>
                </a:solidFill>
                <a:uFillTx/>
                <a:latin typeface="Tahoma"/>
              </a:rPr>
              <a:t>обеспечение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200" spc="-1" strike="noStrike" u="sng">
                <a:solidFill>
                  <a:srgbClr val="0000ff"/>
                </a:solidFill>
                <a:uFillTx/>
                <a:latin typeface="Tahoma"/>
              </a:rPr>
              <a:t>возможностей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учащегося 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самостоятельно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осуществлять деятельность учения, 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ставить учебные задачи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,  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контролировать и оценивать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процесс и результаты деятельност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02840"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02840" indent="-304560">
              <a:lnSpc>
                <a:spcPct val="76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создание </a:t>
            </a:r>
            <a:r>
              <a:rPr b="0" lang="en-GB" sz="3200" spc="-1" strike="noStrike" u="sng">
                <a:solidFill>
                  <a:srgbClr val="0000ff"/>
                </a:solidFill>
                <a:uFillTx/>
                <a:latin typeface="Tahoma"/>
              </a:rPr>
              <a:t>условий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для 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развития личности и ее самореализации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на основе компетентности  и 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«умения</a:t>
            </a:r>
            <a:r>
              <a:rPr b="0" i="1" lang="en-GB" sz="32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учиться</a:t>
            </a:r>
            <a:r>
              <a:rPr b="0" i="1" lang="en-GB" sz="3200" spc="-1" strike="noStrike">
                <a:solidFill>
                  <a:srgbClr val="0000ff"/>
                </a:solidFill>
                <a:latin typeface="Tahoma"/>
              </a:rPr>
              <a:t>»</a:t>
            </a:r>
            <a:r>
              <a:rPr b="0" i="1" lang="en-GB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толерантности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02840"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02840" indent="-304560">
              <a:lnSpc>
                <a:spcPct val="76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200" spc="-1" strike="noStrike" u="sng">
                <a:solidFill>
                  <a:srgbClr val="0000ff"/>
                </a:solidFill>
                <a:uFillTx/>
                <a:latin typeface="Tahoma"/>
              </a:rPr>
              <a:t>обеспечение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успешного усвоения знаний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, и 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формирование картины мира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и  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компетентностей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в любой предметной области познания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Номер слайда 3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AA333-345C-4DA0-8338-3B4D2A1352B2}" type="slidenum">
              <a:rPr b="0" lang="ru-RU" sz="1200" spc="-1" strike="noStrike">
                <a:solidFill>
                  <a:srgbClr val="00c993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5"/>
          <p:cNvSpPr/>
          <p:nvPr/>
        </p:nvSpPr>
        <p:spPr>
          <a:xfrm>
            <a:off x="179280" y="1341360"/>
            <a:ext cx="2664000" cy="6843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ЧНОСТНЫ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3205080" y="1341360"/>
            <a:ext cx="2519280" cy="6843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АПРЕДМЕТНЫ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AutoShape 7"/>
          <p:cNvSpPr/>
          <p:nvPr/>
        </p:nvSpPr>
        <p:spPr>
          <a:xfrm>
            <a:off x="6194520" y="1341360"/>
            <a:ext cx="2698560" cy="6843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МЕТНЫ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AutoShape 8"/>
          <p:cNvSpPr/>
          <p:nvPr/>
        </p:nvSpPr>
        <p:spPr>
          <a:xfrm>
            <a:off x="179280" y="2276640"/>
            <a:ext cx="2664000" cy="108108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амоопределение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нутренняя позиция школьника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оидентификация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оуважение и самооценк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AutoShape 9"/>
          <p:cNvSpPr/>
          <p:nvPr/>
        </p:nvSpPr>
        <p:spPr>
          <a:xfrm>
            <a:off x="179280" y="3573360"/>
            <a:ext cx="2664000" cy="100980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мыслообразование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тивация (учебная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циальная); границы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бственного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нания и «незнания»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AutoShape 10"/>
          <p:cNvSpPr/>
          <p:nvPr/>
        </p:nvSpPr>
        <p:spPr>
          <a:xfrm>
            <a:off x="179280" y="4797360"/>
            <a:ext cx="2664000" cy="187164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Ценностная и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морально-этическа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риентация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риентация на выполнени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рально-нравственных норм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пособность к решению моральных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лем на основе децентраци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ценка своих поступков</a:t>
            </a:r>
            <a:r>
              <a:rPr b="1" lang="ru-RU" sz="10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3203640" y="2276640"/>
            <a:ext cx="2663640" cy="12967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Регулятивные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правление своей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ятельностью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нтроль и коррекция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ициативность и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остоятельность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3203640" y="3716280"/>
            <a:ext cx="2663640" cy="86364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оммуникативные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чевая деятельность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выки сотрудничеств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AutoShape 13"/>
          <p:cNvSpPr/>
          <p:nvPr/>
        </p:nvSpPr>
        <p:spPr>
          <a:xfrm>
            <a:off x="3130560" y="4724280"/>
            <a:ext cx="2809800" cy="21337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ознавательные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бота с информацией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бота с учебными моделям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пользование знаково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имволических средств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щих схем решения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полнение логических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пераций сравнения,  анализа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общения, классификации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становления аналогий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дведения под поняти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AutoShape 13"/>
          <p:cNvSpPr/>
          <p:nvPr/>
        </p:nvSpPr>
        <p:spPr>
          <a:xfrm>
            <a:off x="6516720" y="2276640"/>
            <a:ext cx="2143080" cy="785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ы систем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учных знани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AutoShape 16"/>
          <p:cNvSpPr/>
          <p:nvPr/>
        </p:nvSpPr>
        <p:spPr>
          <a:xfrm>
            <a:off x="6516720" y="3714840"/>
            <a:ext cx="2143080" cy="136980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ыт «предметной»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ятельности по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лучению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образованию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применению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ового знани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Text Box 37"/>
          <p:cNvSpPr/>
          <p:nvPr/>
        </p:nvSpPr>
        <p:spPr>
          <a:xfrm>
            <a:off x="6535800" y="5786280"/>
            <a:ext cx="212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дметные и метапредметные действия с учебным материалом</a:t>
            </a:r>
            <a:r>
              <a:rPr b="1" lang="ru-RU" sz="14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AutoShape 36"/>
          <p:cNvSpPr/>
          <p:nvPr/>
        </p:nvSpPr>
        <p:spPr>
          <a:xfrm>
            <a:off x="6588000" y="5786280"/>
            <a:ext cx="2071800" cy="1071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AutoShape 27"/>
          <p:cNvSpPr/>
          <p:nvPr/>
        </p:nvSpPr>
        <p:spPr>
          <a:xfrm rot="5400000">
            <a:off x="7200000" y="3104280"/>
            <a:ext cx="647640" cy="576000"/>
          </a:xfrm>
          <a:custGeom>
            <a:avLst/>
            <a:gdLst>
              <a:gd name="textAreaLeft" fmla="*/ 101160 w 647640"/>
              <a:gd name="textAreaRight" fmla="*/ 567000 w 647640"/>
              <a:gd name="textAreaTop" fmla="*/ 144000 h 576000"/>
              <a:gd name="textAreaBottom" fmla="*/ 432000 h 57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AutoShape 27"/>
          <p:cNvSpPr/>
          <p:nvPr/>
        </p:nvSpPr>
        <p:spPr>
          <a:xfrm rot="5400000">
            <a:off x="7273440" y="5119560"/>
            <a:ext cx="646200" cy="576360"/>
          </a:xfrm>
          <a:custGeom>
            <a:avLst/>
            <a:gdLst>
              <a:gd name="textAreaLeft" fmla="*/ 100800 w 646200"/>
              <a:gd name="textAreaRight" fmla="*/ 565560 w 64620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Rectangle 19"/>
          <p:cNvSpPr/>
          <p:nvPr/>
        </p:nvSpPr>
        <p:spPr>
          <a:xfrm>
            <a:off x="179280" y="-100080"/>
            <a:ext cx="864252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96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Требования к результатам освоени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основной образовательной  программ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ff"/>
                </a:solidFill>
                <a:latin typeface="Tahoma"/>
              </a:rPr>
              <a:t>«Музыка».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формирова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ahoma"/>
              </a:rPr>
              <a:t>личностных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ahoma"/>
              </a:rPr>
              <a:t>коммуникативных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ahoma"/>
              </a:rPr>
              <a:t>регулятивных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ahoma"/>
              </a:rPr>
              <a:t>познавательных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действи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0" y="45684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беспечение сбалансированного </a:t>
            </a:r>
            <a:r>
              <a:rPr b="0" lang="ru-RU" sz="3200" spc="-1" strike="noStrike">
                <a:solidFill>
                  <a:srgbClr val="3333ff"/>
                </a:solidFill>
                <a:latin typeface="Tahoma"/>
              </a:rPr>
              <a:t>развити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у обучающихся </a:t>
            </a:r>
            <a:r>
              <a:rPr b="0" lang="ru-RU" sz="3200" spc="-1" strike="noStrike">
                <a:solidFill>
                  <a:srgbClr val="3333ff"/>
                </a:solidFill>
                <a:latin typeface="Tahoma"/>
              </a:rPr>
              <a:t>логического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ahoma"/>
              </a:rPr>
              <a:t>наглядно-образного и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ahoma"/>
              </a:rPr>
              <a:t>знаково-символического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мышления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сключающее риск развития формализма мышл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ff"/>
                </a:solidFill>
                <a:latin typeface="Tahoma"/>
              </a:rPr>
              <a:t>Личностные УУД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Формировани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эстетических и ценностных ориентаций учащихся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Формировани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позитивной </a:t>
            </a: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самооценк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самоуважения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жизненного </a:t>
            </a: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оптимизм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потребности в творческом </a:t>
            </a: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самовыражени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Приобщени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к достижениям национальной, и мировой музыкальной культуры, образцам народной и профессиональной музыки обеспечи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Формировани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российской гражданской идентичности и толерантно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ff"/>
                </a:solidFill>
                <a:latin typeface="Tahoma"/>
              </a:rPr>
              <a:t>Коммуникативные</a:t>
            </a:r>
            <a:br>
              <a:rPr sz="4400"/>
            </a:br>
            <a:r>
              <a:rPr b="0" lang="ru-RU" sz="4400" spc="-1" strike="noStrike">
                <a:solidFill>
                  <a:srgbClr val="3333ff"/>
                </a:solidFill>
                <a:latin typeface="Tahoma"/>
              </a:rPr>
              <a:t>УУД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501640"/>
            <a:ext cx="7772400" cy="36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звитие </a:t>
            </a:r>
            <a:r>
              <a:rPr b="0" lang="ru-RU" sz="3200" spc="-1" strike="noStrike">
                <a:solidFill>
                  <a:srgbClr val="3333ff"/>
                </a:solidFill>
                <a:latin typeface="Tahoma"/>
              </a:rPr>
              <a:t>эмпати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звитие </a:t>
            </a:r>
            <a:r>
              <a:rPr b="0" lang="ru-RU" sz="3200" spc="-1" strike="noStrike">
                <a:solidFill>
                  <a:srgbClr val="3333ff"/>
                </a:solidFill>
                <a:latin typeface="Tahoma"/>
              </a:rPr>
              <a:t>умени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выявлять выраженные в музыке настроения и чувств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33ff"/>
                </a:solidFill>
                <a:latin typeface="Tahoma"/>
              </a:rPr>
              <a:t>передават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свои чувства и эмоции на основе творческого самовыражен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10:42:19Z</dcterms:created>
  <dc:creator>ИДК</dc:creator>
  <dc:description/>
  <dc:language>en-US</dc:language>
  <cp:lastModifiedBy>LEGION</cp:lastModifiedBy>
  <dcterms:modified xsi:type="dcterms:W3CDTF">2015-04-02T07:00:46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