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BDB4C-CAD2-42D4-B99B-89DA6D21D3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0C9AD-7F71-429F-900D-F01FD1D8DD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D5A85-983F-4C06-A467-9F8186F19B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D9F13-860B-4D85-A9DC-6344742135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F8ED0-7E0A-4C71-AC0D-D406FA9865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74F05-9FDD-4D78-926D-FBE42D3602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F1DF3-F2E8-421C-8C20-27F39E29EF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CAB22-B2CA-4540-A201-9D6A70CB89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C16E5-4589-46DE-BC06-7FD8774476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321E2-398B-4EDC-96C0-F5F86FE0A1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83BA0-20D4-499F-BCBA-7ECCE6D2F5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0BE71-E48D-492F-A24E-A9844A24BC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52AD8-17CA-47D2-B522-A3EAB19933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2F7F5-E8FB-4832-973A-8FD20BA797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67B2E-E6D4-4168-B573-2EC731E016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640-6D80-4175-9493-A16249D4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AA9-F5D0-4F4C-A778-5A6D7D13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F4C-A423-4E81-9538-07C05A5E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A62-3969-4E44-92D4-A4459539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24F8-E0B3-4B39-824C-CECB6CD2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8432-8D86-4846-8176-03D267DD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C14C-07D4-46D4-A87E-90F12D0E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6571-7112-4BD3-A163-8767040E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10F0-8AA8-4E62-9C51-FBE36A9C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FFDD-00AC-4E4F-A0AF-A1B9873B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0CED-4952-4B1C-AB6D-3DF2163F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5A36-A04C-4CBE-97AE-577BC8D9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7350-0E0E-44F7-9682-DA29E988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754F-52C8-42DD-965B-AA0C5B3A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8736-56F2-4D3B-914F-B4FF1A0D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76E2-4178-4E02-8F61-5DA29372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72AA-E6F4-4F29-96A4-8542A80E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6C4-4AAB-4E24-809E-227BDE9C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72BF-ECF5-42BE-96CB-9AE73BED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7B7-6FAA-49D0-826E-66AD845E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149-6B63-422E-8F27-73A0E30C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EA1-B23C-4C6B-90B6-7BF6B754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4EC-FA54-46CD-AD2F-7245B151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1BA-8C68-4516-8348-97F25C58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43E37CB-BB22-469A-BBA2-7DE31A667017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923FE105-27EA-4D8B-9E6C-F6E2598408D8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зец подза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BEE4E81-7EA9-41D3-A791-2C4425C4AC49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724F41F9-05A9-4454-BE19-D5791E71B0BB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2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 rot="720000">
            <a:off x="409680" y="2384280"/>
            <a:ext cx="82612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611280" y="981000"/>
            <a:ext cx="81360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755640" y="1557360"/>
            <a:ext cx="7559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11280" y="620640"/>
            <a:ext cx="784836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2735280" cy="244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116000" y="3265560"/>
            <a:ext cx="734364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2124000" y="2637000"/>
            <a:ext cx="5472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2734920" cy="2016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900000" y="476280"/>
            <a:ext cx="770436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60720" y="3860640"/>
            <a:ext cx="3240000" cy="25196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395280" y="981000"/>
            <a:ext cx="799308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684360" y="630360"/>
            <a:ext cx="7775280" cy="67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755640" y="907920"/>
            <a:ext cx="77040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900000" y="3573360"/>
            <a:ext cx="7488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095640" cy="2879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971640" y="1844640"/>
            <a:ext cx="7272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2266920" y="2852640"/>
            <a:ext cx="4572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132000" y="393228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684360" y="512640"/>
            <a:ext cx="741672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735280" cy="36007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1:36Z</dcterms:modified>
  <cp:revision>3</cp:revision>
  <dc:subject/>
  <dc:title>Слайд 1</dc:title>
</cp:coreProperties>
</file>