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38E21-3E5A-414E-B63E-2F88D73F77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AFECB-329C-46C8-BD6E-F3B605DBDB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Музыкотера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8CBDD-9AC8-48F9-93E4-F3D507C64A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елодия со словами влияет на детей сильнее, чем мелодия без слов. А живое пение — сильнее записанного на диск или кассету инструментального исполнения. А для младенцев с синдромом угнетения, которые плохо сосут, иногда даже неритмично дышат, полезны произведения в темпе «аллегро» и «аллегро модерато» Моцарта, Шуберта, Гайдна… Например: вальсы из балетов Чайковского, «На тройке» из его же «Времен года», «Весна» из «Времен года» Вивальди, а также маршевые мелод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BB4BB-D25C-4140-9C0A-60C03ACF2E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отерапия противопоказа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Младенцам с предрасположенностью к судорогам, при резкой возбудимости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Детям в тяжелом состоянии, которое сопровождается интоксикацией организм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    Больным отит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Детям, у которых резко нарастает внутричерепное давл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FAE61-A39E-4C87-97D6-1E19E96738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и проведении музыкотерапии музыкальные произведения, должны быть высокого качества звучания. Подбором музыкальных произведений занимается врач, который в зависимости от заболевания и его стадии поможет вашему ребенку правильно подобрать музыку, установить продолжительность сеанса и полного курса лечения. Как правило, это от 5 до 15 минут по два-три сеанса на день в течение 7-10 дней. Во время сеанса магнитофон необходимо разместить на расстоянии примерно 1 метра от кроватки и установить уровень громкости не более уровня разговорной речи. Детям легко возбудимым необходимо прослушивать музыку сразу или через 20 - 30 мин. после кормления, а вялым детям, наоборот, до е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06F8C-B816-4E71-B688-172F335EE2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так, начните день вашего малыша с прослушивания музыки, песен, или сами спойте простую, но мелодичную песенку, поскольку музыкотерапия подразумевает использование как "живого" голоса так и магнитофонной записи. При этом, можно рассказать ребенку о чем или о ком вы поете, тем самым выполняя информационную функцию. Так, ребенок может узнать, что крокодил плывет, носорог идет, а черепашки любят лежать на солныш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EAAB3-B2DC-442A-ADA0-8D15496573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Слушайте музыку с ребенком везде и всегда, как во время уборки, так и в машине, играйте с ребенком в музыкальные игры, заинтересуйте его разными ритмами и новыми звуками и, конечно же, пойте ему колыбельные песни на ночь. И помните - ребенок запоминает только то, что ему интерес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32F6C-A11E-4843-95C6-01E62AADD9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узыкотерап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етод психотерапии, основанный на эмоциональном восприятии музыки. В зависимости от мелодии, ее ритмической основы и исполнения музыка может оказывать самые разнообразные эффекты - от индивидуального ощущения внутренней гармонии и духовного очищения до неуправляемого агрессивного поведения больших человеческих масс. Ее можно использовать для влияния на самочувствие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5B585-E8F1-448D-92B7-99EF5D0F1E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остоинствами музыкотерапии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1. Абсолютная безвред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2. Легкость и простота примене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3. Возможность контрол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4. Уменьшение необходимости применения других лечебных методик, более нагрузочных и отнимающих больше времен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82AF6-E518-4A19-A295-19F5040BA4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а, может отражать и передавать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spcBef>
                <a:spcPts val="451"/>
              </a:spcBef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НАСТРОЕНИЯ — радость, веселье, бодрость, грусть, нежность, уныние, уверенность, тревогу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- ИНТЕЛЛЕКТУАЛЬНЫЕ И ВОЛЕВЫЕ ПРОЦЕССЫ — решительность, энергичность, сдержанность, задумчивость, инертность, безволие, легкомыслие, серьез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spcBef>
                <a:spcPts val="451"/>
              </a:spcBef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ОБОБЩЕННЫЕ СВОЙСТВА явлений действительности — силу, легкость, продолжительность, направленность, широту, пространствен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- ХАРАКТЕРИСТИКИ ДВИЖЕНИЙ — быстрые, умеренные, медленные, вялые, упругие, порывистые, угловаты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6E8E6-1D16-4092-BE9A-296A20D9C7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«Содержанием музыкотерапии является система разнообразных дифференцированных методов, способов и элементов лечебно-воспитательного воздействия, осуществляемого с помощью активной и рецептивной деятельности» — пишут чешские ученые З.Матейова и С.Машура в книге «Музыкотерапия при заикании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1A209-849F-406A-A89B-1A81504810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ой можно просто наслаждаться, можно снимать стрессы, повышать работоспособность, развивать художественные способности и способности к учебе, а самое главное, лечить детей с ограниченными физическими и умственными возможностями, больными на такие болезни как синдром Дауна, ДЦП и друг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9E2DD-5C09-4361-90B5-E09D4B27B1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есять — двенадцать лет назад ученые Института педиатрии РАМН решили найти научное обоснование метода музыкотерапии. А самыми первыми пациентами, которые получали лечение музыкой, стали новорожденные отделения недоношенны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17B79-CC25-44E3-B314-CE726C34A9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Ребенок может слышать музыку еще в утробе матери и успокаиваться под ее зву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9F62D-9701-436D-9F4A-8641382FF1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ЕТЯМ возбудимым, беспокойным полезны мелодии в медленном темпе — «адажио», «анданте». Такими бывают обычно вторые части классических сонат, инструментальных концертов. Ни в коем случае нельзя давать маленьким детям слушать музыку через наушники. Наши уши природой приспособлены для рассеянного звука. От направленного звука незрелый мозг может получить акустическую травм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A649-F760-421F-BFFA-2A90A1EC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3565-707A-40C9-A1DC-D07F0510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DF94-2C66-427E-97D8-91F9648A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89BE-7036-4920-83FF-418E2E8B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D803-5CF9-4CCD-A774-D7D90D74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DADC-D318-48D9-AEB0-87F993B1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C645-C39E-4AD9-9F5F-7D7F6519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6743-968F-49A6-84EA-E4470102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D7B6-59C0-4E2C-A80B-C90F68D1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DE11-DAA3-45AF-AE7D-43F8DC33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BCEF-4CDE-4F8B-8AC3-DAF47D45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68DB-9190-479B-B699-CC51E29E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B0A0-FB7F-4ECA-BDDC-2405ED60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2E99-C6BE-46D5-9F12-07C138E9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49A1-7A83-47F0-9740-D8F4373D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4254-FE57-4D20-B568-29D5247E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7FC3-D8E0-4E85-A426-DC208795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2CB7-8F80-4F27-8B1E-F56B0551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C4C6-876F-41DB-BBBC-7FF42DC4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A978-02E5-4B8E-9E70-A6E9C56B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FB9-A42C-40E3-975E-1B04C40E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16CA-19E7-4218-9499-28D9A627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59CC-FA15-48FB-8C9E-1B15CAB0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E228-1004-43FB-8AC3-8930ADC0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81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791BBDD-D5D5-491D-901B-EFEDC2DF1D66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67B9BD6A-603D-4BEE-ABE9-3CF5B9F9008C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разец подза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2249417-9DFD-4976-8622-833EF1FEE884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6E51150A-278F-43B6-AA50-D98FFB9E7579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2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 rot="720000">
            <a:off x="409680" y="2384280"/>
            <a:ext cx="8261280" cy="13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Book Antiqua"/>
              </a:rPr>
              <a:t>Музыкотерап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611280" y="981000"/>
            <a:ext cx="81360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елодия со словами влияет на детей сильнее, чем мелодия без слов. А живое пение — сильнее записанного на диск или кассету инструментального исполнения. А для младенцев с синдромом угнетения, которые плохо сосут, иногда даже неритмично дышат, полезны произведения в темпе «аллегро» и «аллегро модерато» Моцарта, Шуберта, Гайдна… Например: вальсы из балетов Чайковского, «На тройке» из его же «Времен года», «Весна» из «Времен года» Вивальди, а также маршевые мелод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755640" y="1557360"/>
            <a:ext cx="75596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узыкотерапия противопоказ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Младенцам с предрасположенностью к судорогам, при резкой возбудимости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 в тяжелом состоянии, которое сопровождается интоксикацией организ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    Больным оти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, у которых резко нарастает внутричерепное давл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611280" y="620640"/>
            <a:ext cx="7848360" cy="52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ри проведении музыкотерапии музыкальные произведения, должны быть высокого качества звучания. Подбором музыкальных произведений занимается врач, который в зависимости от заболевания и его стадии поможет вашему ребенку правильно подобрать музыку, установить продолжительность сеанса и полного курса лечения. Как правило, это от 5 до 15 минут по два-три сеанса на день в течение 7-10 дней. Во время сеанса магнитофон необходимо разместить на расстоянии примерно 1 метра от кроватки и установить уровень громкости не более уровня разговорной речи. Детям легко возбудимым необходимо прослушивать музыку сразу или через 20 - 30 мин. после кормления, а вялым детям, наоборот, до 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3132000" y="620640"/>
            <a:ext cx="2735280" cy="244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1116000" y="3265560"/>
            <a:ext cx="734364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ак, начните день вашего малыша с прослушивания музыки, песен, или сами спойте простую, но мелодичную песенку, поскольку музыкотерапия подразумевает использование как "живого" голоса так и магнитофонной записи. При этом, можно рассказать ребенку о чем или о ком вы поете, тем самым выполняя информационную функцию. Так, ребенок может узнать, что крокодил плывет, носорог идет, а черепашки любят лежать на солныш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2124000" y="2637000"/>
            <a:ext cx="5472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лушайте музыку с ребенком везде и всегда, как во время уборки, так и в машине, играйте с ребенком в музыкальные игры, заинтересуйте его разными ритмами и новыми звуками и, конечно же, пойте ему колыбельные песни на ночь. И помните - ребенок запоминает только то, что ему интере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419640" y="620640"/>
            <a:ext cx="2734920" cy="20163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900000" y="476280"/>
            <a:ext cx="770436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узыкотерап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етод психотерапии, основанный на эмоциональном восприятии музыки. В зависимости от мелодии, ее ритмической основы и исполнения музыка может оказывать самые разнообразные эффекты - от индивидуального ощущения внутренней гармонии и духовного очищения до неуправляемого агрессивного поведения больших человеческих масс. Ее можно использовать для влияния на самочувстви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60720" y="3860640"/>
            <a:ext cx="3240000" cy="251964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395280" y="981000"/>
            <a:ext cx="799308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остоинствами музыкотерап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1. Абсолютная безвред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2. Легкость и простота приме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3. Возможность контрол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4. Уменьшение необходимости применения других лечебных методик, более нагрузочных и отнимающих больше времен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684360" y="630360"/>
            <a:ext cx="7775280" cy="67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а, может отражать и передав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НАСТРОЕНИЯ — радость, веселье, бодрость, грусть, нежность, уныние, уверенность, тревог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ИНТЕЛЛЕКТУАЛЬНЫЕ И ВОЛЕВЫЕ ПРОЦЕССЫ — решительность, энергичность, сдержанность, задумчивость, инертность, безволие, легкомыслие, серьез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БОБЩЕННЫЕ СВОЙСТВА явлений действительности — силу, легкость, продолжительность, направленность, широту, пространствен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ХАРАКТЕРИСТИКИ ДВИЖЕНИЙ — быстрые, умеренные, медленные, вялые, упругие, порывистые, угловаты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755640" y="907920"/>
            <a:ext cx="77040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«Содержанием музыкотерапии является система разнообразных дифференцированных методов, способов и элементов лечебно-воспитательного воздействия, осуществляемого с помощью активной и рецептивной деятельности» — пишут чешские ученые З.Матейова и С.Машура в книге «Музыкотерапия при заикани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900000" y="3573360"/>
            <a:ext cx="7488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ой можно просто наслаждаться, можно снимать стрессы, повышать работоспособность, развивать художественные способности и способности к учебе, а самое главное, лечить детей с ограниченными физическими и умственными возможностями, больными на такие болезни как синдром Дауна, ДЦП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095640" cy="2879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971640" y="1844640"/>
            <a:ext cx="7272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есять — двенадцать лет назад ученые Института педиатрии РАМН решили найти научное обоснование метода музыкотерапии. А самыми первыми пациентами, которые получали лечение музыкой, стали новорожденные отделения недонош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2266920" y="2852640"/>
            <a:ext cx="45720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бенок может слышать музыку еще в утробе матери и успокаиваться под ее 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3132000" y="3932280"/>
            <a:ext cx="2448000" cy="17287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684360" y="512640"/>
            <a:ext cx="741672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ЕТЯМ возбудимым, беспокойным полезны мелодии в медленном темпе — «адажио», «анданте». Такими бывают обычно вторые части классических сонат, инструментальных концертов. Ни в коем случае нельзя давать маленьким детям слушать музыку через наушники. Наши уши природой приспособлены для рассеянного звука. От направленного звука незрелый мозг может получить акустическую трав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2735280" cy="36007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01:36Z</dcterms:modified>
  <cp:revision>3</cp:revision>
  <dc:subject/>
  <dc:title>Слайд 1</dc:title>
</cp:coreProperties>
</file>