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Click to move the slide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219F33-E59D-4E15-8386-80F105D622B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33CECA-FAF2-44A6-810A-0EFFDD8E9F3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 Antiqua"/>
              </a:rPr>
              <a:t>Музыкотерап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ECEF49-8031-4624-B81D-BE9BD7103F3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Мелодия со словами влияет на детей сильнее, чем мелодия без слов. А живое пение — сильнее записанного на диск или кассету инструментального исполнения. А для младенцев с синдромом угнетения, которые плохо сосут, иногда даже неритмично дышат, полезны произведения в темпе «аллегро» и «аллегро модерато» Моцарта, Шуберта, Гайдна… Например: вальсы из балетов Чайковского, «На тройке» из его же «Времен года», «Весна» из «Времен года» Вивальди, а также маршевые мелоди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089791-B757-48B1-B993-3985FFCDED5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Музыкотерапия противопоказан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* Младенцам с предрасположенностью к судорогам, при резкой возбудимости 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* Детям в тяжелом состоянии, которое сопровождается интоксикацией организм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*     Больным отитом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* Детям, у которых резко нарастает внутричерепное давление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1A7D21-53D2-438B-B2A2-282847ACF49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При проведении музыкотерапии музыкальные произведения, должны быть высокого качества звучания. Подбором музыкальных произведений занимается врач, который в зависимости от заболевания и его стадии поможет вашему ребенку правильно подобрать музыку, установить продолжительность сеанса и полного курса лечения. Как правило, это от 5 до 15 минут по два-три сеанса на день в течение 7-10 дней. Во время сеанса магнитофон необходимо разместить на расстоянии примерно 1 метра от кроватки и установить уровень громкости не более уровня разговорной речи. Детям легко возбудимым необходимо прослушивать музыку сразу или через 20 - 30 мин. после кормления, а вялым детям, наоборот, до ед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3A0898-B145-4EE2-9F8E-B450272B71C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так, начните день вашего малыша с прослушивания музыки, песен, или сами спойте простую, но мелодичную песенку, поскольку музыкотерапия подразумевает использование как "живого" голоса так и магнитофонной записи. При этом, можно рассказать ребенку о чем или о ком вы поете, тем самым выполняя информационную функцию. Так, ребенок может узнать, что крокодил плывет, носорог идет, а черепашки любят лежать на солнышк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CE51E4-B503-4699-B5DA-480F3993803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Слушайте музыку с ребенком везде и всегда, как во время уборки, так и в машине, играйте с ребенком в музыкальные игры, заинтересуйте его разными ритмами и новыми звуками и, конечно же, пойте ему колыбельные песни на ночь. И помните - ребенок запоминает только то, что ему интересн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97E7FE-6CF4-4A80-A842-8C45EE3DA3E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Музыкотерапия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метод психотерапии, основанный на эмоциональном восприятии музыки. В зависимости от мелодии, ее ритмической основы и исполнения музыка может оказывать самые разнообразные эффекты - от индивидуального ощущения внутренней гармонии и духовного очищения до неуправляемого агрессивного поведения больших человеческих масс. Ее можно использовать для влияния на самочувствие человек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562F7A-751B-4E7E-A876-C7E8536D651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Достоинствами музыкотерапии являютс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1. Абсолютная безвредность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2. Легкость и простота применения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3. Возможность контроля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4. Уменьшение необходимости применения других лечебных методик, более нагрузочных и отнимающих больше времени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858FD6-D26D-403A-B38A-05D7F98BABA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Музыка, может отражать и передавать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2000"/>
              </a:lnSpc>
              <a:spcBef>
                <a:spcPts val="451"/>
              </a:spcBef>
              <a:buClr>
                <a:srgbClr val="000000"/>
              </a:buClr>
              <a:buFont typeface="StarSymbol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НАСТРОЕНИЯ — радость, веселье, бодрость, грусть, нежность, уныние, уверенность, тревогу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- ИНТЕЛЛЕКТУАЛЬНЫЕ И ВОЛЕВЫЕ ПРОЦЕССЫ — решительность, энергичность, сдержанность, задумчивость, инертность, безволие, легкомыслие, серьезность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2000"/>
              </a:lnSpc>
              <a:spcBef>
                <a:spcPts val="451"/>
              </a:spcBef>
              <a:buClr>
                <a:srgbClr val="000000"/>
              </a:buClr>
              <a:buFont typeface="StarSymbol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ОБОБЩЕННЫЕ СВОЙСТВА явлений действительности — силу, легкость, продолжительность, направленность, широту, пространственность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- ХАРАКТЕРИСТИКИ ДВИЖЕНИЙ — быстрые, умеренные, медленные, вялые, упругие, порывистые, угловатые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04D585-71F8-4949-8994-6BCA19629B5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«Содержанием музыкотерапии является система разнообразных дифференцированных методов, способов и элементов лечебно-воспитательного воздействия, осуществляемого с помощью активной и рецептивной деятельности» — пишут чешские ученые З.Матейова и С.Машура в книге «Музыкотерапия при заикании»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0B8A8D-A8FA-4C2E-876D-A46E8B6B500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Музыкой можно просто наслаждаться, можно снимать стрессы, повышать работоспособность, развивать художественные способности и способности к учебе, а самое главное, лечить детей с ограниченными физическими и умственными возможностями, больными на такие болезни как синдром Дауна, ДЦП и други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9248EB-CB68-4023-8D72-B4A9F9269A8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Десять — двенадцать лет назад ученые Института педиатрии РАМН решили найти научное обоснование метода музыкотерапии. А самыми первыми пациентами, которые получали лечение музыкой, стали новорожденные отделения недоношенных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684A45-FEF1-4603-A379-172876EF026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Ребенок может слышать музыку еще в утробе матери и успокаиваться под ее зву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D1AED0-F65C-4FA4-9BE6-F804E2EA67E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ДЕТЯМ возбудимым, беспокойным полезны мелодии в медленном темпе — «адажио», «анданте». Такими бывают обычно вторые части классических сонат, инструментальных концертов. Ни в коем случае нельзя давать маленьким детям слушать музыку через наушники. Наши уши природой приспособлены для рассеянного звука. От направленного звука незрелый мозг может получить акустическую травму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E21D-39AC-4A4B-A766-0D5B88B05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D0DC-F0AC-4C1F-8218-09221462C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3935-EC10-4BB3-BF86-9F59EDE84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44C1-2212-407A-83ED-017BDB300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2FD6F-7245-4C91-8CF5-0771C995C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2AD8F-805B-4683-8E9C-56CFDF9C5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C0720-04B7-4A3C-A2B2-F56C34CE7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CE30E-B9EA-42AA-9ADC-934DDC9BA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17D67-F510-48BE-BA76-8AA158D8F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D6048-889A-431D-9F66-D0DDAECD6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61ACB-540E-44DB-B0E3-65BF28814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1FC5-BED3-42F8-BF5C-630E7BDDD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1FE41-0EB2-4858-8CFC-43F85FE14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5E66F-3B15-4F55-8A31-4E0D3A2E4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E5234-D5A0-4465-AEB6-48F7175CB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BA80E-170D-4D42-82C0-B1808CAD4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2D13C-CA5D-4424-B804-1C2F4876D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12C9-65B8-4476-A173-9281E621C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979D-3D41-408E-8749-FD3F1DD40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D2E1-73E1-428F-9C45-4D41EE4A9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94AC-82B6-4C66-9DF9-3AA14786A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281F-E655-4296-82BF-845BB2EFD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47DB-EB93-4B14-9A1B-BFE7CB3D0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2DA8-B710-4B01-849C-1FC535D5E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2280" y="1371600"/>
            <a:ext cx="8228160" cy="18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uk-UA" sz="1800" spc="-1" strike="noStrike">
                <a:solidFill>
                  <a:srgbClr val="ffffff"/>
                </a:solidFill>
                <a:latin typeface="Book Antiqua"/>
              </a:defRPr>
            </a:lvl1pPr>
          </a:lstStyle>
          <a:p>
            <a: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Book Antiqua"/>
              </a:rPr>
              <a:t>16.3.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3720" y="6416640"/>
            <a:ext cx="28940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06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800" spc="-1" strike="noStrike">
                <a:solidFill>
                  <a:srgbClr val="ffffff"/>
                </a:solidFill>
                <a:latin typeface="Book Antiqua"/>
              </a:defRPr>
            </a:lvl1pPr>
          </a:lstStyle>
          <a:p>
            <a: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F4EB0BF2-48E9-4A97-BAD2-B612539B69EB}" type="slidenum">
              <a:rPr b="0" lang="ru-RU" sz="1800" spc="-1" strike="noStrike">
                <a:solidFill>
                  <a:srgbClr val="ffffff"/>
                </a:solidFill>
                <a:latin typeface="Book Antiqua"/>
              </a:rPr>
              <a:t>&lt;number&gt;</a:t>
            </a:fld>
            <a:fld id="{7C2DF77E-C759-4CFE-ACF0-10FFFB5181E2}" type="slidenum">
              <a:rPr b="0" lang="ru-RU" sz="1800" spc="-1" strike="noStrike">
                <a:solidFill>
                  <a:srgbClr val="ffffff"/>
                </a:solidFill>
                <a:latin typeface="Book Antiqu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5"/>
          <p:cNvSpPr/>
          <p:nvPr/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Образец подзаголов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dt" idx="4"/>
          </p:nvPr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uk-UA" sz="1800" spc="-1" strike="noStrike">
                <a:solidFill>
                  <a:srgbClr val="ffffff"/>
                </a:solidFill>
                <a:latin typeface="Book Antiqua"/>
              </a:defRPr>
            </a:lvl1pPr>
          </a:lstStyle>
          <a:p>
            <a: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Book Antiqua"/>
              </a:rPr>
              <a:t>16.3.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5"/>
          </p:nvPr>
        </p:nvSpPr>
        <p:spPr>
          <a:xfrm>
            <a:off x="3123720" y="6416640"/>
            <a:ext cx="28940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06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800" spc="-1" strike="noStrike">
                <a:solidFill>
                  <a:srgbClr val="ffffff"/>
                </a:solidFill>
                <a:latin typeface="Book Antiqua"/>
              </a:defRPr>
            </a:lvl1pPr>
          </a:lstStyle>
          <a:p>
            <a: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B23624E0-D5C9-4AB0-8FE6-A6A97D79816D}" type="slidenum">
              <a:rPr b="0" lang="ru-RU" sz="1800" spc="-1" strike="noStrike">
                <a:solidFill>
                  <a:srgbClr val="ffffff"/>
                </a:solidFill>
                <a:latin typeface="Book Antiqua"/>
              </a:rPr>
              <a:t>&lt;number&gt;</a:t>
            </a:fld>
            <a:fld id="{40E7E8F6-5481-495C-9CD7-93A324F934B1}" type="slidenum">
              <a:rPr b="0" lang="ru-RU" sz="1800" spc="-1" strike="noStrike">
                <a:solidFill>
                  <a:srgbClr val="ffffff"/>
                </a:solidFill>
                <a:latin typeface="Book Antiqu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Дата 2"/>
          <p:cNvSpPr/>
          <p:nvPr/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Book Antiqua"/>
              </a:rPr>
              <a:t>16.3.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"/>
          <p:cNvSpPr/>
          <p:nvPr/>
        </p:nvSpPr>
        <p:spPr>
          <a:xfrm rot="720000">
            <a:off x="409680" y="2384280"/>
            <a:ext cx="8261280" cy="13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Book Antiqua"/>
              </a:rPr>
              <a:t>Музыкотерапия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416640"/>
            <a:ext cx="28940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Дата 1"/>
          <p:cNvSpPr/>
          <p:nvPr/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Book Antiqua"/>
              </a:rPr>
              <a:t>16.3.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"/>
          <p:cNvSpPr/>
          <p:nvPr/>
        </p:nvSpPr>
        <p:spPr>
          <a:xfrm>
            <a:off x="611280" y="981000"/>
            <a:ext cx="8136000" cy="48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Мелодия со словами влияет на детей сильнее, чем мелодия без слов. А живое пение — сильнее записанного на диск или кассету инструментального исполнения. А для младенцев с синдромом угнетения, которые плохо сосут, иногда даже неритмично дышат, полезны произведения в темпе «аллегро» и «аллегро модерато» Моцарта, Шуберта, Гайдна… Например: вальсы из балетов Чайковского, «На тройке» из его же «Времен года», «Весна» из «Времен года» Вивальди, а также маршевые мелод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416640"/>
            <a:ext cx="28940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Дата 1"/>
          <p:cNvSpPr/>
          <p:nvPr/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Book Antiqua"/>
              </a:rPr>
              <a:t>16.3.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"/>
          <p:cNvSpPr/>
          <p:nvPr/>
        </p:nvSpPr>
        <p:spPr>
          <a:xfrm>
            <a:off x="755640" y="1557360"/>
            <a:ext cx="7559640" cy="35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Музыкотерапия противопоказан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* Младенцам с предрасположенностью к судорогам, при резкой возбудимости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* Детям в тяжелом состоянии, которое сопровождается интоксикацией организм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*     Больным отито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* Детям, у которых резко нарастает внутричерепное давлени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416640"/>
            <a:ext cx="28940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Дата 1"/>
          <p:cNvSpPr/>
          <p:nvPr/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Book Antiqua"/>
              </a:rPr>
              <a:t>16.3.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"/>
          <p:cNvSpPr/>
          <p:nvPr/>
        </p:nvSpPr>
        <p:spPr>
          <a:xfrm>
            <a:off x="611280" y="620640"/>
            <a:ext cx="7848360" cy="52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При проведении музыкотерапии музыкальные произведения, должны быть высокого качества звучания. Подбором музыкальных произведений занимается врач, который в зависимости от заболевания и его стадии поможет вашему ребенку правильно подобрать музыку, установить продолжительность сеанса и полного курса лечения. Как правило, это от 5 до 15 минут по два-три сеанса на день в течение 7-10 дней. Во время сеанса магнитофон необходимо разместить на расстоянии примерно 1 метра от кроватки и установить уровень громкости не более уровня разговорной речи. Детям легко возбудимым необходимо прослушивать музыку сразу или через 20 - 30 мин. после кормления, а вялым детям, наоборот, до е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416640"/>
            <a:ext cx="28940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Дата 1"/>
          <p:cNvSpPr/>
          <p:nvPr/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Book Antiqua"/>
              </a:rPr>
              <a:t>16.3.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" descr=""/>
          <p:cNvPicPr/>
          <p:nvPr/>
        </p:nvPicPr>
        <p:blipFill>
          <a:blip r:embed="rId1"/>
          <a:stretch/>
        </p:blipFill>
        <p:spPr>
          <a:xfrm>
            <a:off x="3132000" y="620640"/>
            <a:ext cx="2735280" cy="244800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2"/>
          <p:cNvSpPr/>
          <p:nvPr/>
        </p:nvSpPr>
        <p:spPr>
          <a:xfrm>
            <a:off x="1116000" y="3265560"/>
            <a:ext cx="7343640" cy="25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0" bIns="45000" anchor="t">
            <a:noAutofit/>
          </a:bodyPr>
          <a:p>
            <a:pPr algn="just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так, начните день вашего малыша с прослушивания музыки, песен, или сами спойте простую, но мелодичную песенку, поскольку музыкотерапия подразумевает использование как "живого" голоса так и магнитофонной записи. При этом, можно рассказать ребенку о чем или о ком вы поете, тем самым выполняя информационную функцию. Так, ребенок может узнать, что крокодил плывет, носорог идет, а черепашки любят лежать на солныш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416640"/>
            <a:ext cx="28940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Дата 1"/>
          <p:cNvSpPr/>
          <p:nvPr/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Book Antiqua"/>
              </a:rPr>
              <a:t>16.3.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"/>
          <p:cNvSpPr/>
          <p:nvPr/>
        </p:nvSpPr>
        <p:spPr>
          <a:xfrm>
            <a:off x="2124000" y="2637000"/>
            <a:ext cx="547236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Слушайте музыку с ребенком везде и всегда, как во время уборки, так и в машине, играйте с ребенком в музыкальные игры, заинтересуйте его разными ритмами и новыми звуками и, конечно же, пойте ему колыбельные песни на ночь. И помните - ребенок запоминает только то, что ему интерес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3419640" y="620640"/>
            <a:ext cx="2734920" cy="2016360"/>
          </a:xfrm>
          <a:prstGeom prst="rect">
            <a:avLst/>
          </a:prstGeom>
          <a:ln w="0">
            <a:noFill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3124080" y="6416640"/>
            <a:ext cx="28940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Дата 1"/>
          <p:cNvSpPr/>
          <p:nvPr/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Book Antiqua"/>
              </a:rPr>
              <a:t>16.3.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"/>
          <p:cNvSpPr/>
          <p:nvPr/>
        </p:nvSpPr>
        <p:spPr>
          <a:xfrm>
            <a:off x="900000" y="476280"/>
            <a:ext cx="7704360" cy="30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t">
            <a:noAutofit/>
          </a:bodyPr>
          <a:p>
            <a:pPr algn="just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Музыкотерапия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метод психотерапии, основанный на эмоциональном восприятии музыки. В зависимости от мелодии, ее ритмической основы и исполнения музыка может оказывать самые разнообразные эффекты - от индивидуального ощущения внутренней гармонии и духовного очищения до неуправляемого агрессивного поведения больших человеческих масс. Ее можно использовать для влияния на самочувствие челове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3060720" y="3860640"/>
            <a:ext cx="3240000" cy="2519640"/>
          </a:xfrm>
          <a:prstGeom prst="rect">
            <a:avLst/>
          </a:prstGeom>
          <a:ln w="0">
            <a:noFill/>
          </a:ln>
        </p:spPr>
      </p:pic>
      <p:sp>
        <p:nvSpPr>
          <p:cNvPr id="96" name="Місце для нижнього колонтитула 1"/>
          <p:cNvSpPr/>
          <p:nvPr/>
        </p:nvSpPr>
        <p:spPr>
          <a:xfrm>
            <a:off x="3124080" y="6416640"/>
            <a:ext cx="28940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Дата 1"/>
          <p:cNvSpPr/>
          <p:nvPr/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Book Antiqua"/>
              </a:rPr>
              <a:t>16.3.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"/>
          <p:cNvSpPr/>
          <p:nvPr/>
        </p:nvSpPr>
        <p:spPr>
          <a:xfrm>
            <a:off x="395280" y="981000"/>
            <a:ext cx="7993080" cy="43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Достоинствами музыкотерапии являютс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1. Абсолютная безвредность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2. Легкость и простота применения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3. Возможность контроля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4. Уменьшение необходимости применения других лечебных методик, более нагрузочных и отнимающих больше времени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416640"/>
            <a:ext cx="28940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Дата 1"/>
          <p:cNvSpPr/>
          <p:nvPr/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Book Antiqua"/>
              </a:rPr>
              <a:t>16.3.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"/>
          <p:cNvSpPr/>
          <p:nvPr/>
        </p:nvSpPr>
        <p:spPr>
          <a:xfrm>
            <a:off x="684360" y="630360"/>
            <a:ext cx="7775280" cy="67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 Antiqu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Музыка, может отражать и передавать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2000"/>
              </a:lnSpc>
              <a:buClr>
                <a:srgbClr val="000000"/>
              </a:buClr>
              <a:buFont typeface="StarSymbol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НАСТРОЕНИЯ — радость, веселье, бодрость, грусть, нежность, уныние, уверенность, тревогу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- ИНТЕЛЛЕКТУАЛЬНЫЕ И ВОЛЕВЫЕ ПРОЦЕССЫ — решительность, энергичность, сдержанность, задумчивость, инертность, безволие, легкомыслие, серьезнос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2000"/>
              </a:lnSpc>
              <a:buClr>
                <a:srgbClr val="000000"/>
              </a:buClr>
              <a:buFont typeface="StarSymbol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ОБОБЩЕННЫЕ СВОЙСТВА явлений действительности — силу, легкость, продолжительность, направленность, широту, пространственность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- ХАРАКТЕРИСТИКИ ДВИЖЕНИЙ — быстрые, умеренные, медленные, вялые, упругие, порывистые, угловатые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416640"/>
            <a:ext cx="28940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Дата 1"/>
          <p:cNvSpPr/>
          <p:nvPr/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Book Antiqua"/>
              </a:rPr>
              <a:t>16.3.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"/>
          <p:cNvSpPr/>
          <p:nvPr/>
        </p:nvSpPr>
        <p:spPr>
          <a:xfrm>
            <a:off x="755640" y="907920"/>
            <a:ext cx="7704000" cy="45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«Содержанием музыкотерапии является система разнообразных дифференцированных методов, способов и элементов лечебно-воспитательного воздействия, осуществляемого с помощью активной и рецептивной деятельности» — пишут чешские ученые З.Матейова и С.Машура в книге «Музыкотерапия при заикании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416640"/>
            <a:ext cx="28940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Дата 1"/>
          <p:cNvSpPr/>
          <p:nvPr/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Book Antiqua"/>
              </a:rPr>
              <a:t>16.3.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"/>
          <p:cNvSpPr/>
          <p:nvPr/>
        </p:nvSpPr>
        <p:spPr>
          <a:xfrm>
            <a:off x="900000" y="3573360"/>
            <a:ext cx="7488360" cy="26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Музыкой можно просто наслаждаться, можно снимать стрессы, повышать работоспособность, развивать художественные способности и способности к учебе, а самое главное, лечить детей с ограниченными физическими и умственными возможностями, больными на такие болезни как синдром Дауна, ДЦП и друг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2700360" y="333360"/>
            <a:ext cx="3095640" cy="287964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124080" y="6416640"/>
            <a:ext cx="28940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Дата 1"/>
          <p:cNvSpPr/>
          <p:nvPr/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Book Antiqua"/>
              </a:rPr>
              <a:t>16.3.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"/>
          <p:cNvSpPr/>
          <p:nvPr/>
        </p:nvSpPr>
        <p:spPr>
          <a:xfrm>
            <a:off x="971640" y="1844640"/>
            <a:ext cx="7272360" cy="26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Десять — двенадцать лет назад ученые Института педиатрии РАМН решили найти научное обоснование метода музыкотерапии. А самыми первыми пациентами, которые получали лечение музыкой, стали новорожденные отделения недоношенны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416640"/>
            <a:ext cx="28940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Дата 1"/>
          <p:cNvSpPr/>
          <p:nvPr/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Book Antiqua"/>
              </a:rPr>
              <a:t>16.3.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"/>
          <p:cNvSpPr/>
          <p:nvPr/>
        </p:nvSpPr>
        <p:spPr>
          <a:xfrm>
            <a:off x="2266920" y="2852640"/>
            <a:ext cx="4572000" cy="10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Ребенок может слышать музыку еще в утробе матери и успокаиваться под ее зву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3276720" y="189000"/>
            <a:ext cx="1944720" cy="2592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" descr=""/>
          <p:cNvPicPr/>
          <p:nvPr/>
        </p:nvPicPr>
        <p:blipFill>
          <a:blip r:embed="rId2"/>
          <a:stretch/>
        </p:blipFill>
        <p:spPr>
          <a:xfrm>
            <a:off x="3132000" y="3932280"/>
            <a:ext cx="2448000" cy="1728720"/>
          </a:xfrm>
          <a:prstGeom prst="rect">
            <a:avLst/>
          </a:prstGeom>
          <a:ln w="0">
            <a:noFill/>
          </a:ln>
        </p:spPr>
      </p:pic>
      <p:sp>
        <p:nvSpPr>
          <p:cNvPr id="117" name="Місце для нижнього колонтитула 1"/>
          <p:cNvSpPr/>
          <p:nvPr/>
        </p:nvSpPr>
        <p:spPr>
          <a:xfrm>
            <a:off x="3124080" y="6416640"/>
            <a:ext cx="28940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Дата 1"/>
          <p:cNvSpPr/>
          <p:nvPr/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Book Antiqua"/>
              </a:rPr>
              <a:t>16.3.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"/>
          <p:cNvSpPr/>
          <p:nvPr/>
        </p:nvSpPr>
        <p:spPr>
          <a:xfrm>
            <a:off x="684360" y="512640"/>
            <a:ext cx="741672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ДЕТЯМ возбудимым, беспокойным полезны мелодии в медленном темпе — «адажио», «анданте». Такими бывают обычно вторые части классических сонат, инструментальных концертов. Ни в коем случае нельзя давать маленьким детям слушать музыку через наушники. Наши уши природой приспособлены для рассеянного звука. От направленного звука незрелый мозг может получить акустическую травм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3203640" y="2852640"/>
            <a:ext cx="2735280" cy="360072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124080" y="6416640"/>
            <a:ext cx="28940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4-02T07:01:36Z</dcterms:modified>
  <cp:revision>3</cp:revision>
  <dc:subject/>
  <dc:title>Слайд 1</dc:title>
</cp:coreProperties>
</file>