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9543C-499C-4E6B-BDE1-F9BEEBFEB6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7C74E-F652-4678-A63A-DA25223EDB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Музыкотерап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18329B-4A2E-4F2D-B311-5B7BDFD496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Мелодия со словами влияет на детей сильнее, чем мелодия без слов. А живое пение — сильнее записанного на диск или кассету инструментального исполнения. А для младенцев с синдромом угнетения, которые плохо сосут, иногда даже неритмично дышат, полезны произведения в темпе «аллегро» и «аллегро модерато» Моцарта, Шуберта, Гайдна… Например: вальсы из балетов Чайковского, «На тройке» из его же «Времен года», «Весна» из «Времен года» Вивальди, а также маршевые мелод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C82D77-2379-483F-900D-BE2BCC70F4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Музыкотерапия противопоказан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* Младенцам с предрасположенностью к судорогам, при резкой возбудимости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* Детям в тяжелом состоянии, которое сопровождается интоксикацией организм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*     Больным отит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* Детям, у которых резко нарастает внутричерепное давле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D6BB5-25A0-4F2E-A335-551026E266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При проведении музыкотерапии музыкальные произведения, должны быть высокого качества звучания. Подбором музыкальных произведений занимается врач, который в зависимости от заболевания и его стадии поможет вашему ребенку правильно подобрать музыку, установить продолжительность сеанса и полного курса лечения. Как правило, это от 5 до 15 минут по два-три сеанса на день в течение 7-10 дней. Во время сеанса магнитофон необходимо разместить на расстоянии примерно 1 метра от кроватки и установить уровень громкости не более уровня разговорной речи. Детям легко возбудимым необходимо прослушивать музыку сразу или через 20 - 30 мин. после кормления, а вялым детям, наоборот, до е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61135E-CCF7-4A11-83CD-2F66C7ACC7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так, начните день вашего малыша с прослушивания музыки, песен, или сами спойте простую, но мелодичную песенку, поскольку музыкотерапия подразумевает использование как "живого" голоса так и магнитофонной записи. При этом, можно рассказать ребенку о чем или о ком вы поете, тем самым выполняя информационную функцию. Так, ребенок может узнать, что крокодил плывет, носорог идет, а черепашки любят лежать на солныш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B976F-8EF3-441C-8961-A1817EE0DD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Слушайте музыку с ребенком везде и всегда, как во время уборки, так и в машине, играйте с ребенком в музыкальные игры, заинтересуйте его разными ритмами и новыми звуками и, конечно же, пойте ему колыбельные песни на ночь. И помните - ребенок запоминает только то, что ему интерес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A01B0F-0D18-49A4-8969-05A0999D5A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Музыкотерап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метод психотерапии, основанный на эмоциональном восприятии музыки. В зависимости от мелодии, ее ритмической основы и исполнения музыка может оказывать самые разнообразные эффекты - от индивидуального ощущения внутренней гармонии и духовного очищения до неуправляемого агрессивного поведения больших человеческих масс. Ее можно использовать для влияния на самочувствие челове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059C9-1326-40A6-BD7B-2D089F4776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Достоинствами музыкотерапии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1. Абсолютная безвредность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2. Легкость и простота применени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3. Возможность контрол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4. Уменьшение необходимости применения других лечебных методик, более нагрузочных и отнимающих больше времени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473AD-2830-4690-9E35-046A51E527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Музыка, может отражать и передавать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spcBef>
                <a:spcPts val="451"/>
              </a:spcBef>
              <a:buClr>
                <a:srgbClr val="000000"/>
              </a:buClr>
              <a:buFont typeface="StarSymbo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НАСТРОЕНИЯ — радость, веселье, бодрость, грусть, нежность, уныние, уверенность, тревогу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- ИНТЕЛЛЕКТУАЛЬНЫЕ И ВОЛЕВЫЕ ПРОЦЕССЫ — решительность, энергичность, сдержанность, задумчивость, инертность, безволие, легкомыслие, серьезн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2000"/>
              </a:lnSpc>
              <a:spcBef>
                <a:spcPts val="451"/>
              </a:spcBef>
              <a:buClr>
                <a:srgbClr val="000000"/>
              </a:buClr>
              <a:buFont typeface="StarSymbo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ОБОБЩЕННЫЕ СВОЙСТВА явлений действительности — силу, легкость, продолжительность, направленность, широту, пространственность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- ХАРАКТЕРИСТИКИ ДВИЖЕНИЙ — быстрые, умеренные, медленные, вялые, упругие, порывистые, угловатые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2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3E972-3F9A-4E34-8468-82BD0976CE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«Содержанием музыкотерапии является система разнообразных дифференцированных методов, способов и элементов лечебно-воспитательного воздействия, осуществляемого с помощью активной и рецептивной деятельности» — пишут чешские ученые З.Матейова и С.Машура в книге «Музыкотерапия при заикании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A317F-A7B7-49DB-BFB8-B52B38D78A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Музыкой можно просто наслаждаться, можно снимать стрессы, повышать работоспособность, развивать художественные способности и способности к учебе, а самое главное, лечить детей с ограниченными физическими и умственными возможностями, больными на такие болезни как синдром Дауна, ДЦП и друг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F7400-4DD0-4B23-BDDE-AD1FC57881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Десять — двенадцать лет назад ученые Института педиатрии РАМН решили найти научное обоснование метода музыкотерапии. А самыми первыми пациентами, которые получали лечение музыкой, стали новорожденные отделения недоношенны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A2C0B-44A2-4876-A3D1-D95351C3A3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Ребенок может слышать музыку еще в утробе матери и успокаиваться под ее зву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252DC-B5E8-47F4-8F2C-28E15F7B7A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ДЕТЯМ возбудимым, беспокойным полезны мелодии в медленном темпе — «адажио», «анданте». Такими бывают обычно вторые части классических сонат, инструментальных концертов. Ни в коем случае нельзя давать маленьким детям слушать музыку через наушники. Наши уши природой приспособлены для рассеянного звука. От направленного звука незрелый мозг может получить акустическую травм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20F5-F865-4E3C-8538-8A8E021B4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D6A0-B9D7-41C3-8A78-EB78AEE4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CAD3-F377-4C3C-83BF-FD59341C3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CA33-8D0A-4D83-A8A6-56CDF1927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D1EC-55A0-4C6B-AFFE-CFD78644D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E8C0-6FC7-43D5-9527-694D6B46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227B-FE05-437B-8CC7-F52FD036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4C89-A92D-4BC6-BDA6-BAF1C0B2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579A-AD08-4B62-A8D7-140E2E30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AE09-EA0F-4084-9E6D-A90BE279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840E-F566-4A3A-B177-6EEA2AB8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26FC-9124-4FB8-9D8F-9B1749A3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2819-D11E-4147-B421-D732744F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D98D-F0F1-4AD5-8A76-B627F1F1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83EA-4D15-444C-9217-5FEF3219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BC6D-866C-42B4-961F-8C6276734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89E4-839D-469C-BF1F-7DA027CBE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E2D0-AF6E-4CF0-8F20-38AEBEA3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89E9-507F-4257-9F37-AE85C048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6800-E89D-4E6D-B0D3-B62DF555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6214-9554-43DB-B70A-6DD586F3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275E-BB01-4EB0-A82F-3A2D2A05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19C3-532B-45CF-B818-C47BC00A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6EB1-117D-48A5-8FA3-1D9C9EAF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816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BA46008-95F1-462D-84F0-3063575EAAD3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fld id="{C8FEE883-69F9-4419-A200-9326DA8F3540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Образец подзагол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uk-UA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296825B-372E-40AE-A9AB-4B22A1334A23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fld id="{95FF6365-8C1D-4354-8DBF-20792A08D4F9}" type="slidenum">
              <a:rPr b="0" lang="ru-RU" sz="18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Дата 2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"/>
          <p:cNvSpPr/>
          <p:nvPr/>
        </p:nvSpPr>
        <p:spPr>
          <a:xfrm rot="720000">
            <a:off x="409680" y="2384280"/>
            <a:ext cx="8261280" cy="13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Book Antiqua"/>
              </a:rPr>
              <a:t>Музыкотерап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611280" y="981000"/>
            <a:ext cx="8136000" cy="48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Мелодия со словами влияет на детей сильнее, чем мелодия без слов. А живое пение — сильнее записанного на диск или кассету инструментального исполнения. А для младенцев с синдромом угнетения, которые плохо сосут, иногда даже неритмично дышат, полезны произведения в темпе «аллегро» и «аллегро модерато» Моцарта, Шуберта, Гайдна… Например: вальсы из балетов Чайковского, «На тройке» из его же «Времен года», «Весна» из «Времен года» Вивальди, а также маршевые мелод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"/>
          <p:cNvSpPr/>
          <p:nvPr/>
        </p:nvSpPr>
        <p:spPr>
          <a:xfrm>
            <a:off x="755640" y="1557360"/>
            <a:ext cx="755964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Музыкотерапия противопоказа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Младенцам с предрасположенностью к судорогам, при резкой возбудимости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Детям в тяжелом состоянии, которое сопровождается интоксикацией организ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    Больным отит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* Детям, у которых резко нарастает внутричерепное давл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611280" y="620640"/>
            <a:ext cx="7848360" cy="52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При проведении музыкотерапии музыкальные произведения, должны быть высокого качества звучания. Подбором музыкальных произведений занимается врач, который в зависимости от заболевания и его стадии поможет вашему ребенку правильно подобрать музыку, установить продолжительность сеанса и полного курса лечения. Как правило, это от 5 до 15 минут по два-три сеанса на день в течение 7-10 дней. Во время сеанса магнитофон необходимо разместить на расстоянии примерно 1 метра от кроватки и установить уровень громкости не более уровня разговорной речи. Детям легко возбудимым необходимо прослушивать музыку сразу или через 20 - 30 мин. после кормления, а вялым детям, наоборот, до 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3132000" y="620640"/>
            <a:ext cx="2735280" cy="2448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"/>
          <p:cNvSpPr/>
          <p:nvPr/>
        </p:nvSpPr>
        <p:spPr>
          <a:xfrm>
            <a:off x="1116000" y="3265560"/>
            <a:ext cx="7343640" cy="25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0" bIns="4500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так, начните день вашего малыша с прослушивания музыки, песен, или сами спойте простую, но мелодичную песенку, поскольку музыкотерапия подразумевает использование как "живого" голоса так и магнитофонной записи. При этом, можно рассказать ребенку о чем или о ком вы поете, тем самым выполняя информационную функцию. Так, ребенок может узнать, что крокодил плывет, носорог идет, а черепашки любят лежать на солныш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"/>
          <p:cNvSpPr/>
          <p:nvPr/>
        </p:nvSpPr>
        <p:spPr>
          <a:xfrm>
            <a:off x="2124000" y="2637000"/>
            <a:ext cx="54723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Слушайте музыку с ребенком везде и всегда, как во время уборки, так и в машине, играйте с ребенком в музыкальные игры, заинтересуйте его разными ритмами и новыми звуками и, конечно же, пойте ему колыбельные песни на ночь. И помните - ребенок запоминает только то, что ему интерес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3419640" y="620640"/>
            <a:ext cx="2734920" cy="201636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"/>
          <p:cNvSpPr/>
          <p:nvPr/>
        </p:nvSpPr>
        <p:spPr>
          <a:xfrm>
            <a:off x="900000" y="476280"/>
            <a:ext cx="7704360" cy="30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узыкотерап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метод психотерапии, основанный на эмоциональном восприятии музыки. В зависимости от мелодии, ее ритмической основы и исполнения музыка может оказывать самые разнообразные эффекты - от индивидуального ощущения внутренней гармонии и духовного очищения до неуправляемого агрессивного поведения больших человеческих масс. Ее можно использовать для влияния на самочувствие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060720" y="3860640"/>
            <a:ext cx="3240000" cy="251964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395280" y="981000"/>
            <a:ext cx="799308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Достоинствами музыкотерапии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1. Абсолютная безвред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2. Легкость и простота примен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3. Возможность контрол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4. Уменьшение необходимости применения других лечебных методик, более нагрузочных и отнимающих больше времен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684360" y="630360"/>
            <a:ext cx="7775280" cy="67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Музыка, может отражать и передават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buClr>
                <a:srgbClr val="000000"/>
              </a:buClr>
              <a:buFont typeface="StarSymbo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НАСТРОЕНИЯ — радость, веселье, бодрость, грусть, нежность, уныние, уверенность, тревог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- ИНТЕЛЛЕКТУАЛЬНЫЕ И ВОЛЕВЫЕ ПРОЦЕССЫ — решительность, энергичность, сдержанность, задумчивость, инертность, безволие, легкомыслие, серьез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buClr>
                <a:srgbClr val="000000"/>
              </a:buClr>
              <a:buFont typeface="StarSymbol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ОБОБЩЕННЫЕ СВОЙСТВА явлений действительности — силу, легкость, продолжительность, направленность, широту, пространственнос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- ХАРАКТЕРИСТИКИ ДВИЖЕНИЙ — быстрые, умеренные, медленные, вялые, упругие, порывистые, угловаты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"/>
          <p:cNvSpPr/>
          <p:nvPr/>
        </p:nvSpPr>
        <p:spPr>
          <a:xfrm>
            <a:off x="755640" y="907920"/>
            <a:ext cx="77040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«Содержанием музыкотерапии является система разнообразных дифференцированных методов, способов и элементов лечебно-воспитательного воздействия, осуществляемого с помощью активной и рецептивной деятельности» — пишут чешские ученые З.Матейова и С.Машура в книге «Музыкотерапия при заикании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900000" y="3573360"/>
            <a:ext cx="748836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Музыкой можно просто наслаждаться, можно снимать стрессы, повышать работоспособность, развивать художественные способности и способности к учебе, а самое главное, лечить детей с ограниченными физическими и умственными возможностями, больными на такие болезни как синдром Дауна, ДЦП и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3095640" cy="28796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"/>
          <p:cNvSpPr/>
          <p:nvPr/>
        </p:nvSpPr>
        <p:spPr>
          <a:xfrm>
            <a:off x="971640" y="1844640"/>
            <a:ext cx="727236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Десять — двенадцать лет назад ученые Института педиатрии РАМН решили найти научное обоснование метода музыкотерапии. А самыми первыми пациентами, которые получали лечение музыкой, стали новорожденные отделения недоноше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"/>
          <p:cNvSpPr/>
          <p:nvPr/>
        </p:nvSpPr>
        <p:spPr>
          <a:xfrm>
            <a:off x="2266920" y="2852640"/>
            <a:ext cx="45720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Ребенок может слышать музыку еще в утробе матери и успокаиваться под ее зв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3132000" y="3932280"/>
            <a:ext cx="2448000" cy="172872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Дата 1"/>
          <p:cNvSpPr/>
          <p:nvPr/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Book Antiqua"/>
              </a:rPr>
              <a:t>16.3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"/>
          <p:cNvSpPr/>
          <p:nvPr/>
        </p:nvSpPr>
        <p:spPr>
          <a:xfrm>
            <a:off x="684360" y="512640"/>
            <a:ext cx="741672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ДЕТЯМ возбудимым, беспокойным полезны мелодии в медленном темпе — «адажио», «анданте». Такими бывают обычно вторые части классических сонат, инструментальных концертов. Ни в коем случае нельзя давать маленьким детям слушать музыку через наушники. Наши уши природой приспособлены для рассеянного звука. От направленного звука незрелый мозг может получить акустическую трав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3203640" y="2852640"/>
            <a:ext cx="2735280" cy="360072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2T07:01:36Z</dcterms:modified>
  <cp:revision>3</cp:revision>
  <dc:subject/>
  <dc:title>Слайд 1</dc:title>
</cp:coreProperties>
</file>