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FA5C-D626-4EA2-9557-8E755911A1D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кита в музы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да ведут нас три ки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B844-D6C4-431A-BEDD-3D1F48AA50D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ес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сня приведёт нас в оп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 – музыкальный спектакль, где артисты по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ют  в опере: солисты, хор, оркестр, управляет дирижё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1B48-C484-40BE-9E10-66E241D57AE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а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нец приведёт нас в ба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ет – это музыкальный спектакль, где артисты танцу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алете участвуют танцоры, оркестр, управляет дирижё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D6C5-652F-4413-89E8-123903FA977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а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нец приведёт нас в оп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 – это музыкальный спектакль, где артисты по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ере участвуют солисты, хор, оркестр. Управляет дирижё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CDC1-CA3E-4EE7-88BB-7AD5A6FCBA5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Мар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ш приведёт нас в симфо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фония – это крупное музыкальное произведение в 4-х частях для симфонического оркес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A2AC-2207-4A04-AD01-BA1A1B2AE9D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Мар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ш приведёт нас в ба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ет – это музыкальный спектакль, где артисты танцу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алете участвуют танцоры, оркестр, управляет дирижё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57AB-3853-4551-A8EF-0ACC85E618C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Три кита встречаются в симфонии, опере и бале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мфонии песни, которые никто не поёт, танцы, которые никто не танцует, марши, которые никто не марширу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алете танцы танцуют, под марши маршируют, песни почти никогда не по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ере песни всегда поют, танцы танцуют, под марши марширу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2035-7F71-4A0C-8AB0-56CE98E2B09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C5E5-4810-47EE-847E-11295E2CD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4228-E87E-4EAD-94D1-5128EB7C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D44B-EC0A-408F-8E92-FF5B2F0A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8CDC-5C8C-461A-84A3-9828049EB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34CE-E4EE-4D52-A6F5-124571CC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63C0-6E35-4B8A-A884-82DE772B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48E0-B0FB-48AC-8E28-10EEF427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CBB2-140C-4F9A-9E1B-5154EDF7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3009-9123-47FA-A4BE-D61FEEEC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3907-B655-44D9-BB63-3519F786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59D1-E9BA-4D23-B016-EAA1B8DD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D4BC-D9FA-43DE-A452-A57C5539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D445-915F-47B3-AC87-A116DA4B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455D-505D-4D25-9A24-21418F0A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82AD-9786-4A08-AADB-CF79AE85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2FB1-6C86-4545-8448-8280A102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3BA6-6DFD-4CAF-B4D3-C383640D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D591-67FF-4669-891B-56DA3E06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9DED-9334-4254-A414-98EEFF51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5863-08D0-4938-94D3-D34B6582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BF86-5046-4A10-B81D-891D4C15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93D0-F872-4ED8-B5B1-4240011A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6AC9-60EF-41B0-AB21-C70F0C41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6855-E9FA-47C5-A9D3-0FBBCD45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4C46-4744-495C-BE36-BCD9BE30E8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38E2-6C17-47F9-B2EB-4B38C270C7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ри кита в музык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уда ведут нас три кит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5" descr="image13931[1]"/>
          <p:cNvPicPr/>
          <p:nvPr/>
        </p:nvPicPr>
        <p:blipFill>
          <a:blip r:embed="rId1"/>
          <a:stretch/>
        </p:blipFill>
        <p:spPr>
          <a:xfrm>
            <a:off x="324000" y="4797360"/>
            <a:ext cx="2958840" cy="1727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HK4O4CAJA90U3CA7ORIBUCAJEC4MACATJYVERCACG9JZACAFX88KOCABAHM4BCA454TE8CAT9R9NUCAELL8BWCAC6NMQZCA4LL6BLCAYNCAGNCA1XDXYBCAVSOCQOCASC4IV5CAFXC7TACAQ9O1D9CA6O9BHU"/>
          <p:cNvPicPr/>
          <p:nvPr/>
        </p:nvPicPr>
        <p:blipFill>
          <a:blip r:embed="rId2"/>
          <a:stretch/>
        </p:blipFill>
        <p:spPr>
          <a:xfrm>
            <a:off x="7236000" y="189000"/>
            <a:ext cx="1625400" cy="13334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есн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сня приведёт нас в опер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ера – музыкальный спектакль, где артисты поют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частвуют  в опере: солисты, хор, оркестр, управляет дирижё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4" descr="O8IA7CAKY0U00CAEB6JVUCAVDUIZVCAW44JAQCAP06QA3CAXCRHRMCATPFEA7CAKVT987CAJ8EXTQCAGU9AP0CAPLCW11CAQRXLSVCA2OFITBCAKAQ2NKCAVC1Y0MCA0H3SISCAHBOA3GCA7L2FUTCA3XPR15"/>
          <p:cNvPicPr/>
          <p:nvPr/>
        </p:nvPicPr>
        <p:blipFill>
          <a:blip r:embed="rId1"/>
          <a:stretch/>
        </p:blipFill>
        <p:spPr>
          <a:xfrm>
            <a:off x="5651640" y="4508640"/>
            <a:ext cx="2449440" cy="108252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анец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анец приведёт нас в бал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алет – это музыкальный спектакль, где артисты танцую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балете участвуют танцоры, оркестр, управляет дирижё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5" descr="is"/>
          <p:cNvPicPr/>
          <p:nvPr/>
        </p:nvPicPr>
        <p:blipFill>
          <a:blip r:embed="rId1"/>
          <a:stretch/>
        </p:blipFill>
        <p:spPr>
          <a:xfrm>
            <a:off x="6156360" y="4724280"/>
            <a:ext cx="1871640" cy="13687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анец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анец приведёт нас в опер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ера – это музыкальный спектакль, где артисты пою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опере участвуют солисты, хор, оркестр. Управляет дирижё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ар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рш приведёт нас в симфони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имфония – это крупное музыкальное произведение в 4-х частях для симфонического оркестр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ар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рш приведёт нас в бал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алет – это музыкальный спектакль, где артисты танцую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балете участвуют танцоры, оркестр, управляет дирижё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4" descr="W2P2GCAS6F0URCA7MR1A7CAZRBEEBCADE8MN6CAKBF2TICASO0QQHCA9JO6XLCAH0J64KCA2FIG7QCATWWAJOCAZ6XXQRCAHH0AHCCAERI183CA283P3OCAFVTQSJCA94YC3TCAXTE3JQCAM8G71UCARZU2RN"/>
          <p:cNvPicPr/>
          <p:nvPr/>
        </p:nvPicPr>
        <p:blipFill>
          <a:blip r:embed="rId1"/>
          <a:stretch/>
        </p:blipFill>
        <p:spPr>
          <a:xfrm>
            <a:off x="5724360" y="4869000"/>
            <a:ext cx="1170000" cy="117000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508880" cy="13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Три кита встречаются в симфонии, опере и балет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симфонии песни, которые никто не поёт, танцы, которые никто не танцует, марши, которые никто не марширует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балете танцы танцуют, под марши маршируют, песни почти никогда не поют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опере песни всегда поют, танцы танцуют, под марши марширую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4" descr="i[3]"/>
          <p:cNvPicPr/>
          <p:nvPr/>
        </p:nvPicPr>
        <p:blipFill>
          <a:blip r:embed="rId1"/>
          <a:stretch/>
        </p:blipFill>
        <p:spPr>
          <a:xfrm>
            <a:off x="6732720" y="5013360"/>
            <a:ext cx="1655640" cy="129528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15:46:44Z</dcterms:created>
  <dc:creator>11</dc:creator>
  <dc:description/>
  <dc:language>en-US</dc:language>
  <cp:lastModifiedBy>LEGION</cp:lastModifiedBy>
  <dcterms:modified xsi:type="dcterms:W3CDTF">2015-04-02T07:02:41Z</dcterms:modified>
  <cp:revision>6</cp:revision>
  <dc:subject/>
  <dc:title>Три кита в музыке</dc:title>
</cp:coreProperties>
</file>