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80BC-A933-47B0-8445-E76725FCE7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ита в му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едут нас три ки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1F9D-1FD3-4B88-BC62-15AE4FB0416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с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ня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музыкальный спектакль, где артисты по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 в опере: солисты, хор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B004-9C7C-42A3-ADC7-7F64F5C223E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3D27-A8BB-40E5-87D5-5F7F798F1B1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это музыкальный спектакль, где артисты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участвуют солисты, хор, оркестр.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D2D2-17FD-4AB9-A89D-B11F783C6C9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симф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7F7F-BE91-4405-BFCE-88993C02AF3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B2F7-2628-4735-B5AB-2F712EA5B67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Три кита встречаются в симфонии, опере и бал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танцы танцуют, под марши маршируют, песни почти никогда не по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песни всегда поют, танцы танцуют, под марши марш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46E2-879F-4433-A2AA-A45E0E1651B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2CD-5EB6-48E3-B92C-869529CE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158-C467-4CF1-A13D-FAAAC2CB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2DA-D0AB-42E8-92FB-9C6CCFE7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687-43CD-44D6-9ADE-DDEE53F9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433F-8D02-492E-B396-419D46BA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53DF-73BF-435B-B1DC-A2B869F9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3D95-07F3-4819-98B8-CF389A71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9278-FAB1-420C-85CF-235B27E9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2765-ED46-47A0-A4A9-EF49977F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6AC7-4D65-4951-BE06-85072C3F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3512-F426-43DB-B011-7D9F99AE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D07-1CCA-41CF-B43C-E1613353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411D-52D6-489E-BEE1-D854D4A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879C-B8BB-4E6B-9AA4-FA24F4FD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726F-CEAF-46D2-BD74-DABC26BD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808C-D1D2-4D10-870F-BBFB551C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CDD4-AD2F-4D6B-87FC-01BED69D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A97-7861-42C1-8782-E302E68F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181-E8D4-4972-834A-5613FEAF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9E2-0E7E-4C7C-AC90-5AAFBA5C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9B8-4EC4-4D05-AECE-6BFE31AF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A4C-5E44-4BED-9766-03D16022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7CF-75A5-4DA6-AC90-4B0ABB85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763-5590-4495-9E91-DD7F5C8D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B527-3A09-4168-A4B7-7ADF44F594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3B04-8C80-453D-B761-6F96D24A05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ри кита в музы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да ведут нас три кит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image13931[1]"/>
          <p:cNvPicPr/>
          <p:nvPr/>
        </p:nvPicPr>
        <p:blipFill>
          <a:blip r:embed="rId1"/>
          <a:stretch/>
        </p:blipFill>
        <p:spPr>
          <a:xfrm>
            <a:off x="324000" y="4797360"/>
            <a:ext cx="2958840" cy="1727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K4O4CAJA90U3CA7ORIBUCAJEC4MACATJYVERCACG9JZACAFX88KOCABAHM4BCA454TE8CAT9R9NUCAELL8BWCAC6NMQZCA4LL6BLCAYNCAGNCA1XDXYBCAVSOCQOCASC4IV5CAFXC7TACAQ9O1D9CA6O9BHU"/>
          <p:cNvPicPr/>
          <p:nvPr/>
        </p:nvPicPr>
        <p:blipFill>
          <a:blip r:embed="rId2"/>
          <a:stretch/>
        </p:blipFill>
        <p:spPr>
          <a:xfrm>
            <a:off x="7236000" y="189000"/>
            <a:ext cx="1625400" cy="1333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сня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музыкальный спектакль, где артисты пою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аствуют  в опере: солисты, хор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O8IA7CAKY0U00CAEB6JVUCAVDUIZVCAW44JAQCAP06QA3CAXCRHRMCATPFEA7CAKVT987CAJ8EXTQCAGU9AP0CAPLCW11CAQRXLSVCA2OFITBCAKAQ2NKCAVC1Y0MCA0H3SISCAHBOA3GCA7L2FUTCA3XPR15"/>
          <p:cNvPicPr/>
          <p:nvPr/>
        </p:nvPicPr>
        <p:blipFill>
          <a:blip r:embed="rId1"/>
          <a:stretch/>
        </p:blipFill>
        <p:spPr>
          <a:xfrm>
            <a:off x="5651640" y="4508640"/>
            <a:ext cx="2449440" cy="10825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is"/>
          <p:cNvPicPr/>
          <p:nvPr/>
        </p:nvPicPr>
        <p:blipFill>
          <a:blip r:embed="rId1"/>
          <a:stretch/>
        </p:blipFill>
        <p:spPr>
          <a:xfrm>
            <a:off x="6156360" y="4724280"/>
            <a:ext cx="1871640" cy="1368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это музыкальный спектакль, где артисты по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пере участвуют солисты, хор, оркестр.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симфо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W2P2GCAS6F0URCA7MR1A7CAZRBEEBCADE8MN6CAKBF2TICASO0QQHCA9JO6XLCAH0J64KCA2FIG7QCATWWAJOCAZ6XXQRCAHH0AHCCAERI183CA283P3OCAFVTQSJCA94YC3TCAXTE3JQCAM8G71UCARZU2RN"/>
          <p:cNvPicPr/>
          <p:nvPr/>
        </p:nvPicPr>
        <p:blipFill>
          <a:blip r:embed="rId1"/>
          <a:stretch/>
        </p:blipFill>
        <p:spPr>
          <a:xfrm>
            <a:off x="5724360" y="486900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0888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ри кита встречаются в симфонии, опере и бале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балете танцы танцуют, под марши маршируют, песни почти никогда не пою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опере песни всегда поют, танцы танцуют, под марши марширу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i[3]"/>
          <p:cNvPicPr/>
          <p:nvPr/>
        </p:nvPicPr>
        <p:blipFill>
          <a:blip r:embed="rId1"/>
          <a:stretch/>
        </p:blipFill>
        <p:spPr>
          <a:xfrm>
            <a:off x="6732720" y="5013360"/>
            <a:ext cx="165564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46:44Z</dcterms:created>
  <dc:creator>11</dc:creator>
  <dc:description/>
  <dc:language>en-US</dc:language>
  <cp:lastModifiedBy>LEGION</cp:lastModifiedBy>
  <dcterms:modified xsi:type="dcterms:W3CDTF">2015-04-02T07:02:41Z</dcterms:modified>
  <cp:revision>6</cp:revision>
  <dc:subject/>
  <dc:title>Три кита в музыке</dc:title>
</cp:coreProperties>
</file>