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ECBE-0D62-4B9E-B0CF-D0AC948FEC1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кита в му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ведут нас три ки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AF9A-60F6-44B1-B1A7-7BDE76C35D6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с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сня приведёт нас в оп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 – музыкальный спектакль, где артисты по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ют  в опере: солисты, хор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E2D2-B49F-451C-ACC9-66FBAFEA9FE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ец приведёт нас в ба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ет – это музыкальный спектакль, где артисты танц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участвуют танцоры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D5B6-5D14-4775-B268-37B1E4EF1F2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ец приведёт нас в оп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 – это музыкальный спектакль, где артисты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участвуют солисты, хор, оркестр.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769E-7E1D-4BE3-BA07-72117D73ACF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ш приведёт нас в симфо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фония – это крупное музыкальное произведение в 4-х частях для симфонического орке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04FD-6C44-4AA8-8B8C-8361DA144F9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ш приведёт нас в ба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ет – это музыкальный спектакль, где артисты танц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участвуют танцоры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324B-2883-464C-A553-C9E93CB6385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Три кита встречаются в симфонии, опере и бал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мфонии песни, которые никто не поёт, танцы, которые никто не танцует, марши, которые никто не марширу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танцы танцуют, под марши маршируют, песни почти никогда не по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песни всегда поют, танцы танцуют, под марши маршир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CD01-A523-4E04-9624-81DD94935BB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940-4608-4A67-80B7-C930318C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84F-B118-4785-B5B8-407FDA7F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8D1-02BF-4F80-B8DB-67CE048F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966-3EF5-4F37-A42F-96BC391F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4F3C-F62F-4D8E-851C-DD9B5648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22A1-8190-411B-B68A-33B6E93D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40F0-E211-4E85-A86A-9ED6DF8E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DC07-51FA-448C-9610-D2F60BFF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AABA-B757-4141-878F-AC11F607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8AA4-26F5-43C9-8409-D8153F87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270C-9A33-46B7-8BF2-F64F4ADE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5EA-72F2-4714-8F1E-4E37F1BC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0DAF-4D67-44BF-8BDC-4369CA8B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79CC-DB13-442D-9F82-B272ED08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68A1-906C-4ADC-8EBB-88E795CA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C499-2FF3-4D7D-8B4E-3418BB44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3F7C-2EA5-476F-AED5-AFAC54F8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DBF-612E-49A6-94CB-8A5A2420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C7C-3FAD-47BC-9F76-7FA188EB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B7F-4F5D-42CA-BA8E-488E8CF8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46A-4427-4905-B4D6-F16DB0C2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AB2-2FAE-438A-8AB7-AE03FF0B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758-520E-488E-86F2-927519CD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9FE-311C-4C07-AC44-D12C10B3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4215-460D-483C-A109-320DC938DB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3255-3878-4807-9E91-31CD2BCF6B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ри кита в музык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да ведут нас три кит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5" descr="image13931[1]"/>
          <p:cNvPicPr/>
          <p:nvPr/>
        </p:nvPicPr>
        <p:blipFill>
          <a:blip r:embed="rId1"/>
          <a:stretch/>
        </p:blipFill>
        <p:spPr>
          <a:xfrm>
            <a:off x="324000" y="4797360"/>
            <a:ext cx="2958840" cy="1727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HK4O4CAJA90U3CA7ORIBUCAJEC4MACATJYVERCACG9JZACAFX88KOCABAHM4BCA454TE8CAT9R9NUCAELL8BWCAC6NMQZCA4LL6BLCAYNCAGNCA1XDXYBCAVSOCQOCASC4IV5CAFXC7TACAQ9O1D9CA6O9BHU"/>
          <p:cNvPicPr/>
          <p:nvPr/>
        </p:nvPicPr>
        <p:blipFill>
          <a:blip r:embed="rId2"/>
          <a:stretch/>
        </p:blipFill>
        <p:spPr>
          <a:xfrm>
            <a:off x="7236000" y="189000"/>
            <a:ext cx="1625400" cy="1333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сня приведёт нас в оп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ера – музыкальный спектакль, где артисты поют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аствуют  в опере: солисты, хор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" descr="O8IA7CAKY0U00CAEB6JVUCAVDUIZVCAW44JAQCAP06QA3CAXCRHRMCATPFEA7CAKVT987CAJ8EXTQCAGU9AP0CAPLCW11CAQRXLSVCA2OFITBCAKAQ2NKCAVC1Y0MCA0H3SISCAHBOA3GCA7L2FUTCA3XPR15"/>
          <p:cNvPicPr/>
          <p:nvPr/>
        </p:nvPicPr>
        <p:blipFill>
          <a:blip r:embed="rId1"/>
          <a:stretch/>
        </p:blipFill>
        <p:spPr>
          <a:xfrm>
            <a:off x="5651640" y="4508640"/>
            <a:ext cx="2449440" cy="10825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нец приведёт нас в ба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лет – это музыкальный спектакль, где артисты танцу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лете участвуют танцоры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is"/>
          <p:cNvPicPr/>
          <p:nvPr/>
        </p:nvPicPr>
        <p:blipFill>
          <a:blip r:embed="rId1"/>
          <a:stretch/>
        </p:blipFill>
        <p:spPr>
          <a:xfrm>
            <a:off x="6156360" y="4724280"/>
            <a:ext cx="1871640" cy="1368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нец приведёт нас в оп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ера – это музыкальный спектакль, где артисты по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опере участвуют солисты, хор, оркестр.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ш приведёт нас в симфо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мфония – это крупное музыкальное произведение в 4-х частях для симфонического оркест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ш приведёт нас в ба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лет – это музыкальный спектакль, где артисты танцу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лете участвуют танцоры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W2P2GCAS6F0URCA7MR1A7CAZRBEEBCADE8MN6CAKBF2TICASO0QQHCA9JO6XLCAH0J64KCA2FIG7QCATWWAJOCAZ6XXQRCAHH0AHCCAERI183CA283P3OCAFVTQSJCA94YC3TCAXTE3JQCAM8G71UCARZU2RN"/>
          <p:cNvPicPr/>
          <p:nvPr/>
        </p:nvPicPr>
        <p:blipFill>
          <a:blip r:embed="rId1"/>
          <a:stretch/>
        </p:blipFill>
        <p:spPr>
          <a:xfrm>
            <a:off x="5724360" y="4869000"/>
            <a:ext cx="1170000" cy="117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50888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ри кита встречаются в симфонии, опере и бале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симфонии песни, которые никто не поёт, танцы, которые никто не танцует, марши, которые никто не маршируе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балете танцы танцуют, под марши маршируют, песни почти никогда не пою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опере песни всегда поют, танцы танцуют, под марши марширую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i[3]"/>
          <p:cNvPicPr/>
          <p:nvPr/>
        </p:nvPicPr>
        <p:blipFill>
          <a:blip r:embed="rId1"/>
          <a:stretch/>
        </p:blipFill>
        <p:spPr>
          <a:xfrm>
            <a:off x="6732720" y="5013360"/>
            <a:ext cx="165564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46:44Z</dcterms:created>
  <dc:creator>11</dc:creator>
  <dc:description/>
  <dc:language>en-US</dc:language>
  <cp:lastModifiedBy>LEGION</cp:lastModifiedBy>
  <dcterms:modified xsi:type="dcterms:W3CDTF">2015-04-02T07:02:41Z</dcterms:modified>
  <cp:revision>6</cp:revision>
  <dc:subject/>
  <dc:title>Три кита в музыке</dc:title>
</cp:coreProperties>
</file>