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FB1D-20B7-489D-8A8F-6038F6E9B0E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кита в му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ведут нас три ки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3ED7-C1C5-495D-B1D5-04AED8AD8A8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с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сня приведёт нас в оп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 – музыкальный спектакль, где артисты по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ют  в опере: солисты, хор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7608-D137-4DAC-A9EE-DA11F153831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ец приведёт нас в ба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ет – это музыкальный спектакль, где артисты танц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участвуют танцоры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0202-6242-482B-87FC-8EDEB202B61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ец приведёт нас в оп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 – это музыкальный спектакль, где артисты по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участвуют солисты, хор, оркестр.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07F1-2D37-4241-AC0C-3811B6A2D1E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ш приведёт нас в симфо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фония – это крупное музыкальное произведение в 4-х частях для симфонического орке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7C37-6CA6-42E9-B847-B8C7EC2D484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ш приведёт нас в ба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ет – это музыкальный спектакль, где артисты танц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участвуют танцоры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A210-1C3F-402F-91D6-98975ED509D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Три кита встречаются в симфонии, опере и бале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мфонии песни, которые никто не поёт, танцы, которые никто не танцует, марши, которые никто не марширу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танцы танцуют, под марши маршируют, песни почти никогда не по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песни всегда поют, танцы танцуют, под марши маршир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C982-A0C1-4DFB-8521-1B3444A9FBE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B4E6-8CCE-44DE-A51B-4834E7EF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EE6F-0AE2-4687-9A78-BC2D4D34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1D21-A71C-432E-A413-483302A7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378-F257-4971-B1B9-ADFCFD00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8F4F-3AF2-4D24-A7A9-A875A603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42F1-DD7D-4267-9EC3-43D6B612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EA31-0DBE-4DF4-A203-692FA05D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81B8-31E2-4231-A189-B0B81DC3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F4A0-B633-43C8-BEB3-C17D0E31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0505-7155-4069-A9AD-017E9D9C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6361-20E9-4377-A345-E3403AD7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8C2-9ED8-46AE-9ED1-639CF4B5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A561-0E6F-4D4E-954F-F04C9A4C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8227-95F4-480D-848B-B62F0BB2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0507-68B0-4295-B216-77EA4746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3ABD-B64C-48B7-9656-AE198417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9111-0393-4155-BDDC-22534237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5BE-D993-4730-A37C-8ADB0029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FE9-90A5-4C7B-8679-8AF808BF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FAA-7FF1-4463-9A5D-89C4A3BA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E00-8083-4D3C-B980-BF728431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27E0-34B0-4F2B-9EDB-260995F6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EAD3-E1ED-43DE-8341-540E0E4D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7DF-FA27-4D46-9AF0-52D3E5F1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51AE-B2B9-40D5-9E70-3F95DE080E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1FE2-EA7D-44C3-8AF3-4E8B7DDD17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ри кита в музык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уда ведут нас три кит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5" descr="image13931[1]"/>
          <p:cNvPicPr/>
          <p:nvPr/>
        </p:nvPicPr>
        <p:blipFill>
          <a:blip r:embed="rId1"/>
          <a:stretch/>
        </p:blipFill>
        <p:spPr>
          <a:xfrm>
            <a:off x="324000" y="4797360"/>
            <a:ext cx="2958840" cy="1727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HK4O4CAJA90U3CA7ORIBUCAJEC4MACATJYVERCACG9JZACAFX88KOCABAHM4BCA454TE8CAT9R9NUCAELL8BWCAC6NMQZCA4LL6BLCAYNCAGNCA1XDXYBCAVSOCQOCASC4IV5CAFXC7TACAQ9O1D9CA6O9BHU"/>
          <p:cNvPicPr/>
          <p:nvPr/>
        </p:nvPicPr>
        <p:blipFill>
          <a:blip r:embed="rId2"/>
          <a:stretch/>
        </p:blipFill>
        <p:spPr>
          <a:xfrm>
            <a:off x="7236000" y="189000"/>
            <a:ext cx="1625400" cy="1333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есн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сня приведёт нас в опе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ера – музыкальный спектакль, где артисты поют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аствуют  в опере: солисты, хор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4" descr="O8IA7CAKY0U00CAEB6JVUCAVDUIZVCAW44JAQCAP06QA3CAXCRHRMCATPFEA7CAKVT987CAJ8EXTQCAGU9AP0CAPLCW11CAQRXLSVCA2OFITBCAKAQ2NKCAVC1Y0MCA0H3SISCAHBOA3GCA7L2FUTCA3XPR15"/>
          <p:cNvPicPr/>
          <p:nvPr/>
        </p:nvPicPr>
        <p:blipFill>
          <a:blip r:embed="rId1"/>
          <a:stretch/>
        </p:blipFill>
        <p:spPr>
          <a:xfrm>
            <a:off x="5651640" y="4508640"/>
            <a:ext cx="2449440" cy="10825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нец приведёт нас в ба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лет – это музыкальный спектакль, где артисты танцу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балете участвуют танцоры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is"/>
          <p:cNvPicPr/>
          <p:nvPr/>
        </p:nvPicPr>
        <p:blipFill>
          <a:blip r:embed="rId1"/>
          <a:stretch/>
        </p:blipFill>
        <p:spPr>
          <a:xfrm>
            <a:off x="6156360" y="4724280"/>
            <a:ext cx="1871640" cy="1368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нец приведёт нас в опе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ера – это музыкальный спектакль, где артисты по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опере участвуют солисты, хор, оркестр.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ш приведёт нас в симфо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мфония – это крупное музыкальное произведение в 4-х частях для симфонического оркест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ш приведёт нас в ба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лет – это музыкальный спектакль, где артисты танцу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балете участвуют танцоры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W2P2GCAS6F0URCA7MR1A7CAZRBEEBCADE8MN6CAKBF2TICASO0QQHCA9JO6XLCAH0J64KCA2FIG7QCATWWAJOCAZ6XXQRCAHH0AHCCAERI183CA283P3OCAFVTQSJCA94YC3TCAXTE3JQCAM8G71UCARZU2RN"/>
          <p:cNvPicPr/>
          <p:nvPr/>
        </p:nvPicPr>
        <p:blipFill>
          <a:blip r:embed="rId1"/>
          <a:stretch/>
        </p:blipFill>
        <p:spPr>
          <a:xfrm>
            <a:off x="5724360" y="4869000"/>
            <a:ext cx="1170000" cy="117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50888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Три кита встречаются в симфонии, опере и бале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симфонии песни, которые никто не поёт, танцы, которые никто не танцует, марши, которые никто не маршируе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балете танцы танцуют, под марши маршируют, песни почти никогда не пою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опере песни всегда поют, танцы танцуют, под марши марширую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i[3]"/>
          <p:cNvPicPr/>
          <p:nvPr/>
        </p:nvPicPr>
        <p:blipFill>
          <a:blip r:embed="rId1"/>
          <a:stretch/>
        </p:blipFill>
        <p:spPr>
          <a:xfrm>
            <a:off x="6732720" y="5013360"/>
            <a:ext cx="1655640" cy="12952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46:44Z</dcterms:created>
  <dc:creator>11</dc:creator>
  <dc:description/>
  <dc:language>en-US</dc:language>
  <cp:lastModifiedBy>LEGION</cp:lastModifiedBy>
  <dcterms:modified xsi:type="dcterms:W3CDTF">2015-04-02T07:02:41Z</dcterms:modified>
  <cp:revision>6</cp:revision>
  <dc:subject/>
  <dc:title>Три кита в музыке</dc:title>
</cp:coreProperties>
</file>