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9314-1C68-46AB-9DB5-A0521D1AB8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ита в му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едут нас три ки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96CA-85C7-4FCC-8E8F-53FCF30FD86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с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ня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музыкальный спектакль, где артисты по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 в опере: солисты, хор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D852-DA9C-42A9-BA80-9D01E79B486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3C9E-2EEF-4932-A1F4-BBC055B18B1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это музыкальный спектакль, где артисты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участвуют солисты, хор, оркестр.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6B69-35A5-4A28-97DF-EE9EB4BEEE4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симф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B067-CF67-4EBB-9E2B-DB4C3A84B09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81B2-E157-41F4-A50C-5125672943C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Три кита встречаются в симфонии, опере и ба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танцы танцуют, под марши маршируют, песни почти никогда не по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песни всегда поют, танцы танцуют, под марши марш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3DC7-711C-49EC-9FE4-770C8E04F50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FB4-51D4-49B2-B420-8C91E47E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112-CBF0-46E1-B63B-68876F16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F4E-6168-4CCB-B1A2-B08C6258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E6A-E52B-445A-93C6-886CA675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D34E-28F9-4E01-B443-49FAD65C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8E15-C155-474F-8091-E8D1825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8204-AFB4-414A-A468-53CC2CD8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7FE5-0B67-4E89-8596-50664819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21B8-F975-4CA6-9C4D-5A418528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73FB-082E-4895-AD2D-C51B9547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DC46-7DFF-466E-8723-61997B67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3BB-03B6-4440-865C-C62C3233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DA6D-F58D-4935-B518-57A73E0D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27E5-500B-4501-805B-DC214A3D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5BC2-3FEA-43DE-BC99-B3A5102B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0813-45E1-4EE8-91B1-7A2E100A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F3B9-419C-4FBF-8D42-041E3B0F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D2D-868D-4C1A-978C-37D48E6E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CFD-D663-4D35-95A4-939148FE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EFE-8DC2-42BA-82D0-7374ED02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E1D-0247-4540-A8D1-B948DE9B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63C-936B-4A9E-91A9-4F869CEF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9F4-6843-4DCA-BEAD-67500322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34A-1551-46CB-A4B1-F7B80B5E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9DAB-419B-42E8-AD47-079CDF1FA1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5A90-6EFA-4353-80EC-A899910D62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ри кита в музы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а ведут нас три ки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age13931[1]"/>
          <p:cNvPicPr/>
          <p:nvPr/>
        </p:nvPicPr>
        <p:blipFill>
          <a:blip r:embed="rId1"/>
          <a:stretch/>
        </p:blipFill>
        <p:spPr>
          <a:xfrm>
            <a:off x="324000" y="4797360"/>
            <a:ext cx="29588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K4O4CAJA90U3CA7ORIBUCAJEC4MACATJYVERCACG9JZACAFX88KOCABAHM4BCA454TE8CAT9R9NUCAELL8BWCAC6NMQZCA4LL6BLCAYNCAGNCA1XDXYBCAVSOCQOCASC4IV5CAFXC7TACAQ9O1D9CA6O9BHU"/>
          <p:cNvPicPr/>
          <p:nvPr/>
        </p:nvPicPr>
        <p:blipFill>
          <a:blip r:embed="rId2"/>
          <a:stretch/>
        </p:blipFill>
        <p:spPr>
          <a:xfrm>
            <a:off x="7236000" y="189000"/>
            <a:ext cx="1625400" cy="1333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ня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музыкальный спектакль, где артисты пою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аствуют  в опере: солисты, хор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O8IA7CAKY0U00CAEB6JVUCAVDUIZVCAW44JAQCAP06QA3CAXCRHRMCATPFEA7CAKVT987CAJ8EXTQCAGU9AP0CAPLCW11CAQRXLSVCA2OFITBCAKAQ2NKCAVC1Y0MCA0H3SISCAHBOA3GCA7L2FUTCA3XPR15"/>
          <p:cNvPicPr/>
          <p:nvPr/>
        </p:nvPicPr>
        <p:blipFill>
          <a:blip r:embed="rId1"/>
          <a:stretch/>
        </p:blipFill>
        <p:spPr>
          <a:xfrm>
            <a:off x="5651640" y="4508640"/>
            <a:ext cx="2449440" cy="10825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is"/>
          <p:cNvPicPr/>
          <p:nvPr/>
        </p:nvPicPr>
        <p:blipFill>
          <a:blip r:embed="rId1"/>
          <a:stretch/>
        </p:blipFill>
        <p:spPr>
          <a:xfrm>
            <a:off x="6156360" y="4724280"/>
            <a:ext cx="187164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это музыкальный спектакль, где артисты по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пере участвуют солисты, хор, оркестр.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симфо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W2P2GCAS6F0URCA7MR1A7CAZRBEEBCADE8MN6CAKBF2TICASO0QQHCA9JO6XLCAH0J64KCA2FIG7QCATWWAJOCAZ6XXQRCAHH0AHCCAERI183CA283P3OCAFVTQSJCA94YC3TCAXTE3JQCAM8G71UCARZU2RN"/>
          <p:cNvPicPr/>
          <p:nvPr/>
        </p:nvPicPr>
        <p:blipFill>
          <a:blip r:embed="rId1"/>
          <a:stretch/>
        </p:blipFill>
        <p:spPr>
          <a:xfrm>
            <a:off x="5724360" y="486900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08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ри кита встречаются в симфонии, опере и бале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алете танцы танцуют, под марши маршируют, песни почти никогда не пою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опере песни всегда поют, танцы танцуют, под марши марширу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i[3]"/>
          <p:cNvPicPr/>
          <p:nvPr/>
        </p:nvPicPr>
        <p:blipFill>
          <a:blip r:embed="rId1"/>
          <a:stretch/>
        </p:blipFill>
        <p:spPr>
          <a:xfrm>
            <a:off x="6732720" y="5013360"/>
            <a:ext cx="16556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46:44Z</dcterms:created>
  <dc:creator>11</dc:creator>
  <dc:description/>
  <dc:language>en-US</dc:language>
  <cp:lastModifiedBy>LEGION</cp:lastModifiedBy>
  <dcterms:modified xsi:type="dcterms:W3CDTF">2015-04-02T07:02:41Z</dcterms:modified>
  <cp:revision>6</cp:revision>
  <dc:subject/>
  <dc:title>Три кита в музыке</dc:title>
</cp:coreProperties>
</file>