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F081-B609-4396-A579-957C89F1C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5E3B-6726-4DF5-87A9-A201EB7B559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37B2-0CD8-4A39-8179-FB9222339F0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Хэви - ме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592F-9F26-4AC1-A774-12FA02BB6DE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973-14C2-4856-8BF4-5B8A306E1EBE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9B2D-B774-40C6-B9D5-C8B1561AA52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C852-8ABF-4700-BD31-BF41ADA8790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8BCF-9CEE-4B18-B7A4-6452AF3A4D79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а и алеатор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9F23-00CA-4FF9-AED1-9FD84F2E389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 авангар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1" lang="ru-RU" sz="10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3DCC-7AA6-43EF-88C0-9D4B3E1EA6B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лассический музыкальный авангард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B72C-24CA-40DC-9F58-E121D09CB3F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jaz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287E-8DEF-458A-9C63-5F07F19AB6B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rock`n`roll</a:t>
            </a:r>
            <a:r>
              <a:rPr b="1" lang="ru-RU" sz="18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3764-483B-49F4-B2E4-E8F26312AD74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 музыкальная 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 и фолк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country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folk rock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AD62-3CDF-45E0-9921-5E56BBE935F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ок-оп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rock opera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1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048A-30B7-4275-957E-7E29E5D1282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musical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1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07F4-C485-4002-9483-3D9ABD4AA2A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glam rock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2330-B936-442C-BD45-E42EDC3CB030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 му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5FBF-3A48-4AE4-96B8-714550F99A9F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дёжная музыкаль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 вол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400" spc="-1" strike="noStrike">
                <a:solidFill>
                  <a:srgbClr val="33cc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840-CAE3-427D-8CB3-B23F5B0A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738-20E1-4917-A72F-22D1472F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9AC-EDA4-4EE2-BE37-8E33914B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491-9D9A-4500-B4D3-FEC9D3AB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6631-64B4-437A-AC8C-81E55EEC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1CD8-4409-4200-ADEC-979F0075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10BF-54B6-47A2-8A66-D686DC65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634B-60DF-455C-B426-18D3F728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B076-212F-47C3-83A2-08232EF8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492-FF11-4366-88F7-3829499E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8B68-AEE1-4339-A3CA-FA27628A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3D0-78EA-48B2-884B-2041A95C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F368-64CF-44EA-BB68-234DCAB6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9B61-A23B-4182-9A05-2F3438D2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2A92-1521-4AAE-A83D-6114742D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6E47-808E-4BA6-86E6-7CD480CB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04EB-33E5-4339-B416-A6540ED7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73C-106B-42B7-9315-A5AF8EC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A1E-E681-4E99-8863-9BBAA38B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F7C-DCF1-46E9-B8BA-1759171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101-8774-4F6D-BB3D-9BA447AE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EB9-0FFA-4722-82C9-89DA25CD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0EA6-FBBF-4E86-8FA7-4535C2A0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58B9-F0C8-4790-A07C-93DC98E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DE8A-C4ED-4FDE-AA37-1107C12FD2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72DD-026E-491A-8B60-BB661F05700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15640"/>
            <a:ext cx="723888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35280" y="1736280"/>
            <a:ext cx="7308720" cy="18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МОЛОДЁЖНАЯ МУЗЫКАЛЬНАЯ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КУЛЬТУР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763640" y="0"/>
            <a:ext cx="60469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униципальное образовательное учреждение</a:t>
            </a:r>
            <a:br>
              <a:rPr sz="1800"/>
            </a:b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реднего общего образования  «Москаленский лицей»</a:t>
            </a:r>
            <a:br>
              <a:rPr sz="1800"/>
            </a:b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Москаленского муниципального района Омской област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040360" y="4686480"/>
            <a:ext cx="41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Авторы работы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оробьёв Н., Тебенко О., Коротина О., Баранов Е. (учащиеся 8 класса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уководитель: Баранова т.А.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учитель музык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524720" y="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eaeaea"/>
                </a:solidFill>
                <a:latin typeface="Times New Roman"/>
              </a:rPr>
              <a:t>Приложение </a:t>
            </a: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987640" y="5997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Хэви - мета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heavy met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728720" y="508464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Само словосочетани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«хэви - метал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heavy metal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тяжёлый металл») возникло задолго до того, как появилось в современной рок-музыке, и первоначально употреблялось байкерам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6" name="Picture 5" descr="IMG_0013"/>
          <p:cNvPicPr/>
          <p:nvPr/>
        </p:nvPicPr>
        <p:blipFill>
          <a:blip r:embed="rId1"/>
          <a:stretch/>
        </p:blipFill>
        <p:spPr>
          <a:xfrm>
            <a:off x="3851280" y="1989000"/>
            <a:ext cx="3456000" cy="28242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Поп-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pop music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5661000"/>
            <a:ext cx="73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п-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происходит от сокращённого словосочетания «популярная музыка»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popular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Picture 5" descr="IMG_0014"/>
          <p:cNvPicPr/>
          <p:nvPr/>
        </p:nvPicPr>
        <p:blipFill>
          <a:blip r:embed="rId1"/>
          <a:stretch/>
        </p:blipFill>
        <p:spPr>
          <a:xfrm>
            <a:off x="5508720" y="2349360"/>
            <a:ext cx="3240000" cy="24973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2" name="Picture 6" descr="IMG_0015"/>
          <p:cNvPicPr/>
          <p:nvPr/>
        </p:nvPicPr>
        <p:blipFill>
          <a:blip r:embed="rId2"/>
          <a:stretch/>
        </p:blipFill>
        <p:spPr>
          <a:xfrm>
            <a:off x="2050920" y="1844640"/>
            <a:ext cx="2421000" cy="26654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475920"/>
            <a:ext cx="73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эп </a:t>
            </a: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rap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800360" y="551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эп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p)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ритмическая американская поэзия». Родина рэпа - бедный район Нью-Йорка – Южный Бронкс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7" name="Picture 5" descr="Копия IMG_0017"/>
          <p:cNvPicPr/>
          <p:nvPr/>
        </p:nvPicPr>
        <p:blipFill>
          <a:blip r:embed="rId1"/>
          <a:stretch/>
        </p:blipFill>
        <p:spPr>
          <a:xfrm>
            <a:off x="6443640" y="1773360"/>
            <a:ext cx="2241720" cy="3024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78" name="Picture 6" descr="IMG_0017"/>
          <p:cNvPicPr/>
          <p:nvPr/>
        </p:nvPicPr>
        <p:blipFill>
          <a:blip r:embed="rId2"/>
          <a:stretch/>
        </p:blipFill>
        <p:spPr>
          <a:xfrm>
            <a:off x="2195640" y="1484280"/>
            <a:ext cx="2952720" cy="2855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280" y="549360"/>
            <a:ext cx="7380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ейв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ra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На рубеже 70-80-х гг. возникло новое явление современной культуры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рейв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r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«восторгаться»,«бредить»,«неистовствовать»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3" name="Picture 5" descr="IMG_0018"/>
          <p:cNvPicPr/>
          <p:nvPr/>
        </p:nvPicPr>
        <p:blipFill>
          <a:blip r:embed="rId1"/>
          <a:stretch/>
        </p:blipFill>
        <p:spPr>
          <a:xfrm>
            <a:off x="2050920" y="1916280"/>
            <a:ext cx="3121200" cy="21747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84" name="Picture 6" descr="Копия IMG_0018"/>
          <p:cNvPicPr/>
          <p:nvPr/>
        </p:nvPicPr>
        <p:blipFill>
          <a:blip r:embed="rId2"/>
          <a:stretch/>
        </p:blipFill>
        <p:spPr>
          <a:xfrm>
            <a:off x="5724360" y="2565360"/>
            <a:ext cx="3022920" cy="2171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476280"/>
            <a:ext cx="7380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Альтернативн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lternativ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70200" y="5373720"/>
            <a:ext cx="727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льтернативной музыко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или альтернативой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ternati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один из двух») называют совокупность течений, существовавших приблизительно с 1985 по 1995г.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9" name="Picture 5" descr="IMG_0019"/>
          <p:cNvPicPr/>
          <p:nvPr/>
        </p:nvPicPr>
        <p:blipFill>
          <a:blip r:embed="rId1"/>
          <a:stretch/>
        </p:blipFill>
        <p:spPr>
          <a:xfrm>
            <a:off x="6732720" y="2060640"/>
            <a:ext cx="1581120" cy="2808360"/>
          </a:xfrm>
          <a:prstGeom prst="rect">
            <a:avLst/>
          </a:prstGeom>
          <a:ln w="572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0" name="Picture 6" descr="Копия IMG_0019"/>
          <p:cNvPicPr/>
          <p:nvPr/>
        </p:nvPicPr>
        <p:blipFill>
          <a:blip r:embed="rId2"/>
          <a:stretch/>
        </p:blipFill>
        <p:spPr>
          <a:xfrm>
            <a:off x="2195640" y="1844640"/>
            <a:ext cx="1868400" cy="2879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835280" y="475920"/>
            <a:ext cx="730872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Times New Roman"/>
              </a:rPr>
              <a:t>Сонорика и алеатори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95640" y="1413000"/>
            <a:ext cx="633564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 алеат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lea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 - «игральная кость»,«жребий», «случайность» основан на том, что композитор позволяет музыканту в процессе исполнения свободно менять местами музыкальные фразы и даже части сочинения, превращая таким образом исполнителя в соавтор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етод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сонорики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onor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- «звонкий», «шумный») - это экспериментирование в поисках новых звуковых красок. В сонорной композиции главная звуковая единица - не отдельный звук (тон), а сонор - комбинация звуков разной высоты и тембра. В отличие от общеприятных звуковых сочетаний – аккордов - в соноре нельзя не только определить расстояние между звуками, но и распознать на слух каждый из них по отдельности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63280" y="404280"/>
            <a:ext cx="738036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узыкальный авангард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avant-garde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835280" y="5300640"/>
            <a:ext cx="7308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Поняти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льный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авангард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avant-gard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передовой отряд»)появилось в классической музыке вскоре после Второй мировой войны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9" name="Picture 5" descr="IMG_0020"/>
          <p:cNvPicPr/>
          <p:nvPr/>
        </p:nvPicPr>
        <p:blipFill>
          <a:blip r:embed="rId1"/>
          <a:stretch/>
        </p:blipFill>
        <p:spPr>
          <a:xfrm>
            <a:off x="4211640" y="2492280"/>
            <a:ext cx="2536920" cy="24307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73087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25120" y="333000"/>
            <a:ext cx="74185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лассический музыкальный авангард в России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763640" y="1557360"/>
            <a:ext cx="406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 числу авангардных направлений и методов в России относят всё, что было освоено западной музыкальной культурой: серийную технику, неофольклоризм, алеаторику, сонорику, минимализм, пуантилизм.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408720" y="1700280"/>
            <a:ext cx="27352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Подобно западным мастерам, композиторы русского авангарда занимались музыкально-теоретическими проблемами. Ныне достижения российского авангарда признаны во всём мире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6" descr="Копия IMG_0021"/>
          <p:cNvPicPr/>
          <p:nvPr/>
        </p:nvPicPr>
        <p:blipFill>
          <a:blip r:embed="rId1"/>
          <a:stretch/>
        </p:blipFill>
        <p:spPr>
          <a:xfrm>
            <a:off x="2484360" y="4581360"/>
            <a:ext cx="2567160" cy="2040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"/>
          <p:cNvSpPr/>
          <p:nvPr/>
        </p:nvSpPr>
        <p:spPr>
          <a:xfrm>
            <a:off x="2411280" y="0"/>
            <a:ext cx="64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2771640" y="692280"/>
            <a:ext cx="5640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Джаз 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jaz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12" descr="IMG_0002"/>
          <p:cNvPicPr/>
          <p:nvPr/>
        </p:nvPicPr>
        <p:blipFill>
          <a:blip r:embed="rId1"/>
          <a:stretch/>
        </p:blipFill>
        <p:spPr>
          <a:xfrm>
            <a:off x="2124000" y="1628640"/>
            <a:ext cx="2881440" cy="223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18" name="Picture 13" descr="IMG_0004"/>
          <p:cNvPicPr/>
          <p:nvPr/>
        </p:nvPicPr>
        <p:blipFill>
          <a:blip r:embed="rId2"/>
          <a:stretch/>
        </p:blipFill>
        <p:spPr>
          <a:xfrm>
            <a:off x="5508720" y="2133720"/>
            <a:ext cx="3241440" cy="22190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19" name="Text Box 14"/>
          <p:cNvSpPr/>
          <p:nvPr/>
        </p:nvSpPr>
        <p:spPr>
          <a:xfrm>
            <a:off x="2556000" y="494172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Джаз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- род увеселительной музыки преимущественно танцевального характер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В основе джаза лежит импровизац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57520" y="47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Рок-н-ролл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33cc33"/>
                </a:solidFill>
                <a:latin typeface="Times New Roman"/>
              </a:rPr>
              <a:t>rock`n`roll</a:t>
            </a:r>
            <a:r>
              <a:rPr b="1" lang="ru-RU" sz="36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Picture 4" descr="IMG_0006"/>
          <p:cNvPicPr/>
          <p:nvPr/>
        </p:nvPicPr>
        <p:blipFill>
          <a:blip r:embed="rId1"/>
          <a:stretch/>
        </p:blipFill>
        <p:spPr>
          <a:xfrm>
            <a:off x="5796000" y="2492280"/>
            <a:ext cx="3024000" cy="22590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24" name="Picture 5" descr="IMG_0005"/>
          <p:cNvPicPr/>
          <p:nvPr/>
        </p:nvPicPr>
        <p:blipFill>
          <a:blip r:embed="rId2"/>
          <a:stretch/>
        </p:blipFill>
        <p:spPr>
          <a:xfrm>
            <a:off x="2050920" y="2060640"/>
            <a:ext cx="3384720" cy="21700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2050920" y="508464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н-ролл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rock`n`roll, 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 rock and roll-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«раскачиваться и вращаться»)</a:t>
            </a:r>
            <a:r>
              <a:rPr b="0" lang="en-US" sz="2400" spc="-1" strike="noStrike">
                <a:solidFill>
                  <a:srgbClr val="33cc33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33cc33"/>
                </a:solidFill>
                <a:latin typeface="Arial"/>
              </a:rPr>
              <a:t> заимствованное из жаргона афроамериканцев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 музыкальная 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57520" y="620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Кантри-рок и фолк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country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folk rock</a:t>
            </a:r>
            <a:r>
              <a:rPr b="1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IMG_0007"/>
          <p:cNvPicPr/>
          <p:nvPr/>
        </p:nvPicPr>
        <p:blipFill>
          <a:blip r:embed="rId1"/>
          <a:stretch/>
        </p:blipFill>
        <p:spPr>
          <a:xfrm>
            <a:off x="2340000" y="2060640"/>
            <a:ext cx="2808360" cy="1950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0" name="Picture 5" descr="Копия IMG_0007"/>
          <p:cNvPicPr/>
          <p:nvPr/>
        </p:nvPicPr>
        <p:blipFill>
          <a:blip r:embed="rId2"/>
          <a:stretch/>
        </p:blipFill>
        <p:spPr>
          <a:xfrm>
            <a:off x="5796000" y="2565360"/>
            <a:ext cx="2879640" cy="190512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2411280" y="4724280"/>
            <a:ext cx="619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В основе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кантри-ро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country rock, o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country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музыка кантри» и «рок») лежит вокальная и инструментальная музыка сельских жителей, а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фолк-рока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folk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folk music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народная музыка» и «рок») -традиции городской песни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55640" y="549000"/>
            <a:ext cx="529740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Рок-опер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33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rock opera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340000" y="4581360"/>
            <a:ext cx="59752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Жанр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бъединил в себе черты рока и классической музыки. Однако в основе </a:t>
            </a:r>
            <a:r>
              <a:rPr b="1" lang="ru-RU" sz="2400" spc="-1" strike="noStrike">
                <a:solidFill>
                  <a:srgbClr val="33cc33"/>
                </a:solidFill>
                <a:latin typeface="Arial"/>
              </a:rPr>
              <a:t>рок-оперы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– рок-музыка. Её стилистика восходит к различным направлениям рока (что совершенно не исключает заимствований из классической музыки, джаза и т.д.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Рисунок 4" descr="лицей032.jpg"/>
          <p:cNvPicPr/>
          <p:nvPr/>
        </p:nvPicPr>
        <p:blipFill>
          <a:blip r:embed="rId1"/>
          <a:stretch/>
        </p:blipFill>
        <p:spPr>
          <a:xfrm>
            <a:off x="2124000" y="1916280"/>
            <a:ext cx="2592360" cy="21081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37" name="Рисунок 5" descr="лицей030.jpg"/>
          <p:cNvPicPr/>
          <p:nvPr/>
        </p:nvPicPr>
        <p:blipFill>
          <a:blip r:embed="rId2"/>
          <a:stretch/>
        </p:blipFill>
        <p:spPr>
          <a:xfrm>
            <a:off x="5724360" y="2421000"/>
            <a:ext cx="2592720" cy="21128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66800" y="-360"/>
            <a:ext cx="74772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57520" y="549360"/>
            <a:ext cx="7386480" cy="15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Мюзик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musical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4200" y="5445000"/>
            <a:ext cx="74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Термин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мюзикл»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,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от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usical comedy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«музыкальная комедия») придумали американцы, любящие экономить на словах.</a:t>
            </a: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Picture 5" descr="IMG_0009"/>
          <p:cNvPicPr/>
          <p:nvPr/>
        </p:nvPicPr>
        <p:blipFill>
          <a:blip r:embed="rId1"/>
          <a:stretch/>
        </p:blipFill>
        <p:spPr>
          <a:xfrm>
            <a:off x="2627280" y="1989000"/>
            <a:ext cx="1565280" cy="3240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3" name="Picture 6" descr="Копия IMG_0009"/>
          <p:cNvPicPr/>
          <p:nvPr/>
        </p:nvPicPr>
        <p:blipFill>
          <a:blip r:embed="rId2"/>
          <a:stretch/>
        </p:blipFill>
        <p:spPr>
          <a:xfrm>
            <a:off x="6372360" y="1989000"/>
            <a:ext cx="2320920" cy="33148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66800" y="0"/>
            <a:ext cx="7477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57520" y="333000"/>
            <a:ext cx="73864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Глэм-рок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glam rock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27280" y="52293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Глэм-рок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glam rock,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glamorous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«очаровательный», «обольстительный», «эффективный» и «рок»). Глэм возник в ответ на усложнение рок-музыки и появления «прогрессивного» рок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MG_0010"/>
          <p:cNvPicPr/>
          <p:nvPr/>
        </p:nvPicPr>
        <p:blipFill>
          <a:blip r:embed="rId1"/>
          <a:stretch/>
        </p:blipFill>
        <p:spPr>
          <a:xfrm>
            <a:off x="5580000" y="2276640"/>
            <a:ext cx="3024360" cy="28605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49" name="Picture 6" descr="Копия IMG_0010"/>
          <p:cNvPicPr/>
          <p:nvPr/>
        </p:nvPicPr>
        <p:blipFill>
          <a:blip r:embed="rId2"/>
          <a:stretch/>
        </p:blipFill>
        <p:spPr>
          <a:xfrm>
            <a:off x="2340000" y="1773360"/>
            <a:ext cx="214956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738036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63280" y="549000"/>
            <a:ext cx="738036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Этническая музык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27280" y="544500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Этническ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музыка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- это пёстрый мир жанров, стилей и форм, часто соединяющих элементы музыкальных традиций самых разных эпох и народов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4" name="Picture 5" descr="IMG_0011"/>
          <p:cNvPicPr/>
          <p:nvPr/>
        </p:nvPicPr>
        <p:blipFill>
          <a:blip r:embed="rId1"/>
          <a:stretch/>
        </p:blipFill>
        <p:spPr>
          <a:xfrm>
            <a:off x="6300720" y="2276640"/>
            <a:ext cx="1995480" cy="251928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55" name="Picture 6" descr="Копия IMG_0011"/>
          <p:cNvPicPr/>
          <p:nvPr/>
        </p:nvPicPr>
        <p:blipFill>
          <a:blip r:embed="rId2"/>
          <a:stretch/>
        </p:blipFill>
        <p:spPr>
          <a:xfrm>
            <a:off x="2124000" y="1557360"/>
            <a:ext cx="3529080" cy="256680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73803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Молодёжная музыкальная культур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7520" y="404640"/>
            <a:ext cx="73864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Times New Roman"/>
              </a:rPr>
              <a:t>«Новая волна»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new wave</a:t>
            </a:r>
            <a:r>
              <a:rPr b="0" lang="ru-RU" sz="2800" spc="-1" strike="noStrike">
                <a:solidFill>
                  <a:srgbClr val="33cc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835280" y="5516640"/>
            <a:ext cx="73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Музыкальное явление -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«новая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cc33"/>
                </a:solidFill>
                <a:latin typeface="Arial"/>
              </a:rPr>
              <a:t>волна» 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new wave</a:t>
            </a:r>
            <a:r>
              <a:rPr b="0" lang="ru-RU" sz="2000" spc="-1" strike="noStrike">
                <a:solidFill>
                  <a:srgbClr val="33cc33"/>
                </a:solidFill>
                <a:latin typeface="Arial"/>
              </a:rPr>
              <a:t>) возникло во второй половине 70-х г.г. и получило наибольшее развитие в Великобритании и США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0" name="Picture 5" descr="IMG_0012"/>
          <p:cNvPicPr/>
          <p:nvPr/>
        </p:nvPicPr>
        <p:blipFill>
          <a:blip r:embed="rId1"/>
          <a:stretch/>
        </p:blipFill>
        <p:spPr>
          <a:xfrm>
            <a:off x="6516720" y="2060640"/>
            <a:ext cx="2347920" cy="309564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pic>
        <p:nvPicPr>
          <p:cNvPr id="161" name="Picture 6" descr="Копия IMG_0012"/>
          <p:cNvPicPr/>
          <p:nvPr/>
        </p:nvPicPr>
        <p:blipFill>
          <a:blip r:embed="rId2"/>
          <a:stretch/>
        </p:blipFill>
        <p:spPr>
          <a:xfrm>
            <a:off x="2484360" y="1773360"/>
            <a:ext cx="1881360" cy="3384360"/>
          </a:xfrm>
          <a:prstGeom prst="rect">
            <a:avLst/>
          </a:prstGeom>
          <a:ln w="57240">
            <a:solidFill>
              <a:srgbClr val="33cc33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advTm="17000"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08:51:35Z</dcterms:created>
  <dc:creator>Юлия</dc:creator>
  <dc:description/>
  <dc:language>en-US</dc:language>
  <cp:lastModifiedBy>LEGION</cp:lastModifiedBy>
  <dcterms:modified xsi:type="dcterms:W3CDTF">2015-04-02T07:04:46Z</dcterms:modified>
  <cp:revision>18</cp:revision>
  <dc:subject/>
  <dc:title>Семь рекреационных мест Омской области</dc:title>
</cp:coreProperties>
</file>