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2D98-81C7-4BAB-A2A9-DC52AC010D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9E3D-E9FA-4825-94B3-13C615D873C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5D28-2CD7-49B3-97C9-ECD353335DF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Хэви - ме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heavy metal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Само словосочетание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«хэви - метал»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heavy metal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«тяжёлый металл») возникло задолго до того, как появилось в современной рок-музыке, и первоначально употреблялось байке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A229-DE82-4E71-9011-77132460C36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п-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pop music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Поп-музыка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pop music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) происходит от сокращённого словосочетания «популярная музыка»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popular music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)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2E09-2310-412C-8195-CA8EAE4ED77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эп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cc33"/>
                </a:solidFill>
                <a:latin typeface="Arial"/>
              </a:rPr>
              <a:t>r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Рэп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-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rap)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ритмическая американская поэзия». Родина рэпа - бедный район Нью-Йорка – Южный Бронк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3E39-AEF7-476F-950B-53803995038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ейв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rave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На рубеже 70-80-х гг. возникло новое явление современной культуры -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рейв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rav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-«восторгаться»,«бредить»,«неистовствовать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4470-2020-4394-A5E4-24AD5449C00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льтернативная 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alternative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Альтернативной музыкой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или альтернативой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lternativ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один из двух») называют совокупность течений, существовавших приблизительно с 1985 по 1995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535C-ED3E-4A58-B08D-50E8D1019CC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лассический музыкальный аванга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Сонорика и алеато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Метод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 алеаторики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lea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 - «игральная кость»,«жребий», «случайность» основан на том, что композитор позволяет музыканту в процессе исполнения свободно менять местами музыкальные фразы и даже части сочинения, превращая таким образом исполнителя в соав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Метод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сонорики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sonorus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- «звонкий», «шумный») - это экспериментирование в поисках новых звуковых красок. В сонорной композиции главная звуковая единица - не отдельный звук (тон), а сонор - комбинация звуков разной высоты и тембра. В отличие от общеприятных звуковых сочетаний – аккордов - в соноре нельзя не только определить расстояние между звуками, но и распознать на слух каждый из них по отдельности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E0B5-2E85-441C-B3DB-18C8DE29898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лассиче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музыкальный аванга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avant-garde</a:t>
            </a:r>
            <a:r>
              <a:rPr b="1" lang="ru-RU" sz="10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Понятие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музыкальный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авангард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vant-gard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«передовой отряд»)появилось в классической музыке вскоре после Второй мировой вой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C8A4-D1EF-48A3-B93E-6ABCC57AD65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лассический музыкальный авангард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 числу авангардных направлений и методов в России относят всё, что было освоено западной музыкальной культурой: серийную технику, неофольклоризм, алеаторику, сонорику, минимализм, пуантилизм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Подобно западным мастерам, композиторы русского авангарда занимались музыкально-теоретическими проблемами. Ныне достижения российского авангарда признаны во всём мире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76FC-9188-4E78-951B-E95AA9F0B84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Джаз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cc33"/>
                </a:solidFill>
                <a:latin typeface="Arial"/>
              </a:rPr>
              <a:t>jaz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Джаз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- род увеселительной музыки преимущественно танцевального харак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В основе джаза лежит импровиз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9827-C03A-464E-B5EF-35D94EDA448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Рок-н-рол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rock`n`roll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Рок-н-ролл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rock`n`roll,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 rock and roll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раскачиваться и вращаться»)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заимствованное из жаргона афроамерикан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8009-39FC-419C-A1A0-9164A2F8D68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 музыкальная 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антри-рок и фолк-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country rock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folk rock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В основе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кантри-рока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country rock, o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 country music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«музыка кантри» и «рок») лежит вокальная и инструментальная музыка сельских жителей, а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фолк-рока</a:t>
            </a:r>
            <a:r>
              <a:rPr b="1" lang="ru-RU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folk rock,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 folk music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 «народная музыка» и «рок») -традиции городской пес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68A6-EB92-4FA0-AE3E-9B4CC010D14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ок-оп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rock opera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Жанр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объединил в себе черты рока и классической музыки. Однако в основе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– рок-музыка. Её стилистика восходит к различным направлениям рока (что совершенно не исключает заимствований из классической музыки, джаза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5E8F-79C3-41CE-890F-789BFFC1A9C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юз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musical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Термин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«мюзикл»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usical,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от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usical comedy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музыкальная комедия») придумали американцы, любящие экономить на словах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9D2D-F6FB-454C-9AB6-8B6F3E68B85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Глэм-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glam rock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Глэм-рок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glam rock,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 glamorous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«очаровательный», «обольстительный», «эффективный» и «рок»). Глэм возник в ответ на усложнение рок-музыки и появления «прогрессивного» ро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151F-2BE7-4B80-B1B8-9F81D07AE6B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Этническая 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Этническая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музыка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- это пёстрый мир жанров, стилей и форм, часто соединяющих элементы музыкальных традиций самых разных эпох и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62D3-0E50-4E33-9759-3708957B308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«Новая вол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new wave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Музыкальное явление -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«новая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волна»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new wav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) возникло во второй половине 70-х г.г. и получило наибольшее развитие в Великобритании и СШ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ECC-ACF0-40AC-85E7-FAF3ECCB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CBC-8A3A-49F9-83A2-80472E66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A165-044C-451B-8D9F-5AF4A116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AFA-6847-4D07-97CC-279241ED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ED43-4926-4A0C-A4CC-ACB3D3EF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0920-7130-4350-B554-3D9E2D3D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8BF3-B739-497B-83B3-D4460922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523D-2912-45E3-AA04-273CF153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FBF1-5430-4668-A58D-A55E0F9E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696D-9E69-43F5-A421-F1E7C5C5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18A1-E7AC-4562-86A0-0C9D06DC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B884-C09C-4A91-8998-23ECD188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0C85-57DA-45F5-8A85-646F039D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CE41-A908-4AAC-A2CA-C0CB03E0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C155-CF67-40A8-A214-7B1267A7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9242-3A8D-4696-BC53-2382CB2E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590B-F4CB-40D9-AD0D-3E3E6013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046-2A1D-43DD-B701-F0E48306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C408-D8DA-48E1-88FC-9B15BB2E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8B0B-A2CA-477E-8C83-5A05DCFF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8F8-0BB6-4311-A4CD-5B70879D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5AA-E93E-4C80-BCB5-14E61418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EA8-7A34-4695-8199-56DA992B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164B-4175-47A6-A7B1-1A3E1BC0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FA5F-66D9-4374-9CD3-06A6E90BD5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C304-65BB-4AC7-B45F-9E35028B76A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215640"/>
            <a:ext cx="723888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35280" y="1736280"/>
            <a:ext cx="7308720" cy="18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МОЛОДЁЖНАЯ МУЗЫКАЛЬНАЯ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КУЛЬТУР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763640" y="0"/>
            <a:ext cx="6046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Муниципальное образовательное учреждение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реднего общего образования  «Москаленский лицей»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Москаленского муниципального района Омской област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040360" y="4686480"/>
            <a:ext cx="4103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вторы работы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оробьёв Н., Тебенко О., Коротина О., Баранов Е. (учащиеся 8 класса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уководитель: Баранова т.А.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учитель музык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7524720" y="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Приложение </a:t>
            </a:r>
            <a:r>
              <a:rPr b="0" i="1" lang="en-US" sz="1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2987640" y="5997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63280" y="476280"/>
            <a:ext cx="73803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Хэви - мета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heavy metal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728720" y="5084640"/>
            <a:ext cx="7415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Само словосочетание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«хэви - метал»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heavy metal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тяжёлый металл») возникло задолго до того, как появилось в современной рок-музыке, и первоначально употреблялось байкерам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6" name="Picture 5" descr="IMG_0013"/>
          <p:cNvPicPr/>
          <p:nvPr/>
        </p:nvPicPr>
        <p:blipFill>
          <a:blip r:embed="rId1"/>
          <a:stretch/>
        </p:blipFill>
        <p:spPr>
          <a:xfrm>
            <a:off x="3851280" y="1989000"/>
            <a:ext cx="3456000" cy="28242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63280" y="475920"/>
            <a:ext cx="73803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Поп-музык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pop music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835280" y="5661000"/>
            <a:ext cx="73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п-музыка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pop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) происходит от сокращённого словосочетания «популярная музыка»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popular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)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Picture 5" descr="IMG_0014"/>
          <p:cNvPicPr/>
          <p:nvPr/>
        </p:nvPicPr>
        <p:blipFill>
          <a:blip r:embed="rId1"/>
          <a:stretch/>
        </p:blipFill>
        <p:spPr>
          <a:xfrm>
            <a:off x="5508720" y="2349360"/>
            <a:ext cx="3240000" cy="24973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72" name="Picture 6" descr="IMG_0015"/>
          <p:cNvPicPr/>
          <p:nvPr/>
        </p:nvPicPr>
        <p:blipFill>
          <a:blip r:embed="rId2"/>
          <a:stretch/>
        </p:blipFill>
        <p:spPr>
          <a:xfrm>
            <a:off x="2050920" y="1844640"/>
            <a:ext cx="2421000" cy="26654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63280" y="475920"/>
            <a:ext cx="73803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Рэп </a:t>
            </a:r>
            <a:r>
              <a:rPr b="1" lang="ru-RU" sz="32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rap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00360" y="5516640"/>
            <a:ext cx="73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эп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-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rap)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ритмическая американская поэзия». Родина рэпа - бедный район Нью-Йорка – Южный Бронкс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7" name="Picture 5" descr="Копия IMG_0017"/>
          <p:cNvPicPr/>
          <p:nvPr/>
        </p:nvPicPr>
        <p:blipFill>
          <a:blip r:embed="rId1"/>
          <a:stretch/>
        </p:blipFill>
        <p:spPr>
          <a:xfrm>
            <a:off x="6443640" y="1773360"/>
            <a:ext cx="2241720" cy="30240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78" name="Picture 6" descr="IMG_0017"/>
          <p:cNvPicPr/>
          <p:nvPr/>
        </p:nvPicPr>
        <p:blipFill>
          <a:blip r:embed="rId2"/>
          <a:stretch/>
        </p:blipFill>
        <p:spPr>
          <a:xfrm>
            <a:off x="2195640" y="1484280"/>
            <a:ext cx="2952720" cy="28558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7380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63280" y="549360"/>
            <a:ext cx="7380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Рейв 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rave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727280" y="54450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На рубеже 70-80-х гг. возникло новое явление современной культуры -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ейв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rav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-«восторгаться»,«бредить»,«неистовствовать»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3" name="Picture 5" descr="IMG_0018"/>
          <p:cNvPicPr/>
          <p:nvPr/>
        </p:nvPicPr>
        <p:blipFill>
          <a:blip r:embed="rId1"/>
          <a:stretch/>
        </p:blipFill>
        <p:spPr>
          <a:xfrm>
            <a:off x="2050920" y="1916280"/>
            <a:ext cx="3121200" cy="21747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84" name="Picture 6" descr="Копия IMG_0018"/>
          <p:cNvPicPr/>
          <p:nvPr/>
        </p:nvPicPr>
        <p:blipFill>
          <a:blip r:embed="rId2"/>
          <a:stretch/>
        </p:blipFill>
        <p:spPr>
          <a:xfrm>
            <a:off x="5724360" y="2565360"/>
            <a:ext cx="3022920" cy="21718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63280" y="476280"/>
            <a:ext cx="7380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Альтернативная музык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alternative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70200" y="5373720"/>
            <a:ext cx="727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льтернативной музыкой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или альтернативой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alternativ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один из двух») называют совокупность течений, существовавших приблизительно с 1985 по 1995г.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Picture 5" descr="IMG_0019"/>
          <p:cNvPicPr/>
          <p:nvPr/>
        </p:nvPicPr>
        <p:blipFill>
          <a:blip r:embed="rId1"/>
          <a:stretch/>
        </p:blipFill>
        <p:spPr>
          <a:xfrm>
            <a:off x="6732720" y="2060640"/>
            <a:ext cx="1581120" cy="2808360"/>
          </a:xfrm>
          <a:prstGeom prst="rect">
            <a:avLst/>
          </a:prstGeom>
          <a:ln w="572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0" name="Picture 6" descr="Копия IMG_0019"/>
          <p:cNvPicPr/>
          <p:nvPr/>
        </p:nvPicPr>
        <p:blipFill>
          <a:blip r:embed="rId2"/>
          <a:stretch/>
        </p:blipFill>
        <p:spPr>
          <a:xfrm>
            <a:off x="2195640" y="1844640"/>
            <a:ext cx="1868400" cy="28796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835280" y="475920"/>
            <a:ext cx="730872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Классический музыкальный авангард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Times New Roman"/>
              </a:rPr>
              <a:t>Сонорика и алеатори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195640" y="1413000"/>
            <a:ext cx="633564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етод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алеаторики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alea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 - «игральная кость»,«жребий», «случайность» основан на том, что композитор позволяет музыканту в процессе исполнения свободно менять местами музыкальные фразы и даже части сочинения, превращая таким образом исполнителя в соавтор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етод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онорики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onorus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- «звонкий», «шумный») - это экспериментирование в поисках новых звуковых красок. В сонорной композиции главная звуковая единица - не отдельный звук (тон), а сонор - комбинация звуков разной высоты и тембра. В отличие от общеприятных звуковых сочетаний – аккордов - в соноре нельзя не только определить расстояние между звуками, но и распознать на слух каждый из них по отдельности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63280" y="404280"/>
            <a:ext cx="738036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лассический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музыкальный авангард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avant-garde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835280" y="5300640"/>
            <a:ext cx="7308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Понятие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узыкальный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вангард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avant-gard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передовой отряд»)появилось в классической музыке вскоре после Второй мировой войны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9" name="Picture 5" descr="IMG_0020"/>
          <p:cNvPicPr/>
          <p:nvPr/>
        </p:nvPicPr>
        <p:blipFill>
          <a:blip r:embed="rId1"/>
          <a:stretch/>
        </p:blipFill>
        <p:spPr>
          <a:xfrm>
            <a:off x="4211640" y="2492280"/>
            <a:ext cx="2536920" cy="24307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25120" y="333000"/>
            <a:ext cx="74185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лассический музыкальный авангард в России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763640" y="1557360"/>
            <a:ext cx="406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 числу авангардных направлений и методов в России относят всё, что было освоено западной музыкальной культурой: серийную технику, неофольклоризм, алеаторику, сонорику, минимализм, пуантилизм.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408720" y="1700280"/>
            <a:ext cx="2735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добно западным мастерам, композиторы русского авангарда занимались музыкально-теоретическими проблемами. Ныне достижения российского авангарда признаны во всём мире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Picture 6" descr="Копия IMG_0021"/>
          <p:cNvPicPr/>
          <p:nvPr/>
        </p:nvPicPr>
        <p:blipFill>
          <a:blip r:embed="rId1"/>
          <a:stretch/>
        </p:blipFill>
        <p:spPr>
          <a:xfrm>
            <a:off x="2484360" y="4581360"/>
            <a:ext cx="2567160" cy="20401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"/>
          <p:cNvSpPr/>
          <p:nvPr/>
        </p:nvSpPr>
        <p:spPr>
          <a:xfrm>
            <a:off x="2411280" y="0"/>
            <a:ext cx="64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 музыкальная  культур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2771640" y="692280"/>
            <a:ext cx="5640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Джаз 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jaz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12" descr="IMG_0002"/>
          <p:cNvPicPr/>
          <p:nvPr/>
        </p:nvPicPr>
        <p:blipFill>
          <a:blip r:embed="rId1"/>
          <a:stretch/>
        </p:blipFill>
        <p:spPr>
          <a:xfrm>
            <a:off x="2124000" y="1628640"/>
            <a:ext cx="2881440" cy="22305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18" name="Picture 13" descr="IMG_0004"/>
          <p:cNvPicPr/>
          <p:nvPr/>
        </p:nvPicPr>
        <p:blipFill>
          <a:blip r:embed="rId2"/>
          <a:stretch/>
        </p:blipFill>
        <p:spPr>
          <a:xfrm>
            <a:off x="5508720" y="2133720"/>
            <a:ext cx="3241440" cy="22190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19" name="Text Box 14"/>
          <p:cNvSpPr/>
          <p:nvPr/>
        </p:nvSpPr>
        <p:spPr>
          <a:xfrm>
            <a:off x="2556000" y="494172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Джаз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- род увеселительной музыки преимущественно танцевального характер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В основе джаза лежит импровизац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66800" y="0"/>
            <a:ext cx="74772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57520" y="475920"/>
            <a:ext cx="738648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Рок-н-ролл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rock`n`roll</a:t>
            </a: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Picture 4" descr="IMG_0006"/>
          <p:cNvPicPr/>
          <p:nvPr/>
        </p:nvPicPr>
        <p:blipFill>
          <a:blip r:embed="rId1"/>
          <a:stretch/>
        </p:blipFill>
        <p:spPr>
          <a:xfrm>
            <a:off x="5796000" y="2492280"/>
            <a:ext cx="3024000" cy="22590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24" name="Picture 5" descr="IMG_0005"/>
          <p:cNvPicPr/>
          <p:nvPr/>
        </p:nvPicPr>
        <p:blipFill>
          <a:blip r:embed="rId2"/>
          <a:stretch/>
        </p:blipFill>
        <p:spPr>
          <a:xfrm>
            <a:off x="2050920" y="2060640"/>
            <a:ext cx="3384720" cy="21700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2050920" y="508464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ок-н-ролл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rock`n`roll,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 rock and roll-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«раскачиваться и вращаться»)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заимствованное из жаргона афроамериканцев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66800" y="-36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 музыкальная 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57520" y="620640"/>
            <a:ext cx="73864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антри-рок и фолк-рок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country rock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folk rock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Picture 4" descr="IMG_0007"/>
          <p:cNvPicPr/>
          <p:nvPr/>
        </p:nvPicPr>
        <p:blipFill>
          <a:blip r:embed="rId1"/>
          <a:stretch/>
        </p:blipFill>
        <p:spPr>
          <a:xfrm>
            <a:off x="2340000" y="2060640"/>
            <a:ext cx="2808360" cy="19508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30" name="Picture 5" descr="Копия IMG_0007"/>
          <p:cNvPicPr/>
          <p:nvPr/>
        </p:nvPicPr>
        <p:blipFill>
          <a:blip r:embed="rId2"/>
          <a:stretch/>
        </p:blipFill>
        <p:spPr>
          <a:xfrm>
            <a:off x="5796000" y="2565360"/>
            <a:ext cx="2879640" cy="19051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31" name="Text Box 6"/>
          <p:cNvSpPr/>
          <p:nvPr/>
        </p:nvSpPr>
        <p:spPr>
          <a:xfrm>
            <a:off x="2411280" y="4724280"/>
            <a:ext cx="619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В основе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антри-рока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country rock, o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country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музыка кантри» и «рок») лежит вокальная и инструментальная музыка сельских жителей, а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фолк-рока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folk rock,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folk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народная музыка» и «рок») -традиции городской песн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66800" y="0"/>
            <a:ext cx="74772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55640" y="549000"/>
            <a:ext cx="529740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Рок-опер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rock opera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340000" y="4581360"/>
            <a:ext cx="59752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Жанр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объединил в себе черты рока и классической музыки. Однако в основе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– рок-музыка. Её стилистика восходит к различным направлениям рока (что совершенно не исключает заимствований из классической музыки, джаза и т.д.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Рисунок 4" descr="лицей032.jpg"/>
          <p:cNvPicPr/>
          <p:nvPr/>
        </p:nvPicPr>
        <p:blipFill>
          <a:blip r:embed="rId1"/>
          <a:stretch/>
        </p:blipFill>
        <p:spPr>
          <a:xfrm>
            <a:off x="2124000" y="1916280"/>
            <a:ext cx="2592360" cy="21081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37" name="Рисунок 5" descr="лицей030.jpg"/>
          <p:cNvPicPr/>
          <p:nvPr/>
        </p:nvPicPr>
        <p:blipFill>
          <a:blip r:embed="rId2"/>
          <a:stretch/>
        </p:blipFill>
        <p:spPr>
          <a:xfrm>
            <a:off x="5724360" y="2421000"/>
            <a:ext cx="2592720" cy="21128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66800" y="-360"/>
            <a:ext cx="74772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57520" y="549360"/>
            <a:ext cx="738648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Мюзик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musical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654200" y="5445000"/>
            <a:ext cx="74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Термин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«мюзикл»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usical,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от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usical comedy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музыкальная комедия») придумали американцы, любящие экономить на словах.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Picture 5" descr="IMG_0009"/>
          <p:cNvPicPr/>
          <p:nvPr/>
        </p:nvPicPr>
        <p:blipFill>
          <a:blip r:embed="rId1"/>
          <a:stretch/>
        </p:blipFill>
        <p:spPr>
          <a:xfrm>
            <a:off x="2627280" y="1989000"/>
            <a:ext cx="1565280" cy="32403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43" name="Picture 6" descr="Копия IMG_0009"/>
          <p:cNvPicPr/>
          <p:nvPr/>
        </p:nvPicPr>
        <p:blipFill>
          <a:blip r:embed="rId2"/>
          <a:stretch/>
        </p:blipFill>
        <p:spPr>
          <a:xfrm>
            <a:off x="6372360" y="1989000"/>
            <a:ext cx="2320920" cy="33148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66800" y="0"/>
            <a:ext cx="74772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57520" y="333000"/>
            <a:ext cx="738648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Глэм-рок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glam rock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27280" y="522936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Глэм-рок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glam rock,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glamorous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очаровательный», «обольстительный», «эффективный» и «рок»). Глэм возник в ответ на усложнение рок-музыки и появления «прогрессивного» рок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Picture 5" descr="IMG_0010"/>
          <p:cNvPicPr/>
          <p:nvPr/>
        </p:nvPicPr>
        <p:blipFill>
          <a:blip r:embed="rId1"/>
          <a:stretch/>
        </p:blipFill>
        <p:spPr>
          <a:xfrm>
            <a:off x="5580000" y="2276640"/>
            <a:ext cx="3024360" cy="28605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49" name="Picture 6" descr="Копия IMG_0010"/>
          <p:cNvPicPr/>
          <p:nvPr/>
        </p:nvPicPr>
        <p:blipFill>
          <a:blip r:embed="rId2"/>
          <a:stretch/>
        </p:blipFill>
        <p:spPr>
          <a:xfrm>
            <a:off x="2340000" y="1773360"/>
            <a:ext cx="2149560" cy="30956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63280" y="549000"/>
            <a:ext cx="738036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Этническая музык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27280" y="54450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Этническая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узыка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- это пёстрый мир жанров, стилей и форм, часто соединяющих элементы музыкальных традиций самых разных эпох и народо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4" name="Picture 5" descr="IMG_0011"/>
          <p:cNvPicPr/>
          <p:nvPr/>
        </p:nvPicPr>
        <p:blipFill>
          <a:blip r:embed="rId1"/>
          <a:stretch/>
        </p:blipFill>
        <p:spPr>
          <a:xfrm>
            <a:off x="6300720" y="2276640"/>
            <a:ext cx="1995480" cy="25192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55" name="Picture 6" descr="Копия IMG_0011"/>
          <p:cNvPicPr/>
          <p:nvPr/>
        </p:nvPicPr>
        <p:blipFill>
          <a:blip r:embed="rId2"/>
          <a:stretch/>
        </p:blipFill>
        <p:spPr>
          <a:xfrm>
            <a:off x="2124000" y="1557360"/>
            <a:ext cx="3529080" cy="25668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738036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7520" y="404640"/>
            <a:ext cx="73864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«Новая волна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new wave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835280" y="5516640"/>
            <a:ext cx="73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узыкальное явление -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«новая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волна»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new wav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) возникло во второй половине 70-х г.г. и получило наибольшее развитие в Великобритании и СШ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Picture 5" descr="IMG_0012"/>
          <p:cNvPicPr/>
          <p:nvPr/>
        </p:nvPicPr>
        <p:blipFill>
          <a:blip r:embed="rId1"/>
          <a:stretch/>
        </p:blipFill>
        <p:spPr>
          <a:xfrm>
            <a:off x="6516720" y="2060640"/>
            <a:ext cx="2347920" cy="30956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61" name="Picture 6" descr="Копия IMG_0012"/>
          <p:cNvPicPr/>
          <p:nvPr/>
        </p:nvPicPr>
        <p:blipFill>
          <a:blip r:embed="rId2"/>
          <a:stretch/>
        </p:blipFill>
        <p:spPr>
          <a:xfrm>
            <a:off x="2484360" y="1773360"/>
            <a:ext cx="1881360" cy="33843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08:51:35Z</dcterms:created>
  <dc:creator>Юлия</dc:creator>
  <dc:description/>
  <dc:language>en-US</dc:language>
  <cp:lastModifiedBy>LEGION</cp:lastModifiedBy>
  <dcterms:modified xsi:type="dcterms:W3CDTF">2015-04-02T07:04:46Z</dcterms:modified>
  <cp:revision>18</cp:revision>
  <dc:subject/>
  <dc:title>Семь рекреационных мест Омской области</dc:title>
</cp:coreProperties>
</file>