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23EA-4C53-45D2-8B2B-5FC5B513C3C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РЕССИОНИЗМ 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ретдинова Айсылу Рим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узыки и МХ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У "Гимназия №1", с. Верхнеярке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64F2-F383-473E-A318-205AEA69CA6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Calibri"/>
              </a:rPr>
              <a:t>Домашнее зада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исовать иллюстрацию к музыкальному произведению («Празднества», «Хабанера» - на выбо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6A4E-D524-458F-B02D-C9987D43B77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накомить учащихся с новым направлением в искусстве – импрессионизмом, рассмотреть особенности проявления импрессионизма в музыке и живо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2804-5732-46E8-8518-66660E72B91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мпрессиониз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 французского сло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essio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печатление) -направление в искусстве, возникшее во Франции во второй половине 19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3079-D938-4B01-BC89-9EEE2ABFCAF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узские художники – импрессионист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од  Мо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иль Писсар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дуард М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юст Ренуа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дгар Де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9E3B-5A23-47B7-85C5-450E95CA18E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од Дебюс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здне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D610-45D5-4BE5-B593-BF966B8CFDA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ис Рав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бан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E1CA-0F23-4ECD-9660-2C4A87C1EC3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рдина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способление, служащее для  изменения тембра музыкального инстру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8FEB-3A8B-45FF-ACAF-3ECA2D4B9A3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ece1"/>
                </a:solidFill>
                <a:latin typeface="Calibri"/>
              </a:rPr>
              <a:t>Песня о картинках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зыка Григория Гладков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лова Александра Кушн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ли видишь на карт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исована ре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ель и белый ин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сад и облака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снежная равн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поле и шалаш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 карт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ется ПЕЙЗА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ли видишь на карт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шку кофе на стол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морс в большом графин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розу в хрустал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бронзовую ваз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грушу, или тор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все предметы сраз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й, что это НАТЮРМО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ли видишь, что с карт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отрит кто-нибудь на на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принц в плаще старинн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в робе верхолаз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ётчик, или балер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Колька, твой сосе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 карт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ется ПОРТР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1ABF-DAB2-4B48-93B3-8510E014490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CB77-E82B-4E99-B4C0-62E2418A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0792-0250-453C-8D35-1298E197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0998-FF4C-4E2E-A36C-569BC9783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0022-9243-4087-9636-C684C4DB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B9F33-A58C-4594-838B-FE99FA86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94E53-3572-4C8B-9101-53C97DBA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23CDB-1A9A-4AE6-B150-D2EFD1E2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9DD76-9602-48A1-BD3A-453D4A3C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8EB28-B2EB-4FDA-9422-464A1BDD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D099F-AD37-439C-8209-3F0DF3E4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05E66-1328-4E40-8B08-52877BB0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E90D-8103-48DA-891B-C6F632B5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C8616-FA39-43A8-8980-6FE40596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18FA2-4322-437F-99FB-6A9C4CA3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B0461-DD09-4031-B6BE-1259D4F7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790D9-E3BC-408C-A6CB-E5D6BEF2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EF627-BC99-4A68-8881-CFD6E688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92C8-1491-4A98-A3F5-92E84EAA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08EB-86BD-490E-80FE-C1EBDFFC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B8C-2F25-477B-9051-92201B3E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E32B-A32B-446D-AEC5-22CDE155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038A-2353-47A5-B782-51212C71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C020-24EC-4F6A-8588-6A887A50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0F85-E3C5-4F42-829D-1BA254ED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A9D7-1BBF-40A0-BCFF-61188F005A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EF21-2E7C-457D-AC8F-53050F0B08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МПРЕССИОНИЗМ 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280" y="3645000"/>
            <a:ext cx="7993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ретдинова Айсылу Рим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музыки и МХ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БУ "Гимназия №1", с. Верхнеяркее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10199"/>
                </a:solidFill>
                <a:latin typeface="Tahoma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рисовать иллюстрацию к музыкальному произведению («Празднества», «Хабанера» - на выбор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333360"/>
            <a:ext cx="64008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Познакомить учащихся с новым направлением в искусстве – импрессионизмом, рассмотреть особенности проявления импрессионизма в музыке и живопис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3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3" descr="Камиль Писсарро Бульвар Монтмартр в Париже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0" descr=""/>
          <p:cNvPicPr/>
          <p:nvPr/>
        </p:nvPicPr>
        <p:blipFill>
          <a:blip r:embed="rId3"/>
          <a:stretch/>
        </p:blipFill>
        <p:spPr>
          <a:xfrm>
            <a:off x="0" y="3387600"/>
            <a:ext cx="4572000" cy="3470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1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836640"/>
            <a:ext cx="6400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«Импрессионизм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от французского слов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essio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впечатление)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-направление в искусстве, возникшее во Франции во второй половине 19 ве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Французские художники – импрессионисты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лод  Мон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миль Писсарр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дуард Ман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гюст Ренуар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дгар Дег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6" descr=""/>
          <p:cNvPicPr/>
          <p:nvPr/>
        </p:nvPicPr>
        <p:blipFill>
          <a:blip r:embed="rId1"/>
          <a:stretch/>
        </p:blipFill>
        <p:spPr>
          <a:xfrm>
            <a:off x="179280" y="282600"/>
            <a:ext cx="5524560" cy="65754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5805360"/>
            <a:ext cx="45464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лод Дебюсс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80000" y="5660640"/>
            <a:ext cx="35640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зднест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667040" cy="6669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950080"/>
            <a:ext cx="36100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орис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ве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96000" y="5660640"/>
            <a:ext cx="289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Хабане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586400" cy="354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4356000" y="3216240"/>
            <a:ext cx="4788000" cy="36417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4643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4356000" cy="27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урдина 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способление, служащее для  изменения тембра музыкального инструмент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Песня о картинках</a:t>
            </a:r>
            <a:br>
              <a:rPr sz="28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узыка Григория Гладков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ова Александра Кушне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1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Если видишь на карти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рисована рек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ель и белый ине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сад и облака,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снежная равни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поле и шалаш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ывается ПЕЙЗАЖ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2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Если видишь на карти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шку кофе на стол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морс в большом графин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розу в хрустал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00720" y="1905120"/>
            <a:ext cx="418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бронзовую ваз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грушу, или торт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все предметы сраз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най, что это НАТЮРМОР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3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Если видишь, что с карти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мотрит кто-нибудь на нас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принц в плаще старинн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в робе верхолаз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ётчик, или балери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Колька, твой сосед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ывается ПОРТР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15:39:09Z</dcterms:created>
  <dc:creator>Пользватель</dc:creator>
  <dc:description/>
  <dc:language>en-US</dc:language>
  <cp:lastModifiedBy>LEGION</cp:lastModifiedBy>
  <dcterms:modified xsi:type="dcterms:W3CDTF">2015-04-02T07:05:07Z</dcterms:modified>
  <cp:revision>9</cp:revision>
  <dc:subject/>
  <dc:title>ИМПРЕССИОНИЗМ    В МУЗЫКЕ</dc:title>
</cp:coreProperties>
</file>