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EE5F-4B4B-4428-B443-AF4E86EF11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РЕССИОНИЗМ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ретдинова Айсылу Р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узыки и МХ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"Гимназия №1", с. Верхнеярке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E93B-F1F8-4B16-89D4-39BCE479C3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Домашнее зад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68B7-0995-44CE-B9C9-4A5FAE7A3E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BA24-21C3-4F15-9BA8-5041E40E53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мпрессион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французского сло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essio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печатление) -направление в искусстве, возникшее во Франции во второй половине 19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82F3-094D-4B4F-A831-FAD9EE9B9F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 художники – импрессионис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 М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иль Писсар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уард М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юст Ренуа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гар Де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1EEB-8D48-4894-8892-1291D4E9FA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здн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CFEE-43EA-4B3D-B95E-ACE503BE5D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бан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3FEF-FFE7-4DFA-AB4F-D9A6A2D539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рдина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способление, служащее для  изменения тембра музыкального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FD7A-F16E-4B64-8B2D-A405C9F4FA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Песня о картинках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зыка Григория Гладков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ова Александра Кушн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на р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ль и белый ин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ад и облака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нежная равн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оле и шалаш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ЕЙЗ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шку кофе на ст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морс в большом графин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розу в хруста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ронзовую в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грушу, или тор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се предметы ср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й, что это НАТЮРМ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, что с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ит кто-нибудь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ц в плаще старин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 робе верхол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тчик, или балер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олька, твой сос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ОРТ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D702-5CB0-4710-B5B3-82CC4032A1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04E-A414-49AD-AD86-C6F28942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3F4-1536-454C-B817-755EA31E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DBE-D45A-44B5-A14C-085990F2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5F0-836B-4509-87F3-BE532793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78D26-F3D6-4818-963F-A86E8547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9F0E5-C818-4E83-9729-66481467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81864-38C0-40C2-AAA1-50F5B40D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891DD-B173-4F5D-BC06-B810F3D0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1E1B2-751C-48D6-9742-37341B65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AC5FB-A474-49CB-BE80-81526A7C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F26BB-CFC9-4919-A10C-A5151D31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E92-FD71-4549-A293-EB51952A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419FF-A2AE-416C-BEE9-B117B16B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CE320-B927-4BF2-8060-2F923760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1AD82-F070-4D98-8A06-A61362AD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9D9EE-47F7-4EFE-91F5-8CD999F7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A1080-07F8-4EF6-A2EA-521D8F6F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FB3-977F-4B7B-B27F-9903DC76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7C3-3B87-4EFA-BD13-B2726319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B6F-CF2B-453A-B2B7-F069E542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A6E-BB9A-4A5D-92BD-5A52C010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37B-8452-47A7-A4E4-EB60E24E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4F2-C4F1-4601-B614-1A5E1B2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55E-49B0-4233-A9A4-9383EAF4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2548-CC2B-42F9-9610-E1E678C36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A976-1A97-46A6-AECC-6B9C77E634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МПРЕССИОНИЗМ 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ретдинова Айсылу Рим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узыки и МХ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БУ "Гимназия №1", с. Верхнеяркее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10199"/>
                </a:solidFill>
                <a:latin typeface="Tahoma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33360"/>
            <a:ext cx="6400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Камиль Писсарро Бульвар Монтмартр в Париже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0" descr=""/>
          <p:cNvPicPr/>
          <p:nvPr/>
        </p:nvPicPr>
        <p:blipFill>
          <a:blip r:embed="rId3"/>
          <a:stretch/>
        </p:blipFill>
        <p:spPr>
          <a:xfrm>
            <a:off x="0" y="3387600"/>
            <a:ext cx="4572000" cy="347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1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83664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Импрессиониз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т французского слов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essio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впечатление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направление в искусстве, возникшее во Франции во второй половине 19 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ранцузские художники – импрессионист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од  Мон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миль Писсарр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уард М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гюст Ренуа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гар Де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179280" y="282600"/>
            <a:ext cx="5524560" cy="6575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805360"/>
            <a:ext cx="4546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од Дебюс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80000" y="5660640"/>
            <a:ext cx="35640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здн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67040" cy="6669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950080"/>
            <a:ext cx="3610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рис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в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96000" y="5660640"/>
            <a:ext cx="289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бан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586400" cy="354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356000" y="3216240"/>
            <a:ext cx="4788000" cy="3641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464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3560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урдина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способление, служащее для  изменения тембра музыкального инструмен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Песня о картинках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зыка Григория Гладков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а Александра Кушн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ад и облака,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ЕЙЗ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0720" y="1905120"/>
            <a:ext cx="418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й, что это НАТЮРМОР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, что с карт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ётчик, или балер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Колька, твой сосед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ОРТР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5:39:09Z</dcterms:created>
  <dc:creator>Пользватель</dc:creator>
  <dc:description/>
  <dc:language>en-US</dc:language>
  <cp:lastModifiedBy>LEGION</cp:lastModifiedBy>
  <dcterms:modified xsi:type="dcterms:W3CDTF">2015-04-02T07:05:07Z</dcterms:modified>
  <cp:revision>9</cp:revision>
  <dc:subject/>
  <dc:title>ИМПРЕССИОНИЗМ    В МУЗЫКЕ</dc:title>
</cp:coreProperties>
</file>