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342-3833-4567-9108-C6FBC1F701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РЕССИОНИЗМ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ретдинова Айсылу Р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узыки и МХ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"Гимназия №1", с. Верхнеярке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87C3-BA42-4FE5-9F2B-120BFB7CA6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Домашнее зад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DEC0-0364-41D4-B787-AA2034E4E8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BA03-5BDD-498E-BF95-A2C153D160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мпрессион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французского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essio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печатление) -направление в искусстве, возникшее во Франции во второй половине 19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5EAD-9104-47D2-B6DE-1F3D661491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 художники – импрессионис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 М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иль Писсар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уард М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юст Ренуа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гар Де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E2DC-B2A4-4298-9A7A-00F730D1D5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здн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263C-2DCD-4246-B581-8B552F8371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бан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1A81-CB51-420A-BDBD-DEC34CB0C9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дина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способление, служащее для  изменения тембра музыкального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21F0-FFA5-42E9-BF33-DFC134E933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Песня о картинках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зыка Григория Гладков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ова Александра Кушн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на р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ль и белый ин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ад и облака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нежная равн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оле и шалаш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ЕЙЗ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шку кофе на ст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морс в большом графин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розу в хруста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ронзовую в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грушу, или тор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се предметы ср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й, что это НАТЮРМ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, что с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ит кто-нибудь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ц в плаще старин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 робе верхол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тчик, или балер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олька, твой сос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ОРТ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8FA7-DD8D-47E3-AA5E-48930ABAD6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1D8-F485-498D-B5AA-31B4A09E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FF7-0C2E-4BF5-84E1-F738843E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34D-DD64-4CC1-8EF4-7B62AECC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E7D-DE3F-47C7-9233-BAB3AF5B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A4418-C064-4423-89CD-573FD942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E8883-62B4-4D3D-98FE-3BE80323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C0B19-96A3-4BD1-AE26-8ADCC1C6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1CC2F-A259-447E-BEAD-2A659AEC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804E9-EB67-4B3F-BDD8-D6A6B909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C0BC1-3B19-4477-8CC2-E73554A5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0A7BD-2FB8-4B03-98E1-37222C1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B4E-FC83-4C52-9598-F9EC6EC9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636DC-232F-4642-BD7C-05954BC0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CE526-8F40-4EF4-A6B3-BB820938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B618A-7223-4C6E-AC8C-F84ABDC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B6B15-45F7-4F7C-B0AC-B0641BF6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2A6A4-A578-4F79-8AEA-7FDD7A0A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4C9-9C3C-417B-B300-9A7FC376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10F-1004-48EE-9E37-0EFE2C56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43E-41F4-42FB-8FC2-08D3912C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F22-B07B-42A8-9D24-A6B21BF0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70F-EA81-4C8F-8AB9-5B057D7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2A9-9FCA-4ACA-BF8D-5633A1DE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8B3-4E30-4470-BB78-C2CDDA02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F78C-4238-498F-B15F-DE51D1436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6D23-A19A-4C23-8987-7B2DBD73D6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МПРЕССИОНИЗМ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ретдинова Айсылу Рим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узыки и МХ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БУ "Гимназия №1", с. Верхнеяркее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0199"/>
                </a:solidFill>
                <a:latin typeface="Tahoma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33360"/>
            <a:ext cx="6400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Камиль Писсарро Бульвар Монтмартр в Париж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"/>
          <p:cNvPicPr/>
          <p:nvPr/>
        </p:nvPicPr>
        <p:blipFill>
          <a:blip r:embed="rId3"/>
          <a:stretch/>
        </p:blipFill>
        <p:spPr>
          <a:xfrm>
            <a:off x="0" y="3387600"/>
            <a:ext cx="4572000" cy="347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1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83664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мпрессиониз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 французского слов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essio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впечатление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направление в искусстве, возникшее во Франции во второй половине 19 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нцузские художники – импрессионис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од  Мо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миль Писсарр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уард М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гюст Рену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гар Де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179280" y="282600"/>
            <a:ext cx="5524560" cy="657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805360"/>
            <a:ext cx="4546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од Дебюс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0000" y="5660640"/>
            <a:ext cx="35640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здн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67040" cy="6669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3610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рис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в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6000" y="5660640"/>
            <a:ext cx="289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бан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586400" cy="35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356000" y="3216240"/>
            <a:ext cx="4788000" cy="3641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464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3560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рдина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способление, служащее для  изменения тембра музыкального инструмен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есня о картинках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зыка Григория Гладков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 Александра Кушн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ад и облака,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ЕЙЗ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0720" y="190512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й, что это НАТЮРМОР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, что с карт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ётчик, или балер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Колька, твой сосед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ОРТР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5:39:09Z</dcterms:created>
  <dc:creator>Пользватель</dc:creator>
  <dc:description/>
  <dc:language>en-US</dc:language>
  <cp:lastModifiedBy>LEGION</cp:lastModifiedBy>
  <dcterms:modified xsi:type="dcterms:W3CDTF">2015-04-02T07:05:07Z</dcterms:modified>
  <cp:revision>9</cp:revision>
  <dc:subject/>
  <dc:title>ИМПРЕССИОНИЗМ    В МУЗЫКЕ</dc:title>
</cp:coreProperties>
</file>