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F4F8-6558-49C8-9DE5-15F6B794E8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РЕССИОНИЗМ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ретдинова Айсылу Рим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узыки и МХ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"Гимназия №1", с. Верхнеярке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77A1-77D0-4366-9B7A-8FC4199AA91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Домашнее зада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иллюстрацию к музыкальному произведению («Празднества», «Хабанера» - на выб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A626-962C-4B20-BBEB-197113D0689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комить учащихся с новым направлением в искусстве – импрессионизмом, рассмотреть особенности проявления импрессионизма в музыке и живо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08C4-80DD-4080-BF54-4A44947104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мпрессиониз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французского сло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essio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печатление) -направление в искусстве, возникшее во Франции во второй половине 19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3502-FD68-4135-8DF7-1EC02EBA1A0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е художники – импрессионис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од  Мо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иль Писсар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уард М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юст Ренуа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гар Де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3C26-129D-47EF-B86E-53573C286E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од Дебюс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здн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234A-F17C-4A58-9BEE-6E3962391EB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ис Рав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бан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5778-1824-4678-9ACB-6E3A45998C9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рдина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способление, служащее для  изменения тембра музыкального инстру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B956-2045-4163-8E50-3111332CA4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ece1"/>
                </a:solidFill>
                <a:latin typeface="Calibri"/>
              </a:rPr>
              <a:t>Песня о картинках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зыка Григория Гладков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лова Александра Кушн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 на карт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на р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ель и белый ин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ад и облака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нежная равн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оле и шалаш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ПЕЙЗ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 на карт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шку кофе на сто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морс в большом графин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розу в хруста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ронзовую ваз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грушу, или тор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се предметы сраз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й, что это НАТЮРМ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, что с кар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ит кто-нибудь на н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ринц в плаще старинн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 робе верхол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тчик, или балер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Колька, твой сос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ПОРТР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17F7-695E-4812-AC9F-3533D72A34A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AD9-0726-4763-9E1C-E25AECDD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8C3-9ACE-43C4-8BB7-11D85DC1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D5D-A4DC-496C-8062-C02F6FAD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3BC-3041-4483-B638-0566B437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CA414-C8D5-4873-86A9-42321F59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CCDD8-253A-44ED-A0D8-FE185E2A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EE786-099B-49D1-874E-9FFAD7C7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61997-6288-423C-ACE0-AD5EA4E9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AF3AE-3B2B-47F1-A817-E137F9C0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4166C-DE90-499A-AF5A-0FDCAFB8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27159-6F9B-40A5-AD39-02D5C336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C69-9B2C-4FAD-B87C-FC786043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51E46-80AE-4DA2-AA65-C114F01F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73B7C-24A4-4F6D-A7AF-321298D3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7A610-F1E6-4A20-BD81-90A4A762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9E851-2262-4E25-AF84-82CA22DA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A44FA-CABB-4C3B-AC0A-2031799B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48B4-CA49-45F5-8750-E96086F2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B58-4D32-45BD-9814-ADBBD91D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F2B-12A3-44A4-98FA-8ECCC8EE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4DE-2BE6-4D3E-89B4-5CF59BD6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F9F-BE89-4F38-831E-7BB80785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8855-3028-4BA4-93E1-6F796BE1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64C6-6CA1-40BB-AB56-19E4CA09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7A91-4929-476D-A87C-2B59FB2441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C0F8-803A-4E61-93B9-5366715654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МПРЕССИОНИЗМ 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ретдинова Айсылу Рим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узыки и МХ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БУ "Гимназия №1", с. Верхнеяркее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10199"/>
                </a:solidFill>
                <a:latin typeface="Tahoma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рисовать иллюстрацию к музыкальному произведению («Празднества», «Хабанера» - на выбор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333360"/>
            <a:ext cx="6400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Познакомить учащихся с новым направлением в искусстве – импрессионизмом, рассмотреть особенности проявления импрессионизма в музыке и живопис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3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Камиль Писсарро Бульвар Монтмартр в Париже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0" descr=""/>
          <p:cNvPicPr/>
          <p:nvPr/>
        </p:nvPicPr>
        <p:blipFill>
          <a:blip r:embed="rId3"/>
          <a:stretch/>
        </p:blipFill>
        <p:spPr>
          <a:xfrm>
            <a:off x="0" y="3387600"/>
            <a:ext cx="4572000" cy="347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1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836640"/>
            <a:ext cx="6400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Импрессионизм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т французского слов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essio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впечатление)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-направление в искусстве, возникшее во Франции во второй половине 19 ве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ранцузские художники – импрессионист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лод  Мон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миль Писсарр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дуард Ман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гюст Ренуар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дгар Дег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6" descr=""/>
          <p:cNvPicPr/>
          <p:nvPr/>
        </p:nvPicPr>
        <p:blipFill>
          <a:blip r:embed="rId1"/>
          <a:stretch/>
        </p:blipFill>
        <p:spPr>
          <a:xfrm>
            <a:off x="179280" y="282600"/>
            <a:ext cx="5524560" cy="6575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5805360"/>
            <a:ext cx="4546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лод Дебюсс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80000" y="5660640"/>
            <a:ext cx="35640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здне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667040" cy="6669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950080"/>
            <a:ext cx="3610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орис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в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96000" y="5660640"/>
            <a:ext cx="289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Хабане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586400" cy="354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356000" y="3216240"/>
            <a:ext cx="4788000" cy="36417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4643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4356000" cy="27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урдина 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способление, служащее для  изменения тембра музыкального инструмен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Песня о картинках</a:t>
            </a:r>
            <a:br>
              <a:rPr sz="28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узыка Григория Гладков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ва Александра Кушне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 на карт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исована ре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ель и белый ине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ад и облака,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нежная равн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поле и шалаш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ывается ПЕЙЗАЖ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 на карт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шку кофе на стол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морс в большом графин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розу в хрустал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00720" y="1905120"/>
            <a:ext cx="418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бронзовую ваз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грушу, или торт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все предметы сраз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й, что это НАТЮРМОР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, что с карти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отрит кто-нибудь на нас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принц в плаще старинн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в робе верхолаз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ётчик, или балер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Колька, твой сосед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ывается ПОРТР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5:39:09Z</dcterms:created>
  <dc:creator>Пользватель</dc:creator>
  <dc:description/>
  <dc:language>en-US</dc:language>
  <cp:lastModifiedBy>LEGION</cp:lastModifiedBy>
  <dcterms:modified xsi:type="dcterms:W3CDTF">2015-04-02T07:05:07Z</dcterms:modified>
  <cp:revision>9</cp:revision>
  <dc:subject/>
  <dc:title>ИМПРЕССИОНИЗМ    В МУЗЫКЕ</dc:title>
</cp:coreProperties>
</file>