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9208-0CEA-40CB-B218-2A984EB818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ческий и неклассический идеалы рацион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E969-798A-4426-8202-15A9355AC662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роение завершенной науч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ии современных научных дисциплин особую роль игр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ые картины ми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ми картинами мира называют обобщенные схемы – образы предмета исследования, посредством которых фиксиру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системные характерис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емой ре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057B-540A-4859-93D9-AA5594FFE80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ир» применяется здесь в специфическом смысле – как обозначение некоторой сферы действительности, изучаемой в данной науке («мир физики», «мир биологии» и т.п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бежать терминологических сложностей, имеет смысл пользоваться иным названием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ина исследуемой реа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зученным ее образцом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ческая картина ми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C779-D11D-4EA7-9AD0-1AE181AD5EDA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, представл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состоит из неделимых корпуску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заимодействие осуществляется как мгновенная передача сил по прям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кулы и образованные из них тела перемещаются в абсолютном пространстве с течением абсолютного врем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писание картины физического мира, сложившейся во второй половин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 и получившей впоследствии назв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ческой картины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0185-22D7-4B8C-8245-553288C4FA04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от механической к электродинамической (последняя четвер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), а затем к квантово-релятивистской картине физической реальности (перва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) сопровождал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нением физических представлен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аналогии с физической картиной мира можно выделить картины реальности в других науках (химии, биологии, астрономии и т.д.) Среди них также существуют исторически сменяющие друг друга типы картин мира, что обнаруживается при анализе истории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4738-3BF7-48ED-879E-03514E717FE7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ина реальности обеспечив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тиз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ний в рамках соответствующей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ей связаны различные типы теорий научной дисциплины (фундаментальные и частные), а также опытные факты, на которые опираются и с которыми должны быть согласованы принципы картины ре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 она функционирует в качеств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тельской программы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ая целенаправляет постановку задач как эмпирического, так и теоретического поиска и выбор средств их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0031-6AD1-4B1F-BBFC-062491E4FE9A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конкретно-исторических форм картины исследуемой реальности может реализовываться в ряд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ифик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ыражающих основные этапы развития научных зн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ем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звитии того или иного типа картины реальности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звитие представлений Ньютона о физическом мире Эйлером, развитие электродинамической картины мира Фарадеем, Максвеллом, Герцем, Лоренцем, каждый из которых вводил в эту картину новые элемен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2AAE-5B7D-49DA-B725-9014F37F1498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ирующие и альтерн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руг другу представления о физическом мире - когда одно из них в конечном итоге побеждает в качестве «истинной» физической картины мира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рьба Ньютоновской и Декартовой концепции природы как альтернативных вариантов механической картины ми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F0EE-6FCA-46FF-AC12-4030BAFDA8B3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 выступает особой формой теоретического 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ины реальности, развиваемые в отдельных научных дисциплинах, не являются изолированными друг от друга. Они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 выступ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ой систематизации знаний, интеграт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ношению к специальным картинам реальности (дисциплинарным онтология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4196-83F8-4102-9467-EA4B7B5FF252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интегрирует наиболее важные достижения естественных, гуманитарных и технических наук – это достижения типа представлений о нестационарной Вселенной и Большом взрыве, о кварках и синергетических процессах, о генах, экосистемах и биосфере, об обществе как целостной системе, о формациях и цивилизация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они развиваются как фундаментальные идеи и представления соответствующих дисциплинарных онтологий, а зат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ключаются в общую научную картину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9031-229F-4E98-B59D-785D7AED84AA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 детерминиз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ит ответ на вопрос, обусловлены ли явления мира в своём существовании и развитии, имеет ли эта обусловленность регулярный, упорядоченный или произвольный, неупорядоченн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словами, это вопрос о том, выступает ли мир в своём существовании и развитии как упорядоченный космос или неупорядоченный ха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е понятие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7376-7464-43BD-9318-AF85285D9273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роение завершенной науч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ческая, неклассическая и постнеклассическая картины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EAE5-D7A0-4D8A-90FE-9E24EEE021F7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ая, идеалистическая или материалистическая философская система, построенная на принципах рационального объяснения бытия, необходимо затрагивает проблему всеобщей обусловленности явлений и процессов в мире, которая и обозначается понятием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ределять, отделять, отграничи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учение о всеобщей обусловленности объективных явл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событие, любой факт, явление и т. д. имеют свою причину и могут выступать причиной другого события, факта, 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95E5-0F43-48B2-91A1-07B28795019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революция И. Ньют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ое ест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: X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ая иде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ереход от геоцентрической модели мира к гелиоцентричес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я: Н. Коперника, Г. Галилея, И. Кеплера, Р. Дека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 Ньютон подвел итог их исследованиям, сформулировал базовые принципы новой научной картины мира в обще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8BEB-7AD0-4ACC-B203-150151A98FBA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ленная состоит из материальных тел и пустоты, представленная в виде комплекса механических систем, развивается без участия сознания и раз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её история, начиная от «Большого взрыва» – результат слепого и стихийного движения материальных м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конечное трёхмерное пространство - так называемом абсолютное пространство, время в котором может быть измерено универсальными часами (абсолютное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DE22-B0FC-41A8-9E97-CB9FC610C856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знь зарождается в первозданном океане случай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к результат беспорядочных химических реакций, и пойди процесс чуть по-другому, сознание никогда не проявилось бы в быт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теории Ньютона появление жизни и сознания – не только загадка, но и явление достаточно странное, абсурд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знании: происходит четкое противопоставление субъекта и объекта исследован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– «не имеет знач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46BB-953E-4805-BE34-FDA9F877E53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зме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- язык математики, выделение строго объективных количественных характеристик земных тел (форма величина, масса, движение), выражение их в строгих математических закономерност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экспериментального исслед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принцип: механика, 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механистической научной картины мира на базе экспериментально математического ест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2154-8B68-4E35-B231-4089A31232A6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йнштейновская револю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: рубеж XIX - XX ве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ая структура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е радиоа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ретность характера электромагнитного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BFD6-D326-4155-A950-74CB556B2D5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зме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а подорвана важнейшая предпосылка механистической картины мира - убежденность в том, что с помощью простых сил, действующих между неизменными объектами, можно объяснить все явления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ая теория относительности (СТО) А. Эйнштейна вступила в противоречие с теорией гравитации Ньют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Эйнштейна гравитация – это не сила, а проявление искривления пространства-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CE77-83D7-474B-A281-53896193DD2C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теорией относительности, пространство и время относительны - результаты измерения длины и времени зависят от того, движется наблюдатель ил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 гораздо разнообразнее и сложне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ем это представлялось механистической нау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нание человека изначально включено в само наше восприятие действительности. Это следует понимать так: мир таков, потому что это мы глядим на него, и изменения в нас, в нашем самосознании меняют картину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1C3A-5AF5-4D09-83F2-DA0F958B4DB6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исто объективное» описание картины мира  невозм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укционистский подход  смен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вантов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мир нельзя объяснить лишь как сумму его составных частей. Макромир и микромир тесно 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ознания важное место заним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р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7B7B-A51D-4BA0-81F0-35369E1AE277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е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ергетика - междисциплинарное направление научных исследований, задачей которого является изучение природных явлений и процессов на основе принципов самоорганизации систем (состоящих из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дсист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уделяется структурам, возникающим в процессе само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знание включены ценностные асп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6D43-6AC2-4F76-9970-68BBCE12A0CF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й предшественницей философии науки является гносеология XVII-XVIII вв. (эмпиризм и рационализм), в центре которой было осмысление сущности научного знания и методов его пол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носеологические вопросы были центральной темой классического этапа философии Нового времени - от Р. Декарта и Дж. Локка до И. К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дельное направление философии, философия науки оформилась в XIX в. В её развитии можно выделить несколько этапов: позитивизм, постпозитивизм и концепции науки П. Фейерабенда, И. Локатоса, Т. Куна и К. Попп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ношении научное знание в философии познания принято употреблять поня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эпистем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B5D8-06EB-44F9-AAA2-128742BE4F26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ерг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учен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рм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к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одился в 1927 г.) -  немецкий физик-теорет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л теорию самоорганиз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ергети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еорией совместного действ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F2F0-1D62-4702-BC31-CF80D1A7058A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огичные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ья́ Романович Пригож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1917 -2003 гг.)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ьгийский и американский физик и химик российского происх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уреат Нобелевской премии по химии 1977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и диссипативных струк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A82A-B88F-403C-9FF3-1118A713CE64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ый Пригожиным новый принцип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через флукту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любое колебание или любое периодическое изменени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йшие исследования показали, что он представляет собой базисный механизм развертывания эволюционных процессов во всех областях - от атомов до галактик, от отдельных клеток до человеческих существ и вплоть до обществ и культу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этих наблюдений появилась возможность сформулировать единую точку зрения на эволюцию, объединяющим принципом которой является не стабильное состояние, а динамические состояния неуравновешенных сис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9FE5-6ECD-4EB1-B084-CC80AE70F9B6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ые системы на всех уровнях являются носителями всеобщей эволюции, которая гарантирует, что жизнь будет продолжать свое движение во всё более новые динамические режимы сл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косм и макрокосм являются аспектами единой эволю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человека является значимой составной частью вселенской эволю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1014-FD7C-4346-801C-ECC73AA0938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омментируйте высказыв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еловек, вооруженный только наукой, подобен ребенку, играющему с коробкой спи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Скот Холд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тландский уче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B06D-A7A9-4632-B736-A5C0137A5E9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в физике обозначает многообразный физический мир, начиная от элементарных частиц и кончая метагалакт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философском языке «Вселенная» может обозначать бытие или Мирозд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словами «Вселенная» (Универсум – лат.) в философии имеет иное значение, чем в физ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ое в философии понят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ина ми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 видимый портрет мироздания, образно-понятийное описание Всел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5C5E-5DE4-48AA-B0AC-29FC41FEF208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о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буквально означ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динство, общность всех вещей, рассматриваемых как цел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лоть до ХХ в. познание Вселенной как целого в основном оставалось прерогативой рели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ю всегда интересовали не отдельные вещи, не каждая вещь сама по себе, в своем обособленном, отдельном существовании, а совокупность всего существующего, публичная жизнь каждой вещи, ее универсальное существ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ем под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щ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лись не только физические (материальные) и духовные объекты, но также все ирреальное, фантастическое и сверхъестественное, если оно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5684-092B-48C5-8E43-4DA64ED3C7C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осмология как самостоятельная отрасль знания возникла сравнительно недав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внимания физики космологии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ленная в цел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едоступен для наблюдения. Космологи прибегают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страполя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физики, выведенные из наблюдений и экспериментов над отдельными частями Вселенной, применяются и ко Вселенной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щая теория относительности (лучшая из существующих на сегодня теорий гравитации), проверенная экспериментально в основном в пределах Солнечной системы, применяется к расчету движения всей Всел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D99C-C99E-4971-B9B8-C890BACCCFFF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я законы физики к Вселенной в целом, мы соверша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ий ска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ереносим умозрительные схемы (модели) определенной части физического мира на Вселен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сть моделей подтверждается неоднократными (повторяемыми) эксперим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одимость экспериментальных проверок увеличивает доверие к модели, модель становится частью совершенного научного знания, оставаясь в этом качестве до тех пор, пока ей на смену не придет улучшенная, более точная или более глубокая модель (теор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6021-3CDF-4B20-B716-0DEC1D99B33C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рациональные законы, которые экстраполируются на всю Вселенную, созда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уктивным воображен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дуктивное воображение» - И. Кант - конструктивная деятельность созн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ивное воображение может запускаться внешними впечатлениями, наблюд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оретик сначала мысленно конструирует нечто, а затем познает то, что уже помыслено»), а также улучшаются, уточняются, углубляются с помощью экспериментов и наблю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33C5-D764-4C99-B568-C44C20FC10D4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ю науку физик рассматривает ка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сывающую реальный мир наблю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может включать множество дополнительных особенностей, которые, хотя сами по себе и не отражают реального опыта, играют важную роль в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кам приходится придумывать чисто умозрительные, абстрактные понятия для моделирования реально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ограничиться исключительно наблюдаемыми велич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5B13-DA19-40F3-BD64-25EF1D52B2A8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CE8-7F58-486C-A2AE-DA5763D0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28E-56D7-4FD5-B371-B2379C1A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D50-BF02-46B7-91E5-4CAB7EA1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89A-3531-4627-B66F-1EC98ECE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C798-AE2D-4F7E-B2FB-EC2628B3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E252-9595-4DF2-BA54-31F5BEF7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1319-483A-4452-B879-22CAD8E9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A5E2-0DA5-47C2-8195-FD233426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F677-F172-4A12-AE06-7A88003B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62D6-A6C3-4E3A-AA69-EEEEA4DF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8BFF-687A-4E1F-85FC-0D477EF6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AAB0-5B89-496A-AA6F-B004CB98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16AF-E838-4C3B-9E6F-C260858D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01F8-8B95-4CA7-B6B7-4AB2C245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A0B4-F916-44EE-942D-C63DDE3F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56E8-E1CF-47C4-9265-1D517EE1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65A2-B078-4341-B22E-0A041CD2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98F6F-35B8-4319-9A3B-0DCE63A4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83DA8-2CB0-4379-B5DE-5466F2E2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BA70D-B0A6-4BDC-879D-4B0773D0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85A1B-14C6-47C6-A27A-63C4470D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60FAF-9686-4B52-98FF-3E70848C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FBB-E7E8-41FD-B4A7-15E2548E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2AD65-F3F7-4496-B54F-4C370F8B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CC02D-B035-4B9D-B043-BDEE9934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87106-3215-4709-A0C3-94DF5AF2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6D724-46C5-46E6-BDCA-97E85087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37048-6D80-4FE3-8AF9-D0C9B1D7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6634B-18AA-417D-8055-BFDB343E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73229-2110-48D6-B567-9A55E95D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286B9-F56F-478D-8409-7B99F6C2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123D0-7C9E-49BD-AD30-AFD30811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98464-00CA-4845-971F-F89B6525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6A2-8278-4513-93EC-32DAACA9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83A88-2DC1-4A77-857E-5D42A2C3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40C8B-4B76-46EE-84E8-F5284C56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D761D-F587-43B5-98A5-D373ACA3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7BF47-DC74-4551-8B8C-F609F5B9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E26DF-BBD3-428C-A0CC-30C97334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8B4DC-F527-45A8-A24E-116826B0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A8C4A-1A2A-43C4-9621-6CDFF42D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7DBD6-C8DD-4E6B-99C2-9FE00038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0AEE1-5A20-46E9-8D55-05881C0A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F1D-5C15-4A97-8203-D93DF03E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788-41F0-4DDB-9E57-FF54A4EB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F2A-B451-4E8B-AF4D-7AB8DBEE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654-9C72-4643-9024-589D001A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B3E-DD82-4D1C-878C-C7582F91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FFA4-9683-4BC3-9558-75E2C54F0823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7B69-F7B9-48BA-B61D-C7D206ADEE6B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B48C-6634-4130-BB1E-297850876D83}" type="datetime"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5DCB-8491-4E14-8BF7-F0672E017D42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A62C-3784-4BC4-B760-61B1602E7F5C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0580-FBFD-4AA4-9985-7B9F7019DCE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A3FA-5054-4407-96F6-C8198916D971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9AC5-C020-4832-B076-5C70818939FB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1640" y="1988640"/>
            <a:ext cx="347508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Философия науки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1640" y="4421160"/>
            <a:ext cx="360036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242"/>
                </a:solidFill>
                <a:latin typeface="Century Gothic"/>
              </a:rPr>
              <a:t>Классический и неклассический идеалы рациональности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59924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остроение завершенной научной теори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развитии современных научных дисциплин особую роль играю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пециальные картины мира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пециальными картинами мира называют обобщенные схемы – образы предмета исследования, посредством которых фиксируются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основные системные характеристики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изучаемой реальност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68360" y="692280"/>
            <a:ext cx="820728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мир» применяется здесь в специфическом смысле – как обозначение некоторой сферы действительности, изучаемой в данной науке («мир физики», «мир биологии» и т.п.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Чтобы избежать терминологических сложностей, имеет смысл пользоваться иным названием –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артина исследуемой реальности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иболее изученным ее образцом являе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физическая картина мира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611280" y="836280"/>
            <a:ext cx="792144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Например, представления: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ир состоит из неделимых корпускул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х взаимодействие осуществляется как мгновенная передача сил по прямой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орпускулы и образованные из них тела перемещаются в абсолютном пространстве с течением абсолютного времени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то описание картины физического мира, сложившейся во второй половине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VI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 и получившей впоследствии названи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еханической картины мир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84360" y="907560"/>
            <a:ext cx="77752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еход от механической к электродинамической (последняя четверть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IX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), а затем к квантово-релятивистской картине физической реальности (первая половина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X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) сопровождался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зменением физических представлений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 аналогии с физической картиной мира можно выделить картины реальности в других науках (химии, биологии, астрономии и т.д.) Среди них также существуют исторически сменяющие друг друга типы картин мира, что обнаруживается при анализе истории наук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1280" y="836640"/>
            <a:ext cx="792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ртина реальности обеспечив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истематизацию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знаний в рамках соответствующей наук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 ней связаны различные типы теорий научной дисциплины (фундаментальные и частные), а также опытные факты, на которые опираются и с которыми должны быть согласованы принципы картины реальност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дновременно она функционирует в качеств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сследовательской программы,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которая целенаправляет постановку задач как эмпирического, так и теоретического поиска и выбор средств их реше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10920" y="764640"/>
            <a:ext cx="799308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из конкретно-исторических форм картины исследуемой реальности может реализовываться в ряд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одификаци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выражающих основные этапы развития научных знаний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еемственность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в развитии того или иного типа картины реальности (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развитие представлений Ньютона о физическом мире Эйлером, развитие электродинамической картины мира Фарадеем, Максвеллом, Герцем, Лоренцем, каждый из которых вводил в эту картину новые элементы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10920" y="907560"/>
            <a:ext cx="7848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урирующие и альтернативны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друг другу представления о физическом мире - когда одно из них в конечном итоге побеждает в качестве «истинной» физической картины мира (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,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борьба Ньютоновской и Декартовой концепции природы как альтернативных вариантов механической картины мира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360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Общая научн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8360" y="1413000"/>
            <a:ext cx="820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щая научная картина мира выступает особой формой теоретического зна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ртины реальности, развиваемые в отдельных научных дисциплинах, не являются изолированными друг от друга. Они взаимодействуют между собо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щая научная картина мира выступ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формой систематизации знаний, интегративно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по отношению к специальным картинам реальности (дисциплинарным онтологиям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68360" y="83664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на интегрирует наиболее важные достижения естественных, гуманитарных и технических наук – это достижения типа представлений о нестационарной Вселенной и Большом взрыве, о кварках и синергетических процессах, о генах, экосистемах и биосфере, об обществе как целостной системе, о формациях и цивилизациях и т.д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начале они развиваются как фундаментальные идеи и представления соответствующих дисциплинарных онтологий, а затем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ключаются в общую научную картину мир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02468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детерминизм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0920" y="1484280"/>
            <a:ext cx="777708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инцип детерминизма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держит ответ на вопрос, обусловлены ли явления мира в своём существовании и развитии, имеет ли эта обусловленность регулярный, упорядоченный или произвольный, неупорядоченный характер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ми словами, это вопрос о том, выступает ли мир в своём существовании и развитии как упорядоченный космос или неупорядоченный хаос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ратное понятие -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ндетерминиз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Вопросы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39280" y="1125000"/>
            <a:ext cx="799164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Научная картина мир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остроение завершенной научной теор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лассическая, неклассическая и постнеклассическая картины мир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Picture 7" descr="Картинка 3 из 148424"/>
          <p:cNvPicPr/>
          <p:nvPr/>
        </p:nvPicPr>
        <p:blipFill>
          <a:blip r:embed="rId1"/>
          <a:stretch/>
        </p:blipFill>
        <p:spPr>
          <a:xfrm>
            <a:off x="1979640" y="3068640"/>
            <a:ext cx="5076720" cy="338148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5280" y="62028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Любая, идеалистическая или материалистическая философская система, построенная на принципах рационального объяснения бытия, необходимо затрагивает проблему всеобщей обусловленности явлений и процессов в мире, которая и обозначается понятием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детерминиз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 лат.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eterminate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– определять, отделять, отграничивать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Детерминизм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 – это учение о всеобщей обусловленности объективных явлени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любое событие, любой факт, явление и т. д. имеют свою причину и могут выступать причиной другого события, факта, явле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13744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23640" y="1341000"/>
            <a:ext cx="56163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учная революция И. Ньюто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лассическое естествознани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иод: XV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I -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X век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Основная иде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переход от геоцентрической модели мира к гелиоцентрическ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ия: Н. Коперника, Г. Галилея, И. Кеплера, Р. Декарт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. Ньютон подвел итог их исследованиям, сформулировал базовые принципы новой научной картины мира в общем вид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2" name="Picture 5" descr="Картинка 4 из 149110"/>
          <p:cNvPicPr/>
          <p:nvPr/>
        </p:nvPicPr>
        <p:blipFill>
          <a:blip r:embed="rId1"/>
          <a:stretch/>
        </p:blipFill>
        <p:spPr>
          <a:xfrm>
            <a:off x="5724360" y="1989000"/>
            <a:ext cx="3219480" cy="381024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68360" y="836280"/>
            <a:ext cx="820728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ленная состоит из материальных тел и пустоты, представленная в виде комплекса механических систем, развивается без участия сознания и разум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я её история, начиная от «Большого взрыва» – результат слепого и стихийного движения материальных масс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есконечное трёхмерное пространство - так называемом абсолютное пространство, время в котором может быть измерено универсальными часами (абсолютное время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11280" y="836640"/>
            <a:ext cx="74246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Жизнь зарождается в первозданном океане случайно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как результат беспорядочных химических реакций, и пойди процесс чуть по-другому, сознание никогда не проявилось бы в быт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 точки зрения теории Ньютона появление жизни и сознания – не только загадка, но и явление достаточно странное, абсурдно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ознании: происходит четкое противопоставление субъекта и объекта исследования.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убъект – «не имеет значения»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0246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Основные измене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000" y="1196640"/>
            <a:ext cx="849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новной - язык математики, выделение строго объективных количественных характеристик земных тел (форма величина, масса, движение), выражение их в строгих математических закономерностя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етоды экспериментального исследова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новной принцип: механика, детерминиз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явление механистической научной картины мира на базе экспериментально математического естествозн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6723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Не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0920" y="1844640"/>
            <a:ext cx="4537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йнштейновская революция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иод: рубеж XIX - XX веко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ия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ложная структура ато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явление радиоактивност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искретность характера электромагнитного излучения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Picture 5" descr="Файл:Bundesarchiv Bild 102-10447, Albert Einstein.jpg"/>
          <p:cNvPicPr/>
          <p:nvPr/>
        </p:nvPicPr>
        <p:blipFill>
          <a:blip r:embed="rId1"/>
          <a:stretch/>
        </p:blipFill>
        <p:spPr>
          <a:xfrm>
            <a:off x="5435640" y="1125360"/>
            <a:ext cx="3243240" cy="484992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Основные измене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280" y="1341360"/>
            <a:ext cx="7280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ыла подорвана важнейшая предпосылка механистической картины мира - убежденность в том, что с помощью простых сил, действующих между неизменными объектами, можно объяснить все явления природ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пециальная теория относительности (СТО) А. Эйнштейна вступила в противоречие с теорией гравитации Ньютон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еории Эйнштейна гравитация – это не сила, а проявление искривления пространства-времен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68360" y="836280"/>
            <a:ext cx="813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соответствии с теорией относительности, пространство и время относительны - результаты измерения длины и времени зависят от того, движется наблюдатель или нет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ир гораздо разнообразнее и сложне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чем это представлялось механистической наук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знание человека изначально включено в само наше восприятие действительности. Это следует понимать так: мир таков, потому что это мы глядим на него, и изменения в нас, в нашем самосознании меняют картину мир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39640" y="907560"/>
            <a:ext cx="792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Чисто объективное» описание картины мира  невозможно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едукционистский подход  сменя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вантовый подход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- мир нельзя объяснить лишь как сумму его составных частей. Макромир и микромир тесно связан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роцессе познания важное место занимаю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змерительные прибор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992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Постне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нергетика - междисциплинарное направление научных исследований, задачей которого является изучение природных явлений и процессов на основе принципов самоорганизации систем (состоящих из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одсисте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обое внимание уделяется структурам, возникающим в процессе самоорганизац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ознание включены ценностные аспект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02468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философия наук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400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епосредственной предшественницей философии науки является гносеология XVII-XVIII вв. (эмпиризм и рационализм), в центре которой было осмысление сущности научного знания и методов его получения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Гносеологические вопросы были центральной темой классического этапа философии Нового времени - от Р. Декарта и Дж. Локка до И. Канта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Как отдельное направление философии, философия науки оформилась в XIX в. В её развитии можно выделить несколько этапов: позитивизм, постпозитивизм и концепции науки П. Фейерабенда, И. Локатоса, Т. Куна и К. Поппера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 отношении научное знание в философии познания принято употреблять понятие </a:t>
            </a:r>
            <a:r>
              <a:rPr b="1" lang="ru-RU" sz="2200" spc="-1" strike="noStrike">
                <a:solidFill>
                  <a:srgbClr val="3e3d2d"/>
                </a:solidFill>
                <a:latin typeface="Century Gothic"/>
              </a:rPr>
              <a:t>«эпистемология»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752796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Синергетик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360" y="1773000"/>
            <a:ext cx="42480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мецкий ученый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Герман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Хакен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родился в 1927 г.) -  немецкий физик-теоретик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звал теорию самоорганизации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инергетико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теорией совместного действия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7" name="Picture 2" descr="Картинка 2 из 278"/>
          <p:cNvPicPr/>
          <p:nvPr/>
        </p:nvPicPr>
        <p:blipFill>
          <a:blip r:embed="rId1"/>
          <a:stretch/>
        </p:blipFill>
        <p:spPr>
          <a:xfrm>
            <a:off x="5364000" y="1557360"/>
            <a:ext cx="3230640" cy="439272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Аналогичные исследова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0" name="Picture 2" descr="Картинка 10 из 636"/>
          <p:cNvPicPr/>
          <p:nvPr/>
        </p:nvPicPr>
        <p:blipFill>
          <a:blip r:embed="rId1"/>
          <a:stretch/>
        </p:blipFill>
        <p:spPr>
          <a:xfrm>
            <a:off x="971640" y="2276640"/>
            <a:ext cx="2435040" cy="350820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5"/>
          <p:cNvSpPr/>
          <p:nvPr/>
        </p:nvSpPr>
        <p:spPr>
          <a:xfrm>
            <a:off x="3851280" y="2421000"/>
            <a:ext cx="46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лья́ Романович Пригожин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(1917 -2003 гг.) -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ельгийский и американский физик и химик российского происхожд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ауреат Нобелевской премии по химии 1977 год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еории диссипативных структур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68000" y="620280"/>
            <a:ext cx="8280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ый Пригожиным новый принцип -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орядок через флуктуацию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любое колебание или любое периодическое изменение)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льнейшие исследования показали, что он представляет собой базисный механизм развертывания эволюционных процессов во всех областях - от атомов до галактик, от отдельных клеток до человеческих существ и вплоть до обществ и культур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 основании этих наблюдений появилась возможность сформулировать единую точку зрения на эволюцию, объединяющим принципом которой является не стабильное состояние, а динамические состояния неуравновешенных сист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68000" y="620280"/>
            <a:ext cx="8064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ые системы на всех уровнях являются носителями всеобщей эволюции, которая гарантирует, что жизнь будет продолжать свое движение во всё более новые динамические режимы слож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икрокосм и макрокосм являются аспектами единой эволюц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волюция человека является значимой составной частью вселенской эволюц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Вопрос для самостоятельной работы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окомментируйте высказывание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«Человек, вооруженный только наукой, подобен ребенку, играющему с коробкой спичек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жон Скот Холдей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шотландский учены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Научн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280" y="1557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селенна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 в физике обозначает многообразный физический мир, начиная от элементарных частиц и кончая метагалактик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На философском языке «Вселенная» может обозначать бытие или Мироздани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ми словами «Вселенная» (Универсум – лат.) в философии имеет иное значение, чем в физик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нятое в философии понятие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артина мира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означает видимый портрет мироздания, образно-понятийное описание Вселенн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68000" y="62064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лово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селенна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 буквально означ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единство, общность всех вещей, рассматриваемых как цело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плоть до ХХ в. познание Вселенной как целого в основном оставалось прерогативой религ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лософию всегда интересовали не отдельные вещи, не каждая вещь сама по себе, в своем обособленном, отдельном существовании, а совокупность всего существующего, публичная жизнь каждой вещи, ее универсальное существовани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чем под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ещами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нимались не только физические (материальные) и духовные объекты, но также все ирреальное, фантастическое и сверхъестественное, если оно существует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94920" y="549360"/>
            <a:ext cx="8280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учная космология как самостоятельная отрасль знания возникла сравнительно недавно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ъект внимания физики космологии –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Вселенная в целом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– недоступен для наблюдения. Космологи прибегают к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экстраполяции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Законы физики, выведенные из наблюдений и экспериментов над отдельными частями Вселенной, применяются и ко Вселенной в цело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общая теория относительности (лучшая из существующих на сегодня теорий гравитации), проверенная экспериментально в основном в пределах Солнечной системы, применяется к расчету движения всей Вселенно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68000" y="69192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меняя законы физики к Вселенной в целом, мы совершаем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логический скачок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переносим умозрительные схемы (модели) определенной части физического мира на Вселенную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очность моделей подтверждается неоднократными (повторяемыми) эксперимент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оспроизводимость экспериментальных проверок увеличивает доверие к модели, модель становится частью совершенного научного знания, оставаясь в этом качестве до тех пор, пока ей на смену не придет улучшенная, более точная или более глубокая модель (теория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68360" y="549360"/>
            <a:ext cx="82072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ми рациональные законы, которые экстраполируются на всю Вселенную, созда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одуктивным воображением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уче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Продуктивное воображение» - И. Кант - конструктивная деятельность сознания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одуктивное воображение может запускаться внешними впечатлениями, наблюдения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Теоретик сначала мысленно конструирует нечто, а затем познает то, что уже помыслено»), а также улучшаются, уточняются, углубляются с помощью экспериментов и наблюдени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68360" y="691920"/>
            <a:ext cx="8207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вою науку физик рассматривает как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одель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описывающую реальный мир наблюдени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та модель может включать множество дополнительных особенностей, которые, хотя сами по себе и не отражают реального опыта, играют важную роль в теор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зикам приходится придумывать чисто умозрительные, абстрактные понятия для моделирования реального мир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льзя ограничиться исключительно наблюдаемыми величин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5:30:35Z</dcterms:created>
  <dc:creator>user</dc:creator>
  <dc:description/>
  <dc:language>en-US</dc:language>
  <cp:lastModifiedBy>LEGION</cp:lastModifiedBy>
  <dcterms:modified xsi:type="dcterms:W3CDTF">2014-11-11T07:54:47Z</dcterms:modified>
  <cp:revision>39</cp:revision>
  <dc:subject/>
  <dc:title>Презентация PowerPoint</dc:title>
</cp:coreProperties>
</file>