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C92C-E5D2-47D3-A878-93752959D4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ческий и неклассический идеалы рацион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A44B-4E38-49D7-82B6-BCCBCF3352EC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роение завершенной науч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ии современных научных дисциплин особую роль игр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ые картины ми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ми картинами мира называют обобщенные схемы – образы предмета исследования, посредством которых фиксиру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системные характерис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учаемой ре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808C-53C3-4598-8F42-F2860A70E9DF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ир» применяется здесь в специфическом смысле – как обозначение некоторой сферы действительности, изучаемой в данной науке («мир физики», «мир биологии» и т.п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избежать терминологических сложностей, имеет смысл пользоваться иным названием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ина исследуемой реа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зученным ее образцом 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ческая картина ми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A72D-C789-4EDD-AFED-BB27C90A39D4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, представл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состоит из неделимых корпуску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заимодействие осуществляется как мгновенная передача сил по прям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кулы и образованные из них тела перемещаются в абсолютном пространстве с течением абсолютного врем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писание картины физического мира, сложившейся во второй половин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 и получившей впоследствии назв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ческой картины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57E8-E924-4EB2-862E-DA9E602DE7B8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от механической к электродинамической (последняя четвер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), а затем к квантово-релятивистской картине физической реальности (перва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) сопровождал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нением физических представлен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аналогии с физической картиной мира можно выделить картины реальности в других науках (химии, биологии, астрономии и т.д.) Среди них также существуют исторически сменяющие друг друга типы картин мира, что обнаруживается при анализе истории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2E53-7B2C-47AD-8D99-2FD8A7A48873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ина реальности обеспечив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тиз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ний в рамках соответствующей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ей связаны различные типы теорий научной дисциплины (фундаментальные и частные), а также опытные факты, на которые опираются и с которыми должны быть согласованы принципы картины ре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временно она функционирует в качеств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тельской программы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ая целенаправляет постановку задач как эмпирического, так и теоретического поиска и выбор средств их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87B7-5488-43F2-9D2D-FBE7F8431721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конкретно-исторических форм картины исследуемой реальности может реализовываться в ряд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ифик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ыражающих основные этапы развития научных зн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ем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азвитии того или иного типа картины реальности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звитие представлений Ньютона о физическом мире Эйлером, развитие электродинамической картины мира Фарадеем, Максвеллом, Герцем, Лоренцем, каждый из которых вводил в эту картину новые элемен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55EB-2D0D-480E-A219-2024B6742BAB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ирующие и альтерн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руг другу представления о физическом мире - когда одно из них в конечном итоге побеждает в качестве «истинной» физической картины мира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рьба Ньютоновской и Декартовой концепции природы как альтернативных вариантов механической картины ми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C085-F917-44E2-ABCB-EC76D442C0E7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 выступает особой формой теоретического 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ины реальности, развиваемые в отдельных научных дисциплинах, не являются изолированными друг от друга. Они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 выступ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ой систематизации знаний, интеграт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ношению к специальным картинам реальности (дисциплинарным онтология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74AD-1B4B-46F8-8788-A5A9B09A3BCE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интегрирует наиболее важные достижения естественных, гуманитарных и технических наук – это достижения типа представлений о нестационарной Вселенной и Большом взрыве, о кварках и синергетических процессах, о генах, экосистемах и биосфере, об обществе как целостной системе, о формациях и цивилизациях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они развиваются как фундаментальные идеи и представления соответствующих дисциплинарных онтологий, а зат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ключаются в общую научную картину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9F25-9BF1-455A-B1EF-127AE13994C3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 детерминиз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ит ответ на вопрос, обусловлены ли явления мира в своём существовании и развитии, имеет ли эта обусловленность регулярный, упорядоченный или произвольный, неупорядоченный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словами, это вопрос о том, выступает ли мир в своём существовании и развитии как упорядоченный космос или неупорядоченный ха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е понятие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ACA0-1017-42EB-BDF7-36F46ECD8986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роение завершенной науч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ческая, неклассическая и постнеклассическая картины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CB6C-531B-42CB-B865-EB7B13C32C4D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ая, идеалистическая или материалистическая философская система, построенная на принципах рационального объяснения бытия, необходимо затрагивает проблему всеобщей обусловленности явлений и процессов в мире, которая и обозначается понятием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лат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at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пределять, отделять, отграничи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это учение о всеобщей обусловленности объективных явл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событие, любой факт, явление и т. д. имеют свою причину и могут выступать причиной другого события, факта, 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7BF8-B9BF-4469-BBA5-44C74BD18876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революция И. Ньют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ое ест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: X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ая иде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ереход от геоцентрической модели мира к гелиоцентричес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я: Н. Коперника, Г. Галилея, И. Кеплера, Р. Дека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 Ньютон подвел итог их исследованиям, сформулировал базовые принципы новой научной картины мира в обще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BF3E-C645-4D8E-B419-89A49352BA86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ленная состоит из материальных тел и пустоты, представленная в виде комплекса механических систем, развивается без участия сознания и раз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её история, начиная от «Большого взрыва» – результат слепого и стихийного движения материальных м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конечное трёхмерное пространство - так называемом абсолютное пространство, время в котором может быть измерено универсальными часами (абсолютное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B067-C794-45D9-ACBE-38B618871BBC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знь зарождается в первозданном океане случай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к результат беспорядочных химических реакций, и пойди процесс чуть по-другому, сознание никогда не проявилось бы в быт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теории Ньютона появление жизни и сознания – не только загадка, но и явление достаточно странное, абсурд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знании: происходит четкое противопоставление субъекта и объекта исследован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– «не имеет знач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A7C6-BAAB-40DF-B502-2A8686876147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зме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- язык математики, выделение строго объективных количественных характеристик земных тел (форма величина, масса, движение), выражение их в строгих математических закономерност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экспериментального исслед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принцип: механика, 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механистической научной картины мира на базе экспериментально математического ест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5F90-F886-4742-B481-CB12627D45CB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йнштейновская револю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: рубеж XIX - XX ве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ая структура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ение радиоа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ретность характера электромагнитного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9194-0D41-4DCF-B95B-80C22BE7F983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зме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а подорвана важнейшая предпосылка механистической картины мира - убежденность в том, что с помощью простых сил, действующих между неизменными объектами, можно объяснить все явления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ая теория относительности (СТО) А. Эйнштейна вступила в противоречие с теорией гравитации Ньют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Эйнштейна гравитация – это не сила, а проявление искривления пространства-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7297-3BF0-4B3A-8C82-200A5216E571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теорией относительности, пространство и время относительны - результаты измерения длины и времени зависят от того, движется наблюдатель ил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 гораздо разнообразнее и сложне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ем это представлялось механистической нау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нание человека изначально включено в само наше восприятие действительности. Это следует понимать так: мир таков, потому что это мы глядим на него, и изменения в нас, в нашем самосознании меняют картину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6D02-1950-4047-8CF0-04E3771564BE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исто объективное» описание картины мира  невозм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укционистский подход  смен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вантов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мир нельзя объяснить лишь как сумму его составных частей. Макромир и микромир тесно связ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познания важное место заним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р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4E85-6AB0-4682-BAF2-0AE129C2EC91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не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ергетика - междисциплинарное направление научных исследований, задачей которого является изучение природных явлений и процессов на основе принципов самоорганизации систем (состоящих из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дсист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уделяется структурам, возникающим в процессе само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знание включены ценностные асп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E93A-7D2F-4258-9531-34491C7DAA2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й предшественницей философии науки является гносеология XVII-XVIII вв. (эмпиризм и рационализм), в центре которой было осмысление сущности научного знания и методов его пол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носеологические вопросы были центральной темой классического этапа философии Нового времени - от Р. Декарта и Дж. Локка до И. Ка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дельное направление философии, философия науки оформилась в XIX в. В её развитии можно выделить несколько этапов: позитивизм, постпозитивизм и концепции науки П. Фейерабенда, И. Локатоса, Т. Куна и К. Попп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ношении научное знание в философии познания принято употреблять поня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эпистем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60D6-9A41-42C5-893A-B2B0390045B5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ерге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учен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рм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к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одился в 1927 г.) -  немецкий физик-теорет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л теорию самоорганиза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ергети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еорией совместного действ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9576-AB40-4695-976B-BAAF19CA5717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огичные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лья́ Романович Пригож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1917 -2003 гг.)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ьгийский и американский физик и химик российского происх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уреат Нобелевской премии по химии 1977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и диссипативных струк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8F10-243E-43F0-B3F9-7E7B5AF17A74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ый Пригожиным новый принцип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через флукту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любое колебание или любое периодическое изменени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йшие исследования показали, что он представляет собой базисный механизм развертывания эволюционных процессов во всех областях - от атомов до галактик, от отдельных клеток до человеческих существ и вплоть до обществ и культу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этих наблюдений появилась возможность сформулировать единую точку зрения на эволюцию, объединяющим принципом которой является не стабильное состояние, а динамические состояния неуравновешенных сис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C53D-5661-401F-B094-911AC6935722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ые системы на всех уровнях являются носителями всеобщей эволюции, которая гарантирует, что жизнь будет продолжать свое движение во всё более новые динамические режимы сл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косм и макрокосм являются аспектами единой эволю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человека является значимой составной частью вселенской эволю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C884-887F-4D63-B888-8A2D67E5F4F9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омментируйте высказыв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еловек, вооруженный только наукой, подобен ребенку, играющему с коробкой спи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Скот Холд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тландский уче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8ACA-7B84-4C75-8BBC-C21EEA1791AE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в физике обозначает многообразный физический мир, начиная от элементарных частиц и кончая метагалакт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философском языке «Вселенная» может обозначать бытие или Мирозд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словами «Вселенная» (Универсум – лат.) в философии имеет иное значение, чем в физ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ое в философии понят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ина мир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 видимый портрет мироздания, образно-понятийное описание Всел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522F-53A7-45B0-8407-AE974507DE51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о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буквально означ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динство, общность всех вещей, рассматриваемых как цел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лоть до ХХ в. познание Вселенной как целого в основном оставалось прерогативой рели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ю всегда интересовали не отдельные вещи, не каждая вещь сама по себе, в своем обособленном, отдельном существовании, а совокупность всего существующего, публичная жизнь каждой вещи, ее универсальное существ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ем под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щ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лись не только физические (материальные) и духовные объекты, но также все ирреальное, фантастическое и сверхъестественное, если оно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1A97-A0CC-4A30-A909-6FA1F9F2A99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осмология как самостоятельная отрасль знания возникла сравнительно недав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внимания физики космологии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ленная в цел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недоступен для наблюдения. Космологи прибегают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страполя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физики, выведенные из наблюдений и экспериментов над отдельными частями Вселенной, применяются и ко Вселенной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щая теория относительности (лучшая из существующих на сегодня теорий гравитации), проверенная экспериментально в основном в пределах Солнечной системы, применяется к расчету движения всей Всел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8F61-66F2-4CE0-924C-EB022C69E8C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я законы физики к Вселенной в целом, мы соверша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ческий скач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ереносим умозрительные схемы (модели) определенной части физического мира на Вселен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сть моделей подтверждается неоднократными (повторяемыми) эксперим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одимость экспериментальных проверок увеличивает доверие к модели, модель становится частью совершенного научного знания, оставаясь в этом качестве до тех пор, пока ей на смену не придет улучшенная, более точная или более глубокая модель (теор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E39A-6F8F-4E89-834E-270C3AA5D18D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 рациональные законы, которые экстраполируются на всю Вселенную, созда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уктивным воображени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дуктивное воображение» - И. Кант - конструктивная деятельность созн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ивное воображение может запускаться внешними впечатлениями, наблюд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оретик сначала мысленно конструирует нечто, а затем познает то, что уже помыслено»), а также улучшаются, уточняются, углубляются с помощью экспериментов и наблю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25D3-C174-455C-90D7-569F1B6C2278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ю науку физик рассматривает ка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сывающую реальный мир наблю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модель может включать множество дополнительных особенностей, которые, хотя сами по себе и не отражают реального опыта, играют важную роль в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кам приходится придумывать чисто умозрительные, абстрактные понятия для моделирования реально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ограничиться исключительно наблюдаемыми велич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1AD6-6DF2-43D1-8BD7-40DA5141A30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BA3-5220-4A68-92FA-13B28F72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D6D-62FD-4FD8-9A22-7554B2C7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20B-34CB-4434-B459-B2EB184F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C14-1B45-4774-AB04-06C78D5E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EC4E-676D-4907-ACBB-2ED0B1B3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CC19-60A6-4A91-A0FC-DAD5A2F1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751F-0AFD-4428-A623-0764164A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8EFA-F1F8-490B-958D-EEB7AD01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CCF8-014A-463F-BBCA-BBB6BA12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71E2-ABC4-46C8-91AD-DBEA0B4E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FBEE-0742-4877-AB04-A3E62DB8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1FC-D9C3-4B23-B6F3-6A2DFB1F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59B9-DBC8-48B8-82EB-24FDACEB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B8EB-CD67-40F9-A13B-1DE4D46B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C804-6B8B-4DBB-987A-25D6BB08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1348-EA1D-4386-A44C-CCCF09C5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8461-CFCF-47AF-B9E6-F51D56C2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63845-B9DE-4AFC-8238-CD32E4AB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2FE55D-C993-4E62-8D1B-4DA5AE25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657A4-84E5-4C3E-96B2-46F726A1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B3586-1861-47A4-96A5-26D10571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DF95A-BB6E-4EB4-A87A-872241D9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D7D-94B4-4AFA-8BD0-995F5601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0AE7D-14DB-4F60-83A3-DE1D3A13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A8D8E-DEF0-4719-92F8-2CBA20DC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E99B6-2823-4D17-8FED-188ECB5F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F585F-07AD-4991-BFC1-89987707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69C77-9198-4213-80D6-DB71A66F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931E7-BF5B-44D0-BE74-F3CA40DD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20884-15EB-4F61-B6F7-475CECA8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29DD3-F702-49D9-A392-E3A89BD0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F7E61-0C10-4D61-B1B0-B493468D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A9F22-E2F9-4A5D-ADC6-B72CC9DF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403-044C-4AD0-B141-45A1B5B8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73A4D-2360-4EF1-A3BD-0071C30E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499F3-01CB-4EA2-972A-628DA94A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3C77D-D2A4-45AC-9A04-7A55979D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7A7A6-369F-42BA-91D5-17C48055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A6BD9-820A-422C-840D-87D395AE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23B61-ED34-4377-9A97-5952ADD6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A8FE9-021D-4EC3-B1DD-4A56F30F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9BF14-B5E7-4351-8C01-239CB40F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D179D-80E9-4293-B335-8C9D23C7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C83-5D3C-4733-B2F5-A89E1562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E0C-A51A-43B3-95CB-E3CA5A69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8D3-E556-4EC8-84B8-C234B1FF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346-FC7A-4B54-827B-2D5F0764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2C85-8FF8-49C2-BE9C-74B5266A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B812-EF04-4DA0-A519-22B85C26C5E7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AB4A-2343-4B54-8C10-B84191A01717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4204-7121-41EC-AE13-29654CF99E7F}" type="datetime"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1BA5-1310-4885-82F7-CC87E2DF743E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9E08-3FB2-455D-986F-4B41204AF571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11C9-7E68-4220-9B4E-3767CDF6004B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5300-454E-4EEC-80C8-3FE5E66421C3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9F67-EDB3-4825-87C4-AB01EA6CB6E5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1640" y="1988640"/>
            <a:ext cx="3475080" cy="20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Философия науки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1640" y="4421160"/>
            <a:ext cx="3600360" cy="16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242"/>
                </a:solidFill>
                <a:latin typeface="Century Gothic"/>
              </a:rPr>
              <a:t>Классический и неклассический идеалы рациональности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759924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остроение завершенной научной теори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8360" y="1915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развитии современных научных дисциплин особую роль играю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пециальные картины мира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пециальными картинами мира называют обобщенные схемы – образы предмета исследования, посредством которых фиксируются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основные системные характеристики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изучаемой реальност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68360" y="692280"/>
            <a:ext cx="820728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ермин «мир» применяется здесь в специфическом смысле – как обозначение некоторой сферы действительности, изучаемой в данной науке («мир физики», «мир биологии» и т.п.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Чтобы избежать терминологических сложностей, имеет смысл пользоваться иным названием –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артина исследуемой реальности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иболее изученным ее образцом являе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физическая картина мира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611280" y="836280"/>
            <a:ext cx="792144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Например, представления: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ир состоит из неделимых корпускул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х взаимодействие осуществляется как мгновенная передача сил по прямой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орпускулы и образованные из них тела перемещаются в абсолютном пространстве с течением абсолютного времени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то описание картины физического мира, сложившейся во второй половине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VI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 и получившей впоследствии названи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еханической картины мир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84360" y="907560"/>
            <a:ext cx="77752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еход от механической к электродинамической (последняя четверть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IX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), а затем к квантово-релятивистской картине физической реальности (первая половина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X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) сопровождался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зменением физических представлений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 аналогии с физической картиной мира можно выделить картины реальности в других науках (химии, биологии, астрономии и т.д.) Среди них также существуют исторически сменяющие друг друга типы картин мира, что обнаруживается при анализе истории наук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1280" y="836640"/>
            <a:ext cx="792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ртина реальности обеспечив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истематизацию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знаний в рамках соответствующей наук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 ней связаны различные типы теорий научной дисциплины (фундаментальные и частные), а также опытные факты, на которые опираются и с которыми должны быть согласованы принципы картины реальност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дновременно она функционирует в качеств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сследовательской программы,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которая целенаправляет постановку задач как эмпирического, так и теоретического поиска и выбор средств их реше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10920" y="764640"/>
            <a:ext cx="799308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из конкретно-исторических форм картины исследуемой реальности может реализовываться в ряд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одификаци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выражающих основные этапы развития научных знаний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еемственность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в развитии того или иного типа картины реальности (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развитие представлений Ньютона о физическом мире Эйлером, развитие электродинамической картины мира Фарадеем, Максвеллом, Герцем, Лоренцем, каждый из которых вводил в эту картину новые элементы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10920" y="907560"/>
            <a:ext cx="7848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урирующие и альтернативны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друг другу представления о физическом мире - когда одно из них в конечном итоге побеждает в качестве «истинной» физической картины мира (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,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борьба Ньютоновской и Декартовой концепции природы как альтернативных вариантов механической картины мира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360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Общая научн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68360" y="1413000"/>
            <a:ext cx="820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щая научная картина мира выступает особой формой теоретического зна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ртины реальности, развиваемые в отдельных научных дисциплинах, не являются изолированными друг от друга. Они взаимодействуют между собо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щая научная картина мира выступ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формой систематизации знаний, интегративно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по отношению к специальным картинам реальности (дисциплинарным онтологиям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68360" y="83664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на интегрирует наиболее важные достижения естественных, гуманитарных и технических наук – это достижения типа представлений о нестационарной Вселенной и Большом взрыве, о кварках и синергетических процессах, о генах, экосистемах и биосфере, об обществе как целостной системе, о формациях и цивилизациях и т.д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начале они развиваются как фундаментальные идеи и представления соответствующих дисциплинарных онтологий, а затем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ключаются в общую научную картину мир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02468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детерминизм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0920" y="1484280"/>
            <a:ext cx="777708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инцип детерминизма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держит ответ на вопрос, обусловлены ли явления мира в своём существовании и развитии, имеет ли эта обусловленность регулярный, упорядоченный или произвольный, неупорядоченный характер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ми словами, это вопрос о том, выступает ли мир в своём существовании и развитии как упорядоченный космос или неупорядоченный хаос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ратное понятие -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ндетерминиз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Вопросы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39280" y="1125000"/>
            <a:ext cx="799164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Научная картина мир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остроение завершенной научной теор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лассическая, неклассическая и постнеклассическая картины мир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Picture 7" descr="Картинка 3 из 148424"/>
          <p:cNvPicPr/>
          <p:nvPr/>
        </p:nvPicPr>
        <p:blipFill>
          <a:blip r:embed="rId1"/>
          <a:stretch/>
        </p:blipFill>
        <p:spPr>
          <a:xfrm>
            <a:off x="1979640" y="3068640"/>
            <a:ext cx="5076720" cy="338148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5280" y="620280"/>
            <a:ext cx="8353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Любая, идеалистическая или материалистическая философская система, построенная на принципах рационального объяснения бытия, необходимо затрагивает проблему всеобщей обусловленности явлений и процессов в мире, которая и обозначается понятием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детерминизм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 лат.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eterminate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– определять, отделять, отграничивать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Детерминизм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 – это учение о всеобщей обусловленности объективных явлени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любое событие, любой факт, явление и т. д. имеют свою причину и могут выступать причиной другого события, факта, явле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13744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23640" y="1341000"/>
            <a:ext cx="56163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учная революция И. Ньюто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лассическое естествознани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иод: XV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I -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X век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Основная иде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: переход от геоцентрической модели мира к гелиоцентрическо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ия: Н. Коперника, Г. Галилея, И. Кеплера, Р. Декарт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. Ньютон подвел итог их исследованиям, сформулировал базовые принципы новой научной картины мира в общем вид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2" name="Picture 5" descr="Картинка 4 из 149110"/>
          <p:cNvPicPr/>
          <p:nvPr/>
        </p:nvPicPr>
        <p:blipFill>
          <a:blip r:embed="rId1"/>
          <a:stretch/>
        </p:blipFill>
        <p:spPr>
          <a:xfrm>
            <a:off x="5724360" y="1989000"/>
            <a:ext cx="3219480" cy="381024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68360" y="836280"/>
            <a:ext cx="820728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ленная состоит из материальных тел и пустоты, представленная в виде комплекса механических систем, развивается без участия сознания и разум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я её история, начиная от «Большого взрыва» – результат слепого и стихийного движения материальных масс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есконечное трёхмерное пространство - так называемом абсолютное пространство, время в котором может быть измерено универсальными часами (абсолютное время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11280" y="836640"/>
            <a:ext cx="74246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Жизнь зарождается в первозданном океане случайно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как результат беспорядочных химических реакций, и пойди процесс чуть по-другому, сознание никогда не проявилось бы в быт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 точки зрения теории Ньютона появление жизни и сознания – не только загадка, но и явление достаточно странное, абсурдно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ознании: происходит четкое противопоставление субъекта и объекта исследования.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убъект – «не имеет значения»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0246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Основные измене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000" y="1196640"/>
            <a:ext cx="849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новной - язык математики, выделение строго объективных количественных характеристик земных тел (форма величина, масса, движение), выражение их в строгих математических закономерностя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етоды экспериментального исследова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новной принцип: механика, детерминиз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явление механистической научной картины мира на базе экспериментально математического естествозна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76723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Не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0920" y="1844640"/>
            <a:ext cx="4537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йнштейновская революция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иод: рубеж XIX - XX веко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ия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ложная структура ато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явление радиоактивност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искретность характера электромагнитного излучения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3" name="Picture 5" descr="Файл:Bundesarchiv Bild 102-10447, Albert Einstein.jpg"/>
          <p:cNvPicPr/>
          <p:nvPr/>
        </p:nvPicPr>
        <p:blipFill>
          <a:blip r:embed="rId1"/>
          <a:stretch/>
        </p:blipFill>
        <p:spPr>
          <a:xfrm>
            <a:off x="5435640" y="1125360"/>
            <a:ext cx="3243240" cy="484992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Основные измене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280" y="1341360"/>
            <a:ext cx="7280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ыла подорвана важнейшая предпосылка механистической картины мира - убежденность в том, что с помощью простых сил, действующих между неизменными объектами, можно объяснить все явления природ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пециальная теория относительности (СТО) А. Эйнштейна вступила в противоречие с теорией гравитации Ньютон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еории Эйнштейна гравитация – это не сила, а проявление искривления пространства-времен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68360" y="836280"/>
            <a:ext cx="813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соответствии с теорией относительности, пространство и время относительны - результаты измерения длины и времени зависят от того, движется наблюдатель или нет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ир гораздо разнообразнее и сложне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чем это представлялось механистической наук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знание человека изначально включено в само наше восприятие действительности. Это следует понимать так: мир таков, потому что это мы глядим на него, и изменения в нас, в нашем самосознании меняют картину мир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39640" y="907560"/>
            <a:ext cx="792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Чисто объективное» описание картины мира  невозможно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Редукционистский подход  сменя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вантовый подход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- мир нельзя объяснить лишь как сумму его составных частей. Макромир и микромир тесно связан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роцессе познания важное место занимаю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змерительные прибор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992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Постне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нергетика - междисциплинарное направление научных исследований, задачей которого является изучение природных явлений и процессов на основе принципов самоорганизации систем (состоящих из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одсистем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обое внимание уделяется структурам, возникающим в процессе самоорганизац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ознание включены ценностные аспект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702468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философия наук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2400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епосредственной предшественницей философии науки является гносеология XVII-XVIII вв. (эмпиризм и рационализм), в центре которой было осмысление сущности научного знания и методов его получения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Гносеологические вопросы были центральной темой классического этапа философии Нового времени - от Р. Декарта и Дж. Локка до И. Канта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Как отдельное направление философии, философия науки оформилась в XIX в. В её развитии можно выделить несколько этапов: позитивизм, постпозитивизм и концепции науки П. Фейерабенда, И. Локатоса, Т. Куна и К. Поппера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В отношении научное знание в философии познания принято употреблять понятие </a:t>
            </a:r>
            <a:r>
              <a:rPr b="1" lang="ru-RU" sz="2200" spc="-1" strike="noStrike">
                <a:solidFill>
                  <a:srgbClr val="3e3d2d"/>
                </a:solidFill>
                <a:latin typeface="Century Gothic"/>
              </a:rPr>
              <a:t>«эпистемология»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752796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Синергетик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8360" y="1773000"/>
            <a:ext cx="42480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мецкий ученый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Герман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Хакен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родился в 1927 г.) -  немецкий физик-теоретик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звал теорию самоорганизации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инергетико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теорией совместного действия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17" name="Picture 2" descr="Картинка 2 из 278"/>
          <p:cNvPicPr/>
          <p:nvPr/>
        </p:nvPicPr>
        <p:blipFill>
          <a:blip r:embed="rId1"/>
          <a:stretch/>
        </p:blipFill>
        <p:spPr>
          <a:xfrm>
            <a:off x="5364000" y="1557360"/>
            <a:ext cx="3230640" cy="439272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Аналогичные исследова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0" name="Picture 2" descr="Картинка 10 из 636"/>
          <p:cNvPicPr/>
          <p:nvPr/>
        </p:nvPicPr>
        <p:blipFill>
          <a:blip r:embed="rId1"/>
          <a:stretch/>
        </p:blipFill>
        <p:spPr>
          <a:xfrm>
            <a:off x="971640" y="2276640"/>
            <a:ext cx="2435040" cy="350820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5"/>
          <p:cNvSpPr/>
          <p:nvPr/>
        </p:nvSpPr>
        <p:spPr>
          <a:xfrm>
            <a:off x="3851280" y="2421000"/>
            <a:ext cx="46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лья́ Романович Пригожин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(1917 -2003 гг.) -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ельгийский и американский физик и химик российского происхожде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ауреат Нобелевской премии по химии 1977 год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еории диссипативных структур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68000" y="620280"/>
            <a:ext cx="82803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ый Пригожиным новый принцип -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орядок через флуктуацию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любое колебание или любое периодическое изменение)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льнейшие исследования показали, что он представляет собой базисный механизм развертывания эволюционных процессов во всех областях - от атомов до галактик, от отдельных клеток до человеческих существ и вплоть до обществ и культур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 основании этих наблюдений появилась возможность сформулировать единую точку зрения на эволюцию, объединяющим принципом которой является не стабильное состояние, а динамические состояния неуравновешенных сист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68000" y="620280"/>
            <a:ext cx="80643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ые системы на всех уровнях являются носителями всеобщей эволюции, которая гарантирует, что жизнь будет продолжать свое движение во всё более новые динамические режимы сложнос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икрокосм и макрокосм являются аспектами единой эволюц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волюция человека является значимой составной частью вселенской эволюц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Вопрос для самостоятельной работы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окомментируйте высказывание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«Человек, вооруженный только наукой, подобен ребенку, играющему с коробкой спичек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жон Скот Холдей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шотландский учены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Научн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280" y="1557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ермин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селенна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 в физике обозначает многообразный физический мир, начиная от элементарных частиц и кончая метагалактик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На философском языке «Вселенная» может обозначать бытие или Мироздани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ми словами «Вселенная» (Универсум – лат.) в философии имеет иное значение, чем в физике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нятое в философии понятие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артина мира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»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означает видимый портрет мироздания, образно-понятийное описание Вселенно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68000" y="620640"/>
            <a:ext cx="8351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лово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селенна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 буквально означ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единство, общность всех вещей, рассматриваемых как цело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плоть до ХХ в. познание Вселенной как целого в основном оставалось прерогативой религ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Философию всегда интересовали не отдельные вещи, не каждая вещь сама по себе, в своем обособленном, отдельном существовании, а совокупность всего существующего, публичная жизнь каждой вещи, ее универсальное существование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чем под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ещами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нимались не только физические (материальные) и духовные объекты, но также все ирреальное, фантастическое и сверхъестественное, если оно существует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94920" y="549360"/>
            <a:ext cx="8280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учная космология как самостоятельная отрасль знания возникла сравнительно недавно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ъект внимания физики космологии –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Вселенная в целом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– недоступен для наблюдения. Космологи прибегают к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экстраполяции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Законы физики, выведенные из наблюдений и экспериментов над отдельными частями Вселенной, применяются и ко Вселенной в цело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общая теория относительности (лучшая из существующих на сегодня теорий гравитации), проверенная экспериментально в основном в пределах Солнечной системы, применяется к расчету движения всей Вселенно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68000" y="69192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меняя законы физики к Вселенной в целом, мы совершаем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логический скачок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переносим умозрительные схемы (модели) определенной части физического мира на Вселенную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очность моделей подтверждается неоднократными (повторяемыми) эксперимент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оспроизводимость экспериментальных проверок увеличивает доверие к модели, модель становится частью совершенного научного знания, оставаясь в этом качестве до тех пор, пока ей на смену не придет улучшенная, более точная или более глубокая модель (теория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68360" y="549360"/>
            <a:ext cx="82072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ми рациональные законы, которые экстраполируются на всю Вселенную, создаю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родуктивным воображением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уче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Продуктивное воображение» - И. Кант - конструктивная деятельность сознания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одуктивное воображение может запускаться внешними впечатлениями, наблюдения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Теоретик сначала мысленно конструирует нечто, а затем познает то, что уже помыслено»), а также улучшаются, уточняются, углубляются с помощью экспериментов и наблюдени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68360" y="691920"/>
            <a:ext cx="8207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вою науку физик рассматривает как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одель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описывающую реальный мир наблюдени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та модель может включать множество дополнительных особенностей, которые, хотя сами по себе и не отражают реального опыта, играют важную роль в теор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Физикам приходится придумывать чисто умозрительные, абстрактные понятия для моделирования реального мир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льзя ограничиться исключительно наблюдаемыми величин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5:30:35Z</dcterms:created>
  <dc:creator>user</dc:creator>
  <dc:description/>
  <dc:language>en-US</dc:language>
  <cp:lastModifiedBy>LEGION</cp:lastModifiedBy>
  <dcterms:modified xsi:type="dcterms:W3CDTF">2014-11-11T07:54:47Z</dcterms:modified>
  <cp:revision>39</cp:revision>
  <dc:subject/>
  <dc:title>Презентация PowerPoint</dc:title>
</cp:coreProperties>
</file>