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6DE0-BE3A-4846-B5C2-FAC3F9AEC5C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ософ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ческий и неклассический идеалы рацион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C427-9C74-45DC-AFEF-F1A3219D8A45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роение завершенной науч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витии современных научных дисциплин особую роль игр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ые картины ми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ми картинами мира называют обобщенные схемы – образы предмета исследования, посредством которых фиксиру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системные характерист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зучаемой реа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B512-DF09-4C7A-8E66-EDCA37375192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ир» применяется здесь в специфическом смысле – как обозначение некоторой сферы действительности, изучаемой в данной науке («мир физики», «мир биологии» и т.п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избежать терминологических сложностей, имеет смысл пользоваться иным названием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ртина исследуемой реа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изученным ее образцом 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зическая картина ми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6F92-56E9-4159-88B7-1A27FEBB76A9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, представл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состоит из неделимых корпуску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заимодействие осуществляется как мгновенная передача сил по прям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ускулы и образованные из них тела перемещаются в абсолютном пространстве с течением абсолютного врем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писание картины физического мира, сложившейся во второй половин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. и получившей впоследствии назв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ческой картины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4374-D417-49F9-BA55-EA7044833F2F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от механической к электродинамической (последняя четвер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.), а затем к квантово-релятивистской картине физической реальности (первая полов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.) сопровождал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нением физических представлен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аналогии с физической картиной мира можно выделить картины реальности в других науках (химии, биологии, астрономии и т.д.) Среди них также существуют исторически сменяющие друг друга типы картин мира, что обнаруживается при анализе истории на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32AD-879C-4C11-BDFA-0B58ECE1352D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ина реальности обеспечив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тизац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наний в рамках соответствующей на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ей связаны различные типы теорий научной дисциплины (фундаментальные и частные), а также опытные факты, на которые опираются и с которыми должны быть согласованы принципы картины реа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временно она функционирует в качеств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тельской программы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ая целенаправляет постановку задач как эмпирического, так и теоретического поиска и выбор средств их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A3A6-8BFE-4396-BB9D-CDF141868DD7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конкретно-исторических форм картины исследуемой реальности может реализовываться в ряд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ифик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ыражающих основные этапы развития научных зн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ем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развитии того или иного типа картины реальности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звитие представлений Ньютона о физическом мире Эйлером, развитие электродинамической картины мира Фарадеем, Максвеллом, Герцем, Лоренцем, каждый из которых вводил в эту картину новые элемент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DF1F-7EFF-4E20-97BA-B6FB15CE506B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рирующие и альтерна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руг другу представления о физическом мире - когда одно из них в конечном итоге побеждает в качестве «истинной» физической картины мира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имер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рьба Ньютоновской и Декартовой концепции природы как альтернативных вариантов механической картины ми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ABB6-031B-4420-B60D-4FB39E5DE6A7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научная картина мира выступает особой формой теоретического 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ины реальности, развиваемые в отдельных научных дисциплинах, не являются изолированными друг от друга. Они взаимодействуют между со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научная картина мира выступ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ой систематизации знаний, интегратив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ношению к специальным картинам реальности (дисциплинарным онтология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E0DD-D5E4-4D0F-9D84-5DA65BD945D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интегрирует наиболее важные достижения естественных, гуманитарных и технических наук – это достижения типа представлений о нестационарной Вселенной и Большом взрыве, о кварках и синергетических процессах, о генах, экосистемах и биосфере, об обществе как целостной системе, о формациях и цивилизациях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они развиваются как фундаментальные идеи и представления соответствующих дисциплинарных онтологий, а зат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ключаются в общую научную картину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6F20-20A1-4955-BAEF-C585FA0D5345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ерми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 детерминиз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ит ответ на вопрос, обусловлены ли явления мира в своём существовании и развитии, имеет ли эта обусловленность регулярный, упорядоченный или произвольный, неупорядоченный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ми словами, это вопрос о том, выступает ли мир в своём существовании и развитии как упорядоченный космос или неупорядоченный ха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ое понятие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етерми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FA97-E9AC-41FF-A187-A6CB252C6AB9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роение завершенной науч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ческая, неклассическая и постнеклассическая картины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C3D3-DDF7-47B0-8584-5836866F17E3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ая, идеалистическая или материалистическая философская система, построенная на принципах рационального объяснения бытия, необходимо затрагивает проблему всеобщей обусловленности явлений и процессов в мире, которая и обозначается понятием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лат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at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пределять, отделять, отграничи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терминиз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это учение о всеобщей обусловленности объективных явл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е событие, любой факт, явление и т. д. имеют свою причину и могут выступать причиной другого события, факта, 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64D3-1A43-44DE-BC24-D2C863DBDE9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ческ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революция И. Ньют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ческое естеств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: X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ая иде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переход от геоцентрической модели мира к гелиоцентричес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ия: Н. Коперника, Г. Галилея, И. Кеплера, Р. Дека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 Ньютон подвел итог их исследованиям, сформулировал базовые принципы новой научной картины мира в обще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3701-5BA2-418E-8A3A-EBDF9653234D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ленная состоит из материальных тел и пустоты, представленная в виде комплекса механических систем, развивается без участия сознания и раз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её история, начиная от «Большого взрыва» – результат слепого и стихийного движения материальных ма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конечное трёхмерное пространство - так называемом абсолютное пространство, время в котором может быть измерено универсальными часами (абсолютное вр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8EAF-BFB9-46EE-893C-33F54BA0DCEF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изнь зарождается в первозданном океане случай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ак результат беспорядочных химических реакций, и пойди процесс чуть по-другому, сознание никогда не проявилось бы в быт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теории Ньютона появление жизни и сознания – не только загадка, но и явление достаточно странное, абсурд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знании: происходит четкое противопоставление субъекта и объекта исследования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– «не имеет знач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2690-55FA-4943-ADF0-49893117C6D8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зме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- язык математики, выделение строго объективных количественных характеристик земных тел (форма величина, масса, движение), выражение их в строгих математических закономерност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экспериментального исслед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принцип: механика, детерми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механистической научной картины мира на базе экспериментально математического естеств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08DE-6835-48E1-A39B-6735FDE08C5D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классическ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йнштейновская револю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: рубеж XIX - XX ве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ая структура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ение радиоа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ретность характера электромагнитного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C698-DE44-4C19-A397-65638C8C739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зме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а подорвана важнейшая предпосылка механистической картины мира - убежденность в том, что с помощью простых сил, действующих между неизменными объектами, можно объяснить все явления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ая теория относительности (СТО) А. Эйнштейна вступила в противоречие с теорией гравитации Ньют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Эйнштейна гравитация – это не сила, а проявление искривления пространства-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4F59-CA54-46E1-A5C1-680D38CFBA98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теорией относительности, пространство и время относительны - результаты измерения длины и времени зависят от того, движется наблюдатель или 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 гораздо разнообразнее и сложне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ем это представлялось механистической нау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нание человека изначально включено в само наше восприятие действительности. Это следует понимать так: мир таков, потому что это мы глядим на него, и изменения в нас, в нашем самосознании меняют картину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AF92-65CB-4F3A-99E4-831767DC24A4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исто объективное» описание картины мира  невозмож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укционистский подход  сменя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вантовый под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мир нельзя объяснить лишь как сумму его составных частей. Макромир и микромир тесно связ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познания важное место заним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р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9561-FCA5-4293-85FC-C5369F37475A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неклассическ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ергетика - междисциплинарное направление научных исследований, задачей которого является изучение природных явлений и процессов на основе принципов самоорганизации систем (состоящих из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дсист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уделяется структурам, возникающим в процессе само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знание включены ценностные асп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2A49-80E5-4F99-A5F6-B46A544A97AF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й предшественницей философии науки является гносеология XVII-XVIII вв. (эмпиризм и рационализм), в центре которой было осмысление сущности научного знания и методов его пол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носеологические вопросы были центральной темой классического этапа философии Нового времени - от Р. Декарта и Дж. Локка до И. Ка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дельное направление философии, философия науки оформилась в XIX в. В её развитии можно выделить несколько этапов: позитивизм, постпозитивизм и концепции науки П. Фейерабенда, И. Локатоса, Т. Куна и К. Попп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ношении научное знание в философии познания принято употреблять понят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эпистем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6F60-3079-4940-A802-AB3296BB41B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ерге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учен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рм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к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одился в 1927 г.) -  немецкий физик-теорет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л теорию самоорганизац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ергетик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еорией совместного действ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E9D0-23F0-40C1-967E-50F28E34D0C5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огичные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лья́ Романович Пригож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1917 -2003 гг.) -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ьгийский и американский физик и химик российского происх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уреат Нобелевской премии по химии 1977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ии диссипативных струк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E84B-52CA-4CCB-9104-FF2416D2524F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ый Пригожиным новый принцип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через флуктуац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любое колебание или любое периодическое изменени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йшие исследования показали, что он представляет собой базисный механизм развертывания эволюционных процессов во всех областях - от атомов до галактик, от отдельных клеток до человеческих существ и вплоть до обществ и культу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этих наблюдений появилась возможность сформулировать единую точку зрения на эволюцию, объединяющим принципом которой является не стабильное состояние, а динамические состояния неуравновешенных сист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617E-D0D2-48E4-980E-3F59AC8D2309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ые системы на всех уровнях являются носителями всеобщей эволюции, которая гарантирует, что жизнь будет продолжать свое движение во всё более новые динамические режимы сло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косм и макрокосм являются аспектами единой эволю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человека является значимой составной частью вселенской эволю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E811-1FEF-4B50-B6B6-DF5CE3969FFB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для самостоятельной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омментируйте высказыв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еловек, вооруженный только наукой, подобен ребенку, играющему с коробкой спи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Скот Холд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тландский уче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5027-C01E-4A2A-A693-335E27AAD8BE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лен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в физике обозначает многообразный физический мир, начиная от элементарных частиц и кончая метагалакт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философском языке «Вселенная» может обозначать бытие или Мирозд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ми словами «Вселенная» (Универсум – лат.) в философии имеет иное значение, чем в физ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ое в философии понят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ртина мир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значает видимый портрет мироздания, образно-понятийное описание Всел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D0CD-B2D2-45A2-B636-DDA4311AD14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о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лен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буквально означ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динство, общность всех вещей, рассматриваемых как цел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лоть до ХХ в. познание Вселенной как целого в основном оставалось прерогативой рели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ю всегда интересовали не отдельные вещи, не каждая вещь сама по себе, в своем обособленном, отдельном существовании, а совокупность всего существующего, публичная жизнь каждой вещи, ее универсальное существ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ем под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ща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лись не только физические (материальные) и духовные объекты, но также все ирреальное, фантастическое и сверхъестественное, если оно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3BAC-7852-4C0B-AB59-9158BAAD807B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космология как самостоятельная отрасль знания возникла сравнительно недав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внимания физики космологии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ленная в цел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недоступен для наблюдения. Космологи прибегают 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страполя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физики, выведенные из наблюдений и экспериментов над отдельными частями Вселенной, применяются и ко Вселенной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щая теория относительности (лучшая из существующих на сегодня теорий гравитации), проверенная экспериментально в основном в пределах Солнечной системы, применяется к расчету движения всей Всел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B140-DE62-4FB5-BBA7-6025C286052C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я законы физики к Вселенной в целом, мы соверша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ческий скач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ереносим умозрительные схемы (модели) определенной части физического мира на Вселен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сть моделей подтверждается неоднократными (повторяемыми) эксперимен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оизводимость экспериментальных проверок увеличивает доверие к модели, модель становится частью совершенного научного знания, оставаясь в этом качестве до тех пор, пока ей на смену не придет улучшенная, более точная или более глубокая модель (теор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B65F-A978-438D-8137-1BB7EAE3D4BF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 рациональные законы, которые экстраполируются на всю Вселенную, создаю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уктивным воображени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дуктивное воображение» - И. Кант - конструктивная деятельность созн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ивное воображение может запускаться внешними впечатлениями, наблюд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оретик сначала мысленно конструирует нечто, а затем познает то, что уже помыслено»), а также улучшаются, уточняются, углубляются с помощью экспериментов и наблю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E36E-31AF-4255-B9CF-98CDAAA7DDDD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ю науку физик рассматривает ка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исывающую реальный мир наблюд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модель может включать множество дополнительных особенностей, которые, хотя сами по себе и не отражают реального опыта, играют важную роль в те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кам приходится придумывать чисто умозрительные, абстрактные понятия для моделирования реального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ограничиться исключительно наблюдаемыми велич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89EF-DA30-4608-BDA9-391303EC59C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7A16-B8BC-403C-B176-872C724B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021-441E-4A23-81D8-ED529304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F50A-F861-4515-A219-8FE47C32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5E6-78D7-4E66-9E5F-2F765E62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7705-5ACF-42A9-A28C-CB726E32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66BB-3DA5-4E7E-BF2F-E722D1EC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1FAB-CB91-4E2D-B6EB-378D1890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F103-9806-45EF-AD2B-41DB0496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C340-F374-4B7C-86FB-55841D26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4EC4-3DF1-4D84-B529-342ADFC3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7A49-5C8E-486B-9EED-881BF8C1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527F-76C6-453A-9E0E-6C4D15AD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A910-CBD6-4F97-9E33-9029B00F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7D30-C398-4184-83D7-F473BF38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07EF-639D-4C3C-90AF-92909841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028C-14ED-4836-B9F9-4A12417D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9DCD-F9FE-4EAD-8C42-2275F111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C6C9F-5119-42FB-AA04-28F6A3EB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B5DCE-6A02-4204-B82A-F27E2559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6DE75-235C-462D-B4A3-3C3DC82D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A8F7E-30A0-44F8-A7A9-39EC3A0B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B6F46-9345-40AD-BEFB-0DDA5B04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617-C555-482C-B671-1DE69DEB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B4F4D-BCBA-4107-B3EA-798472DE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A1971-59F7-475A-8144-6AF37712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9AFE15-3621-4711-8AE9-F363FF83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A5909-225F-4468-8DCC-5E7D325B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ABC60-76E7-4A03-AF2F-3CDF723F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E224F-BE63-4836-B0B2-25F9C063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AA131-540D-46B0-95DC-8E3DE2EA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DE1D5-C9EB-45D4-BC2A-68DC84E6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45245-BA17-4CC8-8DA4-466A239E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0E2A1-8787-46AF-A4FF-6B33A36F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171-1987-4529-BE86-DD48EF59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5191E-9704-4AF3-98EB-DBA27FD9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E7A2C-452F-4F17-B8E4-06408ABE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165C5-B1EB-422E-9CB9-043F5465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39444-F11D-4D24-8808-49278D1A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B0B07-AC80-4B44-AEC6-E3CDB589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3E692-ECF1-4A12-B682-5969AB07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ED3E4-10B0-4A1C-88E9-BBDD0E73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8745D-25EE-4404-97C2-2FE34C7E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BEC41-FF32-4E3B-AD4D-155493F9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82D1-6723-4003-9D4E-0DAF55FD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AE2-B24E-459C-A7C3-69153839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AC0F-FF37-44BA-9DB9-639FE29C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AB6-D9F4-47E0-9E55-F08F7E52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7FE-F79E-4D7F-81C9-7F3924D1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2281-2BCB-496F-8D9F-4E7A3364A5D0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D669-7439-4569-BBA9-A677672000F0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A7D1-9455-4A41-AFF8-EE4898381AF4}" type="datetime"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6034-E2EE-492A-BCFC-4797630CCF70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0C83-2F07-4E9E-9E23-26C65F066EDC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1C67-F67E-4D6A-BC6A-5886A294946F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E095-BB9B-425B-855E-F3F618665487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E9DC-B74F-4516-A2FC-86E521ABC13C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1640" y="1988640"/>
            <a:ext cx="3475080" cy="206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Философия науки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1640" y="4421160"/>
            <a:ext cx="3600360" cy="16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242"/>
                </a:solidFill>
                <a:latin typeface="Century Gothic"/>
              </a:rPr>
              <a:t>Классический и неклассический идеалы рациональности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759924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остроение завершенной научной теори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68360" y="191592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развитии современных научных дисциплин особую роль играю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специальные картины мира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пециальными картинами мира называют обобщенные схемы – образы предмета исследования, посредством которых фиксируются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основные системные характеристики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изучаемой реальност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68360" y="692280"/>
            <a:ext cx="820728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ермин «мир» применяется здесь в специфическом смысле – как обозначение некоторой сферы действительности, изучаемой в данной науке («мир физики», «мир биологии» и т.п.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Чтобы избежать терминологических сложностей, имеет смысл пользоваться иным названием –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артина исследуемой реальности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иболее изученным ее образцом является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физическая картина мира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611280" y="836280"/>
            <a:ext cx="792144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Например, представления: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ир состоит из неделимых корпускул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х взаимодействие осуществляется как мгновенная передача сил по прямой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орпускулы и образованные из них тела перемещаются в абсолютном пространстве с течением абсолютного времени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то описание картины физического мира, сложившейся во второй половине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VII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в. и получившей впоследствии название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еханической картины мир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684360" y="907560"/>
            <a:ext cx="77752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реход от механической к электродинамической (последняя четверть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IX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в.), а затем к квантово-релятивистской картине физической реальности (первая половина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X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в.) сопровождался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зменением физических представлений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 аналогии с физической картиной мира можно выделить картины реальности в других науках (химии, биологии, астрономии и т.д.) Среди них также существуют исторически сменяющие друг друга типы картин мира, что обнаруживается при анализе истории наук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1280" y="836640"/>
            <a:ext cx="7921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ртина реальности обеспечива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систематизацию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знаний в рамках соответствующей наук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 ней связаны различные типы теорий научной дисциплины (фундаментальные и частные), а также опытные факты, на которые опираются и с которыми должны быть согласованы принципы картины реальност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дновременно она функционирует в качестве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сследовательской программы,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которая целенаправляет постановку задач как эмпирического, так и теоретического поиска и выбор средств их реше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610920" y="764640"/>
            <a:ext cx="7993080" cy="51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из конкретно-исторических форм картины исследуемой реальности может реализовываться в ряде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одификаци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выражающих основные этапы развития научных знаний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еемственность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в развитии того или иного типа картины реальности (</a:t>
            </a: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например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развитие представлений Ньютона о физическом мире Эйлером, развитие электродинамической картины мира Фарадеем, Максвеллом, Герцем, Лоренцем, каждый из которых вводил в эту картину новые элементы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610920" y="907560"/>
            <a:ext cx="7848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урирующие и альтернативны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друг другу представления о физическом мире - когда одно из них в конечном итоге побеждает в качестве «истинной» физической картины мира (</a:t>
            </a: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например,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борьба Ньютоновской и Декартовой концепции природы как альтернативных вариантов механической картины мира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1360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Общая научн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68360" y="1413000"/>
            <a:ext cx="820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щая научная картина мира выступает особой формой теоретического знания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ртины реальности, развиваемые в отдельных научных дисциплинах, не являются изолированными друг от друга. Они взаимодействуют между собо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щая научная картина мира выступа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формой систематизации знаний, интегративно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по отношению к специальным картинам реальности (дисциплинарным онтологиям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68360" y="83664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на интегрирует наиболее важные достижения естественных, гуманитарных и технических наук – это достижения типа представлений о нестационарной Вселенной и Большом взрыве, о кварках и синергетических процессах, о генах, экосистемах и биосфере, об обществе как целостной системе, о формациях и цивилизациях и т.д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начале они развиваются как фундаментальные идеи и представления соответствующих дисциплинарных онтологий, а затем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ключаются в общую научную картину мир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702468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детерминизм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0920" y="1484280"/>
            <a:ext cx="777708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инцип детерминизма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одержит ответ на вопрос, обусловлены ли явления мира в своём существовании и развитии, имеет ли эта обусловленность регулярный, упорядоченный или произвольный, неупорядоченный характер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ругими словами, это вопрос о том, выступает ли мир в своём существовании и развитии как упорядоченный космос или неупорядоченный хаос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ратное понятие -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ндетерминиз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Вопросы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39280" y="1125000"/>
            <a:ext cx="799164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-4572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Научная картина мир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остроение завершенной научной теори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лассическая, неклассическая и постнеклассическая картины мир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7" name="Picture 7" descr="Картинка 3 из 148424"/>
          <p:cNvPicPr/>
          <p:nvPr/>
        </p:nvPicPr>
        <p:blipFill>
          <a:blip r:embed="rId1"/>
          <a:stretch/>
        </p:blipFill>
        <p:spPr>
          <a:xfrm>
            <a:off x="1979640" y="3068640"/>
            <a:ext cx="5076720" cy="338148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95280" y="620280"/>
            <a:ext cx="8353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Любая, идеалистическая или материалистическая философская система, построенная на принципах рационального объяснения бытия, необходимо затрагивает проблему всеобщей обусловленности явлений и процессов в мире, которая и обозначается понятием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детерминизм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»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 лат.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eterminate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– определять, отделять, отграничивать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Детерминизм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 – это учение о всеобщей обусловленности объективных явлени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любое событие, любой факт, явление и т. д. имеют свою причину и могут выступать причиной другого события, факта, явления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13744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Классическ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23640" y="1341000"/>
            <a:ext cx="56163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учная революция И. Ньюто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лассическое естествознани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риод: XV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I -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I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X век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Основная иде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: переход от геоцентрической модели мира к гелиоцентрическо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ия: Н. Коперника, Г. Галилея, И. Кеплера, Р. Декарт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. Ньютон подвел итог их исследованиям, сформулировал базовые принципы новой научной картины мира в общем вид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2" name="Picture 5" descr="Картинка 4 из 149110"/>
          <p:cNvPicPr/>
          <p:nvPr/>
        </p:nvPicPr>
        <p:blipFill>
          <a:blip r:embed="rId1"/>
          <a:stretch/>
        </p:blipFill>
        <p:spPr>
          <a:xfrm>
            <a:off x="5724360" y="1989000"/>
            <a:ext cx="3219480" cy="381024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68360" y="836280"/>
            <a:ext cx="820728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еленная состоит из материальных тел и пустоты, представленная в виде комплекса механических систем, развивается без участия сознания и разум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я её история, начиная от «Большого взрыва» – результат слепого и стихийного движения материальных масс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есконечное трёхмерное пространство - так называемом абсолютное пространство, время в котором может быть измерено универсальными часами (абсолютное время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611280" y="836640"/>
            <a:ext cx="74246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Жизнь зарождается в первозданном океане случайно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как результат беспорядочных химических реакций, и пойди процесс чуть по-другому, сознание никогда не проявилось бы в быт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 точки зрения теории Ньютона появление жизни и сознания – не только загадка, но и явление достаточно странное, абсурдно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познании: происходит четкое противопоставление субъекта и объекта исследования.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убъект – «не имеет значения»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0246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Основные изменения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8000" y="1196640"/>
            <a:ext cx="8496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сновной - язык математики, выделение строго объективных количественных характеристик земных тел (форма величина, масса, движение), выражение их в строгих математических закономерностя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етоды экспериментального исследования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сновной принцип: механика, детерминиз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явление механистической научной картины мира на базе экспериментально математического естествозна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76723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Неклассическ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0920" y="1844640"/>
            <a:ext cx="4537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йнштейновская революция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риод: рубеж XIX - XX веко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ия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ложная структура ато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явление радиоактивност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искретность характера электромагнитного излучения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3" name="Picture 5" descr="Файл:Bundesarchiv Bild 102-10447, Albert Einstein.jpg"/>
          <p:cNvPicPr/>
          <p:nvPr/>
        </p:nvPicPr>
        <p:blipFill>
          <a:blip r:embed="rId1"/>
          <a:stretch/>
        </p:blipFill>
        <p:spPr>
          <a:xfrm>
            <a:off x="5435640" y="1125360"/>
            <a:ext cx="3243240" cy="4849920"/>
          </a:xfrm>
          <a:prstGeom prst="rect">
            <a:avLst/>
          </a:prstGeom>
          <a:ln w="0">
            <a:noFill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5992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Основные изменения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39280" y="1341360"/>
            <a:ext cx="72802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ыла подорвана важнейшая предпосылка механистической картины мира - убежденность в том, что с помощью простых сил, действующих между неизменными объектами, можно объяснить все явления природ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пециальная теория относительности (СТО) А. Эйнштейна вступила в противоречие с теорией гравитации Ньютон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еории Эйнштейна гравитация – это не сила, а проявление искривления пространства-времен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68360" y="836280"/>
            <a:ext cx="813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соответствии с теорией относительности, пространство и время относительны - результаты измерения длины и времени зависят от того, движется наблюдатель или нет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ир гораздо разнообразнее и сложне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чем это представлялось механистической наук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ознание человека изначально включено в само наше восприятие действительности. Это следует понимать так: мир таков, потому что это мы глядим на него, и изменения в нас, в нашем самосознании меняют картину мир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39640" y="907560"/>
            <a:ext cx="7920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«Чисто объективное» описание картины мира  невозможно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Редукционистский подход  сменя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вантовый подход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- мир нельзя объяснить лишь как сумму его составных частей. Макромир и микромир тесно связан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процессе познания важное место занимаю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змерительные прибор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5992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Постнеклассическ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нергетика - междисциплинарное направление научных исследований, задачей которого является изучение природных явлений и процессов на основе принципов самоорганизации систем (состоящих из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одсистем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собое внимание уделяется структурам, возникающим в процессе самоорганизаци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познание включены ценностные аспект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702468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философия наук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2400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епосредственной предшественницей философии науки является гносеология XVII-XVIII вв. (эмпиризм и рационализм), в центре которой было осмысление сущности научного знания и методов его получения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Гносеологические вопросы были центральной темой классического этапа философии Нового времени - от Р. Декарта и Дж. Локка до И. Канта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Как отдельное направление философии, философия науки оформилась в XIX в. В её развитии можно выделить несколько этапов: позитивизм, постпозитивизм и концепции науки П. Фейерабенда, И. Локатоса, Т. Куна и К. Поппера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В отношении научное знание в философии познания принято употреблять понятие </a:t>
            </a:r>
            <a:r>
              <a:rPr b="1" lang="ru-RU" sz="2200" spc="-1" strike="noStrike">
                <a:solidFill>
                  <a:srgbClr val="3e3d2d"/>
                </a:solidFill>
                <a:latin typeface="Century Gothic"/>
              </a:rPr>
              <a:t>«эпистемология»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752796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Синергетик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8360" y="1773000"/>
            <a:ext cx="424800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мецкий ученый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Герман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Хакен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(родился в 1927 г.) -  немецкий физик-теоретик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звал теорию самоорганизации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синергетико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(теорией совместного действия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17" name="Picture 2" descr="Картинка 2 из 278"/>
          <p:cNvPicPr/>
          <p:nvPr/>
        </p:nvPicPr>
        <p:blipFill>
          <a:blip r:embed="rId1"/>
          <a:stretch/>
        </p:blipFill>
        <p:spPr>
          <a:xfrm>
            <a:off x="5364000" y="1557360"/>
            <a:ext cx="3230640" cy="439272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Аналогичные исследования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20" name="Picture 2" descr="Картинка 10 из 636"/>
          <p:cNvPicPr/>
          <p:nvPr/>
        </p:nvPicPr>
        <p:blipFill>
          <a:blip r:embed="rId1"/>
          <a:stretch/>
        </p:blipFill>
        <p:spPr>
          <a:xfrm>
            <a:off x="971640" y="2276640"/>
            <a:ext cx="2435040" cy="350820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5"/>
          <p:cNvSpPr/>
          <p:nvPr/>
        </p:nvSpPr>
        <p:spPr>
          <a:xfrm>
            <a:off x="3851280" y="2421000"/>
            <a:ext cx="464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лья́ Романович Пригожин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(1917 -2003 гг.) -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ельгийский и американский физик и химик российского происхожден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лауреат Нобелевской премии по химии 1977 год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еории диссипативных структур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68000" y="620280"/>
            <a:ext cx="82803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ый Пригожиным новый принцип -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орядок через флуктуацию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(любое колебание или любое периодическое изменение)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льнейшие исследования показали, что он представляет собой базисный механизм развертывания эволюционных процессов во всех областях - от атомов до галактик, от отдельных клеток до человеческих существ и вплоть до обществ и культур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 основании этих наблюдений появилась возможность сформулировать единую точку зрения на эволюцию, объединяющим принципом которой является не стабильное состояние, а динамические состояния неуравновешенных сист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68000" y="620280"/>
            <a:ext cx="80643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ые системы на всех уровнях являются носителями всеобщей эволюции, которая гарантирует, что жизнь будет продолжать свое движение во всё более новые динамические режимы сложност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икрокосм и макрокосм являются аспектами единой эволюц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волюция человека является значимой составной частью вселенской эволюци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Вопрос для самостоятельной работы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окомментируйте высказывание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«Человек, вооруженный только наукой, подобен ребенку, играющему с коробкой спичек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жон Скот Холдейн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шотландский учены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Научн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280" y="1557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ермин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селенна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» в физике обозначает многообразный физический мир, начиная от элементарных частиц и кончая метагалактика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На философском языке «Вселенная» может обозначать бытие или Мироздани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ругими словами «Вселенная» (Универсум – лат.) в философии имеет иное значение, чем в физике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нятое в философии понятие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артина мира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»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означает видимый портрет мироздания, образно-понятийное описание Вселенно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68000" y="620640"/>
            <a:ext cx="8351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лово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селенна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» буквально означа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единство, общность всех вещей, рассматриваемых как цело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плоть до ХХ в. познание Вселенной как целого в основном оставалось прерогативой религ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Философию всегда интересовали не отдельные вещи, не каждая вещь сама по себе, в своем обособленном, отдельном существовании, а совокупность всего существующего, публичная жизнь каждой вещи, ее универсальное существование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чем под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ещами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нимались не только физические (материальные) и духовные объекты, но также все ирреальное, фантастическое и сверхъестественное, если оно существует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94920" y="549360"/>
            <a:ext cx="8280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учная космология как самостоятельная отрасль знания возникла сравнительно недавно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ъект внимания физики космологии –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Вселенная в целом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– недоступен для наблюдения. Космологи прибегают к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экстраполяции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Законы физики, выведенные из наблюдений и экспериментов над отдельными частями Вселенной, применяются и ко Вселенной в цело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Например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общая теория относительности (лучшая из существующих на сегодня теорий гравитации), проверенная экспериментально в основном в пределах Солнечной системы, применяется к расчету движения всей Вселенно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68000" y="69192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меняя законы физики к Вселенной в целом, мы совершаем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логический скачок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переносим умозрительные схемы (модели) определенной части физического мира на Вселенную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очность моделей подтверждается неоднократными (повторяемыми) эксперимента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оспроизводимость экспериментальных проверок увеличивает доверие к модели, модель становится частью совершенного научного знания, оставаясь в этом качестве до тех пор, пока ей на смену не придет улучшенная, более точная или более глубокая модель (теория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68360" y="549360"/>
            <a:ext cx="82072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ми рациональные законы, которые экстраполируются на всю Вселенную, создаются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родуктивным воображением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уче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«Продуктивное воображение» - И. Кант - конструктивная деятельность сознания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одуктивное воображение может запускаться внешними впечатлениями, наблюдения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«Теоретик сначала мысленно конструирует нечто, а затем познает то, что уже помыслено»), а также улучшаются, уточняются, углубляются с помощью экспериментов и наблюдени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68360" y="691920"/>
            <a:ext cx="8207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вою науку физик рассматривает как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одель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описывающую реальный мир наблюдени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та модель может включать множество дополнительных особенностей, которые, хотя сами по себе и не отражают реального опыта, играют важную роль в теор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Физикам приходится придумывать чисто умозрительные, абстрактные понятия для моделирования реального мир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льзя ограничиться исключительно наблюдаемыми величина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05:30:35Z</dcterms:created>
  <dc:creator>user</dc:creator>
  <dc:description/>
  <dc:language>en-US</dc:language>
  <cp:lastModifiedBy>LEGION</cp:lastModifiedBy>
  <dcterms:modified xsi:type="dcterms:W3CDTF">2014-11-11T07:54:47Z</dcterms:modified>
  <cp:revision>39</cp:revision>
  <dc:subject/>
  <dc:title>Презентация PowerPoint</dc:title>
</cp:coreProperties>
</file>