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move the slide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943C1-0E4B-4E97-980F-72B8C1601BBF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илософия нау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лассический и неклассический идеалы рациональ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C8831-3C41-4407-808D-B1704385430D}" type="slidenum">
              <a:rPr b="0" lang="uk-UA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строение завершенной научной теор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развитии современных научных дисциплин особую роль играют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пециальные картины мира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ециальными картинами мира называют обобщенные схемы – образы предмета исследования, посредством которых фиксируются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сновные системные характеристик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зучаемой реальн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43CAB-93BA-4B10-B97C-3E034E06F667}" type="slidenum">
              <a:rPr b="0" lang="uk-UA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рмин «мир» применяется здесь в специфическом смысле – как обозначение некоторой сферы действительности, изучаемой в данной науке («мир физики», «мир биологии» и т.п.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бы избежать терминологических сложностей, имеет смысл пользоваться иным названием –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артина исследуемой реальности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иболее изученным ее образцом является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физическая картина мир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9CB4A-8DF5-43FD-B98F-D93E9478BD2E}" type="slidenum">
              <a:rPr b="0" lang="uk-UA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Например, представления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 состоит из неделимых корпускул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х взаимодействие осуществляется как мгновенная передача сил по прямой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рпускулы и образованные из них тела перемещаются в абсолютном пространстве с течением абсолютного времен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описание картины физического мира, сложившейся во второй половине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VI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в. и получившей впоследствии название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еханической картины ми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BFC8C-A53C-4923-B1D2-366DC0965774}" type="slidenum">
              <a:rPr b="0" lang="uk-UA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ход от механической к электродинамической (последняя четверть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IX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в.), а затем к квантово-релятивистской картине физической реальности (первая половина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X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в.) сопровождался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зменением физических представлений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аналогии с физической картиной мира можно выделить картины реальности в других науках (химии, биологии, астрономии и т.д.) Среди них также существуют исторически сменяющие друг друга типы картин мира, что обнаруживается при анализе истории наук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CF3FF-DC1D-4B4A-9272-18F9FB7225DD}" type="slidenum">
              <a:rPr b="0" lang="uk-UA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ртина реальности обеспечивает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истематизацию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знаний в рамках соответствующей наук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ней связаны различные типы теорий научной дисциплины (фундаментальные и частные), а также опытные факты, на которые опираются и с которыми должны быть согласованы принципы картины реальн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новременно она функционирует в качестве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сследовательской программы,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которая целенаправляет постановку задач как эмпирического, так и теоретического поиска и выбор средств их реш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FC776-31A0-4156-8D58-0E28D89C73E4}" type="slidenum">
              <a:rPr b="0" lang="uk-UA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ждая из конкретно-исторических форм картины исследуемой реальности может реализовываться в ряде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одификаци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выражающих основные этапы развития научных знаний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еемственност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 развитии того или иного типа картины реальности (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например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развитие представлений Ньютона о физическом мире Эйлером, развитие электродинамической картины мира Фарадеем, Максвеллом, Герцем, Лоренцем, каждый из которых вводил в эту картину новые элементы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3C71E-8B65-4CB0-B8A7-4C6FD33B1282}" type="slidenum">
              <a:rPr b="0" lang="uk-UA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урирующие и альтернативны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друг другу представления о физическом мире - когда одно из них в конечном итоге побеждает в качестве «истинной» физической картины мира (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например,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борьба Ньютоновской и Декартовой концепции природы как альтернативных вариантов механической картины мир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B51CD-0DC9-4BCA-96E4-ACBAF5B78699}" type="slidenum">
              <a:rPr b="0" lang="uk-UA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бщая научная картина ми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ая научная картина мира выступает особой формой теоретического зна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ртины реальности, развиваемые в отдельных научных дисциплинах, не являются изолированными друг от друга. Они взаимодействуют между собо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ая научная картина мира выступает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ормой систематизации знаний, интегративно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о отношению к специальным картинам реальности (дисциплинарным онтологиям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2055D-1B28-4F68-AB9F-F2F1FA568224}" type="slidenum">
              <a:rPr b="0" lang="uk-UA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на интегрирует наиболее важные достижения естественных, гуманитарных и технических наук – это достижения типа представлений о нестационарной Вселенной и Большом взрыве, о кварках и синергетических процессах, о генах, экосистемах и биосфере, об обществе как целостной системе, о формациях и цивилизациях и т.д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ачале они развиваются как фундаментальные идеи и представления соответствующих дисциплинарных онтологий, а затем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ключаются в общую научную картину ми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05EB5-1FB5-44AD-9931-F80F306808DD}" type="slidenum">
              <a:rPr b="0" lang="uk-UA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терминиз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инцип детерминизма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держит ответ на вопрос, обусловлены ли явления мира в своём существовании и развитии, имеет ли эта обусловленность регулярный, упорядоченный или произвольный, неупорядоченный характер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ругими словами, это вопрос о том, выступает ли мир в своём существовании и развитии как упорядоченный космос или неупорядоченный хао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ратное понятие -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ндетерминиз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75337-C39B-4C0B-A2F4-DBA3BE8FAF40}" type="slidenum">
              <a:rPr b="0" lang="uk-UA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учная картина ми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строение завершенной научной теор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лассическая, неклассическая и постнеклассическая картины ми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664BD-8F7B-4028-9FE9-91071B106D48}" type="slidenum">
              <a:rPr b="0" lang="uk-UA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юбая, идеалистическая или материалистическая философская система, построенная на принципах рационального объяснения бытия, необходимо затрагивает проблему всеобщей обусловленности явлений и процессов в мире, которая и обозначается понятием «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етерминиз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»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 лат.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terminate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определять, отделять, отграничива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Детерминизм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– это учение о всеобщей обусловленности объективных явлени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юбое событие, любой факт, явление и т. д. имеют свою причину и могут выступать причиной другого события, факта, явл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CD275-E376-4600-AE75-E0EF58075C91}" type="slidenum">
              <a:rPr b="0" lang="uk-UA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сическая картина ми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учная революция И. Ньюто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сическое естествозн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иод: XV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I -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X 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Основная иде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 переход от геоцентрической модели мира к гелиоцентрическ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крытия: Н. Коперника, Г. Галилея, И. Кеплера, Р. Декарт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. Ньютон подвел итог их исследованиям, сформулировал базовые принципы новой научной картины мира в общем вид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6572C-E115-45DA-AF66-589B06C5DA71}" type="slidenum">
              <a:rPr b="0" lang="uk-UA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ленная состоит из материальных тел и пустоты, представленная в виде комплекса механических систем, развивается без участия сознания и разум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я её история, начиная от «Большого взрыва» – результат слепого и стихийного движения материальных масс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сконечное трёхмерное пространство - так называемом абсолютное пространство, время в котором может быть измерено универсальными часами (абсолютное врем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233AD-50C5-4785-A3D2-74F37BF24EB5}" type="slidenum">
              <a:rPr b="0" lang="uk-UA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Жизнь зарождается в первозданном океане случайно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как результат беспорядочных химических реакций, и пойди процесс чуть по-другому, сознание никогда не проявилось бы в быт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точки зрения теории Ньютона появление жизни и сознания – не только загадка, но и явление достаточно странное, абсурдно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ознании: происходит четкое противопоставление субъекта и объекта исследования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бъект – «не имеет значения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97EED-FD88-472F-A0A1-B3C18FD3C7FD}" type="slidenum">
              <a:rPr b="0" lang="uk-UA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измене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ой - язык математики, выделение строго объективных количественных характеристик земных тел (форма величина, масса, движение), выражение их в строгих математических закономерностя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экспериментального исследова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ой принцип: механика, детерминиз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явление механистической научной картины мира на базе экспериментально математического естествозн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3AC2F-BB94-43D6-8B99-07B7D2FB2312}" type="slidenum">
              <a:rPr b="0" lang="uk-UA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еклассическая картина ми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йнштейновская револю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иод: рубеж XIX - XX век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крытия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ожная структура ато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вление радиоактив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скретность характера электромагнитного излуч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0EC17-95E9-4653-BD15-5BD273E414DA}" type="slidenum">
              <a:rPr b="0" lang="uk-UA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измене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ыла подорвана важнейшая предпосылка механистической картины мира - убежденность в том, что с помощью простых сил, действующих между неизменными объектами, можно объяснить все явления прир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ециальная теория относительности (СТО) А. Эйнштейна вступила в противоречие с теорией гравитации Ньютон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теории Эйнштейна гравитация – это не сила, а проявление искривления пространства-времен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5FF0C-F3FA-4AFE-AF37-D1AA7C35198F}" type="slidenum">
              <a:rPr b="0" lang="uk-UA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оответствии с теорией относительности, пространство и время относительны - результаты измерения длины и времени зависят от того, движется наблюдатель или не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ир гораздо разнообразнее и сложне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чем это представлялось механистической нау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нание человека изначально включено в само наше восприятие действительности. Это следует понимать так: мир таков, потому что это мы глядим на него, и изменения в нас, в нашем самосознании меняют картину мир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6F41A-4CBC-4C7C-B092-F495E193BA3E}" type="slidenum">
              <a:rPr b="0" lang="uk-UA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Чисто объективное» описание картины мира  невозможн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дукционистский подход  сменяет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вантовый подход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мир нельзя объяснить лишь как сумму его составных частей. Макромир и микромир тесно связа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роцессе познания важное место занимают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змерительные прибо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7BFCD-A21F-4B7E-A52A-62288B2E75D5}" type="slidenum">
              <a:rPr b="0" lang="uk-UA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тнеклассическая картина ми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нергетика - междисциплинарное направление научных исследований, задачей которого является изучение природных явлений и процессов на основе принципов самоорганизации систем (состоящих из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одсисте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обое внимание уделяется структурам, возникающим в процессе самоорган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ознание включены ценностные аспек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FD66C-70FF-40E7-B250-6783397C9184}" type="slidenum">
              <a:rPr b="0" lang="uk-UA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лософия нау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посредственной предшественницей философии науки является гносеология XVII-XVIII вв. (эмпиризм и рационализм), в центре которой было осмысление сущности научного знания и методов его получ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носеологические вопросы были центральной темой классического этапа философии Нового времени - от Р. Декарта и Дж. Локка до И. Кант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отдельное направление философии, философия науки оформилась в XIX в. В её развитии можно выделить несколько этапов: позитивизм, постпозитивизм и концепции науки П. Фейерабенда, И. Локатоса, Т. Куна и К. Поппе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отношении научное знание в философии познания принято употреблять понятие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«эпистемология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3214B-EA34-4C2E-BC84-3FC13F327C62}" type="slidenum">
              <a:rPr b="0" lang="uk-UA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инергет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мецкий ученый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Герман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Хакен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родился в 1927 г.) -  немецкий физик-теоретик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звал теорию самоорганизации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инергетико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теорией совместного действия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5CF89-A38C-443B-BF84-89C586DCA980}" type="slidenum">
              <a:rPr b="0" lang="uk-UA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алогичные исследова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лья́ Романович Пригожин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1917 -2003 гг.) -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льгийский и американский физик и химик российского происхожд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ауреат Нобелевской премии по химии 1977 г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втор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еории диссипативных структу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89AC0-7F99-4AE4-B37E-68F3A77F4356}" type="slidenum">
              <a:rPr b="0" lang="uk-UA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крытый Пригожиным новый принцип -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рядок через флуктуацию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любое колебание или любое периодическое изменение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льнейшие исследования показали, что он представляет собой базисный механизм развертывания эволюционных процессов во всех областях - от атомов до галактик, от отдельных клеток до человеческих существ и вплоть до обществ и культур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основании этих наблюдений появилась возможность сформулировать единую точку зрения на эволюцию, объединяющим принципом которой является не стабильное состояние, а динамические состояния неуравновешенных систе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22103-8AED-43A7-BBC2-D8C877D6D580}" type="slidenum">
              <a:rPr b="0" lang="uk-UA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крытые системы на всех уровнях являются носителями всеобщей эволюции, которая гарантирует, что жизнь будет продолжать свое движение во всё более новые динамические режимы слож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крокосм и макрокосм являются аспектами единой эволюц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волюция человека является значимой составной частью вселенской эволю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76F59-E2C2-461C-9BBC-3F426E14A371}" type="slidenum">
              <a:rPr b="0" lang="uk-UA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 для самостоятельной работ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комментируйте высказывани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«Человек, вооруженный только наукой, подобен ребенку, играющему с коробкой спичек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жон Скот Холдей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отландский учен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21D3A-3455-4EAD-B9B2-A8426DB75D00}" type="slidenum">
              <a:rPr b="0" lang="uk-UA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учная картина ми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рмин «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селенна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» в физике обозначает многообразный физический мир, начиная от элементарных частиц и кончая метагалактика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На философском языке «Вселенная» может обозначать бытие или Мироздан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ругими словами «Вселенная» (Универсум – лат.) в философии имеет иное значение, чем в физик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ятое в философии понятие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«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артина мира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»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означает видимый портрет мироздания, образно-понятийное описание Вселенн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93E37-AB88-4757-B41D-345DE2F3454E}" type="slidenum">
              <a:rPr b="0" lang="uk-UA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ово «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селенна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» буквально означает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единство, общность всех вещей, рассматриваемых как цело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плоть до ХХ в. познание Вселенной как целого в основном оставалось прерогативой религ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лософию всегда интересовали не отдельные вещи, не каждая вещь сама по себе, в своем обособленном, отдельном существовании, а совокупность всего существующего, публичная жизнь каждой вещи, ее универсальное существовани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чем под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ещами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имались не только физические (материальные) и духовные объекты, но также все ирреальное, фантастическое и сверхъестественное, если оно существу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58341-3A13-4255-B5CE-8CFA5CD443AF}" type="slidenum">
              <a:rPr b="0" lang="uk-UA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учная космология как самостоятельная отрасль знания возникла сравнительно недавн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ект внимания физики космологии –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Вселенная в целом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недоступен для наблюдения. Космологи прибегают к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экстраполяци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оны физики, выведенные из наблюдений и экспериментов над отдельными частями Вселенной, применяются и ко Вселенной в цело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Например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общая теория относительности (лучшая из существующих на сегодня теорий гравитации), проверенная экспериментально в основном в пределах Солнечной системы, применяется к расчету движения всей Вселенно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70456-C225-457B-80D5-DD43DC11E92B}" type="slidenum">
              <a:rPr b="0" lang="uk-UA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няя законы физики к Вселенной в целом, мы совершаем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логический скачок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переносим умозрительные схемы (модели) определенной части физического мира на Вселенну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чность моделей подтверждается неоднократными (повторяемыми) эксперимента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спроизводимость экспериментальных проверок увеличивает доверие к модели, модель становится частью совершенного научного знания, оставаясь в этом качестве до тех пор, пока ей на смену не придет улучшенная, более точная или более глубокая модель (теория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CFAAB-F974-48B7-A1A2-EE6A65C42B99}" type="slidenum">
              <a:rPr b="0" lang="uk-UA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и рациональные законы, которые экстраполируются на всю Вселенную, создаются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родуктивным воображением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ены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Продуктивное воображение» - И. Кант - конструктивная деятельность сознания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дуктивное воображение может запускаться внешними впечатлениями, наблюдения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Теоретик сначала мысленно конструирует нечто, а затем познает то, что уже помыслено»), а также улучшаются, уточняются, углубляются с помощью экспериментов и наблюд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2A53B-B10E-412E-A06E-0673DC56A149}" type="slidenum">
              <a:rPr b="0" lang="uk-UA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ою науку физик рассматривает как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одел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описывающую реальный мир наблюдени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а модель может включать множество дополнительных особенностей, которые, хотя сами по себе и не отражают реального опыта, играют важную роль в теор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зикам приходится придумывать чисто умозрительные, абстрактные понятия для моделирования реального мир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льзя ограничиться исключительно наблюдаемыми величина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622A7-0161-4E08-B1CB-124636A9E000}" type="slidenum">
              <a:rPr b="0" lang="uk-UA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E4606-E9CE-41A0-A12A-00444358F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6CC09-88FE-4AE5-9B45-1DEDB2999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6D9B4-F777-41CD-AD81-F695B371D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1E0F7-9BF8-4D1C-8092-1FF062BBF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FF844-2360-49CA-BCEC-90ED7E981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73668-2C54-4DAC-9AA4-CA9588B2F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DC95E-48BE-4BD6-87F7-7E97590CE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0E5AD-173A-4A8E-97F6-B60FF9F2C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91780-B852-4747-B56B-936E29396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6C9CF-0FB6-4C0E-876D-0D05EB2D3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5EBEE-EE0F-4770-99F3-4E843929A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8192A-8EA1-45EB-902F-6F5EB2436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82814-A51F-45AA-BE1F-0109E1BBA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5F856-352A-4EF6-9ED0-4D32E3943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42E51-71AF-45D1-BAE1-454004056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250E9-2810-4E37-8C5E-2E8ED08F2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2B105-EE44-4B89-8483-3A3A73173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93421B1-92EA-484B-986F-9D2F39E1E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EF0237A-31C2-438B-BD53-37A6E303F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A3CEA13-E9CC-4E2D-A5EA-A12EA2F6A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85D6B6E-E537-4CCD-BCBD-370B1CB7E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AC7A2B2-C943-4D8D-BE31-CC93F0FC1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063AF-BD37-4F31-9142-4984B8783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9CD435-DEFC-4659-BC47-4E2560D7C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F289367-DC95-4B05-85D7-858E33206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BFA3D61-5E36-4403-B87C-6FC6A2A49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62CF739-00E0-41D4-8B94-6EC9D7067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C9E217-D123-44E6-AF25-7D5D9751B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DE0B65E-6575-44D9-8722-C816F0893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4E6F025-ABF0-44E7-BE5D-9FB9C568B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6F0345-3306-4CDD-9340-4E71463DE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3538D7-07F4-484A-AD4F-2375FDE40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16DE3C-E8DD-498F-9423-F856EACC2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CF657-EE0C-4649-9353-6AAD9D9A8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5DA33D-26D7-46BB-B436-A9DBBEA18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EF3250-7E12-493E-8425-7F6B6A456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26BCEF-796C-413B-9B0C-916A1E8E5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8DC055-F434-47FC-A75D-8BEE7E53B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4D0B6A-D75B-4123-AF01-6DB551819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5261D6-13B8-44E2-AB73-F42307986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5629D6-D143-4E75-8CCF-64DDF4B62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B4F7EC-AA07-4C68-BE37-D8E7A5B05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87CEC3-25F1-4E82-8C32-ECD9A58F8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9D9D3-C9DD-4C36-BECA-4FE66F2A5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6F858-7805-41B6-A4EC-6F8DBC357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E4E2D-D8FC-418A-9674-B40F9FE01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1760F-DD8A-4E31-9A9B-8A49B936C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A801E-164D-4E35-BD3D-7FE302BA1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1"/>
          <p:cNvGrpSpPr/>
          <p:nvPr/>
        </p:nvGrpSpPr>
        <p:grpSpPr>
          <a:xfrm>
            <a:off x="-567360" y="0"/>
            <a:ext cx="10459440" cy="7117200"/>
            <a:chOff x="-567360" y="0"/>
            <a:chExt cx="10459440" cy="7117200"/>
          </a:xfrm>
        </p:grpSpPr>
        <p:grpSp>
          <p:nvGrpSpPr>
            <p:cNvPr id="1" name="Group 44"/>
            <p:cNvGrpSpPr/>
            <p:nvPr/>
          </p:nvGrpSpPr>
          <p:grpSpPr>
            <a:xfrm>
              <a:off x="77400" y="0"/>
              <a:ext cx="9144360" cy="6858000"/>
              <a:chOff x="77400" y="0"/>
              <a:chExt cx="914436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77400" y="0"/>
                <a:ext cx="2514600" cy="6858000"/>
                <a:chOff x="77400" y="0"/>
                <a:chExt cx="2514600" cy="6858000"/>
              </a:xfrm>
            </p:grpSpPr>
            <p:sp>
              <p:nvSpPr>
                <p:cNvPr id="3" name="Rectangle 112"/>
                <p:cNvSpPr/>
                <p:nvPr/>
              </p:nvSpPr>
              <p:spPr>
                <a:xfrm>
                  <a:off x="9918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4" name="Rectangle 2"/>
                <p:cNvSpPr/>
                <p:nvPr/>
              </p:nvSpPr>
              <p:spPr>
                <a:xfrm>
                  <a:off x="774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5" name="Rectangle 3"/>
                <p:cNvSpPr/>
                <p:nvPr/>
              </p:nvSpPr>
              <p:spPr>
                <a:xfrm>
                  <a:off x="306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6" name="Group 5"/>
              <p:cNvGrpSpPr/>
              <p:nvPr/>
            </p:nvGrpSpPr>
            <p:grpSpPr>
              <a:xfrm>
                <a:off x="500040" y="0"/>
                <a:ext cx="2514600" cy="6858000"/>
                <a:chOff x="500040" y="0"/>
                <a:chExt cx="2514600" cy="6858000"/>
              </a:xfrm>
            </p:grpSpPr>
            <p:sp>
              <p:nvSpPr>
                <p:cNvPr id="7" name="Rectangle 109"/>
                <p:cNvSpPr/>
                <p:nvPr/>
              </p:nvSpPr>
              <p:spPr>
                <a:xfrm>
                  <a:off x="14144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" name="Rectangle 110"/>
                <p:cNvSpPr/>
                <p:nvPr/>
              </p:nvSpPr>
              <p:spPr>
                <a:xfrm>
                  <a:off x="5000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" name="Rectangle 111"/>
                <p:cNvSpPr/>
                <p:nvPr/>
              </p:nvSpPr>
              <p:spPr>
                <a:xfrm>
                  <a:off x="728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0" name="Group 9"/>
              <p:cNvGrpSpPr/>
              <p:nvPr/>
            </p:nvGrpSpPr>
            <p:grpSpPr>
              <a:xfrm>
                <a:off x="6707160" y="0"/>
                <a:ext cx="2514600" cy="6858000"/>
                <a:chOff x="6707160" y="0"/>
                <a:chExt cx="2514600" cy="6858000"/>
              </a:xfrm>
            </p:grpSpPr>
            <p:sp>
              <p:nvSpPr>
                <p:cNvPr id="11" name="Rectangle 106"/>
                <p:cNvSpPr/>
                <p:nvPr/>
              </p:nvSpPr>
              <p:spPr>
                <a:xfrm rot="10800000">
                  <a:off x="67071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2" name="Rectangle 107"/>
                <p:cNvSpPr/>
                <p:nvPr/>
              </p:nvSpPr>
              <p:spPr>
                <a:xfrm rot="10800000">
                  <a:off x="87645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3" name="Rectangle 108"/>
                <p:cNvSpPr/>
                <p:nvPr/>
              </p:nvSpPr>
              <p:spPr>
                <a:xfrm rot="10800000">
                  <a:off x="82314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14" name="Rectangle 103"/>
              <p:cNvSpPr/>
              <p:nvPr/>
            </p:nvSpPr>
            <p:spPr>
              <a:xfrm>
                <a:off x="38876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5" name="Rectangle 104"/>
              <p:cNvSpPr/>
              <p:nvPr/>
            </p:nvSpPr>
            <p:spPr>
              <a:xfrm>
                <a:off x="29732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6" name="Rectangle 105"/>
              <p:cNvSpPr/>
              <p:nvPr/>
            </p:nvSpPr>
            <p:spPr>
              <a:xfrm>
                <a:off x="32018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7" name="Freeform 43"/>
            <p:cNvSpPr/>
            <p:nvPr/>
          </p:nvSpPr>
          <p:spPr>
            <a:xfrm>
              <a:off x="648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" name="Freeform 44"/>
            <p:cNvSpPr/>
            <p:nvPr/>
          </p:nvSpPr>
          <p:spPr>
            <a:xfrm>
              <a:off x="648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" name="Freeform 45"/>
            <p:cNvSpPr/>
            <p:nvPr/>
          </p:nvSpPr>
          <p:spPr>
            <a:xfrm>
              <a:off x="5364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" name="Freeform 46"/>
            <p:cNvSpPr/>
            <p:nvPr/>
          </p:nvSpPr>
          <p:spPr>
            <a:xfrm>
              <a:off x="648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" name="Freeform 48"/>
            <p:cNvSpPr/>
            <p:nvPr/>
          </p:nvSpPr>
          <p:spPr>
            <a:xfrm>
              <a:off x="221436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" name="Hexagon 49"/>
            <p:cNvSpPr/>
            <p:nvPr/>
          </p:nvSpPr>
          <p:spPr>
            <a:xfrm rot="1800000">
              <a:off x="3072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" name="Hexagon 50"/>
            <p:cNvSpPr/>
            <p:nvPr/>
          </p:nvSpPr>
          <p:spPr>
            <a:xfrm rot="1800000">
              <a:off x="379692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" name="Hexagon 51"/>
            <p:cNvSpPr/>
            <p:nvPr/>
          </p:nvSpPr>
          <p:spPr>
            <a:xfrm rot="1800000">
              <a:off x="380628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5" name="Hexagon 52"/>
            <p:cNvSpPr/>
            <p:nvPr/>
          </p:nvSpPr>
          <p:spPr>
            <a:xfrm rot="1800000">
              <a:off x="305388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6" name="Hexagon 53"/>
            <p:cNvSpPr/>
            <p:nvPr/>
          </p:nvSpPr>
          <p:spPr>
            <a:xfrm rot="1800000">
              <a:off x="453996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" name="Freeform 54"/>
            <p:cNvSpPr/>
            <p:nvPr/>
          </p:nvSpPr>
          <p:spPr>
            <a:xfrm rot="1800000">
              <a:off x="-30492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" name="Hexagon 55"/>
            <p:cNvSpPr/>
            <p:nvPr/>
          </p:nvSpPr>
          <p:spPr>
            <a:xfrm rot="1800000">
              <a:off x="10080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" name="Hexagon 56"/>
            <p:cNvSpPr/>
            <p:nvPr/>
          </p:nvSpPr>
          <p:spPr>
            <a:xfrm rot="1800000">
              <a:off x="12960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0" name="Hexagon 57"/>
            <p:cNvSpPr/>
            <p:nvPr/>
          </p:nvSpPr>
          <p:spPr>
            <a:xfrm rot="1800000">
              <a:off x="8535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1" name="Hexagon 58"/>
            <p:cNvSpPr/>
            <p:nvPr/>
          </p:nvSpPr>
          <p:spPr>
            <a:xfrm rot="1800000">
              <a:off x="158688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2" name="Hexagon 59"/>
            <p:cNvSpPr/>
            <p:nvPr/>
          </p:nvSpPr>
          <p:spPr>
            <a:xfrm rot="1800000">
              <a:off x="1605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3" name="Hexagon 94"/>
            <p:cNvSpPr/>
            <p:nvPr/>
          </p:nvSpPr>
          <p:spPr>
            <a:xfrm rot="1800000">
              <a:off x="87264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" name="Hexagon 95"/>
            <p:cNvSpPr/>
            <p:nvPr/>
          </p:nvSpPr>
          <p:spPr>
            <a:xfrm rot="1800000">
              <a:off x="688464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" name="Hexagon 96"/>
            <p:cNvSpPr/>
            <p:nvPr/>
          </p:nvSpPr>
          <p:spPr>
            <a:xfrm rot="1800000">
              <a:off x="762768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" name="Hexagon 97"/>
            <p:cNvSpPr/>
            <p:nvPr/>
          </p:nvSpPr>
          <p:spPr>
            <a:xfrm rot="1800000">
              <a:off x="762768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7" name="Freeform 98"/>
            <p:cNvSpPr/>
            <p:nvPr/>
          </p:nvSpPr>
          <p:spPr>
            <a:xfrm rot="1800000">
              <a:off x="838548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8" name="Freeform 99"/>
            <p:cNvSpPr/>
            <p:nvPr/>
          </p:nvSpPr>
          <p:spPr>
            <a:xfrm rot="1800000">
              <a:off x="838512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9" name="Rectangle 65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Rectangle 69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" name="Rectangle 7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1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F85DF-93EE-45BB-9430-A6AFD159ABD9}" type="datetime">
              <a:rPr b="0" lang="ru-RU" sz="1200" spc="-1" strike="noStrike">
                <a:solidFill>
                  <a:srgbClr val="fefefe"/>
                </a:solidFill>
                <a:latin typeface="Times New Roman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2"/>
          </p:nvPr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4c6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4c6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3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F0FC0-2A1A-41AC-AC87-F301E6EAC1D4}" type="slidenum">
              <a:rPr b="0" lang="ru-RU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Group 42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84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85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86" name="Rectangle 114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7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8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89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90" name="Rectangle 84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1" name="Rectangle 85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2" name="Rectangle 113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93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94" name="Rectangle 77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5" name="Rectangle 78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6" name="Rectangle 80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97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98" name="Rectangle 75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99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00" name="Freeform 44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1" name="Freeform 47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2" name="Freeform 48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3" name="Freeform 50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" name="Freeform 51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" name="Hexagon 52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" name="Hexagon 53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7" name="Hexagon 54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8" name="Hexagon 55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9" name="Hexagon 56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0" name="Freeform 57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" name="Hexagon 58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" name="Hexagon 59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" name="Hexagon 60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4" name="Hexagon 61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5" name="Hexagon 62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6" name="Hexagon 63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7" name="Hexagon 64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8" name="Hexagon 65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9" name="Hexagon 66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0" name="Freeform 67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1" name="Freeform 68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22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3" name="Rectangle 46"/>
          <p:cNvSpPr/>
          <p:nvPr/>
        </p:nvSpPr>
        <p:spPr>
          <a:xfrm>
            <a:off x="4649760" y="-22320"/>
            <a:ext cx="3505320" cy="231300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" name="Rectangle 49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" name="Rectangle 88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738320" y="1515960"/>
            <a:ext cx="213372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BB119-F63C-4662-A12C-00A3B053F907}" type="datetime">
              <a:rPr b="0" lang="ru-RU" sz="2400" spc="-1" strike="noStrike">
                <a:solidFill>
                  <a:srgbClr val="fefefe"/>
                </a:solidFill>
                <a:latin typeface="Times New Roman"/>
              </a:rPr>
              <a:t>31.07.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5303880" y="5719680"/>
            <a:ext cx="2830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4c6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4c6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4649760" y="5719680"/>
            <a:ext cx="642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4c6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EF566-E393-4EFD-A871-6B87F848755D}" type="slidenum">
              <a:rPr b="0" lang="ru-RU" sz="1200" spc="-1" strike="noStrike">
                <a:solidFill>
                  <a:srgbClr val="94c6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43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168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169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170" name="Rectangle 83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1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2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73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174" name="Rectangle 80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5" name="Rectangle 81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6" name="Rectangle 82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77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178" name="Rectangle 77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9" name="Rectangle 78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80" name="Rectangle 79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181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82" name="Rectangle 75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83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84" name="Freeform 46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5" name="Freeform 47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6" name="Freeform 48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7" name="Freeform 49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8" name="Freeform 50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9" name="Hexagon 51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0" name="Hexagon 52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1" name="Hexagon 53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2" name="Hexagon 54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3" name="Hexagon 55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4" name="Freeform 58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5" name="Hexagon 59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6" name="Hexagon 61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7" name="Hexagon 62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8" name="Hexagon 63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9" name="Hexagon 64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0" name="Hexagon 65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1" name="Hexagon 66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2" name="Hexagon 67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3" name="Hexagon 68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4" name="Freeform 69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5" name="Freeform 70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06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7" name="Rectangle 56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8" name="Rectangle 57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9" name="Rectangle 60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7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DE4A5-BFC5-409C-9BC1-A8FAF7859589}" type="datetime">
              <a:rPr b="0" lang="ru-RU" sz="1200" spc="-1" strike="noStrike">
                <a:solidFill>
                  <a:srgbClr val="fefefe"/>
                </a:solidFill>
                <a:latin typeface="Times New Roman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sldNum" idx="8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41C74-CE3D-450F-85E3-075ECF68D480}" type="slidenum">
              <a:rPr b="0" lang="ru-RU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ftr" idx="9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4c6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4c6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Group 43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252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253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254" name="Rectangle 86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5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6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257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258" name="Rectangle 83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9" name="Rectangle 84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0" name="Rectangle 85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261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262" name="Rectangle 80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3" name="Rectangle 81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4" name="Rectangle 82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265" name="Rectangle 77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266" name="Rectangle 78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267" name="Rectangle 79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268" name="Freeform 45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69" name="Freeform 46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0" name="Freeform 47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1" name="Freeform 48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2" name="Freeform 49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3" name="Hexagon 50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4" name="Hexagon 51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5" name="Hexagon 59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6" name="Hexagon 60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7" name="Hexagon 61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8" name="Freeform 62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9" name="Hexagon 63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0" name="Hexagon 64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1" name="Hexagon 65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2" name="Hexagon 66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3" name="Hexagon 67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4" name="Hexagon 68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5" name="Hexagon 69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6" name="Hexagon 70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7" name="Hexagon 71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8" name="Freeform 72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9" name="Freeform 73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90" name="Rectangle 93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1" name="Rectangle 10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2" name="Rectangle 101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1f1f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3" name="Rectangle 104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0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B062E-E156-48AA-88C8-A27FE22ABFE0}" type="datetime">
              <a:rPr b="0" lang="ru-RU" sz="1200" spc="-1" strike="noStrike">
                <a:solidFill>
                  <a:srgbClr val="fefefe"/>
                </a:solidFill>
                <a:latin typeface="Times New Roman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11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4c6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4c6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12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1D8A7-4AB5-4367-A7D9-5386ECAB14EF}" type="slidenum">
              <a:rPr b="0" lang="ru-RU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1640" y="1988640"/>
            <a:ext cx="3475080" cy="206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4c600"/>
                </a:solidFill>
                <a:latin typeface="Century Gothic"/>
              </a:rPr>
              <a:t>Философия науки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4571640" y="4421160"/>
            <a:ext cx="3600360" cy="16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24242"/>
                </a:solidFill>
                <a:latin typeface="Century Gothic"/>
              </a:rPr>
              <a:t>Классический и неклассический идеалы рациональности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44" name="Місце для нижнього колонтитула 1"/>
          <p:cNvSpPr/>
          <p:nvPr/>
        </p:nvSpPr>
        <p:spPr>
          <a:xfrm>
            <a:off x="5303880" y="5719680"/>
            <a:ext cx="2830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4c600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68000" y="981000"/>
            <a:ext cx="7599240" cy="93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4c600"/>
                </a:solidFill>
                <a:latin typeface="Century Gothic"/>
              </a:rPr>
              <a:t>построение завершенной научной теории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68360" y="1915920"/>
            <a:ext cx="82072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В развитии современных научных дисциплин особую роль играют </a:t>
            </a:r>
            <a:r>
              <a:rPr b="1" lang="ru-RU" sz="2400" spc="-1" strike="noStrike">
                <a:solidFill>
                  <a:srgbClr val="3e3d2d"/>
                </a:solidFill>
                <a:latin typeface="Century Gothic"/>
              </a:rPr>
              <a:t>специальные картины мира.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Специальными картинами мира называют обобщенные схемы – образы предмета исследования, посредством которых фиксируются </a:t>
            </a:r>
            <a:r>
              <a:rPr b="1" lang="ru-RU" sz="2400" spc="-1" strike="noStrike">
                <a:solidFill>
                  <a:srgbClr val="3e3d2d"/>
                </a:solidFill>
                <a:latin typeface="Century Gothic"/>
              </a:rPr>
              <a:t>основные системные характеристики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 изучаемой реальности.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67" name="Місце для нижнього колонтитула 1"/>
          <p:cNvSpPr/>
          <p:nvPr/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4c600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 txBox="1"/>
          <p:nvPr/>
        </p:nvSpPr>
        <p:spPr>
          <a:xfrm>
            <a:off x="468360" y="692280"/>
            <a:ext cx="8207280" cy="514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Термин «мир» применяется здесь в специфическом смысле – как обозначение некоторой сферы действительности, изучаемой в данной науке («мир физики», «мир биологии» и т.п.).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Чтобы избежать терминологических сложностей, имеет смысл пользоваться иным названием – </a:t>
            </a:r>
            <a:r>
              <a:rPr b="1" lang="ru-RU" sz="2400" spc="-1" strike="noStrike">
                <a:solidFill>
                  <a:srgbClr val="3e3d2d"/>
                </a:solidFill>
                <a:latin typeface="Century Gothic"/>
              </a:rPr>
              <a:t>картина исследуемой реальности.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Наиболее изученным ее образцом является </a:t>
            </a:r>
            <a:r>
              <a:rPr b="0" i="1" lang="ru-RU" sz="2400" spc="-1" strike="noStrike">
                <a:solidFill>
                  <a:srgbClr val="3e3d2d"/>
                </a:solidFill>
                <a:latin typeface="Century Gothic"/>
              </a:rPr>
              <a:t>физическая картина мира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.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69" name="Місце для нижнього колонтитула 1"/>
          <p:cNvSpPr/>
          <p:nvPr/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4c600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 txBox="1"/>
          <p:nvPr/>
        </p:nvSpPr>
        <p:spPr>
          <a:xfrm>
            <a:off x="611280" y="836280"/>
            <a:ext cx="7921440" cy="499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e3d2d"/>
                </a:solidFill>
                <a:latin typeface="Century Gothic"/>
              </a:rPr>
              <a:t>Например, представления: </a:t>
            </a:r>
            <a:endParaRPr b="0" lang="en-US" sz="3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мир состоит из неделимых корпускул;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их взаимодействие осуществляется как мгновенная передача сил по прямой;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корпускулы и образованные из них тела перемещаются в абсолютном пространстве с течением абсолютного времени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Это описание картины физического мира, сложившейся во второй половине 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XVII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 в. и получившей впоследствии название </a:t>
            </a:r>
            <a:r>
              <a:rPr b="1" lang="ru-RU" sz="2400" spc="-1" strike="noStrike">
                <a:solidFill>
                  <a:srgbClr val="3e3d2d"/>
                </a:solidFill>
                <a:latin typeface="Century Gothic"/>
              </a:rPr>
              <a:t>механической картины мира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71" name="Місце для нижнього колонтитула 1"/>
          <p:cNvSpPr/>
          <p:nvPr/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4c600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684360" y="907560"/>
            <a:ext cx="777528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Переход от механической к электродинамической (последняя четверть 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XIX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 в.), а затем к квантово-релятивистской картине физической реальности (первая половина 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XX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 в.) сопровождался </a:t>
            </a:r>
            <a:r>
              <a:rPr b="1" lang="ru-RU" sz="2400" spc="-1" strike="noStrike">
                <a:solidFill>
                  <a:srgbClr val="3e3d2d"/>
                </a:solidFill>
                <a:latin typeface="Century Gothic"/>
              </a:rPr>
              <a:t>изменением физических представлений.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По аналогии с физической картиной мира можно выделить картины реальности в других науках (химии, биологии, астрономии и т.д.) Среди них также существуют исторически сменяющие друг друга типы картин мира, что обнаруживается при анализе истории науки.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73" name="Місце для нижнього колонтитула 1"/>
          <p:cNvSpPr/>
          <p:nvPr/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4c600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 txBox="1"/>
          <p:nvPr/>
        </p:nvSpPr>
        <p:spPr>
          <a:xfrm>
            <a:off x="611280" y="836640"/>
            <a:ext cx="792144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Картина реальности обеспечивает </a:t>
            </a:r>
            <a:r>
              <a:rPr b="1" lang="ru-RU" sz="2400" spc="-1" strike="noStrike">
                <a:solidFill>
                  <a:srgbClr val="3e3d2d"/>
                </a:solidFill>
                <a:latin typeface="Century Gothic"/>
              </a:rPr>
              <a:t>систематизацию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 знаний в рамках соответствующей науки.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С ней связаны различные типы теорий научной дисциплины (фундаментальные и частные), а также опытные факты, на которые опираются и с которыми должны быть согласованы принципы картины реальности.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Одновременно она функционирует в качестве </a:t>
            </a:r>
            <a:r>
              <a:rPr b="1" lang="ru-RU" sz="2400" spc="-1" strike="noStrike">
                <a:solidFill>
                  <a:srgbClr val="3e3d2d"/>
                </a:solidFill>
                <a:latin typeface="Century Gothic"/>
              </a:rPr>
              <a:t>исследовательской программы,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 которая целенаправляет постановку задач как эмпирического, так и теоретического поиска и выбор средств их решения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75" name="Місце для нижнього колонтитула 1"/>
          <p:cNvSpPr/>
          <p:nvPr/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4c600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610920" y="764640"/>
            <a:ext cx="7993080" cy="513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Каждая из конкретно-исторических форм картины исследуемой реальности может реализовываться в ряде </a:t>
            </a:r>
            <a:r>
              <a:rPr b="1" lang="ru-RU" sz="2400" spc="-1" strike="noStrike">
                <a:solidFill>
                  <a:srgbClr val="3e3d2d"/>
                </a:solidFill>
                <a:latin typeface="Century Gothic"/>
              </a:rPr>
              <a:t>модификаций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, выражающих основные этапы развития научных знаний: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e3d2d"/>
                </a:solidFill>
                <a:latin typeface="Century Gothic"/>
              </a:rPr>
              <a:t>преемственность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 в развитии того или иного типа картины реальности (</a:t>
            </a:r>
            <a:r>
              <a:rPr b="0" lang="ru-RU" sz="2400" spc="-1" strike="noStrike" u="sng">
                <a:solidFill>
                  <a:srgbClr val="3e3d2d"/>
                </a:solidFill>
                <a:uFillTx/>
                <a:latin typeface="Century Gothic"/>
              </a:rPr>
              <a:t>например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, развитие представлений Ньютона о физическом мире Эйлером, развитие электродинамической картины мира Фарадеем, Максвеллом, Герцем, Лоренцем, каждый из которых вводил в эту картину новые элементы).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77" name="Місце для нижнього колонтитула 1"/>
          <p:cNvSpPr/>
          <p:nvPr/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4c600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610920" y="907560"/>
            <a:ext cx="784836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e3d2d"/>
                </a:solidFill>
                <a:latin typeface="Century Gothic"/>
              </a:rPr>
              <a:t>курирующие и альтернативные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 друг другу представления о физическом мире - когда одно из них в конечном итоге побеждает в качестве «истинной» физической картины мира (</a:t>
            </a:r>
            <a:r>
              <a:rPr b="0" lang="ru-RU" sz="2400" spc="-1" strike="noStrike" u="sng">
                <a:solidFill>
                  <a:srgbClr val="3e3d2d"/>
                </a:solidFill>
                <a:uFillTx/>
                <a:latin typeface="Century Gothic"/>
              </a:rPr>
              <a:t>например,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 борьба Ньютоновской и Декартовой концепции природы как альтернативных вариантов механической картины мира)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79" name="Місце для нижнього колонтитула 1"/>
          <p:cNvSpPr/>
          <p:nvPr/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4c600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539640" y="691920"/>
            <a:ext cx="8136000" cy="64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4c600"/>
                </a:solidFill>
                <a:latin typeface="Century Gothic"/>
              </a:rPr>
              <a:t>Общая научная картина мира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468360" y="1413000"/>
            <a:ext cx="82072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Общая научная картина мира выступает особой формой теоретического знания.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Картины реальности, развиваемые в отдельных научных дисциплинах, не являются изолированными друг от друга. Они взаимодействуют между собой.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Общая научная картина мира выступает </a:t>
            </a:r>
            <a:r>
              <a:rPr b="1" lang="ru-RU" sz="2400" spc="-1" strike="noStrike">
                <a:solidFill>
                  <a:srgbClr val="3e3d2d"/>
                </a:solidFill>
                <a:latin typeface="Century Gothic"/>
              </a:rPr>
              <a:t>формой систематизации знаний, интегративной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 по отношению к специальным картинам реальности (дисциплинарным онтологиям).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82" name="Місце для нижнього колонтитула 1"/>
          <p:cNvSpPr/>
          <p:nvPr/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4c600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468360" y="836640"/>
            <a:ext cx="82072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Она интегрирует наиболее важные достижения естественных, гуманитарных и технических наук – это достижения типа представлений о нестационарной Вселенной и Большом взрыве, о кварках и синергетических процессах, о генах, экосистемах и биосфере, об обществе как целостной системе, о формациях и цивилизациях и т.д.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Вначале они развиваются как фундаментальные идеи и представления соответствующих дисциплинарных онтологий, а затем </a:t>
            </a:r>
            <a:r>
              <a:rPr b="1" lang="ru-RU" sz="2400" spc="-1" strike="noStrike">
                <a:solidFill>
                  <a:srgbClr val="3e3d2d"/>
                </a:solidFill>
                <a:latin typeface="Century Gothic"/>
              </a:rPr>
              <a:t>включаются в общую научную картину мира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84" name="Місце для нижнього колонтитула 1"/>
          <p:cNvSpPr/>
          <p:nvPr/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4c600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755280" y="836280"/>
            <a:ext cx="7024680" cy="530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4c600"/>
                </a:solidFill>
                <a:latin typeface="Century Gothic"/>
              </a:rPr>
              <a:t>детерминизм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610920" y="1484280"/>
            <a:ext cx="7777080" cy="43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e3d2d"/>
                </a:solidFill>
                <a:latin typeface="Century Gothic"/>
              </a:rPr>
              <a:t>Принцип детерминизма 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содержит ответ на вопрос, обусловлены ли явления мира в своём существовании и развитии, имеет ли эта обусловленность регулярный, упорядоченный или произвольный, неупорядоченный характер.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Другими словами, это вопрос о том, выступает ли мир в своём существовании и развитии как упорядоченный космос или неупорядоченный хаос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Обратное понятие - </a:t>
            </a:r>
            <a:r>
              <a:rPr b="1" lang="ru-RU" sz="2400" spc="-1" strike="noStrike">
                <a:solidFill>
                  <a:srgbClr val="3e3d2d"/>
                </a:solidFill>
                <a:latin typeface="Century Gothic"/>
              </a:rPr>
              <a:t>индетерминизм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87" name="Місце для нижнього колонтитула 1"/>
          <p:cNvSpPr/>
          <p:nvPr/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4c600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39280" y="404640"/>
            <a:ext cx="7024680" cy="673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4c600"/>
                </a:solidFill>
                <a:latin typeface="Century Gothic"/>
              </a:rPr>
              <a:t>Вопросы: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539280" y="1125000"/>
            <a:ext cx="7991640" cy="17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27040" indent="-457200">
              <a:spcBef>
                <a:spcPts val="601"/>
              </a:spcBef>
              <a:buClr>
                <a:srgbClr val="94c600"/>
              </a:buClr>
              <a:buSzPct val="76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e3d2d"/>
                </a:solidFill>
                <a:latin typeface="Century Gothic"/>
              </a:rPr>
              <a:t>Научная картина мира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527040" indent="-457200">
              <a:spcBef>
                <a:spcPts val="601"/>
              </a:spcBef>
              <a:buClr>
                <a:srgbClr val="94c600"/>
              </a:buClr>
              <a:buSzPct val="76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e3d2d"/>
                </a:solidFill>
                <a:latin typeface="Century Gothic"/>
              </a:rPr>
              <a:t>Построение завершенной научной теории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527040" indent="-457200">
              <a:spcBef>
                <a:spcPts val="601"/>
              </a:spcBef>
              <a:buClr>
                <a:srgbClr val="94c600"/>
              </a:buClr>
              <a:buSzPct val="76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e3d2d"/>
                </a:solidFill>
                <a:latin typeface="Century Gothic"/>
              </a:rPr>
              <a:t>Классическая, неклассическая и постнеклассическая картины мира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347" name="Picture 7" descr="Картинка 3 из 148424"/>
          <p:cNvPicPr/>
          <p:nvPr/>
        </p:nvPicPr>
        <p:blipFill>
          <a:blip r:embed="rId1"/>
          <a:stretch/>
        </p:blipFill>
        <p:spPr>
          <a:xfrm>
            <a:off x="1979640" y="3068640"/>
            <a:ext cx="5076720" cy="3381480"/>
          </a:xfrm>
          <a:prstGeom prst="rect">
            <a:avLst/>
          </a:prstGeom>
          <a:ln w="0">
            <a:noFill/>
          </a:ln>
        </p:spPr>
      </p:pic>
      <p:sp>
        <p:nvSpPr>
          <p:cNvPr id="348" name="Місце для нижнього колонтитула 1"/>
          <p:cNvSpPr/>
          <p:nvPr/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4c600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395280" y="620280"/>
            <a:ext cx="835344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Любая, идеалистическая или материалистическая философская система, построенная на принципах рационального объяснения бытия, необходимо затрагивает проблему всеобщей обусловленности явлений и процессов в мире, которая и обозначается понятием «</a:t>
            </a:r>
            <a:r>
              <a:rPr b="1" lang="ru-RU" sz="2400" spc="-1" strike="noStrike">
                <a:solidFill>
                  <a:srgbClr val="3e3d2d"/>
                </a:solidFill>
                <a:latin typeface="Century Gothic"/>
              </a:rPr>
              <a:t>детерминизм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»</a:t>
            </a:r>
            <a:r>
              <a:rPr b="1" lang="ru-RU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от лат. 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determinate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 – определять, отделять, отграничивать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1" i="1" lang="ru-RU" sz="2400" spc="-1" strike="noStrike">
                <a:solidFill>
                  <a:srgbClr val="3e3d2d"/>
                </a:solidFill>
                <a:latin typeface="Century Gothic"/>
              </a:rPr>
              <a:t>Детерминизм</a:t>
            </a:r>
            <a:r>
              <a:rPr b="0" i="1" lang="ru-RU" sz="2400" spc="-1" strike="noStrike">
                <a:solidFill>
                  <a:srgbClr val="3e3d2d"/>
                </a:solidFill>
                <a:latin typeface="Century Gothic"/>
              </a:rPr>
              <a:t> – это учение о всеобщей обусловленности объективных явлений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любое событие, любой факт, явление и т. д. имеют свою причину и могут выступать причиной другого события, факта, явления.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89" name="Місце для нижнього колонтитула 1"/>
          <p:cNvSpPr/>
          <p:nvPr/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4c600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11280" y="549000"/>
            <a:ext cx="8137440" cy="71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4c600"/>
                </a:solidFill>
                <a:latin typeface="Century Gothic"/>
              </a:rPr>
              <a:t>Классическая картина мира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323640" y="1341000"/>
            <a:ext cx="5616360" cy="511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26496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Научная революция И. Ньютона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32640" indent="-26496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Классическое естествознание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32640" indent="-26496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Период: XV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I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I - 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XI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X века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32640" indent="-26496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3e3d2d"/>
                </a:solidFill>
                <a:uFillTx/>
                <a:latin typeface="Century Gothic"/>
              </a:rPr>
              <a:t>Основная идея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: переход от геоцентрической модели мира к гелиоцентрической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32640" indent="-26496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Открытия: Н. Коперника, Г. Галилея, И. Кеплера, Р. Декарта.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32640" indent="-26496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И. Ньютон подвел итог их исследованиям, сформулировал базовые принципы новой научной картины мира в общем виде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392" name="Picture 5" descr="Картинка 4 из 149110"/>
          <p:cNvPicPr/>
          <p:nvPr/>
        </p:nvPicPr>
        <p:blipFill>
          <a:blip r:embed="rId1"/>
          <a:stretch/>
        </p:blipFill>
        <p:spPr>
          <a:xfrm>
            <a:off x="5724360" y="1989000"/>
            <a:ext cx="3219480" cy="3810240"/>
          </a:xfrm>
          <a:prstGeom prst="rect">
            <a:avLst/>
          </a:prstGeom>
          <a:ln w="0">
            <a:noFill/>
          </a:ln>
        </p:spPr>
      </p:pic>
      <p:sp>
        <p:nvSpPr>
          <p:cNvPr id="393" name="Місце для нижнього колонтитула 1"/>
          <p:cNvSpPr/>
          <p:nvPr/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4c600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 txBox="1"/>
          <p:nvPr/>
        </p:nvSpPr>
        <p:spPr>
          <a:xfrm>
            <a:off x="468360" y="836280"/>
            <a:ext cx="8207280" cy="499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Вселенная состоит из материальных тел и пустоты, представленная в виде комплекса механических систем, развивается без участия сознания и разума.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Вся её история, начиная от «Большого взрыва» – результат слепого и стихийного движения материальных масс.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Бесконечное трёхмерное пространство - так называемом абсолютное пространство, время в котором может быть измерено универсальными часами (абсолютное время)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95" name="Місце для нижнього колонтитула 1"/>
          <p:cNvSpPr/>
          <p:nvPr/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4c600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 txBox="1"/>
          <p:nvPr/>
        </p:nvSpPr>
        <p:spPr>
          <a:xfrm>
            <a:off x="611280" y="836640"/>
            <a:ext cx="7424640" cy="506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e3d2d"/>
                </a:solidFill>
                <a:latin typeface="Century Gothic"/>
              </a:rPr>
              <a:t>Жизнь зарождается в первозданном океане случайно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, как результат беспорядочных химических реакций, и пойди процесс чуть по-другому, сознание никогда не проявилось бы в бытии.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С точки зрения теории Ньютона появление жизни и сознания – не только загадка, но и явление достаточно странное, абсурдное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В познании: происходит четкое противопоставление субъекта и объекта исследования.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Субъект – «не имеет значения»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97" name="Місце для нижнього колонтитула 1"/>
          <p:cNvSpPr/>
          <p:nvPr/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4c600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4000" y="692280"/>
            <a:ext cx="7024680" cy="50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4c600"/>
                </a:solidFill>
                <a:latin typeface="Century Gothic"/>
              </a:rPr>
              <a:t>Основные изменения: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468000" y="1196640"/>
            <a:ext cx="849636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Основной - язык математики, выделение строго объективных количественных характеристик земных тел (форма величина, масса, движение), выражение их в строгих математических закономерностях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Методы экспериментального исследования.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Основной принцип: механика, детерминизм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Появление механистической научной картины мира на базе экспериментально математического естествознания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00" name="Місце для нижнього колонтитула 1"/>
          <p:cNvSpPr/>
          <p:nvPr/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4c600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395280" y="620640"/>
            <a:ext cx="7672320" cy="1224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4c600"/>
                </a:solidFill>
                <a:latin typeface="Century Gothic"/>
              </a:rPr>
              <a:t>Неклассическая картина мира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610920" y="1844640"/>
            <a:ext cx="453708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Эйнштейновская революция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Период: рубеж XIX - XX веков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Открытия: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e3d2d"/>
                </a:solidFill>
                <a:latin typeface="Century Gothic"/>
              </a:rPr>
              <a:t>сложная структура атома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e3d2d"/>
                </a:solidFill>
                <a:latin typeface="Century Gothic"/>
              </a:rPr>
              <a:t>явление радиоактивности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e3d2d"/>
                </a:solidFill>
                <a:latin typeface="Century Gothic"/>
              </a:rPr>
              <a:t>дискретность характера электромагнитного излучения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403" name="Picture 5" descr="Файл:Bundesarchiv Bild 102-10447, Albert Einstein.jpg"/>
          <p:cNvPicPr/>
          <p:nvPr/>
        </p:nvPicPr>
        <p:blipFill>
          <a:blip r:embed="rId1"/>
          <a:stretch/>
        </p:blipFill>
        <p:spPr>
          <a:xfrm>
            <a:off x="5435640" y="1125360"/>
            <a:ext cx="3243240" cy="4849920"/>
          </a:xfrm>
          <a:prstGeom prst="rect">
            <a:avLst/>
          </a:prstGeom>
          <a:ln w="0">
            <a:noFill/>
          </a:ln>
        </p:spPr>
      </p:pic>
      <p:sp>
        <p:nvSpPr>
          <p:cNvPr id="404" name="Місце для нижнього колонтитула 1"/>
          <p:cNvSpPr/>
          <p:nvPr/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4c600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68000" y="620280"/>
            <a:ext cx="759924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4c600"/>
                </a:solidFill>
                <a:latin typeface="Century Gothic"/>
              </a:rPr>
              <a:t>Основные изменения: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539280" y="1341360"/>
            <a:ext cx="72802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была подорвана важнейшая предпосылка механистической картины мира - убежденность в том, что с помощью простых сил, действующих между неизменными объектами, можно объяснить все явления природы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Специальная теория относительности (СТО) А. Эйнштейна вступила в противоречие с теорией гравитации Ньютона.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В теории Эйнштейна гравитация – это не сила, а проявление искривления пространства-времени.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07" name="Місце для нижнього колонтитула 1"/>
          <p:cNvSpPr/>
          <p:nvPr/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4c600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 txBox="1"/>
          <p:nvPr/>
        </p:nvSpPr>
        <p:spPr>
          <a:xfrm>
            <a:off x="468360" y="836280"/>
            <a:ext cx="81360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В соответствии с теорией относительности, пространство и время относительны - результаты измерения длины и времени зависят от того, движется наблюдатель или нет.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e3d2d"/>
                </a:solidFill>
                <a:latin typeface="Century Gothic"/>
              </a:rPr>
              <a:t>мир гораздо разнообразнее и сложнее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, чем это представлялось механистической науке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сознание человека изначально включено в само наше восприятие действительности. Это следует понимать так: мир таков, потому что это мы глядим на него, и изменения в нас, в нашем самосознании меняют картину мира.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09" name="Місце для нижнього колонтитула 1"/>
          <p:cNvSpPr/>
          <p:nvPr/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4c600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 txBox="1"/>
          <p:nvPr/>
        </p:nvSpPr>
        <p:spPr>
          <a:xfrm>
            <a:off x="539640" y="907560"/>
            <a:ext cx="79200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«Чисто объективное» описание картины мира  невозможно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Редукционистский подход  сменяет </a:t>
            </a:r>
            <a:r>
              <a:rPr b="1" lang="ru-RU" sz="2400" spc="-1" strike="noStrike">
                <a:solidFill>
                  <a:srgbClr val="3e3d2d"/>
                </a:solidFill>
                <a:latin typeface="Century Gothic"/>
              </a:rPr>
              <a:t>Квантовый подход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 - мир нельзя объяснить лишь как сумму его составных частей. Макромир и микромир тесно связаны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В процессе познания важное место занимают </a:t>
            </a:r>
            <a:r>
              <a:rPr b="1" lang="ru-RU" sz="2400" spc="-1" strike="noStrike">
                <a:solidFill>
                  <a:srgbClr val="3e3d2d"/>
                </a:solidFill>
                <a:latin typeface="Century Gothic"/>
              </a:rPr>
              <a:t>измерительные приборы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11" name="Місце для нижнього колонтитула 1"/>
          <p:cNvSpPr/>
          <p:nvPr/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4c600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68000" y="692280"/>
            <a:ext cx="7599240" cy="79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4c600"/>
                </a:solidFill>
                <a:latin typeface="Century Gothic"/>
              </a:rPr>
              <a:t>Постнеклассическая картина мира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610920" y="1484280"/>
            <a:ext cx="799308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Синергетика - междисциплинарное направление научных исследований, задачей которого является изучение природных явлений и процессов на основе принципов самоорганизации систем (состоящих из </a:t>
            </a:r>
            <a:r>
              <a:rPr b="0" i="1" lang="ru-RU" sz="2400" spc="-1" strike="noStrike">
                <a:solidFill>
                  <a:srgbClr val="3e3d2d"/>
                </a:solidFill>
                <a:latin typeface="Century Gothic"/>
              </a:rPr>
              <a:t>подсистем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).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Особое внимание уделяется структурам, возникающим в процессе самоорганизации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В познание включены ценностные аспекты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14" name="Місце для нижнього колонтитула 1"/>
          <p:cNvSpPr/>
          <p:nvPr/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4c600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7024680" cy="672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4c600"/>
                </a:solidFill>
                <a:latin typeface="Century Gothic"/>
              </a:rPr>
              <a:t>философия науки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324000" y="1412640"/>
            <a:ext cx="842472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e3d2d"/>
                </a:solidFill>
                <a:latin typeface="Century Gothic"/>
              </a:rPr>
              <a:t>Непосредственной предшественницей философии науки является гносеология XVII-XVIII вв. (эмпиризм и рационализм), в центре которой было осмысление сущности научного знания и методов его получения. 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e3d2d"/>
                </a:solidFill>
                <a:latin typeface="Century Gothic"/>
              </a:rPr>
              <a:t>Гносеологические вопросы были центральной темой классического этапа философии Нового времени - от Р. Декарта и Дж. Локка до И. Канта. 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e3d2d"/>
                </a:solidFill>
                <a:latin typeface="Century Gothic"/>
              </a:rPr>
              <a:t>Как отдельное направление философии, философия науки оформилась в XIX в. В её развитии можно выделить несколько этапов: позитивизм, постпозитивизм и концепции науки П. Фейерабенда, И. Локатоса, Т. Куна и К. Поппера.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e3d2d"/>
                </a:solidFill>
                <a:latin typeface="Century Gothic"/>
              </a:rPr>
              <a:t>В отношении научное знание в философии познания принято употреблять понятие </a:t>
            </a:r>
            <a:r>
              <a:rPr b="1" lang="ru-RU" sz="2200" spc="-1" strike="noStrike">
                <a:solidFill>
                  <a:srgbClr val="3e3d2d"/>
                </a:solidFill>
                <a:latin typeface="Century Gothic"/>
              </a:rPr>
              <a:t>«эпистемология»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51" name="Місце для нижнього колонтитула 1"/>
          <p:cNvSpPr/>
          <p:nvPr/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4c600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39280" y="836640"/>
            <a:ext cx="7527960" cy="673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4c600"/>
                </a:solidFill>
                <a:latin typeface="Century Gothic"/>
              </a:rPr>
              <a:t>Синергетика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468360" y="1773000"/>
            <a:ext cx="4248000" cy="405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Немецкий ученый </a:t>
            </a:r>
            <a:r>
              <a:rPr b="1" lang="ru-RU" sz="2400" spc="-1" strike="noStrike">
                <a:solidFill>
                  <a:srgbClr val="3e3d2d"/>
                </a:solidFill>
                <a:latin typeface="Century Gothic"/>
              </a:rPr>
              <a:t>Герман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1" lang="ru-RU" sz="2400" spc="-1" strike="noStrike">
                <a:solidFill>
                  <a:srgbClr val="3e3d2d"/>
                </a:solidFill>
                <a:latin typeface="Century Gothic"/>
              </a:rPr>
              <a:t>Хакен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 (родился в 1927 г.) -  немецкий физик-теоретик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назвал теорию самоорганизации </a:t>
            </a:r>
            <a:r>
              <a:rPr b="1" lang="ru-RU" sz="2400" spc="-1" strike="noStrike">
                <a:solidFill>
                  <a:srgbClr val="3e3d2d"/>
                </a:solidFill>
                <a:latin typeface="Century Gothic"/>
              </a:rPr>
              <a:t>синергетикой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 (теорией совместного действия).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417" name="Picture 2" descr="Картинка 2 из 278"/>
          <p:cNvPicPr/>
          <p:nvPr/>
        </p:nvPicPr>
        <p:blipFill>
          <a:blip r:embed="rId1"/>
          <a:stretch/>
        </p:blipFill>
        <p:spPr>
          <a:xfrm>
            <a:off x="5364000" y="1557360"/>
            <a:ext cx="3230640" cy="4392720"/>
          </a:xfrm>
          <a:prstGeom prst="rect">
            <a:avLst/>
          </a:prstGeom>
          <a:ln w="0">
            <a:noFill/>
          </a:ln>
        </p:spPr>
      </p:pic>
      <p:sp>
        <p:nvSpPr>
          <p:cNvPr id="418" name="Місце для нижнього колонтитула 1"/>
          <p:cNvSpPr/>
          <p:nvPr/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4c600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971280" y="83628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4c600"/>
                </a:solidFill>
                <a:latin typeface="Century Gothic"/>
              </a:rPr>
              <a:t>Аналогичные исследования: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420" name="Picture 2" descr="Картинка 10 из 636"/>
          <p:cNvPicPr/>
          <p:nvPr/>
        </p:nvPicPr>
        <p:blipFill>
          <a:blip r:embed="rId1"/>
          <a:stretch/>
        </p:blipFill>
        <p:spPr>
          <a:xfrm>
            <a:off x="971640" y="2276640"/>
            <a:ext cx="2435040" cy="3508200"/>
          </a:xfrm>
          <a:prstGeom prst="rect">
            <a:avLst/>
          </a:prstGeom>
          <a:ln w="0">
            <a:noFill/>
          </a:ln>
        </p:spPr>
      </p:pic>
      <p:sp>
        <p:nvSpPr>
          <p:cNvPr id="421" name="Прямоугольник 5"/>
          <p:cNvSpPr/>
          <p:nvPr/>
        </p:nvSpPr>
        <p:spPr>
          <a:xfrm>
            <a:off x="3851280" y="2421000"/>
            <a:ext cx="46450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Илья́ Романович Пригожин</a:t>
            </a: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 (1917 -2003 гг.) - 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Бельгийский и американский физик и химик российского происхождения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лауреат Нобелевской премии по химии 1977 года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Автор </a:t>
            </a: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теории диссипативных структур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2" name="Місце для нижнього колонтитула 1"/>
          <p:cNvSpPr/>
          <p:nvPr/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4c600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 txBox="1"/>
          <p:nvPr/>
        </p:nvSpPr>
        <p:spPr>
          <a:xfrm>
            <a:off x="468000" y="620280"/>
            <a:ext cx="828036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2620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Открытый Пригожиным новый принцип - </a:t>
            </a:r>
            <a:r>
              <a:rPr b="1" lang="ru-RU" sz="2400" spc="-1" strike="noStrike">
                <a:solidFill>
                  <a:srgbClr val="3e3d2d"/>
                </a:solidFill>
                <a:latin typeface="Century Gothic"/>
              </a:rPr>
              <a:t>порядок через флуктуацию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 (любое колебание или любое периодическое изменение)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29040" indent="-2620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Дальнейшие исследования показали, что он представляет собой базисный механизм развертывания эволюционных процессов во всех областях - от атомов до галактик, от отдельных клеток до человеческих существ и вплоть до обществ и культур.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29040" indent="-2620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На основании этих наблюдений появилась возможность сформулировать единую точку зрения на эволюцию, объединяющим принципом которой является не стабильное состояние, а динамические состояния неуравновешенных систем.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24" name="Місце для нижнього колонтитула 1"/>
          <p:cNvSpPr/>
          <p:nvPr/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4c600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 txBox="1"/>
          <p:nvPr/>
        </p:nvSpPr>
        <p:spPr>
          <a:xfrm>
            <a:off x="468000" y="620280"/>
            <a:ext cx="806436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Открытые системы на всех уровнях являются носителями всеобщей эволюции, которая гарантирует, что жизнь будет продолжать свое движение во всё более новые динамические режимы сложности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Микрокосм и макрокосм являются аспектами единой эволюции.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Эволюция человека является значимой составной частью вселенской эволюции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26" name="Місце для нижнього колонтитула 1"/>
          <p:cNvSpPr/>
          <p:nvPr/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4c600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4c600"/>
                </a:solidFill>
                <a:latin typeface="Century Gothic"/>
              </a:rPr>
              <a:t>Вопрос для самостоятельной работы: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Прокомментируйте высказывание: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e3d2d"/>
                </a:solidFill>
                <a:latin typeface="Century Gothic"/>
              </a:rPr>
              <a:t>«Человек, вооруженный только наукой, подобен ребенку, играющему с коробкой спичек»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Джон Скот Холдейн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шотландский ученый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29" name="Місце для нижнього колонтитула 1"/>
          <p:cNvSpPr/>
          <p:nvPr/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4c600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755280" y="691920"/>
            <a:ext cx="7024680" cy="601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4c600"/>
                </a:solidFill>
                <a:latin typeface="Century Gothic"/>
              </a:rPr>
              <a:t>Научная картина мира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539280" y="1557360"/>
            <a:ext cx="799308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Термин «</a:t>
            </a:r>
            <a:r>
              <a:rPr b="1" lang="ru-RU" sz="2400" spc="-1" strike="noStrike">
                <a:solidFill>
                  <a:srgbClr val="3e3d2d"/>
                </a:solidFill>
                <a:latin typeface="Century Gothic"/>
              </a:rPr>
              <a:t>Вселенная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» в физике обозначает многообразный физический мир, начиная от элементарных частиц и кончая метагалактиками.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e3d2d"/>
                </a:solidFill>
                <a:latin typeface="Century Gothic"/>
              </a:rPr>
              <a:t>На философском языке «Вселенная» может обозначать бытие или Мироздание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.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Другими словами «Вселенная» (Универсум – лат.) в философии имеет иное значение, чем в физике.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Принятое в философии понятие</a:t>
            </a:r>
            <a:r>
              <a:rPr b="0" i="1" lang="ru-RU" sz="2400" spc="-1" strike="noStrike">
                <a:solidFill>
                  <a:srgbClr val="3e3d2d"/>
                </a:solidFill>
                <a:latin typeface="Century Gothic"/>
              </a:rPr>
              <a:t> «</a:t>
            </a:r>
            <a:r>
              <a:rPr b="1" lang="ru-RU" sz="2400" spc="-1" strike="noStrike">
                <a:solidFill>
                  <a:srgbClr val="3e3d2d"/>
                </a:solidFill>
                <a:latin typeface="Century Gothic"/>
              </a:rPr>
              <a:t>картина мира</a:t>
            </a:r>
            <a:r>
              <a:rPr b="0" i="1" lang="ru-RU" sz="2400" spc="-1" strike="noStrike">
                <a:solidFill>
                  <a:srgbClr val="3e3d2d"/>
                </a:solidFill>
                <a:latin typeface="Century Gothic"/>
              </a:rPr>
              <a:t>»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 означает видимый портрет мироздания, образно-понятийное описание Вселенной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54" name="Місце для нижнього колонтитула 1"/>
          <p:cNvSpPr/>
          <p:nvPr/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4c600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 txBox="1"/>
          <p:nvPr/>
        </p:nvSpPr>
        <p:spPr>
          <a:xfrm>
            <a:off x="468000" y="620640"/>
            <a:ext cx="835164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Слово «</a:t>
            </a:r>
            <a:r>
              <a:rPr b="1" lang="ru-RU" sz="2400" spc="-1" strike="noStrike">
                <a:solidFill>
                  <a:srgbClr val="3e3d2d"/>
                </a:solidFill>
                <a:latin typeface="Century Gothic"/>
              </a:rPr>
              <a:t>Вселенная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» буквально означает </a:t>
            </a:r>
            <a:r>
              <a:rPr b="1" lang="ru-RU" sz="2400" spc="-1" strike="noStrike">
                <a:solidFill>
                  <a:srgbClr val="3e3d2d"/>
                </a:solidFill>
                <a:latin typeface="Century Gothic"/>
              </a:rPr>
              <a:t>единство, общность всех вещей, рассматриваемых как целое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.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Вплоть до ХХ в. познание Вселенной как целого в основном оставалось прерогативой религии.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Философию всегда интересовали не отдельные вещи, не каждая вещь сама по себе, в своем обособленном, отдельном существовании, а совокупность всего существующего, публичная жизнь каждой вещи, ее универсальное существование.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Причем под </a:t>
            </a:r>
            <a:r>
              <a:rPr b="1" lang="ru-RU" sz="2400" spc="-1" strike="noStrike">
                <a:solidFill>
                  <a:srgbClr val="3e3d2d"/>
                </a:solidFill>
                <a:latin typeface="Century Gothic"/>
              </a:rPr>
              <a:t>вещами 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понимались не только физические (материальные) и духовные объекты, но также все ирреальное, фантастическое и сверхъестественное, если оно существует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56" name="Місце для нижнього колонтитула 1"/>
          <p:cNvSpPr/>
          <p:nvPr/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4c600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 txBox="1"/>
          <p:nvPr/>
        </p:nvSpPr>
        <p:spPr>
          <a:xfrm>
            <a:off x="394920" y="549360"/>
            <a:ext cx="8280360" cy="59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Научная космология как самостоятельная отрасль знания возникла сравнительно недавно.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Объект внимания физики космологии – </a:t>
            </a:r>
            <a:r>
              <a:rPr b="0" i="1" lang="ru-RU" sz="2400" spc="-1" strike="noStrike">
                <a:solidFill>
                  <a:srgbClr val="3e3d2d"/>
                </a:solidFill>
                <a:latin typeface="Century Gothic"/>
              </a:rPr>
              <a:t>Вселенная в целом 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– недоступен для наблюдения. Космологи прибегают к </a:t>
            </a:r>
            <a:r>
              <a:rPr b="1" lang="ru-RU" sz="2400" spc="-1" strike="noStrike">
                <a:solidFill>
                  <a:srgbClr val="3e3d2d"/>
                </a:solidFill>
                <a:latin typeface="Century Gothic"/>
              </a:rPr>
              <a:t>экстраполяции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.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Законы физики, выведенные из наблюдений и экспериментов над отдельными частями Вселенной, применяются и ко Вселенной в целом.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3e3d2d"/>
                </a:solidFill>
                <a:uFillTx/>
                <a:latin typeface="Century Gothic"/>
              </a:rPr>
              <a:t>Например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, общая теория относительности (лучшая из существующих на сегодня теорий гравитации), проверенная экспериментально в основном в пределах Солнечной системы, применяется к расчету движения всей Вселенной.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58" name="Місце для нижнього колонтитула 1"/>
          <p:cNvSpPr/>
          <p:nvPr/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4c600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468000" y="691920"/>
            <a:ext cx="835164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Применяя законы физики к Вселенной в целом, мы совершаем </a:t>
            </a:r>
            <a:r>
              <a:rPr b="1" lang="ru-RU" sz="2400" spc="-1" strike="noStrike">
                <a:solidFill>
                  <a:srgbClr val="3e3d2d"/>
                </a:solidFill>
                <a:latin typeface="Century Gothic"/>
              </a:rPr>
              <a:t>логический скачок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, переносим умозрительные схемы (модели) определенной части физического мира на Вселенную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Точность моделей подтверждается неоднократными (повторяемыми) экспериментами.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Воспроизводимость экспериментальных проверок увеличивает доверие к модели, модель становится частью совершенного научного знания, оставаясь в этом качестве до тех пор, пока ей на смену не придет улучшенная, более точная или более глубокая модель (теория)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60" name="Місце для нижнього колонтитула 1"/>
          <p:cNvSpPr/>
          <p:nvPr/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4c600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 txBox="1"/>
          <p:nvPr/>
        </p:nvSpPr>
        <p:spPr>
          <a:xfrm>
            <a:off x="468360" y="549360"/>
            <a:ext cx="8207280" cy="59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Сами рациональные законы, которые экстраполируются на всю Вселенную, создаются </a:t>
            </a:r>
            <a:r>
              <a:rPr b="0" i="1" lang="ru-RU" sz="2400" spc="-1" strike="noStrike">
                <a:solidFill>
                  <a:srgbClr val="3e3d2d"/>
                </a:solidFill>
                <a:latin typeface="Century Gothic"/>
              </a:rPr>
              <a:t>продуктивным воображением 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ученых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«Продуктивное воображение» - И. Кант - конструктивная деятельность сознания;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Продуктивное воображение может запускаться внешними впечатлениями, наблюдениями.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«Теоретик сначала мысленно конструирует нечто, а затем познает то, что уже помыслено»), а также улучшаются, уточняются, углубляются с помощью экспериментов и наблюдений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62" name="Місце для нижнього колонтитула 1"/>
          <p:cNvSpPr/>
          <p:nvPr/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4c600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 txBox="1"/>
          <p:nvPr/>
        </p:nvSpPr>
        <p:spPr>
          <a:xfrm>
            <a:off x="468360" y="691920"/>
            <a:ext cx="820728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Свою науку физик рассматривает как </a:t>
            </a:r>
            <a:r>
              <a:rPr b="1" lang="ru-RU" sz="2400" spc="-1" strike="noStrike">
                <a:solidFill>
                  <a:srgbClr val="3e3d2d"/>
                </a:solidFill>
                <a:latin typeface="Century Gothic"/>
              </a:rPr>
              <a:t>модель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, описывающую реальный мир наблюдений.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Эта модель может включать множество дополнительных особенностей, которые, хотя сами по себе и не отражают реального опыта, играют важную роль в теории.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Физикам приходится придумывать чисто умозрительные, абстрактные понятия для моделирования реального мира.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нельзя ограничиться исключительно наблюдаемыми величинами.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64" name="Місце для нижнього колонтитула 1"/>
          <p:cNvSpPr/>
          <p:nvPr/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4c600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20T05:30:35Z</dcterms:created>
  <dc:creator>user</dc:creator>
  <dc:description/>
  <dc:language>en-US</dc:language>
  <cp:lastModifiedBy>LEGION</cp:lastModifiedBy>
  <dcterms:modified xsi:type="dcterms:W3CDTF">2014-11-11T07:54:47Z</dcterms:modified>
  <cp:revision>39</cp:revision>
  <dc:subject/>
  <dc:title>Презентация PowerPoint</dc:title>
</cp:coreProperties>
</file>