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6EDB-F732-4FE1-8960-E7C4EC31AD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раннего барокко (1600—16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4BC-FD79-4B00-AD3A-3586A1FC7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21B8-1816-43A5-9E5E-379173A474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FDA8-CE57-4295-9395-B279925D8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E1B-5DCE-4A7F-A67B-0A5E69BA45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7731-29D9-4CD4-8685-251CEC84F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DF99-6561-4C5B-B1F9-A0B636A0A2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AAA-4C69-4D27-BC52-8A7D2113E2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CF89-5ABC-4E38-A00F-197E094865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1101-C171-4A93-A523-BDEE249678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943-FA9F-42B4-A01A-0AA04B9A9A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A82-84AE-4993-85EF-18F1C3222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8985-AB2B-45FE-94CB-6476AE72BB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68E-CE00-4A75-8FB1-D16F8D05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0F6-5991-4FC6-ADE3-434EE0AA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42A-02F5-46F6-BA29-946A68BD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B53-1F4B-4CF3-9B02-9C7942A3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993-D43C-475F-96F9-175EA74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BCD-44BA-496A-A64E-28F1DE3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DB4-011A-4245-BAA7-9A5D4E93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B0C-7D70-4F3C-86AA-5DB4132E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BC9-4462-4DF9-A102-35FD0C54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C39-763C-4EED-B8D7-BB369B0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333-2497-4E4F-A753-6F77BB62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8B-0F28-414A-BE34-657803A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047-29F2-491B-971D-F62FDF3480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181080"/>
            <a:ext cx="874872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раннего барокко (1600—16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1400" y="800280"/>
            <a:ext cx="3727440" cy="4616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56228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лаудио Монтеверди кисти Бернардо Строцци, 1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211640" y="662040"/>
            <a:ext cx="471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овной точкой перехода между эпохами барокко и ренессанса можно считать создание итальянским композитором Клаудио Монтеверди (1567—1643) его речитативного стиля и последовательное развитие итальянской оперы. Начало оперных спектаклей в Риме и особенно в Венеции означало уже признание и распространение нового жанра по стра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572000" y="985680"/>
            <a:ext cx="411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тонио Виваль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1678—1741) —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тальянский композитор, родился в Венеции. В 1703 году принял сан католического священ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4282920" cy="511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4087800"/>
            <a:ext cx="428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ым знаменитым придворным композитором стал Георг Фридрих Гендель (1685—1759). Он родился в Гер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356000" y="237960"/>
            <a:ext cx="478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дель смешал в своей музыке богатые традиции импровизации и контрапункта. Искусство музыкальных украшений достигло в его произведениях очень высокого уровня развития. Он путешествовал по все Европе, чтобы обучаться музыке других композиторов, в связи с чем имел очень широкий круг знакомств среди композиторов других ст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341280" y="0"/>
            <a:ext cx="3367080" cy="4221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4653000"/>
            <a:ext cx="45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оганн Себастьян Бах родился 21 марта 1685 года в городе Эйзенах, Германия. За свою жизнь он сочинил более 1000 произведений в различных жанрах, кроме оперы. Но при жизни он не добился какого-либо значимого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699000" cy="446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4284720" y="237960"/>
            <a:ext cx="4859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больше знали и помнили как исполнителя, педагога и отца Бахов-младших, в первую очередь Карла Филиппа Эммануила, музыка которого была извест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шь исполнение «Страстей по Матфею» Мендельсоном, через 79 лет после смерти И. С. Баха воскресило интерес к его творчеству. Сейчас И. С. Бах является одним из самых популярных композиторов всех врем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й фигурой периода раннего барокко, позиция которого была на стороне Католицизма, противостоящего растущему идейному, культурному и общественному влиянию Протестантизма, был Джованни Габриэли. Его работы принадлежат стилю «Высокого возрождения» (период расцвета Ренессанса). Однако некоторые его нововведения в области инструментовки (назначение определённому инструменту собственных, специфических задач) однозначно указывают, что он был одним из композиторов, повлиявших на появление нового сти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спространение новых приёмов большой вклад внёс немецкий композитор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нрих Шюц (1585—1672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бучавшийся в Венеции. Он использовал новые техники в своих работах, когда служил хормейстером в Дрезд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2840" y="503280"/>
            <a:ext cx="3840120" cy="5734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1443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зрело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654—1707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иод централизации верховной власти в Европе часто называют Абсолютизмом. Абсолютизм достиг своего апогея при французском короле Людовике XIV. Для всей Европы двор Людовика был образцом для подражания. В том числе и музыка, исполнявшаяся при дв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95640" y="368280"/>
            <a:ext cx="514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дающимся представителем придворных композиторов двора Людовика XIV бы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жованни Баттиста Люлли (1632—1687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же в 21 год он получил звание «придворного композитора инструментальной музыки». Творческая работа Люлли с самого начала была крепко связана с теа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38847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924360" y="-27000"/>
            <a:ext cx="5219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тор и виолинис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канджело Корелли (1653—171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вестен своей работой над развитием жанра кончерто гроссо. Корелли был одним из первых композиторов, чьи произведения публиковались и исполнялись по всей Евро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140360" y="530064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и его последователей был Антонио Виваль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549360"/>
            <a:ext cx="3681360" cy="540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708360" y="115920"/>
            <a:ext cx="54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Англии зрелое барокко отмечено ярким гение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нри Пёрселла (1659—1695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н умер молодым, в возрасте 36 лет, написав большое количество произведений и став широко известным ещё при жизни. Пёрселл был знаком с творчеством Корелли и других итальянских барочных компози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708360" y="4653000"/>
            <a:ext cx="498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ёрселл стал одним из первых композиторов клавишной музыки, влияние которых распространяется и на соврем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3330720" cy="56167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787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отличие от вышеперечисленных композитор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итрих Букстехуде (1637—1707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е был придворным композитором. Букстехуде работал органистом, сначала в Хельсингборге (1657—1658), затем в Эльсиноре (1660—1668), а затем, начиная с 1668 года, в церкви св. Марии в Люб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7242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го творчество оказало сильное влияние на таких композиторов, как И. С. Бах и Теле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40464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ыка позднего барокк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1707—176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очная грань между зрелым и поздним барокко является предметом обсуждения; она лежит где-то между 1680 и 1720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33544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талия, благодаря Арканджело Корелли и его ученикам Франческо Джеминиани и Пьетро Локателли становится первой страной, в которой барокко переходит из зрелого в поздний пери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52:36Z</dcterms:created>
  <dc:creator>Татьяна Николаевна</dc:creator>
  <dc:description/>
  <dc:language>en-US</dc:language>
  <cp:lastModifiedBy>LEGION</cp:lastModifiedBy>
  <dcterms:modified xsi:type="dcterms:W3CDTF">2015-04-02T07:07:36Z</dcterms:modified>
  <cp:revision>7</cp:revision>
  <dc:subject/>
  <dc:title>Слайд 1</dc:title>
</cp:coreProperties>
</file>