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ADED-3130-4207-A921-693B750A92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раннего барокко (1600—16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494F-F101-4DE5-B4C5-80B1E8A23C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FD7E-736E-413F-BCF2-D36E601153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149C-2F90-4481-BC86-67F6589D95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72AA-0B0C-45A1-9A63-7CFEDEE8C3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1BB0-A638-43A8-9075-D954DD0DB3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2D3A-3FA2-4F66-8980-DCB1D797C6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2451-3849-42E4-9ECB-1D05D11214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C533-B255-4518-9631-2A7A6B564C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4AAA-7B8C-40EC-8ABE-991C55A9FC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AE93-5236-4B0C-A611-78646F38FD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7493-F18F-4963-9164-58364AF778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E4C1-B759-49D3-811D-A2C2B276F8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5C6-CEAB-49A0-AA7C-50E6D27F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13F-A4DA-4363-AA2D-E701B35F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7D5-6CD3-40C0-9FC4-4E925909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EF3-EF30-427D-8723-26983EC9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14F-775D-4153-BF65-8CBBC2D2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743-D6B7-46DE-8367-CC67878D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236-56A7-47EA-8B72-323F6B21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464-CB66-4F7A-BD4E-7DED1784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3C9-79B2-4675-AA04-CC8979BD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DEF-5B21-47B0-AFF9-44BFE259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C52-6675-42A8-AB14-B2B8ED83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FFF-EA09-4D54-904B-7F4038FA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BEAF-B665-4B64-8282-05EB58C2E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5280" y="181080"/>
            <a:ext cx="874872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раннего барокко (1600—16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1400" y="800280"/>
            <a:ext cx="3727440" cy="4616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562284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лаудио Монтеверди кисти Бернардо Строцци, 1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211640" y="662040"/>
            <a:ext cx="471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572000" y="985680"/>
            <a:ext cx="4119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4282920" cy="511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4087800"/>
            <a:ext cx="42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356000" y="237960"/>
            <a:ext cx="478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341280" y="0"/>
            <a:ext cx="3367080" cy="4221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4653000"/>
            <a:ext cx="45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699000" cy="4464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4284720" y="237960"/>
            <a:ext cx="4859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12840" y="503280"/>
            <a:ext cx="3840120" cy="5734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443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995640" y="368280"/>
            <a:ext cx="514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765000"/>
            <a:ext cx="388476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924360" y="-27000"/>
            <a:ext cx="521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140360" y="5300640"/>
            <a:ext cx="50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549360"/>
            <a:ext cx="368136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708360" y="115920"/>
            <a:ext cx="543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708360" y="4653000"/>
            <a:ext cx="498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333072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7873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72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40464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33544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8:52:36Z</dcterms:created>
  <dc:creator>Татьяна Николаевна</dc:creator>
  <dc:description/>
  <dc:language>en-US</dc:language>
  <cp:lastModifiedBy>LEGION</cp:lastModifiedBy>
  <dcterms:modified xsi:type="dcterms:W3CDTF">2015-04-02T07:07:36Z</dcterms:modified>
  <cp:revision>7</cp:revision>
  <dc:subject/>
  <dc:title>Слайд 1</dc:title>
</cp:coreProperties>
</file>