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C4BD-2C0E-478F-A537-8CF69DBF61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раннего барокко (1600—16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6EB1-166A-45FA-BCA0-142AC672C9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554D-A50F-48E7-B9D5-96D4DC5E02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3A85-0A00-4A41-BA6B-6AFC0707CC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BFF3-9DF2-4F9B-BD4F-03830A1373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60E4-0920-4861-8B5A-04B3D6A242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F23B-777A-4B99-8F60-8F860BDB55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ADA8-5FD7-442E-AC7A-3170364DD1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3667-72BC-4F9A-8492-C7CCA9294A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AE0D-A2D2-42B0-A1EE-09E7E9122E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D046-F679-4E13-AF26-5B6CAAC4C4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B0F4-E239-492F-BD2D-2DAB2C52C5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7BF6-05B4-4CCD-8CEB-636E3555C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6CC-ECF0-48C8-BFAB-394DBC25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E72-9CD8-40D4-BB4B-AC4B5A31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9CB-8B9A-4FD9-8343-3735305E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9FA-13D6-4593-A2C9-738C14B2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37B-41E0-49FD-B473-0FA29A9E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A26-9E8A-4489-AC4B-A4F5B900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7E2-F829-45F7-A834-155DD737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8BC-1AC4-44C5-A3D1-25BB2FD4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5BF-5278-42E6-B934-CF9830E7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868-E94B-4884-BCA8-547027B2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C57-C0A5-467F-B88F-0691BFF7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3E5-3BD7-4EB4-AC91-EEDFC319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6AB-14E3-49F3-80B7-2690FE794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181080"/>
            <a:ext cx="874872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раннего барокко (1600—16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1400" y="800280"/>
            <a:ext cx="3727440" cy="4616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562284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лаудио Монтеверди кисти Бернардо Строцци, 1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211640" y="662040"/>
            <a:ext cx="471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0" y="985680"/>
            <a:ext cx="411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4282920" cy="511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4087800"/>
            <a:ext cx="42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356000" y="237960"/>
            <a:ext cx="478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41280" y="0"/>
            <a:ext cx="3367080" cy="4221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465300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699000" cy="4464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4284720" y="237960"/>
            <a:ext cx="4859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12840" y="503280"/>
            <a:ext cx="3840120" cy="5734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443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995640" y="368280"/>
            <a:ext cx="514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765000"/>
            <a:ext cx="38847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924360" y="-27000"/>
            <a:ext cx="521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140360" y="530064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549360"/>
            <a:ext cx="368136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708360" y="115920"/>
            <a:ext cx="543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708360" y="4653000"/>
            <a:ext cx="498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333072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7873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72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40464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33544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8:52:36Z</dcterms:created>
  <dc:creator>Татьяна Николаевна</dc:creator>
  <dc:description/>
  <dc:language>en-US</dc:language>
  <cp:lastModifiedBy>LEGION</cp:lastModifiedBy>
  <dcterms:modified xsi:type="dcterms:W3CDTF">2015-04-02T07:07:36Z</dcterms:modified>
  <cp:revision>7</cp:revision>
  <dc:subject/>
  <dc:title>Слайд 1</dc:title>
</cp:coreProperties>
</file>