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898D-EF8E-456F-BD69-28B40A6279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и театр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Козлова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DAF8-D79F-4265-8BE2-B109621145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8098-4339-47BF-8AC5-457E891151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6FE1-6938-4FB8-91B2-0AFC4ED771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7464-AFC1-4F0D-8ADE-DCDD1C7CEDA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рефер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композиторов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сство итальянской комедии дель 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Ггольдони и К. Гоцци-реформаторы итальянской комедии дель а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и итальянской комедии дель арте в режиссуре В.Э. Мейерхоль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ы Арлекина и Пьеро в произведениях живопи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60E7-EF91-4EB7-B991-053635D841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DDD4-E7EC-4153-A79C-32A5104AB8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музыкальной культуры составля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т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им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ал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C26E-E27A-4971-9FEC-F385B2F860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ивысшего рассвета духовная музыка достигла в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V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 в Нидерланда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ифони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ногоголосое) исполнение- классический «строгий сти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мит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торение одной и той же мелодии в разных голо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 голосом стал тен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FF09-F4BF-4924-B8C6-18A019E124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5324-F494-4FDD-9F05-2257364106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9943-3CEB-49AB-A533-88BE69B311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69C6-CF68-4E6A-922D-69D9017EAD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6B65-682F-4286-A25E-09795E389F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ачал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7D5B-E0CA-44B0-B68C-480392161F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17D-9881-49E7-BB95-2EBB886B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7EC-20BA-4A6C-B101-A0968A07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F76-FBCB-47CD-9795-2C32FB3A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D2B-07AE-471D-AE0D-CC523117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7951-273B-4177-9B09-38EB4762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C198-02AB-4CDB-BA0E-B9F9BEB1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3EB5-62E2-4BEA-80FA-5F7F79F7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2F36-AC5C-4761-B35F-38E531B2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3804-4F15-4FC7-BB07-9B107DBF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7513-8F31-4645-B051-02F62DC6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8668-2851-41C4-9649-30DE0988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2BE-C974-4AEA-A207-E60D40DD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0E65-2AE9-4B8F-9986-1F80C0D7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AAED-40E9-491F-B6EB-5BF310A5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E1D4-FBDC-486D-9BD0-765697FD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7BE3-6251-464D-9261-6AE35C2C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F4F3-66DF-4C44-8C0B-B113D350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F62-1161-4B8A-95EF-5720D37F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F9F-ACF0-4BF1-B86A-65386987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7AF-E239-44E2-8BF9-FCFC57D1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FEE-492B-4444-B6BD-DCEC60FC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809-B534-4A67-A02A-7F25DA5E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F70-2D60-452C-B30A-0B3BBC93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B49-0E7B-4295-B1C3-778A8D7C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AF6F-C755-4697-B6D6-DFE323A0C26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CF15-DC80-4355-BB7F-BAFFB32A1A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 и театр эпохи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Козлова В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9" descr="муз 004"/>
          <p:cNvPicPr/>
          <p:nvPr/>
        </p:nvPicPr>
        <p:blipFill>
          <a:blip r:embed="rId1"/>
          <a:stretch/>
        </p:blipFill>
        <p:spPr>
          <a:xfrm>
            <a:off x="971640" y="2637000"/>
            <a:ext cx="4294080" cy="252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Копия муз 004"/>
          <p:cNvPicPr/>
          <p:nvPr/>
        </p:nvPicPr>
        <p:blipFill>
          <a:blip r:embed="rId2"/>
          <a:stretch/>
        </p:blipFill>
        <p:spPr>
          <a:xfrm>
            <a:off x="6443640" y="1989000"/>
            <a:ext cx="121608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Picture 6" descr="Копия Копия муз 005"/>
          <p:cNvPicPr/>
          <p:nvPr/>
        </p:nvPicPr>
        <p:blipFill>
          <a:blip r:embed="rId1"/>
          <a:stretch/>
        </p:blipFill>
        <p:spPr>
          <a:xfrm>
            <a:off x="2233440" y="1981080"/>
            <a:ext cx="136224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Копия муз 005"/>
          <p:cNvPicPr/>
          <p:nvPr/>
        </p:nvPicPr>
        <p:blipFill>
          <a:blip r:embed="rId2"/>
          <a:stretch/>
        </p:blipFill>
        <p:spPr>
          <a:xfrm>
            <a:off x="5891040" y="2066760"/>
            <a:ext cx="1743120" cy="39434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7" name="Picture 6" descr="муз 005"/>
          <p:cNvPicPr/>
          <p:nvPr/>
        </p:nvPicPr>
        <p:blipFill>
          <a:blip r:embed="rId1"/>
          <a:stretch/>
        </p:blipFill>
        <p:spPr>
          <a:xfrm>
            <a:off x="3672000" y="1981080"/>
            <a:ext cx="2131920" cy="4543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мы рефера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зыкальная культура эпохи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чество композиторов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кусство итальянской комедии дель ар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. Ггольдони и К. Гоцци-реформаторы итальянской комедии дель 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диции итальянской комедии дель арте в режиссуре В.Э. Мейерхоль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ы Арлекина и Пьеро в произведениях живопис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у музыкальной культуры составлял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есс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оте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м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салм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высшего рассвета духовная музыка достигла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 в Нидерланд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лифоническ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многоголосое) исполнение- классический «строгий стил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митац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овторение одной и той же мелодии в разных голос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им голосом стал тен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мадригал"/>
          <p:cNvPicPr/>
          <p:nvPr/>
        </p:nvPicPr>
        <p:blipFill>
          <a:blip r:embed="rId1"/>
          <a:stretch/>
        </p:blipFill>
        <p:spPr>
          <a:xfrm>
            <a:off x="684360" y="3500280"/>
            <a:ext cx="5364000" cy="304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41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56360" y="1988640"/>
            <a:ext cx="26985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грамота"/>
          <p:cNvPicPr/>
          <p:nvPr/>
        </p:nvPicPr>
        <p:blipFill>
          <a:blip r:embed="rId2"/>
          <a:stretch/>
        </p:blipFill>
        <p:spPr>
          <a:xfrm>
            <a:off x="395280" y="333360"/>
            <a:ext cx="1535040" cy="5273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5" descr="муз"/>
          <p:cNvPicPr/>
          <p:nvPr/>
        </p:nvPicPr>
        <p:blipFill>
          <a:blip r:embed="rId1"/>
          <a:stretch/>
        </p:blipFill>
        <p:spPr>
          <a:xfrm>
            <a:off x="2124000" y="1981080"/>
            <a:ext cx="5070600" cy="4427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975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7" descr="Копия муз 001"/>
          <p:cNvPicPr/>
          <p:nvPr/>
        </p:nvPicPr>
        <p:blipFill>
          <a:blip r:embed="rId1"/>
          <a:stretch/>
        </p:blipFill>
        <p:spPr>
          <a:xfrm>
            <a:off x="684360" y="2924280"/>
            <a:ext cx="3695400" cy="196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муз 001"/>
          <p:cNvPicPr/>
          <p:nvPr/>
        </p:nvPicPr>
        <p:blipFill>
          <a:blip r:embed="rId2"/>
          <a:stretch/>
        </p:blipFill>
        <p:spPr>
          <a:xfrm>
            <a:off x="4788000" y="2492280"/>
            <a:ext cx="369576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6" descr="муз 002"/>
          <p:cNvPicPr/>
          <p:nvPr/>
        </p:nvPicPr>
        <p:blipFill>
          <a:blip r:embed="rId1"/>
          <a:stretch/>
        </p:blipFill>
        <p:spPr>
          <a:xfrm>
            <a:off x="1619280" y="1989000"/>
            <a:ext cx="635148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4824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ц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начал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муз 003"/>
          <p:cNvPicPr/>
          <p:nvPr/>
        </p:nvPicPr>
        <p:blipFill>
          <a:blip r:embed="rId1"/>
          <a:stretch/>
        </p:blipFill>
        <p:spPr>
          <a:xfrm>
            <a:off x="1692360" y="3860640"/>
            <a:ext cx="3695760" cy="238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Копия муз 003"/>
          <p:cNvPicPr/>
          <p:nvPr/>
        </p:nvPicPr>
        <p:blipFill>
          <a:blip r:embed="rId2"/>
          <a:stretch/>
        </p:blipFill>
        <p:spPr>
          <a:xfrm>
            <a:off x="826920" y="1628640"/>
            <a:ext cx="1847880" cy="3895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33:32Z</dcterms:created>
  <dc:creator>Валери</dc:creator>
  <dc:description/>
  <dc:language>en-US</dc:language>
  <cp:lastModifiedBy>LEGION</cp:lastModifiedBy>
  <dcterms:modified xsi:type="dcterms:W3CDTF">2015-04-02T07:08:01Z</dcterms:modified>
  <cp:revision>5</cp:revision>
  <dc:subject/>
  <dc:title>Музыка и театр эпохи Возрождения</dc:title>
</cp:coreProperties>
</file>