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C3CA-6761-4731-A9BC-388A990B9A2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и театр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Козлова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1335-23CE-407E-AD46-8FB8DD0BB05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FE1E-7FA8-4818-8B9E-08954A1816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50DA-F157-4A6A-AB9C-DD4BFD95F3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FC27-AD89-4EC0-B33C-8E12C12E1F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рефер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композиторов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 итальянской комедии дель 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Ггольдони и К. Гоцци-реформаторы итальянской комедии дель а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и итальянской комедии дель арте в режиссуре В.Э. Мейерхоль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ы Арлекина и Пьеро в произведениях живо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3C98-650B-43AE-B87C-BC1F4D6421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8647-8DFB-4FB6-BA57-4F475F28F1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музыкальной культуры составля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т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им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ал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7466-1E9C-4CBB-9C63-4F5F6947A1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ивысшего рассвета духовная музыка достигла в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 в Нидерланда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ифони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ногоголосое) исполнение- классический «строгий сти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мит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торение одной и той же мелодии в разных голо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 голосом стал тен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8624-AC71-457F-86C0-2CDACDE0BC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FE5B-38D6-4F50-AB0A-6A0A4D8905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D15C-0032-41B3-B2A3-9639499064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E2D6-9A01-4C31-9D30-92DB95F117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ABCE-AA13-471E-9D76-2FCA3D8827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ачал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99C3-00BE-43AE-8770-BEBC892B07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B46-63B9-4C63-8EFF-1C778565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844-3402-48E5-98E3-C5025733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7FC-C429-46CF-862E-ABA46392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63C-96E7-4112-8461-DC0E7676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A1BB-7E7D-4F22-ACCC-6ED3E28B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C395-66E2-4EBE-9151-0D6AE708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0C04-9576-4712-88E7-1B84A92A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0F16-EB0D-489E-8254-48DCFE2A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3365-9DB9-4AC4-9685-C2D1B5FC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CB6F-32C2-45F4-B7D8-7CB252E7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8FC8-EB63-46EC-A9BE-946E0589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13E-47EE-4EF7-8F4E-8251BE9D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19FA-3AEB-48B7-82DC-D13CC7A3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1B34-6419-4DF8-9B33-91DAF93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D785-5672-4F25-9768-22440FD7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C014-1769-458A-8E15-C9EBB389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B060-7044-4AA1-8304-FD459E22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D33-12D2-4B77-B74D-5CCF862E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758-4AB8-46C2-BB23-7289A21B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849-B7D7-4BD4-94E5-55CB2855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101-8721-48F8-B594-22B14203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950-77C7-4C9A-AF3A-AD3A515C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7FF-9B4E-44DC-BCEA-51D8FA5C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101-42B6-4864-93E3-A6BC9C8E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0B74-451A-4D6B-AE4E-D4C63D3C59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E146-8AD8-4216-97E9-C5DA86E789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 и театр эпохи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Козлова В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9" descr="муз 004"/>
          <p:cNvPicPr/>
          <p:nvPr/>
        </p:nvPicPr>
        <p:blipFill>
          <a:blip r:embed="rId1"/>
          <a:stretch/>
        </p:blipFill>
        <p:spPr>
          <a:xfrm>
            <a:off x="971640" y="2637000"/>
            <a:ext cx="4294080" cy="252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Копия муз 004"/>
          <p:cNvPicPr/>
          <p:nvPr/>
        </p:nvPicPr>
        <p:blipFill>
          <a:blip r:embed="rId2"/>
          <a:stretch/>
        </p:blipFill>
        <p:spPr>
          <a:xfrm>
            <a:off x="6443640" y="1989000"/>
            <a:ext cx="121608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Picture 6" descr="Копия Копия муз 005"/>
          <p:cNvPicPr/>
          <p:nvPr/>
        </p:nvPicPr>
        <p:blipFill>
          <a:blip r:embed="rId1"/>
          <a:stretch/>
        </p:blipFill>
        <p:spPr>
          <a:xfrm>
            <a:off x="2233440" y="1981080"/>
            <a:ext cx="1362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Копия муз 005"/>
          <p:cNvPicPr/>
          <p:nvPr/>
        </p:nvPicPr>
        <p:blipFill>
          <a:blip r:embed="rId2"/>
          <a:stretch/>
        </p:blipFill>
        <p:spPr>
          <a:xfrm>
            <a:off x="5891040" y="2066760"/>
            <a:ext cx="1743120" cy="39434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6" descr="муз 005"/>
          <p:cNvPicPr/>
          <p:nvPr/>
        </p:nvPicPr>
        <p:blipFill>
          <a:blip r:embed="rId1"/>
          <a:stretch/>
        </p:blipFill>
        <p:spPr>
          <a:xfrm>
            <a:off x="3672000" y="1981080"/>
            <a:ext cx="2131920" cy="4543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ы рефера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льная культура эпохи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тво композиторов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кусство итальянской комедии дель ар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 Ггольдони и К. Гоцци-реформаторы итальянской комедии дель 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и итальянской комедии дель арте в режиссуре В.Э. Мейерхоль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ы Арлекина и Пьеро в произведениях живопис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у музыкальной культуры составлял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есс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от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м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сал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высшего рассвета духовная музыка достигл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в Нидерланд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лифоническ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многоголосое) исполнение- классический «строгий сти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мита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овторение одной и той же мелодии в разных голос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им голосом стал тен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мадригал"/>
          <p:cNvPicPr/>
          <p:nvPr/>
        </p:nvPicPr>
        <p:blipFill>
          <a:blip r:embed="rId1"/>
          <a:stretch/>
        </p:blipFill>
        <p:spPr>
          <a:xfrm>
            <a:off x="684360" y="3500280"/>
            <a:ext cx="5364000" cy="304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41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56360" y="1988640"/>
            <a:ext cx="2698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грамота"/>
          <p:cNvPicPr/>
          <p:nvPr/>
        </p:nvPicPr>
        <p:blipFill>
          <a:blip r:embed="rId2"/>
          <a:stretch/>
        </p:blipFill>
        <p:spPr>
          <a:xfrm>
            <a:off x="395280" y="333360"/>
            <a:ext cx="1535040" cy="5273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5" descr="муз"/>
          <p:cNvPicPr/>
          <p:nvPr/>
        </p:nvPicPr>
        <p:blipFill>
          <a:blip r:embed="rId1"/>
          <a:stretch/>
        </p:blipFill>
        <p:spPr>
          <a:xfrm>
            <a:off x="2124000" y="1981080"/>
            <a:ext cx="5070600" cy="4427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7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7" descr="Копия муз 001"/>
          <p:cNvPicPr/>
          <p:nvPr/>
        </p:nvPicPr>
        <p:blipFill>
          <a:blip r:embed="rId1"/>
          <a:stretch/>
        </p:blipFill>
        <p:spPr>
          <a:xfrm>
            <a:off x="684360" y="2924280"/>
            <a:ext cx="3695400" cy="19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муз 001"/>
          <p:cNvPicPr/>
          <p:nvPr/>
        </p:nvPicPr>
        <p:blipFill>
          <a:blip r:embed="rId2"/>
          <a:stretch/>
        </p:blipFill>
        <p:spPr>
          <a:xfrm>
            <a:off x="4788000" y="2492280"/>
            <a:ext cx="369576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6" descr="муз 002"/>
          <p:cNvPicPr/>
          <p:nvPr/>
        </p:nvPicPr>
        <p:blipFill>
          <a:blip r:embed="rId1"/>
          <a:stretch/>
        </p:blipFill>
        <p:spPr>
          <a:xfrm>
            <a:off x="1619280" y="1989000"/>
            <a:ext cx="635148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4824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муз 003"/>
          <p:cNvPicPr/>
          <p:nvPr/>
        </p:nvPicPr>
        <p:blipFill>
          <a:blip r:embed="rId1"/>
          <a:stretch/>
        </p:blipFill>
        <p:spPr>
          <a:xfrm>
            <a:off x="1692360" y="3860640"/>
            <a:ext cx="3695760" cy="238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опия муз 003"/>
          <p:cNvPicPr/>
          <p:nvPr/>
        </p:nvPicPr>
        <p:blipFill>
          <a:blip r:embed="rId2"/>
          <a:stretch/>
        </p:blipFill>
        <p:spPr>
          <a:xfrm>
            <a:off x="826920" y="1628640"/>
            <a:ext cx="1847880" cy="3895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33:32Z</dcterms:created>
  <dc:creator>Валери</dc:creator>
  <dc:description/>
  <dc:language>en-US</dc:language>
  <cp:lastModifiedBy>LEGION</cp:lastModifiedBy>
  <dcterms:modified xsi:type="dcterms:W3CDTF">2015-04-02T07:08:01Z</dcterms:modified>
  <cp:revision>5</cp:revision>
  <dc:subject/>
  <dc:title>Музыка и театр эпохи Возрождения</dc:title>
</cp:coreProperties>
</file>