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C8A8-D714-4B34-BFB4-C2E0E865A4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и театр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Козлова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1F76-1758-42D8-A9BF-00FF00949E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417B-8559-4AE7-9D65-15BF8034358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6F2C-1677-4D1B-9714-75D3506597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6E79-E5C9-4198-87A2-D0B19F4E42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рефер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композиторов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 итальянской комедии дель 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Ггольдони и К. Гоцци-реформаторы итальянской комедии дель а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и итальянской комедии дель арте в режиссуре В.Э. Мейерхоль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ы Арлекина и Пьеро в произведениях живо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E04C-D7BB-4E51-913F-2D264147D3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8BC6-9E5D-438D-8D1C-033E2E98EB5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музыкальной культуры составля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т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им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ал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CD2B-7556-4F89-AAB3-84C567C149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ивысшего рассвета духовная музыка достигла в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 в Нидерланда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ифони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ногоголосое) исполнение- классический «строгий сти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мит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торение одной и той же мелодии в разных голо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 голосом стал тен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6D30-6A80-40B7-9496-D3DB4D3B50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1A87-F4E0-45B9-A256-364CEBA107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2559-A5E2-46A5-BF1F-EE5D6F7AB0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B070-A7A5-4150-8C81-0CD1B61ECC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1B08-5FFE-48E9-AACB-D76EB727B5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ачал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A626-D6D9-4B66-A81C-EDDF81DCF5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BDE-CFBD-4C73-A112-E8EA95AE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C6B-868A-461B-BEB6-7370BD0C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760-03B4-4940-884E-3CEB9338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391-ED69-4D51-BCC3-0DBD2C64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6F2A-BAF3-425F-8124-373029DF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1507-ADAB-4DB6-947D-74E38A18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2B1E-20BF-4849-8B1C-F2D5A28C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3A7B-37F8-4FF7-8CAA-84FB449F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8D5D-AA67-48E0-9319-B5CCA4C3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C2F5-C356-4B3D-9259-93E12A26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96D8-2829-47B5-A5D5-F5EFF09A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898-8B71-463C-9D94-1B39FE3B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09C3-61F9-4F81-8083-701D1B3D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44DD-A9C6-4FFA-9D73-57D4DF43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CF70-5D61-4098-BFE4-1B12B270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D4E9-96B5-4BBD-8B87-B7B10BCD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3FA8-E531-48D9-B9F1-F232DF15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DC7-FD5E-4193-A790-1F9E8EDC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4CD-88F2-4635-8633-0B135E3E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DC7-4722-490B-9E65-3CD9F43F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CF4-476E-4A23-9DDC-048F4FFD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8C2-C6B6-4CCA-8B2D-CDBB6D99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CD1-2E0E-47B3-9C5B-9B04B2E7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2A9-D465-40F6-A445-6C498C02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9BEA-562F-489D-8502-EBFF35C5892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8715-BBCC-4CA4-AAAC-FAA2108FB7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 и театр эпохи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Козлова В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9" descr="муз 004"/>
          <p:cNvPicPr/>
          <p:nvPr/>
        </p:nvPicPr>
        <p:blipFill>
          <a:blip r:embed="rId1"/>
          <a:stretch/>
        </p:blipFill>
        <p:spPr>
          <a:xfrm>
            <a:off x="971640" y="2637000"/>
            <a:ext cx="4294080" cy="252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Копия муз 004"/>
          <p:cNvPicPr/>
          <p:nvPr/>
        </p:nvPicPr>
        <p:blipFill>
          <a:blip r:embed="rId2"/>
          <a:stretch/>
        </p:blipFill>
        <p:spPr>
          <a:xfrm>
            <a:off x="6443640" y="1989000"/>
            <a:ext cx="121608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Picture 6" descr="Копия Копия муз 005"/>
          <p:cNvPicPr/>
          <p:nvPr/>
        </p:nvPicPr>
        <p:blipFill>
          <a:blip r:embed="rId1"/>
          <a:stretch/>
        </p:blipFill>
        <p:spPr>
          <a:xfrm>
            <a:off x="2233440" y="1981080"/>
            <a:ext cx="136224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Копия муз 005"/>
          <p:cNvPicPr/>
          <p:nvPr/>
        </p:nvPicPr>
        <p:blipFill>
          <a:blip r:embed="rId2"/>
          <a:stretch/>
        </p:blipFill>
        <p:spPr>
          <a:xfrm>
            <a:off x="5891040" y="2066760"/>
            <a:ext cx="1743120" cy="39434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Picture 6" descr="муз 005"/>
          <p:cNvPicPr/>
          <p:nvPr/>
        </p:nvPicPr>
        <p:blipFill>
          <a:blip r:embed="rId1"/>
          <a:stretch/>
        </p:blipFill>
        <p:spPr>
          <a:xfrm>
            <a:off x="3672000" y="1981080"/>
            <a:ext cx="2131920" cy="4543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мы рефера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льная культура эпохи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чество композиторов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кусство итальянской комедии дель ар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. Ггольдони и К. Гоцци-реформаторы итальянской комедии дель 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и итальянской комедии дель арте в режиссуре В.Э. Мейерхоль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ы Арлекина и Пьеро в произведениях живопис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у музыкальной культуры составлял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есс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оте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м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сал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высшего рассвета духовная музыка достигла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в Нидерланд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лифоническ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многоголосое) исполнение- классический «строгий стил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мита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овторение одной и той же мелодии в разных голос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им голосом стал тен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мадригал"/>
          <p:cNvPicPr/>
          <p:nvPr/>
        </p:nvPicPr>
        <p:blipFill>
          <a:blip r:embed="rId1"/>
          <a:stretch/>
        </p:blipFill>
        <p:spPr>
          <a:xfrm>
            <a:off x="684360" y="3500280"/>
            <a:ext cx="5364000" cy="304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41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56360" y="1988640"/>
            <a:ext cx="2698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грамота"/>
          <p:cNvPicPr/>
          <p:nvPr/>
        </p:nvPicPr>
        <p:blipFill>
          <a:blip r:embed="rId2"/>
          <a:stretch/>
        </p:blipFill>
        <p:spPr>
          <a:xfrm>
            <a:off x="395280" y="333360"/>
            <a:ext cx="1535040" cy="5273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5" descr="муз"/>
          <p:cNvPicPr/>
          <p:nvPr/>
        </p:nvPicPr>
        <p:blipFill>
          <a:blip r:embed="rId1"/>
          <a:stretch/>
        </p:blipFill>
        <p:spPr>
          <a:xfrm>
            <a:off x="2124000" y="1981080"/>
            <a:ext cx="5070600" cy="4427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7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7" descr="Копия муз 001"/>
          <p:cNvPicPr/>
          <p:nvPr/>
        </p:nvPicPr>
        <p:blipFill>
          <a:blip r:embed="rId1"/>
          <a:stretch/>
        </p:blipFill>
        <p:spPr>
          <a:xfrm>
            <a:off x="684360" y="2924280"/>
            <a:ext cx="3695400" cy="19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муз 001"/>
          <p:cNvPicPr/>
          <p:nvPr/>
        </p:nvPicPr>
        <p:blipFill>
          <a:blip r:embed="rId2"/>
          <a:stretch/>
        </p:blipFill>
        <p:spPr>
          <a:xfrm>
            <a:off x="4788000" y="2492280"/>
            <a:ext cx="369576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6" descr="муз 002"/>
          <p:cNvPicPr/>
          <p:nvPr/>
        </p:nvPicPr>
        <p:blipFill>
          <a:blip r:embed="rId1"/>
          <a:stretch/>
        </p:blipFill>
        <p:spPr>
          <a:xfrm>
            <a:off x="1619280" y="1989000"/>
            <a:ext cx="635148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4824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чал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муз 003"/>
          <p:cNvPicPr/>
          <p:nvPr/>
        </p:nvPicPr>
        <p:blipFill>
          <a:blip r:embed="rId1"/>
          <a:stretch/>
        </p:blipFill>
        <p:spPr>
          <a:xfrm>
            <a:off x="1692360" y="3860640"/>
            <a:ext cx="3695760" cy="238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Копия муз 003"/>
          <p:cNvPicPr/>
          <p:nvPr/>
        </p:nvPicPr>
        <p:blipFill>
          <a:blip r:embed="rId2"/>
          <a:stretch/>
        </p:blipFill>
        <p:spPr>
          <a:xfrm>
            <a:off x="826920" y="1628640"/>
            <a:ext cx="1847880" cy="3895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33:32Z</dcterms:created>
  <dc:creator>Валери</dc:creator>
  <dc:description/>
  <dc:language>en-US</dc:language>
  <cp:lastModifiedBy>LEGION</cp:lastModifiedBy>
  <dcterms:modified xsi:type="dcterms:W3CDTF">2015-04-02T07:08:01Z</dcterms:modified>
  <cp:revision>5</cp:revision>
  <dc:subject/>
  <dc:title>Музыка и театр эпохи Возрождения</dc:title>
</cp:coreProperties>
</file>