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A71E9-DD65-4ED6-8C8B-A300DC6236E4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узыка и театр эпохи Возрожд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итель Козлова В.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77D85-9CCB-4F05-B5FD-429B3D257D9D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тальянская комед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B653E-77F7-468D-91AD-C2ACD0DAE21B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атр Шекспи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B6444-5005-4D18-B7CB-E7E926908ED7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атр Шекспи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7D2EC-7084-4F6F-9B90-1CF37D96CF97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ы реферато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узыкальная культура эпохи Возрожд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ворчество композиторов Возрожд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кусство итальянской комедии дель арт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. Ггольдони и К. Гоцци-реформаторы итальянской комедии дель арт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рия постановки комедии К.Гоцци «Принцесса Турандот» на сцене театра им. Е.Б. Вахтангов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адиции итальянской комедии дель арте в режиссуре В.Э. Мейерхоль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разы Арлекина и Пьеро в произведениях живопис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3992E-9422-44B1-A7C7-3B044EE778BC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узыкальная культура Возрожд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дущее положение по-прежнему занимала духовная музыка, звучащая во время церковного богослуж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хранила основные темы средневековой музыки: хвалу Господу и Творцу мира, святость и чистоту религиозного чувств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B743F-28DE-43AE-8B0B-5F73342E2671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узыкальная культура Возрожд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у музыкальной культуры составляли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месс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мотет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гимн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салм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тепенно в церковные песнопения вводят темы народных песен нерелигиозного содержания. В музыке соединилось божественное и человеческо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753C8-B3F9-43A0-BF05-DAF95AC3A8A2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узыкальная культура Возрожд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Наивысшего рассвета духовная музыка достигла в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XV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в. в Нидерландах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олифоническо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многоголосое) исполнение- классический «строгий стиль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Имитац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повторение одной и той же мелодии в разных голос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дущим голосом стал тено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7E858-7D65-48A2-9578-3B6CD7F284FF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узыкальная культура Возрожде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ландо Лассо(ок.1532-1594)-нидерландский композитор, создавший более двух тыс. произведений культового и светского характер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F5797-954F-46A5-9DA0-CE4274178127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узыкальная культура Возрожд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EC339-874A-4034-8FA2-B2084F40B144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узыкальная культура Возрожд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08109-B656-4145-AADE-9460EB76347E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узыкальная культура Возрожд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CB41B-8456-473A-9884-728019D86F8C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тальянская комед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конце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VI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начале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VI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в. в Италии возник театр-комедия дель арте(искусственная комедия, «комедия мастерства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F824D-41AB-433E-95B0-3541F0F72BD4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8EBC9-213D-46F3-A681-78921C6E3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D1301-B2E7-4C2D-B6E3-34B2A10A5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5E2EA-607D-4570-AD41-8F506DEFE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2D811-2C78-43D0-A334-A5C87F5D8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83A01-51B9-4EC7-A632-CF1C750FA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B388D-6766-4F0B-A0A2-4C9B63412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93C3A-85C3-4F77-BFE6-FB091FA03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EA371-CA78-47F9-BCF2-F894D0107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8CA92-F9C1-4330-B3AE-21255F52E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88D44-8C58-4ABC-A296-25D6EA9AB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67414-B8FA-4B92-BC21-687935C40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09949-D479-423B-8858-D9C29D355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F2767-2C18-4D94-97E9-16A37A1AF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5CBD9-2F58-4730-B8D1-E7F18E6C2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6E61C-A740-4970-9915-1D02A6F3A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13D2E-2C17-4A22-9671-7A3E4AF34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5A4DF-6FCD-4AA8-87C9-EBEB069DE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C4D3F-8E6D-4901-B7EA-8A533D05E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2C6A7-8267-462E-9541-BA58D3A8A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991BD-62C7-4CAF-BEB3-7D2270439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88F1E-6E81-4B9B-B398-9C4149F95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0E70E-5F90-46FA-A6AD-9244BC451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71E0A-57B3-4523-AA92-0B3775B5C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85F6D-2393-4125-8B92-928B0341B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C1B21-055E-48B8-AECE-2679DB5678F2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F6A5C-0867-45F3-B24F-4050E718F451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Музыка и театр эпохи Возрождения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читель Козлова В.В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Итальянская комедия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49" name="Picture 9" descr="муз 004"/>
          <p:cNvPicPr/>
          <p:nvPr/>
        </p:nvPicPr>
        <p:blipFill>
          <a:blip r:embed="rId1"/>
          <a:stretch/>
        </p:blipFill>
        <p:spPr>
          <a:xfrm>
            <a:off x="971640" y="2637000"/>
            <a:ext cx="4294080" cy="25207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0" descr="Копия муз 004"/>
          <p:cNvPicPr/>
          <p:nvPr/>
        </p:nvPicPr>
        <p:blipFill>
          <a:blip r:embed="rId2"/>
          <a:stretch/>
        </p:blipFill>
        <p:spPr>
          <a:xfrm>
            <a:off x="6443640" y="1989000"/>
            <a:ext cx="1216080" cy="4114800"/>
          </a:xfrm>
          <a:prstGeom prst="rect">
            <a:avLst/>
          </a:prstGeom>
          <a:ln w="0">
            <a:noFill/>
          </a:ln>
        </p:spPr>
      </p:pic>
      <p:sp>
        <p:nvSpPr>
          <p:cNvPr id="151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Театр Шекспира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53" name="Picture 6" descr="Копия Копия муз 005"/>
          <p:cNvPicPr/>
          <p:nvPr/>
        </p:nvPicPr>
        <p:blipFill>
          <a:blip r:embed="rId1"/>
          <a:stretch/>
        </p:blipFill>
        <p:spPr>
          <a:xfrm>
            <a:off x="2233440" y="1981080"/>
            <a:ext cx="1362240" cy="41148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7" descr="Копия муз 005"/>
          <p:cNvPicPr/>
          <p:nvPr/>
        </p:nvPicPr>
        <p:blipFill>
          <a:blip r:embed="rId2"/>
          <a:stretch/>
        </p:blipFill>
        <p:spPr>
          <a:xfrm>
            <a:off x="5891040" y="2066760"/>
            <a:ext cx="1743120" cy="3943440"/>
          </a:xfrm>
          <a:prstGeom prst="rect">
            <a:avLst/>
          </a:prstGeom>
          <a:ln w="0">
            <a:noFill/>
          </a:ln>
        </p:spPr>
      </p:pic>
      <p:sp>
        <p:nvSpPr>
          <p:cNvPr id="155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Театр Шекспира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57" name="Picture 6" descr="муз 005"/>
          <p:cNvPicPr/>
          <p:nvPr/>
        </p:nvPicPr>
        <p:blipFill>
          <a:blip r:embed="rId1"/>
          <a:stretch/>
        </p:blipFill>
        <p:spPr>
          <a:xfrm>
            <a:off x="3672000" y="1981080"/>
            <a:ext cx="2131920" cy="4543560"/>
          </a:xfrm>
          <a:prstGeom prst="rect">
            <a:avLst/>
          </a:prstGeom>
          <a:ln w="0">
            <a:noFill/>
          </a:ln>
        </p:spPr>
      </p:pic>
      <p:sp>
        <p:nvSpPr>
          <p:cNvPr id="158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Темы рефератов: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6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Музыкальная культура эпохи Возрожден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Творчество композиторов Возрожден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скусство итальянской комедии дель арт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. Ггольдони и К. Гоцци-реформаторы итальянской комедии дель арт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стория постановки комедии К.Гоцци «Принцесса Турандот» на сцене театра им. Е.Б. Вахтангова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Традиции итальянской комедии дель арте в режиссуре В.Э. Мейерхольд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бразы Арлекина и Пьеро в произведениях живопис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Музыкальная культура Возрождения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едущее положение по-прежнему занимала духовная музыка, звучащая во время церковного богослужени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охранила основные темы средневековой музыки: хвалу Господу и Творцу мира, святость и чистоту религиозного чувства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Музыкальная культура Возрождения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снову музыкальной культуры составляли </a:t>
            </a:r>
            <a:r>
              <a:rPr b="0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мессы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мотеты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гимны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и </a:t>
            </a:r>
            <a:r>
              <a:rPr b="0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псалмы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степенно в церковные песнопения вводят темы народных песен нерелигиозного содержания. В музыке соединилось божественное и человеческо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Музыкальная культура Возрождения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6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аивысшего рассвета духовная музыка достигла в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XV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. в Нидерландах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Полифоническое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(многоголосое) исполнение- классический «строгий стиль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Имитация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повторение одной и той же мелодии в разных голосах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едущим голосом стал тенор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5" descr="мадригал"/>
          <p:cNvPicPr/>
          <p:nvPr/>
        </p:nvPicPr>
        <p:blipFill>
          <a:blip r:embed="rId1"/>
          <a:stretch/>
        </p:blipFill>
        <p:spPr>
          <a:xfrm>
            <a:off x="684360" y="3500280"/>
            <a:ext cx="5364000" cy="304668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68360" y="620640"/>
            <a:ext cx="41040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aeaea"/>
                </a:solidFill>
                <a:latin typeface="Tahoma"/>
              </a:rPr>
              <a:t>Музыкальная культура Возрождения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156360" y="1988640"/>
            <a:ext cx="26985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рландо Лассо(ок.1532-1594)-нидерландский композитор, создавший более двух тыс. произведений культового и светского характера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1" name="Picture 6" descr="грамота"/>
          <p:cNvPicPr/>
          <p:nvPr/>
        </p:nvPicPr>
        <p:blipFill>
          <a:blip r:embed="rId2"/>
          <a:stretch/>
        </p:blipFill>
        <p:spPr>
          <a:xfrm>
            <a:off x="395280" y="333360"/>
            <a:ext cx="1535040" cy="5273640"/>
          </a:xfrm>
          <a:prstGeom prst="rect">
            <a:avLst/>
          </a:prstGeom>
          <a:ln w="0">
            <a:noFill/>
          </a:ln>
        </p:spPr>
      </p:pic>
      <p:sp>
        <p:nvSpPr>
          <p:cNvPr id="132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Музыкальная культура Возрождения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34" name="Picture 5" descr="муз"/>
          <p:cNvPicPr/>
          <p:nvPr/>
        </p:nvPicPr>
        <p:blipFill>
          <a:blip r:embed="rId1"/>
          <a:stretch/>
        </p:blipFill>
        <p:spPr>
          <a:xfrm>
            <a:off x="2124000" y="1981080"/>
            <a:ext cx="5070600" cy="4427640"/>
          </a:xfrm>
          <a:prstGeom prst="rect">
            <a:avLst/>
          </a:prstGeom>
          <a:ln w="0">
            <a:noFill/>
          </a:ln>
        </p:spPr>
      </p:pic>
      <p:sp>
        <p:nvSpPr>
          <p:cNvPr id="135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11280" y="333360"/>
            <a:ext cx="797544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Музыкальная культура Возрождения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37" name="Picture 7" descr="Копия муз 001"/>
          <p:cNvPicPr/>
          <p:nvPr/>
        </p:nvPicPr>
        <p:blipFill>
          <a:blip r:embed="rId1"/>
          <a:stretch/>
        </p:blipFill>
        <p:spPr>
          <a:xfrm>
            <a:off x="684360" y="2924280"/>
            <a:ext cx="3695400" cy="19620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8" descr="муз 001"/>
          <p:cNvPicPr/>
          <p:nvPr/>
        </p:nvPicPr>
        <p:blipFill>
          <a:blip r:embed="rId2"/>
          <a:stretch/>
        </p:blipFill>
        <p:spPr>
          <a:xfrm>
            <a:off x="4788000" y="2492280"/>
            <a:ext cx="3695760" cy="2895840"/>
          </a:xfrm>
          <a:prstGeom prst="rect">
            <a:avLst/>
          </a:prstGeom>
          <a:ln w="0">
            <a:noFill/>
          </a:ln>
        </p:spPr>
      </p:pic>
      <p:sp>
        <p:nvSpPr>
          <p:cNvPr id="139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084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Музыкальная культура Возрождения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41" name="Picture 6" descr="муз 002"/>
          <p:cNvPicPr/>
          <p:nvPr/>
        </p:nvPicPr>
        <p:blipFill>
          <a:blip r:embed="rId1"/>
          <a:stretch/>
        </p:blipFill>
        <p:spPr>
          <a:xfrm>
            <a:off x="1619280" y="1989000"/>
            <a:ext cx="6351480" cy="4114800"/>
          </a:xfrm>
          <a:prstGeom prst="rect">
            <a:avLst/>
          </a:prstGeom>
          <a:ln w="0">
            <a:noFill/>
          </a:ln>
        </p:spPr>
      </p:pic>
      <p:sp>
        <p:nvSpPr>
          <p:cNvPr id="142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Итальянская комедия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448240" y="198900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конце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XVI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– начале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XVII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вв. в Италии возник театр-комедия дель арте(искусственная комедия, «комедия мастерства»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5" name="Picture 5" descr="муз 003"/>
          <p:cNvPicPr/>
          <p:nvPr/>
        </p:nvPicPr>
        <p:blipFill>
          <a:blip r:embed="rId1"/>
          <a:stretch/>
        </p:blipFill>
        <p:spPr>
          <a:xfrm>
            <a:off x="1692360" y="3860640"/>
            <a:ext cx="3695760" cy="23846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6" descr="Копия муз 003"/>
          <p:cNvPicPr/>
          <p:nvPr/>
        </p:nvPicPr>
        <p:blipFill>
          <a:blip r:embed="rId2"/>
          <a:stretch/>
        </p:blipFill>
        <p:spPr>
          <a:xfrm>
            <a:off x="826920" y="1628640"/>
            <a:ext cx="1847880" cy="3895920"/>
          </a:xfrm>
          <a:prstGeom prst="rect">
            <a:avLst/>
          </a:prstGeom>
          <a:ln w="0">
            <a:noFill/>
          </a:ln>
        </p:spPr>
      </p:pic>
      <p:sp>
        <p:nvSpPr>
          <p:cNvPr id="147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8T15:33:32Z</dcterms:created>
  <dc:creator>Валери</dc:creator>
  <dc:description/>
  <dc:language>en-US</dc:language>
  <cp:lastModifiedBy>LEGION</cp:lastModifiedBy>
  <dcterms:modified xsi:type="dcterms:W3CDTF">2015-04-02T07:08:01Z</dcterms:modified>
  <cp:revision>5</cp:revision>
  <dc:subject/>
  <dc:title>Музыка и театр эпохи Возрождения</dc:title>
</cp:coreProperties>
</file>