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8E32-13B4-41EC-B351-1DA443C9C8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Музыкальная культура XVII-XVIII в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9900"/>
                </a:solidFill>
                <a:latin typeface="Mistral"/>
              </a:rPr>
              <a:t>БАРОКК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87C8-1260-47B3-9B36-235A8B97D6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  В. А. Моц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DB5B-B96D-4408-ADF2-3C0A207CDD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5FCB-BCBC-44C5-B8D0-9638975CB4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аленький гений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о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1018-3E3F-48CE-85C7-2E609A3F1D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онное музиц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A6AA-3A3F-45B2-8EC2-9ED17222A6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царт в В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C19C-7111-48D1-8EE7-29509632A0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, оставленное композитором, поражает многогранностью и богатств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 произведения для музыкального теат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9 симфо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40 инструментальных сольных концертов с оркестр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наты для фортепиано, скрипк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C9CD-06A5-4B3F-89F3-722B55817D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, оставленное Моцар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я в различных областях музыкального искусства, Моцарт особое внимание уделял опер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вестные опер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вадьба Фигар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(1786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он Жуан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1787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олшебная флейт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179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D20D-26D7-4617-AFE4-A204E57E00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царт, пишущий «Реквием» на смертном од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нее произведение Моцарта — 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Реквием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осталось незаконченным. Впоследствии это произведение закончил ученик Моцарта - Зюссмай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5B18-8B9F-47C9-BFDD-1B19349C11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х Иоганн Себастьян</a:t>
            </a:r>
            <a:br>
              <a:rPr sz="24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685 – 1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творчество – завершающий этап музыкальной культуры барокк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окко проникло даже в духовные, органные произведения Б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D88B-2811-4660-83CE-2A5CBADF9D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з меломанов начала 17 ве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узыкантам хочется изобретать нечто новое. И вот новое искусство докатилось до безудержной распущенности. Отклонившись от путей, намеченных нашими отцами, молодые композиторы создают искажённые произведения, в которых нет никаких достоинств, кроме новизны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9CAD-3348-40D5-8E46-443877A1CC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орг Фридрих Генд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685 – 175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героические оратории изобилуют яркими контрас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узыке – разнообразие рит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8BA5-C4DA-4DA0-825C-F8F4C383D4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сская музыка барок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окко в России более жизнерадостно и декоративно, чем на Западе, в нём сильно проявляет себя украшательство, порой доходящее до пестроты. Орнаментальность достигает пределов возможно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 Владыш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1657-AF8E-41AC-B699-99D82C25F2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ская музыка барок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мит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тня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751 – 182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7835-9940-433B-A311-2C511F19A8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classicmusicon.narod.ru/im/monteverdi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starat.narod.ru/music/classic/compos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9289-8759-4AC3-A7BD-312A93A5CA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музыки барок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жиданные пере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асты и противопост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 трудные, виртуозные пассажи в п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е звучание множества инстр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танцевальных рит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8C31-4496-496E-B520-08C288E4F0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удио Монтеверд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567-1643) – первый композитор барокко (Итал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перной музыке создал «взволнованный стиль», передающий драматизм и напряжённость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ы «Орфей» (1607), «Ариадна» (1608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лось очень мало из его музыкального насле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C6D2-4B4D-4B52-AF96-8840B720F0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онио Вивальди (1678 – 174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465 концертов и 40 оп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естящий скрипач-виртуо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вестное произведение – «Времена года» (17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14DA-77F6-4963-BE9E-E9D4F264A9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ьфганг Амадей Моцарт (1756-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ий композито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дал феноменальным музыкальным слухом и память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л как клавесинист-виртуоз, скрипач, органист, дирижер, блестяще импровизиров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5-летнего возраста с триумфом гастролировал в Германии, Австрии, Франции, Великобритании, Швейцарии, Итал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1967-CF0C-4143-A3F4-FA0B36D564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ЛЬФГАНГ АМАДЕЙ МОЦАРТ 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7. I. 1756, Зальцбург - 5. XII. 1791, Ве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BF54-7E44-4E6F-9F2A-EFEFC4106D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лушая его музыку, я как будто совершаю хороший поступ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По моему глубокому убеждению, Моцарт есть высшая, кульминационная точка, до которой красота достигала в сфере музыки.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П.И. Чайко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Моцарт — это мост между космосом и нашей жизнь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Анатоль Франц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Многим поколениям он дал и даст утешение и исце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Эдвард Гри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012D-4879-49BF-A672-6BCAECBA68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 В.А.Моцарта – Зальц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CBCD-91B6-46D1-95E5-EF65DF1A7F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D55C3-C6E8-4419-8869-F1EEABD6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95722-2535-4E7F-8BD2-C6D8FC9E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78CB8-9EE8-46EC-9290-C6D6BEAC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A41DA-1EBD-4212-A5C7-5E9C7CBA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20BC-216B-47C6-BB87-5AF21E98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EF4E-CE35-4ED5-B742-FF1103BB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3672-6780-40BB-8B4E-5EA116E7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120F-684C-4F17-BBCE-D572C067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A661-74F0-4A5E-8271-0078052A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64CC-A243-4E0F-B83A-0FBD9F6E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4BEC-DE1A-45B0-9766-64473270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CC78C-706F-424C-AEEC-F6D770AA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8717-0D66-4682-BD0D-281BCF7C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7EF7-2120-4CF4-B3A6-B91AE634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F919-B72B-4F01-AC4B-F2C6D46E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D35E-3D13-443E-8543-0BD13564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9576-1685-4BE8-8B76-3EAB4001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1D1BF-89B3-487E-84A0-27AD5841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30777-E924-4BA9-8D81-7310E0BB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D42B2-DFED-40DF-A15A-7BDD1D19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D688F-43C0-4A2C-BDC1-1E785055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48C3B-0FBC-4CF2-BA70-C1A3B395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4118C-6CD4-456E-83F6-DFC7707C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57F84-3E27-47F8-9726-D33AD3CA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1107-A1F4-407D-AE60-14B9456A55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16E9-69AC-451D-B641-9F8E868C7B7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Tahoma"/>
              </a:rPr>
              <a:t>Музыкальная культура XVII-XVIII вв.</a:t>
            </a: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80520" y="190512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cc9900"/>
                </a:solidFill>
                <a:latin typeface="Mistral"/>
              </a:rPr>
              <a:t>БАРОККО</a:t>
            </a:r>
            <a:endParaRPr b="0" lang="en-US" sz="1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067960" cy="5689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2846160" y="60930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мья   В. А. Моцар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ttp://mediapolis.com.ru/alphabet/m/mozart_wolfgang_amadeus/foto/mozart_child.jpg"/>
          <p:cNvPicPr/>
          <p:nvPr/>
        </p:nvPicPr>
        <p:blipFill>
          <a:blip r:embed="rId1"/>
          <a:stretch/>
        </p:blipFill>
        <p:spPr>
          <a:xfrm>
            <a:off x="1295280" y="272880"/>
            <a:ext cx="6324840" cy="566748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68" name="Text Box 3"/>
          <p:cNvSpPr/>
          <p:nvPr/>
        </p:nvSpPr>
        <p:spPr>
          <a:xfrm>
            <a:off x="2871720" y="617220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Маленький гений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867280" y="333360"/>
            <a:ext cx="1511280" cy="14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5832360" cy="6480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6655680" y="6093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роче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690040" cy="50292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2147040" y="5950080"/>
            <a:ext cx="47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алонное музиц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916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78" name="Text Box 3"/>
          <p:cNvSpPr/>
          <p:nvPr/>
        </p:nvSpPr>
        <p:spPr>
          <a:xfrm>
            <a:off x="2972160" y="609300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царт в Ве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Mozart - Symphony No40.mp3" descr=""/>
          <p:cNvPicPr/>
          <p:nvPr/>
        </p:nvPicPr>
        <p:blipFill>
          <a:blip r:embed="rId2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Наследие, оставленное композитором, поражает многогранностью и богатством.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3 произведения для музыкального театр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9 симфоний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ее 40 инструментальных сольных концертов с оркестром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наты для фортепиано, скрипки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Наследие, оставленное Моцартом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Работая в различных областях музыкального искусства, Моцарт особое внимание уделял опере.  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Наиболее известные оперы: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Свадьба Фигаро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» (1786),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Дон Жуан»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(1787),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Волшебная флейта»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(1791).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mozart_fantasie_k_397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7559640" cy="543384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89" name="Text Box 3"/>
          <p:cNvSpPr/>
          <p:nvPr/>
        </p:nvSpPr>
        <p:spPr>
          <a:xfrm>
            <a:off x="109440" y="0"/>
            <a:ext cx="86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царт, пишущий «Реквием» на смертном одр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0" y="6019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леднее произведение Моцарта —  </a:t>
            </a:r>
            <a:r>
              <a:rPr b="0" lang="ru-RU" sz="1800" spc="-1" strike="noStrike">
                <a:solidFill>
                  <a:srgbClr val="6600ff"/>
                </a:solidFill>
                <a:latin typeface="Tahoma"/>
              </a:rPr>
              <a:t>«Реквием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— осталось незаконченным. Впоследствии это произведение закончил ученик Моцарта - Зюссмайер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Вольфганг Амадей Моцарт (Mozart)"/>
          <p:cNvPicPr/>
          <p:nvPr/>
        </p:nvPicPr>
        <p:blipFill>
          <a:blip r:embed="rId1"/>
          <a:stretch/>
        </p:blipFill>
        <p:spPr>
          <a:xfrm>
            <a:off x="1865160" y="152280"/>
            <a:ext cx="5511960" cy="655344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Tahoma"/>
              </a:rPr>
              <a:t>Бах Иоганн Себастьян</a:t>
            </a:r>
            <a:br>
              <a:rPr sz="5400"/>
            </a:b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(1685 – 1750)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5105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о творчество – завершающий этап музыкальной культуры барокк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арокко проникло даже в духовные, органные произведения Бах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5" descr="Бах (Bach) Иоганн Себастьян  "/>
          <p:cNvPicPr/>
          <p:nvPr/>
        </p:nvPicPr>
        <p:blipFill>
          <a:blip r:embed="rId1"/>
          <a:stretch/>
        </p:blipFill>
        <p:spPr>
          <a:xfrm>
            <a:off x="5665680" y="228600"/>
            <a:ext cx="3202200" cy="419112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Один из меломанов начала 17 века: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ahoma"/>
              </a:rPr>
              <a:t>«Музыкантам хочется изобретать нечто новое. И вот новое искусство докатилось до безудержной распущенности. Отклонившись от путей, намеченных нашими отцами, молодые композиторы создают искажённые произведения, в которых нет никаких достоинств, кроме новизны…»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Георг Фридрих Гендель </a:t>
            </a:r>
            <a:br>
              <a:rPr sz="3800"/>
            </a:b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(1685 – 1759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733560" y="175248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Его героические оратории изобилуют яркими контрастами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 музыке – разнообразие ритм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4" descr="гендель"/>
          <p:cNvPicPr/>
          <p:nvPr/>
        </p:nvPicPr>
        <p:blipFill>
          <a:blip r:embed="rId1"/>
          <a:stretch/>
        </p:blipFill>
        <p:spPr>
          <a:xfrm>
            <a:off x="228600" y="1676520"/>
            <a:ext cx="3067200" cy="419076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Русская музыка барокко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арокко в России более жизнерадостно и декоративно, чем на Западе, в нём сильно проявляет себя украшательство, порой доходящее до пестроты. Орнаментальность достигает пределов возможного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. Владышеск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Русская музыка барокко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3885840"/>
            <a:ext cx="5181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митри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ортнянски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(1751 – 1825)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4" descr="бортнянский"/>
          <p:cNvPicPr/>
          <p:nvPr/>
        </p:nvPicPr>
        <p:blipFill>
          <a:blip r:embed="rId1"/>
          <a:stretch/>
        </p:blipFill>
        <p:spPr>
          <a:xfrm>
            <a:off x="6172200" y="3124080"/>
            <a:ext cx="2719440" cy="354816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pic>
        <p:nvPicPr>
          <p:cNvPr id="208" name="Picture 6" descr="Максим Созонтович Березовский"/>
          <p:cNvPicPr/>
          <p:nvPr/>
        </p:nvPicPr>
        <p:blipFill>
          <a:blip r:embed="rId2"/>
          <a:stretch/>
        </p:blipFill>
        <p:spPr>
          <a:xfrm>
            <a:off x="380880" y="1143000"/>
            <a:ext cx="2286000" cy="228600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209" name="Rectangle 7"/>
          <p:cNvSpPr/>
          <p:nvPr/>
        </p:nvSpPr>
        <p:spPr>
          <a:xfrm>
            <a:off x="2895480" y="1295280"/>
            <a:ext cx="55184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аксим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ерезовский (1745 – 1777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lassicmusicon.narod.ru/im/monteverdi.jp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starat.narod.ru/music/classic/compose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Особенности музыки барокко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ожиданные перехо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трасты и противопостав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хнически трудные, виртуозные пассажи в пен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дновременное звучание множества инструмен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пользование танцевальных ритм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Клаудио Монтеверди</a:t>
            </a:r>
            <a:br>
              <a:rPr sz="3800"/>
            </a:b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(1567-1643) – первый композитор барокко (Италия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3" name="Picture 5" descr="фото Монтеверди, Клаудио"/>
          <p:cNvPicPr/>
          <p:nvPr/>
        </p:nvPicPr>
        <p:blipFill>
          <a:blip r:embed="rId1"/>
          <a:stretch/>
        </p:blipFill>
        <p:spPr>
          <a:xfrm>
            <a:off x="5688000" y="2362320"/>
            <a:ext cx="3278160" cy="3962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5562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оперной музыке создал «взволнованный стиль», передающий драматизм и напряжённость действ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еры «Орфей» (1607), «Ариадна» (1608) и д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хранилось очень мало из его музыкального наслед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Антонио Вивальди (1678 – 1741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0920" y="1371600"/>
            <a:ext cx="4953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тор 465 концертов и 40 опе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естящий скрипач-виртуоз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ее известное произведение – «Времена года» (172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Вивальди"/>
          <p:cNvPicPr/>
          <p:nvPr/>
        </p:nvPicPr>
        <p:blipFill>
          <a:blip r:embed="rId1"/>
          <a:stretch/>
        </p:blipFill>
        <p:spPr>
          <a:xfrm>
            <a:off x="457200" y="1600200"/>
            <a:ext cx="2813040" cy="335268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66720" y="151920"/>
            <a:ext cx="44960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Вольфганг Амадей Моцарт (1756-91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1" name="Picture 5" descr="Моцарт (Mozart) Вольфганг Амадей "/>
          <p:cNvPicPr/>
          <p:nvPr/>
        </p:nvPicPr>
        <p:blipFill>
          <a:blip r:embed="rId1"/>
          <a:stretch/>
        </p:blipFill>
        <p:spPr>
          <a:xfrm>
            <a:off x="152280" y="152280"/>
            <a:ext cx="2610000" cy="335304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7432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встрийский композитор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ладал феноменальным музыкальным слухом и памятью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ступал как клавесинист-виртуоз, скрипач, органист, дирижер, блестяще импровизирова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5-летнего возраста с триумфом гастролировал в Германии, Австрии, Франции, Великобритании, Швейцарии, Итали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ВОЛЬФГАНГ АМАДЕЙ МОЦАРТ </a:t>
            </a:r>
            <a:br>
              <a:rPr sz="36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27. I. 1756, Зальцбург - 5. XII. 1791, Вена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5" name="Picture 3" descr="Вольфганг Амадей Моцарт (Mozart)"/>
          <p:cNvPicPr/>
          <p:nvPr/>
        </p:nvPicPr>
        <p:blipFill>
          <a:blip r:embed="rId1"/>
          <a:stretch/>
        </p:blipFill>
        <p:spPr>
          <a:xfrm>
            <a:off x="2209680" y="1371600"/>
            <a:ext cx="4527720" cy="533412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Слушая его музыку, я как будто совершаю хороший поступок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По моему глубокому убеждению, Моцарт есть высшая, кульминационная точка, до которой красота достигала в сфере музыки.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.И. Чайков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царт — это мост между космосом и нашей жизнью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Анатоль Франц</a:t>
            </a:r>
            <a:r>
              <a:rPr b="0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ногим поколениям он дал и даст утешение и исцеление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Эдвард Гри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1714680" y="2543040"/>
            <a:ext cx="57150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714680" y="2543040"/>
            <a:ext cx="57150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4" descr="bigpic1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346248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62" name="Text Box 6"/>
          <p:cNvSpPr/>
          <p:nvPr/>
        </p:nvSpPr>
        <p:spPr>
          <a:xfrm>
            <a:off x="762120" y="4876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одина В.А.Моцарта – Зальцбур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09:0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