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F106-BB81-4008-AF73-488A50397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Музыкальная культура XVII-XVIII в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DB13-EE83-49A9-8BB0-FE5230181D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  В. А. Моц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F39D-A127-4660-ADBA-4ADFBDED9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B5F5-DAFE-4B94-8234-3545E70B9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ленький гени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о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C05A-1B95-4F58-838C-C6B742A73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онное музиц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B3F9-E13E-4996-9882-69DA00711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 в В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EA41-E733-4AE4-BBBB-E27F62D2B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композитором, поражает многогранностью и богатств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 произведения для музыкального теат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9 симфо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40 инструментальных сольных концертов с оркестр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аты для фортепиано, скрипк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789A-53A3-444B-8260-10E8041C2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Моца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ые опер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адьба Фигар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(1786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он Жуан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87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лшебная флейт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9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E7B6-294A-4E1B-8BA5-896668BBB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, пишущий «Реквием» на смертном од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ее произведение Моцарта — 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Реквием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DDDA-6F68-4FB1-B95D-C2965613B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х Иоганн Себастьян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85 – 1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творчество – завершающий этап музыкальной культуры барок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проникло даже в духовные, органные произведения Б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8043-BDBE-4B67-AA19-CD2217F25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меломанов начала 17 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355B-71B4-4EE2-91F8-D1EDD671C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 Фридрих Генд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685 – 17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героические оратории изобилуют яркими контра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е – разнообразие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F559-1833-4A9F-ABDC-170A40791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ая музыка барок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 Владыш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B40D-D721-46B2-90AB-991D32C707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ая музыка барок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мит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тня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751 – 182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35F7-9C4F-401C-B1B5-E1F495BA4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lassicmusicon.narod.ru/im/monteverdi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rat.narod.ru/music/classic/compo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656D-A993-4F62-A63F-62D079B26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узыки б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жиданные пере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асты и противопост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 трудные, виртуозные пассажи в п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е звучание множества инстр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танцевальных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834A-B23A-46D9-9220-55494BC85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удио Монтеверд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67-1643) – первый композитор барокко (Итал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ы «Орфей» (1607), «Ариадна» (1608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лось очень мало из его музыкального насле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A021-D853-41A9-BD5E-776A3DADD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онио Вивальди (1678 – 17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465 концертов и 40 оп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й скрипач-виртуо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ое произведение – «Времена года» (17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471B-9D59-4BB2-A276-B1C8E8C52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фганг Амадей Моцарт (1756-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ий композито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л феноменальным музыкальным слухом и памят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B22E-4F50-4287-BBE9-017FEE0DC2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ЬФГАНГ АМАДЕЙ МОЦАРТ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7. I. 1756, Зальцбург - 5. XII. 1791, В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EF25-917F-4181-A2E3-C47039527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7DE0-B8C3-4DD8-89C0-28D9679CF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 В.А.Моцарта – Зальц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26F4-604F-4696-B177-1709B5F71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5EA8-72A1-4B86-A1EC-9A57E652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5045-2031-4041-916E-98C1184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80BC-2D43-4E47-8C34-D543FF02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799E-BE85-4EF3-8BDF-C8A456B4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B472-B88E-4B70-826A-0809EED1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6460-C484-4EDA-B9A3-8458E10A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21F0-76F7-4DC3-9CB0-535028A9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4DDF-88D8-4733-9415-9B41E15E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0CBE-38B1-4B17-BB3A-107ABE7D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690E-84BD-4AF2-92BF-B9DF3D1B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CC5E-4060-4FF9-B97A-7FB45B4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CA94-AB18-4DC7-A9DA-13E06B59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44BB-710D-4ABF-9564-4358130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A7EF-7234-4C59-874A-04DFED9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7A23-E653-4F2A-90D8-13F76B67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9E86-8F41-4A7F-81E3-44188BA6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DE06-88B9-4709-97BD-1A323822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DD29-B3AD-48D2-A703-51112FBC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52F6-221B-4A9A-B4B0-A2F259D9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B19B-D6A0-4C9C-8F8F-03193BE7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BA0F-1527-455E-8E70-5AC878C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14B2-441B-40B4-8354-9A9696C1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1801-8C6E-4AA3-B313-5AEDEF0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AD5E-FF79-424A-A646-92208B3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C382-F19D-4BD7-A198-5B61D74551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CF43-2F4C-42B3-B830-5C5175A9D1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Музыкальная культура XVII-XVIII вв.</a:t>
            </a: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7960" cy="568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46160" y="60930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ья   В. А. Моцар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mediapolis.com.ru/alphabet/m/mozart_wolfgang_amadeus/foto/mozart_child.jpg"/>
          <p:cNvPicPr/>
          <p:nvPr/>
        </p:nvPicPr>
        <p:blipFill>
          <a:blip r:embed="rId1"/>
          <a:stretch/>
        </p:blipFill>
        <p:spPr>
          <a:xfrm>
            <a:off x="1295280" y="272880"/>
            <a:ext cx="6324840" cy="5667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8" name="Text Box 3"/>
          <p:cNvSpPr/>
          <p:nvPr/>
        </p:nvSpPr>
        <p:spPr>
          <a:xfrm>
            <a:off x="2871720" y="61722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енький гений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33360"/>
            <a:ext cx="1511280" cy="14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6480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655680" y="609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роче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69004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147040" y="595008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лонное музиц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78" name="Text Box 3"/>
          <p:cNvSpPr/>
          <p:nvPr/>
        </p:nvSpPr>
        <p:spPr>
          <a:xfrm>
            <a:off x="2972160" y="6093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 в В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Mozart - Symphony No40.mp3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следие, оставленное композитором, поражает многогранностью и богатством.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 произведения для музыкального театр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9 симфон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40 инструментальных сольных концертов с оркест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аты для фортепиано, скрипки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следие, оставленное Моцартом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Наиболее известные оперы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Свадьба Фигаро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» (1786),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Дон Жуан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87),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Волшебная флейта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91)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ozart_fantasie_k_39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559640" cy="54338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89" name="Text Box 3"/>
          <p:cNvSpPr/>
          <p:nvPr/>
        </p:nvSpPr>
        <p:spPr>
          <a:xfrm>
            <a:off x="109440" y="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, пишущий «Реквием» на смертном од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нее произведение Моцарта —  </a:t>
            </a:r>
            <a:r>
              <a:rPr b="0" lang="ru-RU" sz="1800" spc="-1" strike="noStrike">
                <a:solidFill>
                  <a:srgbClr val="6600ff"/>
                </a:solidFill>
                <a:latin typeface="Tahoma"/>
              </a:rPr>
              <a:t>«Реквием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1865160" y="152280"/>
            <a:ext cx="5511960" cy="65534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ahoma"/>
              </a:rPr>
              <a:t>Бах Иоганн Себастьян</a:t>
            </a:r>
            <a:br>
              <a:rPr sz="5400"/>
            </a:b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(1685 – 1750)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творчество – завершающий этап музыкальной культуры барок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рокко проникло даже в духовные, органные произведения Бах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Бах (Bach) Иоганн Себастьян  "/>
          <p:cNvPicPr/>
          <p:nvPr/>
        </p:nvPicPr>
        <p:blipFill>
          <a:blip r:embed="rId1"/>
          <a:stretch/>
        </p:blipFill>
        <p:spPr>
          <a:xfrm>
            <a:off x="5665680" y="228600"/>
            <a:ext cx="3202200" cy="419112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Один из меломанов начала 17 века: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Георг Фридрих Гендель 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685 – 1759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33560" y="175248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го героические оратории изобилуют яркими контрастам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зыке – разнообразие ритм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гендель"/>
          <p:cNvPicPr/>
          <p:nvPr/>
        </p:nvPicPr>
        <p:blipFill>
          <a:blip r:embed="rId1"/>
          <a:stretch/>
        </p:blipFill>
        <p:spPr>
          <a:xfrm>
            <a:off x="228600" y="1676520"/>
            <a:ext cx="3067200" cy="41907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Русская музыка барокко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 Владыш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усская музыка барокко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митр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ортнянс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751 – 1825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бортнянский"/>
          <p:cNvPicPr/>
          <p:nvPr/>
        </p:nvPicPr>
        <p:blipFill>
          <a:blip r:embed="rId1"/>
          <a:stretch/>
        </p:blipFill>
        <p:spPr>
          <a:xfrm>
            <a:off x="6172200" y="3124080"/>
            <a:ext cx="2719440" cy="35481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pic>
        <p:nvPicPr>
          <p:cNvPr id="208" name="Picture 6" descr="Максим Созонтович Березовский"/>
          <p:cNvPicPr/>
          <p:nvPr/>
        </p:nvPicPr>
        <p:blipFill>
          <a:blip r:embed="rId2"/>
          <a:stretch/>
        </p:blipFill>
        <p:spPr>
          <a:xfrm>
            <a:off x="380880" y="1143000"/>
            <a:ext cx="2286000" cy="228600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895480" y="1295280"/>
            <a:ext cx="55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кс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овский (1745 – 177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lassicmusicon.narod.ru/im/monteverdi.jp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starat.narod.ru/music/classic/compos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собенности музыки барокк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жиданные перех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расты и противопо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 трудные, виртуозные пассажи в п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е звучание множества инстру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е танцевальных ритм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Клаудио Монтеверди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567-1643) – первый композитор барокко (Италия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3" name="Picture 5" descr="фото Монтеверди, Клаудио"/>
          <p:cNvPicPr/>
          <p:nvPr/>
        </p:nvPicPr>
        <p:blipFill>
          <a:blip r:embed="rId1"/>
          <a:stretch/>
        </p:blipFill>
        <p:spPr>
          <a:xfrm>
            <a:off x="5688000" y="2362320"/>
            <a:ext cx="3278160" cy="3962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ы «Орфей» (1607), «Ариадна» (1608)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лось очень мало из его музыкального насл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нтонио Вивальди (1678 – 174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0920" y="13716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 465 концертов и 40 оп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естящий скрипач-вирту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вестное произведение – «Времена года» (172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Вивальди"/>
          <p:cNvPicPr/>
          <p:nvPr/>
        </p:nvPicPr>
        <p:blipFill>
          <a:blip r:embed="rId1"/>
          <a:stretch/>
        </p:blipFill>
        <p:spPr>
          <a:xfrm>
            <a:off x="457200" y="1600200"/>
            <a:ext cx="2813040" cy="335268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4960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ольфганг Амадей Моцарт (1756-9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5" descr="Моцарт (Mozart) Вольфганг Амадей "/>
          <p:cNvPicPr/>
          <p:nvPr/>
        </p:nvPicPr>
        <p:blipFill>
          <a:blip r:embed="rId1"/>
          <a:stretch/>
        </p:blipFill>
        <p:spPr>
          <a:xfrm>
            <a:off x="152280" y="152280"/>
            <a:ext cx="2610000" cy="335304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стрийский композито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ладал феноменальным музыкальным слухом и памя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ОЛЬФГАНГ АМАДЕЙ МОЦАРТ </a:t>
            </a:r>
            <a:br>
              <a:rPr sz="36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27. I. 1756, Зальцбург - 5. XII. 1791, Вен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5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2209680" y="1371600"/>
            <a:ext cx="4527720" cy="533412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bigpic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462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762120" y="4876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дина В.А.Моцарта – Зальцбур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