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52D9-2EBF-4FD4-9A4A-DFDF33D89D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Музыкальная культура XVII-XVIII в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6158-31A3-46A2-B0A6-11E0357A8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  В. А. Моц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BFB2-177D-472C-B00B-489E93E84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0147-19F5-41F1-B63A-1B2E3D11A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ленький гени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о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09E3-83C4-4658-BD58-033CFD7DF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онное музиц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A62C-7795-4195-AB91-77F77C40C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 в В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2C40-3408-44D1-97CC-8CF3AED9E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композитором, поражает многогранностью и богатств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 произведения для музыкального теат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9 симфо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40 инструментальных сольных концертов с оркестр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аты для фортепиано, скрипк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7F89-E8ED-4148-8D4A-7B7B6741C6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Моцар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ые опер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адьба Фигар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(1786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он Жуан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87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лшебная флейт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9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6835-B927-421C-BFAC-901774540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, пишущий «Реквием» на смертном од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ее произведение Моцарта — 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Реквием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8991-1D32-48E9-BADD-CB77412F6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х Иоганн Себастьян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685 – 1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творчество – завершающий этап музыкальной культуры барок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проникло даже в духовные, органные произведения Б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64B6-9C19-4890-9D9E-EDDA3B315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меломанов начала 17 ве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39A5-9FA5-4E8D-9E63-8E2456A3C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рг Фридрих Генд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685 – 17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героические оратории изобилуют яркими контрас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е – разнообразие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C2CF-1D5A-4FE6-9EAD-4B2EE7BB0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ая музыка барок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 Владыш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91DD-2DC9-49BC-8D97-607026606A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ая музыка барок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мит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тня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751 – 182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3D93-EEB8-4B31-B317-8A0FF0709E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lassicmusicon.narod.ru/im/monteverdi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arat.narod.ru/music/classic/compo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E23F-3A78-47ED-8B8A-349884EFC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узыки барок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жиданные пере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асты и противопост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 трудные, виртуозные пассажи в п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е звучание множества инстр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танцевальных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C883-125D-4AC3-953F-2A2B5C982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удио Монтеверд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67-1643) – первый композитор барокко (Итал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ы «Орфей» (1607), «Ариадна» (1608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лось очень мало из его музыкального насле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A701-4556-4F65-8487-B92B70F937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онио Вивальди (1678 – 174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465 концертов и 40 оп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й скрипач-виртуо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ое произведение – «Времена года» (17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D80A-7559-452C-AE1D-0CCD32F71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ьфганг Амадей Моцарт (1756-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ий композито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л феноменальным музыкальным слухом и памят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4F8F-0027-446B-8462-B0B01B51F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ЛЬФГАНГ АМАДЕЙ МОЦАРТ 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7. I. 1756, Зальцбург - 5. XII. 1791, В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4BA4-494B-4E6D-A6EA-656B4F789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EB11-B69F-4C2B-84C1-E6DE04E65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 В.А.Моцарта – Зальц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05E3-DD3A-4AC7-9BDD-D9E56DA06C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239F-78E8-4D56-AF7E-CCA27C96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335B-DE0F-4A04-8080-D4072223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2B1D-85D2-4790-A977-C851BFD2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F2B1-AF32-4256-A3BC-3B87886D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B992-AFAA-43B3-B9AD-CAC0D123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9C09-56D1-4543-AB5B-FBD92A7A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FE64-1DB6-4235-84AF-C03304AB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F141-3355-4A64-B6DA-091568C7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8BE2-F17C-4F24-A7C3-675DC6B9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EEB3-54D7-4C67-8C11-C07B87F6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558D-58D1-4A13-84A0-7DED803A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89D0-A193-4C65-86AC-AADF4AB1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4271-11FE-498F-9EB5-99BC5B07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9538-B698-4EFD-98D9-7F0A993B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2F04-A5FF-4507-8BE3-4B84359F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7F63-09CF-4FB2-9D28-321CEAEA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AC47-6572-4002-B0D5-0EDF65CC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972A-86C6-49E8-AFB1-86738C5A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1237-8D04-442B-9F5E-C6551D73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973F-4CE1-4072-B10A-31DC3E71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A644D-3ED1-4164-A56A-864CB8A6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D828-0A9F-4498-9361-9CCD9F4B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8E25-5BE5-41E4-8638-282E9E5D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2E92D-177D-4EDC-9728-61819242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02BC-20ED-4808-AABD-84D4D1CE6C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6F1F-8C9F-494E-BBBB-E94AD341C4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Музыкальная культура XVII-XVIII вв.</a:t>
            </a: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7960" cy="5689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846160" y="60930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ья   В. А. Моцар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mediapolis.com.ru/alphabet/m/mozart_wolfgang_amadeus/foto/mozart_child.jpg"/>
          <p:cNvPicPr/>
          <p:nvPr/>
        </p:nvPicPr>
        <p:blipFill>
          <a:blip r:embed="rId1"/>
          <a:stretch/>
        </p:blipFill>
        <p:spPr>
          <a:xfrm>
            <a:off x="1295280" y="272880"/>
            <a:ext cx="6324840" cy="5667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8" name="Text Box 3"/>
          <p:cNvSpPr/>
          <p:nvPr/>
        </p:nvSpPr>
        <p:spPr>
          <a:xfrm>
            <a:off x="2871720" y="61722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аленький гений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867280" y="333360"/>
            <a:ext cx="1511280" cy="14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832360" cy="6480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655680" y="609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роче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690040" cy="5029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147040" y="595008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лонное музиц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916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78" name="Text Box 3"/>
          <p:cNvSpPr/>
          <p:nvPr/>
        </p:nvSpPr>
        <p:spPr>
          <a:xfrm>
            <a:off x="2972160" y="60930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 в Ве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Mozart - Symphony No40.mp3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следие, оставленное композитором, поражает многогранностью и богатством.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 произведения для музыкального театр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9 симфоний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ее 40 инструментальных сольных концертов с оркестр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наты для фортепиано, скрипки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аследие, оставленное Моцартом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Наиболее известные оперы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Свадьба Фигаро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» (1786),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Дон Жуан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87),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Волшебная флейта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91)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mozart_fantasie_k_39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559640" cy="54338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89" name="Text Box 3"/>
          <p:cNvSpPr/>
          <p:nvPr/>
        </p:nvSpPr>
        <p:spPr>
          <a:xfrm>
            <a:off x="109440" y="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, пишущий «Реквием» на смертном од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6019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днее произведение Моцарта —  </a:t>
            </a:r>
            <a:r>
              <a:rPr b="0" lang="ru-RU" sz="1800" spc="-1" strike="noStrike">
                <a:solidFill>
                  <a:srgbClr val="6600ff"/>
                </a:solidFill>
                <a:latin typeface="Tahoma"/>
              </a:rPr>
              <a:t>«Реквием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1865160" y="152280"/>
            <a:ext cx="5511960" cy="65534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Tahoma"/>
              </a:rPr>
              <a:t>Бах Иоганн Себастьян</a:t>
            </a:r>
            <a:br>
              <a:rPr sz="5400"/>
            </a:b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(1685 – 1750)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5105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творчество – завершающий этап музыкальной культуры барокк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рокко проникло даже в духовные, органные произведения Бах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5" descr="Бах (Bach) Иоганн Себастьян  "/>
          <p:cNvPicPr/>
          <p:nvPr/>
        </p:nvPicPr>
        <p:blipFill>
          <a:blip r:embed="rId1"/>
          <a:stretch/>
        </p:blipFill>
        <p:spPr>
          <a:xfrm>
            <a:off x="5665680" y="228600"/>
            <a:ext cx="3202200" cy="419112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Один из меломанов начала 17 века: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Георг Фридрих Гендель 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685 – 1759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33560" y="175248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го героические оратории изобилуют яркими контрастам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музыке – разнообразие ритм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гендель"/>
          <p:cNvPicPr/>
          <p:nvPr/>
        </p:nvPicPr>
        <p:blipFill>
          <a:blip r:embed="rId1"/>
          <a:stretch/>
        </p:blipFill>
        <p:spPr>
          <a:xfrm>
            <a:off x="228600" y="1676520"/>
            <a:ext cx="3067200" cy="41907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Русская музыка барокко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 Владыш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Русская музыка барокко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митр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ортнянск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1751 – 1825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бортнянский"/>
          <p:cNvPicPr/>
          <p:nvPr/>
        </p:nvPicPr>
        <p:blipFill>
          <a:blip r:embed="rId1"/>
          <a:stretch/>
        </p:blipFill>
        <p:spPr>
          <a:xfrm>
            <a:off x="6172200" y="3124080"/>
            <a:ext cx="2719440" cy="35481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pic>
        <p:nvPicPr>
          <p:cNvPr id="208" name="Picture 6" descr="Максим Созонтович Березовский"/>
          <p:cNvPicPr/>
          <p:nvPr/>
        </p:nvPicPr>
        <p:blipFill>
          <a:blip r:embed="rId2"/>
          <a:stretch/>
        </p:blipFill>
        <p:spPr>
          <a:xfrm>
            <a:off x="380880" y="1143000"/>
            <a:ext cx="2286000" cy="228600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895480" y="1295280"/>
            <a:ext cx="55184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кс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овский (1745 – 177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lassicmusicon.narod.ru/im/monteverdi.jp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starat.narod.ru/music/classic/compos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собенности музыки барокко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жиданные перех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расты и противопост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 трудные, виртуозные пассажи в пе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временное звучание множества инструм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ование танцевальных ритм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Клаудио Монтеверди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567-1643) – первый композитор барокко (Италия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3" name="Picture 5" descr="фото Монтеверди, Клаудио"/>
          <p:cNvPicPr/>
          <p:nvPr/>
        </p:nvPicPr>
        <p:blipFill>
          <a:blip r:embed="rId1"/>
          <a:stretch/>
        </p:blipFill>
        <p:spPr>
          <a:xfrm>
            <a:off x="5688000" y="2362320"/>
            <a:ext cx="3278160" cy="3962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ы «Орфей» (1607), «Ариадна» (1608)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лось очень мало из его музыкального наслед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Антонио Вивальди (1678 – 174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0920" y="13716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р 465 концертов и 40 оп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естящий скрипач-виртуо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вестное произведение – «Времена года» (172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Вивальди"/>
          <p:cNvPicPr/>
          <p:nvPr/>
        </p:nvPicPr>
        <p:blipFill>
          <a:blip r:embed="rId1"/>
          <a:stretch/>
        </p:blipFill>
        <p:spPr>
          <a:xfrm>
            <a:off x="457200" y="1600200"/>
            <a:ext cx="2813040" cy="335268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4960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Вольфганг Амадей Моцарт (1756-9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Picture 5" descr="Моцарт (Mozart) Вольфганг Амадей "/>
          <p:cNvPicPr/>
          <p:nvPr/>
        </p:nvPicPr>
        <p:blipFill>
          <a:blip r:embed="rId1"/>
          <a:stretch/>
        </p:blipFill>
        <p:spPr>
          <a:xfrm>
            <a:off x="152280" y="152280"/>
            <a:ext cx="2610000" cy="335304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432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стрийский композито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ладал феноменальным музыкальным слухом и памя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ВОЛЬФГАНГ АМАДЕЙ МОЦАРТ </a:t>
            </a:r>
            <a:br>
              <a:rPr sz="36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27. I. 1756, Зальцбург - 5. XII. 1791, Вена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5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2209680" y="1371600"/>
            <a:ext cx="4527720" cy="533412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bigpic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462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762120" y="4876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одина В.А.Моцарта – Зальцбур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9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