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AB05D-2286-4057-8F3A-21C842D6CA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Знакомство с мюзиклом.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«Нотр – Дам де Пар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31a03"/>
                </a:solidFill>
                <a:latin typeface="Arial"/>
              </a:rPr>
              <a:t>Уро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31a03"/>
                </a:solidFill>
                <a:latin typeface="Arial"/>
              </a:rPr>
              <a:t>музы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9135A-3E07-4217-86BB-74A2C9ADDD5D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Русские композиторы мюзикл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ahoma"/>
              </a:rPr>
              <a:t>60-70г. – расцвет отечественного мюзикл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А.Рыбников </a:t>
            </a: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«Юнона и Авось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5CE53-4DB8-4213-BA84-29A7DB892FFB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Русские композиторы мюзикл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ahoma"/>
              </a:rPr>
              <a:t>60-70г. – расцвет отечественного мюзикл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.Дунаев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«Мэри Поппинс, до свидан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F5FEE-5ECE-44A1-A0BB-E938F91DF9C8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8 сентября 1998г. – премьера мюзикла «Нотр – Дам де Пар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993 году поэт Люк Пламондон начал искать сюжет для нового музыкального спектакля и остановил свой выбор на романе “Собор Парижской Богоматери” Виктора Гюго. К работе подключился известный композитор, исполнитель Ричард Кочанте. Он наиграл мотивы, которые потом стали Bellе, “Танцуй, моя Эсмеральда”, “Пора соборов кафедральных”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213D6-AB3A-49AD-9F0C-4633F5071241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тр-Дам де Пари” - самый успешный мюзик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тр-Дам де Пари” - первый европейский мюзикл, получивший мировую известность и переместивший эпицентр создания мюзиклов в Европ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руппу мюзикла был объявлен конкурс, в котором приняло участие 1482 человека. Были отобраны 45 артистов (на три состава)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A90C1-7E56-4FD9-B60B-3A2B7C56EA2A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вазимод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российских звезд шоу-бизнеса, пробовавшихся в “Нотр-Дам де Пари”, единственным артистом оказался солист группы “Танцы минус” Вячеслав Петкун, который поет партию Квазимод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166EA-4E6C-4ECE-A25E-E2CC28E01400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Декор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атр оперетты специально к премьере был дополнительно оснащен звуковой и световой аппаратурой. Изготовление и сборка декораций проводились на оборонном заводе по соседству с производством самолетов “МиГ”. Основная декорация весит 8 тонн и представляет собой сборную конструкцию из 39 секций и трех подвижных баше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D7EB4-5DF6-4457-BCC3-777AD9C4B7BC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вет озарил мою больную душу,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ет, твой покой я страстью не нарушу,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Бред, полночный бред терзает сердце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не опять,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 Эсмеральда, я посмел тебя желать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792E4-EF06-4C5A-9E89-3D59897E70AB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Цель: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проследить эволюцию развития мюзик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ать определение мюзик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ыявить характерные особ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пределить жанровые категории мюзик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знакомиться с мюзиклом «Нотр – Дам де Пар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D1F71-C788-4DD6-92E6-CCC996E66473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Характерные особенности мюзикл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Широта жанрового диапазона (комедия, драма, трагед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едущая роль музыки эстрадного пла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вноправие музыки, танца и разговорного жанра в драматургии спектак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основе литературное произве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ремление к содержательности, высокой идейности, глубине мыс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36C3B-E54B-49B0-831C-BC270EB21357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Разновидности мюзикл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юзикл – опера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М.Легран «Шербургские зонтики»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Э.Уэббер «Иисус Христос – суперзвезд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365EA-3A23-4F66-81F3-EB9AB11EB9E8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Разновидности мюзикл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юзикл – оперетт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Ф.Лоу «Моя прекрасная леди»,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Р.Роджерс «Звуки музык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3FD5A-942C-453B-8474-B0809B9ABDCC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Разновидности мюзикл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юзикл – драм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Бертольд Брехт «Трехгрошовая опер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CEDF9-03E3-48DD-AB3E-55A6CFBCD518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Разновидности мюзикл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юзикл – обозрен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И. Дунаевский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К/ф «Веселые ребят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58989-5C2D-4DF4-A609-A0CD2C23F7EA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Русские композиторы мюзикл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. Дунаев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«Веселые ребята»(1934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«Цирк» (1936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«Волга-Волга»(1938г.) и д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(режиссер Г.Александров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6CC41-A601-4ED6-AFE4-BD482B96596B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Русские композиторы мюзикл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ahoma"/>
              </a:rPr>
              <a:t>60-70г. – расцвет отечественного мюзикл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.Гладк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м/ф «Бременские музыканты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F0E42-D20D-4491-B690-08E83B262AD4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19CD-F057-43E7-9E3C-DFFA96B39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2B63-48E0-4807-B519-B93E2B7BF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4136-A7A4-4F99-9E60-41A5A5306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3DB8-4597-405F-BA23-48A34E889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1626C-821F-4310-8F9E-E043C6C39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B2D7D-704E-4439-B8C1-39B0B5D5B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56018-D4F2-4BD7-BDB3-314C657C2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5467D-7BE8-4F7C-955E-08A7E080B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7E0AE-6EAC-409A-8C6C-5EC5E2A34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803DD-810F-498C-898F-518297C39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A8B61-1626-4788-8BAF-D7E913E4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C719-1084-47B0-A9A5-349A30F9A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45B24-8865-44F9-B231-A26FFAF74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D24BD-1279-4F46-A1DE-2361A73D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820DE-57FF-4CF5-9399-D36B14FEF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B6CA1-D81E-40EC-A6DF-1B91C7DB3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AFFE6-AA4B-4BA7-ABDF-B0E002059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A216-B91E-4CCB-B68D-100045E60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897C-69FA-4C57-8E7D-88BABE0BC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DAFA-26C8-403D-91E4-4BF582012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F5AA-9D6C-4C48-AA64-F504AF722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36C1-FF1C-4E0D-8BA6-A193802F6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0A33-6F5D-435D-AD6F-DC939BBEF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8467-882E-491C-A5BA-172F2DE9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000" y="-21600"/>
            <a:ext cx="2870640" cy="3275640"/>
            <a:chOff x="6273000" y="-21600"/>
            <a:chExt cx="287064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6480" y="28296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012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000" y="-21600"/>
              <a:ext cx="2870640" cy="2269080"/>
              <a:chOff x="6273000" y="-21600"/>
              <a:chExt cx="287064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000" y="-21600"/>
                <a:ext cx="2868120" cy="2269080"/>
                <a:chOff x="6273000" y="-21600"/>
                <a:chExt cx="286812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0840"/>
                  <a:chOff x="7834680" y="842760"/>
                  <a:chExt cx="1064160" cy="114084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880" y="1132560"/>
                    <a:ext cx="8838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280"/>
                    <a:ext cx="47520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0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680" y="795960"/>
                    <a:ext cx="42516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640" cy="184320"/>
                  <a:chOff x="7871760" y="632880"/>
                  <a:chExt cx="110664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692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120" y="419400"/>
                  <a:ext cx="983880" cy="327240"/>
                  <a:chOff x="7845120" y="419400"/>
                  <a:chExt cx="983880" cy="32724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080" y="564480"/>
                    <a:ext cx="63324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4040" y="456120"/>
                    <a:ext cx="33948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7600" y="905760"/>
                  <a:ext cx="1064520" cy="1141200"/>
                  <a:chOff x="6537600" y="905760"/>
                  <a:chExt cx="1064520" cy="114120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1760" y="1195560"/>
                    <a:ext cx="8838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5960" y="1664640"/>
                    <a:ext cx="4744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480"/>
                  <a:ext cx="1266120" cy="1052640"/>
                  <a:chOff x="6303960" y="861480"/>
                  <a:chExt cx="1266120" cy="105264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2600" y="1112400"/>
                    <a:ext cx="93060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6320" y="826920"/>
                  <a:ext cx="1288080" cy="829080"/>
                  <a:chOff x="6286320" y="826920"/>
                  <a:chExt cx="1288080" cy="82908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5120" y="1319040"/>
                    <a:ext cx="477360" cy="243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000" y="787320"/>
                  <a:ext cx="1304280" cy="668520"/>
                  <a:chOff x="6273000" y="787320"/>
                  <a:chExt cx="130428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480" y="915840"/>
                    <a:ext cx="86040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2880" y="1121040"/>
                    <a:ext cx="46152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520" y="749520"/>
                  <a:ext cx="1223640" cy="416160"/>
                  <a:chOff x="6338520" y="749520"/>
                  <a:chExt cx="122364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960" y="801720"/>
                    <a:ext cx="79200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7760"/>
                    <a:ext cx="425160" cy="25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280" cy="184320"/>
                  <a:chOff x="6436440" y="722880"/>
                  <a:chExt cx="110628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692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160" y="222120"/>
                  <a:ext cx="901800" cy="627480"/>
                  <a:chOff x="6752160" y="222120"/>
                  <a:chExt cx="901800" cy="62748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040" y="572760"/>
                    <a:ext cx="6339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020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600"/>
                  <a:ext cx="466200" cy="809640"/>
                  <a:chOff x="7287480" y="-21600"/>
                  <a:chExt cx="466200" cy="80964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9360"/>
                    <a:ext cx="5439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520" y="59400"/>
                    <a:ext cx="2926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2160"/>
                  <a:ext cx="964080" cy="462600"/>
                  <a:chOff x="7792920" y="272160"/>
                  <a:chExt cx="964080" cy="46260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000" y="32940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480" y="136080"/>
                  <a:ext cx="916200" cy="605160"/>
                  <a:chOff x="7737480" y="136080"/>
                  <a:chExt cx="916200" cy="60516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400" y="470520"/>
                    <a:ext cx="6336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48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520"/>
                  <a:ext cx="497520" cy="791280"/>
                  <a:chOff x="7665480" y="-11520"/>
                  <a:chExt cx="497520" cy="79128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3320" cy="1249200"/>
                  <a:chOff x="6711120" y="929880"/>
                  <a:chExt cx="913320" cy="124920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6040"/>
                    <a:ext cx="88488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3640" y="178740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960" y="979200"/>
                  <a:ext cx="616680" cy="1248120"/>
                  <a:chOff x="7014960" y="979200"/>
                  <a:chExt cx="616680" cy="124812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560" y="1307880"/>
                    <a:ext cx="8190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1800"/>
                  <a:chOff x="7786800" y="956160"/>
                  <a:chExt cx="73260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520"/>
                    <a:ext cx="84600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7720"/>
                    <a:ext cx="7545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440"/>
                    <a:ext cx="40500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840"/>
                  <a:ext cx="276120" cy="1131480"/>
                  <a:chOff x="7500960" y="107784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720" y="1929240"/>
                    <a:ext cx="39528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576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860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696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4640" cy="42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0240" cy="118188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6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40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35E82-ACAA-4006-9FDD-B7843C0D4BC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5800" cy="5451840"/>
            <a:chOff x="2010960" y="245520"/>
            <a:chExt cx="6895800" cy="545184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2840" y="1265760"/>
                <a:ext cx="22896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5800" cy="5451840"/>
              <a:chOff x="2010960" y="245520"/>
              <a:chExt cx="6895800" cy="545184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1840"/>
                <a:chOff x="2010960" y="245520"/>
                <a:chExt cx="6891120" cy="545184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840" y="2235600"/>
                    <a:ext cx="71352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1840"/>
                  <a:chOff x="2010960" y="245520"/>
                  <a:chExt cx="6891120" cy="545184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360"/>
                    <a:ext cx="2558160" cy="2742840"/>
                    <a:chOff x="5762160" y="2322360"/>
                    <a:chExt cx="255816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9680"/>
                      <a:ext cx="21265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480" y="4145760"/>
                      <a:ext cx="11397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120"/>
                    <a:ext cx="3040200" cy="2530080"/>
                    <a:chOff x="5787720" y="2148120"/>
                    <a:chExt cx="3040200" cy="253008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080" y="2751480"/>
                      <a:ext cx="2236680" cy="42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1640" y="3721680"/>
                      <a:ext cx="1202040" cy="67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5840" y="2065680"/>
                    <a:ext cx="3096720" cy="1992240"/>
                    <a:chOff x="5775840" y="2065680"/>
                    <a:chExt cx="3096720" cy="199224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400" y="2521440"/>
                      <a:ext cx="21394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560"/>
                    <a:ext cx="2940120" cy="1002240"/>
                    <a:chOff x="5806080" y="1879560"/>
                    <a:chExt cx="2940120" cy="100224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560"/>
                      <a:ext cx="19058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360" y="2212920"/>
                      <a:ext cx="102384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256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6960"/>
                    <a:chOff x="5788440" y="1303920"/>
                    <a:chExt cx="2364120" cy="78696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520" y="1653120"/>
                      <a:ext cx="151920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8640" y="1392480"/>
                      <a:ext cx="81648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360" y="2473920"/>
                    <a:ext cx="2556720" cy="2741760"/>
                    <a:chOff x="2646360" y="2473920"/>
                    <a:chExt cx="2556720" cy="274176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3680" y="3170880"/>
                      <a:ext cx="21258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1360" y="4295520"/>
                      <a:ext cx="11415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480" y="2366280"/>
                    <a:ext cx="3040200" cy="2530800"/>
                    <a:chOff x="2085480" y="2366280"/>
                    <a:chExt cx="3040200" cy="253080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7840" y="2970000"/>
                      <a:ext cx="223740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8640" y="3940920"/>
                      <a:ext cx="120276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480" y="2283480"/>
                    <a:ext cx="3097440" cy="1992240"/>
                    <a:chOff x="2040480" y="2283480"/>
                    <a:chExt cx="3097440" cy="199224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5080" y="2739240"/>
                      <a:ext cx="214056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3560"/>
                      <a:ext cx="114984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080"/>
                    <a:ext cx="3134160" cy="1608480"/>
                    <a:chOff x="2010960" y="2188080"/>
                    <a:chExt cx="3134160" cy="160848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2880" y="24973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4040" y="2990520"/>
                      <a:ext cx="111132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840" y="2097720"/>
                    <a:ext cx="2940840" cy="1002600"/>
                    <a:chOff x="2166840" y="2097720"/>
                    <a:chExt cx="2940840" cy="100260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3720"/>
                      <a:ext cx="1905840" cy="38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2480" y="2430000"/>
                      <a:ext cx="1023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360" y="2033640"/>
                    <a:ext cx="2658960" cy="446040"/>
                    <a:chOff x="2403360" y="2033640"/>
                    <a:chExt cx="265896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120" y="2070720"/>
                      <a:ext cx="1731600" cy="26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040" y="2044800"/>
                      <a:ext cx="92988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1200" y="1522440"/>
                    <a:ext cx="2364120" cy="787320"/>
                    <a:chOff x="2761200" y="1522440"/>
                    <a:chExt cx="236412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5680" y="1872360"/>
                      <a:ext cx="15192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8280" y="1611000"/>
                      <a:ext cx="81612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3960"/>
                    <a:chOff x="2887200" y="1236600"/>
                    <a:chExt cx="2325240" cy="108396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040" y="178776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1160" y="831240"/>
                    <a:ext cx="2170440" cy="1508040"/>
                    <a:chOff x="3161160" y="831240"/>
                    <a:chExt cx="217044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7120" y="1673280"/>
                      <a:ext cx="151920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600" y="1022760"/>
                      <a:ext cx="81612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280" y="436320"/>
                    <a:ext cx="1987560" cy="1831320"/>
                    <a:chOff x="3437280" y="436320"/>
                    <a:chExt cx="198756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360"/>
                      <a:ext cx="82836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7320" y="335880"/>
                    <a:ext cx="1460880" cy="1884960"/>
                    <a:chOff x="4027320" y="335880"/>
                    <a:chExt cx="1460880" cy="188496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240"/>
                      <a:ext cx="13568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480"/>
                      <a:ext cx="72792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2120" cy="1945800"/>
                    <a:chOff x="4448160" y="245520"/>
                    <a:chExt cx="1122120" cy="194580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800" y="1401120"/>
                      <a:ext cx="13078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6840" y="440640"/>
                      <a:ext cx="702720" cy="41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6960" cy="1112040"/>
                    <a:chOff x="5661720" y="952560"/>
                    <a:chExt cx="231696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360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9600" cy="1450800"/>
                    <a:chOff x="5529600" y="626400"/>
                    <a:chExt cx="2199600" cy="145080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4240" y="1429560"/>
                      <a:ext cx="15188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4120" y="810720"/>
                      <a:ext cx="81612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7000"/>
                    <a:ext cx="126468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120" y="538920"/>
                    <a:ext cx="680760" cy="28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520"/>
                    <a:chOff x="5355720" y="270000"/>
                    <a:chExt cx="1196280" cy="190152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760"/>
                      <a:ext cx="1309680" cy="226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7800" y="485280"/>
                      <a:ext cx="702360" cy="35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9160"/>
                    <a:ext cx="1891800" cy="1796040"/>
                    <a:chOff x="5347440" y="389160"/>
                    <a:chExt cx="1891800" cy="179604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8880"/>
                      <a:ext cx="142488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2600" y="585000"/>
                      <a:ext cx="76608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400"/>
                      <a:ext cx="1175760" cy="10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1760" y="533160"/>
                      <a:ext cx="631080" cy="1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520" y="2530800"/>
                    <a:ext cx="2195280" cy="3002400"/>
                    <a:chOff x="3062520" y="2530800"/>
                    <a:chExt cx="2195280" cy="300240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9280" y="3314880"/>
                      <a:ext cx="212652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360" y="4592520"/>
                      <a:ext cx="113904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680"/>
                    <a:ext cx="1482840" cy="2999880"/>
                    <a:chOff x="3791520" y="2650680"/>
                    <a:chExt cx="1482840" cy="299988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880"/>
                      <a:ext cx="196740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160"/>
                      <a:ext cx="105588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440" cy="2927520"/>
                    <a:chOff x="4509000" y="2703240"/>
                    <a:chExt cx="87444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6720" y="3488760"/>
                      <a:ext cx="1886760" cy="34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7920" y="2483280"/>
                    <a:ext cx="2280600" cy="2953080"/>
                    <a:chOff x="5677920" y="2483280"/>
                    <a:chExt cx="2280600" cy="295308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120" y="3250800"/>
                      <a:ext cx="212652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1480" y="4498560"/>
                      <a:ext cx="11397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040" y="2593440"/>
                    <a:ext cx="1758600" cy="3032280"/>
                    <a:chOff x="5648040" y="2593440"/>
                    <a:chExt cx="175860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000" y="3395880"/>
                      <a:ext cx="203400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560" y="4719600"/>
                      <a:ext cx="109044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040" y="2710800"/>
                    <a:ext cx="1225440" cy="2986560"/>
                    <a:chOff x="5576040" y="2710800"/>
                    <a:chExt cx="1225440" cy="298656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6480" y="3542760"/>
                      <a:ext cx="1973520" cy="30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720" y="4881960"/>
                      <a:ext cx="105948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760"/>
                    <a:chOff x="5521320" y="2840760"/>
                    <a:chExt cx="696960" cy="277776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360" y="3607920"/>
                      <a:ext cx="181296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4320"/>
                      <a:ext cx="97380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120" y="682560"/>
                <a:ext cx="6731640" cy="4521240"/>
                <a:chOff x="217512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120" y="682560"/>
                  <a:ext cx="6731640" cy="4521240"/>
                  <a:chOff x="217512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2000" y="857880"/>
                    <a:ext cx="3164760" cy="25239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2480" y="2270520"/>
                    <a:ext cx="24854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760" y="1752840"/>
                    <a:ext cx="175788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4760" y="1297800"/>
                    <a:ext cx="313164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7120" y="682560"/>
                    <a:ext cx="228060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800" y="1875960"/>
                    <a:ext cx="94320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80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3280" y="2579760"/>
                <a:ext cx="261540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5360" y="2122200"/>
                <a:ext cx="153504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2520" y="1738800"/>
                <a:ext cx="2930040" cy="293400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3600" y="2947320"/>
                <a:ext cx="544680" cy="10339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6320" y="338400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7400" y="1398240"/>
                <a:ext cx="85680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1400" y="310788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5200" y="2109960"/>
                <a:ext cx="187308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384E0-4DA3-4CB8-B7D4-0951AC6607DF}" type="slidenum">
              <a:rPr b="0" lang="ru-RU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95280" y="4242960"/>
            <a:ext cx="8564400" cy="22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Tahoma"/>
              </a:rPr>
              <a:t>Знакомство с мюзиклом. </a:t>
            </a:r>
            <a:br>
              <a:rPr sz="4800"/>
            </a:br>
            <a:r>
              <a:rPr b="1" i="1" lang="ru-RU" sz="4800" spc="-1" strike="noStrike">
                <a:solidFill>
                  <a:srgbClr val="ffffff"/>
                </a:solidFill>
                <a:latin typeface="Tahoma"/>
              </a:rPr>
              <a:t>«Нотр – Дам де Пари»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5364000" y="2346120"/>
            <a:ext cx="3564000" cy="20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31a03"/>
                </a:solidFill>
                <a:latin typeface="Arial Black"/>
              </a:rPr>
              <a:t>Урок 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31a03"/>
                </a:solidFill>
                <a:latin typeface="Arial Black"/>
              </a:rPr>
              <a:t>музыки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" dur="5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Русские композиторы мюзиклов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716000" y="2276640"/>
            <a:ext cx="44276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60-70г. – расцвет отечественного мюзикла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А.Рыбников </a:t>
            </a:r>
            <a:r>
              <a:rPr b="1" i="1" lang="ru-RU" sz="3200" spc="-1" strike="noStrike">
                <a:solidFill>
                  <a:srgbClr val="ffcc00"/>
                </a:solidFill>
                <a:latin typeface="Tahoma"/>
              </a:rPr>
              <a:t>«Юнона и Авось»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2" name="Picture 4" descr="1000459001"/>
          <p:cNvPicPr/>
          <p:nvPr/>
        </p:nvPicPr>
        <p:blipFill>
          <a:blip r:embed="rId1"/>
          <a:stretch/>
        </p:blipFill>
        <p:spPr>
          <a:xfrm>
            <a:off x="468360" y="1844640"/>
            <a:ext cx="3467160" cy="4680000"/>
          </a:xfrm>
          <a:prstGeom prst="rect">
            <a:avLst/>
          </a:prstGeom>
          <a:ln w="0">
            <a:noFill/>
          </a:ln>
        </p:spPr>
      </p:pic>
      <p:sp>
        <p:nvSpPr>
          <p:cNvPr id="3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Русские композиторы мюзиклов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211280" y="2811600"/>
            <a:ext cx="475308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60-70г. – расцвет отечественного мюзикла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И.Дунаевский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«Мэри Поппинс, до свидания»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6" name="Picture 4" descr="marypoppins1"/>
          <p:cNvPicPr/>
          <p:nvPr/>
        </p:nvPicPr>
        <p:blipFill>
          <a:blip r:embed="rId1"/>
          <a:stretch/>
        </p:blipFill>
        <p:spPr>
          <a:xfrm>
            <a:off x="684360" y="2637000"/>
            <a:ext cx="3025800" cy="2779560"/>
          </a:xfrm>
          <a:prstGeom prst="rect">
            <a:avLst/>
          </a:prstGeom>
          <a:ln w="0">
            <a:noFill/>
          </a:ln>
        </p:spPr>
      </p:pic>
      <p:sp>
        <p:nvSpPr>
          <p:cNvPr id="3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7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24000" y="301680"/>
            <a:ext cx="849600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18 сентября 1998г. – премьера мюзикла «Нотр – Дам де Пари»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619280" y="2420640"/>
            <a:ext cx="752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В 1993 году поэт Люк Пламондон начал искать сюжет для нового музыкального спектакля и остановил свой выбор на романе “Собор Парижской Богоматери” Виктора Гюго. К работе подключился известный композитор, исполнитель Ричард Кочанте. Он наиграл мотивы, которые потом стали Bellе, “Танцуй, моя Эсмеральда”, “Пора соборов кафедральных”.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0" name="Picture 6" descr="Эсмеральда"/>
          <p:cNvPicPr/>
          <p:nvPr/>
        </p:nvPicPr>
        <p:blipFill>
          <a:blip r:embed="rId1"/>
          <a:stretch/>
        </p:blipFill>
        <p:spPr>
          <a:xfrm>
            <a:off x="250920" y="1557360"/>
            <a:ext cx="3124080" cy="4941720"/>
          </a:xfrm>
          <a:prstGeom prst="rect">
            <a:avLst/>
          </a:prstGeom>
          <a:ln w="0">
            <a:noFill/>
          </a:ln>
        </p:spPr>
      </p:pic>
      <p:sp>
        <p:nvSpPr>
          <p:cNvPr id="4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“</a:t>
            </a: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Нотр-Дам де Пари” - самый успешный мюзикл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“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Нотр-Дам де Пари” - первый европейский мюзикл, получивший мировую известность и переместивший эпицентр создания мюзиклов в Европу.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В труппу мюзикла был объявлен конкурс, в котором приняло участие 1482 человека. Были отобраны 45 артистов (на три состава). </a:t>
            </a:r>
            <a:br>
              <a:rPr sz="2400"/>
            </a:b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4" name="Picture 4" descr="DCP_5139_sv"/>
          <p:cNvPicPr/>
          <p:nvPr/>
        </p:nvPicPr>
        <p:blipFill>
          <a:blip r:embed="rId1"/>
          <a:stretch/>
        </p:blipFill>
        <p:spPr>
          <a:xfrm>
            <a:off x="468360" y="1773360"/>
            <a:ext cx="8281800" cy="4643280"/>
          </a:xfrm>
          <a:prstGeom prst="rect">
            <a:avLst/>
          </a:prstGeom>
          <a:ln w="0">
            <a:noFill/>
          </a:ln>
        </p:spPr>
      </p:pic>
      <p:sp>
        <p:nvSpPr>
          <p:cNvPr id="4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0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10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1000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0" nodeType="afterEffect" fill="hold" presetClass="entr" presetID="9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4" nodeType="afterEffect" fill="hold" presetClass="exit" presetID="9">
                                  <p:stCondLst>
                                    <p:cond delay="5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5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Квазимодо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4462560" cy="35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Из российских звезд шоу-бизнеса, пробовавшихся в “Нотр-Дам де Пари”, единственным артистом оказался солист группы “Танцы минус” Вячеслав Петкун, который поет партию Квазимодо.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8" name="Picture 7" descr="picturesmall"/>
          <p:cNvPicPr/>
          <p:nvPr/>
        </p:nvPicPr>
        <p:blipFill>
          <a:blip r:embed="rId1"/>
          <a:stretch/>
        </p:blipFill>
        <p:spPr>
          <a:xfrm>
            <a:off x="5219640" y="2997360"/>
            <a:ext cx="3673440" cy="2927160"/>
          </a:xfrm>
          <a:prstGeom prst="rect">
            <a:avLst/>
          </a:prstGeom>
          <a:ln w="0">
            <a:noFill/>
          </a:ln>
        </p:spPr>
      </p:pic>
      <p:sp>
        <p:nvSpPr>
          <p:cNvPr id="4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43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Декорации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Театр оперетты специально к премьере был дополнительно оснащен звуковой и световой аппаратурой. Изготовление и сборка декораций проводились на оборонном заводе по соседству с производством самолетов “МиГ”. Основная декорация весит 8 тонн и представляет собой сборную конструкцию из 39 секций и трех подвижных башен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 Black"/>
              </a:rPr>
              <a:t>Bell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 </a:t>
            </a:r>
            <a:br>
              <a:rPr sz="2800"/>
            </a:br>
            <a:r>
              <a:rPr b="0" i="1" lang="ru-RU" sz="2800" spc="-1" strike="noStrike">
                <a:solidFill>
                  <a:srgbClr val="ffcc00"/>
                </a:solidFill>
                <a:latin typeface="Arial Black"/>
              </a:rPr>
              <a:t>Свет озарил мою больную душу,</a:t>
            </a:r>
            <a:br>
              <a:rPr sz="2800"/>
            </a:br>
            <a:r>
              <a:rPr b="0" i="1" lang="ru-RU" sz="2800" spc="-1" strike="noStrike">
                <a:solidFill>
                  <a:srgbClr val="ffcc00"/>
                </a:solidFill>
                <a:latin typeface="Arial Black"/>
              </a:rPr>
              <a:t>Нет, твой покой я страстью не нарушу,</a:t>
            </a:r>
            <a:br>
              <a:rPr sz="2800"/>
            </a:br>
            <a:r>
              <a:rPr b="0" i="1" lang="ru-RU" sz="2800" spc="-1" strike="noStrike">
                <a:solidFill>
                  <a:srgbClr val="ffcc00"/>
                </a:solidFill>
                <a:latin typeface="Arial Black"/>
              </a:rPr>
              <a:t>Бред, полночный бред терзает сердце </a:t>
            </a:r>
            <a:br>
              <a:rPr sz="2800"/>
            </a:br>
            <a:r>
              <a:rPr b="0" i="1" lang="ru-RU" sz="2800" spc="-1" strike="noStrike">
                <a:solidFill>
                  <a:srgbClr val="ffcc00"/>
                </a:solidFill>
                <a:latin typeface="Arial Black"/>
              </a:rPr>
              <a:t>мне опять,</a:t>
            </a:r>
            <a:br>
              <a:rPr sz="2800"/>
            </a:br>
            <a:r>
              <a:rPr b="0" i="1" lang="ru-RU" sz="2800" spc="-1" strike="noStrike">
                <a:solidFill>
                  <a:srgbClr val="ffcc00"/>
                </a:solidFill>
                <a:latin typeface="Arial Black"/>
              </a:rPr>
              <a:t>О Эсмеральда, я посмел тебя желать.</a:t>
            </a:r>
            <a:br>
              <a:rPr sz="2800"/>
            </a:b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0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Цель: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проследить эволюцию развития мюзикла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755280" y="2060280"/>
            <a:ext cx="820404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Задачи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Дать определение мюзикла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Выявить характерные особенности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Определить жанровые категории мюзикла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Познакомиться с мюзиклом «Нотр – Дам де Пари»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push dir="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Характерные особенности мюзикла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99640" y="2335320"/>
            <a:ext cx="7340760" cy="37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Широта жанрового диапазона (комедия, драма, трагедия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Ведущая роль музыки эстрадного плана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Равноправие музыки, танца и разговорного жанра в драматургии спектакля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В основе литературное произведение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Стремление к содержательности, высокой идейности, глубине мысли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Разновидности мюзиклов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5400720" cy="38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Мюзикл – опера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М.Легран «Шербургские зонтики»,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Э.Уэббер «Иисус Христос – суперзвезда»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8" name="Picture 4" descr="33670"/>
          <p:cNvPicPr/>
          <p:nvPr/>
        </p:nvPicPr>
        <p:blipFill>
          <a:blip r:embed="rId1"/>
          <a:stretch/>
        </p:blipFill>
        <p:spPr>
          <a:xfrm>
            <a:off x="5580000" y="1844640"/>
            <a:ext cx="3351240" cy="4797360"/>
          </a:xfrm>
          <a:prstGeom prst="rect">
            <a:avLst/>
          </a:prstGeom>
          <a:ln w="0">
            <a:noFill/>
          </a:ln>
        </p:spPr>
      </p:pic>
      <p:sp>
        <p:nvSpPr>
          <p:cNvPr id="3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Разновидности мюзиклов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94920" y="1980720"/>
            <a:ext cx="5040360" cy="32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Мюзикл – оперетта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Ф.Лоу «Моя прекрасная леди»,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Р.Роджерс «Звуки музыки»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2" name="Picture 4" descr="51Q6R23QMML"/>
          <p:cNvPicPr/>
          <p:nvPr/>
        </p:nvPicPr>
        <p:blipFill>
          <a:blip r:embed="rId1"/>
          <a:stretch/>
        </p:blipFill>
        <p:spPr>
          <a:xfrm>
            <a:off x="5508720" y="1844640"/>
            <a:ext cx="3371760" cy="4762440"/>
          </a:xfrm>
          <a:prstGeom prst="rect">
            <a:avLst/>
          </a:prstGeom>
          <a:ln w="0">
            <a:noFill/>
          </a:ln>
        </p:spPr>
      </p:pic>
      <p:sp>
        <p:nvSpPr>
          <p:cNvPr id="3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7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Разновидности мюзиклов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932360" y="3284280"/>
            <a:ext cx="3527280" cy="281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Мюзикл – драма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Бертольд Брехт «Трехгрошовая опера»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6" name="Picture 4" descr="07"/>
          <p:cNvPicPr/>
          <p:nvPr/>
        </p:nvPicPr>
        <p:blipFill>
          <a:blip r:embed="rId1"/>
          <a:stretch/>
        </p:blipFill>
        <p:spPr>
          <a:xfrm>
            <a:off x="179280" y="1700280"/>
            <a:ext cx="4353120" cy="4464000"/>
          </a:xfrm>
          <a:prstGeom prst="rect">
            <a:avLst/>
          </a:prstGeom>
          <a:ln w="0">
            <a:noFill/>
          </a:ln>
        </p:spPr>
      </p:pic>
      <p:sp>
        <p:nvSpPr>
          <p:cNvPr id="3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9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Разновидности мюзиклов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4000" y="2133720"/>
            <a:ext cx="4462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Мюзикл – обозрение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И. Дунаевский           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К/ф «Веселые ребята»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0" name="Picture 4" descr="im"/>
          <p:cNvPicPr/>
          <p:nvPr/>
        </p:nvPicPr>
        <p:blipFill>
          <a:blip r:embed="rId1"/>
          <a:stretch/>
        </p:blipFill>
        <p:spPr>
          <a:xfrm>
            <a:off x="5730840" y="2133720"/>
            <a:ext cx="3149640" cy="4346280"/>
          </a:xfrm>
          <a:prstGeom prst="rect">
            <a:avLst/>
          </a:prstGeom>
          <a:ln w="0">
            <a:noFill/>
          </a:ln>
        </p:spPr>
      </p:pic>
      <p:sp>
        <p:nvSpPr>
          <p:cNvPr id="3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6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Русские композиторы мюзиклов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427280" y="2420640"/>
            <a:ext cx="44672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И. Дунаевский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«Веселые ребята»(1934г.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«Цирк» (1936г.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«Волга-Волга»(1938г.) и др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   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(режиссер Г.Александров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4" name="Picture 4" descr="2524_507"/>
          <p:cNvPicPr/>
          <p:nvPr/>
        </p:nvPicPr>
        <p:blipFill>
          <a:blip r:embed="rId1"/>
          <a:stretch/>
        </p:blipFill>
        <p:spPr>
          <a:xfrm>
            <a:off x="395280" y="2133720"/>
            <a:ext cx="3352680" cy="3657600"/>
          </a:xfrm>
          <a:prstGeom prst="rect">
            <a:avLst/>
          </a:prstGeom>
          <a:ln w="0">
            <a:noFill/>
          </a:ln>
        </p:spPr>
      </p:pic>
      <p:sp>
        <p:nvSpPr>
          <p:cNvPr id="3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Русские композиторы мюзиклов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11280" y="2133360"/>
            <a:ext cx="785160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60-70г. – расцвет отечественного мюзикла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Г.Гладков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м/ф «Бременские музыканты»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8" name="Picture 4" descr="1178313619_brem_muz"/>
          <p:cNvPicPr/>
          <p:nvPr/>
        </p:nvPicPr>
        <p:blipFill>
          <a:blip r:embed="rId1"/>
          <a:stretch/>
        </p:blipFill>
        <p:spPr>
          <a:xfrm>
            <a:off x="5796000" y="2492280"/>
            <a:ext cx="3137040" cy="4143600"/>
          </a:xfrm>
          <a:prstGeom prst="rect">
            <a:avLst/>
          </a:prstGeom>
          <a:ln w="0">
            <a:noFill/>
          </a:ln>
        </p:spPr>
      </p:pic>
      <p:sp>
        <p:nvSpPr>
          <p:cNvPr id="3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12:49:46Z</dcterms:created>
  <dc:creator>LIPA</dc:creator>
  <dc:description/>
  <dc:language>en-US</dc:language>
  <cp:lastModifiedBy>LEGION</cp:lastModifiedBy>
  <dcterms:modified xsi:type="dcterms:W3CDTF">2015-04-02T07:19:40Z</dcterms:modified>
  <cp:revision>15</cp:revision>
  <dc:subject/>
  <dc:title>Знакомство с мюзиклом. «Нотр – Дам де Пари»</dc:title>
</cp:coreProperties>
</file>