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AC8F-320D-4FDD-9E2C-D93681D0E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накомство с мюзиклом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Ур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3B4D-A1B0-4E3E-A325-C0C3492FF17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Рыбников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Юнона и Авос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F4E5-5A70-4106-9435-254C13B167A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Дунаев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Мэри Поппинс, до свид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4C66-F112-4DD7-8919-F60198F24D2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FAEC-5896-4A5B-B257-CDF8C269495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тр-Дам де Пари” - самый успешный 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ED41-35AD-4EDC-9683-034D6135FB1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зимо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E8FB-695F-47EC-ACAE-DE013AEDC07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еко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5CAB-EC92-47D8-9B9A-47E282A73AE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ет озарил мою больную д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твой покой я страстью не нар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ед, полночный бред терзает сердц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 опять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Эсмеральда, я посмел тебя жел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D5CA-F643-4F54-BEE3-754CAE02778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оследить эволюцию развития мюз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ть определение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явить характер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ить жанровые категории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167B-90C1-4D60-8A8D-C3FBE1725B4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особенности мюзик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ая роль музыки эстрадного пл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литературное произ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D3DE-FA6A-4234-B2CC-F2219CA5286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.Легран «Шербургские зонтики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8F27-5C66-4390-91C5-5828DA68162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ет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.Лоу «Моя прекрасная леди»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.Роджерс «Звуки музы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AEF0-BD73-47E7-A21B-944C72833F2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др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ертольд Брехт «Трехгрошовая оп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B61A-AB07-4DA6-AA60-8619C7C56ED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боз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. Дунаевский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/ф «Веселые реб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7DB4-1064-4BBE-9A3E-9EDB7D33E3C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Дунае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еселые ребята»(1934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Цирк» (1936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олга-Волга»(1938г.)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(режиссер Г.Александр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2D15-F4E6-4BFB-A50A-C570D70309A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Глад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/ф «Бременские музыкан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1EE1-6BE3-4604-90CA-C4491F7D76C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B31-0E89-40C7-B558-E1FE7E08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513-84D8-4345-82C6-EE2A9B05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92D-28DA-4436-A8E4-561EBB71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BC0-E280-4D31-ACFA-FCB4C2DC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6BEB-CCF2-40E2-B052-B9FF4780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8373-D361-418F-AA27-C32A8E64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A10B-0920-4913-A782-B0B96561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3F3A-D15A-4E38-B048-65DCAE91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3D0F-5D36-4784-9DCD-EE977E04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D0F5-B664-4205-88A2-915675B6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39DC-6E4D-4B97-B242-02AE348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BB5-5FB4-48F7-8ADB-81C8BCA0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8988-EDF1-475E-A9B8-6A3C12F5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B100-9A00-446B-B020-5E27F57B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CBCC-C373-4FCA-B4D1-4BCFDE27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CB5C-72A5-42F4-98DA-A0B77177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F07A-0EBD-44F3-BEA1-EAA83FC6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A98-5024-473C-AB61-3877E701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687-4B70-4C97-B354-E5DEA85E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838-81B5-4EDD-BF56-1D1AEAE9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59B-0DED-4E57-8CDF-AD72269A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5F1-7C72-4956-9DEE-9F3B642D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B99-844F-4BA4-B3C5-9D84C61A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F84-40A3-4B4B-AFD3-FAACF02A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3ECF-2784-45CA-9B9C-7B8E78074A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A4F2-31B0-4F0D-A80E-FCD10EC61D80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4242960"/>
            <a:ext cx="8564400" cy="22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Знакомство с мюзиклом.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«Нотр – Дам де Пари»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64000" y="2346120"/>
            <a:ext cx="3564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Урок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музыки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716000" y="2276640"/>
            <a:ext cx="4427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А.Рыбников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«Юнона и Авос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4" descr="1000459001"/>
          <p:cNvPicPr/>
          <p:nvPr/>
        </p:nvPicPr>
        <p:blipFill>
          <a:blip r:embed="rId1"/>
          <a:stretch/>
        </p:blipFill>
        <p:spPr>
          <a:xfrm>
            <a:off x="468360" y="1844640"/>
            <a:ext cx="3467160" cy="46800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11280" y="2811600"/>
            <a:ext cx="4753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Дунаевский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Мэри Поппинс, до свидани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marypoppins1"/>
          <p:cNvPicPr/>
          <p:nvPr/>
        </p:nvPicPr>
        <p:blipFill>
          <a:blip r:embed="rId1"/>
          <a:stretch/>
        </p:blipFill>
        <p:spPr>
          <a:xfrm>
            <a:off x="684360" y="2637000"/>
            <a:ext cx="3025800" cy="277956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496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75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6" descr="Эсмеральда"/>
          <p:cNvPicPr/>
          <p:nvPr/>
        </p:nvPicPr>
        <p:blipFill>
          <a:blip r:embed="rId1"/>
          <a:stretch/>
        </p:blipFill>
        <p:spPr>
          <a:xfrm>
            <a:off x="250920" y="1557360"/>
            <a:ext cx="3124080" cy="4941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отр-Дам де Пари” - самый успешный мюзик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4" descr="DCP_5139_sv"/>
          <p:cNvPicPr/>
          <p:nvPr/>
        </p:nvPicPr>
        <p:blipFill>
          <a:blip r:embed="rId1"/>
          <a:stretch/>
        </p:blipFill>
        <p:spPr>
          <a:xfrm>
            <a:off x="468360" y="1773360"/>
            <a:ext cx="8281800" cy="464328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зимодо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6256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7" descr="picturesmall"/>
          <p:cNvPicPr/>
          <p:nvPr/>
        </p:nvPicPr>
        <p:blipFill>
          <a:blip r:embed="rId1"/>
          <a:stretch/>
        </p:blipFill>
        <p:spPr>
          <a:xfrm>
            <a:off x="5219640" y="2997360"/>
            <a:ext cx="3673440" cy="29271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екорац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Be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Свет озарил мою больную д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Нет, твой покой я страстью не нар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Бред, полночный бред терзает сердце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не опять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О Эсмеральда, я посмел тебя желать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роследить эволюцию развития мюзикл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204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Дать определение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явить характерные особен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пределить жанровые категории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арактерные особенности мюзикл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едущая роль музыки эстрадного пла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основе литературное произведени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540072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.Легран «Шербургские зонтики»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33670"/>
          <p:cNvPicPr/>
          <p:nvPr/>
        </p:nvPicPr>
        <p:blipFill>
          <a:blip r:embed="rId1"/>
          <a:stretch/>
        </p:blipFill>
        <p:spPr>
          <a:xfrm>
            <a:off x="5580000" y="1844640"/>
            <a:ext cx="3351240" cy="47973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50403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ет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Ф.Лоу «Моя прекрасная леди»,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Р.Роджерс «Звуки музык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51Q6R23QMML"/>
          <p:cNvPicPr/>
          <p:nvPr/>
        </p:nvPicPr>
        <p:blipFill>
          <a:blip r:embed="rId1"/>
          <a:stretch/>
        </p:blipFill>
        <p:spPr>
          <a:xfrm>
            <a:off x="5508720" y="1844640"/>
            <a:ext cx="3371760" cy="47624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5272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дра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Бертольд Брехт «Трехгрошовая опе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07"/>
          <p:cNvPicPr/>
          <p:nvPr/>
        </p:nvPicPr>
        <p:blipFill>
          <a:blip r:embed="rId1"/>
          <a:stretch/>
        </p:blipFill>
        <p:spPr>
          <a:xfrm>
            <a:off x="179280" y="1700280"/>
            <a:ext cx="4353120" cy="446400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бозрени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И. Дунаевский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/ф «Веселые ребят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im"/>
          <p:cNvPicPr/>
          <p:nvPr/>
        </p:nvPicPr>
        <p:blipFill>
          <a:blip r:embed="rId1"/>
          <a:stretch/>
        </p:blipFill>
        <p:spPr>
          <a:xfrm>
            <a:off x="5730840" y="2133720"/>
            <a:ext cx="3149640" cy="434628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27280" y="2420640"/>
            <a:ext cx="4467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 Дунаев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еселые ребята»(1934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Цирк» (1936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олга-Волга»(1938г.) и др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режиссер Г.Александров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524_507"/>
          <p:cNvPicPr/>
          <p:nvPr/>
        </p:nvPicPr>
        <p:blipFill>
          <a:blip r:embed="rId1"/>
          <a:stretch/>
        </p:blipFill>
        <p:spPr>
          <a:xfrm>
            <a:off x="395280" y="213372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851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.Гладко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/ф «Бременские музыкант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1178313619_brem_muz"/>
          <p:cNvPicPr/>
          <p:nvPr/>
        </p:nvPicPr>
        <p:blipFill>
          <a:blip r:embed="rId1"/>
          <a:stretch/>
        </p:blipFill>
        <p:spPr>
          <a:xfrm>
            <a:off x="5796000" y="2492280"/>
            <a:ext cx="3137040" cy="414360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49:46Z</dcterms:created>
  <dc:creator>LIPA</dc:creator>
  <dc:description/>
  <dc:language>en-US</dc:language>
  <cp:lastModifiedBy>LEGION</cp:lastModifiedBy>
  <dcterms:modified xsi:type="dcterms:W3CDTF">2015-04-02T07:19:40Z</dcterms:modified>
  <cp:revision>15</cp:revision>
  <dc:subject/>
  <dc:title>Знакомство с мюзиклом. «Нотр – Дам де Пари»</dc:title>
</cp:coreProperties>
</file>