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FAA0-2C24-4B21-A9E7-8E0B389A1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Знакомство с мюзиклом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«Нотр – Дам де Па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31a03"/>
                </a:solidFill>
                <a:latin typeface="Arial"/>
              </a:rPr>
              <a:t>Ур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31a03"/>
                </a:solidFill>
                <a:latin typeface="Arial"/>
              </a:rPr>
              <a:t>музы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C335-41C9-4CAD-9764-C74253AC181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Рыбников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«Юнона и Авос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9950-948A-4CA7-BE46-A752E5601C26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Дунаев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Мэри Поппинс, до свид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561D-1E2A-4EDF-BF09-5E1DC512F3C8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8 сентября 1998г. – премьера мюзикла «Нотр – Дам де Пар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3 году поэт Люк Пламондон начал искать сюжет для нового музыкального спектакля и остановил свой выбор на романе “Собор Парижской Богоматери” Виктора Гюго. К работе подключился известный композитор, исполнитель Ричард Кочанте. Он наиграл мотивы, которые потом стали Bellе, “Танцуй, моя Эсмеральда”, “Пора соборов кафедральных”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A2B2-C9DA-406B-B9F4-4FF5D13F867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тр-Дам де Пари” - самый успешный мюз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тр-Дам де Пари” - первый европейский мюзикл, получивший мировую известность и переместивший эпицентр создания мюзиклов в Европ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уппу мюзикла был объявлен конкурс, в котором приняло участие 1482 человека. Были отобраны 45 артистов (на три состава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A939-FEC9-4AC7-AC06-E2988DAD1BF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зимод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оссийских звезд шоу-бизнеса, пробовавшихся в “Нотр-Дам де Пари”, единственным артистом оказался солист группы “Танцы минус” Вячеслав Петкун, который поет партию Квазимод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809D-FB93-4E9A-A67A-9465B3F1002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еко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атр оперетты специально к премьере был дополнительно оснащен звуковой и световой аппаратурой. Изготовление и сборка декораций проводились на оборонном заводе по соседству с производством самолетов “МиГ”. Основная декорация весит 8 тонн и представляет собой сборную конструкцию из 39 секций и трех подвижных баш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A2D7-1549-44CB-BA4F-89E04346E5B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ет озарил мою больную душу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твой покой я страстью не нарушу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ред, полночный бред терзает сердце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е опять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 Эсмеральда, я посмел тебя жел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7538-6E6F-4564-BA76-FC8DA4619881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оследить эволюцию развития мюз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ть определение мюз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явить характер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ить жанровые категории мюз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знакомиться с мюзиклом «Нотр – Дам де Па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100D-3AC2-4764-B5C9-BE3C4B27AC06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особенности мюзик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та жанрового диапазона (комедия, драма, трагед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ая роль музыки эстрадного пл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ноправие музыки, танца и разговорного жанра в драматургии спектак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основе литературное произ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емление к содержательности, высокой идейности, глубине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2E5C-4B03-4823-80B8-DFE07ED629BD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пер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.Легран «Шербургские зонтики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.Уэббер «Иисус Христос – суперзвез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21FF-39DB-495E-8599-405B61C9A70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перет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.Лоу «Моя прекрасная леди»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.Роджерс «Звуки музы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54D8-D195-438C-B114-E9CB8321A1F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дра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Бертольд Брехт «Трехгрошовая опе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5720-9087-47B5-82D7-357C508E4F0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бозр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. Дунаевский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/ф «Веселые ребя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AAD8-BF40-43E0-A9F9-E06F13D0BFF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Дунае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Веселые ребята»(1934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Цирк» (1936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Волга-Волга»(1938г.)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(режиссер Г.Александр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5B3E-0778-4504-BB78-E69502F6A8F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Глад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/ф «Бременские музыкант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C439-F0C1-43F2-9C6B-2C8916A35F6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642-195C-459F-888D-9083E344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839-FD75-4F59-9DAA-EAB8EAE9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BE1-1A3F-478D-A1FE-5265492B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2FE-9C94-4DD0-A62F-A44C7A2C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E8A9-2538-40C1-BB30-033C50D5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323F-7E98-461C-90E1-62054BC8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4194-2C10-4058-AB94-100EDA1B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B0BA-AF58-480F-B162-F4CA8136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FD60-190F-4080-BE88-18B69434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B026-9FCA-4C9A-A682-939145EB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A0E7-26E1-47B2-A65F-539ED9F7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4D9-2F34-4D3A-87C0-D25CD8B4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5AB2-5D20-44F1-BE93-65AA6C4F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38AF-A597-46C4-BA92-119AAD7E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A1D9-F3B5-4407-9606-786377FE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670D-C1A4-4C9D-8647-A6676315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132C-8C3D-4BC0-81C7-08E50DFA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1B7-BB62-4985-8B33-FEDC6BE2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CC7-0959-474E-8FA8-313F5711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9AF-CC64-4AF7-A1B5-64B7CE07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17A-AFF8-4410-A7F2-EC2C9D15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C44-4F74-4354-A766-6659D430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9F5-870F-4586-A52F-55F6318B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BFC-1E99-4C6D-AE3F-00AA7505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E964-4351-4560-8C6C-90F26DE22D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785B-6477-4E46-9B4A-08EBB18BA134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4242960"/>
            <a:ext cx="8564400" cy="22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Знакомство с мюзиклом. 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«Нотр – Дам де Пари»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5364000" y="2346120"/>
            <a:ext cx="356400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31a03"/>
                </a:solidFill>
                <a:latin typeface="Arial Black"/>
              </a:rPr>
              <a:t>Урок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31a03"/>
                </a:solidFill>
                <a:latin typeface="Arial Black"/>
              </a:rPr>
              <a:t>музыки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716000" y="2276640"/>
            <a:ext cx="44276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А.Рыбников </a:t>
            </a: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«Юнона и Авось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Picture 4" descr="1000459001"/>
          <p:cNvPicPr/>
          <p:nvPr/>
        </p:nvPicPr>
        <p:blipFill>
          <a:blip r:embed="rId1"/>
          <a:stretch/>
        </p:blipFill>
        <p:spPr>
          <a:xfrm>
            <a:off x="468360" y="1844640"/>
            <a:ext cx="3467160" cy="46800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11280" y="2811600"/>
            <a:ext cx="4753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.Дунаевский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Мэри Поппинс, до свидания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4" descr="marypoppins1"/>
          <p:cNvPicPr/>
          <p:nvPr/>
        </p:nvPicPr>
        <p:blipFill>
          <a:blip r:embed="rId1"/>
          <a:stretch/>
        </p:blipFill>
        <p:spPr>
          <a:xfrm>
            <a:off x="684360" y="2637000"/>
            <a:ext cx="3025800" cy="277956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4000" y="301680"/>
            <a:ext cx="8496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18 сентября 1998г. – премьера мюзикла «Нотр – Дам де Пари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19280" y="2420640"/>
            <a:ext cx="75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1993 году поэт Люк Пламондон начал искать сюжет для нового музыкального спектакля и остановил свой выбор на романе “Собор Парижской Богоматери” Виктора Гюго. К работе подключился известный композитор, исполнитель Ричард Кочанте. Он наиграл мотивы, которые потом стали Bellе, “Танцуй, моя Эсмеральда”, “Пора соборов кафедральных”.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6" descr="Эсмеральда"/>
          <p:cNvPicPr/>
          <p:nvPr/>
        </p:nvPicPr>
        <p:blipFill>
          <a:blip r:embed="rId1"/>
          <a:stretch/>
        </p:blipFill>
        <p:spPr>
          <a:xfrm>
            <a:off x="250920" y="1557360"/>
            <a:ext cx="3124080" cy="494172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Нотр-Дам де Пари” - самый успешный мюзик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отр-Дам де Пари” - первый европейский мюзикл, получивший мировую известность и переместивший эпицентр создания мюзиклов в Европу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труппу мюзикла был объявлен конкурс, в котором приняло участие 1482 человека. Были отобраны 45 артистов (на три состава).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4" descr="DCP_5139_sv"/>
          <p:cNvPicPr/>
          <p:nvPr/>
        </p:nvPicPr>
        <p:blipFill>
          <a:blip r:embed="rId1"/>
          <a:stretch/>
        </p:blipFill>
        <p:spPr>
          <a:xfrm>
            <a:off x="468360" y="1773360"/>
            <a:ext cx="8281800" cy="464328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вазимодо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46256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 российских звезд шоу-бизнеса, пробовавшихся в “Нотр-Дам де Пари”, единственным артистом оказался солист группы “Танцы минус” Вячеслав Петкун, который поет партию Квазимодо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8" name="Picture 7" descr="picturesmall"/>
          <p:cNvPicPr/>
          <p:nvPr/>
        </p:nvPicPr>
        <p:blipFill>
          <a:blip r:embed="rId1"/>
          <a:stretch/>
        </p:blipFill>
        <p:spPr>
          <a:xfrm>
            <a:off x="5219640" y="2997360"/>
            <a:ext cx="3673440" cy="292716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екораци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еатр оперетты специально к премьере был дополнительно оснащен звуковой и световой аппаратурой. Изготовление и сборка декораций проводились на оборонном заводе по соседству с производством самолетов “МиГ”. Основная декорация весит 8 тонн и представляет собой сборную конструкцию из 39 секций и трех подвижных башен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Bel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Свет озарил мою больную душу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Нет, твой покой я страстью не нарушу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Бред, полночный бред терзает сердце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мне опять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О Эсмеральда, я посмел тебя желать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роследить эволюцию развития мюзикл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8204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Дать определение мюзик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ыявить характерные особен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пределить жанровые категории мюзик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ознакомиться с мюзиклом «Нотр – Дам де Пар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push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Характерные особенности мюзикл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99640" y="233532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Широта жанрового диапазона (комедия, драма, трагедия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едущая роль музыки эстрадного пла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авноправие музыки, танца и разговорного жанра в драматургии спектакл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 основе литературное произведени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тремление к содержательности, высокой идейности, глубине мысл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540072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пер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.Легран «Шербургские зонтики»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Э.Уэббер «Иисус Христос – суперзвезд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4" descr="33670"/>
          <p:cNvPicPr/>
          <p:nvPr/>
        </p:nvPicPr>
        <p:blipFill>
          <a:blip r:embed="rId1"/>
          <a:stretch/>
        </p:blipFill>
        <p:spPr>
          <a:xfrm>
            <a:off x="5580000" y="1844640"/>
            <a:ext cx="3351240" cy="47973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504036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перет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Ф.Лоу «Моя прекрасная леди»,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Р.Роджерс «Звуки музык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4" descr="51Q6R23QMML"/>
          <p:cNvPicPr/>
          <p:nvPr/>
        </p:nvPicPr>
        <p:blipFill>
          <a:blip r:embed="rId1"/>
          <a:stretch/>
        </p:blipFill>
        <p:spPr>
          <a:xfrm>
            <a:off x="5508720" y="1844640"/>
            <a:ext cx="3371760" cy="47624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32360" y="3284280"/>
            <a:ext cx="35272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драм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Бертольд Брехт «Трехгрошовая опер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4" descr="07"/>
          <p:cNvPicPr/>
          <p:nvPr/>
        </p:nvPicPr>
        <p:blipFill>
          <a:blip r:embed="rId1"/>
          <a:stretch/>
        </p:blipFill>
        <p:spPr>
          <a:xfrm>
            <a:off x="179280" y="1700280"/>
            <a:ext cx="4353120" cy="446400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бозрени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И. Дунаевский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К/ф «Веселые ребят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4" descr="im"/>
          <p:cNvPicPr/>
          <p:nvPr/>
        </p:nvPicPr>
        <p:blipFill>
          <a:blip r:embed="rId1"/>
          <a:stretch/>
        </p:blipFill>
        <p:spPr>
          <a:xfrm>
            <a:off x="5730840" y="2133720"/>
            <a:ext cx="3149640" cy="434628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427280" y="2420640"/>
            <a:ext cx="44672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. Дунаевс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Веселые ребята»(1934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Цирк» (1936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Волга-Волга»(1938г.) и др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(режиссер Г.Александров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4" descr="2524_507"/>
          <p:cNvPicPr/>
          <p:nvPr/>
        </p:nvPicPr>
        <p:blipFill>
          <a:blip r:embed="rId1"/>
          <a:stretch/>
        </p:blipFill>
        <p:spPr>
          <a:xfrm>
            <a:off x="395280" y="213372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851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.Гладков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/ф «Бременские музыкант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1178313619_brem_muz"/>
          <p:cNvPicPr/>
          <p:nvPr/>
        </p:nvPicPr>
        <p:blipFill>
          <a:blip r:embed="rId1"/>
          <a:stretch/>
        </p:blipFill>
        <p:spPr>
          <a:xfrm>
            <a:off x="5796000" y="2492280"/>
            <a:ext cx="3137040" cy="4143600"/>
          </a:xfrm>
          <a:prstGeom prst="rect">
            <a:avLst/>
          </a:prstGeom>
          <a:ln w="0">
            <a:noFill/>
          </a:ln>
        </p:spPr>
      </p:pic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2:49:46Z</dcterms:created>
  <dc:creator>LIPA</dc:creator>
  <dc:description/>
  <dc:language>en-US</dc:language>
  <cp:lastModifiedBy>LEGION</cp:lastModifiedBy>
  <dcterms:modified xsi:type="dcterms:W3CDTF">2015-04-02T07:19:40Z</dcterms:modified>
  <cp:revision>15</cp:revision>
  <dc:subject/>
  <dc:title>Знакомство с мюзиклом. «Нотр – Дам де Пари»</dc:title>
</cp:coreProperties>
</file>