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91E6D-DF91-4FF1-9EA3-2CCA1D821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Знакомство с мюзиклом.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Ур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31a03"/>
                </a:solidFill>
                <a:latin typeface="Arial"/>
              </a:rPr>
              <a:t>музы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096D-2AAE-4539-991E-875C58804EA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.Рыбников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«Юнона и Авос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0E9C-19FD-44C2-AC62-317352E2B25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Дунаевск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Мэри Поппинс, до свид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706F-6687-4848-B2FF-BF92B79310F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9C7F-E960-4AE8-9443-60B48F28CAC3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отр-Дам де Пари” - самый успешный мюзик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A2D8-4843-4756-A84C-2F39C37D675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вазимод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FB39-DBC7-4E01-8FCA-591CCBAC80E5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Декор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94BE5-8D01-443F-8BB8-5AB07EBB5F71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вет озарил мою больную д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твой покой я страстью не нарушу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ед, полночный бред терзает сердце 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мне опять,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 Эсмеральда, я посмел тебя желать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75916-6DF5-427E-8099-11AA71D27364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Цель: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проследить эволюцию развития мюзик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ть определение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ыявить характерные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ить жанровые категории мюз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4EA-9B72-415F-92B7-777ABEA4037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ные особенности мюзикл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едущая роль музыки эстрадного пл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основе литературное произвед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0F44-1698-45B4-A5CB-6A08780E7218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.Легран «Шербургские зонтики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6C35-9E05-43FC-879F-1500E9296B6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перет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Ф.Лоу «Моя прекрасная леди»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Р.Роджерс «Звуки музык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86D1-ED65-466D-971D-4842A7FCF92B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дра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Бертольд Брехт «Трехгрошовая опер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C127-AA26-455E-928E-DB27E965AAF9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азновидности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юзикл – обозре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. Дунаевский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/ф «Веселые ребят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A66B-3EE8-4A4E-8643-802018AFE21C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Дунаев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еселые ребята»(1934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Цирк» (1936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«Волга-Волга»(1938г.)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  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(режиссер Г.Александров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D461-7FE5-47F2-8ADC-EDD462D159FA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Русские композиторы мюзикл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60-70г. – расцвет отечественного мюзик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.Глад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м/ф «Бременские музыканты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68DE-CECD-46DC-AB35-185C4C972022}" type="slidenum">
              <a:rPr b="0" lang="ru-RU" sz="1200" spc="-1" strike="noStrike">
                <a:solidFill>
                  <a:srgbClr val="ff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9386-20BD-455A-BEAF-A3907DF4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127E-D5CF-48FA-9E89-8F32F81A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51EC-2A1E-46F7-81E1-34BE84AB4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1E86-467E-49BB-8735-998BA2545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EB0B-939B-46D8-A8CD-6A64E3B08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A3F6-24D4-42BC-9D03-5204604B1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3C5C-6D98-41AF-8FA8-FB0B0D89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51C5-78D6-4278-9D7B-4F00E054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EAB1-E262-4D84-B3C4-AF327FAE2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757B1-0CDF-406C-8DCA-861FFE56B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EED3C-FB70-42CE-9767-CB23E24E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E0C8-106C-4D67-8269-8AAAB528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719E-EA10-4FE5-B7FE-25C52A35E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B1E26-CEBB-4149-9747-5C06820A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7FE68-8963-4F62-9B17-A8729D73D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09A06-FB2B-4026-84D0-D4E5DD17C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C52CC-DA76-4DB9-8B70-850BDB0E2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4588-6CA4-4752-8DAB-A6A8DBE6F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A47-596B-437D-A5EC-9BD97E03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384-8DD4-4727-98AD-0F61ED45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291E-1BD2-4874-ADC7-05F75164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8511-2896-4764-864E-102619454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18EA-FBA8-440C-A937-373DDBB5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9772-3AEC-43B6-914A-59BA9C45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E98A-6D72-4526-A5B6-79BD3567D34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96E8E-FA6F-4AEC-BF2F-18AAE9849473}" type="slidenum">
              <a:rPr b="0" lang="ru-RU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95280" y="4242960"/>
            <a:ext cx="8564400" cy="22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Знакомство с мюзиклом. </a:t>
            </a:r>
            <a:br>
              <a:rPr sz="4800"/>
            </a:br>
            <a:r>
              <a:rPr b="1" i="1" lang="ru-RU" sz="4800" spc="-1" strike="noStrike">
                <a:solidFill>
                  <a:srgbClr val="ffffff"/>
                </a:solidFill>
                <a:latin typeface="Tahoma"/>
              </a:rPr>
              <a:t>«Нотр – Дам де Пари»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5364000" y="2346120"/>
            <a:ext cx="3564000" cy="20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Урок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31a03"/>
                </a:solidFill>
                <a:latin typeface="Arial Black"/>
              </a:rPr>
              <a:t>музыки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716000" y="2276640"/>
            <a:ext cx="442764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Tahoma"/>
              </a:rPr>
              <a:t>А.Рыбников </a:t>
            </a:r>
            <a:r>
              <a:rPr b="1" i="1" lang="ru-RU" sz="3200" spc="-1" strike="noStrike">
                <a:solidFill>
                  <a:srgbClr val="ffcc00"/>
                </a:solidFill>
                <a:latin typeface="Tahoma"/>
              </a:rPr>
              <a:t>«Юнона и Авось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2" name="Picture 4" descr="1000459001"/>
          <p:cNvPicPr/>
          <p:nvPr/>
        </p:nvPicPr>
        <p:blipFill>
          <a:blip r:embed="rId1"/>
          <a:stretch/>
        </p:blipFill>
        <p:spPr>
          <a:xfrm>
            <a:off x="468360" y="1844640"/>
            <a:ext cx="3467160" cy="4680000"/>
          </a:xfrm>
          <a:prstGeom prst="rect">
            <a:avLst/>
          </a:prstGeom>
          <a:ln w="0">
            <a:noFill/>
          </a:ln>
        </p:spPr>
      </p:pic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0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211280" y="2811600"/>
            <a:ext cx="4753080" cy="371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Дунаевский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Мэри Поппинс, до свидания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96" name="Picture 4" descr="marypoppins1"/>
          <p:cNvPicPr/>
          <p:nvPr/>
        </p:nvPicPr>
        <p:blipFill>
          <a:blip r:embed="rId1"/>
          <a:stretch/>
        </p:blipFill>
        <p:spPr>
          <a:xfrm>
            <a:off x="684360" y="2637000"/>
            <a:ext cx="3025800" cy="2779560"/>
          </a:xfrm>
          <a:prstGeom prst="rect">
            <a:avLst/>
          </a:prstGeom>
          <a:ln w="0">
            <a:noFill/>
          </a:ln>
        </p:spPr>
      </p:pic>
      <p:sp>
        <p:nvSpPr>
          <p:cNvPr id="3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24000" y="301680"/>
            <a:ext cx="849600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Black"/>
              </a:rPr>
              <a:t>18 сентября 1998г. – премьера мюзикла «Нотр – Дам де Пари»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619280" y="2420640"/>
            <a:ext cx="752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0"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cc00"/>
                </a:solidFill>
                <a:latin typeface="Arial Black"/>
              </a:rPr>
              <a:t>В 1993 году поэт Люк Пламондон начал искать сюжет для нового музыкального спектакля и остановил свой выбор на романе “Собор Парижской Богоматери” Виктора Гюго. К работе подключился известный композитор, исполнитель Ричард Кочанте. Он наиграл мотивы, которые потом стали Bellе, “Танцуй, моя Эсмеральда”, “Пора соборов кафедральных”.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0" name="Picture 6" descr="Эсмеральда"/>
          <p:cNvPicPr/>
          <p:nvPr/>
        </p:nvPicPr>
        <p:blipFill>
          <a:blip r:embed="rId1"/>
          <a:stretch/>
        </p:blipFill>
        <p:spPr>
          <a:xfrm>
            <a:off x="250920" y="1557360"/>
            <a:ext cx="3124080" cy="4941720"/>
          </a:xfrm>
          <a:prstGeom prst="rect">
            <a:avLst/>
          </a:prstGeom>
          <a:ln w="0">
            <a:noFill/>
          </a:ln>
        </p:spPr>
      </p:pic>
      <p:sp>
        <p:nvSpPr>
          <p:cNvPr id="4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0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“</a:t>
            </a:r>
            <a:r>
              <a:rPr b="0" lang="ru-RU" sz="4000" spc="-1" strike="noStrike">
                <a:solidFill>
                  <a:srgbClr val="ffffff"/>
                </a:solidFill>
                <a:latin typeface="Arial Black"/>
              </a:rPr>
              <a:t>Нотр-Дам де Пари” - самый успешный мюзикл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“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Нотр-Дам де Пари” - первый европейский мюзикл, получивший мировую известность и переместивший эпицентр создания мюзиклов в Европу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В труппу мюзикла был объявлен конкурс, в котором приняло участие 1482 человека. Были отобраны 45 артистов (на три состава). </a:t>
            </a:r>
            <a:br>
              <a:rPr sz="2400"/>
            </a:b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4" name="Picture 4" descr="DCP_5139_sv"/>
          <p:cNvPicPr/>
          <p:nvPr/>
        </p:nvPicPr>
        <p:blipFill>
          <a:blip r:embed="rId1"/>
          <a:stretch/>
        </p:blipFill>
        <p:spPr>
          <a:xfrm>
            <a:off x="468360" y="1773360"/>
            <a:ext cx="8281800" cy="4643280"/>
          </a:xfrm>
          <a:prstGeom prst="rect">
            <a:avLst/>
          </a:prstGeom>
          <a:ln w="0">
            <a:noFill/>
          </a:ln>
        </p:spPr>
      </p:pic>
      <p:sp>
        <p:nvSpPr>
          <p:cNvPr id="4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0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1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4" nodeType="afterEffect" fill="hold" presetClass="exit" presetID="9">
                                  <p:stCondLst>
                                    <p:cond delay="5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 Black"/>
              </a:rPr>
              <a:t>Квазимодо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46256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Из российских звезд шоу-бизнеса, пробовавшихся в “Нотр-Дам де Пари”, единственным артистом оказался солист группы “Танцы минус” Вячеслав Петкун, который поет партию Квазимодо.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08" name="Picture 7" descr="picturesmall"/>
          <p:cNvPicPr/>
          <p:nvPr/>
        </p:nvPicPr>
        <p:blipFill>
          <a:blip r:embed="rId1"/>
          <a:stretch/>
        </p:blipFill>
        <p:spPr>
          <a:xfrm>
            <a:off x="5219640" y="2997360"/>
            <a:ext cx="3673440" cy="2927160"/>
          </a:xfrm>
          <a:prstGeom prst="rect">
            <a:avLst/>
          </a:prstGeom>
          <a:ln w="0">
            <a:noFill/>
          </a:ln>
        </p:spPr>
      </p:pic>
      <p:sp>
        <p:nvSpPr>
          <p:cNvPr id="4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43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Декорации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Театр оперетты специально к премьере был дополнительно оснащен звуковой и световой аппаратурой. Изготовление и сборка декораций проводились на оборонном заводе по соседству с производством самолетов “МиГ”. Основная декорация весит 8 тонн и представляет собой сборную конструкцию из 39 секций и трех подвижных башен. 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Bell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Свет озарил мою больную д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Нет, твой покой я страстью не нарушу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Бред, полночный бред терзает сердце 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мне опять,</a:t>
            </a:r>
            <a:br>
              <a:rPr sz="2800"/>
            </a:br>
            <a:r>
              <a:rPr b="0" i="1" lang="ru-RU" sz="2800" spc="-1" strike="noStrike">
                <a:solidFill>
                  <a:srgbClr val="ffcc00"/>
                </a:solidFill>
                <a:latin typeface="Arial Black"/>
              </a:rPr>
              <a:t>О Эсмеральда, я посмел тебя желать.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ahoma"/>
              </a:rPr>
              <a:t>Цель:</a:t>
            </a: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проследить эволюцию развития мюзикла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280" y="2060280"/>
            <a:ext cx="820404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Задачи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Дать определение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Выявить характерные особенност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Определить жанровые категории мюзикла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Tahoma"/>
              </a:rPr>
              <a:t>Познакомиться с мюзиклом «Нотр – Дам де Пар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push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Характерные особенности мюзикла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99640" y="2335320"/>
            <a:ext cx="734076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Широта жанрового диапазона (комедия, драма, трагедия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едущая роль музыки эстрадного плана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Равноправие музыки, танца и разговорного жанра в драматургии спектакля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В основе литературное произведение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Tahoma"/>
              </a:rPr>
              <a:t>Стремление к содержательности, высокой идейности, глубине мысли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540072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а</a:t>
            </a: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.Легран «Шербургские зонтики»,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Э.Уэббер «Иисус Христос – суперзвезд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8" name="Picture 4" descr="33670"/>
          <p:cNvPicPr/>
          <p:nvPr/>
        </p:nvPicPr>
        <p:blipFill>
          <a:blip r:embed="rId1"/>
          <a:stretch/>
        </p:blipFill>
        <p:spPr>
          <a:xfrm>
            <a:off x="5580000" y="1844640"/>
            <a:ext cx="3351240" cy="4797360"/>
          </a:xfrm>
          <a:prstGeom prst="rect">
            <a:avLst/>
          </a:prstGeom>
          <a:ln w="0">
            <a:noFill/>
          </a:ln>
        </p:spPr>
      </p:pic>
      <p:sp>
        <p:nvSpPr>
          <p:cNvPr id="3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4920" y="1980720"/>
            <a:ext cx="504036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перетт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Ф.Лоу «Моя прекрасная леди»,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Р.Роджерс «Звуки музыки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2" name="Picture 4" descr="51Q6R23QMML"/>
          <p:cNvPicPr/>
          <p:nvPr/>
        </p:nvPicPr>
        <p:blipFill>
          <a:blip r:embed="rId1"/>
          <a:stretch/>
        </p:blipFill>
        <p:spPr>
          <a:xfrm>
            <a:off x="5508720" y="1844640"/>
            <a:ext cx="3371760" cy="4762440"/>
          </a:xfrm>
          <a:prstGeom prst="rect">
            <a:avLst/>
          </a:prstGeom>
          <a:ln w="0">
            <a:noFill/>
          </a:ln>
        </p:spPr>
      </p:pic>
      <p:sp>
        <p:nvSpPr>
          <p:cNvPr id="3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932360" y="3284280"/>
            <a:ext cx="3527280" cy="28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драм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Бертольд Брехт «Трехгрошовая опер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76" name="Picture 4" descr="07"/>
          <p:cNvPicPr/>
          <p:nvPr/>
        </p:nvPicPr>
        <p:blipFill>
          <a:blip r:embed="rId1"/>
          <a:stretch/>
        </p:blipFill>
        <p:spPr>
          <a:xfrm>
            <a:off x="179280" y="1700280"/>
            <a:ext cx="4353120" cy="4464000"/>
          </a:xfrm>
          <a:prstGeom prst="rect">
            <a:avLst/>
          </a:prstGeom>
          <a:ln w="0">
            <a:noFill/>
          </a:ln>
        </p:spPr>
      </p:pic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9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азновидности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446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 Black"/>
              </a:rPr>
              <a:t>Мюзикл – обозрение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И. Дунаевский            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К/ф «Веселые ребята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0" name="Picture 4" descr="im"/>
          <p:cNvPicPr/>
          <p:nvPr/>
        </p:nvPicPr>
        <p:blipFill>
          <a:blip r:embed="rId1"/>
          <a:stretch/>
        </p:blipFill>
        <p:spPr>
          <a:xfrm>
            <a:off x="5730840" y="2133720"/>
            <a:ext cx="3149640" cy="434628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6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427280" y="2420640"/>
            <a:ext cx="44672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И. Дунаевский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еселые ребята»(1934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Цирк» (1936г.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«Волга-Волга»(1938г.) и др.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   </a:t>
            </a:r>
            <a:r>
              <a:rPr b="0" lang="ru-RU" sz="2800" spc="-1" strike="noStrike">
                <a:solidFill>
                  <a:srgbClr val="ffcc00"/>
                </a:solidFill>
                <a:latin typeface="Arial Black"/>
              </a:rPr>
              <a:t>(режиссер Г.Александров)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4" name="Picture 4" descr="2524_507"/>
          <p:cNvPicPr/>
          <p:nvPr/>
        </p:nvPicPr>
        <p:blipFill>
          <a:blip r:embed="rId1"/>
          <a:stretch/>
        </p:blipFill>
        <p:spPr>
          <a:xfrm>
            <a:off x="395280" y="2133720"/>
            <a:ext cx="3352680" cy="3657600"/>
          </a:xfrm>
          <a:prstGeom prst="rect">
            <a:avLst/>
          </a:prstGeom>
          <a:ln w="0">
            <a:noFill/>
          </a:ln>
        </p:spPr>
      </p:pic>
      <p:sp>
        <p:nvSpPr>
          <p:cNvPr id="3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Tahoma"/>
              </a:rPr>
              <a:t>Русские композиторы мюзиклов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8516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00"/>
                </a:solidFill>
                <a:latin typeface="Tahoma"/>
              </a:rPr>
              <a:t>60-70г. – расцвет отечественного мюзикла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 Black"/>
              </a:rPr>
              <a:t>Г.Гладков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Monotype Corsiva"/>
              </a:rPr>
              <a:t>м/ф «Бременские музыканты»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1178313619_brem_muz"/>
          <p:cNvPicPr/>
          <p:nvPr/>
        </p:nvPicPr>
        <p:blipFill>
          <a:blip r:embed="rId1"/>
          <a:stretch/>
        </p:blipFill>
        <p:spPr>
          <a:xfrm>
            <a:off x="5796000" y="2492280"/>
            <a:ext cx="3137040" cy="4143600"/>
          </a:xfrm>
          <a:prstGeom prst="rect">
            <a:avLst/>
          </a:prstGeom>
          <a:ln w="0">
            <a:noFill/>
          </a:ln>
        </p:spPr>
      </p:pic>
      <p:sp>
        <p:nvSpPr>
          <p:cNvPr id="3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cc00"/>
                </a:solidFill>
                <a:latin typeface="Arial Black"/>
              </a:rPr>
              <a:t>www.sliderpoint.org</a:t>
            </a: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2:49:46Z</dcterms:created>
  <dc:creator>LIPA</dc:creator>
  <dc:description/>
  <dc:language>en-US</dc:language>
  <cp:lastModifiedBy>LEGION</cp:lastModifiedBy>
  <dcterms:modified xsi:type="dcterms:W3CDTF">2015-04-02T07:19:40Z</dcterms:modified>
  <cp:revision>15</cp:revision>
  <dc:subject/>
  <dc:title>Знакомство с мюзиклом. «Нотр – Дам де Пари»</dc:title>
</cp:coreProperties>
</file>