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81F4-0053-4822-BD3C-524D050521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Знакомство с мюзиклом.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«Нотр – Дам де Пар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31a03"/>
                </a:solidFill>
                <a:latin typeface="Arial"/>
              </a:rPr>
              <a:t>Уро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31a03"/>
                </a:solidFill>
                <a:latin typeface="Arial"/>
              </a:rPr>
              <a:t>музы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5330-B298-43CF-878D-6C653430DBF1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усские композиторы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60-70г. – расцвет отечественного мюзик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.Рыбников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«Юнона и Авос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4A39-4BD6-4B5C-9ED0-D020D7BFFAFA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усские композиторы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60-70г. – расцвет отечественного мюзик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Дунаев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Мэри Поппинс, до свид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D2F7-E7EA-4D72-8B74-4D56CB5D0BBA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8 сентября 1998г. – премьера мюзикла «Нотр – Дам де Пар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93 году поэт Люк Пламондон начал искать сюжет для нового музыкального спектакля и остановил свой выбор на романе “Собор Парижской Богоматери” Виктора Гюго. К работе подключился известный композитор, исполнитель Ричард Кочанте. Он наиграл мотивы, которые потом стали Bellе, “Танцуй, моя Эсмеральда”, “Пора соборов кафедральных”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D939-FADF-40F0-AC4D-6B1D0E0C5354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тр-Дам де Пари” - самый успешный мюз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тр-Дам де Пари” - первый европейский мюзикл, получивший мировую известность и переместивший эпицентр создания мюзиклов в Европ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руппу мюзикла был объявлен конкурс, в котором приняло участие 1482 человека. Были отобраны 45 артистов (на три состава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C563-3BF0-4587-8C0D-0A8BF212D3A2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зимод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российских звезд шоу-бизнеса, пробовавшихся в “Нотр-Дам де Пари”, единственным артистом оказался солист группы “Танцы минус” Вячеслав Петкун, который поет партию Квазимод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1AFE-0FA4-4D68-9A2C-32BBE1B48E2B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Деко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атр оперетты специально к премьере был дополнительно оснащен звуковой и световой аппаратурой. Изготовление и сборка декораций проводились на оборонном заводе по соседству с производством самолетов “МиГ”. Основная декорация весит 8 тонн и представляет собой сборную конструкцию из 39 секций и трех подвижных баш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2205-986F-4B18-ABA2-C8CB5B63F40B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ет озарил мою больную душу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т, твой покой я страстью не нарушу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ред, полночный бред терзает сердце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не опять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 Эсмеральда, я посмел тебя жела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9476-6DA7-4F80-8B11-0AC539EDD965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проследить эволюцию развития мюзи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ть определение мюз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явить характерные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ить жанровые категории мюз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знакомиться с мюзиклом «Нотр – Дам де Пар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404E-4B28-4092-A9E5-49A36EDE2EB9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ные особенности мюзик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та жанрового диапазона (комедия, драма, трагед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едущая роль музыки эстрадного пл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вноправие музыки, танца и разговорного жанра в драматургии спектак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основе литературное произ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ремление к содержательности, высокой идейности, глубине мы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2C21-0F3B-468E-BF9A-4BEEA8982F37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зновидности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юзикл – опер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.Легран «Шербургские зонтики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Э.Уэббер «Иисус Христос – суперзвезд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BDEA-3B29-46F9-B3A0-6EA46257FE1F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зновидности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юзикл – оперет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.Лоу «Моя прекрасная леди»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.Роджерс «Звуки музы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8829-2170-4C6E-9542-B97699C5C839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зновидности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юзикл – дра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Бертольд Брехт «Трехгрошовая опер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9C83-DA0D-4EA3-A2B7-6F65774D8EDA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зновидности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юзикл – обозр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. Дунаевский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/ф «Веселые ребя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79130-BB2F-40C3-BFDC-983DBDA4FBBD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усские композиторы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 Дунае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Веселые ребята»(1934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Цирк» (1936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Волга-Волга»(1938г.)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(режиссер Г.Александров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8227-D2FD-49E6-BA18-D4B24A01A4C7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усские композиторы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60-70г. – расцвет отечественного мюзик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Глад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/ф «Бременские музыкант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0E29-740E-4336-8F88-83A0934D7E5F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E011-0A82-43B7-BBCF-4AC43F0C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E6D-D8DD-4553-BE0B-10B04ECF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94A9-55BE-43DD-A37A-6F8E420B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F353-C27B-4054-BC45-58686267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5DC3-9DEF-402C-A46F-D4A0E669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467A-CF70-4E60-AE62-6AFFD7EE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6C65-8AAA-40D4-A230-12112C10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193C-25F6-4348-AC21-3C16BA77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2B91-38BC-4D19-9FA2-43DE14B1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77E4-E08B-4D91-82BE-A6F58148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8588-012B-46F0-B0C6-3D58CA55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D220-6B71-43EF-8DEA-C57C7154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5DA4-7775-492A-9030-4D069BFD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9B5F-D154-4E66-9361-D65EEEB7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0F64-5E39-46E1-A42C-1BBA2DE3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EEEE-DBD6-4D30-814F-FC7C040D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34E8-998A-4BDC-9B34-A843D987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5F58-900D-49F1-A68A-7CDBB8A5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5889-55FB-43E1-85C1-CDD06537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11A1-6A51-43C4-9233-D0B8F553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B7E8-BE75-4004-A0D1-D2A171A4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66D8-B757-45A7-93D8-6436382F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FCB9-D75A-4F5F-869D-28F0144E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E678-FAD9-4779-B59F-B8048AF8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3F42-703B-4D94-B457-B9BC294542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06A5-EC26-4E50-98AE-C5A3FCDC80A4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4242960"/>
            <a:ext cx="8564400" cy="22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Знакомство с мюзиклом. </a:t>
            </a: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«Нотр – Дам де Пари»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5364000" y="2346120"/>
            <a:ext cx="3564000" cy="20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31a03"/>
                </a:solidFill>
                <a:latin typeface="Arial Black"/>
              </a:rPr>
              <a:t>Урок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31a03"/>
                </a:solidFill>
                <a:latin typeface="Arial Black"/>
              </a:rPr>
              <a:t>музыки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усские композиторы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716000" y="2276640"/>
            <a:ext cx="44276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60-70г. – расцвет отечественного мюзикл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А.Рыбников </a:t>
            </a:r>
            <a:r>
              <a:rPr b="1" i="1" lang="ru-RU" sz="3200" spc="-1" strike="noStrike">
                <a:solidFill>
                  <a:srgbClr val="ffcc00"/>
                </a:solidFill>
                <a:latin typeface="Tahoma"/>
              </a:rPr>
              <a:t>«Юнона и Авось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2" name="Picture 4" descr="1000459001"/>
          <p:cNvPicPr/>
          <p:nvPr/>
        </p:nvPicPr>
        <p:blipFill>
          <a:blip r:embed="rId1"/>
          <a:stretch/>
        </p:blipFill>
        <p:spPr>
          <a:xfrm>
            <a:off x="468360" y="1844640"/>
            <a:ext cx="3467160" cy="468000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усские композиторы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211280" y="2811600"/>
            <a:ext cx="4753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60-70г. – расцвет отечественного мюзикл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И.Дунаевский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«Мэри Поппинс, до свидания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6" name="Picture 4" descr="marypoppins1"/>
          <p:cNvPicPr/>
          <p:nvPr/>
        </p:nvPicPr>
        <p:blipFill>
          <a:blip r:embed="rId1"/>
          <a:stretch/>
        </p:blipFill>
        <p:spPr>
          <a:xfrm>
            <a:off x="684360" y="2637000"/>
            <a:ext cx="3025800" cy="277956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24000" y="301680"/>
            <a:ext cx="84960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18 сентября 1998г. – премьера мюзикла «Нотр – Дам де Пари»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619280" y="2420640"/>
            <a:ext cx="75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 1993 году поэт Люк Пламондон начал искать сюжет для нового музыкального спектакля и остановил свой выбор на романе “Собор Парижской Богоматери” Виктора Гюго. К работе подключился известный композитор, исполнитель Ричард Кочанте. Он наиграл мотивы, которые потом стали Bellе, “Танцуй, моя Эсмеральда”, “Пора соборов кафедральных”.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Picture 6" descr="Эсмеральда"/>
          <p:cNvPicPr/>
          <p:nvPr/>
        </p:nvPicPr>
        <p:blipFill>
          <a:blip r:embed="rId1"/>
          <a:stretch/>
        </p:blipFill>
        <p:spPr>
          <a:xfrm>
            <a:off x="250920" y="1557360"/>
            <a:ext cx="3124080" cy="494172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Нотр-Дам де Пари” - самый успешный мюзикл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Нотр-Дам де Пари” - первый европейский мюзикл, получивший мировую известность и переместивший эпицентр создания мюзиклов в Европу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труппу мюзикла был объявлен конкурс, в котором приняло участие 1482 человека. Были отобраны 45 артистов (на три состава).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4" name="Picture 4" descr="DCP_5139_sv"/>
          <p:cNvPicPr/>
          <p:nvPr/>
        </p:nvPicPr>
        <p:blipFill>
          <a:blip r:embed="rId1"/>
          <a:stretch/>
        </p:blipFill>
        <p:spPr>
          <a:xfrm>
            <a:off x="468360" y="1773360"/>
            <a:ext cx="8281800" cy="4643280"/>
          </a:xfrm>
          <a:prstGeom prst="rect">
            <a:avLst/>
          </a:prstGeom>
          <a:ln w="0">
            <a:noFill/>
          </a:ln>
        </p:spPr>
      </p:pic>
      <p:sp>
        <p:nvSpPr>
          <p:cNvPr id="4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4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Квазимодо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46256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 российских звезд шоу-бизнеса, пробовавшихся в “Нотр-Дам де Пари”, единственным артистом оказался солист группы “Танцы минус” Вячеслав Петкун, который поет партию Квазимодо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8" name="Picture 7" descr="picturesmall"/>
          <p:cNvPicPr/>
          <p:nvPr/>
        </p:nvPicPr>
        <p:blipFill>
          <a:blip r:embed="rId1"/>
          <a:stretch/>
        </p:blipFill>
        <p:spPr>
          <a:xfrm>
            <a:off x="5219640" y="2997360"/>
            <a:ext cx="3673440" cy="292716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Декораци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Театр оперетты специально к премьере был дополнительно оснащен звуковой и световой аппаратурой. Изготовление и сборка декораций проводились на оборонном заводе по соседству с производством самолетов “МиГ”. Основная декорация весит 8 тонн и представляет собой сборную конструкцию из 39 секций и трех подвижных башен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Bel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Свет озарил мою больную душу,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Нет, твой покой я страстью не нарушу,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Бред, полночный бред терзает сердце 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мне опять,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О Эсмеральда, я посмел тебя желать.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Цель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проследить эволюцию развития мюзикл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55280" y="2060280"/>
            <a:ext cx="82040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Задачи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Дать определение мюзикл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ыявить характерные особенност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Определить жанровые категории мюзикл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Познакомиться с мюзиклом «Нотр – Дам де Пари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push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Характерные особенности мюзикла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99640" y="2335320"/>
            <a:ext cx="734076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Широта жанрового диапазона (комедия, драма, трагедия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едущая роль музыки эстрадного план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Равноправие музыки, танца и разговорного жанра в драматургии спектакл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 основе литературное произведение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тремление к содержательности, высокой идейности, глубине мысли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азновидности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540072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юзикл – опера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М.Легран «Шербургские зонтики»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Э.Уэббер «Иисус Христос – суперзвезда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Picture 4" descr="33670"/>
          <p:cNvPicPr/>
          <p:nvPr/>
        </p:nvPicPr>
        <p:blipFill>
          <a:blip r:embed="rId1"/>
          <a:stretch/>
        </p:blipFill>
        <p:spPr>
          <a:xfrm>
            <a:off x="5580000" y="1844640"/>
            <a:ext cx="3351240" cy="479736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азновидности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94920" y="1980720"/>
            <a:ext cx="5040360" cy="32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юзикл – оперетт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Ф.Лоу «Моя прекрасная леди»,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Р.Роджерс «Звуки музыки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Picture 4" descr="51Q6R23QMML"/>
          <p:cNvPicPr/>
          <p:nvPr/>
        </p:nvPicPr>
        <p:blipFill>
          <a:blip r:embed="rId1"/>
          <a:stretch/>
        </p:blipFill>
        <p:spPr>
          <a:xfrm>
            <a:off x="5508720" y="1844640"/>
            <a:ext cx="3371760" cy="476244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азновидности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32360" y="3284280"/>
            <a:ext cx="3527280" cy="28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юзикл – драм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Бертольд Брехт «Трехгрошовая опера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6" name="Picture 4" descr="07"/>
          <p:cNvPicPr/>
          <p:nvPr/>
        </p:nvPicPr>
        <p:blipFill>
          <a:blip r:embed="rId1"/>
          <a:stretch/>
        </p:blipFill>
        <p:spPr>
          <a:xfrm>
            <a:off x="179280" y="1700280"/>
            <a:ext cx="4353120" cy="446400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азновидности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4000" y="213372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юзикл – обозрение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И. Дунаевский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К/ф «Веселые ребята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0" name="Picture 4" descr="im"/>
          <p:cNvPicPr/>
          <p:nvPr/>
        </p:nvPicPr>
        <p:blipFill>
          <a:blip r:embed="rId1"/>
          <a:stretch/>
        </p:blipFill>
        <p:spPr>
          <a:xfrm>
            <a:off x="5730840" y="2133720"/>
            <a:ext cx="3149640" cy="434628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6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усские композиторы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427280" y="2420640"/>
            <a:ext cx="44672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И. Дунаевский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«Веселые ребята»(1934г.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«Цирк» (1936г.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«Волга-Волга»(1938г.) и др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 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(режиссер Г.Александров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4" name="Picture 4" descr="2524_507"/>
          <p:cNvPicPr/>
          <p:nvPr/>
        </p:nvPicPr>
        <p:blipFill>
          <a:blip r:embed="rId1"/>
          <a:stretch/>
        </p:blipFill>
        <p:spPr>
          <a:xfrm>
            <a:off x="395280" y="2133720"/>
            <a:ext cx="3352680" cy="365760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усские композиторы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8516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60-70г. – расцвет отечественного мюзикл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Г.Гладков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м/ф «Бременские музыканты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Picture 4" descr="1178313619_brem_muz"/>
          <p:cNvPicPr/>
          <p:nvPr/>
        </p:nvPicPr>
        <p:blipFill>
          <a:blip r:embed="rId1"/>
          <a:stretch/>
        </p:blipFill>
        <p:spPr>
          <a:xfrm>
            <a:off x="5796000" y="2492280"/>
            <a:ext cx="3137040" cy="4143600"/>
          </a:xfrm>
          <a:prstGeom prst="rect">
            <a:avLst/>
          </a:prstGeom>
          <a:ln w="0">
            <a:noFill/>
          </a:ln>
        </p:spPr>
      </p:pic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2:49:46Z</dcterms:created>
  <dc:creator>LIPA</dc:creator>
  <dc:description/>
  <dc:language>en-US</dc:language>
  <cp:lastModifiedBy>LEGION</cp:lastModifiedBy>
  <dcterms:modified xsi:type="dcterms:W3CDTF">2015-04-02T07:19:40Z</dcterms:modified>
  <cp:revision>15</cp:revision>
  <dc:subject/>
  <dc:title>Знакомство с мюзиклом. «Нотр – Дам де Пари»</dc:title>
</cp:coreProperties>
</file>