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162C-A75C-4703-9C99-81D79BD1E7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узыка Древней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87F6-3A39-4789-BFF1-381DD2FBC875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04040"/>
                </a:solidFill>
                <a:latin typeface="Calibri"/>
              </a:rPr>
              <a:t>Трудовые песни и припев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ли единым ритмом работу многих людей, делали её размеренной, точной и друж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D784-0B91-43FD-B849-880F1D95CDD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достигла своей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A3F-2E7D-45F6-BD78-B7BDC647516A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музыки Древней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7570-3B06-4D0F-9FC6-2D2C7D6D4E76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B5B3-A09A-453C-ADA1-FD08AA48843C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ть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прое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проект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E538-9277-497F-AA9C-F03C9D8FD15F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Русская музыка изначально была связана с культурой и бытом древних славя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Древние славяне были язычниками и поклонялись природ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верования славян сопровождались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кличками</a:t>
            </a:r>
            <a:r>
              <a:rPr b="1" lang="ru-RU" sz="1200" spc="-1" strike="noStrike">
                <a:solidFill>
                  <a:srgbClr val="8eb4e3"/>
                </a:solidFill>
                <a:latin typeface="Calibri"/>
              </a:rPr>
              <a:t> и </a:t>
            </a:r>
            <a:r>
              <a:rPr b="1" lang="ru-RU" sz="1200" spc="-1" strike="noStrike" u="sng">
                <a:solidFill>
                  <a:srgbClr val="8eb4e3"/>
                </a:solidFill>
                <a:uFillTx/>
                <a:latin typeface="Calibri"/>
              </a:rPr>
              <a:t>заговорам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, пением, плясками, ведением хорово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се значительные события человеческой жизни сопровождались             обр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585A-CB45-4D11-98BD-A161DF751DD8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Красота народной песни открывается уже в старинных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колыбельных песнях</a:t>
            </a:r>
            <a:r>
              <a:rPr b="1" i="1" lang="en-US" sz="1200" spc="-1" strike="noStrike">
                <a:solidFill>
                  <a:srgbClr val="fceecb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(«байках»)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. Они наполнены материнской любов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За пением колыбельных песен наступал черёд тешить ребенка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естушками и потешками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ям в первые годы жизни пели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—маленькие сказочки в стихах, а также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прибаутки-перевертыши. </a:t>
            </a:r>
            <a:r>
              <a:rPr b="0" lang="ru-RU" sz="1200" spc="-1" strike="noStrike">
                <a:solidFill>
                  <a:srgbClr val="fceecb"/>
                </a:solidFill>
                <a:latin typeface="Calibri"/>
              </a:rPr>
              <a:t>Детей обучали не мириться с ложью и несообразностям. </a:t>
            </a:r>
            <a:r>
              <a:rPr b="1" i="1" lang="ru-RU" sz="1200" spc="-1" strike="noStrike">
                <a:solidFill>
                  <a:srgbClr val="fceecb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9C9D-7046-4682-9137-C51C403A605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зрослея, ребенок на улице выучивался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закличкам и приговоркам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351E-CB9E-41BE-A905-F7B3B328F8C9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зрослой жизни человека сопровождали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алендарные песн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о время святок пели величальные песн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колядки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наступление марта закликали Весну особыми песенными закличками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веснянкам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В Егорьев день выгоняли коров в поле и пели песенное заклинание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оберег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С календарными песнями по-своему связаны 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хороводные, игровые и плясовые пес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32ED-9472-42C2-8B17-91E5BD131C00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дна из богатейших областей музыкального фольклора—</a:t>
            </a:r>
            <a:r>
              <a:rPr b="1" i="1" lang="ru-RU" sz="1200" spc="-1" strike="noStrike">
                <a:solidFill>
                  <a:srgbClr val="8eb4e3"/>
                </a:solidFill>
                <a:latin typeface="Calibri"/>
              </a:rPr>
              <a:t>свадебные песни. </a:t>
            </a:r>
            <a:r>
              <a:rPr b="0" lang="ru-RU" sz="1200" spc="-1" strike="noStrike">
                <a:solidFill>
                  <a:srgbClr val="8eb4e3"/>
                </a:solidFill>
                <a:latin typeface="Calibri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DC2A-F626-4DF2-9616-08C4E253FAF1}" type="slidenum">
              <a:rPr b="0" lang="uk-UA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4F5-CAA4-4883-9DD6-2BFB470B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2A88-3C44-4C10-951F-BF0D23B1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66D8-D8CD-4C77-82A1-C729861C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961-A208-4D18-81C1-0DC69FC2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7D3C-2A78-4505-A35A-B9E44E332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CD80-BA4F-474F-ABD9-5E0420C9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96EF-DDE9-4529-972B-4E171C9E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AA48-9A0E-4765-A223-6A855D1A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9B5E-27C4-490E-A8DC-7AB342FF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657D-EAD2-4759-82DC-BD7B686A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DEBF-13FA-4107-9E23-291847C2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AEA-4C9B-44FB-8981-5C7BEAA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6DBD-5739-4206-9D45-CD8DBC84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4B6DF-EF36-4236-804A-FEC6120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08BC-0BCC-401F-8D05-48DB2B40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9FB7-0B0A-4CC1-8A48-44F8E56D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7FF9-C323-4AC1-A6E8-A5709C60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773-F7E3-44AE-939A-B63B8138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CF0-7C6A-4AB1-9951-B6810DB0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15E7-88AC-466C-980F-FA05A097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3EB-30AC-4CB8-8598-202A275C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B90-A048-4D51-A712-E3F97962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521C-FD5A-4BA0-BDD8-F5FE1C62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5D41-BEC1-4515-81E9-861DE0A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E7DB-AD21-408F-B761-BFEAF91451B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6EB-9919-4EE3-B1B7-A440B4F19EF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2C1A-505C-45F5-8D1F-F0C2F7196479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DD5-96F5-4A5C-8CF2-FE118AD10D50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story-virtual.ucoz.ru/4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0&amp;ed=1&amp;text=&#1092;&#1086;&#1083;&#1100;&#1082;&#1083;&#1086;&#1088;%20&#1076;&#1088;&#1077;&#1074;&#1085;&#1077;&#1081;%20&#1056;&#1091;&#1089;&#1080;%20&amp;spsite=www.big-doska.ru&amp;img_url=www.moscow-vernisage.com/upload/1161795876.jpg&amp;rpt=simage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40&amp;ed=1&amp;text=&#1092;&#1086;&#1083;&#1100;&#1082;&#1083;&#1086;&#1088;%20&#1076;&#1088;&#1077;&#1074;&#1085;&#1077;&#1081;%20&#1056;&#1091;&#1089;&#1080;%20&amp;spsite=rusfolclor.ru&amp;img_url=storage.looky.ru/9/5/1/9/5068.jpeg&amp;rpt=simage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2&amp;ed=1&amp;text=&#1052;&#1091;&#1079;&#1099;&#1082;&#1072;%20&#1076;&#1088;&#1077;&#1074;&#1085;&#1077;&#1081;%20&#1056;&#1091;&#1089;&#1080;%20&amp;spsite=goodmhk.narod.ru&amp;img_url=goodmhk.narod.ru/skomorohi003.jpg&amp;rpt=simage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37&amp;ed=1&amp;text=&#1052;&#1091;&#1079;&#1099;&#1082;&#1072;%20&#1085;&#1072;%20&#1056;&#1091;&#1089;&#1080;%20&amp;spsite=www.ladogasport.ru&amp;img_url=www.webknow.ru/fizkultura/00878/text.files/image020.jpg&amp;rpt=simag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yandex.ru/yandsearch?p=47&amp;ed=1&amp;text=&#1052;&#1091;&#1079;&#1099;&#1082;&#1072;%20&#1085;&#1072;%20&#1056;&#1091;&#1089;&#1080;%20&amp;spsite=www.eventportal.com.ua&amp;img_url=cards.i.gala.net/data/imgs/29/29.jpg&amp;rpt=simage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2.jpeg"/><Relationship Id="rId8" Type="http://schemas.openxmlformats.org/officeDocument/2006/relationships/hyperlink" Target="http://images.yandex.ru/yandsearch?p=346&amp;ed=1&amp;text=&#1052;&#1091;&#1079;&#1099;&#1082;&#1072;%20&#1085;&#1072;%20&#1056;&#1091;&#1089;&#1080;%20&amp;spsite=www.vida.ru&amp;img_url=www.vida.ru/blob/Event/photo/74392.jpg&amp;rpt=simage" TargetMode="External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hyperlink" Target="http://images.yandex.ru/yandsearch?p=218&amp;ed=1&amp;text=&#1052;&#1091;&#1079;&#1099;&#1082;&#1072;%20&#1085;&#1072;%20&#1056;&#1091;&#1089;&#1080;%20&amp;spsite=www.svadba-nk.ru&amp;img_url=molodojeny.narod.ru/08-venchanie/08-01.jpg&amp;rpt=simage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6147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Музыка Древней Рус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Picture 5" descr="Картинка 11 из 35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268280"/>
            <a:ext cx="5975640" cy="4429080"/>
          </a:xfrm>
          <a:prstGeom prst="rect">
            <a:avLst/>
          </a:prstGeom>
          <a:ln w="38160">
            <a:solidFill>
              <a:srgbClr val="d5b781"/>
            </a:solidFill>
            <a:miter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78920" y="404640"/>
            <a:ext cx="738684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1342f"/>
                </a:solidFill>
                <a:latin typeface="Arial"/>
              </a:rPr>
              <a:t>Трудовые песни и припев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бъединяли единым ритмом работу многих людей, делали её размеренной, точной и дружной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i-main-pic" descr="Картинка 355 из 1550"/>
          <p:cNvPicPr/>
          <p:nvPr/>
        </p:nvPicPr>
        <p:blipFill>
          <a:blip r:embed="rId2"/>
          <a:stretch/>
        </p:blipFill>
        <p:spPr>
          <a:xfrm>
            <a:off x="1042920" y="2487600"/>
            <a:ext cx="5619960" cy="39258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Выв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 достигла своей цел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Рисунок 3" descr="http://im5-tub.yandex.net/i?id=31518943&amp;tov=5"/>
          <p:cNvPicPr/>
          <p:nvPr/>
        </p:nvPicPr>
        <p:blipFill>
          <a:blip r:embed="rId2"/>
          <a:stretch/>
        </p:blipFill>
        <p:spPr>
          <a:xfrm>
            <a:off x="3492360" y="3429000"/>
            <a:ext cx="3568680" cy="2687760"/>
          </a:xfrm>
          <a:prstGeom prst="rect">
            <a:avLst/>
          </a:prstGeom>
          <a:ln w="38160">
            <a:solidFill>
              <a:srgbClr val="2f1311"/>
            </a:solidFill>
            <a:miter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755640" y="3141720"/>
            <a:ext cx="595296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знать о музыки Древней Ру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Рисунок 4" descr="http://im4-tub.yandex.net/i?id=32489430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4292640"/>
            <a:ext cx="3846600" cy="215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брать информаци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делать проект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казать проект в класс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http://im7-tub.yandex.net/i?id=37439702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349360"/>
            <a:ext cx="2543040" cy="4083120"/>
          </a:xfrm>
          <a:prstGeom prst="rect">
            <a:avLst/>
          </a:prstGeom>
          <a:ln w="38160">
            <a:solidFill>
              <a:srgbClr val="2f1311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3" name=""/>
          <p:cNvSpPr txBox="1"/>
          <p:nvPr/>
        </p:nvSpPr>
        <p:spPr>
          <a:xfrm>
            <a:off x="156960" y="260280"/>
            <a:ext cx="77994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Русская музыка изначально была связана с культурой и бытом древних славян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Древние славяне были язычниками и поклонялись природе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Прямоугольник 1"/>
          <p:cNvSpPr/>
          <p:nvPr/>
        </p:nvSpPr>
        <p:spPr>
          <a:xfrm>
            <a:off x="2957400" y="1989000"/>
            <a:ext cx="47833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верования славян сопровождались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кличками</a:t>
            </a:r>
            <a:r>
              <a:rPr b="1" lang="ru-RU" sz="2400" spc="-1" strike="noStrike">
                <a:solidFill>
                  <a:srgbClr val="fceecb"/>
                </a:solidFill>
                <a:latin typeface="Arial"/>
              </a:rPr>
              <a:t> и </a:t>
            </a:r>
            <a:r>
              <a:rPr b="1" lang="ru-RU" sz="2400" spc="-1" strike="noStrike" u="sng">
                <a:solidFill>
                  <a:srgbClr val="fceecb"/>
                </a:solidFill>
                <a:uFillTx/>
                <a:latin typeface="Arial"/>
              </a:rPr>
              <a:t>заговорами</a:t>
            </a: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, пением, плясками, ведением хоровод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ceecb"/>
                </a:solidFill>
                <a:latin typeface="Arial"/>
              </a:rPr>
              <a:t>Все значительные события человеческой жизни сопровождались             обряд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79280" y="214200"/>
            <a:ext cx="7632720" cy="40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Красота народной песни открывается уже в старинных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ыбельных песнях</a:t>
            </a:r>
            <a:r>
              <a:rPr b="1" i="1" lang="en-US" sz="2000" spc="-1" strike="noStrike">
                <a:solidFill>
                  <a:srgbClr val="fceecb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(«байках»)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Они наполнены материнской любовью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За пением колыбельных песен наступал черёд тешить ребенка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естушками и потешками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(от слова «пестовать» - нянчить, холить, ходить за кем-нибудь). Это короткие стихотворные приговоры, которыми сопровождают движения ребенка в первые месяцы жизн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ям в первые годы жизни пе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маленькие сказочки в стихах, а также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прибаутки-перевертыш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Детей обучали не мириться с ложью и несообразностям.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Рисунок 3" descr="http://im0-tub.yandex.net/i?id=34407981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1873080" cy="269424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4" descr="http://im5-tub.yandex.net/i?id=602645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1480" y="620640"/>
            <a:ext cx="2679840" cy="2157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178920" y="2997360"/>
            <a:ext cx="7488360" cy="35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Взрослея, ребенок на улице выучивался </a:t>
            </a:r>
            <a:r>
              <a:rPr b="1" i="1" lang="ru-RU" sz="2800" spc="-1" strike="noStrike">
                <a:solidFill>
                  <a:srgbClr val="fceecb"/>
                </a:solidFill>
                <a:latin typeface="Arial"/>
              </a:rPr>
              <a:t>закличкам и приговоркам</a:t>
            </a: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eecb"/>
                </a:solidFill>
                <a:latin typeface="Arial"/>
              </a:rPr>
              <a:t>Закличка — это обращение к солнцу, радуге, дождю, птицам, а приговорка—обращение к животным, передразнивание птиц. В отличие от заклички приговорка исполняется не хором, а каждым отдельн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Рисунок 3" descr="http://im5-tub.yandex.net/i?id=2020369&amp;tov=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5480" y="620640"/>
            <a:ext cx="3286080" cy="207180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-360" y="1428840"/>
            <a:ext cx="766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зрослой жизни человека сопровождали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алендарные песн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— их пели в определенные дни года, по праздникам. Это песня, исполнение которой в другое время, вне праздничного обычая, было  бы лишено всякого смысла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о время святок пели величальные песн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колядки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На масленицу, самый веселый праздник, песни поясняли праздничные обряды—как масленицу встречали, как её провожали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наступление марта закликали Весну особыми песенными закличками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веснянками. 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В Егорьев день выгоняли коров в поле и пели песенное заклинание—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оберег</a:t>
            </a: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. В майские дни чествовали деревья и цветы. Когда наступала жатва, не было времени праздновать и петь, но с окончанием ее звучали особые песни—о работе жней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С календарными песнями по-своему связаны </a:t>
            </a:r>
            <a:r>
              <a:rPr b="1" i="1" lang="ru-RU" sz="2000" spc="-1" strike="noStrike">
                <a:solidFill>
                  <a:srgbClr val="fceecb"/>
                </a:solidFill>
                <a:latin typeface="Arial"/>
              </a:rPr>
              <a:t>хороводные, игровые и плясовые песн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ceecb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http://im7-tub.yandex.net/i?id=61238337&amp;tov=7"/>
          <p:cNvPicPr/>
          <p:nvPr/>
        </p:nvPicPr>
        <p:blipFill>
          <a:blip r:embed="rId7"/>
          <a:stretch/>
        </p:blipFill>
        <p:spPr>
          <a:xfrm>
            <a:off x="0" y="0"/>
            <a:ext cx="2352600" cy="14288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http://im2-tub.yandex.net/i?id=38684699&amp;tov=2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508720" y="5373720"/>
            <a:ext cx="1996920" cy="141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3141360"/>
            <a:ext cx="781200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дна из богатейших областей музыкального фольклора—</a:t>
            </a:r>
            <a:r>
              <a:rPr b="1" i="1" lang="ru-RU" sz="3200" spc="-1" strike="noStrike">
                <a:solidFill>
                  <a:srgbClr val="fceecb"/>
                </a:solidFill>
                <a:latin typeface="Arial"/>
              </a:rPr>
              <a:t>свадебные песни. </a:t>
            </a:r>
            <a:r>
              <a:rPr b="0" lang="ru-RU" sz="3200" spc="-1" strike="noStrike">
                <a:solidFill>
                  <a:srgbClr val="fceecb"/>
                </a:solidFill>
                <a:latin typeface="Arial"/>
              </a:rPr>
              <a:t>Они исполнялись по ходу действия «свадебной игры». Исполнялось большое количество песен : лирических, величальных, шуточных, причитания-плач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Рисунок 3" descr="http://im2-tub.yandex.net/i?id=20549006&amp;tov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0"/>
            <a:ext cx="3857760" cy="3033720"/>
          </a:xfrm>
          <a:prstGeom prst="rect">
            <a:avLst/>
          </a:prstGeom>
          <a:ln w="0">
            <a:noFill/>
          </a:ln>
        </p:spPr>
      </p:pic>
      <p:pic>
        <p:nvPicPr>
          <p:cNvPr id="229" name="i-tmb-0x" descr="http://im2-tub.yandex.net/i?id=75616356&amp;tov=2"/>
          <p:cNvPicPr/>
          <p:nvPr/>
        </p:nvPicPr>
        <p:blipFill>
          <a:blip r:embed="rId5"/>
          <a:stretch/>
        </p:blipFill>
        <p:spPr>
          <a:xfrm>
            <a:off x="0" y="0"/>
            <a:ext cx="21589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2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5:45:52Z</dcterms:created>
  <dc:creator>Valued Acer Customer</dc:creator>
  <dc:description/>
  <dc:language>en-US</dc:language>
  <cp:lastModifiedBy>LEGION</cp:lastModifiedBy>
  <dcterms:modified xsi:type="dcterms:W3CDTF">2015-04-02T07:21:37Z</dcterms:modified>
  <cp:revision>15</cp:revision>
  <dc:subject/>
  <dc:title>Музыка Древней Руси</dc:title>
</cp:coreProperties>
</file>