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E02F-1269-47DD-936B-C2E74700F59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 эпох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лассицизма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обзорная ле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F8F3-0A50-4117-8596-99B1B28C88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творчества Й.Гайд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 в. обнаружилось, что Гайдна нельзя считать, как полагали ранее, отцом симфонии. Полные симфонические циклы, включавшие менуэт, создавались уже в 1740-е годы. Заслуга Гайдна –в подытоживании и совершенствовании того, что было сделано его предшественн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йдна можно назвать отцом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струнного квар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бладающего следующими типическими признак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став – две скрипки, альт и виолонче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четырехчастность (аллегро в сонатной форме, медленная часть, менуэт и фина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рондо-сона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которой принципы сонаты (экспозиция, разработка, реприза) сливаются с принципами рондо (А–В–С–А или А–В–А–С–А–В–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ей трактовке деревянных и медных духовых Гайдн с первых же шагов обнаруживает врожденное чувство колорита; даже в весьма скромных по составу партитурах композитор демонстрирует безошибочное чутье в выборе оркестровых тембров. Написанные с помощью весьма ограниченных средств, симфонии Гайдна, по выражению Римского-Корсакова, оркестрованы так хорошо, как никакая иная музыка Запад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ьдесят лет творческой жизни Гайдна заполнили глубочайшую стилистическую пропасть – между Бахом и Бетховеном. В 19 в. все внимание было сосредоточено на Бахе и Бетховене, и при этом забывали того гиганта, который сумел перекинуть мост между этими двумя ми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C4E3-B2A6-4BA2-88AB-02E1CE4DA0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льфган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мадей Моца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устя 250 лет после рождения Моцарта трудно создать отчетливое представление о его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-видимому, в натуре Моцарта парадоксально сочетались самые противоположные каче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одушие и склонность к едкому сарказм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ячливость и житейская искуше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ость и склонность к глубокой меланхолии – вплоть до патологическ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умие (он безжалостно передразнивал окружающих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нравственность (хотя он не слишком жаловал церковь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изм, реалистический взгляд на жиз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тени самолюбия он восторженно говорил о тех, кем восхищался, например о Гайдне, зато был беспощаден к тем, кого считал дилетан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однажды написал ем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«У тебя сплошные крайности, ты не знаешь золотой середины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авив, что Вольфганг либо слишком терпелив, слишком ленив, слишком снисходителен, либо – временами – слишком строптив и беспокоен, слишком торопит ход событий вместо того, чтобы предоставить им идти своим чередом. И по прошествии столетий личность его представляется нам подвижной и неуловимой, как рт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9935-3ED8-4EDA-A3CE-5EAF647284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найти другого композитора, который бы с таким блеском, как Моцарт, владел самыми разнообразными жанрами и формами: это относится к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симфо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онцерту, дивертисмент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вартету, опе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мессе, сонат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три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царт не был новатором, как Гайдн, но у него встречаются смелые прорывы в области обновления гармонического языка (например, известная Маленькая жига соль мажор, К. 574 для фортепиано – весьма показательный образец, напоминающий о современной 12-тоновой технике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кестровое письмо Моцарта не столь поразительно ново, как письмо Гайдна, но безупречность и совершенство моцартовского оркестра – постоянный предмет восхищения как музыкантов, так и профанов, которые, говоря словами самого композитора, «наслаждаются, не давая себе отчета, чем именно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C153-FC2B-4FBC-B3B8-0BD26F88AA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. А. Моц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Моцарта сформировался на зальцбургской почве (где было сильно влияние Михаэля Гайдна, брата Йозефа), глубокое и продолжительное воздействие оказали на него впечатления от многочисленных путешествий, совершенных в детстве. Позже большую роль сыграла Италия (где Моцарт побывал трижды): там он воспринял основы драматургии и музыкального языка оперного жанр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затем Моцарт стал близким другом и почитателем Й.Гайдна и был покорен гайдновской глубоко осмысленной трактовкой сонатной фор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ообще в венский период Моцарт создал собственный, исключительно самобытный стил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олько в 20 в. было до конца осознано удивительное эмоциональное богатство моцартовского искусства и его внутренняя трагичность, близко соседствующая с внешней безмятежностью, солнечностью мажорных фрагментов его музы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ылые времена только Бах и Бетховен рассматривались как главные столпы западноевропейской музыки, ныне же многие музыканты и любители музыки считают, что это искусство нашло свое самое совершенное выражение в творениях Моц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BE0E-A60B-4B66-8592-3864D6DBC2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Calibri"/>
              </a:rPr>
              <a:t>Занимательно: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царт, как известно, был вундеркиндом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тыре года малыш написал свой первый концерт для клавира, причем такой сложный, что вряд ли кто-либо из европейских виртуозов мог бы его исполнит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любящий отец отнял у малыша неоконченную нотную запись, он изумленно воскликнул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о этот концерт так труден, что его никто не сможет сыграть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ие глупости, папа! - возразил Моцарт,- его может сыграть даже ребенок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7041-05D1-4444-A76F-1BDF3210D1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виг Ван Бетхов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70–18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ий композитор, которого нередко считают величайшим творцом всех врем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творчество относят как к классицизму, так и к романтиз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я Бетховена - прежде всего выражение его гениально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92D9-7E27-4C02-9332-27B6B51E7C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ховен продолжил общую линию развития жанров симфонии, сонаты, квартета, намеченную его предшественника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его трактовка известных форм и жанров отличалась большой свободой; можно сказать, что Бетховен раздвинул их рамки во времени и в пространств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артитуры требуют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большего числа исполнителей в каждой парт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невероятного в его эпоху исполнительского мастерства каждого оркестрант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Бетховен очень чувствителен к индивидуальной выразительности каждого инструментального тембр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тепиано в его сочинениях – не близкий родственник изящного клавесина: используются весь расширенный диапазон инструмента, все его динамические возможнос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9C17-F0A4-42AB-80DE-8FDBA96641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личие от своего предшественника Моцарта, Бетховен сочинял с трудом. Записные книжки Бетховена показывают, как постепенно, шаг за шагом из неуверенных набросков возникает грандиозная композиция, отмеченная убедительной логикой построения и редкой красото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логика – главный источник бетховенского величия, его несравненного умения организовать контрастные элементы в монолитное цело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ховен стирает традиционные цезуры между разделами формы, избегает симметрии, сливает части цикла, развивает протяженные построения из тематических и ритмических мотивов, на первый взгляд не содержащих в себе ничего интересног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аче говоря, Бетховен творит музыкальное пространство силой ума, собственной воле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едвосхищал и создавал те художественные направления, которые стали определяющими для музыкального искусства 19 в. И сегодня его произведения входят в число величайших, наиболее почитаемых творений человеческого г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90DE-7D38-4572-9BF6-4AD8582053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Классиц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лассицизм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ль и направление в искусстве XVII - начала XIX в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о это произошло от латинского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classicus - образцовы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основе классицизма лежало убеждение в разумности бытия, в том, что человеческая натура гармонична. Свой идеал классики видели в античном искусстве, которое считали высшей формой соверше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5B3E-024E-4577-B255-E04E4A3C36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восемнадцатом столетии начинается новый этап развития общественного сознания – </a:t>
            </a:r>
            <a:r>
              <a:rPr b="1" i="1" lang="ru-RU" sz="1200" spc="-1" strike="noStrike">
                <a:solidFill>
                  <a:srgbClr val="eeece1"/>
                </a:solidFill>
                <a:latin typeface="Calibri"/>
              </a:rPr>
              <a:t>Эпоха Просвещен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Разрушается старый общественный порядок; первостепенное значение приобретают идеи уважения человеческого достоинства, свободы и счастья; личность обретает независимость и зрелость, использует свой разум и критическое мышление. На смену идеалам эпохи Барокко с ее пышностью, высокопарностью и торжественностью приходит новый стиль жизни, основанный на естественности и простоте. Наступает время идеалистических взглядов Жан-Жака Руссо, призывающего вернуться к природе, к естественной добродетели и свободе. Наряду с природой идеализируется Античность, поскольку считалось, что именно во времена Античности людям удалось воплотить все человеческие устремления. Античное искусство получает название классического, его признают образцовым, наиболее правдивым, совершенным, гармоничным и, в отличие от искусства эпохи Барокко, считают простым и понятным. В центре внимания, наряду с другими важными аспектами, находятся образование, положение простого народа в общественном устройстве, гениальность как свойство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8022-2FDA-4FF4-BEB9-3D896C25F1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ени Дидр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ум царит и в искусстве. Желая подчеркнуть высокое назначение искусства, его общественную и гражданскую роль, французский философ-просветитель Дени Дидро писал: </a:t>
            </a:r>
            <a:r>
              <a:rPr b="0" i="1" lang="ru-RU" sz="1200" spc="-1" strike="noStrike">
                <a:solidFill>
                  <a:srgbClr val="eeece1"/>
                </a:solidFill>
                <a:latin typeface="Calibri"/>
              </a:rPr>
              <a:t>"Каждое произведение ваяния или живописи должно выражать собой какое-либо великое правило жизни, должно поучать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еатр одновременно был учебником жизни, и самой жизнью. Кроме того, в театре действие в высшей степени упорядочено, размеренно; оно разделено на акты и сцены, те, в свою очередь, расчленена на отдельные реплики персонажей, создавая столь дорогой 18 веку идеал искусства, где всё находится на своём месте и подчинено логическим зак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8B8E-FA7E-4824-9896-9B4BABDF38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зыка классицизма чрезвычайно театральна, она как будто копирует искусство театра, подражает 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деление классической сонаты и симфонии на крупные разделы - части, в каждой из которых происходит много музыкальных "событий", подобно делению спектакля на действия и сц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узыке классического века часто подразумевается сюжет, некое действие, которое развёртывается перед слушателями так же, как действие театральное развёртывается перед зрите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шателю только остаётся включить воображение и узнать в "музыкальной одежде" персонажей классической комедии или траге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сство театра помогает объяснить и большие перемены в исполнении музыки, которые совершились в 18 веке. Раньше, главным местом, где звучала музыка, был храм: в нём человек находился внизу, в огромном пространстве, где музыка как будто помогала ему взглянуть ввысь и посвятить свои мысли Богу. Теперь, в 18 веке, музыка звучит в аристократическом салоне, в бальном зале дворянской усадьбы или на городской площади. Слушатель века Просвещения как будто обращается с музыкой "на ты" и не испытывает больше восторг и робость, которые она ему внушала, когда она звучала в хра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узыке уже нет мощного, торжественного звука органа, уменьшилась роль хора. Музыка классического стиля звучит легко, в ней гораздо меньше звуков, как будто она "меньше весит", чем грузная, многослойная музыка прошлого. Звучание органа и хора сменилось звучанием симфонического оркестра; возвышенные арии уступили место музыке лёгкой, ритмичной и танцева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BEF0-182F-42C9-B8BD-E85D364055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ый век выдвинул новый идеал - им стал Фигаро, "севильский цирюльник". Этот парикмахер, хитрец и пройдоха, всегда знал, как одурачить господина и добиться своего, и не позволял никому, даже вельможному графу, унижать своё достоинство. Но не только деятель и практик Фигаро занимает мыслящую публику 18 века; на роль идеала претендует и доктор Фауст- учёный, философ, который в поисках истины продал душу дьяволу - Мефистофелю. Фауст понял, что нет ничего прекраснее, чем труд, результаты которого останутся будущим поколениям, и нет такой жертвы, которую нельзя было бы принести ради общего блага. "Лишь тот достоин жизни и свободы, кто каждый день идёт за них на бой!" - эти слова Фауста повторили бы многие его современ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ауст и Фигаро прекрасно соответствовали времени, поскольку в этих персонажах люди видели символ неразрывности мысли и действия: чтобы добиться успеха, оба они старались понять, зачем действовать, какие цели ставить перед собой, и, наконец, составив продуманный план, приступали к исполнению. Людям эпохи классицизма хотелось узнать, по каким законам живёт природа, общество, каждый человек, и, вооружившись знанием, сделать жизнь достойной и счастливой. Благодаря беспредельной вере в возможности человеческого разума и силу знания 18 век стали называть веком Разума или веком Просве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7A8D-AC79-45D8-947B-16124D9257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асцвет Классицизма наступает в 80-х годах восемнадцатого столетия. В 1781 году Й. Гайдн создает несколько новаторских произведений, среди которых его Струнный Квартет ор. 33; проходит премьера оперы В.А. Моцарта «Похищение из сераля»; выходят в свет драма Ф. Шиллера «Разбойники» и «Критика чистого разума» И. Ка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Ярчайшими представителями классического периода являются композиторы Венской Классической Школы Йозеф Гайдн, Вольфганг Амадей Моцарт и Людвиг ван Бетховен. Их искусство восхищает совершенством композиторской техники, гуманистической направленностью творчества и стремлением, особенно ощутимым в музыке В. А. Моцарта, отобразить средствами музыки совершенную красо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амо понятие Венской Классической Школы возникло вскоре после смерти Л. Бетховена. Классическое искусство отличает тонкое равновесие между чувствами и рассудком, формой и содержанием. Музыка Возрождения отражала дух и дыхание своей эпохи; в эпоху Барокко предметом отображения в музыке стали состояния человека; музыка эпохи Классицизма воспевает действия и поступки человека, испытываемые им эмоции и чувства, внимательный и целостный человеческий разу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B8A5-4FA8-4A5F-A323-B57C7D4ADB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Йозеф Гайд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(1732–1809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стрийский композитор, один из величайших классиков музыкального искус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поминая о своем детстве, Гайдн писал в 1776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«Мой отец... был горячим любителем музыки и играл на арфе, совершенно не зная нот. Пятилетним ребенком я абсолютно точно мог спеть его простые мелодии, и это побудило отца поручить меня заботам нашего родственника, ректора школы в Хайнбурге, дабы я изучил первоосновы музыки и другие необходимые для юношества науки... Когда мне исполнилось семь лет, ныне покойный капельмейстер фон Ройтер, проезжая через Хайнбург, случайно услышал мой слабый, но приятный голос. Он взял меня с собой и определил в капеллу [собора cв. Стефана в Вене], где, продолжая образование, я учился пению, игре на клавесине и скрипке, причем у очень хороших учителей. До восемнадцати лет я с большим успехом исполнял сопрановые партии, и не только в соборе, но и при дворе. Потом у меня пропал голос, и мне пришлось целых восемь лет влачить жалкое существование... Я сочинял преимущественно по ночам, не зная, имею ли я какой-либо дар к композиции или нет, и записывал свою музыку усердно, но не совсем правильно. Так продолжалось до тех пор, пока мне не выпало счастье изучать подлинные основы искусства у господина Порпоры, который жил тогда в Ве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4ED2-7C32-4AF9-B039-7B7F8CCF08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Гайд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Гайдна органически связан с почвой, на которой он вырос, – с Веной, великой австрийской столиц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ский композитор середины 18 в. имел в своем распоряжении несколько разных стиле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од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«строгий», предназначавшийся для месс и прочей церковной музыки: в нем по-прежнему главная роль принадлежала полифоническому письм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то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перный: в нем итальянская манера преобладала вплоть до времен Моцар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трет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для «уличной музыки», представленной жанром кассаций, часто для двух валторн и струнных или для духового ансамб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ав в этот пестрый мир, Гайдн быстро создал собственный стиль, притом единый для всех жанров, будь то месса или кантата, уличная серенада или клавирная соната, квартет или симфо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93FC-7445-4C06-94A1-13DB264B22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B8DC-A30F-425B-AF41-EAD398B0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F15C-6E79-4856-ACCB-6EE2F983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6CB6-82C9-418D-A3BD-16879FC2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92F-C2EC-4541-A96F-14C0402F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EA6E-7C4E-4806-8CF4-3BBC7146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DD7-F3CA-4FF3-9BE8-BE0867E4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58F-5312-42A1-8FB4-F3CD0C52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61CF-7902-4977-A187-AF16C621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B16F-8DB8-4E04-81D4-953E19AC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251D-B7A9-413B-ABDA-B0F3562E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3064-5BDA-4AB1-9B31-D5C85199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68F8-69B0-43AA-ACCF-64D7400E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2357-0F19-4F1F-922A-14271318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E34F-3039-4420-80EE-40EEBAFB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C9C3-4227-4EAF-A631-AFB7AAEE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55E8-3900-4CEC-8AF3-28AC4E75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389F-1B59-421E-93DB-D8487006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2529-1975-4BF5-B81E-BB833B44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98A3-F9A7-4C2F-B76E-EC7A07FD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9687-77F8-42DB-81B4-7B62678E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A36D-21BD-4BC2-A668-2D02DB39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A04F-DEC8-4627-925B-74B17C78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90C2-8238-4A33-84B5-2E7AA9F0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0890-C0AB-4E45-B500-8788055E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Orange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2821-798D-454B-9065-E922D1DC3DA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Orange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9CE1-2C6A-4152-9A66-3B792DFFFBF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267920"/>
            <a:ext cx="702468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узыка эпохи</a:t>
            </a: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Классицизма</a:t>
            </a: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(обзорная лекция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495680" y="6054840"/>
            <a:ext cx="335304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69580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Значение творчества Й.Гайдна.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20 в. обнаружилось, что Гайдна нельзя считать, как полагали ранее, отцом симфонии. Полные симфонические циклы, включавшие менуэт, создавались уже в 1740-е годы. Заслуга Гайдна –в подытоживании и совершенствовании того, что было сделано его предшественни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йдна можно назвать отцом </a:t>
            </a: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струнного квар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бладающего следующими типическими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состав – две скрипки, альт и виолончел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четырехчастность (аллегро в сонатной форме, медленная часть, менуэт и фин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рондо-сона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которой принципы сонаты (экспозиция, разработка, реприза) сливаются с принципами рондо (А–В–С–А или А–В–А–С–А–В–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оей трактовке деревянных и медных духовых Гайдн с первых же шагов обнаруживает врожденное чувство колорита; даже в весьма скромных по составу партитурах композитор демонстрирует безошибочное чутье в выборе оркестровых тембров. Написанные с помощью весьма ограниченных средств, симфонии Гайдна, по выражению Римского-Корсакова, оркестрованы так хорошо, как никакая иная музыка Западной Евр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ьдесят лет творческой жизни Гайдна заполнили глубочайшую стилистическую пропасть – между Бахом и Бетховеном. В 19 в. все внимание было сосредоточено на Бахе и Бетховене, и при этом забывали того гиганта, который сумел перекинуть мост между этими двумя ми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Вольфганг</a:t>
            </a:r>
            <a:br>
              <a:rPr sz="3400"/>
            </a:b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Амадей Моцарт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пустя 250 лет после рождения Моцарта трудно создать отчетливое представление о его личност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-видимому, в натуре Моцарта парадоксально сочетались самые противоположные качества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еликодушие и склонность к едкому сарказму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бячливость и житейская искушенность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еселость и склонность к глубокой меланхолии – вплоть до патологической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строумие (он безжалостно передразнивал окружающих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сокая нравственность (хотя он не слишком жаловал церковь)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ационализм, реалистический взгляд на жизнь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ез тени самолюбия он восторженно говорил о тех, кем восхищался, например о Гайдне, зато был беспощаден к тем, кого считал дилетант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тец однажды написал ему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f5f5f"/>
                </a:solidFill>
                <a:latin typeface="Arial"/>
              </a:rPr>
              <a:t>«У тебя сплошные крайности, ты не знаешь золотой середины»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бавив, что Вольфганг либо слишком терпелив, слишком ленив, слишком снисходителен, либо – временами – слишком строптив и беспокоен, слишком торопит ход событий вместо того, чтобы предоставить им идти своим чередом. И по прошествии столетий личность его представляется нам подвижной и неуловимой, как рту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123572289885cd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7272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95640" y="1557000"/>
            <a:ext cx="468000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Невозможно найти другого композитора, который бы с таким блеском, как Моцарт, владел самыми разнообразными жанрами и формами: это относится к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симфонии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концерту, дивертисменту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квартету, опере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мессе, сонате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трио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Моцарт не был новатором, как Гайдн, но у него встречаются смелые прорывы в области обновления гармонического языка (например, известная Маленькая жига соль мажор, К. 574 для фортепиано – весьма показательный образец, напоминающий о современной 12-тоновой технике)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ркестровое письмо Моцарта не столь поразительно ново, как письмо Гайдна, но безупречность и совершенство моцартовского оркестра – постоянный предмет восхищения как музыкантов, так и профанов, которые, говоря словами самого композитора, «наслаждаются, не давая себе отчета, чем именно». </a:t>
            </a:r>
            <a:br>
              <a:rPr sz="1500"/>
            </a:b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123572289711a5"/>
          <p:cNvPicPr/>
          <p:nvPr/>
        </p:nvPicPr>
        <p:blipFill>
          <a:blip r:embed="rId1"/>
          <a:stretch/>
        </p:blipFill>
        <p:spPr>
          <a:xfrm>
            <a:off x="611280" y="1628640"/>
            <a:ext cx="3200400" cy="40006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298764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1341360"/>
            <a:ext cx="7705800" cy="24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Стиль Моцарта сформировался на зальцбургской почве (где было сильно влияние Михаэля Гайдна, брата Йозефа), глубокое и продолжительное воздействие оказали на него впечатления от многочисленных путешествий, совершенных в детстве. Позже большую роль сыграла Италия (где Моцарт побывал трижды): там он воспринял основы драматургии и музыкального языка оперного жанра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А затем Моцарт стал близким другом и почитателем Й.Гайдна и был покорен гайдновской глубоко осмысленной трактовкой сонатной формы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Но вообще в венский период Моцарт создал собственный, исключительно самобытный стиль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И только в 20 в. было до конца осознано удивительное эмоциональное богатство моцартовского искусства и его внутренняя трагичность, близко соседствующая с внешней безмятежностью, солнечностью мажорных фрагментов его музыки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В былые времена только Бах и Бетховен рассматривались как главные столпы западноевропейской музыки, ныне же многие музыканты и любители музыки считают, что это искусство нашло свое самое совершенное выражение в творениях Моцарта.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920" y="1557000"/>
            <a:ext cx="7344000" cy="25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f5f5f"/>
                </a:solidFill>
                <a:latin typeface="Garamond"/>
              </a:rPr>
              <a:t>Занимательно:</a:t>
            </a:r>
            <a:br>
              <a:rPr sz="29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Моцарт, как известно, был вундеркиндом: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в четыре года малыш написал свой первый концерт для клавира, причем такой сложный, что вряд ли кто-либо из европейских виртуозов мог бы его исполнить.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Когда любящий отец отнял у малыша неоконченную нотную запись, он изумленно воскликнул: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- Но этот концерт так труден, что его никто не сможет сыграть!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- Какие глупости, папа! - возразил Моцарт,- его может сыграть даже ребенок.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Например я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00000" y="1267920"/>
            <a:ext cx="7623360" cy="8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Людвиг Ван Бетховен</a:t>
            </a:r>
            <a:br>
              <a:rPr sz="5000"/>
            </a:b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(1770–1827)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4208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ецкий композитор, которого нередко считают величайшим творцом всех врем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творчество относят как к классицизму, так и к романтиз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ения Бетховена - прежде всего выражение его гениальной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1235722647d751"/>
          <p:cNvPicPr/>
          <p:nvPr/>
        </p:nvPicPr>
        <p:blipFill>
          <a:blip r:embed="rId1"/>
          <a:stretch/>
        </p:blipFill>
        <p:spPr>
          <a:xfrm>
            <a:off x="5985000" y="2133720"/>
            <a:ext cx="2901960" cy="367164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6920" y="1844640"/>
            <a:ext cx="648036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Бетховен продолжил общую линию развития жанров симфонии, сонаты, квартета, намеченную его предшественниками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днако его трактовка известных форм и жанров отличалась большой свободой; можно сказать, что Бетховен раздвинул их рамки во времени и в пространстве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Его партитуры требуют,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о-первых, большего числа исполнителей в каждой партии,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о-вторых, невероятного в его эпоху исполнительского мастерства каждого оркестранта.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Кроме того, Бетховен очень чувствителен к индивидуальной выразительности каждого инструментального тембра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Фортепиано в его сочинениях – не близкий родственник изящного клавесина: используются весь расширенный диапазон инструмента, все его динамические возможности.</a:t>
            </a:r>
            <a:br>
              <a:rPr sz="1500"/>
            </a:b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360" y="6453360"/>
            <a:ext cx="77752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480680" y="549360"/>
            <a:ext cx="533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Людвиг Ван Бетхове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560" y="1989000"/>
            <a:ext cx="741708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 отличие от своего предшественника Моцарта, Бетховен сочинял с трудом. Записные книжки Бетховена показывают, как постепенно, шаг за шагом из неуверенных набросков возникает грандиозная композиция, отмеченная убедительной логикой построения и редкой красотой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Именно логика – главный источник бетховенского величия, его несравненного умения организовать контрастные элементы в монолитное целое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Бетховен стирает традиционные цезуры между разделами формы, избегает симметрии, сливает части цикла, развивает протяженные построения из тематических и ритмических мотивов, на первый взгляд не содержащих в себе ничего интересного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Иначе говоря, Бетховен творит музыкальное пространство силой ума, собственной волей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н предвосхищал и создавал те художественные направления, которые стали определяющими для музыкального искусства 19 в. И сегодня его произведения входят в число величайших, наиболее почитаемых творений человеческого гения.</a:t>
            </a: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119600" y="404640"/>
            <a:ext cx="539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Людвиг </a:t>
            </a:r>
            <a:r>
              <a:rPr b="0" lang="ru-RU" sz="9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Ван </a:t>
            </a:r>
            <a:r>
              <a:rPr b="0" lang="ru-RU" sz="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Бетхове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900000" y="1341360"/>
            <a:ext cx="79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лассициз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ль и направление в искусстве XVII - начала XIX в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во это произошло от латинского </a:t>
            </a:r>
            <a:r>
              <a:rPr b="0" lang="ru-RU" sz="3200" spc="-1" strike="noStrike">
                <a:solidFill>
                  <a:srgbClr val="5f5f5f"/>
                </a:solidFill>
                <a:latin typeface="Times New Roman"/>
              </a:rPr>
              <a:t>classicus - образцовый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основе классицизма лежало убеждение в разумности бытия, в том, что человеческая натура гармонична. Свой идеал классики видели в античном искусстве, которое считали высшей формой соверше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900000" y="260280"/>
            <a:ext cx="554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3200" spc="-1" strike="noStrike">
                <a:solidFill>
                  <a:srgbClr val="006633"/>
                </a:solidFill>
                <a:latin typeface="Arial"/>
              </a:rPr>
              <a:t>Класс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619280" y="404640"/>
            <a:ext cx="705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В восемнадцатом столетии начинается новый этап развития общественного сознания – </a:t>
            </a:r>
            <a:r>
              <a:rPr b="1" i="1" lang="ru-RU" sz="1700" spc="-1" strike="noStrike">
                <a:solidFill>
                  <a:srgbClr val="5f5f5f"/>
                </a:solidFill>
                <a:latin typeface="Arial"/>
              </a:rPr>
              <a:t>Эпоха Просвещения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. Разрушается старый общественный порядок; первостепенное значение приобретают идеи уважения человеческого достоинства, свободы и счастья; личность обретает независимость и зрелость, использует свой разум и критическое мышление. На смену идеалам эпохи Барокко с ее пышностью, высокопарностью и торжественностью приходит новый стиль жизни, основанный на естественности и простоте. Наступает время идеалистических взглядов Жан-Жака Руссо, призывающего вернуться к природе, к естественной добродетели и свободе. Наряду с природой идеализируется Античность, поскольку считалось, что именно во времена Античности людям удалось воплотить все человеческие устремления. Античное искусство получает название классического, его признают образцовым, наиболее правдивым, совершенным, гармоничным и, в отличие от искусства эпохи Барокко, считают простым и понятным. В центре внимания, наряду с другими важными аспектами, находятся образование, положение простого народа в общественном устройстве, гениальность как свойство челове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1261050316"/>
          <p:cNvPicPr/>
          <p:nvPr/>
        </p:nvPicPr>
        <p:blipFill>
          <a:blip r:embed="rId1"/>
          <a:stretch/>
        </p:blipFill>
        <p:spPr>
          <a:xfrm>
            <a:off x="324000" y="2421000"/>
            <a:ext cx="1584000" cy="22320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302520" y="3719160"/>
            <a:ext cx="2735280" cy="2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Дени Дидро</a:t>
            </a:r>
            <a:endParaRPr b="0" lang="en-US" sz="1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00000" y="304560"/>
            <a:ext cx="5329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Разум царит и в искусстве. Желая подчеркнуть высокое назначение искусства, его общественную и гражданскую роль, французский философ-просветитель Дени Дидро писал: </a:t>
            </a:r>
            <a:r>
              <a:rPr b="0" i="1" lang="ru-RU" sz="2100" spc="-1" strike="noStrike">
                <a:solidFill>
                  <a:srgbClr val="5f5f5f"/>
                </a:solidFill>
                <a:latin typeface="Arial"/>
              </a:rPr>
              <a:t>"Каждое произведение ваяния или живописи должно выражать собой какое-либо великое правило жизни, должно поучать"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Театр одновременно был учебником жизни, и самой жизнью. Кроме того, в театре действие в высшей степени упорядочено, размеренно; оно разделено на акты и сцены, те, в свою очередь, расчленена на отдельные реплики персонажей, создавая столь дорогой 18 веку идеал искусства, где всё находится на своём месте и подчинено логическим закона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Дидро Дени"/>
          <p:cNvPicPr/>
          <p:nvPr/>
        </p:nvPicPr>
        <p:blipFill>
          <a:blip r:embed="rId1"/>
          <a:stretch/>
        </p:blipFill>
        <p:spPr>
          <a:xfrm>
            <a:off x="6156360" y="549360"/>
            <a:ext cx="2849400" cy="306864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250920" y="692280"/>
            <a:ext cx="64800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узыка классицизма чрезвычайно театральна, она как будто копирует искусство театра, подражает ем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деление классической сонаты и симфонии на крупные разделы - части, в каждой из которых происходит много музыкальных "событий", подобно делению спектакля на действия и сце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узыке классического века часто подразумевается сюжет, некое действие, которое развёртывается перед слушателями так же, как действие театральное развёртывается перед зрител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ушателю только остаётся включить воображение и узнать в "музыкальной одежде" персонажей классической комедии или трагед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кусство театра помогает объяснить и большие перемены в исполнении музыки, которые совершились в 18 веке. Раньше, главным местом, где звучала музыка, был храм: в нём человек находился внизу, в огромном пространстве, где музыка как будто помогала ему взглянуть ввысь и посвятить свои мысли Богу. Теперь, в 18 веке, музыка звучит в аристократическом салоне, в бальном зале дворянской усадьбы или на городской площади. Слушатель века Просвещения как будто обращается с музыкой "на ты" и не испытывает больше восторг и робость, которые она ему внушала, когда она звучала в храм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узыке уже нет мощного, торжественного звука органа, уменьшилась роль хора. Музыка классического стиля звучит легко, в ней гораздо меньше звуков, как будто она "меньше весит", чем грузная, многослойная музыка прошлого. Звучание органа и хора сменилось звучанием симфонического оркестра; возвышенные арии уступили место музыке лёгкой, ритмичной и танцеваль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faust"/>
          <p:cNvPicPr/>
          <p:nvPr/>
        </p:nvPicPr>
        <p:blipFill>
          <a:blip r:embed="rId1"/>
          <a:stretch/>
        </p:blipFill>
        <p:spPr>
          <a:xfrm>
            <a:off x="6659640" y="476280"/>
            <a:ext cx="2376360" cy="2492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755640" y="2781360"/>
            <a:ext cx="76327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вый век выдвинул новый идеал - им стал Фигаро, "севильский цирюльник". Этот парикмахер, хитрец и пройдоха, всегда знал, как одурачить господина и добиться своего, и не позволял никому, даже вельможному графу, унижать своё достоинство. Но не только деятель и практик Фигаро занимает мыслящую публику 18 века; на роль идеала претендует и доктор Фауст- учёный, философ, который в поисках истины продал душу дьяволу - Мефистофелю. Фауст понял, что нет ничего прекраснее, чем труд, результаты которого останутся будущим поколениям, и нет такой жертвы, которую нельзя было бы принести ради общего блага. "Лишь тот достоин жизни и свободы, кто каждый день идёт за них на бой!" - эти слова Фауста повторили бы многие его современни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ауст и Фигаро прекрасно соответствовали времени, поскольку в этих персонажах люди видели символ неразрывности мысли и действия: чтобы добиться успеха, оба они старались понять, зачем действовать, какие цели ставить перед собой, и, наконец, составив продуманный план, приступали к исполнению. Людям эпохи классицизма хотелось узнать, по каким законам живёт природа, общество, каждый человек, и, вооружившись знанием, сделать жизнь достойной и счастливой. Благодаря беспредельной вере в возможности человеческого разума и силу знания 18 век стали называть веком Разума или веком Просвещ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igaro"/>
          <p:cNvPicPr/>
          <p:nvPr/>
        </p:nvPicPr>
        <p:blipFill>
          <a:blip r:embed="rId1"/>
          <a:stretch/>
        </p:blipFill>
        <p:spPr>
          <a:xfrm>
            <a:off x="5796000" y="189000"/>
            <a:ext cx="2324160" cy="2535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faust2"/>
          <p:cNvPicPr/>
          <p:nvPr/>
        </p:nvPicPr>
        <p:blipFill>
          <a:blip r:embed="rId2"/>
          <a:stretch/>
        </p:blipFill>
        <p:spPr>
          <a:xfrm>
            <a:off x="755640" y="189000"/>
            <a:ext cx="3817800" cy="25448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324000" y="620640"/>
            <a:ext cx="8496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сцвет Классицизма наступает в 80-х годах восемнадцатого столетия. В 1781 году Й. Гайдн создает несколько новаторских произведений, среди которых его Струнный Квартет ор. 33; проходит премьера оперы В.А. Моцарта «Похищение из сераля»; выходят в свет драма Ф. Шиллера «Разбойники» и «Критика чистого разума» И. Ка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Ярчайшими представителями классического периода являются композиторы Венской Классической Школы Йозеф Гайдн, Вольфганг Амадей Моцарт и Людвиг ван Бетховен. Их искусство восхищает совершенством композиторской техники, гуманистической направленностью творчества и стремлением, особенно ощутимым в музыке В. А. Моцарта, отобразить средствами музыки совершенную красот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амо понятие Венской Классической Школы возникло вскоре после смерти Л. Бетховена. Классическое искусство отличает тонкое равновесие между чувствами и рассудком, формой и содержанием. Музыка Возрождения отражала дух и дыхание своей эпохи; в эпоху Барокко предметом отображения в музыке стали состояния человека; музыка эпохи Классицизма воспевает действия и поступки человека, испытываемые им эмоции и чувства, внимательный и целостный человеческий разу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260280"/>
            <a:ext cx="7020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Йозеф Гайд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732–18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Franz_Joseph_Haydn"/>
          <p:cNvPicPr/>
          <p:nvPr/>
        </p:nvPicPr>
        <p:blipFill>
          <a:blip r:embed="rId1"/>
          <a:stretch/>
        </p:blipFill>
        <p:spPr>
          <a:xfrm>
            <a:off x="6443640" y="115920"/>
            <a:ext cx="2476440" cy="30481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611280" y="1628640"/>
            <a:ext cx="62658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стрийский композитор, один из величайших классиков музыкального искусс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поминая о своем детстве, Гайдн писал в 1776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«Мой отец... был горячим любителем музыки и играл на арфе, совершенно не зная нот. Пятилетним ребенком я абсолютно точно мог спеть его простые мелодии, и это побудило отца поручить меня заботам нашего родственника, ректора школы в Хайнбурге, дабы я изучил первоосновы музыки и другие необходимые для юношества науки... Когда мне исполнилось семь лет, ныне покойный капельмейстер фон Ройтер, проезжая через Хайнбург, случайно услышал мой слабый, но приятный голос. Он взял меня с собой и определил в капеллу [собора cв. Стефана в Вене], где, продолжая образование, я учился пению, игре на клавесине и скрипке, причем у очень хороших учителей. До восемнадцати лет я с большим успехом исполнял сопрановые партии, и не только в соборе, но и при дворе. Потом у меня пропал голос, и мне пришлось целых восемь лет влачить жалкое существование... Я сочинял преимущественно по ночам, не зная, имею ли я какой-либо дар к композиции или нет, и записывал свою музыку усердно, но не совсем правильно. Так продолжалось до тех пор, пока мне не выпало счастье изучать подлинные основы искусства у господина Порпоры, который жил тогда в Вен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ворчество Гайд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8" name="Picture 4" descr="123563498380b8"/>
          <p:cNvPicPr/>
          <p:nvPr/>
        </p:nvPicPr>
        <p:blipFill>
          <a:blip r:embed="rId1"/>
          <a:stretch/>
        </p:blipFill>
        <p:spPr>
          <a:xfrm>
            <a:off x="395280" y="1125360"/>
            <a:ext cx="2160720" cy="20098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2556000" y="1413000"/>
            <a:ext cx="611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ль Гайдна органически связан с почвой, на которой он вырос, – с Веной, великой австрийской столиц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ский композитор середины 18 в. имел в своем распоряжении несколько разных стиле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од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«строгий», предназначавшийся для месс и прочей церковной музыки: в нем по-прежнему главная роль принадлежала полифоническому письм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втор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перный: в нем итальянская манера преобладала вплоть до времен Моцар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трети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для «уличной музыки», представленной жанром кассаций, часто для двух валторн и струнных или для духового ансамб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ав в этот пестрый мир, Гайдн быстро создал собственный стиль, притом единый для всех жанров, будь то месса или кантата, уличная серенада или клавирная соната, квартет или симфо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8:36:29Z</dcterms:created>
  <dc:creator>HOME</dc:creator>
  <dc:description/>
  <dc:language>en-US</dc:language>
  <cp:lastModifiedBy>LEGION</cp:lastModifiedBy>
  <dcterms:modified xsi:type="dcterms:W3CDTF">2015-04-02T07:22:41Z</dcterms:modified>
  <cp:revision>7</cp:revision>
  <dc:subject/>
  <dc:title>Музыка эпохи Классицизма (обзорная лекция)</dc:title>
</cp:coreProperties>
</file>