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8A0E-E7F6-4796-A776-4085BFD88D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эпох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ассицизм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бзорная л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5449-397F-458B-B42E-377922A1F7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творчества Й.Гай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дна можно назвать отцом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трунного квар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ладающего следующими типическ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 – две скрипки, альт и виолонче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тырехчастность (аллегро в сонатной форме, медленная часть, менуэт и фи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ондо-сон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F7DE-A55F-4379-BF1B-A1368E8AD3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фга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адей Моца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душие и склонность к едкому сарказм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чливость и житейская искуш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ость и склонность к глубокой меланхолии – вплоть до патологичес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мие (он безжалостно передразнивал окружающих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нравственность (хотя он не слишком жаловал церковь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м, реалистический взгляд на жиз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однажды написал 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«У тебя сплошные крайности, ты не знаешь золотой середин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7888-B702-4309-862C-847F13F526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имф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церту, дивертисмент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вартету, оп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ессе, сона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A142-01A0-4BF9-A8ED-1FE2271471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 А. Моц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ообще в венский период Моцарт создал собственный, исключительно самобытный сти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9AF7-8337-441A-998E-9F2411F326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Занимательно: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, как известно, был вундеркиндо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бящий отец отнял у малыша неоконченную нотную запись, он изумленно воскликнул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 этот концерт так труден, что его никто не сможет сыграть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глупости, папа! - возразил Моцарт,- его может сыграть даже ребено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38AF-A943-434C-A0FD-81DC23F02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70–18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композитор, которого нередко считают величайшим творцом всех врем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творчество относят как к классицизму, так и к романт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Бетховена - прежде всего выражение его гениальн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5CAE-37AD-45E9-9BD3-74944FE9E4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артитуры требую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большего числа исполнителей в каждой парт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вероятного в его эпоху исполнительского мастерства каждого оркестран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6BA8-DDC8-4A94-9B9E-1C4ACC2F13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че говоря, Бетховен творит музыкальное пространство силой ума, собственной во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53F2-1647-4AE8-97B4-573D245998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Классиц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classicus - образцовы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DA41-8DAC-4BCA-A472-2B315539EE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Эпоха Просвещен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CD9A-75A1-4CBF-AB16-D61E0A9A5E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ни Дидр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1200" spc="-1" strike="noStrike">
                <a:solidFill>
                  <a:srgbClr val="eeece1"/>
                </a:solidFill>
                <a:latin typeface="Calibri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976B-F9C8-4E7F-923A-84BD1A4387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97FE-783F-44C3-9C23-EF46D99AEF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3C2A-919A-4777-9B5D-C6D237BDB4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7B47-9617-4E15-B2D8-7C00DE4577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BE88-C592-457B-9532-25BC75A8A3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Гайд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ский композитор середины 18 в. имел в своем распоряжении несколько разных стил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ерный: в нем итальянская манера преобладала вплоть до времен Моцар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ет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1CD8-6BE3-4503-B723-9DF045F404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AC8-7914-4384-9D49-CCA7B1BB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36D-AB62-4D5E-8522-27A7A712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BE4-1310-48FE-B84F-7F5B9D82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675-775B-4071-86B5-F53F663B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106-BA37-46BB-B8CC-503C9048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DD2-429F-46D0-8FEE-3F921353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782-E8E0-4355-B727-1292ACEE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110-1623-499D-A2D6-CEEFD459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D43-4FD2-4E0E-808C-A057D919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831-6F74-4F38-A568-EED985A2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99B-84D6-447B-8246-77933145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02F-D60A-4888-BCD1-F47EEBF0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4EAE-515E-4DD1-A815-967F6017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86A7-7678-45F2-8C19-77368E3D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90DF-0F5E-405F-9143-3161E31F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C0DD-093C-481A-A0AE-BCD8326F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EADA-4804-494A-9059-CFEA811B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24D2-543A-44DD-914B-ACAE9C4A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6B50-C70A-4FBD-8596-DC125085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8242-C3D4-4CF5-9E52-21180E3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7500-2573-4712-A9DD-9F01AC1B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63C0-46FB-49F8-A35B-3ED4B9F9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56D7-FBBB-4295-80C1-A8710AFA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78D6-EB40-414A-A69A-3A81F2A6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C4BF-98FA-4284-B1CF-DA8190F3A3F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68CF-1750-42EF-A16F-C7396A5859B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0246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зыка эпохи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цизм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(обзорная лек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95680" y="6054840"/>
            <a:ext cx="33530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58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Значение творчества Й.Гайдна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на можно назвать отцом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струнного квар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его следующими типическими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остав – две скрипки, альт и виолонч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четырехчастность (аллегро в сонатной форме, медленная часть, менуэт и фин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рондо-со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Вольфганг</a:t>
            </a:r>
            <a:br>
              <a:rPr sz="3400"/>
            </a:b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Амадей Моцарт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ликодушие и склонность к едкому сарказм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ячливость и житейская искушенность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селость и склонность к глубокой меланхолии – вплоть до патологическ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троумие (он безжалостно передразнивал окружающих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ая нравственность (хотя он не слишком жаловал церковь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ционализм, реалистический взгляд на жизн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ец однажды написал ему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Arial"/>
              </a:rPr>
              <a:t>«У тебя сплошные крайности, ты не знаешь золотой середины»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123572289885cd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5640" y="1557000"/>
            <a:ext cx="468000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симфонии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онцерту, дивертисменту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вартету, опер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мессе, сонат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трио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23572289711a5"/>
          <p:cNvPicPr/>
          <p:nvPr/>
        </p:nvPicPr>
        <p:blipFill>
          <a:blip r:embed="rId1"/>
          <a:stretch/>
        </p:blipFill>
        <p:spPr>
          <a:xfrm>
            <a:off x="611280" y="1628640"/>
            <a:ext cx="3200400" cy="400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98764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341360"/>
            <a:ext cx="77058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Но вообще в венский период Моцарт создал собственный, исключительно самобытный стиль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73440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f5f5f"/>
                </a:solidFill>
                <a:latin typeface="Garamond"/>
              </a:rPr>
              <a:t>Занимательно:</a:t>
            </a:r>
            <a:br>
              <a:rPr sz="29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Моцарт, как известно, был вундеркиндом: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огда любящий отец отнял у малыша неоконченную нотную запись, он изумленно воскликнул: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Но этот концерт так труден, что его никто не сможет сыграть!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Какие глупости, папа! - возразил Моцарт,- его может сыграть даже ребенок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апример я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(1770–1827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4208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1235722647d751"/>
          <p:cNvPicPr/>
          <p:nvPr/>
        </p:nvPicPr>
        <p:blipFill>
          <a:blip r:embed="rId1"/>
          <a:stretch/>
        </p:blipFill>
        <p:spPr>
          <a:xfrm>
            <a:off x="5985000" y="2133720"/>
            <a:ext cx="2901960" cy="3671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4803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Его партитуры требуют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первых, большего числа исполнителей в каждой партии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вторых, невероятного в его эпоху исполнительского мастерства каждого оркестранта.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453360"/>
            <a:ext cx="7775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80680" y="549360"/>
            <a:ext cx="53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Ван 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417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наче говоря, Бетховен творит музыкальное пространство силой ума, собственной воле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9600" y="404640"/>
            <a:ext cx="539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</a:t>
            </a:r>
            <a:r>
              <a:rPr b="0" lang="ru-RU" sz="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Ван </a:t>
            </a:r>
            <a:r>
              <a:rPr b="0" lang="ru-RU" sz="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900000" y="134136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classicus - образцовы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0000" y="26028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5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700" spc="-1" strike="noStrike">
                <a:solidFill>
                  <a:srgbClr val="5f5f5f"/>
                </a:solidFill>
                <a:latin typeface="Arial"/>
              </a:rPr>
              <a:t>Эпоха Просвещения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1050316"/>
          <p:cNvPicPr/>
          <p:nvPr/>
        </p:nvPicPr>
        <p:blipFill>
          <a:blip r:embed="rId1"/>
          <a:stretch/>
        </p:blipFill>
        <p:spPr>
          <a:xfrm>
            <a:off x="324000" y="2421000"/>
            <a:ext cx="158400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2520" y="3719160"/>
            <a:ext cx="273528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Дени Дидро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30456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2100" spc="-1" strike="noStrike">
                <a:solidFill>
                  <a:srgbClr val="5f5f5f"/>
                </a:solidFill>
                <a:latin typeface="Arial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Дидро Дени"/>
          <p:cNvPicPr/>
          <p:nvPr/>
        </p:nvPicPr>
        <p:blipFill>
          <a:blip r:embed="rId1"/>
          <a:stretch/>
        </p:blipFill>
        <p:spPr>
          <a:xfrm>
            <a:off x="6156360" y="549360"/>
            <a:ext cx="2849400" cy="30686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50920" y="692280"/>
            <a:ext cx="6480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aust"/>
          <p:cNvPicPr/>
          <p:nvPr/>
        </p:nvPicPr>
        <p:blipFill>
          <a:blip r:embed="rId1"/>
          <a:stretch/>
        </p:blipFill>
        <p:spPr>
          <a:xfrm>
            <a:off x="6659640" y="476280"/>
            <a:ext cx="2376360" cy="2492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55640" y="2781360"/>
            <a:ext cx="763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igaro"/>
          <p:cNvPicPr/>
          <p:nvPr/>
        </p:nvPicPr>
        <p:blipFill>
          <a:blip r:embed="rId1"/>
          <a:stretch/>
        </p:blipFill>
        <p:spPr>
          <a:xfrm>
            <a:off x="5796000" y="189000"/>
            <a:ext cx="2324160" cy="253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aust2"/>
          <p:cNvPicPr/>
          <p:nvPr/>
        </p:nvPicPr>
        <p:blipFill>
          <a:blip r:embed="rId2"/>
          <a:stretch/>
        </p:blipFill>
        <p:spPr>
          <a:xfrm>
            <a:off x="755640" y="189000"/>
            <a:ext cx="3817800" cy="2544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62064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Franz_Joseph_Haydn"/>
          <p:cNvPicPr/>
          <p:nvPr/>
        </p:nvPicPr>
        <p:blipFill>
          <a:blip r:embed="rId1"/>
          <a:stretch/>
        </p:blipFill>
        <p:spPr>
          <a:xfrm>
            <a:off x="6443640" y="11592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611280" y="1628640"/>
            <a:ext cx="626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ворчество Гайд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4" descr="123563498380b8"/>
          <p:cNvPicPr/>
          <p:nvPr/>
        </p:nvPicPr>
        <p:blipFill>
          <a:blip r:embed="rId1"/>
          <a:stretch/>
        </p:blipFill>
        <p:spPr>
          <a:xfrm>
            <a:off x="395280" y="112536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56000" y="1413000"/>
            <a:ext cx="61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ий композитор середины 18 в. имел в своем распоряжении несколько разных сти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втор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ерный: в нем итальянская манера преобладала вплоть до времен Моца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трет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36:29Z</dcterms:created>
  <dc:creator>HOME</dc:creator>
  <dc:description/>
  <dc:language>en-US</dc:language>
  <cp:lastModifiedBy>LEGION</cp:lastModifiedBy>
  <dcterms:modified xsi:type="dcterms:W3CDTF">2015-04-02T07:22:41Z</dcterms:modified>
  <cp:revision>7</cp:revision>
  <dc:subject/>
  <dc:title>Музыка эпохи Классицизма (обзорная лекция)</dc:title>
</cp:coreProperties>
</file>