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A110-454F-4BC4-B1F9-A83E9241494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Музыкально-театральные жан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8F3E-41D0-441B-9A57-92337CB75E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bVU2oGQ4w_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http://www.youtube.com/watch?NR=1&amp;v=mON5dbdm63M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86AE-0BBA-4582-9C42-EE867CBFC82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232C-A81E-48A4-8959-FF1FE3D184C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9631-4BFB-450D-87D6-45F754BC86D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IKSZ5DSFj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21F3-419E-4CF2-B744-526E7DF80DC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B168-F39C-48C8-BF44-BCC4C5FFB6F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ре Кальман «Принцесса цир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ttp://www.youtube.com/watch?v=xGYvaXu0f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Жак Оффенбах «Орфей в аду» Кан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q8uesMKJT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D5BD-AF17-47EF-AB57-7C0A8115FD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Знаменитые создатели оп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C31F-3575-4AB7-A600-E14CAD1CFD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3167-BE05-432E-BAD2-3670C78792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"Моя прекрасная лед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044A-0ECE-45C6-BE5D-202E4E2E2CB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362C-B28C-430A-93A5-6E0A660FF0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LI1DMZ6J_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90A8-1D3A-4F62-875F-BFB4DF9631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90FE-EC89-405B-B077-2E1ACF94093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CFAE-9291-42BF-94E0-F13E175A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3245-20A5-4377-86A4-C93E768E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DA6B5-E2AB-4F09-BA14-2CB79B2A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A1C24-AD5A-4063-B1B8-A3055D70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E871-BB13-4AF3-8894-530C42EF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65C0-ABC6-4730-87A9-E3497008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F1E1-55DF-493F-AE95-253594C0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D546-A202-47D0-944A-6B82D0C6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F6E1-B524-449B-AD13-105A5478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8515-C405-4B7C-A393-F13D4404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F3CF-EA4A-42EC-9158-8012B66C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26BB4-5CB2-4998-949C-25CC4D0F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A8C2-D535-4B4C-95E0-8E5C5428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75F2-2668-44C4-9EF9-538D283E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7F66-FE25-40CB-BBBF-9361BBB5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7687-A2A9-4645-A1AC-1FF2F1E0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838F-4BBE-4D82-BCDB-6DA872D1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F204-1313-444A-9C42-DB51BBA7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A2418-D983-440F-AEAD-BECBF7AC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CE33-5406-4AA7-8D3D-D8D5F8AA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C947-9B5D-47B4-B5B4-18A6EB22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7623-B75D-4DF9-ABD7-14D1EF87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95958-347D-402B-90AE-545DBD0F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8D32-56A1-4F3F-9FDB-7BF6D3A1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2430-459F-49B0-8D34-C6C0DC6F6AE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9D33-E5CA-4F44-8887-A26EF06E6F4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U2oGQ4w_8" TargetMode="External"/><Relationship Id="rId2" Type="http://schemas.openxmlformats.org/officeDocument/2006/relationships/hyperlink" Target="http://www.youtube.com/watch?NR=1&amp;v=mON5dbdm63M&amp;feature=endscree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KSZ5DSFjf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hyperlink" Target="http://www.youtube.com/watch?v=xGYvaXu0fD4" TargetMode="External"/><Relationship Id="rId4" Type="http://schemas.openxmlformats.org/officeDocument/2006/relationships/hyperlink" Target="http://www.youtube.com/watch?v=q8uesMKJT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youtube.com/watch?v=YEcX9gNVg1U" TargetMode="External"/><Relationship Id="rId4" Type="http://schemas.openxmlformats.org/officeDocument/2006/relationships/hyperlink" Target="http://www.youtube.com/watch?v=h_Sj9o7DWJU" TargetMode="External"/><Relationship Id="rId5" Type="http://schemas.openxmlformats.org/officeDocument/2006/relationships/hyperlink" Target="http://www.youtube.com/watch?v=SDUaPgAcfb0&amp;feature=relat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I1DMZ6J_RM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89000"/>
            <a:ext cx="709596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узыкально-театральные жан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4" name="WordArt 5"/>
          <p:cNvSpPr txBox="1"/>
          <p:nvPr/>
        </p:nvSpPr>
        <p:spPr>
          <a:xfrm rot="20241600">
            <a:off x="1116000" y="2565360"/>
            <a:ext cx="20480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перет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 rot="695400">
            <a:off x="6876720" y="2781360"/>
            <a:ext cx="164772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юзик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6" name="WordArt 7"/>
          <p:cNvSpPr txBox="1"/>
          <p:nvPr/>
        </p:nvSpPr>
        <p:spPr>
          <a:xfrm>
            <a:off x="3419640" y="4292640"/>
            <a:ext cx="2190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Рок-оп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bVU2oGQ4w_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Tahoma"/>
                <a:hlinkClick r:id="rId2"/>
              </a:rPr>
              <a:t>http://www.youtube.com/watch?NR=1&amp;v=mON5dbdm63M&amp;feature=endscr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7" descr="Sarah Brightman"/>
          <p:cNvPicPr/>
          <p:nvPr/>
        </p:nvPicPr>
        <p:blipFill>
          <a:blip r:embed="rId1"/>
          <a:stretch/>
        </p:blipFill>
        <p:spPr>
          <a:xfrm rot="1060200">
            <a:off x="5940360" y="1267920"/>
            <a:ext cx="2819520" cy="428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Sarah Brightman"/>
          <p:cNvPicPr/>
          <p:nvPr/>
        </p:nvPicPr>
        <p:blipFill>
          <a:blip r:embed="rId2"/>
          <a:stretch/>
        </p:blipFill>
        <p:spPr>
          <a:xfrm rot="20713800">
            <a:off x="539640" y="765000"/>
            <a:ext cx="3048120" cy="288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File:Upiorwoperze ALWebber.jpg"/>
          <p:cNvPicPr/>
          <p:nvPr/>
        </p:nvPicPr>
        <p:blipFill>
          <a:blip r:embed="rId3"/>
          <a:stretch/>
        </p:blipFill>
        <p:spPr>
          <a:xfrm rot="20971200">
            <a:off x="2123640" y="3357360"/>
            <a:ext cx="3888000" cy="2809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18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 в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75564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IKSZ5DSFjf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 «Принцесса цир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Verdana"/>
                <a:hlinkClick r:id="rId3"/>
              </a:rPr>
              <a:t>http://www.youtube.com/watch?v=xGYvaXu0fD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 «Орфей в аду» Канк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4"/>
              </a:rPr>
              <a:t>http://www.youtube.com/watch?v=q8uesMKJT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22595890"/>
          <p:cNvPicPr/>
          <p:nvPr/>
        </p:nvPicPr>
        <p:blipFill>
          <a:blip r:embed="rId1"/>
          <a:stretch/>
        </p:blipFill>
        <p:spPr>
          <a:xfrm rot="20364000">
            <a:off x="611280" y="980640"/>
            <a:ext cx="2292120" cy="302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1907"/>
          <p:cNvPicPr/>
          <p:nvPr/>
        </p:nvPicPr>
        <p:blipFill>
          <a:blip r:embed="rId2"/>
          <a:stretch/>
        </p:blipFill>
        <p:spPr>
          <a:xfrm rot="1218600">
            <a:off x="5940000" y="980640"/>
            <a:ext cx="2879640" cy="27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kalman"/>
          <p:cNvPicPr/>
          <p:nvPr/>
        </p:nvPicPr>
        <p:blipFill>
          <a:blip r:embed="rId3"/>
          <a:stretch/>
        </p:blipFill>
        <p:spPr>
          <a:xfrm>
            <a:off x="3203640" y="2781360"/>
            <a:ext cx="2508120" cy="316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 rot="20263800">
            <a:off x="979560" y="422064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13"/>
          <p:cNvSpPr/>
          <p:nvPr/>
        </p:nvSpPr>
        <p:spPr>
          <a:xfrm rot="1315200">
            <a:off x="6513480" y="414936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оганн Штрау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2134800" y="609300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971640" y="333360"/>
            <a:ext cx="743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Знаменитые создатели оперет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ahoma"/>
              </a:rPr>
              <a:t>"Моя прекрасная леди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258920" y="189000"/>
            <a:ext cx="614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Самые известные мюзикл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157" name="Picture 6" descr="Моя прекрасная леди"/>
          <p:cNvPicPr/>
          <p:nvPr/>
        </p:nvPicPr>
        <p:blipFill>
          <a:blip r:embed="rId1"/>
          <a:stretch/>
        </p:blipFill>
        <p:spPr>
          <a:xfrm rot="20929200">
            <a:off x="611280" y="191628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ic2819_bf6108"/>
          <p:cNvPicPr/>
          <p:nvPr/>
        </p:nvPicPr>
        <p:blipFill>
          <a:blip r:embed="rId2"/>
          <a:stretch/>
        </p:blipFill>
        <p:spPr>
          <a:xfrm rot="707400">
            <a:off x="6011640" y="1915920"/>
            <a:ext cx="2919240" cy="3600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6586560" y="5950080"/>
            <a:ext cx="2332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Фредерик Лоу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41480" y="5373720"/>
            <a:ext cx="54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3"/>
              </a:rPr>
              <a:t>http://www.youtube.com/watch?v=YEcX9gNVg1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4000" y="5950080"/>
            <a:ext cx="7056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4"/>
              </a:rPr>
              <a:t>http://www.youtube.com/watch?v=h_Sj9o7DWJ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02680" y="6324480"/>
            <a:ext cx="72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5"/>
              </a:rPr>
              <a:t>http://www.youtube.com/watch?v=SDUaPgAcfb0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5373360"/>
            <a:ext cx="82087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LI1DMZ6J_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0153_101"/>
          <p:cNvPicPr/>
          <p:nvPr/>
        </p:nvPicPr>
        <p:blipFill>
          <a:blip r:embed="rId2"/>
          <a:stretch/>
        </p:blipFill>
        <p:spPr>
          <a:xfrm rot="20801400">
            <a:off x="395280" y="404280"/>
            <a:ext cx="3960720" cy="2883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 rot="20658000">
            <a:off x="339480" y="34995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ндрю Ллойд Уэббе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9" descr="ANd9GcT-1mPoX4VBgI8RRxWMaQoCylrBSMDfBnkhANFbOaxR0s8Ln1SenXku9A_H"/>
          <p:cNvPicPr/>
          <p:nvPr/>
        </p:nvPicPr>
        <p:blipFill>
          <a:blip r:embed="rId3"/>
          <a:stretch/>
        </p:blipFill>
        <p:spPr>
          <a:xfrm rot="1407600">
            <a:off x="4716000" y="765000"/>
            <a:ext cx="4067280" cy="270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griz01"/>
          <p:cNvPicPr/>
          <p:nvPr/>
        </p:nvPicPr>
        <p:blipFill>
          <a:blip r:embed="rId4"/>
          <a:stretch/>
        </p:blipFill>
        <p:spPr>
          <a:xfrm>
            <a:off x="3419640" y="3284640"/>
            <a:ext cx="3619440" cy="244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2"/>
          <p:cNvSpPr/>
          <p:nvPr/>
        </p:nvSpPr>
        <p:spPr>
          <a:xfrm>
            <a:off x="6921360" y="179280"/>
            <a:ext cx="9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ahoma"/>
              </a:rPr>
              <a:t>Ко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1:11:57Z</dcterms:created>
  <dc:creator>Тулубьев</dc:creator>
  <dc:description/>
  <dc:language>en-US</dc:language>
  <cp:lastModifiedBy>LEGION</cp:lastModifiedBy>
  <dcterms:modified xsi:type="dcterms:W3CDTF">2015-04-02T07:23:23Z</dcterms:modified>
  <cp:revision>10</cp:revision>
  <dc:subject/>
  <dc:title>Музыкально-театральные жанры</dc:title>
</cp:coreProperties>
</file>