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165E-89C1-4D3F-BE09-568E748C770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Музыкально-театральные жан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50DE-523B-4C55-AA21-6417DD198E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bVU2oGQ4w_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http://www.youtube.com/watch?NR=1&amp;v=mON5dbdm63M&amp;feature=end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47DF-8E12-482B-82E1-7F39F4B5DE8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78E1-5BD3-4588-A1CE-F453D50ED50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200" spc="-1" strike="noStrike">
                <a:solidFill>
                  <a:srgbClr val="000000"/>
                </a:solidFill>
                <a:latin typeface="Verdana"/>
              </a:rPr>
              <a:t> 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5294-F216-4522-871B-F1D275EC5C2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IKSZ5DSFj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6B21-810D-4E6E-A5DB-3A7BFE7E9E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A2B1-E82F-4E0E-8590-53C6F0CC53E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Имре Кальман «Принцесса цир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http://www.youtube.com/watch?v=xGYvaXu0f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Жак Оффенбах «Орфей в аду» Кан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q8uesMKJT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E673-EEC2-49BB-B240-1F56B5D133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00ffff"/>
                </a:solidFill>
                <a:latin typeface="Arial"/>
                <a:ea typeface="Arial"/>
              </a:rPr>
              <a:t>Знаменитые создатели оп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F733-E7B1-469F-8E64-B7B70F08D1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53AE-31F3-487A-8C75-9256ECF897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"Моя прекрасная лед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2A3B-2414-4FBB-B34F-582E679D17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12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717D-FF31-448E-8CDC-BE42538B56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http://www.youtube.com/watch?v=LI1DMZ6J_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E1AC-E8EC-49EA-97CA-B770AAF550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6A23-EA09-4EFC-8343-E1004EEADE3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29982-3BAC-447E-8882-4CA601D9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90D5-B71D-44D4-91A7-B45A4CF7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A538-CF0D-45F3-B57E-C96165D6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C00CF-5517-4756-A0A8-2317D1B3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8638-9C16-4AF1-9580-FBE914AC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6FD4-AA46-4C9E-9053-4D5C9E1A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69A0-6EFD-4D55-81B6-20B97149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3DB2-54FC-46AE-A577-E32D0A8E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7050-E2A9-4E75-A327-9FB26AB1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21B1-15C9-4CC5-A843-11BBAB30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2A69-A3E0-4092-B678-C44813B9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09DC4-6C37-427C-9D18-2F5137BD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2C4D-08CD-44BC-9584-48D28D56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5229-91AB-4830-AACB-912576D6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EE00-3ECD-4386-A5DA-6E375289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4498-2062-43E9-8ADE-4773FB5E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89DB-36C6-41A0-B099-8D1174FED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51781-E3D9-44B9-9C3B-0C0D6307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E4BA-CD7C-4017-8615-C7384935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EEBE-9AB9-4A38-818B-09CC9A10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6BA4-3C71-4A02-B76F-FD82F5E3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BD0EC-B4BD-4F10-9D03-863C79F8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F122-2406-4476-8716-FC08D918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9697-7BC1-4E42-B13C-55D41EAA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EEAB-3A00-43D5-B757-21C9E32F648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45877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3f526e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588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25D0-D855-4F9E-9D2B-DD4867FB41D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VU2oGQ4w_8" TargetMode="External"/><Relationship Id="rId2" Type="http://schemas.openxmlformats.org/officeDocument/2006/relationships/hyperlink" Target="http://www.youtube.com/watch?NR=1&amp;v=mON5dbdm63M&amp;feature=endscreen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SZ5DSFjf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pumAM77iJ8&amp;feature=related" TargetMode="External"/><Relationship Id="rId2" Type="http://schemas.openxmlformats.org/officeDocument/2006/relationships/hyperlink" Target="http://www.youtube.com/watch?v=0eKi_k8y0ik&amp;feature=relmfu" TargetMode="External"/><Relationship Id="rId3" Type="http://schemas.openxmlformats.org/officeDocument/2006/relationships/hyperlink" Target="http://www.youtube.com/watch?v=xGYvaXu0fD4" TargetMode="External"/><Relationship Id="rId4" Type="http://schemas.openxmlformats.org/officeDocument/2006/relationships/hyperlink" Target="http://www.youtube.com/watch?v=q8uesMKJTow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youtube.com/watch?v=YEcX9gNVg1U" TargetMode="External"/><Relationship Id="rId4" Type="http://schemas.openxmlformats.org/officeDocument/2006/relationships/hyperlink" Target="http://www.youtube.com/watch?v=h_Sj9o7DWJU" TargetMode="External"/><Relationship Id="rId5" Type="http://schemas.openxmlformats.org/officeDocument/2006/relationships/hyperlink" Target="http://www.youtube.com/watch?v=SDUaPgAcfb0&amp;feature=related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I1DMZ6J_RM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7095960" cy="18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узыкально-театральные жан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 rot="20241600">
            <a:off x="1116000" y="2565360"/>
            <a:ext cx="2048040" cy="191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перет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 rot="695400">
            <a:off x="6876720" y="2781360"/>
            <a:ext cx="1647720" cy="21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Мюзик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6" name="WordArt 7"/>
          <p:cNvSpPr txBox="1"/>
          <p:nvPr/>
        </p:nvSpPr>
        <p:spPr>
          <a:xfrm>
            <a:off x="3419640" y="4292640"/>
            <a:ext cx="2190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Рок-опе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Призрак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оперы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Сотрудничество Сары Брайтмана и Эндрю Ллойд Веббера в "Кошках" привело к их свадьбе в 1984 году. Для супруги композитор  и задумал создать новый мюзикл, коим и стал "Призрак оперы"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Романтическая, но мрачная история рассказывает о живущем в подземелье под Парижской оперой загадочном существе со сверхъестественными способностями. Главная роль в постановке досталась, конечно же, Саре Брайтман. Премьера "Призрака оперы" состоялась 9 октября 1986 в Королевском театре, на ней присутствовали даже члены семьи Ее Величества. А в январе 1988 года состоялась и первая бродвейская постановка мюзикла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"Призрак оперы" стал вторым по длительности демонстрации мюзиклом за всю историю Бродвея, после "Кошек". В итоге только в Нью-Йорке шоу посмотрело около 11 миллионов человек. Мюзикл был поставлен в 18 странах, дано было около 65 тысяч представлений, там его посмотрело более чем 58 миллионов человек, а общее число зрителей по всему миру превысило уже 80 миллионов</a:t>
            </a:r>
            <a:r>
              <a:rPr b="0" i="1" lang="et-EE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bVU2oGQ4w_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Tahoma"/>
                <a:hlinkClick r:id="rId2"/>
              </a:rPr>
              <a:t>http://www.youtube.com/watch?NR=1&amp;v=mON5dbdm63M&amp;feature=end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3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7" descr="Sarah Brightman"/>
          <p:cNvPicPr/>
          <p:nvPr/>
        </p:nvPicPr>
        <p:blipFill>
          <a:blip r:embed="rId1"/>
          <a:stretch/>
        </p:blipFill>
        <p:spPr>
          <a:xfrm rot="1060200">
            <a:off x="5940360" y="1267920"/>
            <a:ext cx="2819520" cy="4286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Sarah Brightman"/>
          <p:cNvPicPr/>
          <p:nvPr/>
        </p:nvPicPr>
        <p:blipFill>
          <a:blip r:embed="rId2"/>
          <a:stretch/>
        </p:blipFill>
        <p:spPr>
          <a:xfrm rot="20713800">
            <a:off x="539640" y="765000"/>
            <a:ext cx="3048120" cy="2886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File:Upiorwoperze ALWebber.jpg"/>
          <p:cNvPicPr/>
          <p:nvPr/>
        </p:nvPicPr>
        <p:blipFill>
          <a:blip r:embed="rId3"/>
          <a:stretch/>
        </p:blipFill>
        <p:spPr>
          <a:xfrm rot="20971200">
            <a:off x="2123640" y="3357360"/>
            <a:ext cx="3888000" cy="28098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В конце 60-х годов XX века начинается пересмотр мюзикла как жанра. Ведь появляются новые музыкальные веяния и течения - например, становится популярной рок-музыка. Итак, именно в это время зарождается такая разновидность мюзикла, как рок-опера (rock opera). Этот термин изобрёл Пит Тауншенд, лидер рок-группы The Who, выпустившей в 1969 году пластинку "Томми" (Tommy) и указавшей на её обложке в качестве жанра "Rock opera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още говоря (языком Википедии), рок-опера - это "мюзикл, музыкально-сценический жанр, использующий структурные принципы традиционной оперы (сюжетная связность элементов) в сочетании со стилистикой рок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так, жанр усложняется, в связи с чем в 70-х годах сокращается количество постановок, однако декорации и костюмы новых мюзиклов становятся более роскошными. Одним из серьёзных переломных моментов стало написание рок-оперы "Иисус Христос суперзвезда" (Jesus Christ Superstar, 1971 год) композитора Эндрю Ллойда Уэббера и либреттиста Тима Райса. Именно на это гениальнейшее произведение с тех пор равняются многие авторы - отголоски "Суперзвезды" слышны почти в каждой рок-опе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3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3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3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1800" spc="-1" strike="noStrike">
                <a:solidFill>
                  <a:srgbClr val="ff3300"/>
                </a:solidFill>
                <a:latin typeface="Verdana"/>
              </a:rPr>
              <a:t>Иисус Христос - суперзвезда".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Музыка для произведения была написана легендарным Эндрю Ллойд Вебером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Здесь рок-музыка соединилась с классической историей, в текстах используется современная лексика, а вся история рассказывается исключительно с помощью песен. Все это сделало "Иисуса Христа - суперзвезду" суперхитом. Повествование идет о последних семи днях жизни Иисуса, которые проходят перед глазами Иуды Искариота, разочарованным учением Христа. Сюжет начинается с момента въезда Иисуса в Иерусалим и заканчивается казнью святого.  В 1971 году мюзикл появился на Бродвее. Многие отмечают, что в постановке Иисус изображается в виде первого хиппи на планете.  По мотивам произведения, как водится, был снят и художественный фильм. Оскар</a:t>
            </a:r>
            <a:r>
              <a:rPr b="0" i="1" lang="et-EE" sz="1800" spc="-1" strike="noStrike">
                <a:solidFill>
                  <a:srgbClr val="ffffff"/>
                </a:solidFill>
                <a:latin typeface="Verdana"/>
              </a:rPr>
              <a:t> в</a:t>
            </a:r>
            <a:r>
              <a:rPr b="0" i="1" lang="ru-RU" sz="1800" spc="-1" strike="noStrike">
                <a:solidFill>
                  <a:srgbClr val="ffffff"/>
                </a:solidFill>
                <a:latin typeface="Verdana"/>
              </a:rPr>
              <a:t> 1973 году за лучшую музыку достался именно этому произведению. Фильм интересен не только отличной музыкой и вокалом, но и необычной трактовкой темы Иисуса. Этот мюзикл часто именуют также и рок-оперой, произведение породило множество споров и стало культовым для поколения хиппи. "Иисус Христос - суперзвезда" является актуальным и сегодня, он переведен на многие языки. Вот уже более 30 лет мюзикл ставится по всему свету - на сценах Австралии, Японии, Франции и Мексики, Чили и Германии, Великобритании и СШ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755640" y="566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актическая работа по теме «Музыкально – театральные жанр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IKSZ5DSFjf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Наберись терпения, посмотри и прослушай современную версию «Иисус  Христос  суперзвезда» с исполнением на русском языке! Я понимаю, что для некоторых это будет нелегко, потому что фильм длинный (1час 40 минут) и это,(ужас!!!) все время музыка!!! Но, попробуй, посмотри его как библейский «триллер» о последних днях жизни Иисус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– это музыкально театральный жанр. Само слово «оперетта» в переводе с итальянского языка означает «маленькая опера». Уже из перевода становится понятно, что от обычной оперы оперетта практически не отличается. Это такое же сочетание вокальной и инструментальной музыки и театрального представл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перетта носит легкий, развлекательный характер, она никогда не может быть трагедией, чаще всего оперетта - это пародия. Хоть в оперетте присутствуют арии, дуэты, сцены хора и сольные партии отдельных инструментов, исполняют они несложные партии, чаще всего танцевального или песенного характера. 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Главное отличие оперетты от оперы – танец. Если в опере мы никогда не сможем увидеть танец, то в оперетте каждое действие обязательно должно заканчиваться танцем. Как правило, кордебалет (группа танцоров) показывает самый популярный танец своего времени, таким образом, можно сразу определить в какое время и в какой стране была написана оперетта. Еще одно отличие маленькой оперы от ее «старшей сестры» - все вокальные партии написаны в песенно-куплетном жанре. Это связано с развлекательным характером оперетты, куплетные песни гораздо легче воспринимаются слушател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 «Принцесса цирка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wpumAM77iJ8&amp;feature=rela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2"/>
              </a:rPr>
              <a:t>http://www.youtube.com/watch?v=0eKi_k8y0ik&amp;feature=relmf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Verdana"/>
                <a:hlinkClick r:id="rId3"/>
              </a:rPr>
              <a:t>http://www.youtube.com/watch?v=xGYvaXu0fD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 «Орфей в аду» Канк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4"/>
              </a:rPr>
              <a:t>http://www.youtube.com/watch?v=q8uesMKJTo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22595890"/>
          <p:cNvPicPr/>
          <p:nvPr/>
        </p:nvPicPr>
        <p:blipFill>
          <a:blip r:embed="rId1"/>
          <a:stretch/>
        </p:blipFill>
        <p:spPr>
          <a:xfrm rot="20364000">
            <a:off x="611280" y="980640"/>
            <a:ext cx="2292120" cy="302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1907"/>
          <p:cNvPicPr/>
          <p:nvPr/>
        </p:nvPicPr>
        <p:blipFill>
          <a:blip r:embed="rId2"/>
          <a:stretch/>
        </p:blipFill>
        <p:spPr>
          <a:xfrm rot="1218600">
            <a:off x="5940000" y="980640"/>
            <a:ext cx="2879640" cy="2747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kalman"/>
          <p:cNvPicPr/>
          <p:nvPr/>
        </p:nvPicPr>
        <p:blipFill>
          <a:blip r:embed="rId3"/>
          <a:stretch/>
        </p:blipFill>
        <p:spPr>
          <a:xfrm>
            <a:off x="3203640" y="2781360"/>
            <a:ext cx="2508120" cy="316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2"/>
          <p:cNvSpPr/>
          <p:nvPr/>
        </p:nvSpPr>
        <p:spPr>
          <a:xfrm rot="20263800">
            <a:off x="979560" y="422064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Жак Оффенб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3"/>
          <p:cNvSpPr/>
          <p:nvPr/>
        </p:nvSpPr>
        <p:spPr>
          <a:xfrm rot="1315200">
            <a:off x="6513480" y="414936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оганн Штрау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2134800" y="6093000"/>
            <a:ext cx="19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Имре Кальм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WordArt 16"/>
          <p:cNvSpPr txBox="1"/>
          <p:nvPr/>
        </p:nvSpPr>
        <p:spPr>
          <a:xfrm>
            <a:off x="971640" y="333360"/>
            <a:ext cx="7439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Знаменитые создатели оперет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 (иногда называется музыкальной комедией) — музыкально-сценическое произведение, в котором переплетаются диалоги, песни, музыка, танцы, при этом сюжет, как правило, незамысловат. Большое влияние на мюзикл оказали многие жанры: оперетта, комическая опера, водевиль. Как отдельный жанр театрального искусства долгое время не признавался и до сих пор признается не все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постановочный жанр, работа над каждым проектом начинается с написания пьесы. Постановка пьесы осуществляется режиссёром-постановщиком. В постановке также могут участвовать балетмейстеры, специалисты по пени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Мюзикл — один из наиболее коммерческих жанров театра. Это обусловлено его зрелищностью, разнообразием тем для постановки, неограниченностью в выборе средств выражения для актёр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При постановке мюзиклов часто используются массовые сцены с пением и танцами, нередко применяются различные спец. эффек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3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Tahoma"/>
              </a:rPr>
              <a:t>"Моя прекрасная леди"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258920" y="189000"/>
            <a:ext cx="614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Comic Sans MS"/>
              </a:rPr>
              <a:t>Самые известные мюзик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Comic Sans MS"/>
              <a:ea typeface="Comic Sans MS"/>
            </a:endParaRPr>
          </a:p>
        </p:txBody>
      </p:sp>
      <p:pic>
        <p:nvPicPr>
          <p:cNvPr id="157" name="Picture 6" descr="Моя прекрасная леди"/>
          <p:cNvPicPr/>
          <p:nvPr/>
        </p:nvPicPr>
        <p:blipFill>
          <a:blip r:embed="rId1"/>
          <a:stretch/>
        </p:blipFill>
        <p:spPr>
          <a:xfrm rot="20929200">
            <a:off x="611280" y="191628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2819_bf6108"/>
          <p:cNvPicPr/>
          <p:nvPr/>
        </p:nvPicPr>
        <p:blipFill>
          <a:blip r:embed="rId2"/>
          <a:stretch/>
        </p:blipFill>
        <p:spPr>
          <a:xfrm rot="707400">
            <a:off x="6011640" y="1915920"/>
            <a:ext cx="2919240" cy="3600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9"/>
          <p:cNvSpPr/>
          <p:nvPr/>
        </p:nvSpPr>
        <p:spPr>
          <a:xfrm>
            <a:off x="6586560" y="5950080"/>
            <a:ext cx="2332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редерик Лоу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 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41480" y="5373720"/>
            <a:ext cx="54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3"/>
              </a:rPr>
              <a:t>http://www.youtube.com/watch?v=YEcX9gNVg1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4000" y="5950080"/>
            <a:ext cx="70563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4"/>
              </a:rPr>
              <a:t>http://www.youtube.com/watch?v=h_Sj9o7DWJ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02680" y="6324480"/>
            <a:ext cx="72673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ccff"/>
                </a:solidFill>
                <a:uFillTx/>
                <a:latin typeface="Tahoma"/>
                <a:hlinkClick r:id="rId5"/>
              </a:rPr>
              <a:t>http://www.youtube.com/watch?v=SDUaPgAcfb0&amp;feature=rela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Шоу сразу же завоевало бешеную популярность, билеты на него были распроданы на полгода вперед. Это оказалось для создателей самой настоящей неожиданностью. В итоге на Бродвее представление давалось 2717 раз, а в Лондоне - 2281. Мюзикл был переведен на одиннадцать языков и прошел в более чем двадцати странах. "Моя прекрасная леди" получила наград "Тони". Всего было продано более 5 миллионов записей мюзикла с первоначальным бродвейским составом. В 1964 году на экраны вышел одноименный фильм, за право экранизировать мюзикл боссы Warner Brothers заплатили рекордные на тот момент 5,5 миллионов долларов. Элизу сыграла Одри Хепберн, а Рекс Харрисон стал ее партнером, перебравшись в кино с театральных подмостков. И успех фильма стал ошеломляющим - он был номинирован на 12 Оскаров и получил 8 из них. Мюзикл настолько любим зрителями, что его и сейчас можно посмотреть в Лондон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Verdana"/>
              </a:rPr>
              <a:t>"Кошки“</a:t>
            </a:r>
            <a:r>
              <a:rPr b="0" i="1" lang="en-US" sz="2000" spc="-1" strike="noStrike">
                <a:solidFill>
                  <a:srgbClr val="ff3300"/>
                </a:solidFill>
                <a:latin typeface="Verdana"/>
              </a:rPr>
              <a:t>                                        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 Основой для этого популярного мюзикла послужил цикл детских стихов "Книга старого Опоссума о практичных кошках", . В сборнике рассказывалось с иронией о привычках и повадках кошках, но за этими чертами без труда угадывались человеческие черты. Стихи  приглянулись Эндрю  Ллойду  Уэбберу, который на протяжении 70-х годов сочинял к ним неспешно музык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5373360"/>
            <a:ext cx="82087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Verdana"/>
                <a:hlinkClick r:id="rId1"/>
              </a:rPr>
              <a:t>http://www.youtube.com/watch?v=LI1DMZ6J_R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5" descr="0153_101"/>
          <p:cNvPicPr/>
          <p:nvPr/>
        </p:nvPicPr>
        <p:blipFill>
          <a:blip r:embed="rId2"/>
          <a:stretch/>
        </p:blipFill>
        <p:spPr>
          <a:xfrm rot="20801400">
            <a:off x="395280" y="404280"/>
            <a:ext cx="3960720" cy="28832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 rot="20658000">
            <a:off x="339480" y="3499560"/>
            <a:ext cx="286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Эндрю Ллойд Уэббер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9" descr="ANd9GcT-1mPoX4VBgI8RRxWMaQoCylrBSMDfBnkhANFbOaxR0s8Ln1SenXku9A_H"/>
          <p:cNvPicPr/>
          <p:nvPr/>
        </p:nvPicPr>
        <p:blipFill>
          <a:blip r:embed="rId3"/>
          <a:stretch/>
        </p:blipFill>
        <p:spPr>
          <a:xfrm rot="1407600">
            <a:off x="4716000" y="765000"/>
            <a:ext cx="4067280" cy="2706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griz01"/>
          <p:cNvPicPr/>
          <p:nvPr/>
        </p:nvPicPr>
        <p:blipFill>
          <a:blip r:embed="rId4"/>
          <a:stretch/>
        </p:blipFill>
        <p:spPr>
          <a:xfrm>
            <a:off x="3419640" y="3284640"/>
            <a:ext cx="3619440" cy="244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2"/>
          <p:cNvSpPr/>
          <p:nvPr/>
        </p:nvSpPr>
        <p:spPr>
          <a:xfrm>
            <a:off x="6921360" y="179280"/>
            <a:ext cx="9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3300"/>
                </a:solidFill>
                <a:latin typeface="Tahoma"/>
              </a:rPr>
              <a:t>Кош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3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вот, к 1980 году, композитор собрал достаточно материала, чтобы трансформировать его в мюзикл. Так как англичане очень любят кошек, шоу у них просто таки было обречено на успех. В "Кошках" к артистам предъявлялись особые требования - мало было хорошо петь и четко говорить, надо было еще и быть очень пластичными. Актеры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с помощью сложного многослойного грима предстают в виде грациозных кошек.  Мюзикл впервые предстал перед глазами публики 11 мая 1981 года в Лондоне, а на Бродвей попал спустя год.</a:t>
            </a:r>
            <a:r>
              <a:rPr b="0" i="1" lang="et-EE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 Всего было дано 6400 представлений, постановку увидело более 8 миллионов человек, а создатели смогли заработать около 136 миллионов фунтов стерлингов. Да и в Штатах мюзикл побил все возможные рекорды. Уже в 1997 году число представлений превысило 6100, что позволило назвать представление главным бродвейским долгожителем. В итоге за все время  суммарное число зрителей в 30 странах превысило 50 миллионов, песни прозвучали на 14 языках, а общая сумма сборов составила 2,2 миллиарда доллар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3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9T11:11:57Z</dcterms:created>
  <dc:creator>Тулубьев</dc:creator>
  <dc:description/>
  <dc:language>en-US</dc:language>
  <cp:lastModifiedBy>LEGION</cp:lastModifiedBy>
  <dcterms:modified xsi:type="dcterms:W3CDTF">2015-04-02T07:23:23Z</dcterms:modified>
  <cp:revision>10</cp:revision>
  <dc:subject/>
  <dc:title>Музыкально-театральные жанры</dc:title>
</cp:coreProperties>
</file>