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BC7B-5062-4C50-9FB6-6FC73FA49C5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Музыкально-театральные жан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D06B-7BE8-4AD4-AE8D-C7570E8934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bVU2oGQ4w_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http://www.youtube.com/watch?NR=1&amp;v=mON5dbdm63M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9165-3512-4113-8ADB-4098A5FF1B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61BC-5B6E-41DD-B8D8-BF79FC9F0E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7634-ED97-4E2A-9EC2-14A5FFAA9A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IKSZ5DSFj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A35-C58A-4B76-8B5A-FD35667B36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F19-EC26-435B-BC94-83216DA7D1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ре Кальман «Принцесса цир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ttp://www.youtube.com/watch?v=xGYvaXu0f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Жак Оффенбах «Орфей в аду» Кан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q8uesMKJT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9DAB-9A4C-4E82-BAF0-F7E8D12F7D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Знаменитые создатели оп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2E6A-C4C6-4DE8-8FF7-56E88344D2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2EB0-1D9E-410D-A6B2-F023E0F88E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"Моя прекрасная лед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E7C2-ABD2-46A2-89B1-B51B935704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726D-B675-48E2-A48E-1E4DD64A3B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LI1DMZ6J_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8CC9-CE1F-4CC3-91F1-652A6AA50D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3A8E-EAFB-4C36-B925-EA85B474DC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0090C-3C28-46E4-8E24-1809F3D8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69AC-6AC5-4E57-8519-963D1549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40E0-84BE-4BC3-919D-6A80BE86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92404-34B2-48FF-8882-0705D0A1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FFBA-DE2F-43B6-9851-15D90BB6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539C-9A58-48F6-9414-502D7FCC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98AD-D13C-4E72-A508-D0B9D627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E3B-1F73-42D2-87FA-CAFAD089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65F6-59A5-4655-AB3B-60F7A68D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9AC8-AA7D-4C7B-B5DF-E3A989F0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54E1-521F-4D89-B7C2-9BF7E5A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237C-6B8D-4517-8CB4-5116DA3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1880-087C-4350-8289-F23D7E09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633-848E-457F-93DA-52E8A6C3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4FEC-A4C9-4147-9615-19F9E8D3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09F1-76FD-4152-9639-B731C4D4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35E5-2440-4918-A452-D98E217A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A4C9-3330-4E56-80ED-51B7FEAE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95A7-572E-4031-BB24-392976CD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82AE-0676-463F-847C-E853EA66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CA2D-D9CB-43FF-96CD-ADCCA9E3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78EC-A51E-4C0A-A672-F157A06A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5FE3-1389-4DA4-98DF-CD1E7F29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6577-4F48-40D1-878C-87D64C7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640-3BAC-4EF9-A44C-70031C69E4E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2FA-0ABF-428C-8204-F5E678BE4BB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U2oGQ4w_8" TargetMode="External"/><Relationship Id="rId2" Type="http://schemas.openxmlformats.org/officeDocument/2006/relationships/hyperlink" Target="http://www.youtube.com/watch?NR=1&amp;v=mON5dbdm63M&amp;feature=endscree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SZ5DSFjf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hyperlink" Target="http://www.youtube.com/watch?v=xGYvaXu0fD4" TargetMode="External"/><Relationship Id="rId4" Type="http://schemas.openxmlformats.org/officeDocument/2006/relationships/hyperlink" Target="http://www.youtube.com/watch?v=q8uesMKJT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outube.com/watch?v=YEcX9gNVg1U" TargetMode="External"/><Relationship Id="rId4" Type="http://schemas.openxmlformats.org/officeDocument/2006/relationships/hyperlink" Target="http://www.youtube.com/watch?v=h_Sj9o7DWJU" TargetMode="External"/><Relationship Id="rId5" Type="http://schemas.openxmlformats.org/officeDocument/2006/relationships/hyperlink" Target="http://www.youtube.com/watch?v=SDUaPgAcfb0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I1DMZ6J_R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709596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узыкально-театральные жан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20241600">
            <a:off x="1116000" y="2565360"/>
            <a:ext cx="20480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перет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695400">
            <a:off x="6876720" y="2781360"/>
            <a:ext cx="16477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юз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419640" y="4292640"/>
            <a:ext cx="219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к-оп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bVU2oGQ4w_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Tahoma"/>
                <a:hlinkClick r:id="rId2"/>
              </a:rPr>
              <a:t>http://www.youtube.com/watch?NR=1&amp;v=mON5dbdm63M&amp;feature=end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Sarah Brightman"/>
          <p:cNvPicPr/>
          <p:nvPr/>
        </p:nvPicPr>
        <p:blipFill>
          <a:blip r:embed="rId1"/>
          <a:stretch/>
        </p:blipFill>
        <p:spPr>
          <a:xfrm rot="1060200">
            <a:off x="5940360" y="1267920"/>
            <a:ext cx="2819520" cy="428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Sarah Brightman"/>
          <p:cNvPicPr/>
          <p:nvPr/>
        </p:nvPicPr>
        <p:blipFill>
          <a:blip r:embed="rId2"/>
          <a:stretch/>
        </p:blipFill>
        <p:spPr>
          <a:xfrm rot="20713800">
            <a:off x="539640" y="765000"/>
            <a:ext cx="3048120" cy="28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File:Upiorwoperze ALWebber.jpg"/>
          <p:cNvPicPr/>
          <p:nvPr/>
        </p:nvPicPr>
        <p:blipFill>
          <a:blip r:embed="rId3"/>
          <a:stretch/>
        </p:blipFill>
        <p:spPr>
          <a:xfrm rot="20971200">
            <a:off x="2123640" y="3357360"/>
            <a:ext cx="3888000" cy="2809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18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 в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55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IKSZ5DSFjf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 «Принцесса цир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xGYvaXu0fD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 «Орфей в аду» Кан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youtube.com/watch?v=q8uesMKJT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22595890"/>
          <p:cNvPicPr/>
          <p:nvPr/>
        </p:nvPicPr>
        <p:blipFill>
          <a:blip r:embed="rId1"/>
          <a:stretch/>
        </p:blipFill>
        <p:spPr>
          <a:xfrm rot="20364000">
            <a:off x="611280" y="98064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907"/>
          <p:cNvPicPr/>
          <p:nvPr/>
        </p:nvPicPr>
        <p:blipFill>
          <a:blip r:embed="rId2"/>
          <a:stretch/>
        </p:blipFill>
        <p:spPr>
          <a:xfrm rot="1218600">
            <a:off x="5940000" y="980640"/>
            <a:ext cx="2879640" cy="27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kalman"/>
          <p:cNvPicPr/>
          <p:nvPr/>
        </p:nvPicPr>
        <p:blipFill>
          <a:blip r:embed="rId3"/>
          <a:stretch/>
        </p:blipFill>
        <p:spPr>
          <a:xfrm>
            <a:off x="3203640" y="2781360"/>
            <a:ext cx="2508120" cy="316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 rot="20263800">
            <a:off x="979560" y="4220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 rot="1315200">
            <a:off x="6513480" y="4149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оганн Штра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134800" y="609300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971640" y="333360"/>
            <a:ext cx="743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Знаменитые создатели оперет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"Моя прекрасная лед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258920" y="189000"/>
            <a:ext cx="61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Самые известные мюзи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157" name="Picture 6" descr="Моя прекрасная леди"/>
          <p:cNvPicPr/>
          <p:nvPr/>
        </p:nvPicPr>
        <p:blipFill>
          <a:blip r:embed="rId1"/>
          <a:stretch/>
        </p:blipFill>
        <p:spPr>
          <a:xfrm rot="20929200">
            <a:off x="611280" y="19162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2819_bf6108"/>
          <p:cNvPicPr/>
          <p:nvPr/>
        </p:nvPicPr>
        <p:blipFill>
          <a:blip r:embed="rId2"/>
          <a:stretch/>
        </p:blipFill>
        <p:spPr>
          <a:xfrm rot="707400">
            <a:off x="6011640" y="1915920"/>
            <a:ext cx="291924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586560" y="5950080"/>
            <a:ext cx="233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редерик Лоу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1480" y="5373720"/>
            <a:ext cx="54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3"/>
              </a:rPr>
              <a:t>http://www.youtube.com/watch?v=YEcX9gNVg1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5950080"/>
            <a:ext cx="7056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4"/>
              </a:rPr>
              <a:t>http://www.youtube.com/watch?v=h_Sj9o7DW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2680" y="6324480"/>
            <a:ext cx="72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5"/>
              </a:rPr>
              <a:t>http://www.youtube.com/watch?v=SDUaPgAcfb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08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LI1DMZ6J_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0153_101"/>
          <p:cNvPicPr/>
          <p:nvPr/>
        </p:nvPicPr>
        <p:blipFill>
          <a:blip r:embed="rId2"/>
          <a:stretch/>
        </p:blipFill>
        <p:spPr>
          <a:xfrm rot="20801400">
            <a:off x="395280" y="404280"/>
            <a:ext cx="3960720" cy="2883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0658000">
            <a:off x="339480" y="34995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ндрю Ллойд Уэбб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ANd9GcT-1mPoX4VBgI8RRxWMaQoCylrBSMDfBnkhANFbOaxR0s8Ln1SenXku9A_H"/>
          <p:cNvPicPr/>
          <p:nvPr/>
        </p:nvPicPr>
        <p:blipFill>
          <a:blip r:embed="rId3"/>
          <a:stretch/>
        </p:blipFill>
        <p:spPr>
          <a:xfrm rot="1407600">
            <a:off x="4716000" y="765000"/>
            <a:ext cx="4067280" cy="270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griz01"/>
          <p:cNvPicPr/>
          <p:nvPr/>
        </p:nvPicPr>
        <p:blipFill>
          <a:blip r:embed="rId4"/>
          <a:stretch/>
        </p:blipFill>
        <p:spPr>
          <a:xfrm>
            <a:off x="3419640" y="3284640"/>
            <a:ext cx="361944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6921360" y="17928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1:11:57Z</dcterms:created>
  <dc:creator>Тулубьев</dc:creator>
  <dc:description/>
  <dc:language>en-US</dc:language>
  <cp:lastModifiedBy>LEGION</cp:lastModifiedBy>
  <dcterms:modified xsi:type="dcterms:W3CDTF">2015-04-02T07:23:23Z</dcterms:modified>
  <cp:revision>10</cp:revision>
  <dc:subject/>
  <dc:title>Музыкально-театральные жанры</dc:title>
</cp:coreProperties>
</file>