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wmf" ContentType="image/x-wmf"/>
  <Override PartName="/ppt/media/image15.jpeg" ContentType="image/jpeg"/>
  <Override PartName="/ppt/media/image23.jpeg" ContentType="image/jpeg"/>
  <Override PartName="/ppt/media/image22.wmf" ContentType="image/x-wmf"/>
  <Override PartName="/ppt/media/image19.jpeg" ContentType="image/jpeg"/>
  <Override PartName="/ppt/media/image18.jpeg" ContentType="image/jpeg"/>
  <Override PartName="/ppt/media/image16.jpeg" ContentType="image/jpeg"/>
  <Override PartName="/ppt/media/image5.jpeg" ContentType="image/jpeg"/>
  <Override PartName="/ppt/media/image8.jpeg" ContentType="image/jpeg"/>
  <Override PartName="/ppt/media/image35.jpeg" ContentType="image/jpeg"/>
  <Override PartName="/ppt/media/image34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png" ContentType="image/png"/>
  <Override PartName="/ppt/media/image37.jpeg" ContentType="image/jpeg"/>
  <Override PartName="/ppt/media/image30.jpeg" ContentType="image/jpeg"/>
  <Override PartName="/ppt/media/image31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8.png" ContentType="image/png"/>
  <Override PartName="/ppt/media/image7.jpeg" ContentType="image/jpeg"/>
  <Override PartName="/ppt/media/image38.jpeg" ContentType="image/jpeg"/>
  <Override PartName="/ppt/media/image1.wmf" ContentType="image/x-wmf"/>
  <Override PartName="/ppt/media/image24.wmf" ContentType="image/x-wmf"/>
  <Override PartName="/ppt/media/image10.jpeg" ContentType="image/jpeg"/>
  <Override PartName="/ppt/media/image1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D678-27A0-4E6F-A281-778A947C88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philos.msu.ru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44EBE-185F-4C99-9D2C-BD7494A2CE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онные требования при освоении кур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программы курса. Программа курса размещена на сайте философского факультета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PHILOS.MSU.R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деле Учебный отдел/Методическое обеспечение учебных курсов/каф. Философии и методологии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конспектов лекций по курсу в отдельной тетрад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ие текущих работ по темам курса на лек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ача зачета по итогам компьютерного тестирования (выборка из 50 вопросов (открытые и закрытые вопросы) по всем темам курс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1681-C0C4-4147-9D31-EAD4A6B1DF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ойства нано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материалы характеризуются несколькими основными свойствами, по сравнению с другими материалам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перминиатюриз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ая удельная площадь поверхности, ускоряющая взаимодействие между ними и средой, в которую они помещен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хождение вещества в наноматериала в особом «наноразмерном» состоя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B378-83DB-4788-BFD8-409EB3D976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ческие микроск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оптической техники (1873 г): минимальные объекты различаемых деталей рассматриваемого объекта не могут быть меньше, чем длина света, используемого для освещ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е короткие длины волн диапазона соответствуют примерно 400 нм, разрешающая способность оптических микроскопов принципиально ограничена половиной этой величины, то есть составляет около 200 н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4229-907B-4112-A77A-19C0157CC4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микроск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вечивающие электронные микроскопы (ПЭМ): электронный пучок пропускается через тонкие слои исследуемого вещества с толщиной не менее 1 мк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17EB-6F4D-40C9-8AD3-DED331DFCA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ктронный микроск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нирующие электронные микроскопы (СЭМ): электронный пучок последовательно отражается от маленьких участков поверх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5EC2-1669-4523-BB30-87DA7F24A8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анирующее электронно-зондовые микроско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нирующее электронно-зондовые микроскопы (СЭЗМ) сканируют поверхность исследуемого образца при помощи зонда или щупа   в виде крошечной металлической игол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6638-350E-40DA-B8C5-128A857A73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нирующее электронно-зондовые  (туннельные) микроско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ду зондом и поверхностью приложено электрическое напряжение, в результате чего возникает туннельный эффек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ннельный эффект – преодоление микрочастицей потенциального барьера в случае, когда ее полная энергия (остающаяся при туннелировании неизменной) меньше высоты барь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5E80-8617-4E57-9857-78C310490C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ннельный эффе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тическое представление классической и квантовой физической ситуации при возникновении барьера на пути час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BDA8-FE3E-413D-A0C2-6106112192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томарно-силовой микроско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приборе измеряемой физической величиной выступают непосредственно силы взаимодействия между атомами, величина которых определяется «шероховатостью» конкретного участка поверхности в точке измер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М позволяет получать изображения с очень высокой степенью точности (впло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10-10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0D88-473F-4C33-BEC2-3C9EE27D4E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ва главных принципа технологической обработ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х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сверху-вниз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одход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«снизу-вверх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44E1-F8AB-47D7-B87B-C23FFC066F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нанотехнологи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низу-ввер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541F-E2EA-4C8E-878E-59142BB1A8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 о заче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 с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 декабря(понедельн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30-17.00          Группа 103 (ауд. г3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104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4 декабря(сред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30-17.00          Группа 102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30-19.00          Группа 106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 декабря(четверг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30-17.00          Группа 101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105 (ауд. г3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 с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9 декабря(понедельни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5.30-17.00          студенты всех групп                                 (ауд. г3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 сдач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та будет уточн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Место проведения заче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Ломоносовский проспект, д.27, корпус 4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3 этаж (зона г – направо от лифтового холла), Первый учебный корпус МГУ на новой территор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чет включает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мпьютерное тестирование (выборка из 50 вопросов по всем темам курса, необходимо ответить правильно не менее, чем на половину вопросов)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роверку конспектов лекци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На зачете с собой необходимо иметь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Зачетную книжку, студенческий билет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спекты лекци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Старостам групп взять в учебной части зачетную ведомость на групп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FB76-0CB0-4E91-A3CC-959E5C26A5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ллере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85 году были экспериментально при исследовании масс-пектров паров графита  обнаружены фуллерены – огромные молекулы углерода в виде замкнутых объемных структур, напоминающих по форме футбольный мяч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мин фуллерен происходит от имени Ричарда Букминстера Фуллера, сконструировавшего оригинальный купол павильона США на выставкев Монреале в  форме сочлененных пентагонов (пятиугольники) и гексаг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55DB-15D3-486E-9F3D-45C02D49221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р нанотехнологии «снизу-ввер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глеродные нанотрубки представляют собой крошечные цилиндры или цилиндрические образования с диаметром от 0,5 до 10нм и длиной примерно в 1мк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являются новой формой углерода, открытой в 1991 го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FA1E-435C-4132-8315-0DD611D910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нтовая точ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вантовая точка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скусственно созданная область вещества, в которой можно «хранить» небольшие количества электр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D976-EA1B-4CCC-91D1-E9273B6D18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 биологии и медиц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чины интереса к применению наносистем в биологии и медицин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системы могут перемещаться внутри живых организмов и проникать внутрь клет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системы могут создавать нанокомпозиты «наночастица/биологически активная оболоч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A1D8-95A0-4ED5-9955-E48671EC2F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 медици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парадигмы в медицине: создание долгосрочных и эффективных систем контроля здоровья, непрерывный контроль за состоянием организма. Реализация идей восстанавливающей медицины. Возникновение медицины «малого» вмешатель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рение содержания различных веществ в организме, лечебные операции при необходимост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идей «индивидуальной» медиц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лекарственных препаратов с новым механизмом действия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ство искусственных тканей и органов, не вызывающих реакцию оттор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3B6A1-A0DC-4B66-AD9E-C1251A3396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Мечение живых клеток и визуализация внутриклеточных структур с помощью квантовых точе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3364-0565-4231-93AA-060E2A951C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ыявление раковых маркеров на клетк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 помощью квантовых то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47D7-57B4-4620-A911-91EBB13DE5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Наночастицы 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quantum dots </a:t>
            </a: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для выявления очагов опухолей</a:t>
            </a: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6BDB-AD30-4FFD-97E5-737844F40A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69"/>
                </a:solidFill>
                <a:latin typeface="Arial"/>
              </a:rPr>
              <a:t>Наночиповая технология позволяет генерировать 100 миллионов точек на той же площади, которую занимает одна точка в микрочип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F3CF-2065-4F8E-A9CB-B563755AE1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6680" cy="343188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eeb48"/>
                </a:solidFill>
                <a:latin typeface="Times New Roman"/>
              </a:rPr>
              <a:t>Образование новых кровеносных сосудов после инъекции гена phVEGF</a:t>
            </a:r>
            <a:r>
              <a:rPr b="1" lang="ru-RU" sz="1200" spc="-1" strike="noStrike" baseline="-25000">
                <a:solidFill>
                  <a:srgbClr val="feeb48"/>
                </a:solidFill>
                <a:latin typeface="Times New Roman"/>
              </a:rPr>
              <a:t>1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1666-D839-4926-B0D4-153D50BC90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ностные регулятивы развития современного естество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«НАНОНАУКА» и «НАНОТЕХНОЛОГ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феры применения нанотехноло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1029-E8B1-4897-AB0E-60A1B9D239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66"/>
                </a:solidFill>
                <a:latin typeface="Arial"/>
              </a:rPr>
              <a:t>Молекулярные моторы – биосовместимые двигатели для наноробо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миозины   кинезины   динеи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176D-D9EA-4290-8777-221A168F3E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и в медицин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нанокапсул и микрофотография нанокапсул  с захваченными люминесцентными частиц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8182-47C0-4A26-AE78-1FF23B1A5A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99"/>
                </a:solidFill>
                <a:latin typeface="Arial"/>
              </a:rPr>
              <a:t>Наноро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22BE-5B97-49CA-8AF5-E7B4DFECF51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нотехнология в информационных технология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с очень малым энергопотреб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рманные» суперЭВ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минающие устройства нового тип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характеристик ЭВМ на три поряд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508D-7FFA-49B6-9872-35FA8CDCE2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нотехнология в информационных технолог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элементом записывающей системы является  оптическое волокно с отверстием диаметром в несколько десятков н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онечник такого оптического волокна двигается над плоскостью записывающего диска на расстоянии всего10-20н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свещении поверхности лазерным лучом  на поверхности происходит запись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C06A-AE85-4D44-A303-C789CE96CB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технологии и проблемы окружающей среды и энерге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нового типа произво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ые возможности контроля за состоянием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альтернативных источников энергии и разработка эффективных методов сохранения и передачи энерг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F3702-5FEB-4DEF-B585-91E884E1BCA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 сельском хозяй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ение проблемы нехватки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стабильного и достаточного сельскохозяйственного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ирокое применение техники ДНК-чипов и ДНК-анализ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145D-B42C-437C-BD19-FC6502424CE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выступает связующим звеном, объединяющим подходы и методики разных дисциплин. С этим обстоятельством связана основная трудность в развитии и практическом внедрении нанотехнологий – необходимость постоянного сотрудничества и согласования между учеными разных специаль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B1DE-65FF-4C98-AD3B-06AA022C1C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, потраченные из бюджета разных стран на нанотехнологии в 1997-2005 год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94B4-8894-4904-B1EC-186EEE554CB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материалы. Нанотехнологии. Наносистемная техника М.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йер К., Дэвис С. Живая организация: Компания как живой организм: Грядущая конвергенция информатики, нанотехнологии, биологии и бизнеса. М.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965D-50CA-4F74-AF21-7F05EB63FF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разме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ан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ч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штаб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нм = 1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5FD0-1C55-4016-A41D-D7F0DBFAA6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анораз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09D1-2123-4B44-BCEC-AA5D9AD468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наука – междисциплинарная наука, относящаяся к фундаментальным физико-химическим исследованиям объектов и процессов с масштабами в несколько н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нотехнология - совокупность прикладных исследований нанонауки и их практических применений в технолог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я объектов, потребительские свойства которых определяются необходимостью контроля и манипулирования отдельными атомами, молекулами, надмолекулярными образован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03904-32DE-4A93-AC66-D1F7D2C439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: хронолог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008D-6F62-46A9-959C-60FE342454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применения нанотехноло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ехнология самая междисциплинарная отрас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а связана с химией, физикой, медициной, физическим материаловедением электроникой и многими другими дисциплин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57AB-FF69-4A5C-84CC-C4272AAD02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нано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рекомендациям 7 Международной конференции по нанотехнологиям (Висбаден, 2004 год) выделяют следующие типы наноматериа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пористые струк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час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трубки и нановолок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дисперсии (коллоид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структурированные поверхности и пле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кристалл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окласте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B551-FE0F-4335-A5DA-27F7973C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FE819-623A-49C7-9BD4-32EFC502D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D039-ACD1-4170-A729-D4FFA27C3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0B05-C9DB-4810-A9DF-8B63207F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D2D0-E294-47CC-BF10-88736707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EFE7-B2AF-4798-93F1-F528809B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AC40-A53C-4658-BB1F-1BBAC96B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7F6FE-E6E2-4C90-A5AC-7434C7AD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7E8F-FB7A-442E-95F8-D3F9D601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5DC1C-E1B7-4440-8F4E-916BB6D0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84B2-E399-4C62-8A55-B806DEA2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A3C-7334-45F2-AEDF-886985D6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00D29-2C73-4CA2-A096-773BE256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EBFE-6A4E-4B11-8101-C6F4BACC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14A0-2718-44F2-ADB0-5F92F0097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BA2C6-0C27-4C97-93F9-E5AE2EBD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C24D9-EA33-4698-B2A8-55279F46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3CB8-FCD5-40AF-8D76-62653AA19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ADEB-8766-4C12-8B4D-AA9CAA21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E723-4DBE-4B01-85B2-13B0427B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C83A-F1C0-4574-B333-8F239CFF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6710-4125-4B5D-B8EA-98145106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CD06-2DCD-4ABD-9BD6-2E9E8DBA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179D-3D01-43F9-BC93-E94BFE2D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19DC-B5F6-46A6-B6FF-43B4DC106E9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1E49A-0C3E-4197-89BA-5F0620493EE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рганизационные требования при освоении курса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79218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личие программы курса. Программа курса размещена на сайте философского факультета в разделе Учебный отдел/Методическое обеспечение учебных курсов/каф. Философии и методологии наук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личие конспектов лекций по курсу в отдельной тетрад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ыполнение текущих работ по темам курса на лекциях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дача зачета по итогам компьютерного тестирования (выборка из 50 вопросов (открытые и закрытые вопросы) по всем темам курса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j0217698"/>
          <p:cNvPicPr/>
          <p:nvPr/>
        </p:nvPicPr>
        <p:blipFill>
          <a:blip r:embed="rId1"/>
          <a:stretch/>
        </p:blipFill>
        <p:spPr>
          <a:xfrm>
            <a:off x="7020000" y="4797360"/>
            <a:ext cx="1747800" cy="16938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Свойства наноматериал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номатериалы характеризуются несколькими основными свойствами, по сравнению с другими материалами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уперминиатюризация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большая удельная площадь поверхности, ускоряющая взаимодействие между ними и средой, в которую они помещены;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хождение вещества в наноматериала в особом «наноразмерном» состоянии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Оптические микроскоп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равило оптической техники (1873 г): минимальные объекты различаемых деталей рассматриваемого объекта не могут быть меньше, чем длина света, используемого для освещения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Самые короткие длины волн диапазона соответствуют примерно 400 нм, разрешающая способность оптических микроскопов принципиально ограничена половиной этой величины, то есть составляет около 200 нм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4" descr="microscope"/>
          <p:cNvPicPr/>
          <p:nvPr/>
        </p:nvPicPr>
        <p:blipFill>
          <a:blip r:embed="rId1"/>
          <a:stretch/>
        </p:blipFill>
        <p:spPr>
          <a:xfrm>
            <a:off x="5788080" y="2424240"/>
            <a:ext cx="2201760" cy="291924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лектронный микроско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8920" y="1827360"/>
            <a:ext cx="3914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освечивающие электронные микроскопы (ПЭМ): электронный пучок пропускается через тонкие слои исследуемого вещества с толщиной не менее 1 мкм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3" name="Picture 4" descr="просвеч электронный микроскоп"/>
          <p:cNvPicPr/>
          <p:nvPr/>
        </p:nvPicPr>
        <p:blipFill>
          <a:blip r:embed="rId1"/>
          <a:stretch/>
        </p:blipFill>
        <p:spPr>
          <a:xfrm>
            <a:off x="1895400" y="2152800"/>
            <a:ext cx="2538360" cy="346392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Электронный микроско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канирующие электронные микроскопы (СЭМ): электронный пучок последовательно отражается от маленьких участков поверхности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Picture 4" descr="сканирующий зондовый"/>
          <p:cNvPicPr/>
          <p:nvPr/>
        </p:nvPicPr>
        <p:blipFill>
          <a:blip r:embed="rId1"/>
          <a:stretch/>
        </p:blipFill>
        <p:spPr>
          <a:xfrm>
            <a:off x="6851520" y="3854520"/>
            <a:ext cx="74880" cy="60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сканирэектр микроскоп"/>
          <p:cNvPicPr/>
          <p:nvPr/>
        </p:nvPicPr>
        <p:blipFill>
          <a:blip r:embed="rId2"/>
          <a:stretch/>
        </p:blipFill>
        <p:spPr>
          <a:xfrm>
            <a:off x="5334120" y="220500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канирующее электронно-зондовые микроскоп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канирующее электронно-зондовые микроскопы (СЭЗМ) сканируют поверхность исследуемого образца при помощи зонда или щупа   в виде крошечной металлической иголки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4" descr="электронный зондовый"/>
          <p:cNvPicPr/>
          <p:nvPr/>
        </p:nvPicPr>
        <p:blipFill>
          <a:blip r:embed="rId1"/>
          <a:stretch/>
        </p:blipFill>
        <p:spPr>
          <a:xfrm>
            <a:off x="5219640" y="2349360"/>
            <a:ext cx="3135240" cy="417672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Сканирующее электронно-зондовые  (туннельные) микроскоп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ежду зондом и поверхностью приложено электрическое напряжение, в результате чего возникает туннельный эффект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Туннельный эффект – преодоление микрочастицей потенциального барьера в случае, когда ее полная энергия (остающаяся при туннелировании неизменной) меньше высоты барьер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1а"/>
          <p:cNvPicPr/>
          <p:nvPr/>
        </p:nvPicPr>
        <p:blipFill>
          <a:blip r:embed="rId1"/>
          <a:stretch/>
        </p:blipFill>
        <p:spPr>
          <a:xfrm>
            <a:off x="5094360" y="2433600"/>
            <a:ext cx="3589200" cy="290196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уннельный эффек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100120" y="1827360"/>
            <a:ext cx="358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хематическое представление классической и квантовой физической ситуации при возникновении барьера на пути частицы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Picture 7" descr="nanotech0018"/>
          <p:cNvPicPr/>
          <p:nvPr/>
        </p:nvPicPr>
        <p:blipFill>
          <a:blip r:embed="rId1"/>
          <a:stretch/>
        </p:blipFill>
        <p:spPr>
          <a:xfrm>
            <a:off x="1042920" y="2133720"/>
            <a:ext cx="3960720" cy="33829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Атомарно-силовой микроскоп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 этом приборе измеряемой физической величиной выступают непосредственно силы взаимодействия между атомами, величина которых определяется «шероховатостью» конкретного участка поверхности в точке измерения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СМ позволяет получать изображения с очень высокой степенью точности (вплоть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 </a:t>
            </a:r>
            <a:r>
              <a:rPr b="0" lang="ru-RU" sz="1900" spc="-1" strike="noStrike" baseline="30000">
                <a:solidFill>
                  <a:srgbClr val="000000"/>
                </a:solidFill>
                <a:latin typeface="Verdana"/>
              </a:rPr>
              <a:t>10-10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м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4" descr="2"/>
          <p:cNvPicPr/>
          <p:nvPr/>
        </p:nvPicPr>
        <p:blipFill>
          <a:blip r:embed="rId1"/>
          <a:stretch/>
        </p:blipFill>
        <p:spPr>
          <a:xfrm>
            <a:off x="5094360" y="2502000"/>
            <a:ext cx="3589200" cy="27637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Два главных принципа технологической обработ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71640" y="1980720"/>
            <a:ext cx="180000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дход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сверху-вниз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дход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снизу-вверх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7" descr="0008"/>
          <p:cNvPicPr/>
          <p:nvPr/>
        </p:nvPicPr>
        <p:blipFill>
          <a:blip r:embed="rId1"/>
          <a:stretch/>
        </p:blipFill>
        <p:spPr>
          <a:xfrm>
            <a:off x="3132000" y="1557360"/>
            <a:ext cx="6012000" cy="458136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ример нанотехнологии 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«снизу-вверх»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01" name="Picture 4" descr="0002"/>
          <p:cNvPicPr/>
          <p:nvPr/>
        </p:nvPicPr>
        <p:blipFill>
          <a:blip r:embed="rId1"/>
          <a:stretch/>
        </p:blipFill>
        <p:spPr>
          <a:xfrm>
            <a:off x="2124000" y="1941480"/>
            <a:ext cx="5184720" cy="491652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Информация о зачет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1827360"/>
            <a:ext cx="412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1 сдач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2 декабря(понедельник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5.30-17.00          Группа 103 (ауд. г34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уппа 104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4 декабря(среда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5.30-17.00          Группа 102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7.30-19.00          Группа 106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5 декабря(четверг)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15.30-17.00          Группа 101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группа 105 (ауд. г340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2 сдач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29 декабря(понедельник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 15.30-17.00          студенты всех групп                                 (ауд. г30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3 сдача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ата будет уточнен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Место проведения зачета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омоносовский проспект, д.27, корпус 4,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3 этаж (зона г – направо от лифтового холла), Первый учебный корпус МГУ на новой территории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чет включает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мпьютерное тестирование (выборка из 50 вопросов по всем темам курса, необходимо ответить правильно не менее, чем на половину вопросов)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роверку конспектов лекц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На зачете с собой необходимо иметь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четную книжку, студенческий билет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онспекты лекций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-4762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таростам групп взять в учебной части зачетную ведомость на группу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76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Фуллерены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В 1985 году были экспериментально при исследовании масс-пектров паров графита  обнаружены фуллерены – огромные молекулы углерода в виде замкнутых объемных структур, напоминающих по форме футбольный мяч.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Термин фуллерен происходит от имени Ричарда Букминстера Фуллера, сконструировавшего оригинальный купол павильона США на выставкев Монреале в  форме сочлененных пентагонов (пятиугольники) и гексагонов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Picture 7" descr="nanotech0019"/>
          <p:cNvPicPr/>
          <p:nvPr/>
        </p:nvPicPr>
        <p:blipFill>
          <a:blip r:embed="rId1"/>
          <a:stretch/>
        </p:blipFill>
        <p:spPr>
          <a:xfrm>
            <a:off x="5495760" y="1987560"/>
            <a:ext cx="2792520" cy="1660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nanotech0021"/>
          <p:cNvPicPr/>
          <p:nvPr/>
        </p:nvPicPr>
        <p:blipFill>
          <a:blip r:embed="rId2"/>
          <a:stretch/>
        </p:blipFill>
        <p:spPr>
          <a:xfrm>
            <a:off x="5484960" y="3960720"/>
            <a:ext cx="2814480" cy="19814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имер нанотехнологии «снизу-вверх»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глеродные нанотрубки представляют собой крошечные цилиндры или цилиндрические образования с диаметром от 0,5 до 10нм и длиной примерно в 1мкм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ни являются новой формой углерода, открытой в 1991 году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Picture 7" descr="3"/>
          <p:cNvPicPr/>
          <p:nvPr/>
        </p:nvPicPr>
        <p:blipFill>
          <a:blip r:embed="rId1"/>
          <a:stretch/>
        </p:blipFill>
        <p:spPr>
          <a:xfrm>
            <a:off x="5110200" y="2587680"/>
            <a:ext cx="3552840" cy="259236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Квантовая точка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Квантовая точка - </a:t>
            </a: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 искусственно созданная область вещества, в которой можно «хранить» небольшие количества электронов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9" descr="1"/>
          <p:cNvPicPr/>
          <p:nvPr/>
        </p:nvPicPr>
        <p:blipFill>
          <a:blip r:embed="rId1"/>
          <a:stretch/>
        </p:blipFill>
        <p:spPr>
          <a:xfrm>
            <a:off x="5114880" y="1827360"/>
            <a:ext cx="3548160" cy="411480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 в биологии и медицин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Причины интереса к применению наносистем в биологии и медицине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носистемы могут перемещаться внутри живых организмов и проникать внутрь клеток;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аносистемы могут создавать нанокомпозиты «наночастица/биологически активная оболочка»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 в медицин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овые парадигмы в медицине: создание долгосрочных и эффективных систем контроля здоровья, непрерывный контроль за состоянием организма. Реализация идей восстанавливающей медицины. Возникновение медицины «малого» вмешательств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Измерение содержания различных веществ в организме, лечебные операции при необходимости.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еализация идей «индивидуальной» медицины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азработка лекарственных препаратов с новым механизмом действия 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оизводство искусственных тканей и органов, не вызывающих реакцию отторжения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fig16"/>
          <p:cNvPicPr/>
          <p:nvPr/>
        </p:nvPicPr>
        <p:blipFill>
          <a:blip r:embed="rId1"/>
          <a:stretch/>
        </p:blipFill>
        <p:spPr>
          <a:xfrm>
            <a:off x="227160" y="2109960"/>
            <a:ext cx="3097080" cy="3103560"/>
          </a:xfrm>
          <a:prstGeom prst="rect">
            <a:avLst/>
          </a:prstGeom>
          <a:ln w="381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223" name="Rectangle 3"/>
          <p:cNvSpPr/>
          <p:nvPr/>
        </p:nvSpPr>
        <p:spPr>
          <a:xfrm>
            <a:off x="-63360" y="92160"/>
            <a:ext cx="931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Мечение живых клеток и визуализация внутриклеточных структур с помощью квантовых точек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3621240" y="2187720"/>
            <a:ext cx="5256000" cy="2947680"/>
            <a:chOff x="3621240" y="2187720"/>
            <a:chExt cx="5256000" cy="2947680"/>
          </a:xfrm>
        </p:grpSpPr>
        <p:pic>
          <p:nvPicPr>
            <p:cNvPr id="225" name="Picture 5" descr="fig15"/>
            <p:cNvPicPr/>
            <p:nvPr/>
          </p:nvPicPr>
          <p:blipFill>
            <a:blip r:embed="rId2"/>
            <a:stretch/>
          </p:blipFill>
          <p:spPr>
            <a:xfrm>
              <a:off x="3621240" y="2187720"/>
              <a:ext cx="5256000" cy="2947680"/>
            </a:xfrm>
            <a:prstGeom prst="rect">
              <a:avLst/>
            </a:prstGeom>
            <a:ln w="38160">
              <a:solidFill>
                <a:srgbClr val="000000"/>
              </a:solidFill>
              <a:miter/>
            </a:ln>
            <a:effectLst>
              <a:outerShdw dist="63504" dir="3183908" blurRad="0" rotWithShape="0">
                <a:srgbClr val="000000"/>
              </a:outerShdw>
            </a:effectLst>
          </p:spPr>
        </p:pic>
        <p:sp>
          <p:nvSpPr>
            <p:cNvPr id="226" name="Rectangle 6"/>
            <p:cNvSpPr/>
            <p:nvPr/>
          </p:nvSpPr>
          <p:spPr>
            <a:xfrm>
              <a:off x="3666960" y="2214360"/>
              <a:ext cx="295560" cy="263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Rectangle 7"/>
            <p:cNvSpPr/>
            <p:nvPr/>
          </p:nvSpPr>
          <p:spPr>
            <a:xfrm>
              <a:off x="5923080" y="2214360"/>
              <a:ext cx="295200" cy="263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28" name="Rectangle 8"/>
          <p:cNvSpPr/>
          <p:nvPr/>
        </p:nvSpPr>
        <p:spPr>
          <a:xfrm>
            <a:off x="4530600" y="6216480"/>
            <a:ext cx="45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Dahan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 et al.,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Science302:442–445,200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339840" y="187920"/>
            <a:ext cx="8683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ыявление раковых маркеров на клетк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 помощью квантовых точе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635040" y="2203560"/>
            <a:ext cx="7689960" cy="2492280"/>
            <a:chOff x="635040" y="2203560"/>
            <a:chExt cx="7689960" cy="2492280"/>
          </a:xfrm>
        </p:grpSpPr>
        <p:pic>
          <p:nvPicPr>
            <p:cNvPr id="232" name="Picture 4" descr="fig18"/>
            <p:cNvPicPr/>
            <p:nvPr/>
          </p:nvPicPr>
          <p:blipFill>
            <a:blip r:embed="rId1">
              <a:lum contrast="8000"/>
            </a:blip>
            <a:srcRect l="0" t="0" r="0" b="51101"/>
            <a:stretch/>
          </p:blipFill>
          <p:spPr>
            <a:xfrm>
              <a:off x="635040" y="2203560"/>
              <a:ext cx="5138640" cy="24894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</p:pic>
        <p:pic>
          <p:nvPicPr>
            <p:cNvPr id="233" name="Picture 5" descr="fig18"/>
            <p:cNvPicPr/>
            <p:nvPr/>
          </p:nvPicPr>
          <p:blipFill>
            <a:blip r:embed="rId2">
              <a:lum contrast="8000"/>
            </a:blip>
            <a:srcRect l="50282" t="50519" r="0" b="0"/>
            <a:stretch/>
          </p:blipFill>
          <p:spPr>
            <a:xfrm>
              <a:off x="5796000" y="2203560"/>
              <a:ext cx="2529000" cy="249228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  <a:effectLst>
              <a:outerShdw dist="81185" dir="3078030" blurRad="0" rotWithShape="0">
                <a:srgbClr val="000000"/>
              </a:outerShdw>
            </a:effectLst>
          </p:spPr>
        </p:pic>
      </p:grp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Наночастицы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quantum dots </a:t>
            </a: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для выявления очагов опухолей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6" name="Picture 3" descr=""/>
          <p:cNvPicPr/>
          <p:nvPr/>
        </p:nvPicPr>
        <p:blipFill>
          <a:blip r:embed="rId1"/>
          <a:stretch/>
        </p:blipFill>
        <p:spPr>
          <a:xfrm>
            <a:off x="401760" y="2119320"/>
            <a:ext cx="8348400" cy="360684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fig11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252440" y="1700280"/>
            <a:ext cx="6762960" cy="4270320"/>
          </a:xfrm>
          <a:prstGeom prst="rect">
            <a:avLst/>
          </a:prstGeom>
          <a:ln w="2844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239" name="Rectangle 3"/>
          <p:cNvSpPr/>
          <p:nvPr/>
        </p:nvSpPr>
        <p:spPr>
          <a:xfrm>
            <a:off x="0" y="96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69"/>
                </a:solidFill>
                <a:latin typeface="Arial"/>
              </a:rPr>
              <a:t>Наночиповая технология позволяет генерировать 100 миллионов точек на той же площади, которую занимает одна точка в микрочип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2838600" y="6389640"/>
            <a:ext cx="630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Ginger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DS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 et al 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, Angew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Chem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Int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Ed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Engl</a:t>
            </a:r>
            <a:r>
              <a:rPr b="1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43:30–45,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1984320" y="1447920"/>
            <a:ext cx="5254560" cy="4495680"/>
          </a:xfrm>
          <a:prstGeom prst="rect">
            <a:avLst/>
          </a:prstGeom>
          <a:solidFill>
            <a:srgbClr val="abd5ff"/>
          </a:solidFill>
          <a:ln w="47520">
            <a:solidFill>
              <a:srgbClr val="99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85800" y="228600"/>
            <a:ext cx="7924680" cy="1004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800" spc="-1" strike="noStrike">
                <a:solidFill>
                  <a:srgbClr val="feeb48"/>
                </a:solidFill>
                <a:latin typeface="Times New Roman"/>
              </a:rPr>
              <a:t>Образование новых кровеносных сосудов после инъекции гена phVEGF</a:t>
            </a:r>
            <a:r>
              <a:rPr b="1" lang="ru-RU" sz="2800" spc="-1" strike="noStrike" baseline="-25000">
                <a:solidFill>
                  <a:srgbClr val="feeb48"/>
                </a:solidFill>
                <a:latin typeface="Times New Roman"/>
              </a:rPr>
              <a:t>16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2095560" y="1486080"/>
          <a:ext cx="246204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560" y="1486080"/>
                    <a:ext cx="246204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5"/>
          <p:cNvGraphicFramePr/>
          <p:nvPr/>
        </p:nvGraphicFramePr>
        <p:xfrm>
          <a:off x="4879800" y="1486080"/>
          <a:ext cx="2384640" cy="440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9800" y="1486080"/>
                    <a:ext cx="238464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6"/>
          <p:cNvSpPr/>
          <p:nvPr/>
        </p:nvSpPr>
        <p:spPr>
          <a:xfrm>
            <a:off x="1905120" y="6019920"/>
            <a:ext cx="241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До инъекции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114800" y="6019920"/>
            <a:ext cx="350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ffff66"/>
                </a:solidFill>
                <a:latin typeface="Times New Roman"/>
              </a:rPr>
              <a:t>Через 8 неде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76360" y="76464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Ценностные регулятивы развития современного естествозна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52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опросы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нятия «НАНОНАУКА» и «НАНОТЕХНОЛОГИЯ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феры применения нанотехнологий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200160" y="2060640"/>
            <a:ext cx="8723160" cy="460224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1200" y="187200"/>
            <a:ext cx="89028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Arial"/>
              </a:rPr>
              <a:t>Молекулярные моторы – биосовместимые двигатели для нанороботов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571760" y="22143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иозины   кинезины   динеин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54" name="Object 5"/>
          <p:cNvGraphicFramePr/>
          <p:nvPr/>
        </p:nvGraphicFramePr>
        <p:xfrm>
          <a:off x="557280" y="4040280"/>
          <a:ext cx="3478320" cy="17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4040280"/>
                    <a:ext cx="3478320" cy="17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6"/>
          <p:cNvSpPr/>
          <p:nvPr/>
        </p:nvSpPr>
        <p:spPr>
          <a:xfrm>
            <a:off x="1965240" y="4059360"/>
            <a:ext cx="113508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REGULA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 Narrow"/>
              </a:rPr>
              <a:t>LIGHT CH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137040" y="4076640"/>
            <a:ext cx="1130040" cy="459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ESSENTIAL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LIGHT CHAI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1238400" y="5753160"/>
            <a:ext cx="12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иозин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I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9" name="Group 9"/>
          <p:cNvGrpSpPr/>
          <p:nvPr/>
        </p:nvGrpSpPr>
        <p:grpSpPr>
          <a:xfrm>
            <a:off x="703440" y="3848040"/>
            <a:ext cx="118440" cy="173160"/>
            <a:chOff x="703440" y="3848040"/>
            <a:chExt cx="118440" cy="173160"/>
          </a:xfrm>
        </p:grpSpPr>
        <p:sp>
          <p:nvSpPr>
            <p:cNvPr id="260" name="Rectangle 10"/>
            <p:cNvSpPr/>
            <p:nvPr/>
          </p:nvSpPr>
          <p:spPr>
            <a:xfrm>
              <a:off x="703440" y="3848040"/>
              <a:ext cx="72720" cy="173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11"/>
            <p:cNvSpPr/>
            <p:nvPr/>
          </p:nvSpPr>
          <p:spPr>
            <a:xfrm>
              <a:off x="705240" y="3855240"/>
              <a:ext cx="116640" cy="121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2" name="Group 12"/>
          <p:cNvGrpSpPr/>
          <p:nvPr/>
        </p:nvGrpSpPr>
        <p:grpSpPr>
          <a:xfrm>
            <a:off x="785880" y="3828960"/>
            <a:ext cx="3422160" cy="160200"/>
            <a:chOff x="785880" y="3828960"/>
            <a:chExt cx="3422160" cy="160200"/>
          </a:xfrm>
        </p:grpSpPr>
        <p:graphicFrame>
          <p:nvGraphicFramePr>
            <p:cNvPr id="263" name="Object 13"/>
            <p:cNvGraphicFramePr/>
            <p:nvPr/>
          </p:nvGraphicFramePr>
          <p:xfrm>
            <a:off x="2440080" y="3829680"/>
            <a:ext cx="1767960" cy="15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4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440080" y="3829680"/>
                      <a:ext cx="1767960" cy="15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5" name="Object 14"/>
            <p:cNvGraphicFramePr/>
            <p:nvPr/>
          </p:nvGraphicFramePr>
          <p:xfrm>
            <a:off x="785880" y="3828960"/>
            <a:ext cx="1759680" cy="159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6" name="Object 14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85880" y="3828960"/>
                      <a:ext cx="1759680" cy="15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67" name="Text Box 15"/>
          <p:cNvSpPr/>
          <p:nvPr/>
        </p:nvSpPr>
        <p:spPr>
          <a:xfrm>
            <a:off x="304560" y="3772080"/>
            <a:ext cx="47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Narrow"/>
              </a:rPr>
              <a:t>7 n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Text Box 16"/>
          <p:cNvSpPr/>
          <p:nvPr/>
        </p:nvSpPr>
        <p:spPr>
          <a:xfrm>
            <a:off x="1479240" y="33447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акти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Oval 17"/>
          <p:cNvSpPr/>
          <p:nvPr/>
        </p:nvSpPr>
        <p:spPr>
          <a:xfrm>
            <a:off x="2997360" y="2424240"/>
            <a:ext cx="88920" cy="8892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Oval 18"/>
          <p:cNvSpPr/>
          <p:nvPr/>
        </p:nvSpPr>
        <p:spPr>
          <a:xfrm>
            <a:off x="4651200" y="2424240"/>
            <a:ext cx="88920" cy="88920"/>
          </a:xfrm>
          <a:prstGeom prst="ellipse">
            <a:avLst/>
          </a:prstGeom>
          <a:solidFill>
            <a:srgbClr val="5f5f5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19"/>
          <p:cNvSpPr/>
          <p:nvPr/>
        </p:nvSpPr>
        <p:spPr>
          <a:xfrm>
            <a:off x="4754160" y="6026040"/>
            <a:ext cx="376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вижение полимеров актина по стеклу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крытому миозином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MV__20.wmv" descr=""/>
          <p:cNvPicPr/>
          <p:nvPr/>
        </p:nvPicPr>
        <p:blipFill>
          <a:blip r:embed="rId7"/>
          <a:stretch/>
        </p:blipFill>
        <p:spPr>
          <a:xfrm>
            <a:off x="4500720" y="2781360"/>
            <a:ext cx="3852720" cy="3083040"/>
          </a:xfrm>
          <a:prstGeom prst="rect">
            <a:avLst/>
          </a:prstGeom>
          <a:ln w="38160">
            <a:solidFill>
              <a:srgbClr val="5f5f5f"/>
            </a:solidFill>
            <a:miter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536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и в медицине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труктура нанокапсул и микрофотография нанокапсул  с захваченными люминесцентными частицами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Picture 4" descr="nanotech0014"/>
          <p:cNvPicPr/>
          <p:nvPr/>
        </p:nvPicPr>
        <p:blipFill>
          <a:blip r:embed="rId1"/>
          <a:stretch/>
        </p:blipFill>
        <p:spPr>
          <a:xfrm>
            <a:off x="3708360" y="4221000"/>
            <a:ext cx="4605480" cy="2121120"/>
          </a:xfrm>
          <a:prstGeom prst="rect">
            <a:avLst/>
          </a:prstGeom>
          <a:ln w="0">
            <a:noFill/>
          </a:ln>
        </p:spPr>
      </p:pic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наноробот"/>
          <p:cNvPicPr/>
          <p:nvPr/>
        </p:nvPicPr>
        <p:blipFill>
          <a:blip r:embed="rId1"/>
          <a:stretch/>
        </p:blipFill>
        <p:spPr>
          <a:xfrm>
            <a:off x="533520" y="3833640"/>
            <a:ext cx="3238560" cy="24289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наноробот"/>
          <p:cNvPicPr/>
          <p:nvPr/>
        </p:nvPicPr>
        <p:blipFill>
          <a:blip r:embed="rId2"/>
          <a:stretch/>
        </p:blipFill>
        <p:spPr>
          <a:xfrm>
            <a:off x="4911840" y="2558880"/>
            <a:ext cx="3830400" cy="246240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4"/>
          <p:cNvSpPr/>
          <p:nvPr/>
        </p:nvSpPr>
        <p:spPr>
          <a:xfrm>
            <a:off x="181800" y="6314400"/>
            <a:ext cx="40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Ю. Свидиненко , nanotech-now.com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4961160" y="5390280"/>
            <a:ext cx="37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Julian Baum/Science Photo Librar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2985120" y="329400"/>
            <a:ext cx="33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Наноробо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7" descr="наноробот2bmp"/>
          <p:cNvPicPr/>
          <p:nvPr/>
        </p:nvPicPr>
        <p:blipFill>
          <a:blip r:embed="rId3"/>
          <a:stretch/>
        </p:blipFill>
        <p:spPr>
          <a:xfrm>
            <a:off x="507960" y="1271520"/>
            <a:ext cx="3206880" cy="2405160"/>
          </a:xfrm>
          <a:prstGeom prst="rect">
            <a:avLst/>
          </a:prstGeom>
          <a:ln w="0">
            <a:noFill/>
          </a:ln>
        </p:spPr>
      </p:pic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я в информационных технологи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14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стройства с очень малым энергопотребление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Карманные» суперЭВ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Запоминающие устройства нового тип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Повышение характеристик ЭВМ на три поряд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7" descr="4"/>
          <p:cNvPicPr/>
          <p:nvPr/>
        </p:nvPicPr>
        <p:blipFill>
          <a:blip r:embed="rId1"/>
          <a:stretch/>
        </p:blipFill>
        <p:spPr>
          <a:xfrm>
            <a:off x="4932360" y="1557360"/>
            <a:ext cx="3335400" cy="4525920"/>
          </a:xfrm>
          <a:prstGeom prst="rect">
            <a:avLst/>
          </a:prstGeom>
          <a:ln w="0">
            <a:noFill/>
          </a:ln>
        </p:spPr>
      </p:pic>
      <p:sp>
        <p:nvSpPr>
          <p:cNvPr id="2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я в информационных технологиях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сновным элементом записывающей системы является  оптическое волокно с отверстием диаметром в несколько десятков нм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конечник такого оптического волокна двигается над плоскостью записывающего диска на расстоянии всего10-20нм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ри освещении поверхности лазерным лучом  на поверхности происходит запись информации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4" descr="5"/>
          <p:cNvPicPr/>
          <p:nvPr/>
        </p:nvPicPr>
        <p:blipFill>
          <a:blip r:embed="rId1"/>
          <a:stretch/>
        </p:blipFill>
        <p:spPr>
          <a:xfrm>
            <a:off x="5165640" y="1827360"/>
            <a:ext cx="3444840" cy="4114800"/>
          </a:xfrm>
          <a:prstGeom prst="rect">
            <a:avLst/>
          </a:prstGeom>
          <a:ln w="0">
            <a:noFill/>
          </a:ln>
        </p:spPr>
      </p:pic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Нанотехнологии и проблемы окружающей среды и энергетики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369800" y="2311200"/>
            <a:ext cx="7313400" cy="36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здание нового типа производст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овые возможности контроля за состоянием среды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здание альтернативных источников энергии и разработка эффективных методов сохранения и передачи энергии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 в сельском хозяйстве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Решение проблемы нехватки пит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оздание стабильного и достаточного сельскохозяйственного производства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Широкое применение техники ДНК-чипов и ДНК-анализа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Нанотехнология выступает связующим звеном, объединяющим подходы и методики разных дисциплин. С этим обстоятельством связана основная трудность в развитии и практическом внедрении нанотехнологий – необходимость постоянного сотрудничества и согласования между учеными разных специальностей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технология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2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редства, потраченные из бюджета разных стран на нанотехнологии в 1997-2005 годах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Picture 9" descr="nanotech0012"/>
          <p:cNvPicPr/>
          <p:nvPr/>
        </p:nvPicPr>
        <p:blipFill>
          <a:blip r:embed="rId1"/>
          <a:stretch/>
        </p:blipFill>
        <p:spPr>
          <a:xfrm>
            <a:off x="5100480" y="2762280"/>
            <a:ext cx="3583080" cy="2244600"/>
          </a:xfrm>
          <a:prstGeom prst="rect">
            <a:avLst/>
          </a:prstGeom>
          <a:ln w="0">
            <a:noFill/>
          </a:ln>
        </p:spPr>
      </p:pic>
      <p:sp>
        <p:nvSpPr>
          <p:cNvPr id="3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Литература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953800" y="1827360"/>
            <a:ext cx="5729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материалы. Нанотехнологии. Наносистемная техника М.2006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spcBef>
                <a:spcPts val="5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ейер К., Дэвис С. Живая организация: Компания как живой организм: Грядущая конвергенция информатики, нанотехнологии, биологии и бизнеса. М. 2007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8" name="Picture 6" descr="Наноматериалы. Нанотехнологии. Наносистемная техника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00000" y="1844640"/>
            <a:ext cx="1540080" cy="223200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8" descr="00000005976883_267_1"/>
          <p:cNvPicPr/>
          <p:nvPr/>
        </p:nvPicPr>
        <p:blipFill>
          <a:blip r:embed="rId3"/>
          <a:stretch/>
        </p:blipFill>
        <p:spPr>
          <a:xfrm>
            <a:off x="971640" y="4365720"/>
            <a:ext cx="1338120" cy="2087640"/>
          </a:xfrm>
          <a:prstGeom prst="rect">
            <a:avLst/>
          </a:prstGeom>
          <a:ln w="0">
            <a:noFill/>
          </a:ln>
        </p:spPr>
      </p:pic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Наноразмеры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17680" y="2050920"/>
            <a:ext cx="265896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«нано»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означае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изменение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масштаба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в 10</a:t>
            </a:r>
            <a:r>
              <a:rPr b="0" lang="ru-RU" sz="21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 нм = 10</a:t>
            </a:r>
            <a:r>
              <a:rPr b="0" lang="ru-RU" sz="2100" spc="-1" strike="noStrike" baseline="30000">
                <a:solidFill>
                  <a:srgbClr val="000000"/>
                </a:solidFill>
                <a:latin typeface="Verdana"/>
              </a:rPr>
              <a:t>-9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м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7" descr="0001"/>
          <p:cNvPicPr/>
          <p:nvPr/>
        </p:nvPicPr>
        <p:blipFill>
          <a:blip r:embed="rId1"/>
          <a:stretch/>
        </p:blipFill>
        <p:spPr>
          <a:xfrm>
            <a:off x="4067280" y="1268280"/>
            <a:ext cx="4752720" cy="522936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8480" y="455400"/>
            <a:ext cx="667872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норазмеры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15840" y="2487600"/>
            <a:ext cx="9181080" cy="3561840"/>
            <a:chOff x="15840" y="2487600"/>
            <a:chExt cx="9181080" cy="3561840"/>
          </a:xfrm>
        </p:grpSpPr>
        <p:sp>
          <p:nvSpPr>
            <p:cNvPr id="114" name="Rectangle 5"/>
            <p:cNvSpPr/>
            <p:nvPr/>
          </p:nvSpPr>
          <p:spPr>
            <a:xfrm>
              <a:off x="6859440" y="4249800"/>
              <a:ext cx="1924200" cy="536400"/>
            </a:xfrm>
            <a:prstGeom prst="rect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Text Box 6"/>
            <p:cNvSpPr/>
            <p:nvPr/>
          </p:nvSpPr>
          <p:spPr>
            <a:xfrm>
              <a:off x="6961320" y="4275360"/>
              <a:ext cx="1756800" cy="6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Многоклеточные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рганизмы     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(1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m &gt;</a:t>
              </a: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3276720" y="3616200"/>
              <a:ext cx="144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3040200" y="3616200"/>
              <a:ext cx="144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2822400" y="3616200"/>
              <a:ext cx="180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Line 10"/>
            <p:cNvSpPr/>
            <p:nvPr/>
          </p:nvSpPr>
          <p:spPr>
            <a:xfrm>
              <a:off x="2543040" y="3616200"/>
              <a:ext cx="180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Rectangle 11"/>
            <p:cNvSpPr/>
            <p:nvPr/>
          </p:nvSpPr>
          <p:spPr>
            <a:xfrm>
              <a:off x="4729320" y="4230720"/>
              <a:ext cx="1828800" cy="809640"/>
            </a:xfrm>
            <a:prstGeom prst="rect">
              <a:avLst/>
            </a:prstGeom>
            <a:solidFill>
              <a:srgbClr val="9bdeff"/>
            </a:solidFill>
            <a:ln w="28440">
              <a:solidFill>
                <a:srgbClr val="9bde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Rectangle 12"/>
            <p:cNvSpPr/>
            <p:nvPr/>
          </p:nvSpPr>
          <p:spPr>
            <a:xfrm>
              <a:off x="2444760" y="4257720"/>
              <a:ext cx="1828800" cy="714240"/>
            </a:xfrm>
            <a:prstGeom prst="rect">
              <a:avLst/>
            </a:prstGeom>
            <a:solidFill>
              <a:srgbClr val="b00000"/>
            </a:solidFill>
            <a:ln w="28440">
              <a:solidFill>
                <a:srgbClr val="b00000"/>
              </a:solidFill>
              <a:miter/>
            </a:ln>
            <a:effectLst>
              <a:outerShdw dist="71785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2438280" y="4268880"/>
              <a:ext cx="2454480" cy="9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Белки, ДНК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РНК,  антитела,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вирусы   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(1 -100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r>
                <a:rPr b="1" lang="ru-RU" sz="1800" spc="-1" strike="noStrike">
                  <a:solidFill>
                    <a:srgbClr val="ffff66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23" name="Group 14"/>
            <p:cNvGrpSpPr/>
            <p:nvPr/>
          </p:nvGrpSpPr>
          <p:grpSpPr>
            <a:xfrm>
              <a:off x="301680" y="4214880"/>
              <a:ext cx="1925640" cy="520560"/>
              <a:chOff x="301680" y="4214880"/>
              <a:chExt cx="1925640" cy="520560"/>
            </a:xfrm>
          </p:grpSpPr>
          <p:sp>
            <p:nvSpPr>
              <p:cNvPr id="124" name="Rectangle 15"/>
              <p:cNvSpPr/>
              <p:nvPr/>
            </p:nvSpPr>
            <p:spPr>
              <a:xfrm>
                <a:off x="320760" y="4250160"/>
                <a:ext cx="1752480" cy="311400"/>
              </a:xfrm>
              <a:prstGeom prst="rect">
                <a:avLst/>
              </a:prstGeom>
              <a:solidFill>
                <a:srgbClr val="ffff66"/>
              </a:solidFill>
              <a:ln w="28440">
                <a:solidFill>
                  <a:srgbClr val="ffff66"/>
                </a:solidFill>
                <a:miter/>
              </a:ln>
              <a:effectLst>
                <a:outerShdw dist="53966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Text Box 16"/>
              <p:cNvSpPr/>
              <p:nvPr/>
            </p:nvSpPr>
            <p:spPr>
              <a:xfrm>
                <a:off x="301680" y="4214880"/>
                <a:ext cx="1925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Атомы</a:t>
                </a:r>
                <a:r>
                  <a:rPr b="1" lang="ru-RU" sz="1800" spc="-1" strike="noStrike">
                    <a:solidFill>
                      <a:srgbClr val="ffffff"/>
                    </a:solidFill>
                    <a:latin typeface="Arial"/>
                  </a:rPr>
                  <a:t>       </a:t>
                </a: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</a:rPr>
                  <a:t>(0,1-0,5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nm</a:t>
                </a:r>
                <a:r>
                  <a:rPr b="1" lang="ru-RU" sz="10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26" name="Text Box 17"/>
            <p:cNvSpPr/>
            <p:nvPr/>
          </p:nvSpPr>
          <p:spPr>
            <a:xfrm>
              <a:off x="4692240" y="4253040"/>
              <a:ext cx="1870560" cy="7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Бактерии    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(0,1 -10 </a:t>
              </a: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Эритроциты     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(10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Яйцеклетка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5f5f5f"/>
                  </a:solidFill>
                  <a:latin typeface="Arial"/>
                </a:rPr>
                <a:t>человека          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(100 </a:t>
              </a:r>
              <a:r>
                <a:rPr b="1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Rectangle 18"/>
            <p:cNvSpPr/>
            <p:nvPr/>
          </p:nvSpPr>
          <p:spPr>
            <a:xfrm>
              <a:off x="4560840" y="5348160"/>
              <a:ext cx="258120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Видимый свет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(1</a:t>
              </a:r>
              <a:r>
                <a:rPr b="1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Инфракрасны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Лучи</a:t>
              </a:r>
              <a:r>
                <a:rPr b="1" lang="en-US" sz="1400" spc="-1" strike="noStrike">
                  <a:solidFill>
                    <a:srgbClr val="a7e9a7"/>
                  </a:solidFill>
                  <a:latin typeface="Arial"/>
                </a:rPr>
                <a:t>                   </a:t>
              </a: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1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ru-RU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Rectangle 19"/>
            <p:cNvSpPr/>
            <p:nvPr/>
          </p:nvSpPr>
          <p:spPr>
            <a:xfrm>
              <a:off x="246960" y="5348160"/>
              <a:ext cx="21528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Рентгеновское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de4ff"/>
                  </a:solidFill>
                  <a:latin typeface="Arial"/>
                </a:rPr>
                <a:t>излучение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(0,1-10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Rectangle 20"/>
            <p:cNvSpPr/>
            <p:nvPr/>
          </p:nvSpPr>
          <p:spPr>
            <a:xfrm>
              <a:off x="2142720" y="534816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Ультрафиолет</a:t>
              </a:r>
              <a:r>
                <a:rPr b="1" lang="ru-RU" sz="1400" spc="-1" strike="noStrike">
                  <a:solidFill>
                    <a:srgbClr val="ade4ff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(100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Rectangle 21"/>
            <p:cNvSpPr/>
            <p:nvPr/>
          </p:nvSpPr>
          <p:spPr>
            <a:xfrm>
              <a:off x="6930360" y="5348160"/>
              <a:ext cx="1962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a7e9a7"/>
                  </a:solidFill>
                  <a:latin typeface="Arial"/>
                </a:rPr>
                <a:t>Микроволны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 (1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22"/>
            <p:cNvSpPr/>
            <p:nvPr/>
          </p:nvSpPr>
          <p:spPr>
            <a:xfrm>
              <a:off x="6738840" y="3365640"/>
              <a:ext cx="180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Line 23"/>
            <p:cNvSpPr/>
            <p:nvPr/>
          </p:nvSpPr>
          <p:spPr>
            <a:xfrm>
              <a:off x="8907480" y="3365640"/>
              <a:ext cx="144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Rectangle 24"/>
            <p:cNvSpPr/>
            <p:nvPr/>
          </p:nvSpPr>
          <p:spPr>
            <a:xfrm>
              <a:off x="15840" y="3006720"/>
              <a:ext cx="918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-12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5"/>
            <p:cNvSpPr/>
            <p:nvPr/>
          </p:nvSpPr>
          <p:spPr>
            <a:xfrm>
              <a:off x="138240" y="3365640"/>
              <a:ext cx="144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Rectangle 26"/>
            <p:cNvSpPr/>
            <p:nvPr/>
          </p:nvSpPr>
          <p:spPr>
            <a:xfrm>
              <a:off x="2131200" y="3017880"/>
              <a:ext cx="845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ffff37"/>
                  </a:solidFill>
                  <a:latin typeface="Arial"/>
                </a:rPr>
                <a:t>-9</a:t>
              </a: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ffff37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ffff37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ffff37"/>
                  </a:solidFill>
                  <a:latin typeface="Arial"/>
                </a:rPr>
                <a:t>nm</a:t>
              </a:r>
              <a:r>
                <a:rPr b="1" lang="ru-RU" sz="1400" spc="-1" strike="noStrike">
                  <a:solidFill>
                    <a:srgbClr val="ffff37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Rectangle 27"/>
            <p:cNvSpPr/>
            <p:nvPr/>
          </p:nvSpPr>
          <p:spPr>
            <a:xfrm>
              <a:off x="4343400" y="3017880"/>
              <a:ext cx="874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-6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Rectangle 28"/>
            <p:cNvSpPr/>
            <p:nvPr/>
          </p:nvSpPr>
          <p:spPr>
            <a:xfrm>
              <a:off x="6544800" y="3017880"/>
              <a:ext cx="8179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000000"/>
                  </a:solidFill>
                  <a:latin typeface="Arial"/>
                </a:rPr>
                <a:t>-3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m</a:t>
              </a:r>
              <a:r>
                <a:rPr b="1" lang="ru-RU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Rectangle 29"/>
            <p:cNvSpPr/>
            <p:nvPr/>
          </p:nvSpPr>
          <p:spPr>
            <a:xfrm>
              <a:off x="3540240" y="3017880"/>
              <a:ext cx="8744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10</a:t>
              </a:r>
              <a:r>
                <a:rPr b="1" lang="ru-RU" sz="1800" spc="-1" strike="noStrike" baseline="30000">
                  <a:solidFill>
                    <a:srgbClr val="ffff37"/>
                  </a:solidFill>
                  <a:latin typeface="Arial"/>
                </a:rPr>
                <a:t>-7</a:t>
              </a: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ffff37"/>
                  </a:solidFill>
                  <a:latin typeface="Arial"/>
                </a:rPr>
                <a:t>m</a:t>
              </a:r>
              <a:r>
                <a:rPr b="1" lang="ru-RU" sz="16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37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>
              <a:off x="2162160" y="2487600"/>
              <a:ext cx="202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37"/>
                  </a:solidFill>
                  <a:latin typeface="Arial"/>
                </a:rPr>
                <a:t>Н а н о ш к а л а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AutoShape 31"/>
            <p:cNvSpPr/>
            <p:nvPr/>
          </p:nvSpPr>
          <p:spPr>
            <a:xfrm rot="16200000">
              <a:off x="3032640" y="2108520"/>
              <a:ext cx="203400" cy="1643040"/>
            </a:xfrm>
            <a:custGeom>
              <a:avLst/>
              <a:gdLst>
                <a:gd name="textAreaLeft" fmla="*/ 129960 w 203400"/>
                <a:gd name="textAreaRight" fmla="*/ 203760 w 203400"/>
                <a:gd name="textAreaTop" fmla="*/ 42840 h 1643040"/>
                <a:gd name="textAreaBottom" fmla="*/ 1600200 h 164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ff37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Line 32"/>
            <p:cNvSpPr/>
            <p:nvPr/>
          </p:nvSpPr>
          <p:spPr>
            <a:xfrm>
              <a:off x="4516560" y="3365640"/>
              <a:ext cx="1440" cy="52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Line 33"/>
            <p:cNvSpPr/>
            <p:nvPr/>
          </p:nvSpPr>
          <p:spPr>
            <a:xfrm>
              <a:off x="3789360" y="3365640"/>
              <a:ext cx="1440" cy="527040"/>
            </a:xfrm>
            <a:prstGeom prst="line">
              <a:avLst/>
            </a:prstGeom>
            <a:ln w="3816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Line 34"/>
            <p:cNvSpPr/>
            <p:nvPr/>
          </p:nvSpPr>
          <p:spPr>
            <a:xfrm>
              <a:off x="2338560" y="3365640"/>
              <a:ext cx="1440" cy="527040"/>
            </a:xfrm>
            <a:prstGeom prst="line">
              <a:avLst/>
            </a:prstGeom>
            <a:ln w="3816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Rectangle 35"/>
            <p:cNvSpPr/>
            <p:nvPr/>
          </p:nvSpPr>
          <p:spPr>
            <a:xfrm>
              <a:off x="136440" y="3743280"/>
              <a:ext cx="2206800" cy="1494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Rectangle 36"/>
            <p:cNvSpPr/>
            <p:nvPr/>
          </p:nvSpPr>
          <p:spPr>
            <a:xfrm>
              <a:off x="8566560" y="3017880"/>
              <a:ext cx="6303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37"/>
            <p:cNvSpPr/>
            <p:nvPr/>
          </p:nvSpPr>
          <p:spPr>
            <a:xfrm>
              <a:off x="3543120" y="3616200"/>
              <a:ext cx="1800" cy="187560"/>
            </a:xfrm>
            <a:prstGeom prst="line">
              <a:avLst/>
            </a:prstGeom>
            <a:ln w="28440">
              <a:solidFill>
                <a:srgbClr val="ffff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Rectangle 38"/>
            <p:cNvSpPr/>
            <p:nvPr/>
          </p:nvSpPr>
          <p:spPr>
            <a:xfrm>
              <a:off x="2332080" y="3743280"/>
              <a:ext cx="2206440" cy="149400"/>
            </a:xfrm>
            <a:prstGeom prst="rect">
              <a:avLst/>
            </a:prstGeom>
            <a:solidFill>
              <a:srgbClr val="b00000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Rectangle 39"/>
            <p:cNvSpPr/>
            <p:nvPr/>
          </p:nvSpPr>
          <p:spPr>
            <a:xfrm>
              <a:off x="4529160" y="3743280"/>
              <a:ext cx="2206440" cy="149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Rectangle 40"/>
            <p:cNvSpPr/>
            <p:nvPr/>
          </p:nvSpPr>
          <p:spPr>
            <a:xfrm>
              <a:off x="6729480" y="3729240"/>
              <a:ext cx="2206440" cy="163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40186" dir="4303641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59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Определения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6920" y="1773000"/>
            <a:ext cx="75438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нонаука – междисциплинарная наука, относящаяся к фундаментальным физико-химическим исследованиям объектов и процессов с масштабами в несколько нм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нотехнология - совокупность прикладных исследований нанонауки и их практических применений в технологии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здания объектов, потребительские свойства которых определяются необходимостью контроля и манипулирования отдельными атомами, молекулами, надмолекулярными образованиями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Нанотехнология: хронология</a:t>
            </a: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55" name="Picture 3" descr="0005"/>
          <p:cNvPicPr/>
          <p:nvPr/>
        </p:nvPicPr>
        <p:blipFill>
          <a:blip r:embed="rId1"/>
          <a:stretch/>
        </p:blipFill>
        <p:spPr>
          <a:xfrm>
            <a:off x="2771640" y="1760400"/>
            <a:ext cx="4891320" cy="509760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ерспективы применения нанотехнологии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6920" y="1625400"/>
            <a:ext cx="216072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Нанотехнология самая междисциплинарная отрасль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Она связана с химией, физикой, медициной, физическим материаловедением электроникой и многими другими дисциплинами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7" descr="0003"/>
          <p:cNvPicPr/>
          <p:nvPr/>
        </p:nvPicPr>
        <p:blipFill>
          <a:blip r:embed="rId1"/>
          <a:stretch/>
        </p:blipFill>
        <p:spPr>
          <a:xfrm>
            <a:off x="2843280" y="1628640"/>
            <a:ext cx="5796000" cy="47865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Типы наноматериалов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Согласно рекомендациям 7 Международной конференции по нанотехнологиям (Висбаден, 2004 год) выделяют следующие типы наноматериалов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пористые структур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частицы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трубки и нановолокн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дисперсии (коллоиды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структурированные поверхности и пленк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кристаллы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Нанокластеры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4:09:52Z</dcterms:created>
  <dc:creator>EDU-1</dc:creator>
  <dc:description/>
  <dc:language>en-US</dc:language>
  <cp:lastModifiedBy>RomaK</cp:lastModifiedBy>
  <dcterms:modified xsi:type="dcterms:W3CDTF">2014-10-31T13:39:05Z</dcterms:modified>
  <cp:revision>36</cp:revision>
  <dc:subject/>
  <dc:title>НАНОТЕХНОЛОГ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