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5.jpeg" ContentType="image/jpeg"/>
  <Override PartName="/ppt/media/image8.jpeg" ContentType="image/jpeg"/>
  <Override PartName="/ppt/media/image35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24.wmf" ContentType="image/x-wmf"/>
  <Override PartName="/ppt/media/image10.jpeg" ContentType="image/jpe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6546-D861-4573-903F-D3AA6A0CC7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philos.msu.ru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312C-8DB3-49FC-9689-A67E1906DA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программы курса. Программа курса размещена на сайте философского факультета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HILOS.MSU.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Учебный отдел/Методическое обеспечение учебных курсов/каф. Философии и методологии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конспектов лекций по курсу в отдельной тетра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е текущих работ по темам курса на лек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119F-01D3-4815-948B-F6895F77D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миниатюр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ждение вещества в наноматериала в особом «наноразмерном» состоя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2175-3E4E-458F-A3F0-62DD9E47F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ие микроск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FEAF-1B5C-4C30-BCF6-C29622480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2F4E-C68E-4210-8613-49039576AC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FCA1-AB44-484B-8732-E7A51DD35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A6D3-5E6B-449B-A6B8-9AFAA76AB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3011-67C1-4794-A877-876A65B43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4236-6C34-4331-8557-EAF8F5A47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арно-силово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М позволяет получать изображения с очень высокой степенью точности (впл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0-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A039-92DC-4F8C-9085-25834CE063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верху-вниз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1868-2CA1-47BD-9CE0-3528A89D9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B00-3554-4F7E-A92B-E443193CD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зач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3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4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декабря(сред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2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30-19.00          Группа 106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декабря(четв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1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5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5.30-17.00          студенты всех групп                                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та будет уточн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сто проведения заче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омоносовский проспект, д.27, корпус 4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 включ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рку конспектов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зачете с собой необходимо иметь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ную книжку, студенческий би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спекты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таростам групп взять в учебной части зачетную ведомость на групп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9CDD-0F61-41D7-938C-6AF20F5D06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ллер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BA1F-EC4D-4E93-96D3-FEC2ECAC6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являются новой формой углерода, открытой в 1991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ADFD-816B-4FE3-B19F-5805ADB5F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нтовая т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нтовая точка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1FA9-1CA6-4FCD-BAE0-99ABC3521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биологии и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нтереса к применению наносистем в биологии и медици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перемещаться внутри живых организмов и проникать внутрь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46D1-4986-402B-873F-0B4FC448D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дей «индивидуальной»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лекарственных препаратов с новым механизмом действи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искусственных тканей и органов, не вызывающих реакцию оттор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AF87-1264-4D8C-B225-28BEFF2DED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7916-8CD4-4FE1-ADF6-948FBC455C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92B1-71DA-439C-83FD-C5EC891AC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2E4B-C5F4-4DD9-982A-B4CB7B7FD5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E890-3851-4551-BBE7-7361A54C19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12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CAC0-409F-48F8-A879-3E36BA314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«НАНОНАУКА» и «НАНОТЕХН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применения нано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7390-5DFF-40AC-9090-9C1044485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иозины   кинезины   дине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5FEA-57BC-4D0A-80E6-37A0A1272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и в медиц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1570-BC4B-4913-9CBB-389F233E4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0A35-3F43-403A-9015-07F66B64B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с очень малым энергопотреб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рманные» супер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инающие устройства нового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характеристик ЭВМ на три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079B-3A20-473B-BCF6-D66D2FA68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2BC8-0E1F-41BA-A650-C468814A9A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типа произво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возможности контроля за состоянием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29DD-E153-4D0B-ACFA-F2A5F10A6E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проблемы нехватки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табильного и достаточного сельскохозяйственн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применение техники ДНК-чипов и ДНК-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2A03-9C49-455A-A943-A18A7E66A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1792-7C85-4176-B05D-88C7E407B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траченные из бюджета разных стран на нанотехнологии в 1997-2005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4BD2-1FF6-4D69-8C53-2F1CFED93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. Нанотехнологии. Наносистемная техника М.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15E7-AF3D-431A-A485-CFCEB1114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раз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шта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нм =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7CCC-9C06-421F-AAE6-69E5F4EC39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4C00-BEEA-416A-951A-56FCCC763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E668-A29E-4CEE-BF3A-127C0814A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: хронолог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222C-37FB-4425-9E34-A7FF39DFF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применения нано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самая междисциплинарная отрас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4F45-E2CC-405D-8A30-E0599B71F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пористые 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рубки и нановолок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дисперсии (ко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труктурированные поверхности и пл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ристал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ласт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514-62F6-4731-A052-F008A241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FA5-2811-445F-9428-370756C1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BAC-FE16-4724-BB39-3A3947CF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D38-8A10-4BC5-96A5-BDC1707C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FA95-4130-4B72-BD52-EEAAFF01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5396-ADC4-4C1F-AA1A-214B61F4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4BE7-8C57-4961-B020-7B769FB2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A2D3-5EF2-455E-9779-66136FC4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ECC1-3FEF-4338-8E01-7DEDB223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8659-9A3D-44A4-80EC-93C33A38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9016-6079-42DD-B97A-FC9AC4D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05A-B039-4471-B2EA-37952652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EDD5-E8CC-4E57-ACC6-302A4F0B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90E4-8877-4C2E-89D1-34E155A2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93A1-6F92-44DB-9CF1-3C7AE374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03E8-5DED-471B-BFC3-6FF5080E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8203-E435-4E8B-B873-9463271B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56D-3A2B-4875-A1F2-72F66F1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775-B29A-4390-ABAB-8490F6F3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4C0-D227-4E26-9351-C9BF4F43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96D-0AA1-43B1-8A6D-D4008378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0C9-752C-46FF-8847-E787C6DD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1F6-120F-42EB-99D5-A346BE6C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A78-43FF-4834-B9A4-FF994CD8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D53A-3E0D-4F45-82D0-0BD3AB68C8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D450-F4F9-4500-B8CF-316645BD67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программы курса. Программа курса размещена на сайте философского факультета в разделе Учебный отдел/Методическое обеспечение учебных курсов/каф. Философии и методологии нау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конспектов лекций по курсу в отдельной тетрад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полнение текущих работ по темам курса на лекция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j0217698"/>
          <p:cNvPicPr/>
          <p:nvPr/>
        </p:nvPicPr>
        <p:blipFill>
          <a:blip r:embed="rId1"/>
          <a:stretch/>
        </p:blipFill>
        <p:spPr>
          <a:xfrm>
            <a:off x="7020000" y="4797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войства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перминиатюризац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хождение вещества в наноматериала в особом «наноразмерном» состояни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тические микроскоп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microscope"/>
          <p:cNvPicPr/>
          <p:nvPr/>
        </p:nvPicPr>
        <p:blipFill>
          <a:blip r:embed="rId1"/>
          <a:stretch/>
        </p:blipFill>
        <p:spPr>
          <a:xfrm>
            <a:off x="5788080" y="2424240"/>
            <a:ext cx="2201760" cy="291924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8920" y="1827360"/>
            <a:ext cx="391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просвеч электронный микроскоп"/>
          <p:cNvPicPr/>
          <p:nvPr/>
        </p:nvPicPr>
        <p:blipFill>
          <a:blip r:embed="rId1"/>
          <a:stretch/>
        </p:blipFill>
        <p:spPr>
          <a:xfrm>
            <a:off x="1895400" y="2152800"/>
            <a:ext cx="2538360" cy="3463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сканирующий зондовый"/>
          <p:cNvPicPr/>
          <p:nvPr/>
        </p:nvPicPr>
        <p:blipFill>
          <a:blip r:embed="rId1"/>
          <a:stretch/>
        </p:blipFill>
        <p:spPr>
          <a:xfrm>
            <a:off x="6851520" y="3854520"/>
            <a:ext cx="74880" cy="6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сканирэектр микроскоп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электронный зондовый"/>
          <p:cNvPicPr/>
          <p:nvPr/>
        </p:nvPicPr>
        <p:blipFill>
          <a:blip r:embed="rId1"/>
          <a:stretch/>
        </p:blipFill>
        <p:spPr>
          <a:xfrm>
            <a:off x="5219640" y="2349360"/>
            <a:ext cx="313524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1а"/>
          <p:cNvPicPr/>
          <p:nvPr/>
        </p:nvPicPr>
        <p:blipFill>
          <a:blip r:embed="rId1"/>
          <a:stretch/>
        </p:blipFill>
        <p:spPr>
          <a:xfrm>
            <a:off x="5094360" y="2433600"/>
            <a:ext cx="3589200" cy="2901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уннельный эффек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0120" y="1827360"/>
            <a:ext cx="35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nanotech0018"/>
          <p:cNvPicPr/>
          <p:nvPr/>
        </p:nvPicPr>
        <p:blipFill>
          <a:blip r:embed="rId1"/>
          <a:stretch/>
        </p:blipFill>
        <p:spPr>
          <a:xfrm>
            <a:off x="1042920" y="2133720"/>
            <a:ext cx="3960720" cy="3382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томарно-силово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СМ позволяет получать изображения с очень высокой степенью точности (вплоть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 </a:t>
            </a:r>
            <a:r>
              <a:rPr b="0" lang="ru-RU" sz="1900" spc="-1" strike="noStrike" baseline="30000">
                <a:solidFill>
                  <a:srgbClr val="000000"/>
                </a:solidFill>
                <a:latin typeface="Verdana"/>
              </a:rPr>
              <a:t>10-10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2"/>
          <p:cNvPicPr/>
          <p:nvPr/>
        </p:nvPicPr>
        <p:blipFill>
          <a:blip r:embed="rId1"/>
          <a:stretch/>
        </p:blipFill>
        <p:spPr>
          <a:xfrm>
            <a:off x="5094360" y="2502000"/>
            <a:ext cx="3589200" cy="2763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980720"/>
            <a:ext cx="18000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верху-вниз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низу-ввер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0008"/>
          <p:cNvPicPr/>
          <p:nvPr/>
        </p:nvPicPr>
        <p:blipFill>
          <a:blip r:embed="rId1"/>
          <a:stretch/>
        </p:blipFill>
        <p:spPr>
          <a:xfrm>
            <a:off x="3132000" y="1557360"/>
            <a:ext cx="6012000" cy="4581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мер нанотехнологии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«снизу-вверх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4" descr="0002"/>
          <p:cNvPicPr/>
          <p:nvPr/>
        </p:nvPicPr>
        <p:blipFill>
          <a:blip r:embed="rId1"/>
          <a:stretch/>
        </p:blipFill>
        <p:spPr>
          <a:xfrm>
            <a:off x="2124000" y="1941480"/>
            <a:ext cx="5184720" cy="4916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я о зачет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412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2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3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4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4 декабря(среда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2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7.30-19.00          Группа 106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5 декабря(четверг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1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5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9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15.30-17.00          студенты всех групп                                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ата будет уточне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проведения заче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моносовский проспект, д.27, корпус 4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 включа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верку конспектов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 зачете с собой необходимо имет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ную книжку, студенческий биле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нспекты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аростам групп взять в учебной части зачетную ведомость на груп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уллере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nanotech0019"/>
          <p:cNvPicPr/>
          <p:nvPr/>
        </p:nvPicPr>
        <p:blipFill>
          <a:blip r:embed="rId1"/>
          <a:stretch/>
        </p:blipFill>
        <p:spPr>
          <a:xfrm>
            <a:off x="5495760" y="1987560"/>
            <a:ext cx="2792520" cy="166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nanotech0021"/>
          <p:cNvPicPr/>
          <p:nvPr/>
        </p:nvPicPr>
        <p:blipFill>
          <a:blip r:embed="rId2"/>
          <a:stretch/>
        </p:blipFill>
        <p:spPr>
          <a:xfrm>
            <a:off x="5484960" y="3960720"/>
            <a:ext cx="2814480" cy="19814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мер нанотехнологии «снизу-вверх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ни являются новой формой углерода, открытой в 1991 год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7" descr="3"/>
          <p:cNvPicPr/>
          <p:nvPr/>
        </p:nvPicPr>
        <p:blipFill>
          <a:blip r:embed="rId1"/>
          <a:stretch/>
        </p:blipFill>
        <p:spPr>
          <a:xfrm>
            <a:off x="5110200" y="2587680"/>
            <a:ext cx="3552840" cy="25923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вантовая точ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вантовая точка -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9" descr="1"/>
          <p:cNvPicPr/>
          <p:nvPr/>
        </p:nvPicPr>
        <p:blipFill>
          <a:blip r:embed="rId1"/>
          <a:stretch/>
        </p:blipFill>
        <p:spPr>
          <a:xfrm>
            <a:off x="5114880" y="1827360"/>
            <a:ext cx="354816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биологии и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чины интереса к применению наносистем в биологии и медицине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перемещаться внутри живых организмов и проникать внутрь клеток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ализация идей «индивидуальной» медицин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работка лекарственных препаратов с новым механизмом действия 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изводство искусственных тканей и органов, не вызывающих реакцию отторже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fig16"/>
          <p:cNvPicPr/>
          <p:nvPr/>
        </p:nvPicPr>
        <p:blipFill>
          <a:blip r:embed="rId1"/>
          <a:stretch/>
        </p:blipFill>
        <p:spPr>
          <a:xfrm>
            <a:off x="227160" y="2109960"/>
            <a:ext cx="3097080" cy="31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23" name="Rectangle 3"/>
          <p:cNvSpPr/>
          <p:nvPr/>
        </p:nvSpPr>
        <p:spPr>
          <a:xfrm>
            <a:off x="-63360" y="92160"/>
            <a:ext cx="93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3621240" y="2187720"/>
            <a:ext cx="5256000" cy="2947680"/>
            <a:chOff x="3621240" y="2187720"/>
            <a:chExt cx="5256000" cy="2947680"/>
          </a:xfrm>
        </p:grpSpPr>
        <p:pic>
          <p:nvPicPr>
            <p:cNvPr id="225" name="Picture 5" descr="fig15"/>
            <p:cNvPicPr/>
            <p:nvPr/>
          </p:nvPicPr>
          <p:blipFill>
            <a:blip r:embed="rId2"/>
            <a:stretch/>
          </p:blipFill>
          <p:spPr>
            <a:xfrm>
              <a:off x="3621240" y="2187720"/>
              <a:ext cx="5256000" cy="2947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</p:pic>
        <p:sp>
          <p:nvSpPr>
            <p:cNvPr id="226" name="Rectangle 6"/>
            <p:cNvSpPr/>
            <p:nvPr/>
          </p:nvSpPr>
          <p:spPr>
            <a:xfrm>
              <a:off x="3666960" y="2214360"/>
              <a:ext cx="29556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5923080" y="2214360"/>
              <a:ext cx="29520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8" name="Rectangle 8"/>
          <p:cNvSpPr/>
          <p:nvPr/>
        </p:nvSpPr>
        <p:spPr>
          <a:xfrm>
            <a:off x="4530600" y="621648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Daha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et al.,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Science302:442–445,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39840" y="187920"/>
            <a:ext cx="868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635040" y="2203560"/>
            <a:ext cx="7689960" cy="2492280"/>
            <a:chOff x="635040" y="2203560"/>
            <a:chExt cx="7689960" cy="2492280"/>
          </a:xfrm>
        </p:grpSpPr>
        <p:pic>
          <p:nvPicPr>
            <p:cNvPr id="232" name="Picture 4" descr="fig18"/>
            <p:cNvPicPr/>
            <p:nvPr/>
          </p:nvPicPr>
          <p:blipFill>
            <a:blip r:embed="rId1">
              <a:lum contrast="8000"/>
            </a:blip>
            <a:srcRect l="0" t="0" r="0" b="51101"/>
            <a:stretch/>
          </p:blipFill>
          <p:spPr>
            <a:xfrm>
              <a:off x="635040" y="2203560"/>
              <a:ext cx="5138640" cy="24894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  <p:pic>
          <p:nvPicPr>
            <p:cNvPr id="233" name="Picture 5" descr="fig18"/>
            <p:cNvPicPr/>
            <p:nvPr/>
          </p:nvPicPr>
          <p:blipFill>
            <a:blip r:embed="rId2">
              <a:lum contrast="8000"/>
            </a:blip>
            <a:srcRect l="50282" t="50519" r="0" b="0"/>
            <a:stretch/>
          </p:blipFill>
          <p:spPr>
            <a:xfrm>
              <a:off x="5796000" y="2203560"/>
              <a:ext cx="2529000" cy="24922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</p:grp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01760" y="2119320"/>
            <a:ext cx="8348400" cy="36068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fig1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52440" y="1700280"/>
            <a:ext cx="6762960" cy="4270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39" name="Rectangle 3"/>
          <p:cNvSpPr/>
          <p:nvPr/>
        </p:nvSpPr>
        <p:spPr>
          <a:xfrm>
            <a:off x="0" y="96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838600" y="6389640"/>
            <a:ext cx="63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Ginger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DS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et al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, Angew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Chem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ngl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43:30–45,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84320" y="1447920"/>
            <a:ext cx="5254560" cy="4495680"/>
          </a:xfrm>
          <a:prstGeom prst="rect">
            <a:avLst/>
          </a:prstGeom>
          <a:solidFill>
            <a:srgbClr val="abd5ff"/>
          </a:solidFill>
          <a:ln w="4752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5800" y="228600"/>
            <a:ext cx="7924680" cy="1004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28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2095560" y="1486080"/>
          <a:ext cx="246204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1486080"/>
                    <a:ext cx="24620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4879800" y="1486080"/>
          <a:ext cx="2384640" cy="44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1486080"/>
                    <a:ext cx="23846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6"/>
          <p:cNvSpPr/>
          <p:nvPr/>
        </p:nvSpPr>
        <p:spPr>
          <a:xfrm>
            <a:off x="1905120" y="6019920"/>
            <a:ext cx="24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о инъекции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114800" y="60199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Через 8 нед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нятия «НАНОНАУКА» и «НАНОТЕХНОЛОГИЯ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феры применения нанотехнолог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00160" y="2060640"/>
            <a:ext cx="8723160" cy="4602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1200" y="187200"/>
            <a:ext cx="8902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571760" y="22143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иозины   кинезины   дине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4" name="Object 5"/>
          <p:cNvGraphicFramePr/>
          <p:nvPr/>
        </p:nvGraphicFramePr>
        <p:xfrm>
          <a:off x="557280" y="4040280"/>
          <a:ext cx="347832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40280"/>
                    <a:ext cx="34783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6"/>
          <p:cNvSpPr/>
          <p:nvPr/>
        </p:nvSpPr>
        <p:spPr>
          <a:xfrm>
            <a:off x="1965240" y="4059360"/>
            <a:ext cx="11350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137040" y="4076640"/>
            <a:ext cx="113004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ESSENTIA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238400" y="575316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ози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703440" y="3848040"/>
            <a:ext cx="118440" cy="173160"/>
            <a:chOff x="703440" y="3848040"/>
            <a:chExt cx="118440" cy="173160"/>
          </a:xfrm>
        </p:grpSpPr>
        <p:sp>
          <p:nvSpPr>
            <p:cNvPr id="260" name="Rectangle 10"/>
            <p:cNvSpPr/>
            <p:nvPr/>
          </p:nvSpPr>
          <p:spPr>
            <a:xfrm>
              <a:off x="703440" y="3848040"/>
              <a:ext cx="727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705240" y="3855240"/>
              <a:ext cx="116640" cy="12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785880" y="3828960"/>
            <a:ext cx="3422160" cy="160200"/>
            <a:chOff x="785880" y="3828960"/>
            <a:chExt cx="3422160" cy="160200"/>
          </a:xfrm>
        </p:grpSpPr>
        <p:graphicFrame>
          <p:nvGraphicFramePr>
            <p:cNvPr id="263" name="Object 13"/>
            <p:cNvGraphicFramePr/>
            <p:nvPr/>
          </p:nvGraphicFramePr>
          <p:xfrm>
            <a:off x="2440080" y="3829680"/>
            <a:ext cx="1767960" cy="15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40080" y="3829680"/>
                      <a:ext cx="176796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4"/>
            <p:cNvGraphicFramePr/>
            <p:nvPr/>
          </p:nvGraphicFramePr>
          <p:xfrm>
            <a:off x="785880" y="3828960"/>
            <a:ext cx="1759680" cy="15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5880" y="3828960"/>
                      <a:ext cx="1759680" cy="15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Text Box 15"/>
          <p:cNvSpPr/>
          <p:nvPr/>
        </p:nvSpPr>
        <p:spPr>
          <a:xfrm>
            <a:off x="304560" y="37720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7 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479240" y="33447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кт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Oval 17"/>
          <p:cNvSpPr/>
          <p:nvPr/>
        </p:nvSpPr>
        <p:spPr>
          <a:xfrm>
            <a:off x="299736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465120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4754160" y="602604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е полимеров актина по стеклу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рытому миозин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MV__20.wmv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3852720" cy="30830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3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и в медицин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" descr="nanotech0014"/>
          <p:cNvPicPr/>
          <p:nvPr/>
        </p:nvPicPr>
        <p:blipFill>
          <a:blip r:embed="rId1"/>
          <a:stretch/>
        </p:blipFill>
        <p:spPr>
          <a:xfrm>
            <a:off x="3708360" y="4221000"/>
            <a:ext cx="4605480" cy="212112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наноробот"/>
          <p:cNvPicPr/>
          <p:nvPr/>
        </p:nvPicPr>
        <p:blipFill>
          <a:blip r:embed="rId1"/>
          <a:stretch/>
        </p:blipFill>
        <p:spPr>
          <a:xfrm>
            <a:off x="533520" y="38336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наноробот"/>
          <p:cNvPicPr/>
          <p:nvPr/>
        </p:nvPicPr>
        <p:blipFill>
          <a:blip r:embed="rId2"/>
          <a:stretch/>
        </p:blipFill>
        <p:spPr>
          <a:xfrm>
            <a:off x="4911840" y="2558880"/>
            <a:ext cx="3830400" cy="24624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81800" y="631440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. Свидиненко , nanotech-now.c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961160" y="539028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Julian Baum/Science Photo Librar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985120" y="329400"/>
            <a:ext cx="33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7" descr="наноробот2bmp"/>
          <p:cNvPicPr/>
          <p:nvPr/>
        </p:nvPicPr>
        <p:blipFill>
          <a:blip r:embed="rId3"/>
          <a:stretch/>
        </p:blipFill>
        <p:spPr>
          <a:xfrm>
            <a:off x="507960" y="1271520"/>
            <a:ext cx="3206880" cy="24051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14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тройства с очень малым энергопотреблени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Карманные» суперЭВ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поминающие устройства нового тип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вышение характеристик ЭВМ на три поряд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4"/>
          <p:cNvPicPr/>
          <p:nvPr/>
        </p:nvPicPr>
        <p:blipFill>
          <a:blip r:embed="rId1"/>
          <a:stretch/>
        </p:blipFill>
        <p:spPr>
          <a:xfrm>
            <a:off x="4932360" y="1557360"/>
            <a:ext cx="33354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5"/>
          <p:cNvPicPr/>
          <p:nvPr/>
        </p:nvPicPr>
        <p:blipFill>
          <a:blip r:embed="rId1"/>
          <a:stretch/>
        </p:blipFill>
        <p:spPr>
          <a:xfrm>
            <a:off x="5165640" y="1827360"/>
            <a:ext cx="3444840" cy="41148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23112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нового типа производст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вые возможности контроля за состоянием сре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сельском хозяйств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шение проблемы нехватки пит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стабильного и достаточного сельскохозяйственного производ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кое применение техники ДНК-чипов и ДНК-анализ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редства, потраченные из бюджета разных стран на нанотехнологии в 1997-2005 года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9" descr="nanotech0012"/>
          <p:cNvPicPr/>
          <p:nvPr/>
        </p:nvPicPr>
        <p:blipFill>
          <a:blip r:embed="rId1"/>
          <a:stretch/>
        </p:blipFill>
        <p:spPr>
          <a:xfrm>
            <a:off x="5100480" y="2762280"/>
            <a:ext cx="3583080" cy="224460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53800" y="1827360"/>
            <a:ext cx="57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материалы. Нанотехнологии. Наносистемная техника М.200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6" descr="Наноматериалы. Нанотехнологии. Наносистемная техни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844640"/>
            <a:ext cx="1540080" cy="2232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00000005976883_267_1"/>
          <p:cNvPicPr/>
          <p:nvPr/>
        </p:nvPicPr>
        <p:blipFill>
          <a:blip r:embed="rId3"/>
          <a:stretch/>
        </p:blipFill>
        <p:spPr>
          <a:xfrm>
            <a:off x="971640" y="4365720"/>
            <a:ext cx="1338120" cy="2087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размеры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17680" y="2050920"/>
            <a:ext cx="265896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нано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значае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мене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сштаб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нм =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0001"/>
          <p:cNvPicPr/>
          <p:nvPr/>
        </p:nvPicPr>
        <p:blipFill>
          <a:blip r:embed="rId1"/>
          <a:stretch/>
        </p:blipFill>
        <p:spPr>
          <a:xfrm>
            <a:off x="4067280" y="1268280"/>
            <a:ext cx="475272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8480" y="455400"/>
            <a:ext cx="6678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15840" y="2487600"/>
            <a:ext cx="9181080" cy="3561840"/>
            <a:chOff x="15840" y="2487600"/>
            <a:chExt cx="9181080" cy="3561840"/>
          </a:xfrm>
        </p:grpSpPr>
        <p:sp>
          <p:nvSpPr>
            <p:cNvPr id="114" name="Rectangle 5"/>
            <p:cNvSpPr/>
            <p:nvPr/>
          </p:nvSpPr>
          <p:spPr>
            <a:xfrm>
              <a:off x="6859440" y="4249800"/>
              <a:ext cx="1924200" cy="5364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961320" y="4275360"/>
              <a:ext cx="1756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ногоклеточны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рганизмы    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(1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m &gt;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27672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04020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82240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254304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4729320" y="4230720"/>
              <a:ext cx="1828800" cy="809640"/>
            </a:xfrm>
            <a:prstGeom prst="rect">
              <a:avLst/>
            </a:prstGeom>
            <a:solidFill>
              <a:srgbClr val="9bdeff"/>
            </a:solidFill>
            <a:ln w="28440">
              <a:solidFill>
                <a:srgbClr val="9bde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2444760" y="4257720"/>
              <a:ext cx="1828800" cy="714240"/>
            </a:xfrm>
            <a:prstGeom prst="rect">
              <a:avLst/>
            </a:prstGeom>
            <a:solidFill>
              <a:srgbClr val="b00000"/>
            </a:solidFill>
            <a:ln w="28440">
              <a:solidFill>
                <a:srgbClr val="b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2438280" y="4268880"/>
              <a:ext cx="24544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Белки, ДН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РНК,  антитела,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вирусы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1 -100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3" name="Group 14"/>
            <p:cNvGrpSpPr/>
            <p:nvPr/>
          </p:nvGrpSpPr>
          <p:grpSpPr>
            <a:xfrm>
              <a:off x="301680" y="4214880"/>
              <a:ext cx="1925640" cy="520560"/>
              <a:chOff x="301680" y="4214880"/>
              <a:chExt cx="1925640" cy="520560"/>
            </a:xfrm>
          </p:grpSpPr>
          <p:sp>
            <p:nvSpPr>
              <p:cNvPr id="124" name="Rectangle 15"/>
              <p:cNvSpPr/>
              <p:nvPr/>
            </p:nvSpPr>
            <p:spPr>
              <a:xfrm>
                <a:off x="320760" y="4250160"/>
                <a:ext cx="1752480" cy="3114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301680" y="4214880"/>
                <a:ext cx="192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Атом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(0,1-0,5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Text Box 17"/>
            <p:cNvSpPr/>
            <p:nvPr/>
          </p:nvSpPr>
          <p:spPr>
            <a:xfrm>
              <a:off x="4692240" y="4253040"/>
              <a:ext cx="1870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Бактерии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0,1 -1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Эритроциты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Яйцеклетк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человека   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4560840" y="5348160"/>
              <a:ext cx="25812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Видимый свет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Инфракрасны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Лучи</a:t>
              </a:r>
              <a:r>
                <a:rPr b="1" lang="en-US" sz="1400" spc="-1" strike="noStrike">
                  <a:solidFill>
                    <a:srgbClr val="a7e9a7"/>
                  </a:solidFill>
                  <a:latin typeface="Arial"/>
                </a:rPr>
                <a:t>                   </a:t>
              </a: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246960" y="534816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Рентгеновско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излуч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0,1-1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2142720" y="534816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Ультрафиолет</a:t>
              </a: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10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930360" y="5348160"/>
              <a:ext cx="196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Микроволны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>
              <a:off x="6738840" y="3365640"/>
              <a:ext cx="180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890748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15840" y="3006720"/>
              <a:ext cx="91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5"/>
            <p:cNvSpPr/>
            <p:nvPr/>
          </p:nvSpPr>
          <p:spPr>
            <a:xfrm>
              <a:off x="13824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2131200" y="3017880"/>
              <a:ext cx="84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9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ff37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34340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6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544800" y="3017880"/>
              <a:ext cx="81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54024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7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2162160" y="248760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Н а н о ш к а л а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31"/>
            <p:cNvSpPr/>
            <p:nvPr/>
          </p:nvSpPr>
          <p:spPr>
            <a:xfrm rot="16200000">
              <a:off x="3032640" y="2108520"/>
              <a:ext cx="203400" cy="1643040"/>
            </a:xfrm>
            <a:custGeom>
              <a:avLst/>
              <a:gdLst>
                <a:gd name="textAreaLeft" fmla="*/ 129960 w 203400"/>
                <a:gd name="textAreaRight" fmla="*/ 203760 w 203400"/>
                <a:gd name="textAreaTop" fmla="*/ 42840 h 1643040"/>
                <a:gd name="textAreaBottom" fmla="*/ 16002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3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32"/>
            <p:cNvSpPr/>
            <p:nvPr/>
          </p:nvSpPr>
          <p:spPr>
            <a:xfrm>
              <a:off x="451656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33"/>
            <p:cNvSpPr/>
            <p:nvPr/>
          </p:nvSpPr>
          <p:spPr>
            <a:xfrm>
              <a:off x="37893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34"/>
            <p:cNvSpPr/>
            <p:nvPr/>
          </p:nvSpPr>
          <p:spPr>
            <a:xfrm>
              <a:off x="23385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136440" y="3743280"/>
              <a:ext cx="2206800" cy="14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566560" y="301788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37"/>
            <p:cNvSpPr/>
            <p:nvPr/>
          </p:nvSpPr>
          <p:spPr>
            <a:xfrm>
              <a:off x="354312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2332080" y="3743280"/>
              <a:ext cx="2206440" cy="149400"/>
            </a:xfrm>
            <a:prstGeom prst="rect">
              <a:avLst/>
            </a:prstGeom>
            <a:solidFill>
              <a:srgbClr val="b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4529160" y="3743280"/>
              <a:ext cx="2206440" cy="149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729480" y="3729240"/>
              <a:ext cx="2206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: хронолог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3" descr="0005"/>
          <p:cNvPicPr/>
          <p:nvPr/>
        </p:nvPicPr>
        <p:blipFill>
          <a:blip r:embed="rId1"/>
          <a:stretch/>
        </p:blipFill>
        <p:spPr>
          <a:xfrm>
            <a:off x="2771640" y="1760400"/>
            <a:ext cx="4891320" cy="50976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ерспективы применения нанотехноло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625400"/>
            <a:ext cx="2160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нотехнология самая междисциплинарная отрас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0003"/>
          <p:cNvPicPr/>
          <p:nvPr/>
        </p:nvPicPr>
        <p:blipFill>
          <a:blip r:embed="rId1"/>
          <a:stretch/>
        </p:blipFill>
        <p:spPr>
          <a:xfrm>
            <a:off x="2843280" y="1628640"/>
            <a:ext cx="5796000" cy="4786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ипы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пористые структу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частиц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трубки и нановолок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дисперсии (коллоид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структурированные поверхности и плен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ристалл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ласте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09:52Z</dcterms:created>
  <dc:creator>EDU-1</dc:creator>
  <dc:description/>
  <dc:language>en-US</dc:language>
  <cp:lastModifiedBy>RomaK</cp:lastModifiedBy>
  <dcterms:modified xsi:type="dcterms:W3CDTF">2014-10-31T13:39:05Z</dcterms:modified>
  <cp:revision>36</cp:revision>
  <dc:subject/>
  <dc:title>НАНО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