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C053-A262-4CAF-B07E-DEAB05C8C5F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Тема 8. Философия Новейшего времени и соврем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 и основные направления философ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философии соврем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C239-2D24-44F7-A5B3-9616BACAE66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Ясперсу, человек обычно живет «заброшенной» жизнью, но в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граничных ситуац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рытые качества выходят наружу. Он осознает себя через «шифры» трансцендент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Жизнь человека – абсурд», - считает Камю. Смысл жизни в самом существовани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CAE8E-D5B2-484E-8B9E-2A97BFE7658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Экзистенциализм Мартина Хайдеггера (1889-197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ое быт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sei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сегда эмоционально. Переживание «бытия-к-смерти» приводят к страху и трев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– это «дом бытия» и именно язык определяет судьбу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B948-79AB-4ECB-B25C-029A32BECD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ерменевтика (от греч.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Germeneutikos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ние человеком мира осуществляется в языке и через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4288-4214-4202-85E2-1CB9D90A1D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0C1E-DA57-45B3-86EA-F0FC4AAF29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тран Р. История западной философии. 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дамер Х.Г. Истина и метод. М.: Прогресс, 1988. 69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еймс У. Поток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льтей В. Сущность философии. М.: Интрада, 2001. 159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В.П. Как концепция «духа времени» конца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ю А. Абсурдное рассу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напп Р., О.Нейрат. Научное миропоним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цше Ф. Так говорил Заратустра. Соч. в 2-х т. Т.2. С.5-17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пер К. Нищета историц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тр Ж.П. Экзистенциализм – это гума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Время и бы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йдеггер М. Письмо о гум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ейд З. Введение в психоанализ: Лекции. М.: Наука, 1989. 456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пенгауэр А. Афориз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перс К. Схема мировой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3A55-22DD-41C6-B82A-CB7A801B6B7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Западная философия второй половины 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4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арактерные чер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юрализм в философском мыш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двух противоположных школ: сциентизм и антисциент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ерантность современной философ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ропоцентризм и гуманизм, т.е. направленность к челове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C568-1732-446A-BBBA-ECB3121278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Основные направления философии </a:t>
            </a:r>
            <a:br>
              <a:rPr sz="1600"/>
            </a:b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I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-</a:t>
            </a:r>
            <a:r>
              <a:rPr b="0" lang="en-US" sz="1600" spc="-1" strike="noStrike">
                <a:solidFill>
                  <a:srgbClr val="c0504d"/>
                </a:solidFill>
                <a:latin typeface="Calibri"/>
              </a:rPr>
              <a:t>XX</a:t>
            </a:r>
            <a:r>
              <a:rPr b="0" lang="ru-RU" sz="1600" spc="-1" strike="noStrike">
                <a:solidFill>
                  <a:srgbClr val="c0504d"/>
                </a:solidFill>
                <a:latin typeface="Calibri"/>
              </a:rPr>
              <a:t>в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систская философия: К.Маркс, Ф.Энгель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лассическая философия: А. Шопенгауэр, Ф.Ницше, В.Диль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науки: позитивизм О.Конта; эмпириокритицизм; неопозитивизм; постпозитив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й прагматизм: Дж.Дьюи, Ч.Пир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анализ: З.Фрейд, Э.Фромм, К.Г.Юнг, Адл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меневтика: Ф.Шлегель, Ф.Шлейермахер, Г.Гадамер, П.Рик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томизм: Э.Жильсон, Ж.Маритен, К.Войтыл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модернизм: Ж.Ф.Лиотар, Ж.Деррида, Ж.Бодрийар, Р.Рорти, Ж.Делез, Ф.Гватта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A35-646C-4B9E-B296-55728B6DD6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Основателями философии марксизма стали Карл Маркс (1818-1883) и </a:t>
            </a:r>
            <a:br>
              <a:rPr sz="1800"/>
            </a:b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Фридрих Энгельс (1820-1895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Маркс разработал теорию об общественно-экономических форм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E24E-E981-4DFA-9FE6-753B20FDEAF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Иррационализм Артура Шопенгауэра (1788-186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Мир как воля и представлен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овал Гегеля за его диалектику и историзм, призывал вернуться к Ка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есть лишь мир представлений в созна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явлений и мир сущности являются соответственно миром представлений и миром во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нии о человеке заложил  основы пессим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9460-4AD9-46B9-B78D-6FA44730798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Calibri"/>
              </a:rPr>
              <a:t>Философия жизни Фридриха Ницше (1844-190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ак говорил Заратустра», «По сторону добра и зла» ; «Весел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я «воля к жизни», «воля к власт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8B82-7B17-41FB-B766-930E49206C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75F1-5B54-40B7-815C-A753CCBF9D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Психоанализ Зигмунда Фрейда </a:t>
            </a:r>
            <a:br>
              <a:rPr sz="1400"/>
            </a:br>
            <a:r>
              <a:rPr b="0" lang="ru-RU" sz="1400" spc="-1" strike="noStrike">
                <a:solidFill>
                  <a:srgbClr val="c0504d"/>
                </a:solidFill>
                <a:latin typeface="Calibri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наружил огромную роль бессознательного в поведени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ультура есть результат субли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D671-F754-4959-9CE4-B355BADBB7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996-B85D-44E4-9381-1F017EE7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2BA-8090-4DE6-804D-A4ED8474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756-CFD0-4683-86F3-B42975FAB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7803-F1AF-4C8D-BAA1-F87106F7D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E57-9F14-4A1B-A54A-216C272A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B6D-C49F-4B53-8DD1-5C0B7939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4F13-D4AA-4D9E-9B74-BE1AA7C5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468F-1FEB-415D-9B9E-5F9E9E59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D65-6530-4199-BA65-BAB7C1AC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2504-73CA-4A2B-8D9F-7FC7CCA9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EB2-2615-43FD-90F3-09166145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868-1FA7-47C4-8F9F-B65A6DB2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0F48B-DE7F-4FE4-9DFF-AD10737094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87;&#1077;&#1088;&#1074;&#1086;&#1080;&#1089;&#1090;&#1086;&#1095;&#1085;&#1080;&#1082;&#1080;/&#1056;&#1040;&#1057;&#1057;&#1045;&#1051;.%20&#1060;&#1080;&#1083;&#1086;&#1089;&#1086;&#1092;&#1080;&#1103;.doc" TargetMode="External"/><Relationship Id="rId2" Type="http://schemas.openxmlformats.org/officeDocument/2006/relationships/hyperlink" Target="file:///&#1087;&#1077;&#1088;&#1074;&#1086;&#1080;&#1089;&#1090;&#1086;&#1095;&#1085;&#1080;&#1082;&#1080;/&#1044;&#1078;&#1077;&#1081;&#1084;&#1089;.doc" TargetMode="External"/><Relationship Id="rId3" Type="http://schemas.openxmlformats.org/officeDocument/2006/relationships/hyperlink" Target="file:///&#1087;&#1077;&#1088;&#1074;&#1086;&#1080;&#1089;&#1090;&#1086;&#1095;&#1085;&#1080;&#1082;&#1080;/&#1048;&#1083;&#1100;&#1080;&#1085;.%20&#1055;&#1086;&#1089;&#1090;&#1084;&#1086;&#1076;&#1077;&#1088;&#1085;&#1080;&#1079;&#1084;.doc" TargetMode="External"/><Relationship Id="rId4" Type="http://schemas.openxmlformats.org/officeDocument/2006/relationships/hyperlink" Target="file:///&#1087;&#1077;&#1088;&#1074;&#1086;&#1080;&#1089;&#1090;&#1086;&#1095;&#1085;&#1080;&#1082;&#1080;/&#1050;&#1072;&#1084;&#1102;.doc" TargetMode="External"/><Relationship Id="rId5" Type="http://schemas.openxmlformats.org/officeDocument/2006/relationships/hyperlink" Target="file:///&#1087;&#1077;&#1088;&#1074;&#1086;&#1080;&#1089;&#1090;&#1086;&#1095;&#1085;&#1080;&#1082;&#1080;/&#1050;&#1040;&#1056;&#1053;&#1040;&#1055;&#1055;%20&#1056;&#1091;&#1076;&#1086;&#1083;&#1100;&#1092;.doc" TargetMode="External"/><Relationship Id="rId6" Type="http://schemas.openxmlformats.org/officeDocument/2006/relationships/hyperlink" Target="file:///&#1087;&#1077;&#1088;&#1074;&#1086;&#1080;&#1089;&#1090;&#1086;&#1095;&#1085;&#1080;&#1082;&#1080;/&#1055;&#1054;&#1055;&#1055;&#1045;&#1056;%20&#1050;&#1072;&#1088;&#1083;.doc" TargetMode="External"/><Relationship Id="rId7" Type="http://schemas.openxmlformats.org/officeDocument/2006/relationships/hyperlink" Target="file:///&#1087;&#1077;&#1088;&#1074;&#1086;&#1080;&#1089;&#1090;&#1086;&#1095;&#1085;&#1080;&#1082;&#1080;/&#1057;&#1040;&#1056;&#1058;&#1056;.doc" TargetMode="External"/><Relationship Id="rId8" Type="http://schemas.openxmlformats.org/officeDocument/2006/relationships/hyperlink" Target="file:///&#1087;&#1077;&#1088;&#1074;&#1086;&#1080;&#1089;&#1090;&#1086;&#1095;&#1085;&#1080;&#1082;&#1080;/&#1061;&#1040;&#1049;&#1044;&#1045;&#1043;&#1043;&#1045;&#1056;.%20&#1042;&#1088;&#1077;&#1084;&#1103;%20&#1080;%20&#1073;&#1099;&#1090;&#1080;&#1077;.doc" TargetMode="External"/><Relationship Id="rId9" Type="http://schemas.openxmlformats.org/officeDocument/2006/relationships/hyperlink" Target="file:///&#1087;&#1077;&#1088;&#1074;&#1086;&#1080;&#1089;&#1090;&#1086;&#1095;&#1085;&#1080;&#1082;&#1080;/&#1061;&#1040;&#1049;&#1044;&#1045;&#1043;&#1043;&#1045;&#1056;.%20&#1055;&#1080;&#1089;&#1100;&#1084;&#1086;%20&#1086;%20&#1075;&#1091;&#1084;&#1072;&#1085;&#1080;&#1079;&#1084;&#1077;.doc" TargetMode="External"/><Relationship Id="rId10" Type="http://schemas.openxmlformats.org/officeDocument/2006/relationships/hyperlink" Target="file:///&#1087;&#1077;&#1088;&#1074;&#1086;&#1080;&#1089;&#1090;&#1086;&#1095;&#1085;&#1080;&#1082;&#1080;/&#1064;&#1054;&#1055;&#1045;&#1053;&#1043;&#1040;&#1059;&#1069;&#1056;.%20&#1040;&#1092;&#1086;&#1088;&#1080;&#1079;&#1084;&#1099;.doc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Тема 8. Философия Новейшего времени и сов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ные черты и основные направления философи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ксистская философ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лософия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новные направления философии современ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85800" y="228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кзистенциализм или философия существования характеризуется антисциентистской направленностью и ориентирована на проблемы, связанные с человеком, смыслом его бытия в современном мир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190512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рен Кьеркегор считал, что философия должна повернуться к человеку, его проблемам. Он выделил неподлинное и подлинное существование человека, а также три стадии восхождения к подлинному существованию: эстетическую, этическую, религиозну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Ясперсу, человек обычно живет «заброшенной» жизнью, но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граничных ситуация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крытые качества выходят наружу. Он осознает себя через «шифры» трансцендентальног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нятиями философии Сартра становятся: «для-себя-бытие», «свобода», «выбор», «ответственность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Жизнь человека – абсурд», - считает Камю. Смысл жизни в самом существовании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исследует «бытие человека в мире», которая состоит из «бытия с другими» и «бытия самого себя»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Экзистенциализм Мартина Хайдеггера (1889-197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1905120"/>
            <a:ext cx="5486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Бытие и время», «Время и бытие», «Письмо о гуманизме», «Разговор на проселочной дороге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редством описания и толкования бытия являются экзистенциалы – эмоционально окрашенные поня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ловеческое бытие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sei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всегда эмоционально. Переживание «бытия-к-смерти» приводят к страху и тревог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ожил начало онтологическому направлению в рамках герменевтики. Герменевтика – онтология поним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зык – это «дом бытия» и именно язык определяет судьбу быт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F:\изображения философов.files\image064.jpg"/>
          <p:cNvPicPr/>
          <p:nvPr/>
        </p:nvPicPr>
        <p:blipFill>
          <a:blip r:embed="rId1"/>
          <a:stretch/>
        </p:blipFill>
        <p:spPr>
          <a:xfrm>
            <a:off x="5562720" y="2209680"/>
            <a:ext cx="3352680" cy="34848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Герменевтика (от греч.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rmeneutikos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–разъясняющий, истолковывающий)  означает теорию и практику истолкования текстов, языковых выражений и символов; философское направление, исследующее проблему понимания и связанные с ней вопросы язы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новы были заложены Ф.Шлейермахером как искусство понимания индивидуальности другого авто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дметом герменевтики является не содержание и не объяснение, а выражение и понима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нимание человеком мира осуществляется в языке и через язык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потому истина раскрывается через произведения искусства, тексты философии и истор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Герменевтический круг: чтобы понять целое, следует понять его части, но для адекватного понимания частей необходимо понять смысл целог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зыковая среда в качестве традиции является одновременно и условием человеческого понимания и вместе с тем его предмет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мысл герменевтики не в окончательных выводах, а в поддержании диалога с целью постижения «чудо понимания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стмодернизм («постсовременность») обозначает ситуацию в культурном самосознании стран Запада, сложившуюся в конце ХХ столет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нятие «постмодерна» стало употребляться в связи с работами Ж.Ф.Лиотара. Историческое становление связано с представителями  философского направления, связанным с анализом языка с Ф.де Соссюром, Л.Витгнештейном, М.Хайдеггером, М.Фук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рким представителем является Ж.Деррида, который ввел новый способ прочтения и осмысления текстов – деконструкци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эпоху постмодерна не существует объективной истины, все что было до этого определенным становится неопределенным и несостоятельны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ные черты: пессимизм, отчаяние, недоверие к действительности, самокритичность созн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Литератур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ртран Р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История западной философии. Введение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адамер Х.Г. Истина и метод. М.: Прогресс, 1988. 69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жеймс У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Поток созна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льтей В. Сущность философии. М.: Интрада, 2001. 159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льин В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Как концепция «духа времени» конца ХХ 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мю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Абсурдное рассужд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напп Р., О.Нейрат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Научное миропонима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цше Ф. Так говорил Заратустра. Соч. в 2-х т. Т.2. С.5-17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ппер К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Нищета историц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ртр Ж.П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Экзистенциализм – это гума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Время и быт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айдеггер М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Письмо о гуманиз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рейд З. Введение в психоанализ: Лекции. М.: Наука, 1989. 456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Шопенгауэр А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Афориз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сперс К. Схема мировой истор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ападная философия второй половины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ные черт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юрализм в философском мышлен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никновение двух противоположных школ: сциентизм и антисциентиз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лерантность современной философи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тивность как утверждение принципов синергетики, математизации, универсального эволюционизма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ропоцентризм и гуманизм, т.е. направленность к челове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ные направления философии </a:t>
            </a: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I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X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в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рксистская философия: К.Маркс, Ф.Энгель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классическая философия: А. Шопенгауэр, Ф.Ницше, В.Диль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илософия науки: позитивизм О.Конта; эмпириокритицизм; неопозитивизм; постпозитивиз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ериканский прагматизм: Дж.Дьюи, Ч.Пир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сихоанализ: З.Фрейд, Э.Фромм, К.Г.Юнг, Адл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меневтика: Ф.Шлегель, Ф.Шлейермахер, Г.Гадамер, П.Рике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томизм: Э.Жильсон, Ж.Маритен, К.Войтыла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зистенциализм: С.Кьеркегор, Л.Шестов, Н.А.Бердяев, М.Хайдеггер, К.Ясперс, Ж.П.Сартр, А.Кам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модернизм: Ж.Ф.Лиотар, Ж.Деррида, Ж.Бодрийар, Р.Рорти, Ж.Делез, Ф.Гватта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5341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Основателями философии марксизма стали Карл Маркс (1818-1883) и </a:t>
            </a:r>
            <a:br>
              <a:rPr sz="3200"/>
            </a:b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Фридрих Энгельс (1820-189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 К.Маркса: «Тезисы о Фейербахе», «Капитал», «Экономическо-философские рукописи 1844г.» и др. Ф.Энгельса: «Диалектика природы», «Анти-Дюринг», «роль труда в процессе превращения обезьяны в человека», «Происхождение семьи, частной собственности и государства» и др. Совместно: «Манифест коммунистической партии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оретическими источниками стали: диалектика Гегеля, материализм Фейербаха, учения французских социалистических-утопис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ставными частями являются: диалектический и исторический материализм, научный коммуниз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.Маркс разработал теорию об общественно-экономических формаци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ми положениями экономической теории являются раскрытия способа производства при капитализме, процесс отчуждения труда от средств производства и от результатов труда, теория прибавочной стоим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Иррационализм Артура Шопенгауэра (1788-186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576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ой труд: «Мир как воля и представлени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ритиковал Гегеля за его диалектику и историзм, призывал вернуться к Кан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ываясь на логическом законе достаточного основания, в качестве главного принципа жизни и познания рассматривает слепую волю, которая является сущностью всякой вещ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кружающий мир есть лишь мир представлений в созна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р явлений и мир сущности являются соответственно миром представлений и миром вол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учении о человеке заложил  основы пессимизм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F:\изображения философов.files\image062.jpg"/>
          <p:cNvPicPr/>
          <p:nvPr/>
        </p:nvPicPr>
        <p:blipFill>
          <a:blip r:embed="rId1"/>
          <a:stretch/>
        </p:blipFill>
        <p:spPr>
          <a:xfrm>
            <a:off x="228600" y="1981080"/>
            <a:ext cx="3048120" cy="411480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Философия жизни Фридриха Ницше (1844-190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5562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ак говорил Заратустра», «По сторону добра и зла» ; «Веселая нау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вляется предшественником ряда западных концепция, в основе философии которых лежат проблемы челове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вел понятия «воля к жизни», «воля к власт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ение о сверхчеловеке основано на отрицании христианских ценностей, провозглашении смерти Бог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ерхчеловек – это человек будущего, поставивший себя на место Бога, у него врожденная аристократичность, благородство и доброжелательность по отношению к равным себе и превосходство и презрение к «серой массе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F:\изображения философов.files\image061.jpg"/>
          <p:cNvPicPr/>
          <p:nvPr/>
        </p:nvPicPr>
        <p:blipFill>
          <a:blip r:embed="rId1"/>
          <a:stretch/>
        </p:blipFill>
        <p:spPr>
          <a:xfrm>
            <a:off x="6095880" y="1981080"/>
            <a:ext cx="269892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Философия науки – направление в философии, изучающее характеристики и особенности научной деятель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676520"/>
            <a:ext cx="8915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итивизм (О.Конт) – считали, что научной ценностью обладают только такое познание, которое опирается на опыт, и только эмпирически путем полученные знания могут представить интерес для науки; Эмпиризм выступает основным критерием демаркации между метафизикой и науко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мпириокритицизм (Э.Мах и Р.Авенариус) – считали, что философия должна стать интегративной наукой, имеющей всеобщий язы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опозитивизм (Р.Карнап, О.Нейрат, Б.Рассел Л.Витгенштейн) – философия должна заниматься логическим анализом языка науки, основным принцип – принцип верифика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позитивизм (К.Поппер, Т.Кун) – исследование развития науки, основной принцип – принцип фальсифика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Психоанализ Зигмунда Фрейда </a:t>
            </a:r>
            <a:br>
              <a:rPr sz="2400"/>
            </a:b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(1856-1939) представлял собой метод лечения психических заболеваний и теорию, объясняющую роль бессознательных явлений и процессов в жизни челове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9000" y="18288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новные труды: «Тотем и табу», «По ту сторону принципа удовольствия», «Сны и сновидения», «Я и Оно» и д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наружил огромную роль бессознательного в поведении челове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сихика человека имеет сложную структуру, включающую сознание (Сверх-Я), подсознание (Я) и бессознательное (Оно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ссознательное – эта сфера инстинктов, где проявляются сексуальные влечения (либидо). Выделяет 3 комплекса: Эдипа, Электры, Нарцис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я культура есть результат субли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работал учение об Эросе и Танатосе. Жизнь человека – постоянное взаимодействие Эроса и Танато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F:\изображения философов.files\image073.jpg"/>
          <p:cNvPicPr/>
          <p:nvPr/>
        </p:nvPicPr>
        <p:blipFill>
          <a:blip r:embed="rId1"/>
          <a:stretch/>
        </p:blipFill>
        <p:spPr>
          <a:xfrm>
            <a:off x="228600" y="1981080"/>
            <a:ext cx="3124080" cy="41148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5:10:54Z</dcterms:created>
  <dc:creator>Pussicat</dc:creator>
  <dc:description/>
  <dc:language>en-US</dc:language>
  <cp:lastModifiedBy>LEGION</cp:lastModifiedBy>
  <dcterms:modified xsi:type="dcterms:W3CDTF">2014-11-11T07:55:44Z</dcterms:modified>
  <cp:revision>9</cp:revision>
  <dc:subject/>
  <dc:title>Тема 8. Философия Новейшего времени и современности</dc:title>
</cp:coreProperties>
</file>