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1534-86FA-43D9-BFC5-EC213E6CE0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Тема 8. Философия Новейшего времени и соврем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и основные направления философ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философии сов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1A68-ED2C-4D91-8079-9DE12C21C7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Ясперсу, человек обычно живет «заброшенной» жизнью, но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граничных ситуац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рытые качества выходят наружу. Он осознает себя через «шифры» трансцендент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изнь человека – абсурд», - считает Камю. Смысл жизни в самом существовани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038-3020-414B-9B54-6D54AF8DB5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Мартина Хайдеггера (1889-19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ое быт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e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сегда эмоционально. Переживание «бытия-к-смерти» приводят к страху и трев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– это «дом бытия» и именно язык определяет судьбу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CA96-1636-4140-84DD-5D26217F6A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рменевтика (от греч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Germeneutikos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человеком мира осуществляется в языке и через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CBBB-0FF7-4154-8398-DE6AAD41D9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EDD7-1F73-4C3B-A9DE-3AE21A0934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ран Р. История западной философии. 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дамер Х.Г. Истина и метод. М.: Прогресс, 1988. 69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. Поток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льтей В. Сущность философии. М.: Интрада, 2001. 15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В.П. Как концепция «духа времени» конца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ю А. Абсурдное расс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напп Р., О.Нейрат. Научное миро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ше Ф. Так говорил Заратустра. Соч. в 2-х т. Т.2. С.5-1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тр Ж.П. Экзистенциализм – это гум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Время и бы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Письмо о гум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йд З. Введение в психоанализ: Лекции. М.: Наука, 1989. 45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пенгауэр А. Афор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7ADD-5C7F-4867-A971-0B98E0BA0C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Западная философия второй половины 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юрализм в философском мыш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двух противоположных школ: сциентизм и антисциент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ерантность современной филосо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зм и гуманизм, т.е. направленность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1AE2-2F5C-42EE-8BB7-61E39A4615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Основные направления философии </a:t>
            </a:r>
            <a:br>
              <a:rPr sz="1600"/>
            </a:b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: К.Маркс, Ф.Энгель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: А. Шопенгауэр, Ф.Ницше, В.Диль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: позитивизм О.Конта; эмпириокритицизм; неопозитивизм; постпозитив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прагматизм: Дж.Дьюи, Ч.Пи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анализ: З.Фрейд, Э.Фромм, К.Г.Юнг, Адл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ка: Ф.Шлегель, Ф.Шлейермахер, Г.Гадамер, П.Рик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омизм: Э.Жильсон, Ж.Маритен, К.Войтыл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модернизм: Ж.Ф.Лиотар, Ж.Деррида, Ж.Бодрийар, Р.Рорти, Ж.Делез, Ф.Гватта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14F5-9D60-42DB-9650-66482A5FD6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Основателями философии марксизма стали Карл Маркс (1818-1883) и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Фридрих Энгельс (1820-189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Маркс разработал теорию об общественно-экономических форм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B681-2663-4DDD-98C8-D467F73F2C2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Иррационализм Артура Шопенгауэра (1788-186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Мир как воля и представл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овал Гегеля за его диалектику и историзм, призывал вернуться к Ка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есть лишь мир представлений в созна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явлений и мир сущности являются соответственно миром представлений и миром в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нии о человеке заложил  основы пессим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8150-745C-4F61-92F9-17C642D4A9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Философия жизни Фридриха Ницше (1844-19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ак говорил Заратустра», «По сторону добра и зла» ; «Весел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я «воля к жизни», «воля к власт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1A19-4844-4DEF-9B0C-53582440D0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2A1F-0891-4C66-A766-CD25ECF30C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сихоанализ Зигмунда Фрейда </a:t>
            </a:r>
            <a:br>
              <a:rPr sz="1400"/>
            </a:b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ил огромную роль бессознательного в поведе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ультура есть результат субли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2C9A-48FE-4E9E-93A7-CD6C2D665C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F43-ECD7-4125-9916-C78A4F7A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C8B-E156-4916-867C-F037B17B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716-C077-4079-A8EA-6422DA0E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9E2-1BAE-44B1-9A69-8B6C7257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356-177F-41E6-AF79-19242AF5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E6C-8DE7-4647-8983-BADDFA65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32B-4A4A-4338-8504-2990DF81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846-8497-4E52-9E06-591F953C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3A0-AA16-4064-A7EC-617D3382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FC0-D302-4EAC-9F59-369A0ABB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AD9-31B6-4654-A515-9B5730D0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081-1BBB-4378-923F-925DA4A1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1C60-D841-4647-A05C-C526851FDA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77;&#1088;&#1074;&#1086;&#1080;&#1089;&#1090;&#1086;&#1095;&#1085;&#1080;&#1082;&#1080;/&#1056;&#1040;&#1057;&#1057;&#1045;&#1051;.%20&#1060;&#1080;&#1083;&#1086;&#1089;&#1086;&#1092;&#1080;&#1103;.doc" TargetMode="External"/><Relationship Id="rId2" Type="http://schemas.openxmlformats.org/officeDocument/2006/relationships/hyperlink" Target="file:///&#1087;&#1077;&#1088;&#1074;&#1086;&#1080;&#1089;&#1090;&#1086;&#1095;&#1085;&#1080;&#1082;&#1080;/&#1044;&#1078;&#1077;&#1081;&#1084;&#1089;.doc" TargetMode="External"/><Relationship Id="rId3" Type="http://schemas.openxmlformats.org/officeDocument/2006/relationships/hyperlink" Target="file:///&#1087;&#1077;&#1088;&#1074;&#1086;&#1080;&#1089;&#1090;&#1086;&#1095;&#1085;&#1080;&#1082;&#1080;/&#1048;&#1083;&#1100;&#1080;&#1085;.%20&#1055;&#1086;&#1089;&#1090;&#1084;&#1086;&#1076;&#1077;&#1088;&#1085;&#1080;&#1079;&#1084;.doc" TargetMode="External"/><Relationship Id="rId4" Type="http://schemas.openxmlformats.org/officeDocument/2006/relationships/hyperlink" Target="file:///&#1087;&#1077;&#1088;&#1074;&#1086;&#1080;&#1089;&#1090;&#1086;&#1095;&#1085;&#1080;&#1082;&#1080;/&#1050;&#1072;&#1084;&#1102;.doc" TargetMode="External"/><Relationship Id="rId5" Type="http://schemas.openxmlformats.org/officeDocument/2006/relationships/hyperlink" Target="file:///&#1087;&#1077;&#1088;&#1074;&#1086;&#1080;&#1089;&#1090;&#1086;&#1095;&#1085;&#1080;&#1082;&#1080;/&#1050;&#1040;&#1056;&#1053;&#1040;&#1055;&#1055;%20&#1056;&#1091;&#1076;&#1086;&#1083;&#1100;&#1092;.doc" TargetMode="External"/><Relationship Id="rId6" Type="http://schemas.openxmlformats.org/officeDocument/2006/relationships/hyperlink" Target="file:///&#1087;&#1077;&#1088;&#1074;&#1086;&#1080;&#1089;&#1090;&#1086;&#1095;&#1085;&#1080;&#1082;&#1080;/&#1055;&#1054;&#1055;&#1055;&#1045;&#1056;%20&#1050;&#1072;&#1088;&#1083;.doc" TargetMode="External"/><Relationship Id="rId7" Type="http://schemas.openxmlformats.org/officeDocument/2006/relationships/hyperlink" Target="file:///&#1087;&#1077;&#1088;&#1074;&#1086;&#1080;&#1089;&#1090;&#1086;&#1095;&#1085;&#1080;&#1082;&#1080;/&#1057;&#1040;&#1056;&#1058;&#1056;.doc" TargetMode="External"/><Relationship Id="rId8" Type="http://schemas.openxmlformats.org/officeDocument/2006/relationships/hyperlink" Target="file:///&#1087;&#1077;&#1088;&#1074;&#1086;&#1080;&#1089;&#1090;&#1086;&#1095;&#1085;&#1080;&#1082;&#1080;/&#1061;&#1040;&#1049;&#1044;&#1045;&#1043;&#1043;&#1045;&#1056;.%20&#1042;&#1088;&#1077;&#1084;&#1103;%20&#1080;%20&#1073;&#1099;&#1090;&#1080;&#1077;.doc" TargetMode="External"/><Relationship Id="rId9" Type="http://schemas.openxmlformats.org/officeDocument/2006/relationships/hyperlink" Target="file:///&#1087;&#1077;&#1088;&#1074;&#1086;&#1080;&#1089;&#1090;&#1086;&#1095;&#1085;&#1080;&#1082;&#1080;/&#1061;&#1040;&#1049;&#1044;&#1045;&#1043;&#1043;&#1045;&#1056;.%20&#1055;&#1080;&#1089;&#1100;&#1084;&#1086;%20&#1086;%20&#1075;&#1091;&#1084;&#1072;&#1085;&#1080;&#1079;&#1084;&#1077;.doc" TargetMode="External"/><Relationship Id="rId10" Type="http://schemas.openxmlformats.org/officeDocument/2006/relationships/hyperlink" Target="file:///&#1087;&#1077;&#1088;&#1074;&#1086;&#1080;&#1089;&#1090;&#1086;&#1095;&#1085;&#1080;&#1082;&#1080;/&#1064;&#1054;&#1055;&#1045;&#1053;&#1043;&#1040;&#1059;&#1069;&#1056;.%20&#1040;&#1092;&#1086;&#1088;&#1080;&#1079;&#1084;&#1099;.doc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Тема 8. Философия Новейшего времени и сов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и основные направления философи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ксистская филосо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лософия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направления философии соврем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Ясперсу, человек обычно живет «заброшенной» жизнью, но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граничных ситу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крытые качества выходят наружу. Он осознает себя через «шифры» трансцендентальн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Жизнь человека – абсурд», - считает Камю. Смысл жизни в самом существовани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Экзистенциализм Мартина Хайдеггера (1889-197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905120"/>
            <a:ext cx="548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ческое бытие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se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сегда эмоционально. Переживание «бытия-к-смерти» приводят к страху и тревог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– это «дом бытия» и именно язык определяет судьбу бы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:\изображения философов.files\image064.jpg"/>
          <p:cNvPicPr/>
          <p:nvPr/>
        </p:nvPicPr>
        <p:blipFill>
          <a:blip r:embed="rId1"/>
          <a:stretch/>
        </p:blipFill>
        <p:spPr>
          <a:xfrm>
            <a:off x="5562720" y="2209680"/>
            <a:ext cx="3352680" cy="3484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Герменевтика (от греч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rmeneutikos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нимание человеком мира осуществляется в языке и через язы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тран Р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История западной философии. Введ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дамер Х.Г. Истина и метод. М.: Прогресс, 1988. 69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еймс У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Поток со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льтей В. Сущность философии. М.: Интрада, 2001. 15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ьин В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Как концепция «духа времени» конца ХХ 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ю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Абсурдное рассуж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напп Р., О.Нейрат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Научное миропоним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цше Ф. Так говорил Заратустра. Соч. в 2-х т. Т.2. С.5-1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пер К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Нищета историц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тр Ж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Экзистенциализм – это гум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Время и быт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Письмо о гуманиз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ейд З. Введение в психоанализ: Лекции. М.: Наука, 1989. 456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опенгауэр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Афор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падная философия второй половины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рализм в философском мыш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двух противоположных школ: сциентизм и антисциент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ерантность современной философ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центризм и гуманизм, т.е. направленность к челове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ные направления философии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систская философия: К.Маркс, Ф.Энгель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: А. Шопенгауэр, Ф.Ницше, В.Диль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софия науки: позитивизм О.Конта; эмпириокритицизм; неопозитивизм; постпозитивиз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ериканский прагматизм: Дж.Дьюи, Ч.Пир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анализ: З.Фрейд, Э.Фромм, К.Г.Юнг, Адл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меневтика: Ф.Шлегель, Ф.Шлейермахер, Г.Гадамер, П.Рик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томизм: Э.Жильсон, Ж.Маритен, К.Войтыл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модернизм: Ж.Ф.Лиотар, Ж.Деррида, Ж.Бодрийар, Р.Рорти, Ж.Делез, Ф.Гватта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ателями философии марксизма стали Карл Маркс (1818-1883) и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Фридрих Энгельс (1820-189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Маркс разработал теорию об общественно-экономических формац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Иррационализм Артура Шопенгауэра (1788-186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й труд: «Мир как воля и представле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иковал Гегеля за его диалектику и историзм, призывал вернуться к Кан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жающий мир есть лишь мир представлений в созна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 явлений и мир сущности являются соответственно миром представлений и миром во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чении о человеке заложил  основы пессим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F:\изображения философов.files\image062.jpg"/>
          <p:cNvPicPr/>
          <p:nvPr/>
        </p:nvPicPr>
        <p:blipFill>
          <a:blip r:embed="rId1"/>
          <a:stretch/>
        </p:blipFill>
        <p:spPr>
          <a:xfrm>
            <a:off x="228600" y="1981080"/>
            <a:ext cx="304812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Философия жизни Фридриха Ницше (1844-19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562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ак говорил Заратустра», «По сторону добра и зла» ; «Веселая нау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л понятия «воля к жизни», «воля к власт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F:\изображения философов.files\image061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9892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67652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сихоанализ Зигмунда Фрейда 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ил огромную роль бессознательного в поведе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культура есть результат субли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F:\изображения философов.files\image073.jpg"/>
          <p:cNvPicPr/>
          <p:nvPr/>
        </p:nvPicPr>
        <p:blipFill>
          <a:blip r:embed="rId1"/>
          <a:stretch/>
        </p:blipFill>
        <p:spPr>
          <a:xfrm>
            <a:off x="228600" y="19810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5:10:54Z</dcterms:created>
  <dc:creator>Pussicat</dc:creator>
  <dc:description/>
  <dc:language>en-US</dc:language>
  <cp:lastModifiedBy>LEGION</cp:lastModifiedBy>
  <dcterms:modified xsi:type="dcterms:W3CDTF">2014-11-11T07:55:44Z</dcterms:modified>
  <cp:revision>9</cp:revision>
  <dc:subject/>
  <dc:title>Тема 8. Философия Новейшего времени и современности</dc:title>
</cp:coreProperties>
</file>