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8EB6-3592-4896-9BC4-FE64B61A29F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Тема 8. Философия Новейшего времени и современ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и основные направления философ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систск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лассическая философ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философии соврем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1029-A639-4940-87F4-B5BA5E0E24B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кзистенциализм или философия существования характеризуется антисциентистской направленностью и ориентирована на проблемы, связанные с человеком, смыслом его бытия в современн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ен Кьеркегор считал, что философия должна повернуться к человеку, его проблемам. Он выделил неподлинное и подлинное существование человека, а также три стадии восхождения к подлинному существованию: эстетическую, этическую, религиоз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Ясперсу, человек обычно живет «заброшенной» жизнью, но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граничных ситуац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крытые качества выходят наружу. Он осознает себя через «шифры» трансценденталь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нятиями философии Сартра становятся: «для-себя-бытие», «свобода», «выбор», «ответственность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Жизнь человека – абсурд», - считает Камю. Смысл жизни в самом существовани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деггер исследует «бытие человека в мире», которая состоит из «бытия с другими» и «бытия самого себ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BCBA-83FC-4B9C-B41C-D3B96594F1B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кзистенциализм Мартина Хайдеггера (1889-197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: «Бытие и время», «Время и бытие», «Письмо о гуманизме», «Разговор на проселочной дороге»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ом описания и толкования бытия являются экзистенциалы – эмоционально окрашенные по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ое бытие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sei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сегда эмоционально. Переживание «бытия-к-смерти» приводят к страху и трево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л начало онтологическому направлению в рамках герменевтики. Герменевтика – онтология поним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 – это «дом бытия» и именно язык определяет судьбу б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D789-B71C-429D-B914-439AB7CA5EF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рменевтика (от греч.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Germeneutikos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разъясняющий, истолковывающий)  означает теорию и практику истолкования текстов, языковых выражений и символов; философское направление, исследующее проблему понимания и связанные с ней вопросы я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были заложены Ф.Шлейермахером как искусство понимания индивидуальности другого ав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герменевтики является не содержание и не объяснение, а выражение и по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ние человеком мира осуществляется в языке и через язы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тому истина раскрывается через произведения искусства, тексты философии и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ческий круг: чтобы понять целое, следует понять его части, но для адекватного понимания частей необходимо понять смысл цел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овая среда в качестве традиции является одновременно и условием человеческого понимания и вместе с тем его предме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ысл герменевтики не в окончательных выводах, а в поддержании диалога с целью постижения «чудо поним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04FE-7FA4-413B-B2AA-C2D0351BD8F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остмодернизм («постсовременность») обозначает ситуацию в культурном самосознании стран Запада, сложившуюся в конце ХХ столет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постмодерна» стало употребляться в связи с работами Ж.Ф.Лиотара. Историческое становление связано с представителями  философского направления, связанным с анализом языка с Ф.де Соссюром, Л.Витгнештейном, М.Хайдеггером, М.Фу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ким представителем является Ж.Деррида, который ввел новый способ прочтения и осмысления текстов – деконструк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поху постмодерна не существует объективной истины, все что было до этого определенным становится неопределенным и несостояте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: пессимизм, отчаяние, недоверие к действительности, самокритичность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CB53-4155-40DC-B522-EBDC3316D1D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тран Р. История западной философии. Вве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дамер Х.Г. Истина и метод. М.: Прогресс, 1988. 699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ймс У. Поток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льтей В. Сущность философии. М.: Интрада, 2001. 159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ьин В.П. Как концепция «духа времени» конца ХХ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ю А. Абсурдное рассу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напп Р., О.Нейрат. Научное миропо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цше Ф. Так говорил Заратустра. Соч. в 2-х т. Т.2. С.5-17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пер К. Нищета историц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тр Ж.П. Экзистенциализм – это гуман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деггер М. Время и быт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деггер М. Письмо о гум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ейд З. Введение в психоанализ: Лекции. М.: Наука, 1989. 456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пенгауэр А. Афориз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перс К. Схема мировой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2222-6D81-4126-AD99-60E764B3E2E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Западная философия второй половины </a:t>
            </a: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XIX</a:t>
            </a: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-</a:t>
            </a: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XX</a:t>
            </a: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в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арактерные чер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юрализм в философском мышл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двух противоположных школ: сциентизм и антисциент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ерантность современной философ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тивность как утверждение принципов синергетики, математизации, универсального эволюционизм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ропоцентризм и гуманизм, т.е. направленность к челове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94C9-C66E-4A64-B20F-31B25624328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Основные направления философии </a:t>
            </a:r>
            <a:br>
              <a:rPr sz="1600"/>
            </a:b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XIX</a:t>
            </a: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-</a:t>
            </a: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XX</a:t>
            </a: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в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систская философия: К.Маркс, Ф.Энгель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лассическая философия: А. Шопенгауэр, Ф.Ницше, В.Диль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науки: позитивизм О.Конта; эмпириокритицизм; неопозитивизм; постпозитив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й прагматизм: Дж.Дьюи, Ч.Пи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анализ: З.Фрейд, Э.Фромм, К.Г.Юнг, Адл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ка: Ф.Шлегель, Ф.Шлейермахер, Г.Гадамер, П.Рик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омизм: Э.Жильсон, Ж.Маритен, К.Войтыл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истенциализм: С.Кьеркегор, Л.Шестов, Н.А.Бердяев, М.Хайдеггер, К.Ясперс, Ж.П.Сартр, А.Кам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модернизм: Ж.Ф.Лиотар, Ж.Деррида, Ж.Бодрийар, Р.Рорти, Ж.Делез, Ф.Гватта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6A5E-6CAA-4F10-9923-323F4E0FF33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Основателями философии марксизма стали Карл Маркс (1818-1883) и </a:t>
            </a:r>
            <a:br>
              <a:rPr sz="1800"/>
            </a:b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Фридрих Энгельс (1820-1895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 К.Маркса: «Тезисы о Фейербахе», «Капитал», «Экономическо-философские рукописи 1844г.» и др. Ф.Энгельса: «Диалектика природы», «Анти-Дюринг», «роль труда в процессе превращения обезьяны в человека», «Происхождение семьи, частной собственности и государства» и др. Совместно: «Манифест коммунистической парт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ими источниками стали: диалектика Гегеля, материализм Фейербаха, учения французских социалистических-утопи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ными частями являются: диалектический и исторический материализм, научный коммун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Маркс разработал теорию об общественно-экономических форма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ложениями экономической теории являются раскрытия способа производства при капитализме, процесс отчуждения труда от средств производства и от результатов труда, теория прибавочной стоим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5CA6-581A-47AC-A424-D859CE08554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Иррационализм Артура Шопенгауэра (1788-186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труд: «Мир как воля и представл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ковал Гегеля за его диалектику и историзм, призывал вернуться к Ка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ваясь на логическом законе достаточного основания, в качестве главного принципа жизни и познания рассматривает слепую волю, которая является сущностью всякой вещ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 есть лишь мир представлений в сознани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явлений и мир сущности являются соответственно миром представлений и миром во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чении о человеке заложил  основы пессим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46D9-5677-4770-B135-D82D459F7DD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Философия жизни Фридриха Ницше (1844-19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: «Так говорил Заратустра», «По сторону добра и зла» ; «Веселая на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предшественником ряда западных концепция, в основе философии которых лежат проблемы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л понятия «воля к жизни», «воля к власт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е о сверхчеловеке основано на отрицании христианских ценностей, провозглашении смерти Б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рхчеловек – это человек будущего, поставивший себя на место Бога, у него врожденная аристократичность, благородство и доброжелательность по отношению к равным себе и превосходство и презрение к «серой масс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8979-91A2-4507-80EC-5E4FE9F014B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Философия науки – направление в философии, изучающее характеристики и особенности науч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изм (О.Конт) – считали, что научной ценностью обладают только такое познание, которое опирается на опыт, и только эмпирически путем полученные знания могут представить интерес для науки; Эмпиризм выступает основным критерием демаркации между метафизикой и нау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ириокритицизм (Э.Мах и Р.Авенариус) – считали, что философия должна стать интегративной наукой, имеющей всеобщий язы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позитивизм (Р.Карнап, О.Нейрат, Б.Рассел Л.Витгенштейн) – философия должна заниматься логическим анализом языка науки, основным принцип – принцип верифик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позитивизм (К.Поппер, Т.Кун) – исследование развития науки, основной принцип – принцип фальсифик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4476-94E8-4944-93E5-7F93D43DDA1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сихоанализ Зигмунда Фрейда </a:t>
            </a:r>
            <a:br>
              <a:rPr sz="1400"/>
            </a:b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(1856-1939) представлял собой метод лечения психических заболеваний и теорию, объясняющую роль бессознательных явлений и процессов в жизни челове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: «Тотем и табу», «По ту сторону принципа удовольствия», «Сны и сновидения», «Я и Оно»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наружил огромную роль бессознательного в поведени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ика человека имеет сложную структуру, включающую сознание (Сверх-Я), подсознание (Я) и бессознательное (Он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сознательное – эта сфера инстинктов, где проявляются сексуальные влечения (либидо). Выделяет 3 комплекса: Эдипа, Электры, Нарци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культура есть результат субли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л учение об Эросе и Танатосе. Жизнь человека – постоянное взаимодействие Эроса и Танат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DD64-3BF7-437C-8AD2-DBBCB4F43AE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2856-D5E7-4E95-A880-EA6EF8AB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D6A4-01C5-45EE-9FC6-D83C1F1C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B7F6-5101-4427-AFE9-709A0517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C655-4708-42C9-9581-198564EB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1E82-5BD9-4C0F-9D67-5C0B7636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FE4C-A2D8-416E-8A17-06DF5CD4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DD05-AA5B-41C0-9BAB-93F81532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BD2F-05D7-440A-8DEE-323E03C0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A8D9-B3F2-458C-AC2F-B19BC787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92BF-F840-4D5B-87C3-11C1BAB5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E0BC-DD47-4AE4-BF8D-7C889CF0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FAEB-F96E-4522-9CC6-43A7BC8E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4FBF-6DEF-4814-AA0A-9615BA513B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87;&#1077;&#1088;&#1074;&#1086;&#1080;&#1089;&#1090;&#1086;&#1095;&#1085;&#1080;&#1082;&#1080;/&#1056;&#1040;&#1057;&#1057;&#1045;&#1051;.%20&#1060;&#1080;&#1083;&#1086;&#1089;&#1086;&#1092;&#1080;&#1103;.doc" TargetMode="External"/><Relationship Id="rId2" Type="http://schemas.openxmlformats.org/officeDocument/2006/relationships/hyperlink" Target="file:///&#1087;&#1077;&#1088;&#1074;&#1086;&#1080;&#1089;&#1090;&#1086;&#1095;&#1085;&#1080;&#1082;&#1080;/&#1044;&#1078;&#1077;&#1081;&#1084;&#1089;.doc" TargetMode="External"/><Relationship Id="rId3" Type="http://schemas.openxmlformats.org/officeDocument/2006/relationships/hyperlink" Target="file:///&#1087;&#1077;&#1088;&#1074;&#1086;&#1080;&#1089;&#1090;&#1086;&#1095;&#1085;&#1080;&#1082;&#1080;/&#1048;&#1083;&#1100;&#1080;&#1085;.%20&#1055;&#1086;&#1089;&#1090;&#1084;&#1086;&#1076;&#1077;&#1088;&#1085;&#1080;&#1079;&#1084;.doc" TargetMode="External"/><Relationship Id="rId4" Type="http://schemas.openxmlformats.org/officeDocument/2006/relationships/hyperlink" Target="file:///&#1087;&#1077;&#1088;&#1074;&#1086;&#1080;&#1089;&#1090;&#1086;&#1095;&#1085;&#1080;&#1082;&#1080;/&#1050;&#1072;&#1084;&#1102;.doc" TargetMode="External"/><Relationship Id="rId5" Type="http://schemas.openxmlformats.org/officeDocument/2006/relationships/hyperlink" Target="file:///&#1087;&#1077;&#1088;&#1074;&#1086;&#1080;&#1089;&#1090;&#1086;&#1095;&#1085;&#1080;&#1082;&#1080;/&#1050;&#1040;&#1056;&#1053;&#1040;&#1055;&#1055;%20&#1056;&#1091;&#1076;&#1086;&#1083;&#1100;&#1092;.doc" TargetMode="External"/><Relationship Id="rId6" Type="http://schemas.openxmlformats.org/officeDocument/2006/relationships/hyperlink" Target="file:///&#1087;&#1077;&#1088;&#1074;&#1086;&#1080;&#1089;&#1090;&#1086;&#1095;&#1085;&#1080;&#1082;&#1080;/&#1055;&#1054;&#1055;&#1055;&#1045;&#1056;%20&#1050;&#1072;&#1088;&#1083;.doc" TargetMode="External"/><Relationship Id="rId7" Type="http://schemas.openxmlformats.org/officeDocument/2006/relationships/hyperlink" Target="file:///&#1087;&#1077;&#1088;&#1074;&#1086;&#1080;&#1089;&#1090;&#1086;&#1095;&#1085;&#1080;&#1082;&#1080;/&#1057;&#1040;&#1056;&#1058;&#1056;.doc" TargetMode="External"/><Relationship Id="rId8" Type="http://schemas.openxmlformats.org/officeDocument/2006/relationships/hyperlink" Target="file:///&#1087;&#1077;&#1088;&#1074;&#1086;&#1080;&#1089;&#1090;&#1086;&#1095;&#1085;&#1080;&#1082;&#1080;/&#1061;&#1040;&#1049;&#1044;&#1045;&#1043;&#1043;&#1045;&#1056;.%20&#1042;&#1088;&#1077;&#1084;&#1103;%20&#1080;%20&#1073;&#1099;&#1090;&#1080;&#1077;.doc" TargetMode="External"/><Relationship Id="rId9" Type="http://schemas.openxmlformats.org/officeDocument/2006/relationships/hyperlink" Target="file:///&#1087;&#1077;&#1088;&#1074;&#1086;&#1080;&#1089;&#1090;&#1086;&#1095;&#1085;&#1080;&#1082;&#1080;/&#1061;&#1040;&#1049;&#1044;&#1045;&#1043;&#1043;&#1045;&#1056;.%20&#1055;&#1080;&#1089;&#1100;&#1084;&#1086;%20&#1086;%20&#1075;&#1091;&#1084;&#1072;&#1085;&#1080;&#1079;&#1084;&#1077;.doc" TargetMode="External"/><Relationship Id="rId10" Type="http://schemas.openxmlformats.org/officeDocument/2006/relationships/hyperlink" Target="file:///&#1087;&#1077;&#1088;&#1074;&#1086;&#1080;&#1089;&#1090;&#1086;&#1095;&#1085;&#1080;&#1082;&#1080;/&#1064;&#1054;&#1055;&#1045;&#1053;&#1043;&#1040;&#1059;&#1069;&#1056;.%20&#1040;&#1092;&#1086;&#1088;&#1080;&#1079;&#1084;&#1099;.doc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Тема 8. Философия Новейшего времени и соврем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ные черты и основные направления философи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рксистская философ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классическая философи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лософия нау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ные направления философии соврем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Экзистенциализм или философия существования характеризуется антисциентистской направленностью и ориентирована на проблемы, связанные с человеком, смыслом его бытия в современном ми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рен Кьеркегор считал, что философия должна повернуться к человеку, его проблемам. Он выделил неподлинное и подлинное существование человека, а также три стадии восхождения к подлинному существованию: эстетическую, этическую, религиозну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Ясперсу, человек обычно живет «заброшенной» жизнью, но 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граничных ситуация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крытые качества выходят наружу. Он осознает себя через «шифры» трансцендентальног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ми понятиями философии Сартра становятся: «для-себя-бытие», «свобода», «выбор», «ответственность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Жизнь человека – абсурд», - считает Камю. Смысл жизни в самом существовании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йдеггер исследует «бытие человека в мире», которая состоит из «бытия с другими» и «бытия самого себя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Экзистенциализм Мартина Хайдеггера (1889-197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1905120"/>
            <a:ext cx="5486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: «Бытие и время», «Время и бытие», «Письмо о гуманизме», «Разговор на проселочной дороге»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ством описания и толкования бытия являются экзистенциалы – эмоционально окрашенные понят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ловеческое бытие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sei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всегда эмоционально. Переживание «бытия-к-смерти» приводят к страху и тревог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жил начало онтологическому направлению в рамках герменевтики. Герменевтика – онтология поним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зык – это «дом бытия» и именно язык определяет судьбу быт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F:\изображения философов.files\image064.jpg"/>
          <p:cNvPicPr/>
          <p:nvPr/>
        </p:nvPicPr>
        <p:blipFill>
          <a:blip r:embed="rId1"/>
          <a:stretch/>
        </p:blipFill>
        <p:spPr>
          <a:xfrm>
            <a:off x="5562720" y="2209680"/>
            <a:ext cx="3352680" cy="34848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Герменевтика (от греч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rmeneutikos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–разъясняющий, истолковывающий)  означает теорию и практику истолкования текстов, языковых выражений и символов; философское направление, исследующее проблему понимания и связанные с ней вопросы язы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сновы были заложены Ф.Шлейермахером как искусство понимания индивидуальности другого автор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едметом герменевтики является не содержание и не объяснение, а выражение и понимани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нимание человеком мира осуществляется в языке и через язык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потому истина раскрывается через произведения искусства, тексты философии и истор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ерменевтический круг: чтобы понять целое, следует понять его части, но для адекватного понимания частей необходимо понять смысл целого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зыковая среда в качестве традиции является одновременно и условием человеческого понимания и вместе с тем его предмето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мысл герменевтики не в окончательных выводах, а в поддержании диалога с целью постижения «чудо понимания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остмодернизм («постсовременность») обозначает ситуацию в культурном самосознании стран Запада, сложившуюся в конце ХХ столет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ятие «постмодерна» стало употребляться в связи с работами Ж.Ф.Лиотара. Историческое становление связано с представителями  философского направления, связанным с анализом языка с Ф.де Соссюром, Л.Витгнештейном, М.Хайдеггером, М.Фук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рким представителем является Ж.Деррида, который ввел новый способ прочтения и осмысления текстов – деконструкц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эпоху постмодерна не существует объективной истины, все что было до этого определенным становится неопределенным и несостоятельны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актерные черты: пессимизм, отчаяние, недоверие к действительности, самокритичность созн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Литератур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ртран Р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История западной философии. Введени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адамер Х.Г. Истина и метод. М.: Прогресс, 1988. 699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жеймс У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Поток созн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льтей В. Сущность философии. М.: Интрада, 2001. 159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ьин В.П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Как концепция «духа времени» конца ХХ 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мю А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Абсурдное рассужд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напп Р., О.Нейрат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Научное миропонима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цше Ф. Так говорил Заратустра. Соч. в 2-х т. Т.2. С.5-17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ппер К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Нищета историциз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ртр Ж.П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Экзистенциализм – это гуманиз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йдеггер М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Время и быт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йдеггер М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Письмо о гуманизм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рейд З. Введение в психоанализ: Лекции. М.: Наука, 1989. 456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опенгауэр А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Афориз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сперс К. Схема мировой истор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ападная философия второй половины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ные чер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юрализм в философском мышлен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никновение двух противоположных школ: сциентизм и антисциентиз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лерантность современной философ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гративность как утверждение принципов синергетики, математизации, универсального эволюционизма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ропоцентризм и гуманизм, т.е. направленность к челове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Основные направления философии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рксистская философия: К.Маркс, Ф.Энгель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лассическая философия: А. Шопенгауэр, Ф.Ницше, В.Диль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лософия науки: позитивизм О.Конта; эмпириокритицизм; неопозитивизм; постпозитивиз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мериканский прагматизм: Дж.Дьюи, Ч.Пир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сихоанализ: З.Фрейд, Э.Фромм, К.Г.Юнг, Адл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меневтика: Ф.Шлегель, Ф.Шлейермахер, Г.Гадамер, П.Рик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томизм: Э.Жильсон, Ж.Маритен, К.Войтыла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зистенциализм: С.Кьеркегор, Л.Шестов, Н.А.Бердяев, М.Хайдеггер, К.Ясперс, Ж.П.Сартр, А.Кам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модернизм: Ж.Ф.Лиотар, Ж.Деррида, Ж.Бодрийар, Р.Рорти, Ж.Делез, Ф.Гватта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Основателями философии марксизма стали Карл Маркс (1818-1883) и </a:t>
            </a:r>
            <a:br>
              <a:rPr sz="3200"/>
            </a:b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Фридрих Энгельс (1820-1895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 К.Маркса: «Тезисы о Фейербахе», «Капитал», «Экономическо-философские рукописи 1844г.» и др. Ф.Энгельса: «Диалектика природы», «Анти-Дюринг», «роль труда в процессе превращения обезьяны в человека», «Происхождение семьи, частной собственности и государства» и др. Совместно: «Манифест коммунистической партии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оретическими источниками стали: диалектика Гегеля, материализм Фейербаха, учения французских социалистических-утопис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авными частями являются: диалектический и исторический материализм, научный коммуниз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.Маркс разработал теорию об общественно-экономических формац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ми положениями экономической теории являются раскрытия способа производства при капитализме, процесс отчуждения труда от средств производства и от результатов труда, теория прибавочной стоимост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Иррационализм Артура Шопенгауэра (1788-186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576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ой труд: «Мир как воля и представление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итиковал Гегеля за его диалектику и историзм, призывал вернуться к Кант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ываясь на логическом законе достаточного основания, в качестве главного принципа жизни и познания рассматривает слепую волю, которая является сущностью всякой вещ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ружающий мир есть лишь мир представлений в сознании челове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р явлений и мир сущности являются соответственно миром представлений и миром во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учении о человеке заложил  основы пессимиз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F:\изображения философов.files\image062.jpg"/>
          <p:cNvPicPr/>
          <p:nvPr/>
        </p:nvPicPr>
        <p:blipFill>
          <a:blip r:embed="rId1"/>
          <a:stretch/>
        </p:blipFill>
        <p:spPr>
          <a:xfrm>
            <a:off x="228600" y="1981080"/>
            <a:ext cx="3048120" cy="41148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Философия жизни Фридриха Ницше (1844-190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5562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: «Так говорил Заратустра», «По сторону добра и зла» ; «Веселая нау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вляется предшественником ряда западных концепция, в основе философии которых лежат проблемы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вел понятия «воля к жизни», «воля к власти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ение о сверхчеловеке основано на отрицании христианских ценностей, провозглашении смерти Бог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ерхчеловек – это человек будущего, поставивший себя на место Бога, у него врожденная аристократичность, благородство и доброжелательность по отношению к равным себе и превосходство и презрение к «серой массе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F:\изображения философов.files\image061.jpg"/>
          <p:cNvPicPr/>
          <p:nvPr/>
        </p:nvPicPr>
        <p:blipFill>
          <a:blip r:embed="rId1"/>
          <a:stretch/>
        </p:blipFill>
        <p:spPr>
          <a:xfrm>
            <a:off x="6095880" y="1981080"/>
            <a:ext cx="269892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Философия науки – направление в философии, изучающее характеристики и особенности научной де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1676520"/>
            <a:ext cx="8915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итивизм (О.Конт) – считали, что научной ценностью обладают только такое познание, которое опирается на опыт, и только эмпирически путем полученные знания могут представить интерес для науки; Эмпиризм выступает основным критерием демаркации между метафизикой и нау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пириокритицизм (Э.Мах и Р.Авенариус) – считали, что философия должна стать интегративной наукой, имеющей всеобщий язы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позитивизм (Р.Карнап, О.Нейрат, Б.Рассел Л.Витгенштейн) – философия должна заниматься логическим анализом языка науки, основным принцип – принцип верифик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позитивизм (К.Поппер, Т.Кун) – исследование развития науки, основной принцип – принцип фальсифика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сихоанализ Зигмунда Фрейда </a:t>
            </a:r>
            <a:br>
              <a:rPr sz="2400"/>
            </a:b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(1856-1939) представлял собой метод лечения психических заболеваний и теорию, объясняющую роль бессознательных явлений и процессов в жизни чело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9000" y="1828800"/>
            <a:ext cx="5486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: «Тотем и табу», «По ту сторону принципа удовольствия», «Сны и сновидения», «Я и Оно»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наружил огромную роль бессознательного в поведении челове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ика человека имеет сложную структуру, включающую сознание (Сверх-Я), подсознание (Я) и бессознательное (Оно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ссознательное – эта сфера инстинктов, где проявляются сексуальные влечения (либидо). Выделяет 3 комплекса: Эдипа, Электры, Нарцис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я культура есть результат сублим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ал учение об Эросе и Танатосе. Жизнь человека – постоянное взаимодействие Эроса и Танато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F:\изображения философов.files\image073.jpg"/>
          <p:cNvPicPr/>
          <p:nvPr/>
        </p:nvPicPr>
        <p:blipFill>
          <a:blip r:embed="rId1"/>
          <a:stretch/>
        </p:blipFill>
        <p:spPr>
          <a:xfrm>
            <a:off x="228600" y="1981080"/>
            <a:ext cx="3124080" cy="41148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05:10:54Z</dcterms:created>
  <dc:creator>Pussicat</dc:creator>
  <dc:description/>
  <dc:language>en-US</dc:language>
  <cp:lastModifiedBy>LEGION</cp:lastModifiedBy>
  <dcterms:modified xsi:type="dcterms:W3CDTF">2014-11-11T07:55:44Z</dcterms:modified>
  <cp:revision>9</cp:revision>
  <dc:subject/>
  <dc:title>Тема 8. Философия Новейшего времени и современности</dc:title>
</cp:coreProperties>
</file>