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33333"/>
              </a:solidFill>
              <a:latin typeface="Arial"/>
            </a:endParaRPr>
          </a:p>
        </p:txBody>
      </p:sp>
      <p:sp>
        <p:nvSpPr>
          <p:cNvPr id="105"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6" name="PlaceHolder 2"/>
          <p:cNvSpPr>
            <a:spLocks noGrp="1"/>
          </p:cNvSpPr>
          <p:nvPr>
            <p:ph type="dt" idx="7"/>
          </p:nvPr>
        </p:nvSpPr>
        <p:spPr>
          <a:xfrm>
            <a:off x="3844800" y="0"/>
            <a:ext cx="294192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107" name="PlaceHolder 3"/>
          <p:cNvSpPr>
            <a:spLocks noGrp="1"/>
          </p:cNvSpPr>
          <p:nvPr>
            <p:ph type="sldImg"/>
          </p:nvPr>
        </p:nvSpPr>
        <p:spPr>
          <a:xfrm>
            <a:off x="914400" y="744120"/>
            <a:ext cx="4959360" cy="37213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79320" y="4712760"/>
            <a:ext cx="542952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8"/>
          </p:nvPr>
        </p:nvSpPr>
        <p:spPr>
          <a:xfrm>
            <a:off x="-360" y="9425160"/>
            <a:ext cx="2941560" cy="4968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0" name="PlaceHolder 6"/>
          <p:cNvSpPr>
            <a:spLocks noGrp="1"/>
          </p:cNvSpPr>
          <p:nvPr>
            <p:ph type="sldNum" idx="9"/>
          </p:nvPr>
        </p:nvSpPr>
        <p:spPr>
          <a:xfrm>
            <a:off x="3844800" y="9425160"/>
            <a:ext cx="294192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6B7C-FD16-4212-9287-5F5D6981D58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4400" y="744480"/>
            <a:ext cx="4959360" cy="3721320"/>
          </a:xfrm>
          <a:prstGeom prst="rect">
            <a:avLst/>
          </a:prstGeom>
          <a:ln w="0">
            <a:noFill/>
          </a:ln>
        </p:spPr>
      </p:sp>
      <p:sp>
        <p:nvSpPr>
          <p:cNvPr id="132"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Уроки музы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       Романс. Русский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Цель :  показать жизненную  силу  русского  романса  в его историческом  развит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альный  матери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мансы  русских  композиторов 19-2О веков. Фонограммы  и живое  исполн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визит :  гитара,  баян, домра, микрофоны, магнитофон, усилительная аппарату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ход  класса  под звучание  романса П.Булахо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локольчики  мо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ветств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  «  Романса  голос узнаю  на самом дальнем  расстоянье :  стою и мысленно  пою, И мне  приятно  с ним слиянь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всех я вспоминаю  вас ,друзей  и   родственников  дальних, Уже ушедших и печальных :  напомнил  мне о вас – романс !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80C3-D8A4-4034-8B21-88DF7539AFF5}"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4400" y="744480"/>
            <a:ext cx="4959360" cy="3721320"/>
          </a:xfrm>
          <a:prstGeom prst="rect">
            <a:avLst/>
          </a:prstGeom>
          <a:ln w="0">
            <a:noFill/>
          </a:ln>
        </p:spPr>
      </p:sp>
      <p:sp>
        <p:nvSpPr>
          <p:cNvPr id="159"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ая  эпоха, другой  ритм  жизни, а  задушевность, лиризм, трепет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ша Белоус  споет   «  Балладу  о краска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60"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9040-C94C-41BE-A923-9302AEDCB649}"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4400" y="744480"/>
            <a:ext cx="4959360" cy="3721320"/>
          </a:xfrm>
          <a:prstGeom prst="rect">
            <a:avLst/>
          </a:prstGeom>
          <a:ln w="0">
            <a:noFill/>
          </a:ln>
        </p:spPr>
      </p:sp>
      <p:sp>
        <p:nvSpPr>
          <p:cNvPr id="135"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ебята, вспомним, что означает  это  слов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ся   \  Определение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6"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7BF4-62ED-4090-B040-BD79C3C4CF7D}"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4480"/>
            <a:ext cx="4959360" cy="3721320"/>
          </a:xfrm>
          <a:prstGeom prst="rect">
            <a:avLst/>
          </a:prstGeom>
          <a:ln w="0">
            <a:noFill/>
          </a:ln>
        </p:spPr>
      </p:sp>
      <p:sp>
        <p:nvSpPr>
          <p:cNvPr id="138"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64AB-64FA-4676-879F-309EB705AA19}"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4400" y="744480"/>
            <a:ext cx="4959360" cy="3721320"/>
          </a:xfrm>
          <a:prstGeom prst="rect">
            <a:avLst/>
          </a:prstGeom>
          <a:ln w="0">
            <a:noFill/>
          </a:ln>
        </p:spPr>
      </p:sp>
      <p:sp>
        <p:nvSpPr>
          <p:cNvPr id="141"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ликий  Чайковский  писал  так:  «…  Иногда  в музыке  нравиться  что-то  совсем  неуловимое и не поддающееся критическому  анализ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лександр Алябъев,слова Антона Дельвига « СОЛОВЕЙ «  поет  Наталья  Костюкова  \  идет  исполнени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2"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3AEF-BD6E-4336-A2B0-A70D7E410F09}"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4400" y="744480"/>
            <a:ext cx="4959360" cy="3721320"/>
          </a:xfrm>
          <a:prstGeom prst="rect">
            <a:avLst/>
          </a:prstGeom>
          <a:ln w="0">
            <a:noFill/>
          </a:ln>
        </p:spPr>
      </p:sp>
      <p:sp>
        <p:nvSpPr>
          <p:cNvPr id="144"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6149-C71C-4E52-AA4F-8016A16BEEBA}"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4400" y="744480"/>
            <a:ext cx="4959360" cy="3721320"/>
          </a:xfrm>
          <a:prstGeom prst="rect">
            <a:avLst/>
          </a:prstGeom>
          <a:ln w="0">
            <a:noFill/>
          </a:ln>
        </p:spPr>
      </p:sp>
      <p:sp>
        <p:nvSpPr>
          <p:cNvPr id="147"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амым    ярким  романсом Булахова  является « Гори, гори  моя   звезда « -  споем  его  \  исполняется   два  куплет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48"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4E29-450F-49A7-92CB-F5D8FCEFEED8}"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4480"/>
            <a:ext cx="4959360" cy="3721320"/>
          </a:xfrm>
          <a:prstGeom prst="rect">
            <a:avLst/>
          </a:prstGeom>
          <a:ln w="0">
            <a:noFill/>
          </a:ln>
        </p:spPr>
      </p:sp>
      <p:sp>
        <p:nvSpPr>
          <p:cNvPr id="150"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51"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1A1C1-4347-40DD-AAB8-545560E2D743}"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4400" y="744480"/>
            <a:ext cx="4959360" cy="3721320"/>
          </a:xfrm>
          <a:prstGeom prst="rect">
            <a:avLst/>
          </a:prstGeom>
          <a:ln w="0">
            <a:noFill/>
          </a:ln>
        </p:spPr>
      </p:sp>
      <p:sp>
        <p:nvSpPr>
          <p:cNvPr id="153"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9406-81DC-4FBE-8688-BC42AB5BF26B}"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4400" y="744480"/>
            <a:ext cx="4959360" cy="3721320"/>
          </a:xfrm>
          <a:prstGeom prst="rect">
            <a:avLst/>
          </a:prstGeom>
          <a:ln w="0">
            <a:noFill/>
          </a:ln>
        </p:spPr>
      </p:sp>
      <p:sp>
        <p:nvSpPr>
          <p:cNvPr id="156"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3CC80-0F45-4D04-8FB3-B3355B6E6E69}"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DC00B-170D-4B8A-B969-D7FE1749D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EA851-61A0-430A-9973-9FC6779B9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DACD7-002F-4718-9A17-335373688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ECCBC-B1F4-4960-8CA1-BD85D8D2F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1BB5E9-4DD1-4EBF-9A85-189B20B11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2BB3A-8DDC-4BF0-B683-22C24F53C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46B4F-E023-4803-AE12-9852C0451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3A8A7-EAFC-4AF0-888D-0FCD3B7BA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F5288-EA09-4848-950C-40B6D86FA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43854-BD56-4013-AD57-3B2E23227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DAF0E-D1F2-420E-AEAE-B534CB5C1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2CFBA-1C50-45A4-A2EC-A03CCFA73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9A3E3-C665-45E0-BDC1-4D473E23C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BBD08-52DF-424F-B49A-8261A17CE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BA4D4-DC29-4B78-94F3-DE06ABF03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407FE7-34C4-4A58-ABD1-BDCDA56E6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9D7AE-8035-41FD-BD68-86F8D53D1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0911E-971B-48FD-9D00-9E4B4E638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4F341-22D6-4F31-B5EC-1FCC2A9BC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82681-44F1-4226-B492-88CCB3B2D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51845-DEBC-4162-AA2E-44537897C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4F3B7-DB50-41C7-9157-82444A409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48399-3788-447B-999F-4C2157A91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F4B51-1049-44DD-87BA-58F51F20B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7214-55B1-4ED4-AEB3-956E0CBA6190}"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0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A16D-1394-4F03-811A-9101F9A246D0}"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1" lang="ru-RU" sz="1800" spc="-1" strike="noStrike">
                <a:solidFill>
                  <a:srgbClr val="333333"/>
                </a:solidFill>
                <a:latin typeface="Arial"/>
              </a:rPr>
              <a:t>Уроки музык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ТЕМА :       Романс. Русский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Цель :  показать жизненную  силу  русского  романса  в его историческом  развити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Музыкальный  материал:</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омансы  русских  композиторов 19-2О веков. Фонограммы  и живое  исполнен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еквизит :  гитара,  баян, домра, микрофоны, магнитофон, усилительная аппаратура.</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ход  класса  под звучание  романса П.Булахова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  Колокольчики  мо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Приветств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Учитель :  «  Романса  голос узнаю  на самом дальнем  расстоянье :  стою и мысленно  пою, И мне  приятно  с ним слиянь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И всех я вспоминаю  вас ,друзей  и   родственников  дальних, Уже ушедших и печальных :  напомнил  мне о вас – романс !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1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Другая  эпоха, другой  ритм  жизни, а  задушевность, лиризм, трепетность.</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Даша Белоус  споет   «  Балладу  о красках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3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7480" y="836280"/>
            <a:ext cx="7772400" cy="525924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ебята, вспомним, что означает  это  слово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ся   \  Определение   романса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8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Великий  Чайковский  писал  так:  «…  Иногда  в музыке  нравиться  что-то  совсем  неуловимое и не поддающееся критическому  анализу.</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Александр Алябъев,слова Антона Дельвига « СОЛОВЕЙ «  поет  Наталья  Костюкова  \  идет  исполнение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257480" y="907560"/>
            <a:ext cx="7772400" cy="518796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амым    ярким  романсом Булахова  является « Гори, гори  моя   звезда « -  споем  его  \  исполняется   два  куплет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Один  из  таких романсов «  Жаворонок  «    мы сейчас  исполним.    Звучит  романс…</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257480" y="620280"/>
            <a:ext cx="7772400" cy="5475240"/>
          </a:xfrm>
          <a:prstGeom prst="rect">
            <a:avLst/>
          </a:prstGeom>
          <a:noFill/>
          <a:ln w="0">
            <a:noFill/>
          </a:ln>
        </p:spPr>
        <p:txBody>
          <a:bodyPr anchor="t">
            <a:normAutofit/>
          </a:bodyPr>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Послушаем  романс Р-Корсакова  на слова А.К.Толстова  «   Звонче  жаворонка пенье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400" spc="-1" strike="noStrike">
              <a:solidFill>
                <a:srgbClr val="333333"/>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12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257480" y="549000"/>
            <a:ext cx="7772400" cy="554652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Один  из  таких романсов «  Жаворонок  «    мы сейчас  исполним.    Звучит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800" spc="-1" strike="noStrike">
              <a:solidFill>
                <a:srgbClr val="333333"/>
              </a:solidFill>
              <a:latin typeface="Arial"/>
            </a:endParaRPr>
          </a:p>
        </p:txBody>
      </p:sp>
      <p:sp>
        <p:nvSpPr>
          <p:cNvPr id="12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Р-Корсакова  на слова А.К.Толстова  «   Звонче  жаворонка пень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4-02T07:25:38Z</dcterms:modified>
  <cp:revision>20</cp:revision>
  <dc:subject/>
  <dc:title>Уроки музыки ТЕМА : Романс</dc:title>
</cp:coreProperties>
</file>