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896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33333"/>
              </a:solidFill>
              <a:latin typeface="Arial"/>
            </a:endParaRPr>
          </a:p>
        </p:txBody>
      </p:sp>
      <p:sp>
        <p:nvSpPr>
          <p:cNvPr id="105" name="PlaceHolder 1"/>
          <p:cNvSpPr>
            <a:spLocks noGrp="1"/>
          </p:cNvSpPr>
          <p:nvPr>
            <p:ph type="hdr"/>
          </p:nvPr>
        </p:nvSpPr>
        <p:spPr>
          <a:xfrm>
            <a:off x="-360" y="0"/>
            <a:ext cx="2941560" cy="496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6" name="PlaceHolder 2"/>
          <p:cNvSpPr>
            <a:spLocks noGrp="1"/>
          </p:cNvSpPr>
          <p:nvPr>
            <p:ph type="dt" idx="7"/>
          </p:nvPr>
        </p:nvSpPr>
        <p:spPr>
          <a:xfrm>
            <a:off x="3844800" y="0"/>
            <a:ext cx="2941920" cy="4968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107" name="PlaceHolder 3"/>
          <p:cNvSpPr>
            <a:spLocks noGrp="1"/>
          </p:cNvSpPr>
          <p:nvPr>
            <p:ph type="sldImg"/>
          </p:nvPr>
        </p:nvSpPr>
        <p:spPr>
          <a:xfrm>
            <a:off x="914400" y="744120"/>
            <a:ext cx="4959360" cy="37213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79320" y="4712760"/>
            <a:ext cx="542952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8"/>
          </p:nvPr>
        </p:nvSpPr>
        <p:spPr>
          <a:xfrm>
            <a:off x="-360" y="9425160"/>
            <a:ext cx="2941560" cy="4968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0" name="PlaceHolder 6"/>
          <p:cNvSpPr>
            <a:spLocks noGrp="1"/>
          </p:cNvSpPr>
          <p:nvPr>
            <p:ph type="sldNum" idx="9"/>
          </p:nvPr>
        </p:nvSpPr>
        <p:spPr>
          <a:xfrm>
            <a:off x="3844800" y="9425160"/>
            <a:ext cx="2941920" cy="4968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90E4-8A48-4BF2-8FB0-0E5CBD7EBB6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4400" y="744480"/>
            <a:ext cx="4959360" cy="3721320"/>
          </a:xfrm>
          <a:prstGeom prst="rect">
            <a:avLst/>
          </a:prstGeom>
          <a:ln w="0">
            <a:noFill/>
          </a:ln>
        </p:spPr>
      </p:sp>
      <p:sp>
        <p:nvSpPr>
          <p:cNvPr id="132"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Уроки музы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       Романс. Русский  роман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Цель :  показать жизненную  силу  русского  романса  в его историческом  развит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альный  матери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мансы  русских  композиторов 19-2О веков. Фонограммы  и живое  исполн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визит :  гитара,  баян, домра, микрофоны, магнитофон, усилительная аппарату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ход  класса  под звучание  романса П.Булахо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локольчики  мо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ветств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ель :  «  Романса  голос узнаю  на самом дальнем  расстоянье :  стою и мысленно  пою, И мне  приятно  с ним слиянь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всех я вспоминаю  вас ,друзей  и   родственников  дальних, Уже ушедших и печальных :  напомнил  мне о вас – романс !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10041-457A-4518-A16C-A6FED56AD47E}"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4400" y="744480"/>
            <a:ext cx="4959360" cy="3721320"/>
          </a:xfrm>
          <a:prstGeom prst="rect">
            <a:avLst/>
          </a:prstGeom>
          <a:ln w="0">
            <a:noFill/>
          </a:ln>
        </p:spPr>
      </p:sp>
      <p:sp>
        <p:nvSpPr>
          <p:cNvPr id="159"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о  2О  века в России  было  временем грандиозных  социальных  потрясений. В  прорыве революционного нигилизма  новая  власть  признала все лирическое искусство буржуазным.  Глашатай  революции  поэт Владимир Маяковский  писал :  «   Бросьте  ! Забудьте, плюньте и на   рифмы,  и на арии, и на розовый  куст, и на прочие мерехлюкдии  из арсенала  искусств… Эта  установка  жила долго, прочно укоренившись в умах вершителей судьбы  страны. Романсу  пришлось. Он  глубоко схоронился до лучших  времен,  только иногда узкому  кругу  подавал   свой  негромкий  голосок.  Но  тем  не менее   все великие композиторы 2О  века  в  своем  творчестве  находили  место для романса. Романсы  сочиняли Прокофьев ,Шостакович ,Хачатурян, Свиридов,  Щедрин  и друг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ая  эпоха, другой  ритм  жизни, а  задушевность, лиризм, трепет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реди  романсов  Георгия  Васильевича Свиридова огромной  популярностью пользуется  романс из музыкальных  иллюстраций  к повести Пушкина 2 Метель  « Мы его сейчас  исполним  .     \ Звучит  романс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аллада, элегия, баркарола  -  все   это  разновидности  романса. С давних  времен и до  наших  пор  поэты и композиторы  откликались  своим  творчеством  на жизнь  страны. Вот  как откликнулись  композитор  Оскар  Фельцман  и поэт  Роберт Рождественский  на события Великой Отечественной  войны  1941-45 год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аша Белоус  споет   «  Балладу  о краска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60"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11D74-7D53-4F2F-A7C7-C441745F3D36}"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4400" y="744480"/>
            <a:ext cx="4959360" cy="3721320"/>
          </a:xfrm>
          <a:prstGeom prst="rect">
            <a:avLst/>
          </a:prstGeom>
          <a:ln w="0">
            <a:noFill/>
          </a:ln>
        </p:spPr>
      </p:sp>
      <p:sp>
        <p:nvSpPr>
          <p:cNvPr id="135"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удно  сегодня встретить человека, который бы ничего не знал  о романсе. Как  часто  в концертах, на телевидении, радио, в домашнем музицировании  мы  слышим  произведения,  отличающиеся редкой выразительностью ,высоким поэтическим  слогом, яркой мелодией, слиянием поэтической идеи с идеей музыкальной. Эти  произведения коротки  по объему ,голос их не громок и обращен чаще  всего к небольшой аудитории  слушател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ебята, вспомним, что означает  это  слов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ся   \  Определение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ель 6   Действительно, в Испании в 13-14 веках  в творчестве  странствующих поэтов – певцов  утвердился новый  песенный  жанр, соединивший  в себе  приемы речитатива,  напевного мелодического  начала и мимического  танца. Песни  певцов-трубадуров  исполнялись  на родном романском  языке, отсюда и пошло  название  «  романсы « , что определило  не только особый жанр стихотворного  текста,  исполнительские  традиции, но и характерный   тип  мелодии.</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6"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09FCF-0D47-42F7-9734-260B9F26D12E}"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44480"/>
            <a:ext cx="4959360" cy="3721320"/>
          </a:xfrm>
          <a:prstGeom prst="rect">
            <a:avLst/>
          </a:prstGeom>
          <a:ln w="0">
            <a:noFill/>
          </a:ln>
        </p:spPr>
      </p:sp>
      <p:sp>
        <p:nvSpPr>
          <p:cNvPr id="138"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оссии, как и в остальных странах Западной Европы  романс определился    в  18  веке. Но лишь в 19 веке  жанр романса  достиг  своего  расцвета и популярности. В  начале  века  наступило  время  так  называемых « любителей « , хотя  любителями их можно  назвать  условно, многие создатели романсов того  времени были широко образованными людьми  и получили хорошее домашнее музыкальное образование. К  примеру , А.А. Алябьев \ 1787-1851\  создал  более 45О  произведений,  среди них 6 опер, балет,  произведения симфонического  духового оркестра,камерная  музыка, музыка к спектаклям и, конечно же романсы.  Алябьевский  « Соловей «  облетел  весь мир. Многие именитые музыканты  в разное  время делали аранжировки  и   транскрипции  этого   романса. М.И. Глинка  написал фортепианные вариации  на тему:  « Соловья «,  композитор – скрипач Вытан  сделал  трепетную  транскрипцию  для  скрипки, великий  Лист сделал свой страстный перевод «  Соловья «  на язык  рояля. До сих  пор звучит колоратурная аранжировка немецкой певицы Генриэтты Зонтаг. Многие великие сопрано  мира,исполняя « Соловья « в этой аранжировке,как  бы  соревнуются  меж  собой  за  звание  мирового  солов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6883-2B37-4E38-BAB0-221AD4A14CC8}"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4400" y="744480"/>
            <a:ext cx="4959360" cy="3721320"/>
          </a:xfrm>
          <a:prstGeom prst="rect">
            <a:avLst/>
          </a:prstGeom>
          <a:ln w="0">
            <a:noFill/>
          </a:ln>
        </p:spPr>
      </p:sp>
      <p:sp>
        <p:nvSpPr>
          <p:cNvPr id="141"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ликий  Чайковский  писал  так:  «…  Иногда  в музыке  нравиться  что-то  совсем  неуловимое и не поддающееся критическому  анализ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 не могу  без  слез слышать «  Соловья « Алябъева. В России первым  «  Соловья «  исполнил тенор Петр Александрович Булахов ?  января 1827 года  в Московском Большом  театре. Успех  был оглушительным. Вскоре « Соловья « распевала  вся  Россия «.  Сам Алябъев  в это  время по ложному доносу  сидел в тюрьме, якобы  за убий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ковая  ошибка  российской фемиды исковеркала  жизнь замечательному  человеку, гражданину и музыканту. Впоследствии историки и исследователи доказали невинность Алябъева, но  это  было уже  после  его  смер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лександр Алябъев,слова Антона Дельвига « СОЛОВЕЙ «  поет  Наталья  Костюкова  \  идет  исполнение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2"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1108-210F-41C2-983A-97F1C4834053}"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4400" y="744480"/>
            <a:ext cx="4959360" cy="3721320"/>
          </a:xfrm>
          <a:prstGeom prst="rect">
            <a:avLst/>
          </a:prstGeom>
          <a:ln w="0">
            <a:noFill/>
          </a:ln>
        </p:spPr>
      </p:sp>
      <p:sp>
        <p:nvSpPr>
          <p:cNvPr id="144"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ель:   Если бы в эпоху  Пушкина  в 2О-3О  годы 19  века, проводились, как в наши  дни  конкурсы «   Лучшая  песня 183О «  первые  места наверняка  заняли  бы  Алябъевский  « Соловей «  и варламовский  «  Красный   сарафан «  Друзья  даже говорили Варламову  в шутку,  что «  его  сарафан  никогда не износится «  А между  тем,  судьба  нежаловала этого  приветливого,дружелюбного  человека.  Имея  большую  семью  он  умер в 47 лет в полной  нищете. Единственным его  богатством  были окого  двухсот  его  романсов и песен,  многие из которых пользуются любовью и популярностью до сих  пор.  Это  такие как «  Вдоль   по улице метелица метет «, «  На заре ты ее не буди « Многие  считают эту  музыку  народной,  что является  похвалой для  любимого  композито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Широкой  популярностью пользовался  романс  одногодка Пушкина Александра Николаевича Верстовского баллада «  Черная  шаль «,  на  слова Пушкина  исполнялась как театральное  действо  на сцене с декорациями и костюмами и была высоко оценена самим  поэтом. Большой популярностью до сих пор пользуются  романсы Александра Лъвовича Гурилева. «  На  заре  туманной  юности на  слова Алексея  Кольцова,  Грусть  девушки «  и особенно «  однозвучно  гремит  колокольчик».  Семья  Булаховых  оставила  значительный  след  в  музыкальной  жизни  России. Отец Петр Александрович и младший  сын  Павел Александрович  были замечательными тенорами  того  времени, артистами Большого театра в Москве. Они  сочиняли и романсы, но их романсы  давно  забыты.. А вот старший  сын Петр Петрович  обессмертил  фамилию Булаховых целым букетом замечательных романсов :-  это  «  Тройка «. « Не пробуждай воспоминанья « , «  Колокольчики  мо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5CA81-DA23-4E77-B74D-79B0DE7275CF}"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4400" y="744480"/>
            <a:ext cx="4959360" cy="3721320"/>
          </a:xfrm>
          <a:prstGeom prst="rect">
            <a:avLst/>
          </a:prstGeom>
          <a:ln w="0">
            <a:noFill/>
          </a:ln>
        </p:spPr>
      </p:sp>
      <p:sp>
        <p:nvSpPr>
          <p:cNvPr id="147"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Петра Петровича Булахова  на  слова Алексея  Константиновича Толстого «  Колокольчики  мои «  -  поет Аня  Гришина . \  исполнени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амым    ярким  романсом Булахова  является « Гори, гори  моя   звезда « -  споем  его  \  исполняется   два  куплет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мансы  русских  композиторов первой  половины часто назвали романсами -  песнями, российскими песнями. И действительно ,  это так.  Послушаем  романс Александра Дюбюка на слова Баташова    «  Не  брони меня , родная».  Если не знать, что это композиторская  музыка,  можно вполне  принять  ее за  народную  песню.  \  исполняет  Маша Алениче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таких романсов «  Жаворонок  «    мы сейчас  исполним.    Звучит  романс…</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48"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BC6A7-5132-47E5-886B-530ACF018974}"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4400" y="744480"/>
            <a:ext cx="4959360" cy="3721320"/>
          </a:xfrm>
          <a:prstGeom prst="rect">
            <a:avLst/>
          </a:prstGeom>
          <a:ln w="0">
            <a:noFill/>
          </a:ln>
        </p:spPr>
      </p:sp>
      <p:sp>
        <p:nvSpPr>
          <p:cNvPr id="150"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Р-Корсакова  на слова А.К.Толстова  «   Звонче  жаворонка пень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личительной  чертой романсов Чайковского  являются  искренняя задушевность ,драматизм, любовь  к Родине, к  русскому человек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фрагмент  романса Чайковского  на  слова А.Толстова  «  Благославляю  Вас,  леса  «    \  звучит  фрагмент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51"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E5165-1786-4143-8B23-4175EFC7F240}"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4400" y="744480"/>
            <a:ext cx="4959360" cy="3721320"/>
          </a:xfrm>
          <a:prstGeom prst="rect">
            <a:avLst/>
          </a:prstGeom>
          <a:ln w="0">
            <a:noFill/>
          </a:ln>
        </p:spPr>
      </p:sp>
      <p:sp>
        <p:nvSpPr>
          <p:cNvPr id="153"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таких романсов «  Жаворонок  «    мы сейчас  исполним.    Звучит  роман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13FA-EA89-4D24-A001-071BDAAD59F9}"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4400" y="744480"/>
            <a:ext cx="4959360" cy="3721320"/>
          </a:xfrm>
          <a:prstGeom prst="rect">
            <a:avLst/>
          </a:prstGeom>
          <a:ln w="0">
            <a:noFill/>
          </a:ln>
        </p:spPr>
      </p:sp>
      <p:sp>
        <p:nvSpPr>
          <p:cNvPr id="156"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Р-Корсакова  на слова А.К.Толстова  «   Звонче  жаворонка пень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личительной  чертой романсов Чайковского  являются  искренняя задушевность ,драматизм, любовь  к Родине, к  русскому человек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фрагмент  романса Чайковского  на  слова А.Толстова  «  Благославляю  Вас,  леса  «    \  звучит  фрагмент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1397-024B-427F-A218-933AECFC9B5D}"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E0080-A84A-4A83-835B-830526A96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57FB8-57B6-4ED2-91DC-695010CB1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9B2DE-F3E0-4A82-8F88-E3653C99E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FB09A-A42A-4DA2-84F3-6724AF6F1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4BD94D-6AE0-4880-873A-B87119D8B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CB3B2-09D0-4E39-A1A2-578FDEC62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97CE2-F235-4EF2-A493-CA9E298EC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5793E-1614-442F-A4B1-2E5A01A90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A1448-6C5C-4754-A640-0119B1DAE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BC737-7380-4AD6-B4B7-182E77E12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56FCD-7862-4548-83A5-1E5BC0B84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50683-B738-4C73-AB0F-67D5544AA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89412-8783-4A3D-99C7-A3DA43DAD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7849D-7C88-41CA-BFB0-E1B3507DD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49055-4B1B-4B8A-BC1A-BA762BD55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F1A061-40DE-41CF-9D44-991FB6F12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B795E4-D6DC-4812-A60D-33457583E9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E7D73-0A4D-4C4C-833A-104DF41BA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F7AE8-C3CC-4220-954D-17D7F4AD7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777C9-9076-4BA8-98D8-2F4D13C1A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1924B-8447-4C62-9C4F-0FE72B6D8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EA336-E3BE-4F10-A200-955DD453E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77353-27FE-4A9E-B296-4FA913AD6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AE4C5-AC4A-4415-90AD-2C38E010A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3333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000000"/>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7F43B-B9AC-453B-8620-F668D406C525}" type="slidenum">
              <a:rPr b="0" lang="ru-RU" sz="1400" spc="-1" strike="noStrike">
                <a:solidFill>
                  <a:srgbClr val="333329"/>
                </a:solidFill>
                <a:latin typeface="Arial"/>
              </a:rPr>
              <a:t>&lt;number&gt;</a:t>
            </a:fld>
            <a:endParaRPr b="0" lang="en-US" sz="1400" spc="-1" strike="noStrike">
              <a:solidFill>
                <a:srgbClr val="000000"/>
              </a:solidFill>
              <a:latin typeface="Arial"/>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0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0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0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3333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000000"/>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E136A-DC84-424D-B644-3F49352AB6C2}" type="slidenum">
              <a:rPr b="0" lang="ru-RU" sz="1400" spc="-1" strike="noStrike">
                <a:solidFill>
                  <a:srgbClr val="33332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257480" y="692280"/>
            <a:ext cx="7772400" cy="5403600"/>
          </a:xfrm>
          <a:prstGeom prst="rect">
            <a:avLst/>
          </a:prstGeom>
          <a:noFill/>
          <a:ln w="0">
            <a:noFill/>
          </a:ln>
        </p:spPr>
        <p:txBody>
          <a:bodyPr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1" lang="ru-RU" sz="1800" spc="-1" strike="noStrike">
                <a:solidFill>
                  <a:srgbClr val="333333"/>
                </a:solidFill>
                <a:latin typeface="Arial"/>
              </a:rPr>
              <a:t>Уроки музыки</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ТЕМА :       Романс. Русский  романс.</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Цель :  показать жизненную  силу  русского  романса  в его историческом  развитии.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Музыкальный  материал:</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Романсы  русских  композиторов 19-2О веков. Фонограммы  и живое  исполнени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Реквизит :  гитара,  баян, домра, микрофоны, магнитофон, усилительная аппаратура.</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Вход  класса  под звучание  романса П.Булахова </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  Колокольчики  мои.»</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Приветстви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Учитель :  «  Романса  голос узнаю  на самом дальнем  расстоянье :  стою и мысленно  пою, И мне  приятно  с ним слиянь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И всех я вспоминаю  вас ,друзей  и   родственников  дальних, Уже ушедших и печальных :  напомнил  мне о вас – романс ! «</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1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Начало  2О  века в России  было  временем грандиозных  социальных  потрясений. В  прорыве революционного нигилизма  новая  власть  признала все лирическое искусство буржуазным.  Глашатай  революции  поэт Владимир Маяковский  писал :  «   Бросьте  ! Забудьте, плюньте и на   рифмы,  и на арии, и на розовый  куст, и на прочие мерехлюкдии  из арсенала  искусств… Эта  установка  жила долго, прочно укоренившись в умах вершителей судьбы  страны. Романсу  пришлось. Он  глубоко схоронился до лучших  времен,  только иногда узкому  кругу  подавал   свой  негромкий  голосок.  Но  тем  не менее   все великие композиторы 2О  века  в  своем  творчестве  находили  место для романса. Романсы  сочиняли Прокофьев ,Шостакович ,Хачатурян, Свиридов,  Щедрин  и другие.</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Другая  эпоха, другой  ритм  жизни, а  задушевность, лиризм, трепетность.</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реди  романсов  Георгия  Васильевича Свиридова огромной  популярностью пользуется  романс из музыкальных  иллюстраций  к повести Пушкина 2 Метель  « Мы его сейчас  исполним  .     \ Звучит  романс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Баллада, элегия, баркарола  -  все   это  разновидности  романса. С давних  времен и до  наших  пор  поэты и композиторы  откликались  своим  творчеством  на жизнь  страны. Вот  как откликнулись  композитор  Оскар  Фельцман  и поэт  Роберт Рождественский  на события Великой Отечественной  войны  1941-45 годов.</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Даша Белоус  споет   «  Балладу  о красках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endParaRPr b="0" lang="en-US" sz="1600" spc="-1" strike="noStrike">
              <a:solidFill>
                <a:srgbClr val="333333"/>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30"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7480" y="836280"/>
            <a:ext cx="7772400" cy="5259240"/>
          </a:xfrm>
          <a:prstGeom prst="rect">
            <a:avLst/>
          </a:prstGeom>
          <a:noFill/>
          <a:ln w="0">
            <a:noFill/>
          </a:ln>
        </p:spPr>
        <p:txBody>
          <a:bodyPr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Трудно  сегодня встретить человека, который бы ничего не знал  о романсе. Как  часто  в концертах, на телевидении, радио, в домашнем музицировании  мы  слышим  произведения,  отличающиеся редкой выразительностью ,высоким поэтическим  слогом, яркой мелодией, слиянием поэтической идеи с идеей музыкальной. Эти  произведения коротки  по объему ,голос их не громок и обращен чаще  всего к небольшой аудитории  слушателей.</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Ребята, вспомним, что означает  это  слово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Уч-ся   \  Определение   романса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Учитель 6   Действительно, в Испании в 13-14 веках  в творчестве  странствующих поэтов – певцов  утвердился новый  песенный  жанр, соединивший  в себе  приемы речитатива,  напевного мелодического  начала и мимического  танца. Песни  певцов-трубадуров  исполнялись  на родном романском  языке, отсюда и пошло  название  «  романсы « , что определило  не только особый жанр стихотворного  текста,  исполнительские  традиции, но и характерный   тип  мелодии.</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В России, как и в остальных странах Западной Европы  романс определился    в  18  веке. Но лишь в 19 веке  жанр романса  достиг  своего  расцвета и популярности. В  начале  века  наступило  время  так  называемых « любителей « , хотя  любителями их можно  назвать  условно, многие создатели романсов того  времени были широко образованными людьми  и получили хорошее домашнее музыкальное образование. К  примеру , А.А. Алябьев \ 1787-1851\  создал  более 45О  произведений,  среди них 6 опер, балет,  произведения симфонического  духового оркестра,камерная  музыка, музыка к спектаклям и, конечно же романсы.  Алябьевский  « Соловей «  облетел  весь мир. Многие именитые музыканты  в разное  время делали аранжировки  и   транскрипции  этого   романса. М.И. Глинка  написал фортепианные вариации  на тему:  « Соловья «,  композитор – скрипач Вытан  сделал  трепетную  транскрипцию  для  скрипки, великий  Лист сделал свой страстный перевод «  Соловья «  на язык  рояля. До сих  пор звучит колоратурная аранжировка немецкой певицы Генриэтты Зонтаг. Многие великие сопрано  мира,исполняя « Соловья « в этой аранжировке,как  бы  соревнуются  меж  собой  за  звание  мирового  соловья.</a:t>
            </a:r>
            <a:endParaRPr b="0" lang="en-US" sz="18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Великий  Чайковский  писал  так:  «…  Иногда  в музыке  нравиться  что-то  совсем  неуловимое и не поддающееся критическому  анализу.</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Я не могу  без  слез слышать «  Соловья « Алябъева. В России первым  «  Соловья «  исполнил тенор Петр Александрович Булахов ?  января 1827 года  в Московском Большом  театре. Успех  был оглушительным. Вскоре « Соловья « распевала  вся  Россия «.  Сам Алябъев  в это  время по ложному доносу  сидел в тюрьме, якобы  за убийство.</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Роковая  ошибка  российской фемиды исковеркала  жизнь замечательному  человеку, гражданину и музыканту. Впоследствии историки и исследователи доказали невинность Алябъева, но  это  было уже  после  его  смерти.</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Александр Алябъев,слова Антона Дельвига « СОЛОВЕЙ «  поет  Наталья  Костюкова  \  идет  исполнение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257480" y="907560"/>
            <a:ext cx="7772400" cy="518796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Учитель:   Если бы в эпоху  Пушкина  в 2О-3О  годы 19  века, проводились, как в наши  дни  конкурсы «   Лучшая  песня 183О «  первые  места наверняка  заняли  бы  Алябъевский  « Соловей «  и варламовский  «  Красный   сарафан «  Друзья  даже говорили Варламову  в шутку,  что «  его  сарафан  никогда не износится «  А между  тем,  судьба  нежаловала этого  приветливого,дружелюбного  человека.  Имея  большую  семью  он  умер в 47 лет в полной  нищете. Единственным его  богатством  были окого  двухсот  его  романсов и песен,  многие из которых пользуются любовью и популярностью до сих  пор.  Это  такие как «  Вдоль   по улице метелица метет «, «  На заре ты ее не буди « Многие  считают эту  музыку  народной,  что является  похвалой для  любимого  композитора.</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Широкой  популярностью пользовался  романс  одногодка Пушкина Александра Николаевича Верстовского баллада «  Черная  шаль «,  на  слова Пушкина  исполнялась как театральное  действо  на сцене с декорациями и костюмами и была высоко оценена самим  поэтом. Большой популярностью до сих пор пользуются  романсы Александра Лъвовича Гурилева. «  На  заре  туманной  юности на  слова Алексея  Кольцова,  Грусть  девушки «  и особенно «  однозвучно  гремит  колокольчик».  Семья  Булаховых  оставила  значительный  след  в  музыкальной  жизни  России. Отец Петр Александрович и младший  сын  Павел Александрович  были замечательными тенорами  того  времени, артистами Большого театра в Москве. Они  сочиняли и романсы, но их романсы  давно  забыты.. А вот старший  сын Петр Петрович  обессмертил  фамилию Булаховых целым букетом замечательных романсов :-  это  «  Тройка «. « Не пробуждай воспоминанья « , «  Колокольчики  мои «.</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0"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Послушаем   романс  Петра Петровича Булахова  на  слова Алексея  Константиновича Толстого «  Колокольчики  мои «  -  поет Аня  Гришина . \  исполнение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амым    ярким  романсом Булахова  является « Гори, гори  моя   звезда « -  споем  его  \  исполняется   два  куплет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Романсы  русских  композиторов первой  половины часто назвали романсами -  песнями, российскими песнями. И действительно ,  это так.  Послушаем  романс Александра Дюбюка на слова Баташова    «  Не  брони меня , родная».  Если не знать, что это композиторская  музыка,  можно вполне  принять  ее за  народную  песню.  \  исполняет  Маша Аленичев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Один  из  таких романсов «  Жаворонок  «    мы сейчас  исполним.    Звучит  романс…</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257480" y="620280"/>
            <a:ext cx="7772400" cy="5475240"/>
          </a:xfrm>
          <a:prstGeom prst="rect">
            <a:avLst/>
          </a:prstGeom>
          <a:noFill/>
          <a:ln w="0">
            <a:noFill/>
          </a:ln>
        </p:spPr>
        <p:txBody>
          <a:bodyPr anchor="t">
            <a:normAutofit/>
          </a:bodyPr>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Послушаем  романс Р-Корсакова  на слова А.К.Толстова  «   Звонче  жаворонка пенье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Отличительной  чертой романсов Чайковского  являются  искренняя задушевность ,драматизм, любовь  к Родине, к  русскому человеку.</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Послушаем  фрагмент  романса Чайковского  на  слова А.Толстова  «  Благославляю  Вас,  леса  «    \  звучит  фрагмент  романса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400" spc="-1" strike="noStrike">
              <a:solidFill>
                <a:srgbClr val="333333"/>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12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257480" y="549000"/>
            <a:ext cx="7772400" cy="5546520"/>
          </a:xfrm>
          <a:prstGeom prst="rect">
            <a:avLst/>
          </a:prstGeom>
          <a:noFill/>
          <a:ln w="0">
            <a:noFill/>
          </a:ln>
        </p:spPr>
        <p:txBody>
          <a:bodyPr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Один  из  таких романсов «  Жаворонок  «    мы сейчас  исполним.    Звучит  романс…</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800" spc="-1" strike="noStrike">
              <a:solidFill>
                <a:srgbClr val="333333"/>
              </a:solidFill>
              <a:latin typeface="Arial"/>
            </a:endParaRPr>
          </a:p>
        </p:txBody>
      </p:sp>
      <p:sp>
        <p:nvSpPr>
          <p:cNvPr id="12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257480" y="692280"/>
            <a:ext cx="7772400" cy="540360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Послушаем  романс Р-Корсакова  на слова А.К.Толстова  «   Звонче  жаворонка пенье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Отличительной  чертой романсов Чайковского  являются  искренняя задушевность ,драматизм, любовь  к Родине, к  русскому человеку.</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Послушаем  фрагмент  романса Чайковского  на  слова А.Толстова  «  Благославляю  Вас,  леса  «    \  звучит  фрагмент  романс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4-02T07:25:38Z</dcterms:modified>
  <cp:revision>20</cp:revision>
  <dc:subject/>
  <dc:title>Уроки музыки ТЕМА : Романс</dc:title>
</cp:coreProperties>
</file>