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33333"/>
              </a:solidFill>
              <a:latin typeface="Arial"/>
            </a:endParaRPr>
          </a:p>
        </p:txBody>
      </p:sp>
      <p:sp>
        <p:nvSpPr>
          <p:cNvPr id="105"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6" name="PlaceHolder 2"/>
          <p:cNvSpPr>
            <a:spLocks noGrp="1"/>
          </p:cNvSpPr>
          <p:nvPr>
            <p:ph type="dt" idx="7"/>
          </p:nvPr>
        </p:nvSpPr>
        <p:spPr>
          <a:xfrm>
            <a:off x="3844800" y="0"/>
            <a:ext cx="294192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7" name="PlaceHolder 3"/>
          <p:cNvSpPr>
            <a:spLocks noGrp="1"/>
          </p:cNvSpPr>
          <p:nvPr>
            <p:ph type="sldImg"/>
          </p:nvPr>
        </p:nvSpPr>
        <p:spPr>
          <a:xfrm>
            <a:off x="914400" y="744120"/>
            <a:ext cx="4959360" cy="3721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79320" y="4712760"/>
            <a:ext cx="542952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8"/>
          </p:nvPr>
        </p:nvSpPr>
        <p:spPr>
          <a:xfrm>
            <a:off x="-360" y="9425160"/>
            <a:ext cx="2941560" cy="4968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0" name="PlaceHolder 6"/>
          <p:cNvSpPr>
            <a:spLocks noGrp="1"/>
          </p:cNvSpPr>
          <p:nvPr>
            <p:ph type="sldNum" idx="9"/>
          </p:nvPr>
        </p:nvSpPr>
        <p:spPr>
          <a:xfrm>
            <a:off x="3844800" y="9425160"/>
            <a:ext cx="294192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6366-AAFC-4C47-90D4-FAF57F0D45F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4400" y="744480"/>
            <a:ext cx="4959360" cy="3721320"/>
          </a:xfrm>
          <a:prstGeom prst="rect">
            <a:avLst/>
          </a:prstGeom>
          <a:ln w="0">
            <a:noFill/>
          </a:ln>
        </p:spPr>
      </p:sp>
      <p:sp>
        <p:nvSpPr>
          <p:cNvPr id="132"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Уроки музы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       Романс. Русский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ель :  показать жизненную  силу  русского  романса  в его историческом  развит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льный  матери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мансы  русских  композиторов 19-2О веков. Фонограммы  и живое  исполн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визит :  гитара,  баян, домра, микрофоны, магнитофон, усилительная аппара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ход  класса  под звучание  романса П.Булахо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локольчики  мо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ветств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  «  Романса  голос узнаю  на самом дальнем  расстоянье :  стою и мысленно  пою, И мне  приятно  с ним слиян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всех я вспоминаю  вас ,друзей  и   родственников  дальних, Уже ушедших и печальных :  напомнил  мне о вас – романс !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ED80-23CC-473E-8AD0-DA8173333980}"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4400" y="744480"/>
            <a:ext cx="4959360" cy="3721320"/>
          </a:xfrm>
          <a:prstGeom prst="rect">
            <a:avLst/>
          </a:prstGeom>
          <a:ln w="0">
            <a:noFill/>
          </a:ln>
        </p:spPr>
      </p:sp>
      <p:sp>
        <p:nvSpPr>
          <p:cNvPr id="159"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ая  эпоха, другой  ритм  жизни, а  задушевность, лиризм, трепет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ша Белоус  споет   «  Балладу  о крас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60"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7501-F130-4A6B-B6DE-838B8762A394}"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4400" y="744480"/>
            <a:ext cx="4959360" cy="3721320"/>
          </a:xfrm>
          <a:prstGeom prst="rect">
            <a:avLst/>
          </a:prstGeom>
          <a:ln w="0">
            <a:noFill/>
          </a:ln>
        </p:spPr>
      </p:sp>
      <p:sp>
        <p:nvSpPr>
          <p:cNvPr id="135"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бята, вспомним, что означает  это  сло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ся   \  Определение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6"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977B-21D8-4ED3-8338-15C85DF8963A}"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4480"/>
            <a:ext cx="4959360" cy="3721320"/>
          </a:xfrm>
          <a:prstGeom prst="rect">
            <a:avLst/>
          </a:prstGeom>
          <a:ln w="0">
            <a:noFill/>
          </a:ln>
        </p:spPr>
      </p:sp>
      <p:sp>
        <p:nvSpPr>
          <p:cNvPr id="138"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7E20-A8AB-47AF-B4E2-F99E72800053}"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44480"/>
            <a:ext cx="4959360" cy="3721320"/>
          </a:xfrm>
          <a:prstGeom prst="rect">
            <a:avLst/>
          </a:prstGeom>
          <a:ln w="0">
            <a:noFill/>
          </a:ln>
        </p:spPr>
      </p:sp>
      <p:sp>
        <p:nvSpPr>
          <p:cNvPr id="141"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ликий  Чайковский  писал  так:  «…  Иногда  в музыке  нравиться  что-то  совсем  неуловимое и не поддающееся критическому  анализ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лександр Алябъев,слова Антона Дельвига « СОЛОВЕЙ «  поет  Наталья  Костюкова  \  идет  исполнени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2"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448F-6F67-4D32-89F5-6CBCEF7E52EF}"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4400" y="744480"/>
            <a:ext cx="4959360" cy="3721320"/>
          </a:xfrm>
          <a:prstGeom prst="rect">
            <a:avLst/>
          </a:prstGeom>
          <a:ln w="0">
            <a:noFill/>
          </a:ln>
        </p:spPr>
      </p:sp>
      <p:sp>
        <p:nvSpPr>
          <p:cNvPr id="144"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E4A9-6C7C-4EFC-8147-FC8366F15E32}"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4400" y="744480"/>
            <a:ext cx="4959360" cy="3721320"/>
          </a:xfrm>
          <a:prstGeom prst="rect">
            <a:avLst/>
          </a:prstGeom>
          <a:ln w="0">
            <a:noFill/>
          </a:ln>
        </p:spPr>
      </p:sp>
      <p:sp>
        <p:nvSpPr>
          <p:cNvPr id="147"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амым    ярким  романсом Булахова  является « Гори, гори  моя   звезда « -  споем  его  \  исполняется   два  куплет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48"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27EA-EAEB-4FE7-AB06-E9F3428D7997}"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4480"/>
            <a:ext cx="4959360" cy="3721320"/>
          </a:xfrm>
          <a:prstGeom prst="rect">
            <a:avLst/>
          </a:prstGeom>
          <a:ln w="0">
            <a:noFill/>
          </a:ln>
        </p:spPr>
      </p:sp>
      <p:sp>
        <p:nvSpPr>
          <p:cNvPr id="150"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51"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D903-9154-4E09-B33C-7A0B5044D711}"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4400" y="744480"/>
            <a:ext cx="4959360" cy="3721320"/>
          </a:xfrm>
          <a:prstGeom prst="rect">
            <a:avLst/>
          </a:prstGeom>
          <a:ln w="0">
            <a:noFill/>
          </a:ln>
        </p:spPr>
      </p:sp>
      <p:sp>
        <p:nvSpPr>
          <p:cNvPr id="153"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874B-1756-4FDB-847D-D6D64D969473}"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4400" y="744480"/>
            <a:ext cx="4959360" cy="3721320"/>
          </a:xfrm>
          <a:prstGeom prst="rect">
            <a:avLst/>
          </a:prstGeom>
          <a:ln w="0">
            <a:noFill/>
          </a:ln>
        </p:spPr>
      </p:sp>
      <p:sp>
        <p:nvSpPr>
          <p:cNvPr id="156"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52B0-8DE4-4DAB-BED3-7AA93E3F7349}"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C69F4-F01A-4B6F-AFE9-5CD1D3157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5E632-90AC-4F50-A879-7FAD3B8DF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959B8-CEFE-46F1-B63F-E08D6F78A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E414E-5D15-4424-9F54-4B7D8E321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D7B6ED-A683-434C-947C-A92A292D75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E3827-8FBF-4F03-BDFD-6802C7183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EDA46-F3BD-481D-8659-F89440609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D9F7B-1596-4558-8566-410D904DE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67DCA-76CD-4A07-9087-AABEC32FC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11A4E-5916-4AD3-A594-D07A503E2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2357A-4413-4000-BBF4-C1695581E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623B6-B0B5-410F-A37F-3DB9C65CC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E4210-F5FA-4F3F-BB91-31E4D7C83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1303B-5BF1-4F48-96A8-882B710F8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BB973-A1D9-47A2-BCEE-84D21F3DD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BA148-6543-4CC0-8F70-A8B9CD402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1651E-5F2D-4781-8C41-048CCB509F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2915A-EF20-42FE-9F17-5AB6CB4A0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3EC33-894A-48A5-BE19-092A1F178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42935-EACF-4CDA-A7F8-6B8B8B19F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778A4-55DF-43CF-9207-D52F6239E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D2534-822B-40F4-8375-FA994585B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A602E-BE75-4921-9BF7-465C8778E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9D897-B7E9-4A68-8352-C3D423381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2047-54E8-4DD1-922C-F99EC147DE74}"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0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7D9C0-0ECD-4238-816D-3B9D5DC76688}"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1" lang="ru-RU" sz="1800" spc="-1" strike="noStrike">
                <a:solidFill>
                  <a:srgbClr val="333333"/>
                </a:solidFill>
                <a:latin typeface="Arial"/>
              </a:rPr>
              <a:t>Уроки музык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ТЕМА :       Романс. Русский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Цель :  показать жизненную  силу  русского  романса  в его историческом  развити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Музыкальный  материал:</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омансы  русских  композиторов 19-2О веков. Фонограммы  и живое  исполнен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еквизит :  гитара,  баян, домра, микрофоны, магнитофон, усилительная аппаратура.</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ход  класса  под звучание  романса П.Булахова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  Колокольчики  мо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Приветств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Учитель :  «  Романса  голос узнаю  на самом дальнем  расстоянье :  стою и мысленно  пою, И мне  приятно  с ним слиянь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И всех я вспоминаю  вас ,друзей  и   родственников  дальних, Уже ушедших и печальных :  напомнил  мне о вас – романс !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1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Другая  эпоха, другой  ритм  жизни, а  задушевность, лиризм, трепетность.</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Даша Белоус  споет   «  Балладу  о красках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3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7480" y="836280"/>
            <a:ext cx="7772400" cy="525924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ебята, вспомним, что означает  это  слово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ся   \  Определение   романса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8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Великий  Чайковский  писал  так:  «…  Иногда  в музыке  нравиться  что-то  совсем  неуловимое и не поддающееся критическому  анализу.</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Александр Алябъев,слова Антона Дельвига « СОЛОВЕЙ «  поет  Наталья  Костюкова  \  идет  исполнение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257480" y="907560"/>
            <a:ext cx="7772400" cy="518796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амым    ярким  романсом Булахова  является « Гори, гори  моя   звезда « -  споем  его  \  исполняется   два  куплет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Один  из  таких романсов «  Жаворонок  «    мы сейчас  исполним.    Звучит  романс…</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257480" y="620280"/>
            <a:ext cx="7772400" cy="5475240"/>
          </a:xfrm>
          <a:prstGeom prst="rect">
            <a:avLst/>
          </a:prstGeom>
          <a:noFill/>
          <a:ln w="0">
            <a:noFill/>
          </a:ln>
        </p:spPr>
        <p:txBody>
          <a:bodyPr anchor="t">
            <a:normAutofit/>
          </a:bodyPr>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Послушаем  романс Р-Корсакова  на слова А.К.Толстова  «   Звонче  жаворонка пенье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400" spc="-1" strike="noStrike">
              <a:solidFill>
                <a:srgbClr val="333333"/>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12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257480" y="549000"/>
            <a:ext cx="7772400" cy="554652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Один  из  таких романсов «  Жаворонок  «    мы сейчас  исполним.    Звучит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800" spc="-1" strike="noStrike">
              <a:solidFill>
                <a:srgbClr val="333333"/>
              </a:solidFill>
              <a:latin typeface="Arial"/>
            </a:endParaRPr>
          </a:p>
        </p:txBody>
      </p:sp>
      <p:sp>
        <p:nvSpPr>
          <p:cNvPr id="12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Р-Корсакова  на слова А.К.Толстова  «   Звонче  жаворонка пень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7:25:38Z</dcterms:modified>
  <cp:revision>20</cp:revision>
  <dc:subject/>
  <dc:title>Уроки музыки ТЕМА : Романс</dc:title>
</cp:coreProperties>
</file>