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1B804-BAFE-4000-BB97-13EB2C3A15A4}" type="slidenum">
              <a:rPr b="0" lang="uk-UA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XI_&#1074;&#1077;&#1082;" TargetMode="External"/><Relationship Id="rId2" Type="http://schemas.openxmlformats.org/officeDocument/2006/relationships/hyperlink" Target="http://ru.wikipedia.org/wiki/&#1057;&#1086;&#1092;&#1080;&#1081;&#1089;&#1082;&#1080;&#1081;_&#1089;&#1086;&#1073;&#1086;&#1088;" TargetMode="External"/><Relationship Id="rId3" Type="http://schemas.openxmlformats.org/officeDocument/2006/relationships/hyperlink" Target="http://ru.wikipedia.org/wiki/&#1050;&#1080;&#1077;&#1074;" TargetMode="External"/><Relationship Id="rId4" Type="http://schemas.openxmlformats.org/officeDocument/2006/relationships/hyperlink" Target="http://ru.wikipedia.org/wiki/1037_&#1075;&#1086;&#1076;" TargetMode="External"/><Relationship Id="rId5" Type="http://schemas.openxmlformats.org/officeDocument/2006/relationships/slide" Target="../slides/slide11.xml"/><Relationship Id="rId6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article053046.html/" TargetMode="External"/><Relationship Id="rId2" Type="http://schemas.openxmlformats.org/officeDocument/2006/relationships/hyperlink" Target="http://article030548.html/" TargetMode="External"/><Relationship Id="rId3" Type="http://schemas.openxmlformats.org/officeDocument/2006/relationships/hyperlink" Target="http://article013028.html/" TargetMode="External"/><Relationship Id="rId4" Type="http://schemas.openxmlformats.org/officeDocument/2006/relationships/hyperlink" Target="http://article076468.html/" TargetMode="External"/><Relationship Id="rId5" Type="http://schemas.openxmlformats.org/officeDocument/2006/relationships/slide" Target="../slides/slide5.xml"/><Relationship Id="rId6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MZmEy-yeqdM" TargetMode="External"/><Relationship Id="rId2" Type="http://schemas.openxmlformats.org/officeDocument/2006/relationships/slide" Target="../slides/slide7.xml"/><Relationship Id="rId3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90;&#1088;&#1091;&#1085;&#1085;&#1099;&#1077;_&#1084;&#1091;&#1079;&#1099;&#1082;&#1072;&#1083;&#1100;&#1085;&#1099;&#1077;_&#1080;&#1085;&#1089;&#1090;&#1088;&#1091;&#1084;&#1077;&#1085;&#1090;&#1099;" TargetMode="External"/><Relationship Id="rId2" Type="http://schemas.openxmlformats.org/officeDocument/2006/relationships/hyperlink" Target="http://ru.wikipedia.org/wiki/&#1057;&#1090;&#1088;&#1091;&#1085;&#1085;&#1099;&#1077;_&#1084;&#1091;&#1079;&#1099;&#1082;&#1072;&#1083;&#1100;&#1085;&#1099;&#1077;_&#1080;&#1085;&#1089;&#1090;&#1088;&#1091;&#1084;&#1077;&#1085;&#1090;&#1099;" TargetMode="External"/><Relationship Id="rId3" Type="http://schemas.openxmlformats.org/officeDocument/2006/relationships/hyperlink" Target="http://ru.wikipedia.org/wiki/&#1056;&#1086;&#1089;&#1089;&#1080;&#1103;" TargetMode="External"/><Relationship Id="rId4" Type="http://schemas.openxmlformats.org/officeDocument/2006/relationships/slide" Target="../slides/slide8.xml"/><Relationship Id="rId5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Comic Sans MS"/>
              </a:rPr>
              <a:t>Музыка Древней Рус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В середине 1 тысячелетия нашей эры в европейской части России расселились славянские племена, прославившие себя как музыканты, певцы и танцоры. Об этом сообщают византийские и германские источники. Известно, что в 591 году аварский хан послал к византийскому императору послами славянских певцов с гусл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Древнерусская музыкальная культура своими истоками восходит к языческим традициям славян. Народные песни, закликания весны, плачи, сопровождающие обряды поминовения у</a:t>
            </a:r>
            <a:r>
              <a:rPr b="1" i="1" lang="ru-RU" sz="1200" spc="-1" strike="noStrike">
                <a:solidFill>
                  <a:srgbClr val="0000ff"/>
                </a:solidFill>
                <a:latin typeface="Comic Sans MS"/>
              </a:rPr>
              <a:t>мерших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, похороны или свадьбы, песни при сборе урожая или во время военных походов всегда были неотъемлемой частью жизни наших пред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CB85B-A72F-43B1-9E75-9898CED7629D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ожок представляет собой конической формы прямую трубу с пятью игровыми отверстиями сверху и одним снизу. На нижнем конце есть небольшой раструб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зготовляют рожок из березы, клена или можжевельника. В прошлом их выделывали из двух половин, скрепленных берестой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вук у рожка сильный, но мягкий. Извлечение звука на инструменте довольно трудно.Существуют 2 типа рожка: для сольной и ансамблевой иг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D1F3E-5913-42D3-9BD6-FBA96FB084AB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Скоморохи 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— русские средневековые актёры, одновременно певцы, танцоры, дрессировщики животных, музыканты и авторы большинства исполнявшихся ими словесно-музыкальных и драматических произведений.</a:t>
            </a:r>
            <a:r>
              <a:rPr b="1" i="1" lang="et-E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ни возникли не позже середины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XI века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, об этом мы можем судить по фрескам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Софийского собора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в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Киеве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1037 год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i="1" lang="et-E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епертуар скоморохов состоял из шуточных песен, пьесок, социальных сатир («глум»), исполняемых в масках и «скоморошьем платье» под аккомпанемент гудка, гусель, жалейки, бубна. За каждым персонажем был закреплён определённый характер и маска, которые не менялись годами.</a:t>
            </a:r>
            <a:r>
              <a:rPr b="1" i="1" lang="et-E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коморохи выступали на улицах и площадях, постоянно общались со зрителями, вовлекали их в своё представл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347EC-4CF9-49CB-8DD5-01A2F4AFDD21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В Древней Руси существовало два изначальных понятия — мусикия (музыка) и пение. Эти понятия противопоставлялись, мусикией называлась только инструментальная музыка. Игра на струнных музыкальных инструментах называлась гудением, на духовых — сопением. Игра нередко сопровождала пение. Инструментальная музыка звучала на Руси с языческих времен и на протяжении всего средневековья. Некоторые старинные инструменты остались в народной музыке и по сей де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О музыке Древней Руси(IX-XIIвв.) рассказывают памятники литературы и искусства - летописи, фрески, иконы. В житии новгородского епископа Нифонта(XIII в.), в поучениях монаха Георгия(XIII в.) и ряде других документов содержатся сведения о том, что музыканты выступали на улицах и площадях городов. Музыка была обязательной частью обрядовых праздников - Масленицы(проводы зимы и встреча весны), Ивана Купалы(день летнего солнцестояния) и др. Проходили они обычно при большом стечении народа и включали игры, пляски, борьбу, конные состязания, выступления скоморохов - странствующих актеров и музыкантов. Скоморохи играли на гуслях, трубах, сопелях, бубнах, гудках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FD4BE-D8DF-4CB4-9140-B9CF2D173257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Comic Sans MS"/>
              </a:rPr>
              <a:t>Ночь на Ивана Купал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D21D7-C126-4C50-8657-2E994236BD4B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omic Sans MS"/>
              </a:rPr>
              <a:t>Свадьба                     Маслен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AEF85-6465-4403-8680-EE2DDC5A2196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Звучала музыка во время торжественных церемоний при дворе князей. Так, перемена блюд на пирах сопровождалась инструментальной музыкой или были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Былины, эпические песни, сложенные народом в Древней Руси и отразившие историческую действительность главным образом 11—16 вв. В процессе многовекового развития Былины изменялись, впитывали события позднейшего времени, а иногда и события более ранней эпох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  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В центре </a:t>
            </a:r>
            <a:r>
              <a:rPr b="1" i="1" lang="ru-RU" sz="1200" spc="-1" strike="noStrike">
                <a:solidFill>
                  <a:srgbClr val="0000ff"/>
                </a:solidFill>
                <a:latin typeface="Comic Sans MS"/>
              </a:rPr>
              <a:t>б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ылины — образы богатырей, наделённых высокими моральными качествами, самоотверженно преданных Родине. В образе любимого богатыр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omic Sans MS"/>
              </a:rPr>
              <a:t>    </a:t>
            </a:r>
            <a:r>
              <a:rPr b="0" lang="et-EE" sz="1200" spc="-1" strike="noStrike" u="sng">
                <a:solidFill>
                  <a:srgbClr val="0000ff"/>
                </a:solidFill>
                <a:uFillTx/>
                <a:latin typeface="Comic Sans MS"/>
                <a:hlinkClick r:id="rId1"/>
              </a:rPr>
              <a:t>Ильи Муромца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 народ создал поэтическую биографию крестьянского сына с его спокойной уверенностью в себе и </a:t>
            </a:r>
            <a:r>
              <a:rPr b="1" i="1" lang="ru-RU" sz="1200" spc="-1" strike="noStrike">
                <a:solidFill>
                  <a:srgbClr val="0000ff"/>
                </a:solidFill>
                <a:latin typeface="Comic Sans MS"/>
              </a:rPr>
              <a:t>небывалой 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 силой. Он стоит во главе богатырской заставы, преграждающей путь врагам (эта тема формировалась ещё в условиях монгольского нашествия). Столь же поэтичны образы и др. богатырей, охраняющих родную землю, — </a:t>
            </a:r>
            <a:r>
              <a:rPr b="0" lang="et-EE" sz="1200" spc="-1" strike="noStrike" u="sng">
                <a:solidFill>
                  <a:srgbClr val="0000ff"/>
                </a:solidFill>
                <a:uFillTx/>
                <a:latin typeface="Comic Sans MS"/>
                <a:hlinkClick r:id="rId2"/>
              </a:rPr>
              <a:t>Добрыни Никитича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 и </a:t>
            </a:r>
            <a:r>
              <a:rPr b="0" lang="et-EE" sz="1200" spc="-1" strike="noStrike" u="sng">
                <a:solidFill>
                  <a:srgbClr val="0000ff"/>
                </a:solidFill>
                <a:uFillTx/>
                <a:latin typeface="Comic Sans MS"/>
                <a:hlinkClick r:id="rId3"/>
              </a:rPr>
              <a:t>Алеши Поповича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. Тема защиты Родины закономерно слита в </a:t>
            </a:r>
            <a:r>
              <a:rPr b="1" i="1" lang="ru-RU" sz="1200" spc="-1" strike="noStrike">
                <a:solidFill>
                  <a:srgbClr val="0000ff"/>
                </a:solidFill>
                <a:latin typeface="Comic Sans MS"/>
              </a:rPr>
              <a:t>б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ылины с темой народной жизни и труда. Так, первый подвиг, который совершил Илья Муромец после исцеления, это корчёвка пней и расчистка поля для пашни. В </a:t>
            </a:r>
            <a:r>
              <a:rPr b="1" i="1" lang="ru-RU" sz="1200" spc="-1" strike="noStrike">
                <a:solidFill>
                  <a:srgbClr val="0000ff"/>
                </a:solidFill>
                <a:latin typeface="Comic Sans MS"/>
              </a:rPr>
              <a:t>б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ылины о </a:t>
            </a:r>
            <a:r>
              <a:rPr b="1" i="1" lang="et-EE" sz="1200" spc="-1" strike="noStrike" u="sng">
                <a:solidFill>
                  <a:srgbClr val="0000ff"/>
                </a:solidFill>
                <a:uFillTx/>
                <a:latin typeface="Comic Sans MS"/>
              </a:rPr>
              <a:t>Вольге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 и </a:t>
            </a:r>
            <a:r>
              <a:rPr b="0" lang="et-EE" sz="1200" spc="-1" strike="noStrike" u="sng">
                <a:solidFill>
                  <a:srgbClr val="0000ff"/>
                </a:solidFill>
                <a:uFillTx/>
                <a:latin typeface="Comic Sans MS"/>
                <a:hlinkClick r:id="rId4"/>
              </a:rPr>
              <a:t>Микуле Селяниновиче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 отразилась извечная мечта трудового народа о лёгкой пахоте, о труде, обеспечивающем жизнь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19FB8-120A-4756-90E8-3FB8E73C4F2D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Comic Sans MS"/>
              </a:rPr>
              <a:t>Боя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Музыкальные инструменты в Древней Руси применялись в различных сферах — в придворном, княжеском быту, обязательны барабаны в ратном деле и множество разных народных инструментов. Народный инструментарий был богат и разнообразен. Особенно здесь выделялись гусли — как инструмент, сопровождающий эпические песни, сказания, славы. Гусляры-сказители были людьми почитаемыми. Об одном из них — сказителе Бояне — повествуется в выдающемся памятнике древнерусской литературы, "Слове о полку Игореве". Боян, слагавший славы, сказания, песни, пел, сопровождая их игрой на гуслях. Автор "Слова о полку Игореве" рисует вдохновенный образ сказителя: персты свои он возлагал на струны, и струны, словно живые, под его пальцами сами рокотали славу князьям Ярославу и Мстисла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youtube.com/watch?v=MZmEy-yeqd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85ED8-3974-4ABE-BCAA-41D70AB21460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ff0000"/>
                </a:solidFill>
                <a:latin typeface="Comic Sans MS"/>
              </a:rPr>
              <a:t>Гусли</a:t>
            </a:r>
            <a:r>
              <a:rPr b="1" i="1" lang="ru-RU" sz="1100" spc="-1" strike="noStrike">
                <a:solidFill>
                  <a:srgbClr val="0000ff"/>
                </a:solidFill>
                <a:latin typeface="Comic Sans MS"/>
              </a:rPr>
              <a:t> — </a:t>
            </a:r>
            <a:r>
              <a:rPr b="0" lang="ru-RU" sz="1100" spc="-1" strike="noStrike" u="sng">
                <a:solidFill>
                  <a:srgbClr val="0000ff"/>
                </a:solidFill>
                <a:uFillTx/>
                <a:latin typeface="Comic Sans MS"/>
                <a:hlinkClick r:id="rId1"/>
              </a:rPr>
              <a:t>струнный музыкальный </a:t>
            </a:r>
            <a:r>
              <a:rPr b="0" lang="ru-RU" sz="1100" spc="-1" strike="noStrike" u="sng">
                <a:solidFill>
                  <a:srgbClr val="0000ff"/>
                </a:solidFill>
                <a:uFillTx/>
                <a:latin typeface="Comic Sans MS"/>
                <a:hlinkClick r:id="rId2"/>
              </a:rPr>
              <a:t>инструмент</a:t>
            </a:r>
            <a:r>
              <a:rPr b="1" i="1" lang="ru-RU" sz="1200" spc="-1" strike="noStrike">
                <a:solidFill>
                  <a:srgbClr val="0000ff"/>
                </a:solidFill>
                <a:latin typeface="Comic Sans MS"/>
              </a:rPr>
              <a:t>, наиболее распространён в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omic Sans MS"/>
                <a:hlinkClick r:id="rId3"/>
              </a:rPr>
              <a:t>России</a:t>
            </a:r>
            <a:r>
              <a:rPr b="1" i="1" lang="ru-RU" sz="1200" spc="-1" strike="noStrike">
                <a:solidFill>
                  <a:srgbClr val="0000ff"/>
                </a:solidFill>
                <a:latin typeface="Comic Sans MS"/>
              </a:rPr>
              <a:t>. Является наиболее древним русским струнным щипковым музыкальным инструментом. Различают крыловидные и шлемовидные гусли. Первые имеют треугольную форму и от 5 до 14 струн,шлемовидные - 10-30 струн. На крыловидных гуслях (их также называют звончатыми) играют, как правило, бряцая по всем струнам и глуша ненужные звуки пальцами левой руки, на шлемовидных струны защипывают обеими ру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200" spc="-1" strike="noStrike">
                <a:solidFill>
                  <a:srgbClr val="ff0000"/>
                </a:solidFill>
                <a:latin typeface="Comic Sans MS"/>
              </a:rPr>
              <a:t>Гудок 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– это древнерусский музыкальный инструмент. Самые ранние упоминания  датируются 11-12 веками новой эры. Игра на гудке на Руси предписывалась только мужчинам. Этот инструмент делали тоже исключительно мужчины. </a:t>
            </a:r>
            <a:r>
              <a:rPr b="1" i="1" lang="ru-RU" sz="1200" spc="-1" strike="noStrike">
                <a:solidFill>
                  <a:srgbClr val="0000ff"/>
                </a:solidFill>
                <a:latin typeface="Comic Sans MS"/>
              </a:rPr>
              <a:t>Г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удок  похож на скрипку</a:t>
            </a:r>
            <a:r>
              <a:rPr b="1" i="1" lang="ru-RU" sz="1200" spc="-1" strike="noStrike">
                <a:solidFill>
                  <a:srgbClr val="0000ff"/>
                </a:solidFill>
                <a:latin typeface="Comic Sans MS"/>
              </a:rPr>
              <a:t>,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i="1" lang="ru-RU" sz="1200" spc="-1" strike="noStrike">
                <a:solidFill>
                  <a:srgbClr val="0000ff"/>
                </a:solidFill>
                <a:latin typeface="Comic Sans MS"/>
              </a:rPr>
              <a:t>н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о размеру  больше ее.  У него было три струны, на которых  играл</a:t>
            </a:r>
            <a:r>
              <a:rPr b="1" i="1" lang="ru-RU" sz="1200" spc="-1" strike="noStrike">
                <a:solidFill>
                  <a:srgbClr val="0000ff"/>
                </a:solidFill>
                <a:latin typeface="Comic Sans MS"/>
              </a:rPr>
              <a:t>и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 при помощи смычка. Причем верхняя струна является основной. Две нижние служат басовыми струнами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2F79C-9B5B-4079-ADC9-DF1C1B15E627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Свирель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едставляет собой простую деревянную дудку. На одном конце её есть свистковое устройство в виде «клюва», а на середине лицевой стороны вырезаны разное количество игровых отверстий (обычно шесть). Изготавливается инструмент из крушины, орешника, клёна, ясеня или черёмух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Жалейка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представляет собой небольшую трубочку из ивы или бузины дли, в верхний конец которой вставлен пищик с  язычком из камыша или гусиного пера, а на нижний надет раструб из коровьего рога или из бересты. На стволе есть от 3 до 7 игровых отверстий, благодаря чему можно менять высоту зву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3EA2E-8337-4F48-8434-69A021EB61DA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4DD2F-C203-45D5-B0FF-467D2EE42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44E21-3050-42D0-9DF5-887B05D40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633F9-1FC7-4D40-885B-2643F3A40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E56B8-D301-4581-AFB0-7FAEF1115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AF0CA-BD9E-4D45-A8C6-2427B8CBA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DB16E-A7E4-446E-B281-121ECBA30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D0483-D4F9-42BD-B02F-F588BA1F4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141F9-8606-4F95-B6E1-2FF465E06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C4923-C273-43B4-873F-2A066FB1E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76D8D-8738-496A-AD42-6CB1201F9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560A7-CDA4-4439-941A-4DD2B589C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2E862-7D9F-4803-A463-48722D550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9F72A-125A-484A-A3B9-8A3302DDD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A32CB-96DF-45C3-B3BD-99038875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C6A5F-99AC-41CE-823B-262600EB4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EE5B0-A926-49EF-B163-6D18F8052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B0CAB-FD4F-4FCF-9F71-2640D28CA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DB776-980A-4B4B-B6A3-B1AD11144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6D7F6-64A5-4FC4-A8CA-AA2AF0D3A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D2925-B232-40C3-A0C5-BA02DABE9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1C255-4881-4C6D-9E82-CC7BC8C52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545CB-6CA4-4D18-A75F-1BE5D390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2CFF7-9A25-4CDC-8F19-B954AE7D8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F47EE-B596-445C-88DC-12B1CEE3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E4019-FF8F-44B3-ACCB-39E16EBA08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6"/>
                  </a:gs>
                  <a:gs pos="100000">
                    <a:srgbClr val="66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6"/>
                  </a:gs>
                  <a:gs pos="100000">
                    <a:srgbClr val="66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D4336-4A9E-43B5-BC3B-5B485E28743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youtube.com/watch?v=4kspI58CUpU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XI_&#1074;&#1077;&#1082;" TargetMode="External"/><Relationship Id="rId2" Type="http://schemas.openxmlformats.org/officeDocument/2006/relationships/hyperlink" Target="http://ru.wikipedia.org/wiki/&#1057;&#1086;&#1092;&#1080;&#1081;&#1089;&#1082;&#1080;&#1081;_&#1089;&#1086;&#1073;&#1086;&#1088;" TargetMode="External"/><Relationship Id="rId3" Type="http://schemas.openxmlformats.org/officeDocument/2006/relationships/hyperlink" Target="http://ru.wikipedia.org/wiki/&#1050;&#1080;&#1077;&#1074;" TargetMode="External"/><Relationship Id="rId4" Type="http://schemas.openxmlformats.org/officeDocument/2006/relationships/hyperlink" Target="http://ru.wikipedia.org/wiki/1037_&#1075;&#1086;&#1076;" TargetMode="External"/><Relationship Id="rId5" Type="http://schemas.openxmlformats.org/officeDocument/2006/relationships/hyperlink" Target="http://ru.wikipedia.org/wiki/&#1043;&#1091;&#1076;&#1086;&#1082;_(&#1084;&#1091;&#1079;&#1099;&#1082;&#1072;&#1083;&#1100;&#1085;&#1099;&#1081;_&#1080;&#1085;&#1089;&#1090;&#1088;&#1091;&#1084;&#1077;&#1085;&#1090;)" TargetMode="External"/><Relationship Id="rId6" Type="http://schemas.openxmlformats.org/officeDocument/2006/relationships/hyperlink" Target="http://ru.wikipedia.org/wiki/&#1043;&#1091;&#1089;&#1083;&#1080;" TargetMode="External"/><Relationship Id="rId7" Type="http://schemas.openxmlformats.org/officeDocument/2006/relationships/hyperlink" Target="http://ru.wikipedia.org/wiki/&#1046;&#1072;&#1083;&#1077;&#1081;&#1082;&#1072;" TargetMode="External"/><Relationship Id="rId8" Type="http://schemas.openxmlformats.org/officeDocument/2006/relationships/hyperlink" Target="http://ru.wikipedia.org/wiki/&#1041;&#1091;&#1073;&#1077;&#1085;" TargetMode="External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article053046.html/" TargetMode="External"/><Relationship Id="rId2" Type="http://schemas.openxmlformats.org/officeDocument/2006/relationships/hyperlink" Target="http://article030548.html/" TargetMode="External"/><Relationship Id="rId3" Type="http://schemas.openxmlformats.org/officeDocument/2006/relationships/hyperlink" Target="http://article013028.html/" TargetMode="External"/><Relationship Id="rId4" Type="http://schemas.openxmlformats.org/officeDocument/2006/relationships/hyperlink" Target="http://article076468.html/" TargetMode="External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MZmEy-yeqdM" TargetMode="External"/><Relationship Id="rId2" Type="http://schemas.openxmlformats.org/officeDocument/2006/relationships/hyperlink" Target="http://nasyuk.moskva.com/fotogalereja-plankton/instrumenty/gusli/24540811.html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90;&#1088;&#1091;&#1085;&#1085;&#1099;&#1077;_&#1084;&#1091;&#1079;&#1099;&#1082;&#1072;&#1083;&#1100;&#1085;&#1099;&#1077;_&#1080;&#1085;&#1089;&#1090;&#1088;&#1091;&#1084;&#1077;&#1085;&#1090;&#1099;" TargetMode="External"/><Relationship Id="rId2" Type="http://schemas.openxmlformats.org/officeDocument/2006/relationships/hyperlink" Target="http://ru.wikipedia.org/wiki/&#1057;&#1090;&#1088;&#1091;&#1085;&#1085;&#1099;&#1077;_&#1084;&#1091;&#1079;&#1099;&#1082;&#1072;&#1083;&#1100;&#1085;&#1099;&#1077;_&#1080;&#1085;&#1089;&#1090;&#1088;&#1091;&#1084;&#1077;&#1085;&#1090;&#1099;" TargetMode="External"/><Relationship Id="rId3" Type="http://schemas.openxmlformats.org/officeDocument/2006/relationships/hyperlink" Target="http://ru.wikipedia.org/wiki/&#1056;&#1086;&#1089;&#1089;&#1080;&#1103;" TargetMode="External"/><Relationship Id="rId4" Type="http://schemas.openxmlformats.org/officeDocument/2006/relationships/hyperlink" Target="http://img0.liveinternet.ru/images/attach/b/3/28/238/28238041_10.jpg" TargetMode="External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hyperlink" Target="http://www.youtube.com/watch?v=dpHQxnJ2n5I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hyperlink" Target="http://www.youtube.com/watch?v=rmquifCKaIw&amp;feature=related" TargetMode="External"/><Relationship Id="rId4" Type="http://schemas.openxmlformats.org/officeDocument/2006/relationships/hyperlink" Target="http://www.youtube.com/watch?v=mREJPfFLr9M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207640" cy="60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Comic Sans MS"/>
              </a:rPr>
              <a:t>Музыка Древней Руси</a:t>
            </a:r>
            <a:endParaRPr b="1" lang="en-US" sz="2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3640" y="829800"/>
            <a:ext cx="4321080" cy="56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800" spc="-1" strike="noStrike">
                <a:solidFill>
                  <a:srgbClr val="ccecff"/>
                </a:solidFill>
                <a:latin typeface="Comic Sans MS"/>
              </a:rPr>
              <a:t>В середине 1 тысячелетия нашей эры в европейской части России расселились славянские племена, прославившие себя как музыканты, певцы и танцоры. Об этом сообщают византийские и германские источники. Известно, что в 591 году аварский хан послал к византийскому императору послами славянских певцов с гуслями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800" spc="-1" strike="noStrike">
                <a:solidFill>
                  <a:srgbClr val="ccecff"/>
                </a:solidFill>
                <a:latin typeface="Comic Sans MS"/>
              </a:rPr>
              <a:t>Древнерусская музыкальная культура своими истоками восходит к языческим традициям славян. Народные песни, закликания весны, плачи, сопровождающие обряды поминовения у</a:t>
            </a:r>
            <a:r>
              <a:rPr b="1" i="1" lang="ru-RU" sz="1800" spc="-1" strike="noStrike">
                <a:solidFill>
                  <a:srgbClr val="ccecff"/>
                </a:solidFill>
                <a:latin typeface="Comic Sans MS"/>
              </a:rPr>
              <a:t>мерших</a:t>
            </a:r>
            <a:r>
              <a:rPr b="1" i="1" lang="et-EE" sz="1800" spc="-1" strike="noStrike">
                <a:solidFill>
                  <a:srgbClr val="ccecff"/>
                </a:solidFill>
                <a:latin typeface="Comic Sans MS"/>
              </a:rPr>
              <a:t>, похороны или свадьбы, песни при сборе урожая или во время военных походов всегда были неотъемлемой частью жизни наших предков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Picture 6" descr="on_music"/>
          <p:cNvPicPr/>
          <p:nvPr/>
        </p:nvPicPr>
        <p:blipFill>
          <a:blip r:embed="rId1"/>
          <a:stretch/>
        </p:blipFill>
        <p:spPr>
          <a:xfrm>
            <a:off x="4859280" y="901800"/>
            <a:ext cx="4002120" cy="550044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3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5" descr="images"/>
          <p:cNvPicPr/>
          <p:nvPr/>
        </p:nvPicPr>
        <p:blipFill>
          <a:blip r:embed="rId1"/>
          <a:stretch/>
        </p:blipFill>
        <p:spPr>
          <a:xfrm>
            <a:off x="4716360" y="260280"/>
            <a:ext cx="4091040" cy="359748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0" y="620280"/>
            <a:ext cx="40384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Рожок представляет собой конической формы прямую трубу с пятью игровыми отверстиями сверху и одним снизу. На нижнем конце есть небольшой раструб</a:t>
            </a: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. 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Изготовляют рожок из березы, клена или можжевельника. В прошлом их выделывали из двух половин, скрепленных берестой</a:t>
            </a: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Звук у рожка сильный, но мягкий. Извлечение звука на инструменте довольно трудно.Существуют 2 типа рожка: для сольной и ансамблевой игры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2127960" y="5981760"/>
            <a:ext cx="54979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ecff"/>
                </a:solidFill>
                <a:uFillTx/>
                <a:latin typeface="Garamond"/>
                <a:hlinkClick r:id="rId2"/>
              </a:rPr>
              <a:t>http://www.youtube.com/watch?v=4kspI58CUpU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3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3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3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3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3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3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3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3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3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3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348000" y="188640"/>
            <a:ext cx="5616720" cy="58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Garamond"/>
              </a:rPr>
              <a:t>Скоморохи 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— русские средневековые актёры, одновременно певцы, танцоры, дрессировщики животных, музыканты и авторы большинства исполнявшихся ими словесно-музыкальных и драматических произведений.</a:t>
            </a:r>
            <a:r>
              <a:rPr b="1" i="1" lang="et-EE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Они возникли не позже середины </a:t>
            </a:r>
            <a:r>
              <a:rPr b="0" lang="ru-RU" sz="1800" spc="-1" strike="noStrike" u="sng">
                <a:solidFill>
                  <a:srgbClr val="ccecff"/>
                </a:solidFill>
                <a:uFillTx/>
                <a:latin typeface="Garamond"/>
                <a:hlinkClick r:id="rId1"/>
              </a:rPr>
              <a:t>XI века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, об этом мы можем судить по фрескам </a:t>
            </a:r>
            <a:r>
              <a:rPr b="0" lang="ru-RU" sz="1800" spc="-1" strike="noStrike" u="sng">
                <a:solidFill>
                  <a:srgbClr val="ccecff"/>
                </a:solidFill>
                <a:uFillTx/>
                <a:latin typeface="Garamond"/>
                <a:hlinkClick r:id="rId2"/>
              </a:rPr>
              <a:t>Софийского собора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 в </a:t>
            </a:r>
            <a:r>
              <a:rPr b="0" lang="ru-RU" sz="1800" spc="-1" strike="noStrike" u="sng">
                <a:solidFill>
                  <a:srgbClr val="ccecff"/>
                </a:solidFill>
                <a:uFillTx/>
                <a:latin typeface="Garamond"/>
                <a:hlinkClick r:id="rId3"/>
              </a:rPr>
              <a:t>Киеве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ru-RU" sz="1800" spc="-1" strike="noStrike" u="sng">
                <a:solidFill>
                  <a:srgbClr val="ccecff"/>
                </a:solidFill>
                <a:uFillTx/>
                <a:latin typeface="Garamond"/>
                <a:hlinkClick r:id="rId4"/>
              </a:rPr>
              <a:t>1037 год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. </a:t>
            </a:r>
            <a:r>
              <a:rPr b="1" i="1" lang="et-EE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Репертуар скоморохов состоял из шуточных песен, пьесок, социальных сатир («глум»), исполняемых в масках и «скоморошьем платье» под аккомпанемент </a:t>
            </a:r>
            <a:r>
              <a:rPr b="0" lang="ru-RU" sz="1800" spc="-1" strike="noStrike" u="sng">
                <a:solidFill>
                  <a:srgbClr val="ccecff"/>
                </a:solidFill>
                <a:uFillTx/>
                <a:latin typeface="Garamond"/>
                <a:hlinkClick r:id="rId5"/>
              </a:rPr>
              <a:t>гудка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ru-RU" sz="1800" spc="-1" strike="noStrike" u="sng">
                <a:solidFill>
                  <a:srgbClr val="ccecff"/>
                </a:solidFill>
                <a:uFillTx/>
                <a:latin typeface="Garamond"/>
                <a:hlinkClick r:id="rId6"/>
              </a:rPr>
              <a:t>гусель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ru-RU" sz="1800" spc="-1" strike="noStrike" u="sng">
                <a:solidFill>
                  <a:srgbClr val="ccecff"/>
                </a:solidFill>
                <a:uFillTx/>
                <a:latin typeface="Garamond"/>
                <a:hlinkClick r:id="rId7"/>
              </a:rPr>
              <a:t>жалейки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ru-RU" sz="1800" spc="-1" strike="noStrike" u="sng">
                <a:solidFill>
                  <a:srgbClr val="ccecff"/>
                </a:solidFill>
                <a:uFillTx/>
                <a:latin typeface="Garamond"/>
                <a:hlinkClick r:id="rId8"/>
              </a:rPr>
              <a:t>бубна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. За каждым персонажем был закреплён определённый характер и маска, которые не менялись годами.</a:t>
            </a:r>
            <a:r>
              <a:rPr b="1" i="1" lang="et-EE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Скоморохи выступали на улицах и площадях, постоянно общались со зрителями, вовлекали их в своё представление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7" name="Picture 9" descr="isi129a"/>
          <p:cNvPicPr/>
          <p:nvPr/>
        </p:nvPicPr>
        <p:blipFill>
          <a:blip r:embed="rId9"/>
          <a:stretch/>
        </p:blipFill>
        <p:spPr>
          <a:xfrm>
            <a:off x="900000" y="404640"/>
            <a:ext cx="1782720" cy="3240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" descr="baladins"/>
          <p:cNvPicPr/>
          <p:nvPr/>
        </p:nvPicPr>
        <p:blipFill>
          <a:blip r:embed="rId10"/>
          <a:stretch/>
        </p:blipFill>
        <p:spPr>
          <a:xfrm>
            <a:off x="468360" y="4005360"/>
            <a:ext cx="2881440" cy="237492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3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3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800" spc="-1" strike="noStrike">
                <a:solidFill>
                  <a:srgbClr val="ccecff"/>
                </a:solidFill>
                <a:latin typeface="Comic Sans MS"/>
              </a:rPr>
              <a:t>В Древней Руси существовало два изначальных понятия — мусикия (музыка) и пение. Эти понятия противопоставлялись, мусикией называлась только инструментальная музыка. Игра на струнных музыкальных инструментах называлась гудением, на духовых — сопением. Игра нередко сопровождала пение. Инструментальная музыка звучала на Руси с языческих времен и на протяжении всего средневековья. Некоторые старинные инструменты остались в народной музыке и по сей день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800" spc="-1" strike="noStrike">
                <a:solidFill>
                  <a:srgbClr val="ccecff"/>
                </a:solidFill>
                <a:latin typeface="Comic Sans MS"/>
              </a:rPr>
              <a:t>О музыке Древней Руси(IX-XIIвв.) рассказывают памятники литературы и искусства - летописи, фрески, иконы. В житии новгородского епископа Нифонта(XIII в.), в поучениях монаха Георгия(XIII в.) и ряде других документов содержатся сведения о том, что музыканты выступали на улицах и площадях городов. Музыка была обязательной частью обрядовых праздников - Масленицы(проводы зимы и встреча весны), Ивана Купалы(день летнего солнцестояния) и др. Проходили они обычно при большом стечении народа и включали игры, пляски, борьбу, конные состязания, выступления скоморохов - странствующих актеров и музыкантов. Скоморохи играли на гуслях, трубах, сопелях, бубнах, гудках.</a:t>
            </a:r>
            <a:br>
              <a:rPr sz="1800"/>
            </a:br>
            <a:r>
              <a:rPr b="1" i="1" lang="et-EE" sz="1800" spc="-1" strike="noStrike">
                <a:solidFill>
                  <a:srgbClr val="ccec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3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3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807732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Comic Sans MS"/>
              </a:rPr>
              <a:t>Ночь на Ивана Купала.</a:t>
            </a:r>
            <a:br>
              <a:rPr sz="2800"/>
            </a:br>
            <a:endParaRPr b="1" lang="en-US" sz="28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4" descr="40d44b671f62"/>
          <p:cNvPicPr/>
          <p:nvPr/>
        </p:nvPicPr>
        <p:blipFill>
          <a:blip r:embed="rId1"/>
          <a:stretch/>
        </p:blipFill>
        <p:spPr>
          <a:xfrm>
            <a:off x="250920" y="790560"/>
            <a:ext cx="8713800" cy="595152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Свадьба                     Масленица</a:t>
            </a:r>
            <a:endParaRPr b="1" lang="en-US" sz="2400" spc="-1" strike="noStrike">
              <a:solidFill>
                <a:srgbClr val="dfdfe9"/>
              </a:solidFill>
              <a:latin typeface="Garamond"/>
            </a:endParaRPr>
          </a:p>
        </p:txBody>
      </p:sp>
      <p:pic>
        <p:nvPicPr>
          <p:cNvPr id="119" name="Picture 7" descr="152[1]"/>
          <p:cNvPicPr/>
          <p:nvPr/>
        </p:nvPicPr>
        <p:blipFill>
          <a:blip r:embed="rId1"/>
          <a:stretch/>
        </p:blipFill>
        <p:spPr>
          <a:xfrm>
            <a:off x="324000" y="1052640"/>
            <a:ext cx="4319280" cy="5256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39978897_14"/>
          <p:cNvPicPr/>
          <p:nvPr/>
        </p:nvPicPr>
        <p:blipFill>
          <a:blip r:embed="rId2"/>
          <a:stretch/>
        </p:blipFill>
        <p:spPr>
          <a:xfrm>
            <a:off x="4859280" y="1052640"/>
            <a:ext cx="3889440" cy="525600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8920" y="260280"/>
            <a:ext cx="66978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Звучала музыка во время торжественных церемоний при дворе князей. Так, перемена блюд на пирах сопровождалась инструментальной музыкой или былиной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Былины, эпические песни, сложенные народом в Древней Руси и отразившие историческую действительность главным образом 11—16 вв. В процессе многовекового развития Былины изменялись, впитывали события позднейшего времени, а иногда и события более ранней эпохи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  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В центре </a:t>
            </a:r>
            <a:r>
              <a:rPr b="1" i="1" lang="ru-RU" sz="1600" spc="-1" strike="noStrike">
                <a:solidFill>
                  <a:srgbClr val="ccecff"/>
                </a:solidFill>
                <a:latin typeface="Comic Sans MS"/>
              </a:rPr>
              <a:t>б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ылины — образы богатырей, наделённых высокими моральными качествами, самоотверженно преданных Родине. В образе любимого богатыря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ecff"/>
                </a:solidFill>
                <a:latin typeface="Comic Sans MS"/>
              </a:rPr>
              <a:t>    </a:t>
            </a:r>
            <a:r>
              <a:rPr b="0" lang="et-EE" sz="1600" spc="-1" strike="noStrike" u="sng">
                <a:solidFill>
                  <a:srgbClr val="ccecff"/>
                </a:solidFill>
                <a:uFillTx/>
                <a:latin typeface="Comic Sans MS"/>
                <a:hlinkClick r:id="rId1"/>
              </a:rPr>
              <a:t>Ильи Муромца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 народ создал поэтическую биографию крестьянского сына с его спокойной уверенностью в себе и </a:t>
            </a:r>
            <a:r>
              <a:rPr b="1" i="1" lang="ru-RU" sz="1600" spc="-1" strike="noStrike">
                <a:solidFill>
                  <a:srgbClr val="ccecff"/>
                </a:solidFill>
                <a:latin typeface="Comic Sans MS"/>
              </a:rPr>
              <a:t>небывалой 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 силой. Он стоит во главе богатырской заставы, преграждающей путь врагам (эта тема формировалась ещё в условиях монгольского нашествия). Столь же поэтичны образы и др. богатырей, охраняющих родную землю, — </a:t>
            </a:r>
            <a:r>
              <a:rPr b="0" lang="et-EE" sz="1600" spc="-1" strike="noStrike" u="sng">
                <a:solidFill>
                  <a:srgbClr val="ccecff"/>
                </a:solidFill>
                <a:uFillTx/>
                <a:latin typeface="Comic Sans MS"/>
                <a:hlinkClick r:id="rId2"/>
              </a:rPr>
              <a:t>Добрыни Никитича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 и </a:t>
            </a:r>
            <a:r>
              <a:rPr b="0" lang="et-EE" sz="1600" spc="-1" strike="noStrike" u="sng">
                <a:solidFill>
                  <a:srgbClr val="ccecff"/>
                </a:solidFill>
                <a:uFillTx/>
                <a:latin typeface="Comic Sans MS"/>
                <a:hlinkClick r:id="rId3"/>
              </a:rPr>
              <a:t>Алеши Поповича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. Тема защиты Родины закономерно слита в </a:t>
            </a:r>
            <a:r>
              <a:rPr b="1" i="1" lang="ru-RU" sz="1600" spc="-1" strike="noStrike">
                <a:solidFill>
                  <a:srgbClr val="ccecff"/>
                </a:solidFill>
                <a:latin typeface="Comic Sans MS"/>
              </a:rPr>
              <a:t>б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ылины с темой народной жизни и труда. Так, первый подвиг, который совершил Илья Муромец после исцеления, это корчёвка пней и расчистка поля для пашни. В </a:t>
            </a:r>
            <a:r>
              <a:rPr b="1" i="1" lang="ru-RU" sz="1600" spc="-1" strike="noStrike">
                <a:solidFill>
                  <a:srgbClr val="ccecff"/>
                </a:solidFill>
                <a:latin typeface="Comic Sans MS"/>
              </a:rPr>
              <a:t>б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ылины о </a:t>
            </a:r>
            <a:r>
              <a:rPr b="1" i="1" lang="et-EE" sz="1600" spc="-1" strike="noStrike" u="sng">
                <a:solidFill>
                  <a:srgbClr val="ccecff"/>
                </a:solidFill>
                <a:uFillTx/>
                <a:latin typeface="Comic Sans MS"/>
              </a:rPr>
              <a:t>Вольге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 и </a:t>
            </a:r>
            <a:r>
              <a:rPr b="0" lang="et-EE" sz="1600" spc="-1" strike="noStrike" u="sng">
                <a:solidFill>
                  <a:srgbClr val="ccecff"/>
                </a:solidFill>
                <a:uFillTx/>
                <a:latin typeface="Comic Sans MS"/>
                <a:hlinkClick r:id="rId4"/>
              </a:rPr>
              <a:t>Микуле Селяниновиче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 отразилась извечная мечта трудового народа о лёгкой пахоте, о труде, обеспечивающем жизнь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9" descr="Иллюстрация к книге «Слово о полку Игореве» — гравюра В. А. Фаворского, 1938 год"/>
          <p:cNvPicPr/>
          <p:nvPr/>
        </p:nvPicPr>
        <p:blipFill>
          <a:blip r:embed="rId5"/>
          <a:stretch/>
        </p:blipFill>
        <p:spPr>
          <a:xfrm>
            <a:off x="6948360" y="189000"/>
            <a:ext cx="2195640" cy="640872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3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3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3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3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3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3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3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63468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9" name="Picture 8" descr="0011-013-Dobrynja-nikitich-ilja-muromets-i-aljosha-popovich"/>
          <p:cNvPicPr/>
          <p:nvPr/>
        </p:nvPicPr>
        <p:blipFill>
          <a:blip r:embed="rId1"/>
          <a:stretch/>
        </p:blipFill>
        <p:spPr>
          <a:xfrm>
            <a:off x="826920" y="549360"/>
            <a:ext cx="7490160" cy="522288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156000" y="5949720"/>
            <a:ext cx="253044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omic Sans MS"/>
              </a:rPr>
              <a:t>Боян</a:t>
            </a:r>
            <a:endParaRPr b="1" lang="en-US" sz="2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8920" y="188640"/>
            <a:ext cx="525636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Музыкальные инструменты в Древней Руси применялись в различных сферах — в придворном, княжеском быту, обязательны барабаны в ратном деле и множество разных народных инструментов. Народный инструментарий был богат и разнообразен. Особенно здесь выделялись гусли — как инструмент, сопровождающий эпические песни, сказания, славы. Гусляры-сказители были людьми почитаемыми. Об одном из них — сказителе Бояне — повествуется в выдающемся памятнике древнерусской литературы, "Слове о полку Игореве". Боян, слагавший славы, сказания, песни, пел, сопровождая их игрой на гуслях. Автор "Слова о полку Игореве" рисует вдохновенный образ сказителя: персты свои он возлагал на струны, и струны, словно живые, под его пальцами сами рокотали славу князьям Ярославу и Мстиславу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ccecff"/>
                </a:solidFill>
                <a:uFillTx/>
                <a:latin typeface="Garamond"/>
                <a:hlinkClick r:id="rId1"/>
              </a:rPr>
              <a:t>http://www.youtube.com/watch?v=MZmEy-yeqd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9" descr="24540811_9e04b8ee257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435640" y="333360"/>
            <a:ext cx="3708360" cy="5472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5105520" y="11250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3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3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97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2400" spc="-1" strike="noStrike">
              <a:solidFill>
                <a:srgbClr val="dfdfe9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259920"/>
            <a:ext cx="44956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Comic Sans MS"/>
              </a:rPr>
              <a:t>Гусли</a:t>
            </a:r>
            <a:r>
              <a:rPr b="1" i="1" lang="ru-RU" sz="1400" spc="-1" strike="noStrike">
                <a:solidFill>
                  <a:srgbClr val="ccecff"/>
                </a:solidFill>
                <a:latin typeface="Comic Sans MS"/>
              </a:rPr>
              <a:t> — </a:t>
            </a:r>
            <a:r>
              <a:rPr b="0" lang="ru-RU" sz="1400" spc="-1" strike="noStrike" u="sng">
                <a:solidFill>
                  <a:srgbClr val="ccecff"/>
                </a:solidFill>
                <a:uFillTx/>
                <a:latin typeface="Comic Sans MS"/>
                <a:hlinkClick r:id="rId1"/>
              </a:rPr>
              <a:t>струнный музыкальный </a:t>
            </a:r>
            <a:r>
              <a:rPr b="0" lang="ru-RU" sz="1600" spc="-1" strike="noStrike" u="sng">
                <a:solidFill>
                  <a:srgbClr val="ccecff"/>
                </a:solidFill>
                <a:uFillTx/>
                <a:latin typeface="Comic Sans MS"/>
                <a:hlinkClick r:id="rId2"/>
              </a:rPr>
              <a:t>инструмент</a:t>
            </a:r>
            <a:r>
              <a:rPr b="1" i="1" lang="ru-RU" sz="1600" spc="-1" strike="noStrike">
                <a:solidFill>
                  <a:srgbClr val="ccecff"/>
                </a:solidFill>
                <a:latin typeface="Comic Sans MS"/>
              </a:rPr>
              <a:t>, наиболее распространён в </a:t>
            </a:r>
            <a:r>
              <a:rPr b="0" lang="ru-RU" sz="1600" spc="-1" strike="noStrike" u="sng">
                <a:solidFill>
                  <a:srgbClr val="ccecff"/>
                </a:solidFill>
                <a:uFillTx/>
                <a:latin typeface="Comic Sans MS"/>
                <a:hlinkClick r:id="rId3"/>
              </a:rPr>
              <a:t>России</a:t>
            </a:r>
            <a:r>
              <a:rPr b="1" i="1" lang="ru-RU" sz="1600" spc="-1" strike="noStrike">
                <a:solidFill>
                  <a:srgbClr val="ccecff"/>
                </a:solidFill>
                <a:latin typeface="Comic Sans MS"/>
              </a:rPr>
              <a:t>. Является наиболее древним русским струнным щипковым музыкальным инструментом. Различают крыловидные и шлемовидные гусли. Первые имеют треугольную форму и от 5 до 14 струн,шлемовидные - 10-30 струн. На крыловидных гуслях (их также называют звончатыми) играют, как правило, бряцая по всем струнам и глуша ненужные звуки пальцами левой руки, на шлемовидных струны защипывают обеими руками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600" spc="-1" strike="noStrike">
                <a:solidFill>
                  <a:srgbClr val="ff0000"/>
                </a:solidFill>
                <a:latin typeface="Comic Sans MS"/>
              </a:rPr>
              <a:t>Гудок 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– это древнерусский музыкальный инструмент. Самые ранние упоминания  датируются 11-12 веками новой эры. Игра на гудке на Руси предписывалась только мужчинам. Этот инструмент делали тоже исключительно мужчины. </a:t>
            </a:r>
            <a:r>
              <a:rPr b="1" i="1" lang="ru-RU" sz="1600" spc="-1" strike="noStrike">
                <a:solidFill>
                  <a:srgbClr val="ccecff"/>
                </a:solidFill>
                <a:latin typeface="Comic Sans MS"/>
              </a:rPr>
              <a:t>Г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удок  похож на скрипку</a:t>
            </a:r>
            <a:r>
              <a:rPr b="1" i="1" lang="ru-RU" sz="1600" spc="-1" strike="noStrike">
                <a:solidFill>
                  <a:srgbClr val="ccecff"/>
                </a:solidFill>
                <a:latin typeface="Comic Sans MS"/>
              </a:rPr>
              <a:t>,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 </a:t>
            </a:r>
            <a:r>
              <a:rPr b="1" i="1" lang="ru-RU" sz="1600" spc="-1" strike="noStrike">
                <a:solidFill>
                  <a:srgbClr val="ccecff"/>
                </a:solidFill>
                <a:latin typeface="Comic Sans MS"/>
              </a:rPr>
              <a:t>н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о размеру  больше ее.  У него было три струны, на которых  играл</a:t>
            </a:r>
            <a:r>
              <a:rPr b="1" i="1" lang="ru-RU" sz="1600" spc="-1" strike="noStrike">
                <a:solidFill>
                  <a:srgbClr val="ccecff"/>
                </a:solidFill>
                <a:latin typeface="Comic Sans MS"/>
              </a:rPr>
              <a:t>и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 при помощи смычка. Причем верхняя струна является основной. Две нижние служат басовыми струнами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9" descr="Картинка 6 из 4937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3280" y="189000"/>
            <a:ext cx="4284720" cy="3573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"/>
          <p:cNvPicPr/>
          <p:nvPr/>
        </p:nvPicPr>
        <p:blipFill>
          <a:blip r:embed="rId6"/>
          <a:stretch/>
        </p:blipFill>
        <p:spPr>
          <a:xfrm>
            <a:off x="4648320" y="3938760"/>
            <a:ext cx="4495680" cy="29192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7"/>
          <p:cNvSpPr/>
          <p:nvPr/>
        </p:nvSpPr>
        <p:spPr>
          <a:xfrm>
            <a:off x="2058480" y="6491160"/>
            <a:ext cx="5523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ecff"/>
                </a:solidFill>
                <a:uFillTx/>
                <a:latin typeface="Garamond"/>
                <a:hlinkClick r:id="rId7"/>
              </a:rPr>
              <a:t>http://www.youtube.com/watch?v=dpHQxnJ2n5I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3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3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3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3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3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3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3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j445968_1295978668"/>
          <p:cNvPicPr/>
          <p:nvPr/>
        </p:nvPicPr>
        <p:blipFill>
          <a:blip r:embed="rId1"/>
          <a:stretch/>
        </p:blipFill>
        <p:spPr>
          <a:xfrm>
            <a:off x="395280" y="189000"/>
            <a:ext cx="4897440" cy="32655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0025cawb"/>
          <p:cNvPicPr/>
          <p:nvPr/>
        </p:nvPicPr>
        <p:blipFill>
          <a:blip r:embed="rId2"/>
          <a:stretch/>
        </p:blipFill>
        <p:spPr>
          <a:xfrm>
            <a:off x="4427640" y="3573360"/>
            <a:ext cx="4535280" cy="302256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6"/>
          <p:cNvSpPr/>
          <p:nvPr/>
        </p:nvSpPr>
        <p:spPr>
          <a:xfrm>
            <a:off x="2103480" y="365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5398920" y="124200"/>
            <a:ext cx="3745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Garamond"/>
              </a:rPr>
              <a:t>Свирель 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представляет собой простую деревянную дудку. На одном конце её есть свистковое устройство в виде «клюва», а на середине лицевой стороны вырезаны разное количество игровых отверстий (обычно шесть). Изготавливается инструмент из крушины, орешника, клёна, ясеня или черёмухи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Rectangle 10"/>
          <p:cNvSpPr/>
          <p:nvPr/>
        </p:nvSpPr>
        <p:spPr>
          <a:xfrm>
            <a:off x="250920" y="3443400"/>
            <a:ext cx="403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Garamond"/>
              </a:rPr>
              <a:t>Жалейка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 представляет собой небольшую трубочку из ивы или бузины дли, в верхний конец которой вставлен пищик с  язычком из камыша или гусиного пера, а на нижний надет раструб из коровьего рога или из бересты. На стволе есть от 3 до 7 игровых отверстий, благодаря чему можно менять высоту звука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Rectangle 11"/>
          <p:cNvSpPr/>
          <p:nvPr/>
        </p:nvSpPr>
        <p:spPr>
          <a:xfrm>
            <a:off x="468360" y="2708280"/>
            <a:ext cx="3960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ecff"/>
                </a:solidFill>
                <a:uFillTx/>
                <a:latin typeface="Garamond"/>
                <a:hlinkClick r:id="rId3"/>
              </a:rPr>
              <a:t>http://www.youtube.com/watch?v=rmquifCKaIw&amp;feature=related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3660480" y="6491160"/>
            <a:ext cx="552384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ecff"/>
                </a:solidFill>
                <a:uFillTx/>
                <a:latin typeface="Garamond"/>
                <a:hlinkClick r:id="rId4"/>
              </a:rPr>
              <a:t>http://www.youtube.com/watch?v=mREJPfFLr9M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3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3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3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3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3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3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3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3T06:49:39Z</dcterms:created>
  <dc:creator>Opetaja</dc:creator>
  <dc:description/>
  <dc:language>en-US</dc:language>
  <cp:lastModifiedBy>LEGION</cp:lastModifiedBy>
  <dcterms:modified xsi:type="dcterms:W3CDTF">2015-04-02T07:26:09Z</dcterms:modified>
  <cp:revision>10</cp:revision>
  <dc:subject/>
  <dc:title>Музыка Древней Руси</dc:title>
</cp:coreProperties>
</file>