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85F6-A9FF-4979-8155-757C043AA6D3}" type="slidenum">
              <a:rPr b="0" lang="uk-U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I_&#1074;&#1077;&#1082;" TargetMode="External"/><Relationship Id="rId2" Type="http://schemas.openxmlformats.org/officeDocument/2006/relationships/hyperlink" Target="http://ru.wikipedia.org/wiki/&#1057;&#1086;&#1092;&#1080;&#1081;&#1089;&#1082;&#1080;&#1081;_&#1089;&#1086;&#1073;&#1086;&#1088;" TargetMode="External"/><Relationship Id="rId3" Type="http://schemas.openxmlformats.org/officeDocument/2006/relationships/hyperlink" Target="http://ru.wikipedia.org/wiki/&#1050;&#1080;&#1077;&#1074;" TargetMode="External"/><Relationship Id="rId4" Type="http://schemas.openxmlformats.org/officeDocument/2006/relationships/hyperlink" Target="http://ru.wikipedia.org/wiki/1037_&#1075;&#1086;&#1076;" TargetMode="External"/><Relationship Id="rId5" Type="http://schemas.openxmlformats.org/officeDocument/2006/relationships/slide" Target="../slides/slide11.xml"/><Relationship Id="rId6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article053046.html/" TargetMode="External"/><Relationship Id="rId2" Type="http://schemas.openxmlformats.org/officeDocument/2006/relationships/hyperlink" Target="http://article030548.html/" TargetMode="External"/><Relationship Id="rId3" Type="http://schemas.openxmlformats.org/officeDocument/2006/relationships/hyperlink" Target="http://article013028.html/" TargetMode="External"/><Relationship Id="rId4" Type="http://schemas.openxmlformats.org/officeDocument/2006/relationships/hyperlink" Target="http://article076468.html/" TargetMode="External"/><Relationship Id="rId5" Type="http://schemas.openxmlformats.org/officeDocument/2006/relationships/slide" Target="../slides/slide5.xml"/><Relationship Id="rId6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ZmEy-yeqdM" TargetMode="External"/><Relationship Id="rId2" Type="http://schemas.openxmlformats.org/officeDocument/2006/relationships/slide" Target="../slides/slide7.xml"/><Relationship Id="rId3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90;&#1088;&#1091;&#1085;&#1085;&#1099;&#1077;_&#1084;&#1091;&#1079;&#1099;&#1082;&#1072;&#1083;&#1100;&#1085;&#1099;&#1077;_&#1080;&#1085;&#1089;&#1090;&#1088;&#1091;&#1084;&#1077;&#1085;&#1090;&#1099;" TargetMode="External"/><Relationship Id="rId2" Type="http://schemas.openxmlformats.org/officeDocument/2006/relationships/hyperlink" Target="http://ru.wikipedia.org/wiki/&#1057;&#1090;&#1088;&#1091;&#1085;&#1085;&#1099;&#1077;_&#1084;&#1091;&#1079;&#1099;&#1082;&#1072;&#1083;&#1100;&#1085;&#1099;&#1077;_&#1080;&#1085;&#1089;&#1090;&#1088;&#1091;&#1084;&#1077;&#1085;&#1090;&#1099;" TargetMode="External"/><Relationship Id="rId3" Type="http://schemas.openxmlformats.org/officeDocument/2006/relationships/hyperlink" Target="http://ru.wikipedia.org/wiki/&#1056;&#1086;&#1089;&#1089;&#1080;&#1103;" TargetMode="External"/><Relationship Id="rId4" Type="http://schemas.openxmlformats.org/officeDocument/2006/relationships/slide" Target="../slides/slide8.xml"/><Relationship Id="rId5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Comic Sans MS"/>
              </a:rPr>
              <a:t>Музыка Древней Рус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В середине 1 тысячелетия нашей эры в европейской части России расселились славянские племена, прославившие себя как музыканты, певцы и танцоры. Об этом сообщают византийские и германские источники. Известно, что в 591 году аварский хан послал к византийскому императору послами славянских певцов с гусл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Древнерусская музыкальная культура своими истоками восходит к языческим традициям славян. Народные песни, закликания весны, плачи, сопровождающие обряды поминовения у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мерших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, похороны или свадьбы, песни при сборе урожая или во время военных походов всегда были неотъемлемой частью жизни наших пред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EC4B-7A5B-410A-8729-44225C2CF28B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ожок представляет собой конической формы прямую трубу с пятью игровыми отверстиями сверху и одним снизу. На нижнем конце есть небольшой раструб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зготовляют рожок из березы, клена или можжевельника. В прошлом их выделывали из двух половин, скрепленных берестой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вук у рожка сильный, но мягкий. Извлечение звука на инструменте довольно трудно.Существуют 2 типа рожка: для сольной и ансамблевой иг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8838-45F1-40B3-8717-5E3A06C679AE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Скоморохи 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русские средневековые актёры, одновременно певцы, танцоры, дрессировщики животных, музыканты и авторы большинства исполнявшихся ими словесно-музыкальных и драматических произведений.</a:t>
            </a:r>
            <a:r>
              <a:rPr b="1" i="1" lang="et-E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ни возникли не позже середины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XI ве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об этом мы можем судить по фрескам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Софийского собор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Киев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1037 год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i="1" lang="et-E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епертуар скоморохов состоял из шуточных песен, пьесок, социальных сатир («глум»), исполняемых в масках и «скоморошьем платье» под аккомпанемент гудка, гусель, жалейки, бубна. За каждым персонажем был закреплён определённый характер и маска, которые не менялись годами.</a:t>
            </a:r>
            <a:r>
              <a:rPr b="1" i="1" lang="et-E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коморохи выступали на улицах и площадях, постоянно общались со зрителями, вовлекали их в своё представ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492A-1083-48AC-8C21-EDACDCD1DF95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В Древней Руси существовало два изначальных понятия — мусикия (музыка) и пение. Эти понятия противопоставлялись, мусикией называлась только инструментальная музыка. Игра на струнных музыкальных инструментах называлась гудением, на духовых — сопением. Игра нередко сопровождала пение. Инструментальная музыка звучала на Руси с языческих времен и на протяжении всего средневековья. Некоторые старинные инструменты остались в народной музыке и по сей д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О музыке Древней Руси(IX-XIIвв.) рассказывают памятники литературы и искусства - летописи, фрески, иконы. В житии новгородского епископа Нифонта(XIII в.), в поучениях монаха Георгия(XIII в.) и ряде других документов содержатся сведения о том, что музыканты выступали на улицах и площадях городов. Музыка была обязательной частью обрядовых праздников - Масленицы(проводы зимы и встреча весны), Ивана Купалы(день летнего солнцестояния) и др. Проходили они обычно при большом стечении народа и включали игры, пляски, борьбу, конные состязания, выступления скоморохов - странствующих актеров и музыкантов. Скоморохи играли на гуслях, трубах, сопелях, бубнах, гудках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D11A-23F2-46DA-AC0F-5886CB5F592A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omic Sans MS"/>
              </a:rPr>
              <a:t>Ночь на Ивана Купал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79BB-5AD8-44F9-A836-7D01F909CDC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omic Sans MS"/>
              </a:rPr>
              <a:t>Свадьба                     Масле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38E5-4C6B-4535-818E-2139A44DEC75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Звучала музыка во время торжественных церемоний при дворе князей. Так, перемена блюд на пирах сопровождалась инструментальной музыкой или были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Былины, эпические песни, сложенные народом в Древней Руси и отразившие историческую действительность главным образом 11—16 вв. В процессе многовекового развития Былины изменялись, впитывали события позднейшего времени, а иногда и события более ранней эпох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  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В центре 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б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ылины — образы богатырей, наделённых высокими моральными качествами, самоотверженно преданных Родине. В образе любимого богатыр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0" lang="et-EE" sz="12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Ильи Муромца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народ создал поэтическую биографию крестьянского сына с его спокойной уверенностью в себе и 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небывалой 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силой. Он стоит во главе богатырской заставы, преграждающей путь врагам (эта тема формировалась ещё в условиях монгольского нашествия). Столь же поэтичны образы и др. богатырей, охраняющих родную землю, — </a:t>
            </a:r>
            <a:r>
              <a:rPr b="0" lang="et-EE" sz="12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Добрыни Никитича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и </a:t>
            </a:r>
            <a:r>
              <a:rPr b="0" lang="et-EE" sz="12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Алеши Поповича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. Тема защиты Родины закономерно слита в 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б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ылины с темой народной жизни и труда. Так, первый подвиг, который совершил Илья Муромец после исцеления, это корчёвка пней и расчистка поля для пашни. В 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б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ылины о </a:t>
            </a:r>
            <a:r>
              <a:rPr b="1" i="1" lang="et-EE" sz="1200" spc="-1" strike="noStrike" u="sng">
                <a:solidFill>
                  <a:srgbClr val="0000ff"/>
                </a:solidFill>
                <a:uFillTx/>
                <a:latin typeface="Comic Sans MS"/>
              </a:rPr>
              <a:t>Вольге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и </a:t>
            </a:r>
            <a:r>
              <a:rPr b="0" lang="et-EE" sz="1200" spc="-1" strike="noStrike" u="sng">
                <a:solidFill>
                  <a:srgbClr val="0000ff"/>
                </a:solidFill>
                <a:uFillTx/>
                <a:latin typeface="Comic Sans MS"/>
                <a:hlinkClick r:id="rId4"/>
              </a:rPr>
              <a:t>Микуле Селяниновиче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отразилась извечная мечта трудового народа о лёгкой пахоте, о труде, обеспечивающем жизнь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B310-409C-49A2-B6D8-5F70D80D8B43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Comic Sans MS"/>
              </a:rPr>
              <a:t>Боя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Музыкальные инструменты в Древней Руси применялись в различных сферах — в придворном, княжеском быту, обязательны барабаны в ратном деле и множество разных народных инструментов. Народный инструментарий был богат и разнообразен. Особенно здесь выделялись гусли — как инструмент, сопровождающий эпические песни, сказания, славы. Гусляры-сказители были людьми почитаемыми. Об одном из них — сказителе Бояне — повествуется в выдающемся памятнике древнерусской литературы, "Слове о полку Игореве". Боян, слагавший славы, сказания, песни, пел, сопровождая их игрой на гуслях. Автор "Слова о полку Игореве" рисует вдохновенный образ сказителя: персты свои он возлагал на струны, и струны, словно живые, под его пальцами сами рокотали славу князьям Ярославу и Мстисла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MZmEy-yeqd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93F0-CF04-40F6-B09B-5B6181D78053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Comic Sans MS"/>
              </a:rPr>
              <a:t>Гусли</a:t>
            </a:r>
            <a:r>
              <a:rPr b="1" i="1" lang="ru-RU" sz="1100" spc="-1" strike="noStrike">
                <a:solidFill>
                  <a:srgbClr val="0000ff"/>
                </a:solidFill>
                <a:latin typeface="Comic Sans MS"/>
              </a:rPr>
              <a:t> — </a:t>
            </a:r>
            <a:r>
              <a:rPr b="0" lang="ru-RU" sz="11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струнный музыкальный </a:t>
            </a:r>
            <a:r>
              <a:rPr b="0" lang="ru-RU" sz="11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инструмент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, наиболее распространён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России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. Является наиболее древним русским струнным щипковым музыкальным инструментом. Различают крыловидные и шлемовидные гусли. Первые имеют треугольную форму и от 5 до 14 струн,шлемовидные - 10-30 струн. На крыловидных гуслях (их также называют звончатыми) играют, как правило, бряцая по всем струнам и глуша ненужные звуки пальцами левой руки, на шлемовидных струны защипывают обеими ру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ff0000"/>
                </a:solidFill>
                <a:latin typeface="Comic Sans MS"/>
              </a:rPr>
              <a:t>Гудок 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– это древнерусский музыкальный инструмент. Самые ранние упоминания  датируются 11-12 веками новой эры. Игра на гудке на Руси предписывалась только мужчинам. Этот инструмент делали тоже исключительно мужчины. 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Г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удок  похож на скрипку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,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н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о размеру  больше ее.  У него было три струны, на которых  играл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и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при помощи смычка. Причем верхняя струна является основной. Две нижние служат басовыми струнам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C1E0-D694-4E86-9313-4DBE68CE237E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Свирель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едставляет собой простую деревянную дудку. На одном конце её есть свистковое устройство в виде «клюва», а на середине лицевой стороны вырезаны разное количество игровых отверстий (обычно шесть). Изготавливается инструмент из крушины, орешника, клёна, ясеня или черёмух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Жалей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представляет собой небольшую трубочку из ивы или бузины дли, в верхний конец которой вставлен пищик с  язычком из камыша или гусиного пера, а на нижний надет раструб из коровьего рога или из бересты. На стволе есть от 3 до 7 игровых отверстий, благодаря чему можно менять высоту зву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86E07-B3C9-474A-A818-DFEFF57375C3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EC09C-6B28-44CE-A367-3DEE4FD0B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29BDD-BB97-4B74-B393-08A55451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D6D8A-BF81-416F-A24C-7A82E2B69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700B6-856A-46CA-97DA-9B09B7154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B990D-F48D-496F-B8E4-B41580E1B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E1EA-D407-47E1-944F-D6F624DF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54CF0-E223-4DC7-A334-D201EFC6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3CCD-9CEB-43CA-AB60-5E5F140C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20C6-946E-4C16-A867-8BAD5FFF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E739-F97B-4719-B0A6-856C9AAB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0A653-9E2E-47CA-9896-3E5C3E49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40427-FB8A-4AFF-B638-0D4F2B4A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0AFA-FA35-43AC-A6EA-95219302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5566-E4CC-49AF-97ED-8D66E092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E431-530D-46CD-AF8A-6E433623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2B42-9E6D-4E0E-8E82-026D75F47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36AC-2424-4208-AF8A-67F31EFA6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20C5A-FCD0-4F90-A1E8-BCE81469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610AF-8F36-469D-8A29-BE4F7917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17291-1082-42FB-8AF0-A5053D95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7D128-DC1B-429C-828B-83F3738B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11B68-DD27-4DAD-8576-A0300E92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C47AE-1F2B-4C4F-BBAD-2B07AB14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AB28D-AC2B-447A-B797-050CC34C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8548-B451-43C3-A8E4-BC5822E49A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0818-11CF-43BA-A9EE-2A3D7455B2C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youtube.com/watch?v=4kspI58CUpU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I_&#1074;&#1077;&#1082;" TargetMode="External"/><Relationship Id="rId2" Type="http://schemas.openxmlformats.org/officeDocument/2006/relationships/hyperlink" Target="http://ru.wikipedia.org/wiki/&#1057;&#1086;&#1092;&#1080;&#1081;&#1089;&#1082;&#1080;&#1081;_&#1089;&#1086;&#1073;&#1086;&#1088;" TargetMode="External"/><Relationship Id="rId3" Type="http://schemas.openxmlformats.org/officeDocument/2006/relationships/hyperlink" Target="http://ru.wikipedia.org/wiki/&#1050;&#1080;&#1077;&#1074;" TargetMode="External"/><Relationship Id="rId4" Type="http://schemas.openxmlformats.org/officeDocument/2006/relationships/hyperlink" Target="http://ru.wikipedia.org/wiki/1037_&#1075;&#1086;&#1076;" TargetMode="External"/><Relationship Id="rId5" Type="http://schemas.openxmlformats.org/officeDocument/2006/relationships/hyperlink" Target="http://ru.wikipedia.org/wiki/&#1043;&#1091;&#1076;&#1086;&#1082;_(&#1084;&#1091;&#1079;&#1099;&#1082;&#1072;&#1083;&#1100;&#1085;&#1099;&#1081;_&#1080;&#1085;&#1089;&#1090;&#1088;&#1091;&#1084;&#1077;&#1085;&#1090;)" TargetMode="External"/><Relationship Id="rId6" Type="http://schemas.openxmlformats.org/officeDocument/2006/relationships/hyperlink" Target="http://ru.wikipedia.org/wiki/&#1043;&#1091;&#1089;&#1083;&#1080;" TargetMode="External"/><Relationship Id="rId7" Type="http://schemas.openxmlformats.org/officeDocument/2006/relationships/hyperlink" Target="http://ru.wikipedia.org/wiki/&#1046;&#1072;&#1083;&#1077;&#1081;&#1082;&#1072;" TargetMode="External"/><Relationship Id="rId8" Type="http://schemas.openxmlformats.org/officeDocument/2006/relationships/hyperlink" Target="http://ru.wikipedia.org/wiki/&#1041;&#1091;&#1073;&#1077;&#1085;" TargetMode="External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rticle053046.html/" TargetMode="External"/><Relationship Id="rId2" Type="http://schemas.openxmlformats.org/officeDocument/2006/relationships/hyperlink" Target="http://article030548.html/" TargetMode="External"/><Relationship Id="rId3" Type="http://schemas.openxmlformats.org/officeDocument/2006/relationships/hyperlink" Target="http://article013028.html/" TargetMode="External"/><Relationship Id="rId4" Type="http://schemas.openxmlformats.org/officeDocument/2006/relationships/hyperlink" Target="http://article076468.html/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ZmEy-yeqdM" TargetMode="External"/><Relationship Id="rId2" Type="http://schemas.openxmlformats.org/officeDocument/2006/relationships/hyperlink" Target="http://nasyuk.moskva.com/fotogalereja-plankton/instrumenty/gusli/24540811.html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90;&#1088;&#1091;&#1085;&#1085;&#1099;&#1077;_&#1084;&#1091;&#1079;&#1099;&#1082;&#1072;&#1083;&#1100;&#1085;&#1099;&#1077;_&#1080;&#1085;&#1089;&#1090;&#1088;&#1091;&#1084;&#1077;&#1085;&#1090;&#1099;" TargetMode="External"/><Relationship Id="rId2" Type="http://schemas.openxmlformats.org/officeDocument/2006/relationships/hyperlink" Target="http://ru.wikipedia.org/wiki/&#1057;&#1090;&#1088;&#1091;&#1085;&#1085;&#1099;&#1077;_&#1084;&#1091;&#1079;&#1099;&#1082;&#1072;&#1083;&#1100;&#1085;&#1099;&#1077;_&#1080;&#1085;&#1089;&#1090;&#1088;&#1091;&#1084;&#1077;&#1085;&#1090;&#1099;" TargetMode="External"/><Relationship Id="rId3" Type="http://schemas.openxmlformats.org/officeDocument/2006/relationships/hyperlink" Target="http://ru.wikipedia.org/wiki/&#1056;&#1086;&#1089;&#1089;&#1080;&#1103;" TargetMode="External"/><Relationship Id="rId4" Type="http://schemas.openxmlformats.org/officeDocument/2006/relationships/hyperlink" Target="http://img0.liveinternet.ru/images/attach/b/3/28/238/28238041_10.jpg" TargetMode="External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hyperlink" Target="http://www.youtube.com/watch?v=dpHQxnJ2n5I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hyperlink" Target="http://www.youtube.com/watch?v=rmquifCKaIw&amp;feature=related" TargetMode="External"/><Relationship Id="rId4" Type="http://schemas.openxmlformats.org/officeDocument/2006/relationships/hyperlink" Target="http://www.youtube.com/watch?v=mREJPfFLr9M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207640" cy="60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omic Sans MS"/>
              </a:rPr>
              <a:t>Музыка Древней Руси</a:t>
            </a:r>
            <a:endParaRPr b="1" lang="en-US" sz="2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3640" y="829800"/>
            <a:ext cx="4321080" cy="56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800" spc="-1" strike="noStrike">
                <a:solidFill>
                  <a:srgbClr val="ccecff"/>
                </a:solidFill>
                <a:latin typeface="Comic Sans MS"/>
              </a:rPr>
              <a:t>В середине 1 тысячелетия нашей эры в европейской части России расселились славянские племена, прославившие себя как музыканты, певцы и танцоры. Об этом сообщают византийские и германские источники. Известно, что в 591 году аварский хан послал к византийскому императору послами славянских певцов с гуслями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800" spc="-1" strike="noStrike">
                <a:solidFill>
                  <a:srgbClr val="ccecff"/>
                </a:solidFill>
                <a:latin typeface="Comic Sans MS"/>
              </a:rPr>
              <a:t>Древнерусская музыкальная культура своими истоками восходит к языческим традициям славян. Народные песни, закликания весны, плачи, сопровождающие обряды поминовения у</a:t>
            </a:r>
            <a:r>
              <a:rPr b="1" i="1" lang="ru-RU" sz="1800" spc="-1" strike="noStrike">
                <a:solidFill>
                  <a:srgbClr val="ccecff"/>
                </a:solidFill>
                <a:latin typeface="Comic Sans MS"/>
              </a:rPr>
              <a:t>мерших</a:t>
            </a:r>
            <a:r>
              <a:rPr b="1" i="1" lang="et-EE" sz="1800" spc="-1" strike="noStrike">
                <a:solidFill>
                  <a:srgbClr val="ccecff"/>
                </a:solidFill>
                <a:latin typeface="Comic Sans MS"/>
              </a:rPr>
              <a:t>, похороны или свадьбы, песни при сборе урожая или во время военных походов всегда были неотъемлемой частью жизни наших предко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6" descr="on_music"/>
          <p:cNvPicPr/>
          <p:nvPr/>
        </p:nvPicPr>
        <p:blipFill>
          <a:blip r:embed="rId1"/>
          <a:stretch/>
        </p:blipFill>
        <p:spPr>
          <a:xfrm>
            <a:off x="4859280" y="901800"/>
            <a:ext cx="4002120" cy="550044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images"/>
          <p:cNvPicPr/>
          <p:nvPr/>
        </p:nvPicPr>
        <p:blipFill>
          <a:blip r:embed="rId1"/>
          <a:stretch/>
        </p:blipFill>
        <p:spPr>
          <a:xfrm>
            <a:off x="4716360" y="260280"/>
            <a:ext cx="4091040" cy="35974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Рожок представляет собой конической формы прямую трубу с пятью игровыми отверстиями сверху и одним снизу. На нижнем конце есть небольшой раструб</a:t>
            </a: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.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Изготовляют рожок из березы, клена или можжевельника. В прошлом их выделывали из двух половин, скрепленных берестой</a:t>
            </a: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Звук у рожка сильный, но мягкий. Извлечение звука на инструменте довольно трудно.Существуют 2 типа рожка: для сольной и ансамблевой игры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2127960" y="5981760"/>
            <a:ext cx="5497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2"/>
              </a:rPr>
              <a:t>http://www.youtube.com/watch?v=4kspI58CUpU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3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3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3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348000" y="188640"/>
            <a:ext cx="5616720" cy="58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Garamond"/>
              </a:rPr>
              <a:t>Скоморохи 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— русские средневековые актёры, одновременно певцы, танцоры, дрессировщики животных, музыканты и авторы большинства исполнявшихся ими словесно-музыкальных и драматических произведений.</a:t>
            </a:r>
            <a:r>
              <a:rPr b="1" i="1" lang="et-EE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Они возникли не позже середины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1"/>
              </a:rPr>
              <a:t>XI века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, об этом мы можем судить по фрескам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2"/>
              </a:rPr>
              <a:t>Софийского собора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 в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3"/>
              </a:rPr>
              <a:t>Киеве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4"/>
              </a:rPr>
              <a:t>1037 год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. </a:t>
            </a:r>
            <a:r>
              <a:rPr b="1" i="1" lang="et-EE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Репертуар скоморохов состоял из шуточных песен, пьесок, социальных сатир («глум»), исполняемых в масках и «скоморошьем платье» под аккомпанемент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5"/>
              </a:rPr>
              <a:t>гудка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6"/>
              </a:rPr>
              <a:t>гусель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7"/>
              </a:rPr>
              <a:t>жалейки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8"/>
              </a:rPr>
              <a:t>бубна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. За каждым персонажем был закреплён определённый характер и маска, которые не менялись годами.</a:t>
            </a:r>
            <a:r>
              <a:rPr b="1" i="1" lang="et-EE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Скоморохи выступали на улицах и площадях, постоянно общались со зрителями, вовлекали их в своё представлени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Picture 9" descr="isi129a"/>
          <p:cNvPicPr/>
          <p:nvPr/>
        </p:nvPicPr>
        <p:blipFill>
          <a:blip r:embed="rId9"/>
          <a:stretch/>
        </p:blipFill>
        <p:spPr>
          <a:xfrm>
            <a:off x="900000" y="404640"/>
            <a:ext cx="1782720" cy="3240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baladins"/>
          <p:cNvPicPr/>
          <p:nvPr/>
        </p:nvPicPr>
        <p:blipFill>
          <a:blip r:embed="rId10"/>
          <a:stretch/>
        </p:blipFill>
        <p:spPr>
          <a:xfrm>
            <a:off x="468360" y="4005360"/>
            <a:ext cx="2881440" cy="237492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3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800" spc="-1" strike="noStrike">
                <a:solidFill>
                  <a:srgbClr val="ccecff"/>
                </a:solidFill>
                <a:latin typeface="Comic Sans MS"/>
              </a:rPr>
              <a:t>В Древней Руси существовало два изначальных понятия — мусикия (музыка) и пение. Эти понятия противопоставлялись, мусикией называлась только инструментальная музыка. Игра на струнных музыкальных инструментах называлась гудением, на духовых — сопением. Игра нередко сопровождала пение. Инструментальная музыка звучала на Руси с языческих времен и на протяжении всего средневековья. Некоторые старинные инструменты остались в народной музыке и по сей день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800" spc="-1" strike="noStrike">
                <a:solidFill>
                  <a:srgbClr val="ccecff"/>
                </a:solidFill>
                <a:latin typeface="Comic Sans MS"/>
              </a:rPr>
              <a:t>О музыке Древней Руси(IX-XIIвв.) рассказывают памятники литературы и искусства - летописи, фрески, иконы. В житии новгородского епископа Нифонта(XIII в.), в поучениях монаха Георгия(XIII в.) и ряде других документов содержатся сведения о том, что музыканты выступали на улицах и площадях городов. Музыка была обязательной частью обрядовых праздников - Масленицы(проводы зимы и встреча весны), Ивана Купалы(день летнего солнцестояния) и др. Проходили они обычно при большом стечении народа и включали игры, пляски, борьбу, конные состязания, выступления скоморохов - странствующих актеров и музыкантов. Скоморохи играли на гуслях, трубах, сопелях, бубнах, гудках.</a:t>
            </a:r>
            <a:br>
              <a:rPr sz="1800"/>
            </a:br>
            <a:r>
              <a:rPr b="1" i="1" lang="et-EE" sz="1800" spc="-1" strike="noStrike">
                <a:solidFill>
                  <a:srgbClr val="ccec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0773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omic Sans MS"/>
              </a:rPr>
              <a:t>Ночь на Ивана Купала.</a:t>
            </a:r>
            <a:br>
              <a:rPr sz="2800"/>
            </a:br>
            <a:endParaRPr b="1" lang="en-US" sz="28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4" descr="40d44b671f62"/>
          <p:cNvPicPr/>
          <p:nvPr/>
        </p:nvPicPr>
        <p:blipFill>
          <a:blip r:embed="rId1"/>
          <a:stretch/>
        </p:blipFill>
        <p:spPr>
          <a:xfrm>
            <a:off x="250920" y="790560"/>
            <a:ext cx="8713800" cy="595152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Свадьба                     Масленица</a:t>
            </a:r>
            <a:endParaRPr b="1" lang="en-US" sz="2400" spc="-1" strike="noStrike">
              <a:solidFill>
                <a:srgbClr val="dfdfe9"/>
              </a:solidFill>
              <a:latin typeface="Garamond"/>
            </a:endParaRPr>
          </a:p>
        </p:txBody>
      </p:sp>
      <p:pic>
        <p:nvPicPr>
          <p:cNvPr id="119" name="Picture 7" descr="152[1]"/>
          <p:cNvPicPr/>
          <p:nvPr/>
        </p:nvPicPr>
        <p:blipFill>
          <a:blip r:embed="rId1"/>
          <a:stretch/>
        </p:blipFill>
        <p:spPr>
          <a:xfrm>
            <a:off x="324000" y="1052640"/>
            <a:ext cx="4319280" cy="5256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39978897_14"/>
          <p:cNvPicPr/>
          <p:nvPr/>
        </p:nvPicPr>
        <p:blipFill>
          <a:blip r:embed="rId2"/>
          <a:stretch/>
        </p:blipFill>
        <p:spPr>
          <a:xfrm>
            <a:off x="4859280" y="1052640"/>
            <a:ext cx="3889440" cy="52560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8920" y="260280"/>
            <a:ext cx="6697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Звучала музыка во время торжественных церемоний при дворе князей. Так, перемена блюд на пирах сопровождалась инструментальной музыкой или былино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Былины, эпические песни, сложенные народом в Древней Руси и отразившие историческую действительность главным образом 11—16 вв. В процессе многовекового развития Былины изменялись, впитывали события позднейшего времени, а иногда и события более ранней эпохи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  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В центре 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б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ылины — образы богатырей, наделённых высокими моральными качествами, самоотверженно преданных Родине. В образе любимого богатыря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    </a:t>
            </a:r>
            <a:r>
              <a:rPr b="0" lang="et-EE" sz="1600" spc="-1" strike="noStrike" u="sng">
                <a:solidFill>
                  <a:srgbClr val="ccecff"/>
                </a:solidFill>
                <a:uFillTx/>
                <a:latin typeface="Comic Sans MS"/>
                <a:hlinkClick r:id="rId1"/>
              </a:rPr>
              <a:t>Ильи Муромца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народ создал поэтическую биографию крестьянского сына с его спокойной уверенностью в себе и 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небывалой 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силой. Он стоит во главе богатырской заставы, преграждающей путь врагам (эта тема формировалась ещё в условиях монгольского нашествия). Столь же поэтичны образы и др. богатырей, охраняющих родную землю, — </a:t>
            </a:r>
            <a:r>
              <a:rPr b="0" lang="et-EE" sz="1600" spc="-1" strike="noStrike" u="sng">
                <a:solidFill>
                  <a:srgbClr val="ccecff"/>
                </a:solidFill>
                <a:uFillTx/>
                <a:latin typeface="Comic Sans MS"/>
                <a:hlinkClick r:id="rId2"/>
              </a:rPr>
              <a:t>Добрыни Никитича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и </a:t>
            </a:r>
            <a:r>
              <a:rPr b="0" lang="et-EE" sz="1600" spc="-1" strike="noStrike" u="sng">
                <a:solidFill>
                  <a:srgbClr val="ccecff"/>
                </a:solidFill>
                <a:uFillTx/>
                <a:latin typeface="Comic Sans MS"/>
                <a:hlinkClick r:id="rId3"/>
              </a:rPr>
              <a:t>Алеши Поповича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. Тема защиты Родины закономерно слита в 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б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ылины с темой народной жизни и труда. Так, первый подвиг, который совершил Илья Муромец после исцеления, это корчёвка пней и расчистка поля для пашни. В 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б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ылины о </a:t>
            </a:r>
            <a:r>
              <a:rPr b="1" i="1" lang="et-EE" sz="1600" spc="-1" strike="noStrike" u="sng">
                <a:solidFill>
                  <a:srgbClr val="ccecff"/>
                </a:solidFill>
                <a:uFillTx/>
                <a:latin typeface="Comic Sans MS"/>
              </a:rPr>
              <a:t>Вольге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и </a:t>
            </a:r>
            <a:r>
              <a:rPr b="0" lang="et-EE" sz="1600" spc="-1" strike="noStrike" u="sng">
                <a:solidFill>
                  <a:srgbClr val="ccecff"/>
                </a:solidFill>
                <a:uFillTx/>
                <a:latin typeface="Comic Sans MS"/>
                <a:hlinkClick r:id="rId4"/>
              </a:rPr>
              <a:t>Микуле Селяниновиче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отразилась извечная мечта трудового народа о лёгкой пахоте, о труде, обеспечивающем жизнь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9" descr="Иллюстрация к книге «Слово о полку Игореве» — гравюра В. А. Фаворского, 1938 год"/>
          <p:cNvPicPr/>
          <p:nvPr/>
        </p:nvPicPr>
        <p:blipFill>
          <a:blip r:embed="rId5"/>
          <a:stretch/>
        </p:blipFill>
        <p:spPr>
          <a:xfrm>
            <a:off x="6948360" y="189000"/>
            <a:ext cx="2195640" cy="640872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3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3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3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6346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8" descr="0011-013-Dobrynja-nikitich-ilja-muromets-i-aljosha-popovich"/>
          <p:cNvPicPr/>
          <p:nvPr/>
        </p:nvPicPr>
        <p:blipFill>
          <a:blip r:embed="rId1"/>
          <a:stretch/>
        </p:blipFill>
        <p:spPr>
          <a:xfrm>
            <a:off x="826920" y="549360"/>
            <a:ext cx="7490160" cy="52228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56000" y="5949720"/>
            <a:ext cx="25304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mic Sans MS"/>
              </a:rPr>
              <a:t>Боян</a:t>
            </a:r>
            <a:endParaRPr b="1" lang="en-US" sz="2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8920" y="188640"/>
            <a:ext cx="525636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Музыкальные инструменты в Древней Руси применялись в различных сферах — в придворном, княжеском быту, обязательны барабаны в ратном деле и множество разных народных инструментов. Народный инструментарий был богат и разнообразен. Особенно здесь выделялись гусли — как инструмент, сопровождающий эпические песни, сказания, славы. Гусляры-сказители были людьми почитаемыми. Об одном из них — сказителе Бояне — повествуется в выдающемся памятнике древнерусской литературы, "Слове о полку Игореве". Боян, слагавший славы, сказания, песни, пел, сопровождая их игрой на гуслях. Автор "Слова о полку Игореве" рисует вдохновенный образ сказителя: персты свои он возлагал на струны, и струны, словно живые, под его пальцами сами рокотали славу князьям Ярославу и Мстиславу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ccecff"/>
                </a:solidFill>
                <a:uFillTx/>
                <a:latin typeface="Garamond"/>
                <a:hlinkClick r:id="rId1"/>
              </a:rPr>
              <a:t>http://www.youtube.com/watch?v=MZmEy-yeqd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9" descr="24540811_9e04b8ee257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35640" y="333360"/>
            <a:ext cx="3708360" cy="5472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5105520" y="11250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400" spc="-1" strike="noStrike">
              <a:solidFill>
                <a:srgbClr val="dfdfe9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259920"/>
            <a:ext cx="44956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Comic Sans MS"/>
              </a:rPr>
              <a:t>Гусли</a:t>
            </a:r>
            <a:r>
              <a:rPr b="1" i="1" lang="ru-RU" sz="1400" spc="-1" strike="noStrike">
                <a:solidFill>
                  <a:srgbClr val="ccecff"/>
                </a:solidFill>
                <a:latin typeface="Comic Sans MS"/>
              </a:rPr>
              <a:t> — </a:t>
            </a:r>
            <a:r>
              <a:rPr b="0" lang="ru-RU" sz="1400" spc="-1" strike="noStrike" u="sng">
                <a:solidFill>
                  <a:srgbClr val="ccecff"/>
                </a:solidFill>
                <a:uFillTx/>
                <a:latin typeface="Comic Sans MS"/>
                <a:hlinkClick r:id="rId1"/>
              </a:rPr>
              <a:t>струнный музыкальный </a:t>
            </a:r>
            <a:r>
              <a:rPr b="0" lang="ru-RU" sz="1600" spc="-1" strike="noStrike" u="sng">
                <a:solidFill>
                  <a:srgbClr val="ccecff"/>
                </a:solidFill>
                <a:uFillTx/>
                <a:latin typeface="Comic Sans MS"/>
                <a:hlinkClick r:id="rId2"/>
              </a:rPr>
              <a:t>инструмент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, наиболее распространён в </a:t>
            </a:r>
            <a:r>
              <a:rPr b="0" lang="ru-RU" sz="1600" spc="-1" strike="noStrike" u="sng">
                <a:solidFill>
                  <a:srgbClr val="ccecff"/>
                </a:solidFill>
                <a:uFillTx/>
                <a:latin typeface="Comic Sans MS"/>
                <a:hlinkClick r:id="rId3"/>
              </a:rPr>
              <a:t>России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. Является наиболее древним русским струнным щипковым музыкальным инструментом. Различают крыловидные и шлемовидные гусли. Первые имеют треугольную форму и от 5 до 14 струн,шлемовидные - 10-30 струн. На крыловидных гуслях (их также называют звончатыми) играют, как правило, бряцая по всем струнам и глуша ненужные звуки пальцами левой руки, на шлемовидных струны защипывают обеими рукам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600" spc="-1" strike="noStrike">
                <a:solidFill>
                  <a:srgbClr val="ff0000"/>
                </a:solidFill>
                <a:latin typeface="Comic Sans MS"/>
              </a:rPr>
              <a:t>Гудок 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– это древнерусский музыкальный инструмент. Самые ранние упоминания  датируются 11-12 веками новой эры. Игра на гудке на Руси предписывалась только мужчинам. Этот инструмент делали тоже исключительно мужчины. 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Г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удок  похож на скрипку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,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н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о размеру  больше ее.  У него было три струны, на которых  играл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и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при помощи смычка. Причем верхняя струна является основной. Две нижние служат басовыми струнами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9" descr="Картинка 6 из 493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3280" y="189000"/>
            <a:ext cx="4284720" cy="3573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"/>
          <p:cNvPicPr/>
          <p:nvPr/>
        </p:nvPicPr>
        <p:blipFill>
          <a:blip r:embed="rId6"/>
          <a:stretch/>
        </p:blipFill>
        <p:spPr>
          <a:xfrm>
            <a:off x="4648320" y="3938760"/>
            <a:ext cx="4495680" cy="29192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7"/>
          <p:cNvSpPr/>
          <p:nvPr/>
        </p:nvSpPr>
        <p:spPr>
          <a:xfrm>
            <a:off x="2058480" y="6491160"/>
            <a:ext cx="5523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7"/>
              </a:rPr>
              <a:t>http://www.youtube.com/watch?v=dpHQxnJ2n5I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3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3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j445968_1295978668"/>
          <p:cNvPicPr/>
          <p:nvPr/>
        </p:nvPicPr>
        <p:blipFill>
          <a:blip r:embed="rId1"/>
          <a:stretch/>
        </p:blipFill>
        <p:spPr>
          <a:xfrm>
            <a:off x="395280" y="189000"/>
            <a:ext cx="4897440" cy="3265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0025cawb"/>
          <p:cNvPicPr/>
          <p:nvPr/>
        </p:nvPicPr>
        <p:blipFill>
          <a:blip r:embed="rId2"/>
          <a:stretch/>
        </p:blipFill>
        <p:spPr>
          <a:xfrm>
            <a:off x="4427640" y="3573360"/>
            <a:ext cx="4535280" cy="30225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2103480" y="365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5398920" y="124200"/>
            <a:ext cx="3745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Garamond"/>
              </a:rPr>
              <a:t>Свирель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представляет собой простую деревянную дудку. На одном конце её есть свистковое устройство в виде «клюва», а на середине лицевой стороны вырезаны разное количество игровых отверстий (обычно шесть). Изготавливается инструмент из крушины, орешника, клёна, ясеня или черёмухи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250920" y="3443400"/>
            <a:ext cx="403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Garamond"/>
              </a:rPr>
              <a:t>Жалейка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 представляет собой небольшую трубочку из ивы или бузины дли, в верхний конец которой вставлен пищик с  язычком из камыша или гусиного пера, а на нижний надет раструб из коровьего рога или из бересты. На стволе есть от 3 до 7 игровых отверстий, благодаря чему можно менять высоту звука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468360" y="2708280"/>
            <a:ext cx="396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3"/>
              </a:rPr>
              <a:t>http://www.youtube.com/watch?v=rmquifCKaIw&amp;feature=related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3660480" y="6491160"/>
            <a:ext cx="55238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4"/>
              </a:rPr>
              <a:t>http://www.youtube.com/watch?v=mREJPfFLr9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3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3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3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06:49:39Z</dcterms:created>
  <dc:creator>Opetaja</dc:creator>
  <dc:description/>
  <dc:language>en-US</dc:language>
  <cp:lastModifiedBy>LEGION</cp:lastModifiedBy>
  <dcterms:modified xsi:type="dcterms:W3CDTF">2015-04-02T07:26:09Z</dcterms:modified>
  <cp:revision>10</cp:revision>
  <dc:subject/>
  <dc:title>Музыка Древней Руси</dc:title>
</cp:coreProperties>
</file>