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1.jpeg" ContentType="image/jpeg"/>
  <Override PartName="/ppt/media/image9.jpeg" ContentType="image/jpeg"/>
  <Override PartName="/ppt/media/image15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02B9-9C15-4C3A-ABE8-3B710B221E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A001-3917-40B3-9A15-3ABD12AEE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8020-C60B-4492-B3A1-1906E210B3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8A01-A619-4E7B-AA15-D8DD0A71C9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E01A-11D3-4D24-9A1B-CDE72044E9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1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0EBD-FA26-4349-8034-3CCCB79DEC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F392-5B2B-4616-982D-9B10D4F09D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7037-0A03-405F-858A-7AF6862C8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BDAD-CBE4-4503-ADFD-115022F7A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3442-EB4D-4DA9-BCBF-F43A2E2AD6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Разработка буклета «Музыкальная аптечка», запись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F8B4-BFD5-4752-8979-3F70D7AB2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DD0F-E99E-4FBA-AAB9-10F35CF7E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DF96-6EE4-45FC-BEB2-B3145478F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ECB8-8929-4DBF-A62C-07EEFFD25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DE0C-0831-449A-928D-17F0D8F64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лассическая музык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0EB1-D4A6-4F45-BDE6-B1BF726D4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FCF8-3B5F-4792-8D79-8ECB333EC3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B2FA-90CE-49A6-B4FD-03FB9CA79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D44-26FE-45B5-A0A1-072B03E4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FFF-87D1-4FF5-95D7-FE736FE2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C72-C54F-402F-9A2B-E8CB9B3F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F6A-8398-4E01-AD75-A872852F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B09-364E-478A-A0E5-ABC5A64E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86F-24BB-4926-A664-347BCEF7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360-6943-4CB3-9149-06A82247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531-B85F-40A5-A571-DF38CB50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F0C-34CE-437B-828D-13AA5160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DF8-3505-4F2D-B6FD-0F0FB185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980-F52E-4EFB-A485-D20A7104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46C-6DE5-49A5-AD0A-14512353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CAD8-0C4D-4817-9076-8AF236E925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DC14-195B-4BC5-9C92-2D7EF9D0CD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Documents and Settings\Администратор\Мои документы\Мои рисунки\Музыка\335558.jpg"/>
          <p:cNvPicPr/>
          <p:nvPr/>
        </p:nvPicPr>
        <p:blipFill>
          <a:blip r:embed="rId1"/>
          <a:stretch/>
        </p:blipFill>
        <p:spPr>
          <a:xfrm>
            <a:off x="0" y="0"/>
            <a:ext cx="9725040" cy="6972480"/>
          </a:xfrm>
          <a:prstGeom prst="rect">
            <a:avLst/>
          </a:prstGeom>
          <a:ln w="0">
            <a:noFill/>
          </a:ln>
        </p:spPr>
      </p:pic>
      <p:pic>
        <p:nvPicPr>
          <p:cNvPr id="49" name="Схема 5" descr=""/>
          <p:cNvPicPr/>
          <p:nvPr/>
        </p:nvPicPr>
        <p:blipFill>
          <a:blip r:embed="rId2"/>
          <a:stretch/>
        </p:blipFill>
        <p:spPr>
          <a:xfrm>
            <a:off x="1073160" y="4694400"/>
            <a:ext cx="7143840" cy="1779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3480" y="418680"/>
            <a:ext cx="7673400" cy="20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42200" cy="452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лыбающееся лицо 2"/>
          <p:cNvSpPr/>
          <p:nvPr/>
        </p:nvSpPr>
        <p:spPr>
          <a:xfrm>
            <a:off x="571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лыбающееся лицо 3"/>
          <p:cNvSpPr/>
          <p:nvPr/>
        </p:nvSpPr>
        <p:spPr>
          <a:xfrm>
            <a:off x="4000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4"/>
          <p:cNvSpPr/>
          <p:nvPr/>
        </p:nvSpPr>
        <p:spPr>
          <a:xfrm>
            <a:off x="221472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лыбающееся лицо 5"/>
          <p:cNvSpPr/>
          <p:nvPr/>
        </p:nvSpPr>
        <p:spPr>
          <a:xfrm>
            <a:off x="571500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6"/>
          <p:cNvSpPr/>
          <p:nvPr/>
        </p:nvSpPr>
        <p:spPr>
          <a:xfrm>
            <a:off x="757224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d1a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71680" y="9997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лыбающееся лицо 3"/>
          <p:cNvSpPr/>
          <p:nvPr/>
        </p:nvSpPr>
        <p:spPr>
          <a:xfrm>
            <a:off x="57168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4"/>
          <p:cNvSpPr/>
          <p:nvPr/>
        </p:nvSpPr>
        <p:spPr>
          <a:xfrm>
            <a:off x="2214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лыбающееся лицо 5"/>
          <p:cNvSpPr/>
          <p:nvPr/>
        </p:nvSpPr>
        <p:spPr>
          <a:xfrm>
            <a:off x="385776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9966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лыбающееся лицо 6"/>
          <p:cNvSpPr/>
          <p:nvPr/>
        </p:nvSpPr>
        <p:spPr>
          <a:xfrm>
            <a:off x="5643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лыбающееся лицо 8"/>
          <p:cNvSpPr/>
          <p:nvPr/>
        </p:nvSpPr>
        <p:spPr>
          <a:xfrm>
            <a:off x="7429680" y="4643280"/>
            <a:ext cx="1071360" cy="1143000"/>
          </a:xfrm>
          <a:prstGeom prst="smileyFace">
            <a:avLst>
              <a:gd name="adj" fmla="val -4652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8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2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857160" y="21420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06eb1b220bb"/>
          <p:cNvPicPr/>
          <p:nvPr/>
        </p:nvPicPr>
        <p:blipFill>
          <a:blip r:embed="rId1"/>
          <a:stretch/>
        </p:blipFill>
        <p:spPr>
          <a:xfrm>
            <a:off x="2000160" y="1214280"/>
            <a:ext cx="5357880" cy="53578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g_3" descr="http://moikompas.ru/img/compas/2009-07-14/muzikoterapiya/26721537.jpg"/>
          <p:cNvPicPr/>
          <p:nvPr/>
        </p:nvPicPr>
        <p:blipFill>
          <a:blip r:embed="rId1"/>
          <a:stretch/>
        </p:blipFill>
        <p:spPr>
          <a:xfrm>
            <a:off x="2428920" y="1357200"/>
            <a:ext cx="389736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642960" y="21780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5"/>
          <p:cNvSpPr/>
          <p:nvPr/>
        </p:nvSpPr>
        <p:spPr>
          <a:xfrm rot="5400000">
            <a:off x="2083320" y="-440640"/>
            <a:ext cx="5072040" cy="8239320"/>
          </a:xfrm>
          <a:prstGeom prst="foldedCorner">
            <a:avLst>
              <a:gd name="adj" fmla="val 1246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D:\Documents and Settings\Администратор\Рабочий стол\Мои документы\Работа ХР\РАБОТА 2009-2010\ДЕНЬ МУЗЫКИ\НОВОЕ СКАНИРОВАНИЕ\Рисунок1.jpg"/>
          <p:cNvPicPr/>
          <p:nvPr/>
        </p:nvPicPr>
        <p:blipFill>
          <a:blip r:embed="rId1"/>
          <a:stretch/>
        </p:blipFill>
        <p:spPr>
          <a:xfrm>
            <a:off x="5000760" y="1357200"/>
            <a:ext cx="3463920" cy="445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Documents and Settings\Администратор\Рабочий стол\Мои документы\Работа ХР\РАБОТА 2009-2010\МУЗЫКОТЕРАПИЯ\Влиягние музыки на человека\доктор.jpg"/>
          <p:cNvPicPr/>
          <p:nvPr/>
        </p:nvPicPr>
        <p:blipFill>
          <a:blip r:embed="rId2"/>
          <a:stretch/>
        </p:blipFill>
        <p:spPr>
          <a:xfrm>
            <a:off x="1131840" y="1428840"/>
            <a:ext cx="3654360" cy="42148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3214800" y="63579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риложение №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:\Documents and Settings\Администратор\Рабочий стол\Мои документы\Работа ХР\РАБОТА 2009-2010\МУЗЫКОТЕРАПИЯ\Влиягние музыки на человека\солнце.jpg"/>
          <p:cNvPicPr/>
          <p:nvPr/>
        </p:nvPicPr>
        <p:blipFill>
          <a:blip r:embed="rId1"/>
          <a:stretch/>
        </p:blipFill>
        <p:spPr>
          <a:xfrm>
            <a:off x="1714680" y="357120"/>
            <a:ext cx="5500440" cy="5218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343440" y="5344200"/>
            <a:ext cx="85993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1999800"/>
            <a:ext cx="83008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азработка буклета «Музыкальная аптечка», запись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360" y="3071880"/>
            <a:ext cx="89726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Documents and Settings\Администратор\Рабочий стол\Мои документы\Работа ХР\РАБОТА 2009-2010\ДЕНЬ МУЗЫКИ\античная музыу.jpg"/>
          <p:cNvPicPr/>
          <p:nvPr/>
        </p:nvPicPr>
        <p:blipFill>
          <a:blip r:embed="rId1"/>
          <a:srcRect l="42918" t="17386" r="16905" b="44299"/>
          <a:stretch/>
        </p:blipFill>
        <p:spPr>
          <a:xfrm>
            <a:off x="0" y="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9760" y="428400"/>
            <a:ext cx="8543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7"/>
                </a:solidFill>
                <a:latin typeface="Arial"/>
              </a:rPr>
              <a:t>О благотворном влиянии музыки знали давно, еще в глубокой дре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3581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Музыкотерапия для детей"/>
          <p:cNvPicPr/>
          <p:nvPr/>
        </p:nvPicPr>
        <p:blipFill>
          <a:blip r:embed="rId1"/>
          <a:stretch/>
        </p:blipFill>
        <p:spPr>
          <a:xfrm>
            <a:off x="2786040" y="2000160"/>
            <a:ext cx="3429000" cy="4489560"/>
          </a:xfrm>
          <a:prstGeom prst="rect">
            <a:avLst/>
          </a:prstGeom>
          <a:ln w="47520">
            <a:solidFill>
              <a:srgbClr val="ffffff"/>
            </a:solidFill>
            <a:miter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42680" y="213840"/>
            <a:ext cx="63579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D:\Documents and Settings\Администратор\Рабочий стол\Мои документы\Работа ХР\РАБОТА 2009-2010\МУЗЫКОТЕРАПИЯ\Влиягние музыки на человека\м21.gif"/>
          <p:cNvPicPr/>
          <p:nvPr/>
        </p:nvPicPr>
        <p:blipFill>
          <a:blip r:embed="rId1"/>
          <a:stretch/>
        </p:blipFill>
        <p:spPr>
          <a:xfrm>
            <a:off x="1643040" y="571680"/>
            <a:ext cx="6286680" cy="6286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6a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лияние музыки на человека объясн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оздействием вибрации зв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D:\Documents and Settings\Администратор\Рабочий стол\Мои документы\Работа ХР\РАБОТА 2009-2010\МУЗЫКОТЕРАПИЯ\Влиягние музыки на человека\м23.gif"/>
          <p:cNvPicPr/>
          <p:nvPr/>
        </p:nvPicPr>
        <p:blipFill>
          <a:blip r:embed="rId2"/>
          <a:stretch/>
        </p:blipFill>
        <p:spPr>
          <a:xfrm>
            <a:off x="2209680" y="1285920"/>
            <a:ext cx="5253120" cy="53578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714240" y="285840"/>
            <a:ext cx="807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лассическая музыка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Documents and Settings\Администратор\Мои документы\Мои рисунки\рок\image02.jpg"/>
          <p:cNvPicPr/>
          <p:nvPr/>
        </p:nvPicPr>
        <p:blipFill>
          <a:blip r:embed="rId1"/>
          <a:srcRect l="0" t="0" r="16124" b="0"/>
          <a:stretch/>
        </p:blipFill>
        <p:spPr>
          <a:xfrm>
            <a:off x="142920" y="2214720"/>
            <a:ext cx="871524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85840" y="4330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f4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лове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857160" y="407196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 и т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6643800" y="350028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ром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2071800" y="5572080"/>
            <a:ext cx="5143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дивидуальное 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Documents and Settings\Администратор\Мои документы\Мои рисунки\Музыка\music.jpg"/>
          <p:cNvPicPr/>
          <p:nvPr/>
        </p:nvPicPr>
        <p:blipFill>
          <a:blip r:embed="rId1"/>
          <a:srcRect l="0" t="7140" r="0" b="0"/>
          <a:stretch/>
        </p:blipFill>
        <p:spPr>
          <a:xfrm>
            <a:off x="3429000" y="2857680"/>
            <a:ext cx="2786040" cy="258732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pic>
        <p:nvPicPr>
          <p:cNvPr id="81" name="Picture 5" descr="C:\Documents and Settings\Администратор\Мои документы\Мои рисунки\Музыка\kid-playing-piano.jpg"/>
          <p:cNvPicPr/>
          <p:nvPr/>
        </p:nvPicPr>
        <p:blipFill>
          <a:blip r:embed="rId2"/>
          <a:stretch/>
        </p:blipFill>
        <p:spPr>
          <a:xfrm>
            <a:off x="214200" y="1000080"/>
            <a:ext cx="3414960" cy="292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Администратор\Мои документы\Мои рисунки\1296.jpg"/>
          <p:cNvPicPr/>
          <p:nvPr/>
        </p:nvPicPr>
        <p:blipFill>
          <a:blip r:embed="rId3"/>
          <a:stretch/>
        </p:blipFill>
        <p:spPr>
          <a:xfrm>
            <a:off x="6429240" y="1357200"/>
            <a:ext cx="2498760" cy="1992600"/>
          </a:xfrm>
          <a:prstGeom prst="rect">
            <a:avLst/>
          </a:prstGeom>
          <a:ln w="19080">
            <a:solidFill>
              <a:srgbClr val="e46c0a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26:58Z</dcterms:modified>
  <cp:revision>57</cp:revision>
  <dc:subject/>
  <dc:title>Влияние музыки на состояние человека</dc:title>
</cp:coreProperties>
</file>