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4.gif" ContentType="image/gif"/>
  <Override PartName="/ppt/media/image1.jpeg" ContentType="image/jpeg"/>
  <Override PartName="/ppt/media/image9.jpeg" ContentType="image/jpeg"/>
  <Override PartName="/ppt/media/image15.jpeg" ContentType="image/jpeg"/>
  <Override PartName="/ppt/media/image3.wmf" ContentType="image/x-wmf"/>
  <Override PartName="/ppt/media/image2.png" ContentType="image/png"/>
  <Override PartName="/ppt/media/image4.jpeg" ContentType="image/jpeg"/>
  <Override PartName="/ppt/media/image8.gif" ContentType="image/gif"/>
  <Override PartName="/ppt/media/image18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86A3-7496-470D-9E6D-6C79D9D718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Arial Black"/>
              </a:rPr>
              <a:t>Влияние  музыки </a:t>
            </a: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Arial Black"/>
              </a:rPr>
              <a:t>на состояни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8CAC-3F6F-425F-91C4-BAE077E112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Arial"/>
                <a:ea typeface="Arial"/>
              </a:rPr>
              <a:t>Собственные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321C-5738-49BC-88B5-AA440E3157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классическая му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2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6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1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09FE-4578-46C2-A3D7-065604C77D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современная му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6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3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CE44-120F-44CA-9D52-17F1B62701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b050"/>
                </a:solidFill>
                <a:latin typeface="Calibri"/>
              </a:rPr>
              <a:t>Цветовой тест Люш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Arial Black"/>
              </a:rPr>
              <a:t>Синий</a:t>
            </a:r>
            <a:r>
              <a:rPr b="1" i="1" lang="ru-RU" sz="1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овлетворенность, спокойствие, приня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ff66"/>
                </a:solidFill>
                <a:latin typeface="Arial Black"/>
              </a:rPr>
              <a:t>Зеленый</a:t>
            </a:r>
            <a:r>
              <a:rPr b="1" i="1" lang="ru-RU" sz="1400" spc="-1" strike="noStrike">
                <a:solidFill>
                  <a:srgbClr val="66ff66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веренность, настойчивость, иногда упрям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Arial Black"/>
              </a:rPr>
              <a:t>Оранжевы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левое усилие, наступательность, возбу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 Black"/>
              </a:rPr>
              <a:t>Крас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, агрессивность, в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Arial Black"/>
              </a:rPr>
              <a:t>Желт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активность, общительность, энтузиа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Arial Black"/>
              </a:rPr>
              <a:t>Фиолетов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неопределенность, загадочность, непредсказу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46c0a"/>
                </a:solidFill>
                <a:latin typeface="Arial Black"/>
              </a:rPr>
              <a:t>Коричнев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напряжение, разочарование, стремление уйти от проблем, устал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Черн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беспокойство, бездеятельность, стресс, депре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a6a6a6"/>
                </a:solidFill>
                <a:latin typeface="Arial Black"/>
              </a:rPr>
              <a:t>Сер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апатия, разочарование, устал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cc"/>
                </a:solidFill>
                <a:latin typeface="Arial Black"/>
              </a:rPr>
              <a:t>Розов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беспечность, непосредственность, без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b0f0"/>
                </a:solidFill>
                <a:latin typeface="Arial Black"/>
              </a:rPr>
              <a:t>Голуб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стремление к покою, к гармонии, безынициа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1094-1D7D-461A-80FE-80CC2FF04A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правление лечебного воздействия музыки зависит не только от ее характера, но и от музыкального инструмента, с помощью которого она исполн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20BC-EBBE-481D-9755-BDEF1799BA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  <a:ea typeface="Times New Roman"/>
              </a:rPr>
              <a:t>Рушель Блаво выявил наиболее благоприятное время суток для “адресного” музыкотерапевтического воздействия на  орган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CEF4-1124-475B-974A-819BA10A4A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«Музыкальная аптеч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357B-AAC3-45E3-8CF6-FDAD88334B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Слушайте музыку и будьте здоровы!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9BC9-E2AD-4701-BE86-8A363FE0A1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зучение влияния музыки на эмоциональное состояни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. Разработка буклета «Музыкальная аптечка», запись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VD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диска с музыкальными произведениями, положительно влияющими на эмоциональное состояние человек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FD68-A2C9-40DD-A795-357BD22B6C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Гипотез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Музыка обладает магическ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воздействия на человека и способна помочь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повседневной жизни при стрессов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иту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94C2-DBFD-4C3D-A0CC-DC946A2EC8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Из истории врачевания музыкой.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B53E-F3CE-4250-84E6-5A224C683B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«Музыкотерапия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-  метод, основанный на целительном воздействии музыки на психологическое состояние человек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1182-467A-48EC-B3E6-516FB8D7F2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лияние музыки н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189F-88C2-42F8-81BB-4E2EFE8014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Классическая музык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оздана по всем правилам природной гармонии. Пропущенная черед сердце, она становиться целебной и радует на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8A51-85D1-4524-A25F-AA5AB1920D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мпозиции с частотой основного ритма от 2 до 4 герц, при громкости в 40-50 децибел, вызывают сильное возбуждение, вплоть до временной потери контроля над собой, агрессивность к окружающим или, наоборот, негативные эмоции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4CEC-250C-492A-9C0C-C53473CEDB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Факторы воздействия музыки на состояни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7800-18E7-40B3-8559-42BFD15C31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129-CE9B-407E-A780-E010BE24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550-B953-4483-8A1E-7495C8F6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807-1BF4-4830-B7CD-D5431E93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DE0-1A97-41AE-ACC1-AD55843C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D99-B267-4770-BBE1-57B12136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94A-F6D8-46AD-A87A-8E0D1F84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8DC2-FBE9-4EA7-9FCE-181A43AA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DFA2-FBBF-4303-A57B-68D7E577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819-2D18-4C95-AC9B-7A8C6CE8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FF8-FA3B-4AA0-86CC-04F3EBB3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D68-4C0C-4BE9-A882-A2FF59D4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33B1-8450-4201-96A4-A04F8590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E81D-9426-4C41-BBED-D1B8527601F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ECC9-7370-43BF-AE27-9AAA9838A8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Documents and Settings\Администратор\Мои документы\Мои рисунки\Музыка\335558.jpg"/>
          <p:cNvPicPr/>
          <p:nvPr/>
        </p:nvPicPr>
        <p:blipFill>
          <a:blip r:embed="rId1"/>
          <a:stretch/>
        </p:blipFill>
        <p:spPr>
          <a:xfrm>
            <a:off x="0" y="0"/>
            <a:ext cx="9725040" cy="6972480"/>
          </a:xfrm>
          <a:prstGeom prst="rect">
            <a:avLst/>
          </a:prstGeom>
          <a:ln w="0">
            <a:noFill/>
          </a:ln>
        </p:spPr>
      </p:pic>
      <p:pic>
        <p:nvPicPr>
          <p:cNvPr id="49" name="Схема 5" descr=""/>
          <p:cNvPicPr/>
          <p:nvPr/>
        </p:nvPicPr>
        <p:blipFill>
          <a:blip r:embed="rId2"/>
          <a:stretch/>
        </p:blipFill>
        <p:spPr>
          <a:xfrm>
            <a:off x="1073160" y="4694400"/>
            <a:ext cx="7143840" cy="1779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63480" y="418680"/>
            <a:ext cx="7673400" cy="205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Влияние  музыки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на состояние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8242200" cy="4522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Собственные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2876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классическая му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2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6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15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Улыбающееся лицо 2"/>
          <p:cNvSpPr/>
          <p:nvPr/>
        </p:nvSpPr>
        <p:spPr>
          <a:xfrm>
            <a:off x="57168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66f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Улыбающееся лицо 3"/>
          <p:cNvSpPr/>
          <p:nvPr/>
        </p:nvSpPr>
        <p:spPr>
          <a:xfrm>
            <a:off x="400068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лыбающееся лицо 4"/>
          <p:cNvSpPr/>
          <p:nvPr/>
        </p:nvSpPr>
        <p:spPr>
          <a:xfrm>
            <a:off x="221472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лыбающееся лицо 5"/>
          <p:cNvSpPr/>
          <p:nvPr/>
        </p:nvSpPr>
        <p:spPr>
          <a:xfrm>
            <a:off x="5715000" y="4857840"/>
            <a:ext cx="1071720" cy="1071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лыбающееся лицо 6"/>
          <p:cNvSpPr/>
          <p:nvPr/>
        </p:nvSpPr>
        <p:spPr>
          <a:xfrm>
            <a:off x="7572240" y="4857840"/>
            <a:ext cx="1071720" cy="1071360"/>
          </a:xfrm>
          <a:prstGeom prst="smileyFace">
            <a:avLst>
              <a:gd name="adj" fmla="val 9282"/>
            </a:avLst>
          </a:prstGeom>
          <a:solidFill>
            <a:srgbClr val="ffd1a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71680" y="99972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современная му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6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3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Улыбающееся лицо 3"/>
          <p:cNvSpPr/>
          <p:nvPr/>
        </p:nvSpPr>
        <p:spPr>
          <a:xfrm>
            <a:off x="571680" y="4643280"/>
            <a:ext cx="1143000" cy="107172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лыбающееся лицо 4"/>
          <p:cNvSpPr/>
          <p:nvPr/>
        </p:nvSpPr>
        <p:spPr>
          <a:xfrm>
            <a:off x="2214720" y="4643280"/>
            <a:ext cx="1143000" cy="114300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лыбающееся лицо 5"/>
          <p:cNvSpPr/>
          <p:nvPr/>
        </p:nvSpPr>
        <p:spPr>
          <a:xfrm>
            <a:off x="3857760" y="4643280"/>
            <a:ext cx="1143000" cy="1071720"/>
          </a:xfrm>
          <a:prstGeom prst="smileyFace">
            <a:avLst>
              <a:gd name="adj" fmla="val -4652"/>
            </a:avLst>
          </a:prstGeom>
          <a:solidFill>
            <a:srgbClr val="9966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Улыбающееся лицо 6"/>
          <p:cNvSpPr/>
          <p:nvPr/>
        </p:nvSpPr>
        <p:spPr>
          <a:xfrm>
            <a:off x="5643720" y="4643280"/>
            <a:ext cx="1143000" cy="1143000"/>
          </a:xfrm>
          <a:prstGeom prst="smileyFace">
            <a:avLst>
              <a:gd name="adj" fmla="val -46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Улыбающееся лицо 8"/>
          <p:cNvSpPr/>
          <p:nvPr/>
        </p:nvSpPr>
        <p:spPr>
          <a:xfrm>
            <a:off x="7429680" y="4643280"/>
            <a:ext cx="1071360" cy="1143000"/>
          </a:xfrm>
          <a:prstGeom prst="smileyFace">
            <a:avLst>
              <a:gd name="adj" fmla="val -4652"/>
            </a:avLst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Цветовой тест Люш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92880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81bd"/>
                </a:solidFill>
                <a:latin typeface="Arial Black"/>
              </a:rPr>
              <a:t>Синий</a:t>
            </a:r>
            <a:r>
              <a:rPr b="1" i="1" lang="ru-RU" sz="20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, спокойствие, принят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66"/>
                </a:solidFill>
                <a:latin typeface="Arial Black"/>
              </a:rPr>
              <a:t>Зеленый</a:t>
            </a:r>
            <a:r>
              <a:rPr b="1" i="1" lang="ru-RU" sz="2400" spc="-1" strike="noStrike">
                <a:solidFill>
                  <a:srgbClr val="66ff66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веренность, настойчивость, иногда упрям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 Black"/>
              </a:rPr>
              <a:t>Оранжевы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левое усилие, наступательность, возбужд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</a:rPr>
              <a:t>Красн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ктивность, агрессивность, в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Желт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активность, общительность, энтузиаз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 Black"/>
              </a:rPr>
              <a:t>Фиолетовый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неопределенность, загадочность, непредсказуем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46c0a"/>
                </a:solidFill>
                <a:latin typeface="Arial Black"/>
              </a:rPr>
              <a:t>Коричнев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напряжение, разочарование, стремление уйти от проблем, устал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Черн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беспокойство, бездеятельность, стресс, депресс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6a6a6"/>
                </a:solidFill>
                <a:latin typeface="Arial Black"/>
              </a:rPr>
              <a:t>Сер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апатия, разочарование, устал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cc"/>
                </a:solidFill>
                <a:latin typeface="Arial Black"/>
              </a:rPr>
              <a:t>Розовый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беспечность, непосредственность, безответств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f0"/>
                </a:solidFill>
                <a:latin typeface="Arial Black"/>
              </a:rPr>
              <a:t>Голубо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стремление к покою, к гармонии, безынициатив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857160" y="21420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правление лечебного воздействия музыки зависит не только от ее характера, но и от музыкального инструмента, с помощью которого она исполня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906eb1b220bb"/>
          <p:cNvPicPr/>
          <p:nvPr/>
        </p:nvPicPr>
        <p:blipFill>
          <a:blip r:embed="rId1"/>
          <a:stretch/>
        </p:blipFill>
        <p:spPr>
          <a:xfrm>
            <a:off x="2000160" y="1214280"/>
            <a:ext cx="5357880" cy="53578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g_3" descr="http://moikompas.ru/img/compas/2009-07-14/muzikoterapiya/26721537.jpg"/>
          <p:cNvPicPr/>
          <p:nvPr/>
        </p:nvPicPr>
        <p:blipFill>
          <a:blip r:embed="rId1"/>
          <a:stretch/>
        </p:blipFill>
        <p:spPr>
          <a:xfrm>
            <a:off x="2428920" y="1357200"/>
            <a:ext cx="3897360" cy="51944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642960" y="217800"/>
            <a:ext cx="742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Рушель Блаво выявил наиболее благоприятное время суток для “адресного” музыкотерапевтического воздействия на  органы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5"/>
          <p:cNvSpPr/>
          <p:nvPr/>
        </p:nvSpPr>
        <p:spPr>
          <a:xfrm rot="5400000">
            <a:off x="2083320" y="-440640"/>
            <a:ext cx="5072040" cy="8239320"/>
          </a:xfrm>
          <a:prstGeom prst="foldedCorner">
            <a:avLst>
              <a:gd name="adj" fmla="val 12462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Музыкальная аптеч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D:\Documents and Settings\Администратор\Рабочий стол\Мои документы\Работа ХР\РАБОТА 2009-2010\ДЕНЬ МУЗЫКИ\НОВОЕ СКАНИРОВАНИЕ\Рисунок1.jpg"/>
          <p:cNvPicPr/>
          <p:nvPr/>
        </p:nvPicPr>
        <p:blipFill>
          <a:blip r:embed="rId1"/>
          <a:stretch/>
        </p:blipFill>
        <p:spPr>
          <a:xfrm>
            <a:off x="5000760" y="1357200"/>
            <a:ext cx="3463920" cy="445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:\Documents and Settings\Администратор\Рабочий стол\Мои документы\Работа ХР\РАБОТА 2009-2010\МУЗЫКОТЕРАПИЯ\Влиягние музыки на человека\доктор.jpg"/>
          <p:cNvPicPr/>
          <p:nvPr/>
        </p:nvPicPr>
        <p:blipFill>
          <a:blip r:embed="rId2"/>
          <a:stretch/>
        </p:blipFill>
        <p:spPr>
          <a:xfrm>
            <a:off x="1131840" y="1428840"/>
            <a:ext cx="3654360" cy="42148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4"/>
          <p:cNvSpPr/>
          <p:nvPr/>
        </p:nvSpPr>
        <p:spPr>
          <a:xfrm>
            <a:off x="3214800" y="635796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Приложение №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D:\Documents and Settings\Администратор\Рабочий стол\Мои документы\Работа ХР\РАБОТА 2009-2010\МУЗЫКОТЕРАПИЯ\Влиягние музыки на человека\солнце.jpg"/>
          <p:cNvPicPr/>
          <p:nvPr/>
        </p:nvPicPr>
        <p:blipFill>
          <a:blip r:embed="rId1"/>
          <a:stretch/>
        </p:blipFill>
        <p:spPr>
          <a:xfrm>
            <a:off x="1714680" y="357120"/>
            <a:ext cx="5500440" cy="5218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343440" y="5344200"/>
            <a:ext cx="859932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лушайте музыку и будьте здоровы!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760" y="1999800"/>
            <a:ext cx="83008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Цел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учение влияния музыки на эмоциональное состояние человека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азработка буклета «Музыкальная аптечка», запись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VD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диска с музыкальными произведениями, положительно влияющими на эмоциональное состояние человек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Program Files\Microsoft Office\CLIPART\PUB60COR\EN00242_.WMF"/>
          <p:cNvPicPr/>
          <p:nvPr/>
        </p:nvPicPr>
        <p:blipFill>
          <a:blip r:embed="rId1"/>
          <a:stretch/>
        </p:blipFill>
        <p:spPr>
          <a:xfrm>
            <a:off x="428760" y="285840"/>
            <a:ext cx="6573600" cy="14288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Гипотез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1360" y="3071880"/>
            <a:ext cx="89726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Музыка обладает магической сил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воздействия на человека и способна помочь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повседневной жизни при стрессов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ситуац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Program Files\Microsoft Office\CLIPART\PUB60COR\EN00242_.WMF"/>
          <p:cNvPicPr/>
          <p:nvPr/>
        </p:nvPicPr>
        <p:blipFill>
          <a:blip r:embed="rId1"/>
          <a:stretch/>
        </p:blipFill>
        <p:spPr>
          <a:xfrm>
            <a:off x="428760" y="285840"/>
            <a:ext cx="6573600" cy="14288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Documents and Settings\Администратор\Рабочий стол\Мои документы\Работа ХР\РАБОТА 2009-2010\ДЕНЬ МУЗЫКИ\античная музыу.jpg"/>
          <p:cNvPicPr/>
          <p:nvPr/>
        </p:nvPicPr>
        <p:blipFill>
          <a:blip r:embed="rId1"/>
          <a:srcRect l="42918" t="17386" r="16905" b="44299"/>
          <a:stretch/>
        </p:blipFill>
        <p:spPr>
          <a:xfrm>
            <a:off x="0" y="0"/>
            <a:ext cx="9144000" cy="645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9760" y="428400"/>
            <a:ext cx="8543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Из истории врачевания музыкой. 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0" y="5904000"/>
            <a:ext cx="9144000" cy="9471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4807"/>
                </a:solidFill>
                <a:latin typeface="Arial"/>
              </a:rPr>
              <a:t>О благотворном влиянии музыки знали давно, еще в глубокой дре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35812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«Музыкотерапия»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-  метод, основанный на целительном воздействии музыки на психологическое состояние челове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Музыкотерапия для детей"/>
          <p:cNvPicPr/>
          <p:nvPr/>
        </p:nvPicPr>
        <p:blipFill>
          <a:blip r:embed="rId1"/>
          <a:stretch/>
        </p:blipFill>
        <p:spPr>
          <a:xfrm>
            <a:off x="2786040" y="2000160"/>
            <a:ext cx="3429000" cy="4489560"/>
          </a:xfrm>
          <a:prstGeom prst="rect">
            <a:avLst/>
          </a:prstGeom>
          <a:ln w="47520">
            <a:solidFill>
              <a:srgbClr val="ffffff"/>
            </a:solidFill>
            <a:miter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42680" y="213840"/>
            <a:ext cx="63579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лияние музыки на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D:\Documents and Settings\Администратор\Рабочий стол\Мои документы\Работа ХР\РАБОТА 2009-2010\МУЗЫКОТЕРАПИЯ\Влиягние музыки на человека\м21.gif"/>
          <p:cNvPicPr/>
          <p:nvPr/>
        </p:nvPicPr>
        <p:blipFill>
          <a:blip r:embed="rId1"/>
          <a:stretch/>
        </p:blipFill>
        <p:spPr>
          <a:xfrm>
            <a:off x="1643040" y="571680"/>
            <a:ext cx="6286680" cy="62863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solidFill>
            <a:srgbClr val="f6a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лияние музыки на человека объясн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оздействием вибрации зву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D:\Documents and Settings\Администратор\Рабочий стол\Мои документы\Работа ХР\РАБОТА 2009-2010\МУЗЫКОТЕРАПИЯ\Влиягние музыки на человека\м23.gif"/>
          <p:cNvPicPr/>
          <p:nvPr/>
        </p:nvPicPr>
        <p:blipFill>
          <a:blip r:embed="rId2"/>
          <a:stretch/>
        </p:blipFill>
        <p:spPr>
          <a:xfrm>
            <a:off x="2209680" y="1285920"/>
            <a:ext cx="5253120" cy="53578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714240" y="285840"/>
            <a:ext cx="8072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лассическая музыка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оздана по всем правилам природной гармонии. Пропущенная черед сердце, она становиться целебной и радует нас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:\Documents and Settings\Администратор\Мои документы\Мои рисунки\рок\image02.jpg"/>
          <p:cNvPicPr/>
          <p:nvPr/>
        </p:nvPicPr>
        <p:blipFill>
          <a:blip r:embed="rId1"/>
          <a:srcRect l="0" t="0" r="16124" b="0"/>
          <a:stretch/>
        </p:blipFill>
        <p:spPr>
          <a:xfrm>
            <a:off x="142920" y="2214720"/>
            <a:ext cx="8715240" cy="4000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85840" y="4330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омпозиции с частотой основного ритма от 2 до 4 герц, при громкости в 40-50 децибел, вызывают сильное возбуждение, вплоть до временной потери контроля над собой, агрессивность к окружающим или, наоборот, негативные эмоции к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f4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Факторы воздействия музыки на состояние че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лове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857160" y="407196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Р и т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6643800" y="350028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ром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2071800" y="5572080"/>
            <a:ext cx="5143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ндивидуальное вос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Documents and Settings\Администратор\Мои документы\Мои рисунки\Музыка\music.jpg"/>
          <p:cNvPicPr/>
          <p:nvPr/>
        </p:nvPicPr>
        <p:blipFill>
          <a:blip r:embed="rId1"/>
          <a:srcRect l="0" t="7140" r="0" b="0"/>
          <a:stretch/>
        </p:blipFill>
        <p:spPr>
          <a:xfrm>
            <a:off x="3429000" y="2857680"/>
            <a:ext cx="2786040" cy="258732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pic>
        <p:nvPicPr>
          <p:cNvPr id="81" name="Picture 5" descr="C:\Documents and Settings\Администратор\Мои документы\Мои рисунки\Музыка\kid-playing-piano.jpg"/>
          <p:cNvPicPr/>
          <p:nvPr/>
        </p:nvPicPr>
        <p:blipFill>
          <a:blip r:embed="rId2"/>
          <a:stretch/>
        </p:blipFill>
        <p:spPr>
          <a:xfrm>
            <a:off x="214200" y="1000080"/>
            <a:ext cx="3414960" cy="2927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Documents and Settings\Администратор\Мои документы\Мои рисунки\1296.jpg"/>
          <p:cNvPicPr/>
          <p:nvPr/>
        </p:nvPicPr>
        <p:blipFill>
          <a:blip r:embed="rId3"/>
          <a:stretch/>
        </p:blipFill>
        <p:spPr>
          <a:xfrm>
            <a:off x="6429240" y="1357200"/>
            <a:ext cx="2498760" cy="1992600"/>
          </a:xfrm>
          <a:prstGeom prst="rect">
            <a:avLst/>
          </a:prstGeom>
          <a:ln w="19080">
            <a:solidFill>
              <a:srgbClr val="e46c0a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26:58Z</dcterms:modified>
  <cp:revision>57</cp:revision>
  <dc:subject/>
  <dc:title>Влияние музыки на состояние человека</dc:title>
</cp:coreProperties>
</file>