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88DD-82F5-4E31-8364-60FB58178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D6F3-8800-4205-B5BB-091B89B5A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D14-7173-4E63-9B77-F3B1CE5B7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1F63-1195-47AB-AED7-7E1768C85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FA19-176A-415C-9337-40123AA634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1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0CBF-A4B3-41B6-B1DE-EDE378D62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22F1-075E-4362-ABEC-4FD5E3782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C6B5-4C7A-4AE6-BDDA-4A7BFB24D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0441-DB9F-40E2-B841-DCEEAF5A8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8F92-6AD7-415E-BE8F-74F28AAEF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Разработка буклета «Музыкальная аптечка», запись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9E8F-97BB-490E-B114-1BBEDA3C74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C770-9913-4CB8-834A-6B5F138092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1C42-8235-4CAA-A78E-ECC8FF822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CCCC-DC42-41A1-9110-FBC4EE358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4ED4-0E42-4D9C-903F-43F25C290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лассическая музык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99D9-927A-4E94-AF3C-E8C30D748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F846-1782-4415-B323-FEC7E4A10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429-2FBD-485D-AADE-7DEBCBCE1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BE0-47E7-4A19-91B8-D0C5B1D6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F5C-1614-4F81-8221-922931EF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B36-51F8-448D-A06A-5ADDC7CB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BE5-A858-4FCA-A851-B04A49CE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36C-2A02-4F82-9EFA-07F24359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76A-8299-4FCF-848A-801A8B14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511-F2C1-400E-80BD-9D6DB20E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7CE-B357-4CB1-8F4B-61CDA361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123-186B-4CAD-804D-919C77E4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3E4-1918-4C80-8804-14BDF610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917-C970-487B-9C3A-E9A0045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4DD-F084-474C-AD4F-BF6C7605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EE8D-9F98-48EA-A07D-29D647D4D8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6B39-15F5-4CC7-9FAB-2F554A93C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Documents and Settings\Администратор\Мои документы\Мои рисунки\Музыка\335558.jpg"/>
          <p:cNvPicPr/>
          <p:nvPr/>
        </p:nvPicPr>
        <p:blipFill>
          <a:blip r:embed="rId1"/>
          <a:stretch/>
        </p:blipFill>
        <p:spPr>
          <a:xfrm>
            <a:off x="0" y="0"/>
            <a:ext cx="9725040" cy="6972480"/>
          </a:xfrm>
          <a:prstGeom prst="rect">
            <a:avLst/>
          </a:prstGeom>
          <a:ln w="0">
            <a:noFill/>
          </a:ln>
        </p:spPr>
      </p:pic>
      <p:pic>
        <p:nvPicPr>
          <p:cNvPr id="49" name="Схема 5" descr=""/>
          <p:cNvPicPr/>
          <p:nvPr/>
        </p:nvPicPr>
        <p:blipFill>
          <a:blip r:embed="rId2"/>
          <a:stretch/>
        </p:blipFill>
        <p:spPr>
          <a:xfrm>
            <a:off x="1073160" y="4694400"/>
            <a:ext cx="7143840" cy="177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3480" y="418680"/>
            <a:ext cx="7673400" cy="20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4220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лыбающееся лицо 2"/>
          <p:cNvSpPr/>
          <p:nvPr/>
        </p:nvSpPr>
        <p:spPr>
          <a:xfrm>
            <a:off x="571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лыбающееся лицо 3"/>
          <p:cNvSpPr/>
          <p:nvPr/>
        </p:nvSpPr>
        <p:spPr>
          <a:xfrm>
            <a:off x="4000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4"/>
          <p:cNvSpPr/>
          <p:nvPr/>
        </p:nvSpPr>
        <p:spPr>
          <a:xfrm>
            <a:off x="221472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5"/>
          <p:cNvSpPr/>
          <p:nvPr/>
        </p:nvSpPr>
        <p:spPr>
          <a:xfrm>
            <a:off x="571500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6"/>
          <p:cNvSpPr/>
          <p:nvPr/>
        </p:nvSpPr>
        <p:spPr>
          <a:xfrm>
            <a:off x="757224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d1a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680" y="999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лыбающееся лицо 3"/>
          <p:cNvSpPr/>
          <p:nvPr/>
        </p:nvSpPr>
        <p:spPr>
          <a:xfrm>
            <a:off x="57168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4"/>
          <p:cNvSpPr/>
          <p:nvPr/>
        </p:nvSpPr>
        <p:spPr>
          <a:xfrm>
            <a:off x="2214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лыбающееся лицо 5"/>
          <p:cNvSpPr/>
          <p:nvPr/>
        </p:nvSpPr>
        <p:spPr>
          <a:xfrm>
            <a:off x="385776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9966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лыбающееся лицо 6"/>
          <p:cNvSpPr/>
          <p:nvPr/>
        </p:nvSpPr>
        <p:spPr>
          <a:xfrm>
            <a:off x="5643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лыбающееся лицо 8"/>
          <p:cNvSpPr/>
          <p:nvPr/>
        </p:nvSpPr>
        <p:spPr>
          <a:xfrm>
            <a:off x="7429680" y="4643280"/>
            <a:ext cx="1071360" cy="1143000"/>
          </a:xfrm>
          <a:prstGeom prst="smileyFace">
            <a:avLst>
              <a:gd name="adj" fmla="val -4652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8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2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857160" y="2142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06eb1b220bb"/>
          <p:cNvPicPr/>
          <p:nvPr/>
        </p:nvPicPr>
        <p:blipFill>
          <a:blip r:embed="rId1"/>
          <a:stretch/>
        </p:blipFill>
        <p:spPr>
          <a:xfrm>
            <a:off x="2000160" y="1214280"/>
            <a:ext cx="5357880" cy="53578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g_3" descr="http://moikompas.ru/img/compas/2009-07-14/muzikoterapiya/26721537.jpg"/>
          <p:cNvPicPr/>
          <p:nvPr/>
        </p:nvPicPr>
        <p:blipFill>
          <a:blip r:embed="rId1"/>
          <a:stretch/>
        </p:blipFill>
        <p:spPr>
          <a:xfrm>
            <a:off x="2428920" y="1357200"/>
            <a:ext cx="389736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642960" y="2178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"/>
          <p:cNvSpPr/>
          <p:nvPr/>
        </p:nvSpPr>
        <p:spPr>
          <a:xfrm rot="5400000">
            <a:off x="2083320" y="-440640"/>
            <a:ext cx="5072040" cy="8239320"/>
          </a:xfrm>
          <a:prstGeom prst="foldedCorner">
            <a:avLst>
              <a:gd name="adj" fmla="val 1246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Documents and Settings\Администратор\Рабочий стол\Мои документы\Работа ХР\РАБОТА 2009-2010\ДЕНЬ МУЗЫКИ\НОВОЕ СКАНИРОВАНИЕ\Рисунок1.jpg"/>
          <p:cNvPicPr/>
          <p:nvPr/>
        </p:nvPicPr>
        <p:blipFill>
          <a:blip r:embed="rId1"/>
          <a:stretch/>
        </p:blipFill>
        <p:spPr>
          <a:xfrm>
            <a:off x="5000760" y="1357200"/>
            <a:ext cx="3463920" cy="445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Documents and Settings\Администратор\Рабочий стол\Мои документы\Работа ХР\РАБОТА 2009-2010\МУЗЫКОТЕРАПИЯ\Влиягние музыки на человека\доктор.jpg"/>
          <p:cNvPicPr/>
          <p:nvPr/>
        </p:nvPicPr>
        <p:blipFill>
          <a:blip r:embed="rId2"/>
          <a:stretch/>
        </p:blipFill>
        <p:spPr>
          <a:xfrm>
            <a:off x="1131840" y="1428840"/>
            <a:ext cx="3654360" cy="42148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3214800" y="63579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иложение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Documents and Settings\Администратор\Рабочий стол\Мои документы\Работа ХР\РАБОТА 2009-2010\МУЗЫКОТЕРАПИЯ\Влиягние музыки на человека\солнце.jpg"/>
          <p:cNvPicPr/>
          <p:nvPr/>
        </p:nvPicPr>
        <p:blipFill>
          <a:blip r:embed="rId1"/>
          <a:stretch/>
        </p:blipFill>
        <p:spPr>
          <a:xfrm>
            <a:off x="1714680" y="357120"/>
            <a:ext cx="5500440" cy="5218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343440" y="5344200"/>
            <a:ext cx="85993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1999800"/>
            <a:ext cx="83008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зработка буклета «Музыкальная аптечка», запись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3071880"/>
            <a:ext cx="89726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Администратор\Рабочий стол\Мои документы\Работа ХР\РАБОТА 2009-2010\ДЕНЬ МУЗЫКИ\античная музыу.jpg"/>
          <p:cNvPicPr/>
          <p:nvPr/>
        </p:nvPicPr>
        <p:blipFill>
          <a:blip r:embed="rId1"/>
          <a:srcRect l="42918" t="17386" r="16905" b="44299"/>
          <a:stretch/>
        </p:blipFill>
        <p:spPr>
          <a:xfrm>
            <a:off x="0" y="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9760" y="428400"/>
            <a:ext cx="85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О благотворном влиянии музыки знали давно, еще в глубокой дре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358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Музыкотерапия для детей"/>
          <p:cNvPicPr/>
          <p:nvPr/>
        </p:nvPicPr>
        <p:blipFill>
          <a:blip r:embed="rId1"/>
          <a:stretch/>
        </p:blipFill>
        <p:spPr>
          <a:xfrm>
            <a:off x="2786040" y="2000160"/>
            <a:ext cx="3429000" cy="448956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2680" y="213840"/>
            <a:ext cx="63579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D:\Documents and Settings\Администратор\Рабочий стол\Мои документы\Работа ХР\РАБОТА 2009-2010\МУЗЫКОТЕРАПИЯ\Влиягние музыки на человека\м21.gif"/>
          <p:cNvPicPr/>
          <p:nvPr/>
        </p:nvPicPr>
        <p:blipFill>
          <a:blip r:embed="rId1"/>
          <a:stretch/>
        </p:blipFill>
        <p:spPr>
          <a:xfrm>
            <a:off x="1643040" y="571680"/>
            <a:ext cx="628668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6a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лияние музыки на человека объяс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здействием вибрации зв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:\Documents and Settings\Администратор\Рабочий стол\Мои документы\Работа ХР\РАБОТА 2009-2010\МУЗЫКОТЕРАПИЯ\Влиягние музыки на человека\м23.gif"/>
          <p:cNvPicPr/>
          <p:nvPr/>
        </p:nvPicPr>
        <p:blipFill>
          <a:blip r:embed="rId2"/>
          <a:stretch/>
        </p:blipFill>
        <p:spPr>
          <a:xfrm>
            <a:off x="2209680" y="1285920"/>
            <a:ext cx="5253120" cy="5357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714240" y="285840"/>
            <a:ext cx="807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лассическая музыка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Администратор\Мои документы\Мои рисунки\рок\image02.jpg"/>
          <p:cNvPicPr/>
          <p:nvPr/>
        </p:nvPicPr>
        <p:blipFill>
          <a:blip r:embed="rId1"/>
          <a:srcRect l="0" t="0" r="16124" b="0"/>
          <a:stretch/>
        </p:blipFill>
        <p:spPr>
          <a:xfrm>
            <a:off x="142920" y="2214720"/>
            <a:ext cx="871524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85840" y="433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f4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лов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857160" y="407196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 и т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643800" y="35002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ром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2071800" y="5572080"/>
            <a:ext cx="514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дивидуальное 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Администратор\Мои документы\Мои рисунки\Музыка\music.jpg"/>
          <p:cNvPicPr/>
          <p:nvPr/>
        </p:nvPicPr>
        <p:blipFill>
          <a:blip r:embed="rId1"/>
          <a:srcRect l="0" t="7140" r="0" b="0"/>
          <a:stretch/>
        </p:blipFill>
        <p:spPr>
          <a:xfrm>
            <a:off x="3429000" y="2857680"/>
            <a:ext cx="2786040" cy="25873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81" name="Picture 5" descr="C:\Documents and Settings\Администратор\Мои документы\Мои рисунки\Музыка\kid-playing-piano.jpg"/>
          <p:cNvPicPr/>
          <p:nvPr/>
        </p:nvPicPr>
        <p:blipFill>
          <a:blip r:embed="rId2"/>
          <a:stretch/>
        </p:blipFill>
        <p:spPr>
          <a:xfrm>
            <a:off x="214200" y="1000080"/>
            <a:ext cx="3414960" cy="292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Администратор\Мои документы\Мои рисунки\1296.jpg"/>
          <p:cNvPicPr/>
          <p:nvPr/>
        </p:nvPicPr>
        <p:blipFill>
          <a:blip r:embed="rId3"/>
          <a:stretch/>
        </p:blipFill>
        <p:spPr>
          <a:xfrm>
            <a:off x="6429240" y="1357200"/>
            <a:ext cx="2498760" cy="1992600"/>
          </a:xfrm>
          <a:prstGeom prst="rect">
            <a:avLst/>
          </a:prstGeom>
          <a:ln w="19080">
            <a:solidFill>
              <a:srgbClr val="e46c0a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26:58Z</dcterms:modified>
  <cp:revision>57</cp:revision>
  <dc:subject/>
  <dc:title>Влияние музыки на состояние человека</dc:title>
</cp:coreProperties>
</file>