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0D4C-C315-427B-9297-E4A3CADE071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а: «Значение крови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 4 клас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това Людмила Николаевна, учитель начальных классов «СОШ № 4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1FE1-F42A-41AF-9386-5802F6AF8DF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A97B-13C4-4598-A1E5-3715A0C93D4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кв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в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существи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ающее тему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тор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а прилагатель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вающих интересные признак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еть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 глагол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вающи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я, свойственные данному предм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етвёрт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раз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скрывающая су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ят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ществи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дводящее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8CD9-C86A-4C96-AEFD-792503CA12D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сит питательные ве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абжает клетки кислоро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вает постоянную температуру т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ит вредные ве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ет от вредных микроб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B6C1-27BC-4305-AC1B-927C59C36FE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текстом (стр.33 -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ты на полях стран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 «зна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совершенно новая информа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«не поня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«знал, но забы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BAD7-5CC7-4859-81C5-8BD6B5FBE8B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ритр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йк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омб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BA8E-E35C-42B3-B1B1-D7E4362E4D4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7BD5-FDC8-4903-8DC6-962F551AC7C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CEB3-8F4E-4B88-A8C6-F7616EFD96E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2878-1D44-4028-8E74-9F6CF0ECEB2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D712-F856-4F58-BA55-B995FC3B3D8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9D00-D4A7-4613-8EC8-0E14948B018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41EB-5606-4A21-AEEF-6923AC75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769F-4BF2-4053-AAE4-99A30E3A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7798-AC24-4334-A3E1-0C33445D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CE94-A16D-4F7A-BAC0-30A7F843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FED8-46C7-4D5B-BC7B-66A48257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D21A-C9AD-4EDF-8885-B0197563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CE7D-FB36-4224-BCBF-10C2A2A6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6525-385E-42F7-9ADA-087A8DC4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7903-4CAF-4BA9-8883-4C3C7AC2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09C6-D02B-4244-B871-D4B90EC3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BBF3-1732-4109-B944-A20CE26A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0B76-DC5E-4215-99DA-73384653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238D-3706-4958-AFC4-36E2ED00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8577-E482-443F-A555-4030AE8D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C00B-7DB5-4A83-AC20-5886904A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4F99-308B-484F-971D-2D9813DB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E81C-9D7A-4A47-84F0-A5E0A3CD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F2D7-0733-4C44-8C20-3B4F34F5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6DA2-7AB5-4B00-AD33-F3DFBC15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A037-0745-4DCE-AE27-30EDF2FF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9F69-FF82-4A2F-A492-3466A360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F52A-8F50-4756-AD15-5B85D054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7F15-ED47-458D-9575-EE2DFA20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652D-AAA8-4E79-B07C-C6FB5003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257C-7D74-4192-9D75-751C8698064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BB2C-3E5B-48D3-A854-9B3EFE77F3D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Тема: «Значение крови»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( 4 класс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0920" y="4508640"/>
            <a:ext cx="684216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итова Людмила Николаевна, учитель начальных классов «СОШ № 40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4" descr="6"/>
          <p:cNvPicPr/>
          <p:nvPr/>
        </p:nvPicPr>
        <p:blipFill>
          <a:blip r:embed="rId1"/>
          <a:stretch/>
        </p:blipFill>
        <p:spPr>
          <a:xfrm>
            <a:off x="539640" y="1413000"/>
            <a:ext cx="763272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инквей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рв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– существительно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означающее тему уро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тор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ва прилагательн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крывающих интересные признаки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м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реть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 глагола,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крывающих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йствия, свойственные данному предме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етвёрт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раз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раскрывающая суть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вл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ят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уществительно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подводящее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тог,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ыво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ров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носит питательные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набжает клетки кислородо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держивает постоянную температуру тел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водит вредные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щищает от вредных микроб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абота с текстом (стр.33 -34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меты на полях страни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+ «знаю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«совершенно новая информация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? «не понял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«знал, но забыл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остав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6560" y="1770120"/>
            <a:ext cx="354024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ритр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йк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омб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1"/>
          <a:stretch/>
        </p:blipFill>
        <p:spPr>
          <a:xfrm>
            <a:off x="457200" y="2176560"/>
            <a:ext cx="4038480" cy="33433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Picture 18" descr="1"/>
          <p:cNvPicPr/>
          <p:nvPr/>
        </p:nvPicPr>
        <p:blipFill>
          <a:blip r:embed="rId1"/>
          <a:stretch/>
        </p:blipFill>
        <p:spPr>
          <a:xfrm>
            <a:off x="684360" y="1249200"/>
            <a:ext cx="7991280" cy="5373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8" descr="2"/>
          <p:cNvPicPr/>
          <p:nvPr/>
        </p:nvPicPr>
        <p:blipFill>
          <a:blip r:embed="rId1"/>
          <a:stretch/>
        </p:blipFill>
        <p:spPr>
          <a:xfrm>
            <a:off x="684360" y="1268280"/>
            <a:ext cx="7921440" cy="53262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Picture 4" descr="3"/>
          <p:cNvPicPr/>
          <p:nvPr/>
        </p:nvPicPr>
        <p:blipFill>
          <a:blip r:embed="rId1"/>
          <a:stretch/>
        </p:blipFill>
        <p:spPr>
          <a:xfrm>
            <a:off x="900000" y="1484280"/>
            <a:ext cx="7559640" cy="4967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1" name="Picture 4" descr="4"/>
          <p:cNvPicPr/>
          <p:nvPr/>
        </p:nvPicPr>
        <p:blipFill>
          <a:blip r:embed="rId1"/>
          <a:stretch/>
        </p:blipFill>
        <p:spPr>
          <a:xfrm>
            <a:off x="755640" y="1441440"/>
            <a:ext cx="7416720" cy="49878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4" descr="5"/>
          <p:cNvPicPr/>
          <p:nvPr/>
        </p:nvPicPr>
        <p:blipFill>
          <a:blip r:embed="rId1"/>
          <a:stretch/>
        </p:blipFill>
        <p:spPr>
          <a:xfrm>
            <a:off x="539640" y="1413000"/>
            <a:ext cx="7704360" cy="51814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9:36:40Z</dcterms:created>
  <dc:creator>Vovan</dc:creator>
  <dc:description/>
  <dc:language>en-US</dc:language>
  <cp:lastModifiedBy>LEGION2</cp:lastModifiedBy>
  <dcterms:modified xsi:type="dcterms:W3CDTF">2015-04-22T12:21:43Z</dcterms:modified>
  <cp:revision>6</cp:revision>
  <dc:subject/>
  <dc:title>Тема: «Значение крови» ( 4 класс)</dc:title>
</cp:coreProperties>
</file>