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355A-E2DF-4C3B-9292-3A70433D904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ма: «Значение крови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 4 клас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това Людмила Николаевна, учитель начальных классов «СОШ № 4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DF33-98ED-4FE3-BA34-D5FA9C3A2B5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44EA-3726-4E18-8B72-9564CD5CE4F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кв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ва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существитель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ающее тему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тора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а прилагатель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вающих интересные признак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реть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 глагол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вающи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я, свойственные данному предм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етвёрта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раз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скрывающая суть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ята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ществитель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дводящее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в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B36D-287B-48B2-AE19-A0B419B80B0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сит питательные ве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абжает клетки кислород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ивает постоянную температуру т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ит вредные ве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ает от вредных микроб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8543-447A-4FDC-8CF5-096280454F5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текстом (стр.33 -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ты на полях стран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 «зна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совершенно новая информа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«не поня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«знал, но забы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9035-2069-482B-B2C6-B85F0D9C8C5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ритр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йк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омб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1EE2-BF10-4B99-A396-157FF84F29F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DEE6-C929-4721-983D-C4196C1191F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F9FD-1C53-4058-968C-7AA8B02618C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FE3C-C588-419B-9638-7E63CA52890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248E-37C2-448B-929D-D94AC7A9F2D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FED0-78CD-4FF7-B882-4FB11049F85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0608-822F-47F7-9E5A-05BE03F07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6CE0-8647-41E8-B3D6-A6CE4993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EBF7-6BE3-4482-A7E5-B3B2ACF2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B6E5-3A21-43CB-A468-2E90BB6B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4922-3D90-48A4-A905-F78DE588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B1B9-719D-4C6C-BBEF-20AF90C0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5B49-0665-4A33-A077-93AD0683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00EC-FBFF-41CE-BE39-5651DE86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6035-09F6-449C-9455-16830A22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36D5-431B-42B1-9B06-89EE090B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35FD-4A15-426F-894E-6611256C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F06C-33C4-4B58-BB7E-3F15EB41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73E6-CD5C-415F-9BD7-7AB2B4F1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6678-7CA7-4242-ACB8-2753AD7D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E10F-1B8C-4F96-A2D9-1BFD4837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D1CF-3ABC-418B-80A2-19903865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B8D7-8A05-4F43-82BE-5F5B4E49A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8C71-26B1-4919-A2A4-BE74BE89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EF51-1D37-46AE-A335-3C89AA4B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F836-55D4-41C4-9F8F-D567B9B2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44F3-DE92-44CD-B816-C630E4B8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EF4B-F71B-4BC1-82F7-70D18838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8DF8-2A8C-46CC-AAFB-3C692325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245E-2464-4CFE-A8D4-D17E0322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526A-45ED-40C4-B9AB-6BEB97EC399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7E55-4659-463A-A3D5-9D81ED3B790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Тема: «Значение крови»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( 4 класс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0920" y="4508640"/>
            <a:ext cx="684216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готовил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итова Людмила Николаевна, учитель начальных классов «СОШ № 40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Picture 4" descr="6"/>
          <p:cNvPicPr/>
          <p:nvPr/>
        </p:nvPicPr>
        <p:blipFill>
          <a:blip r:embed="rId1"/>
          <a:stretch/>
        </p:blipFill>
        <p:spPr>
          <a:xfrm>
            <a:off x="539640" y="1413000"/>
            <a:ext cx="763272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инквей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рва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– существительно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означающее тему уро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тора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ва прилагательны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крывающих интересные признаки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м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Треть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3 глагола,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крывающих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йствия, свойственные данному предмет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Четвёрта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раз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раскрывающая суть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вл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ята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уществительно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подводящее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тог,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ывод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ровь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носит питательные веще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набжает клетки кислородо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держивает постоянную температуру тел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водит вредные веще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щищает от вредных микроб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абота с текстом (стр.33 -34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меты на полях страни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+ «знаю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«совершенно новая информация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? «не понял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 «знал, но забыл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остав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6560" y="1770120"/>
            <a:ext cx="354024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аз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ритр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йк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омб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9" descr=""/>
          <p:cNvPicPr/>
          <p:nvPr/>
        </p:nvPicPr>
        <p:blipFill>
          <a:blip r:embed="rId1"/>
          <a:stretch/>
        </p:blipFill>
        <p:spPr>
          <a:xfrm>
            <a:off x="457200" y="2176560"/>
            <a:ext cx="4038480" cy="33433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1" name="Picture 18" descr="1"/>
          <p:cNvPicPr/>
          <p:nvPr/>
        </p:nvPicPr>
        <p:blipFill>
          <a:blip r:embed="rId1"/>
          <a:stretch/>
        </p:blipFill>
        <p:spPr>
          <a:xfrm>
            <a:off x="684360" y="1249200"/>
            <a:ext cx="7991280" cy="53737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8" descr="2"/>
          <p:cNvPicPr/>
          <p:nvPr/>
        </p:nvPicPr>
        <p:blipFill>
          <a:blip r:embed="rId1"/>
          <a:stretch/>
        </p:blipFill>
        <p:spPr>
          <a:xfrm>
            <a:off x="684360" y="1268280"/>
            <a:ext cx="7921440" cy="53262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Picture 4" descr="3"/>
          <p:cNvPicPr/>
          <p:nvPr/>
        </p:nvPicPr>
        <p:blipFill>
          <a:blip r:embed="rId1"/>
          <a:stretch/>
        </p:blipFill>
        <p:spPr>
          <a:xfrm>
            <a:off x="900000" y="1484280"/>
            <a:ext cx="7559640" cy="49672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1" name="Picture 4" descr="4"/>
          <p:cNvPicPr/>
          <p:nvPr/>
        </p:nvPicPr>
        <p:blipFill>
          <a:blip r:embed="rId1"/>
          <a:stretch/>
        </p:blipFill>
        <p:spPr>
          <a:xfrm>
            <a:off x="755640" y="1441440"/>
            <a:ext cx="7416720" cy="49878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Picture 4" descr="5"/>
          <p:cNvPicPr/>
          <p:nvPr/>
        </p:nvPicPr>
        <p:blipFill>
          <a:blip r:embed="rId1"/>
          <a:stretch/>
        </p:blipFill>
        <p:spPr>
          <a:xfrm>
            <a:off x="539640" y="1413000"/>
            <a:ext cx="7704360" cy="51814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09:36:40Z</dcterms:created>
  <dc:creator>Vovan</dc:creator>
  <dc:description/>
  <dc:language>en-US</dc:language>
  <cp:lastModifiedBy>LEGION2</cp:lastModifiedBy>
  <dcterms:modified xsi:type="dcterms:W3CDTF">2015-04-22T12:21:43Z</dcterms:modified>
  <cp:revision>6</cp:revision>
  <dc:subject/>
  <dc:title>Тема: «Значение крови» ( 4 класс)</dc:title>
</cp:coreProperties>
</file>