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F04A-DF01-4BD5-A7CC-A4ACAAA56FA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а: «Значение крови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 4 клас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това Людмила Николаевна, учитель начальных классов «СОШ № 4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8DFE-10C8-4A44-83F7-61FC29A4B24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775C-D0AA-40DB-A66D-0C181E50D7C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кв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в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существи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ающее тему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тор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а прилагатель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вающих интересные признак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еть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 глагол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вающи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я, свойственные данному предм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етвёрт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раз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скрывающая су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ят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ществи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дводящее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CC49-F249-4776-9F49-96E271A19C3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сит питательные ве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абжает клетки кислоро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вает постоянную температуру т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ит вредные ве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ет от вредных микроб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C905-5616-49B1-96B0-D033A986E31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текстом (стр.33 -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ты на полях стран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 «зна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совершенно новая информа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«не поня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«знал, но забы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192B-1AD6-4EB7-932D-8B6A0E9617C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ритр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йк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омб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C87F-35CD-4C8D-8608-FB0FA68A2C3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B39E-A8C9-45BA-93C2-A89393B0713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3237-5E7D-47E5-AC8B-921AA161099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5FE1-7AD2-4638-9BFC-40003F1A1D0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D8F9-628C-43C0-895B-99DC300C077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B03B-7D77-4981-9944-7C6CE982DEE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79F2-F48B-4EDD-A90A-BA745F4B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8927-1989-47FE-AE98-26BC8F1C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6BEA-A91D-4A2A-8029-EF861368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DFDE-5A1A-40F6-B8DB-4DAAE385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727B-4BAD-46DA-A84F-019AF5A4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0F53-ECB7-45E4-8EA1-02AC597D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147F-06A8-4F90-91E7-2D72FFB4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8DB1-7EA4-4A12-A9CB-2966AB76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2B61-5218-4E9A-A5CC-BC4D574D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95FE-81CB-43CA-AA4B-B91178A3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16FC-22E6-4C31-A751-01A82E4C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0D22-F613-480E-A639-A2788D50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795E-C124-4B6E-BA54-E4207E21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D7BE-55A8-441B-BFDA-C1EEBE18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8B4F-9456-4342-A81A-5ECC6569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B592-4EBE-4C79-B62D-A8029925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7A99-ED5F-4C16-B3AF-AF35FCBD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EF66-A8BE-4AA8-BCC2-63E2F6A8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2836-DC76-4D8C-BB39-D2C34F37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B465-ACD4-4F4F-909E-AED5B1D5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5DC8-AFB9-4EF2-8E1C-3F041B57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784B-A03C-425A-A780-3504F48E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D447-AF65-4D71-A35C-E582C5A1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17F6-BDBF-47EA-992A-8B991110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10AE-7FA0-48EA-BE50-61D88E02398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2208-DB7B-43A8-BDCC-DEEF3EAF57C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Тема: «Значение крови»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( 4 класс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0920" y="4508640"/>
            <a:ext cx="684216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итова Людмила Николаевна, учитель начальных классов «СОШ № 40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4" descr="6"/>
          <p:cNvPicPr/>
          <p:nvPr/>
        </p:nvPicPr>
        <p:blipFill>
          <a:blip r:embed="rId1"/>
          <a:stretch/>
        </p:blipFill>
        <p:spPr>
          <a:xfrm>
            <a:off x="539640" y="1413000"/>
            <a:ext cx="763272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инквей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рв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– существительно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означающее тему уро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тор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ва прилагательн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крывающих интересные признаки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м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реть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 глагола,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крывающих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йствия, свойственные данному предме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етвёрт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раз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раскрывающая суть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вл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ят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уществительно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подводящее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тог,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ыво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ров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носит питательные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набжает клетки кислородо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держивает постоянную температуру тел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водит вредные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щищает от вредных микроб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абота с текстом (стр.33 -34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меты на полях страни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+ «знаю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«совершенно новая информация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? «не понял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«знал, но забыл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остав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6560" y="1770120"/>
            <a:ext cx="354024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ритр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йк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омб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1"/>
          <a:stretch/>
        </p:blipFill>
        <p:spPr>
          <a:xfrm>
            <a:off x="457200" y="2176560"/>
            <a:ext cx="4038480" cy="33433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Picture 18" descr="1"/>
          <p:cNvPicPr/>
          <p:nvPr/>
        </p:nvPicPr>
        <p:blipFill>
          <a:blip r:embed="rId1"/>
          <a:stretch/>
        </p:blipFill>
        <p:spPr>
          <a:xfrm>
            <a:off x="684360" y="1249200"/>
            <a:ext cx="7991280" cy="5373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8" descr="2"/>
          <p:cNvPicPr/>
          <p:nvPr/>
        </p:nvPicPr>
        <p:blipFill>
          <a:blip r:embed="rId1"/>
          <a:stretch/>
        </p:blipFill>
        <p:spPr>
          <a:xfrm>
            <a:off x="684360" y="1268280"/>
            <a:ext cx="7921440" cy="53262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Picture 4" descr="3"/>
          <p:cNvPicPr/>
          <p:nvPr/>
        </p:nvPicPr>
        <p:blipFill>
          <a:blip r:embed="rId1"/>
          <a:stretch/>
        </p:blipFill>
        <p:spPr>
          <a:xfrm>
            <a:off x="900000" y="1484280"/>
            <a:ext cx="7559640" cy="4967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1" name="Picture 4" descr="4"/>
          <p:cNvPicPr/>
          <p:nvPr/>
        </p:nvPicPr>
        <p:blipFill>
          <a:blip r:embed="rId1"/>
          <a:stretch/>
        </p:blipFill>
        <p:spPr>
          <a:xfrm>
            <a:off x="755640" y="1441440"/>
            <a:ext cx="7416720" cy="49878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4" descr="5"/>
          <p:cNvPicPr/>
          <p:nvPr/>
        </p:nvPicPr>
        <p:blipFill>
          <a:blip r:embed="rId1"/>
          <a:stretch/>
        </p:blipFill>
        <p:spPr>
          <a:xfrm>
            <a:off x="539640" y="1413000"/>
            <a:ext cx="7704360" cy="51814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9:36:40Z</dcterms:created>
  <dc:creator>Vovan</dc:creator>
  <dc:description/>
  <dc:language>en-US</dc:language>
  <cp:lastModifiedBy>LEGION2</cp:lastModifiedBy>
  <dcterms:modified xsi:type="dcterms:W3CDTF">2015-04-22T12:21:43Z</dcterms:modified>
  <cp:revision>6</cp:revision>
  <dc:subject/>
  <dc:title>Тема: «Значение крови» ( 4 класс)</dc:title>
</cp:coreProperties>
</file>