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F5ED-49FC-4FE8-B396-7EFD24BA3F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: «Значение крови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4 кла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ова Людмила Николаевна, учитель начальных классов «СОШ № 4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656A-0742-41FB-AA60-3C4B9ECC01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66BC-476A-4296-862E-7E3B1C2A7C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в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ающее тему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тор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 прилаг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интересные признак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ть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лагол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, свойственные данному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твёр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крывающая су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водяще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30C8-6F44-40F9-9919-98FCA4B6FB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ит питатель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бжает клетки кислор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ет постоянную температуру т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ит вред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от вредных микро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26F5-5327-4A79-A559-8E03AF50DB0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(стр.33 -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ты на полях ст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«зн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совершенно новая информ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«не поня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«знал, но за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581F-B527-49BA-861B-38DF2ACC742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итр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2DB5-F388-4F9B-ABB2-F5ECA58DC09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0E5E-897A-4C66-A7AE-9F5AE72DE6E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4C71-E9AD-421D-A2D6-BC2A6E6DE86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902B-FA53-47E6-BD3D-F3043D6EA98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75F4-B25D-4F16-8A66-88BAB192524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E7EA-5913-42EA-8233-D60C330FE2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81D-255C-4929-9ECB-E038ADFD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669-7D30-4405-92DE-2D552FFC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B5F-391E-42C3-95F2-7092203C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A1D-96E2-4B8B-9EC7-BDEF7A4A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5606-DD34-40B3-9A89-5B2199E6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D41D-7B90-4528-9EC9-82C175B9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E640-8686-43E2-936F-DF586BB5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B1DC-9F6F-4C34-A596-7134F6DD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3505-6098-4CA7-A673-580CA284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8344-5771-486D-BFDB-4877CF0E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69D3-CDEE-4B60-AC4A-C376401B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6C1E-38D7-4B24-BEFA-57BDB2E8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DBD4-4A0B-432A-A5D0-EC621260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DAAF-65A3-4B83-8D5B-97CF15B1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9937-6E9C-4E6F-9B33-DAA029F1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9B12-A9EE-4B11-B004-C4907570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4BD1-B5B9-4BCE-86E1-564D155B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8F0-382C-4C17-BD0C-2239AAB7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A76-7F86-47B8-846B-CCC80C8D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6FF-BA1B-49FA-A729-74D3AAEA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483-7505-4797-92A7-1546DF03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D9A-5E76-4798-89A7-C2F513B8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CEE-75B6-4F77-BE92-AB54F2D2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1F5-3009-4DFB-84B8-355551E0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61D1-CD2B-4A2F-B15F-594ED136BE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D745-1EB3-473E-876C-7A48E3AD4A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ма: «Значение крови»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( 4 класс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8421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това Людмила Николаевна, учитель начальных классов «СОШ № 40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4" descr="6"/>
          <p:cNvPicPr/>
          <p:nvPr/>
        </p:nvPicPr>
        <p:blipFill>
          <a:blip r:embed="rId1"/>
          <a:stretch/>
        </p:blipFill>
        <p:spPr>
          <a:xfrm>
            <a:off x="539640" y="1413000"/>
            <a:ext cx="763272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 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значающее тему уро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тор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ва прилагатель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интересные признак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еть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 глагола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я, свойственные данному предм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етвёр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ра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раскрывающая сут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я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одводящее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ог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в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ов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носит питатель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абжает клетки кислород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ивает постоянную температуру те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водит вред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щает от вредных микроб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бота с текстом (стр.33 -34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еты на полях стран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«знаю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совершенно новая информац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 «не поня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«знал, но забы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остав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6560" y="1770120"/>
            <a:ext cx="354024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ритр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йк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38480" cy="33433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18" descr="1"/>
          <p:cNvPicPr/>
          <p:nvPr/>
        </p:nvPicPr>
        <p:blipFill>
          <a:blip r:embed="rId1"/>
          <a:stretch/>
        </p:blipFill>
        <p:spPr>
          <a:xfrm>
            <a:off x="684360" y="1249200"/>
            <a:ext cx="7991280" cy="537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2"/>
          <p:cNvPicPr/>
          <p:nvPr/>
        </p:nvPicPr>
        <p:blipFill>
          <a:blip r:embed="rId1"/>
          <a:stretch/>
        </p:blipFill>
        <p:spPr>
          <a:xfrm>
            <a:off x="684360" y="1268280"/>
            <a:ext cx="7921440" cy="5326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4" descr="3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4967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Picture 4" descr="4"/>
          <p:cNvPicPr/>
          <p:nvPr/>
        </p:nvPicPr>
        <p:blipFill>
          <a:blip r:embed="rId1"/>
          <a:stretch/>
        </p:blipFill>
        <p:spPr>
          <a:xfrm>
            <a:off x="755640" y="1441440"/>
            <a:ext cx="7416720" cy="4987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4" descr="5"/>
          <p:cNvPicPr/>
          <p:nvPr/>
        </p:nvPicPr>
        <p:blipFill>
          <a:blip r:embed="rId1"/>
          <a:stretch/>
        </p:blipFill>
        <p:spPr>
          <a:xfrm>
            <a:off x="539640" y="1413000"/>
            <a:ext cx="7704360" cy="51814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9:36:40Z</dcterms:created>
  <dc:creator>Vovan</dc:creator>
  <dc:description/>
  <dc:language>en-US</dc:language>
  <cp:lastModifiedBy>LEGION2</cp:lastModifiedBy>
  <dcterms:modified xsi:type="dcterms:W3CDTF">2015-04-22T12:21:43Z</dcterms:modified>
  <cp:revision>6</cp:revision>
  <dc:subject/>
  <dc:title>Тема: «Значение крови» ( 4 класс)</dc:title>
</cp:coreProperties>
</file>