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DC05-7E23-4834-9AA7-D3E2078777B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а: «Значение крови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4 клас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това Людмила Николаевна, учитель начальных классов «СОШ № 4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CE2F-B426-40B8-9CD9-5BA82D1AA9C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3A64-2EC2-44B8-BC12-EBC5A0E3DAA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кв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в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существ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ающее тему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тор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а прилагатель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вающих интересные признак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еть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глагол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вающи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, свойственные данному предм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етвёрт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ра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крывающая су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ят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ществ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дводящее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6784-7040-46E4-8744-A34445503DE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ит питательные ве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абжает клетки кислоро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вает постоянную температуру т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ит вредные ве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ет от вредных микроб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45C2-1C49-4DB4-8E69-003E8877958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текстом (стр.33 -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ты на полях ст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«зна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совершенно новая информа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«не поня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«знал, но забы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26E0-ABF9-4F24-BBEE-D466938C32B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ритр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йк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омб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7B0E-E57A-4593-BA0C-8E980B8E6FE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38C3-93D9-47E0-A4F5-0DE2BCF36FB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C424-6D66-4ED4-8738-0DC36FBF587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9869-FE71-4C08-9C7E-C22B9E4D653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4698-2C3C-45BB-9018-C8F1B7CADC0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AF83-8FEC-44FE-858C-65B138D7BBD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1652-1755-423F-AF55-D8F090AE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97A8-DB9F-445D-A7AD-6A2BF06A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FE16-6C21-4133-B8DC-FD836D13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90ED-0A5A-46F1-80DF-7E912A04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E2BC-1127-432F-BA4F-42936021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FD52-0FDA-4F30-AA12-9C046107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FD51-41D8-4570-BE4D-35DD4C37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DC53-B788-4508-99B3-FE0DF9D5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0E71-86C0-43DD-A3CA-D0EF8182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353E-33DA-4FF8-8227-A63EE21E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BF9B-964D-45B6-92B0-C5F1F5D4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0B24-7B4B-47DC-B048-C71DB0F2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32F3-C207-44B3-BE9C-49B987BA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3443-2C0A-452D-AB4A-4A5BDD9B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5A2A-CFDF-4883-854F-BC7D4130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B32B-28E1-49E1-B15C-CB4F2C60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70C7-1DA2-4E02-894B-C14493DE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5CE8-1FEA-4E96-A3BD-2238A377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CE44-8B73-488F-8E45-B869D3A8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9CC4-E724-4E06-941E-0082832F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05E-1125-470F-BC82-3AC66BAC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8CC1-EFF7-4DE8-ADF1-6D0A4098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D2BA-2A5B-477C-9472-6532F821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D969-D1AE-4BFE-81F6-3AF81ED3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E955-622B-4A0D-8EED-439DB667947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7BF9-0377-4266-9592-56FAB425F19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Тема: «Значение крови»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( 4 класс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0920" y="4508640"/>
            <a:ext cx="684216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итова Людмила Николаевна, учитель начальных классов «СОШ № 40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4" descr="6"/>
          <p:cNvPicPr/>
          <p:nvPr/>
        </p:nvPicPr>
        <p:blipFill>
          <a:blip r:embed="rId1"/>
          <a:stretch/>
        </p:blipFill>
        <p:spPr>
          <a:xfrm>
            <a:off x="539640" y="1413000"/>
            <a:ext cx="763272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инквей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рв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– существительн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значающее тему уро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тор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ва прилагатель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крывающих интересные признаки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м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реть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 глагола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крывающих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йствия, свойственные данному предм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етвёрт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раз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раскрывающая суть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в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ят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уществительн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подводящее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ог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ыво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ров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носит питательные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набжает клетки кислородо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держивает постоянную температуру тел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водит вредные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щищает от вредных микроб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бота с текстом (стр.33 -34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меты на полях страни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+ «знаю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«совершенно новая информаци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? «не поня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«знал, но забы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остав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6560" y="1770120"/>
            <a:ext cx="354024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ритр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йк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омб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1"/>
          <a:stretch/>
        </p:blipFill>
        <p:spPr>
          <a:xfrm>
            <a:off x="457200" y="2176560"/>
            <a:ext cx="4038480" cy="33433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Picture 18" descr="1"/>
          <p:cNvPicPr/>
          <p:nvPr/>
        </p:nvPicPr>
        <p:blipFill>
          <a:blip r:embed="rId1"/>
          <a:stretch/>
        </p:blipFill>
        <p:spPr>
          <a:xfrm>
            <a:off x="684360" y="1249200"/>
            <a:ext cx="7991280" cy="5373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2"/>
          <p:cNvPicPr/>
          <p:nvPr/>
        </p:nvPicPr>
        <p:blipFill>
          <a:blip r:embed="rId1"/>
          <a:stretch/>
        </p:blipFill>
        <p:spPr>
          <a:xfrm>
            <a:off x="684360" y="1268280"/>
            <a:ext cx="7921440" cy="53262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Picture 4" descr="3"/>
          <p:cNvPicPr/>
          <p:nvPr/>
        </p:nvPicPr>
        <p:blipFill>
          <a:blip r:embed="rId1"/>
          <a:stretch/>
        </p:blipFill>
        <p:spPr>
          <a:xfrm>
            <a:off x="900000" y="1484280"/>
            <a:ext cx="7559640" cy="4967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Picture 4" descr="4"/>
          <p:cNvPicPr/>
          <p:nvPr/>
        </p:nvPicPr>
        <p:blipFill>
          <a:blip r:embed="rId1"/>
          <a:stretch/>
        </p:blipFill>
        <p:spPr>
          <a:xfrm>
            <a:off x="755640" y="1441440"/>
            <a:ext cx="7416720" cy="49878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4" descr="5"/>
          <p:cNvPicPr/>
          <p:nvPr/>
        </p:nvPicPr>
        <p:blipFill>
          <a:blip r:embed="rId1"/>
          <a:stretch/>
        </p:blipFill>
        <p:spPr>
          <a:xfrm>
            <a:off x="539640" y="1413000"/>
            <a:ext cx="7704360" cy="51814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9:36:40Z</dcterms:created>
  <dc:creator>Vovan</dc:creator>
  <dc:description/>
  <dc:language>en-US</dc:language>
  <cp:lastModifiedBy>LEGION2</cp:lastModifiedBy>
  <dcterms:modified xsi:type="dcterms:W3CDTF">2015-04-22T12:21:43Z</dcterms:modified>
  <cp:revision>6</cp:revision>
  <dc:subject/>
  <dc:title>Тема: «Значение крови» ( 4 класс)</dc:title>
</cp:coreProperties>
</file>