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6.gif" ContentType="image/gif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9CBB-765F-40ED-9070-D2B6C9F1A5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Monotype Corsiva"/>
              </a:rPr>
              <a:t>Про возду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E18E-0274-451A-BAE9-399D4E01F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оздух – это смесь раз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4E48-16EE-4CDF-AFCA-94EC2C379F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ой из газов в воздухе самый важны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ри дыхании живые существа поглощ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 воздуха кислород, а выде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CDFA-1667-496C-A2DB-7D1D163ABD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дуем воздушный шарик. Тепе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дохнём воздух из него. Выдохн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Ещё раз вдохнём. Становится всё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руднее вдыхать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ы «выловили» весь воздух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шарика. Если бы внутри ша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сейчас оказалась мышка, 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задохнулась 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DC92-9C4C-4872-93B1-E7CD0EDFCC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ой из газов в воздухе самый важны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ри дыхании живые существа поглощ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 воздуха кислород, а выде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829E-E2B5-4616-AC58-70678B1400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живое давно 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охнулось, если 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ния. И ду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ан, и трави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рохотные водорос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дно ловят углекисл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, он необходим растениям для питания.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щают в воздух кислород. Леса, луга, по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и, сады – все растения на Земле вмес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кислого газа дают нам живительный кисло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вокруг зелени, тем чище возду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845B-2FE0-40F2-B892-DB6A1C674C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тчего загрязняется возду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777D-1939-42E7-8890-1ECBFEE445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бота по учеб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текст на ст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 схему в учебнике (ст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объясните значение сх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обходимо делать, чтобы защитить воздух от загряз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CF6B-4A74-4948-9F56-670D0F5B18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пользование воздуха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39AF-6F0F-4810-A140-87811CA2D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отнести к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766F-D8B7-49E9-9F9B-3EB1ABF443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эти предме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951A-0248-4467-900D-C1F59F2E5E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едметы относятся к живой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ECC6-BF1D-4B32-B548-8FD226B4A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едметы относятся к неживой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A58D-F733-4DFE-B03E-CD79C009AD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лово по первым буквам в названиях предм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C6F6-AD01-4737-84B1-5A626370AC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– прозрачный невидим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й и бесцветн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есомою косы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кутывает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 лесу – густой, душ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хнет свежестью смолист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хнет дубом и соснЛетом он бывает тёпл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ет холодом зим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ей красит сте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лежит на них кайм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 нём не гово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 мы его вдыхае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дь нам необход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7570-381C-4D09-9C5D-A3D6162A44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Помашите ладошками окол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ы ощущаем легкий ветерок –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вижение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A158-C6E6-4C67-B809-FEAD0F3F23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озьмём пустую прозрачную пластиков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бутылку и проверим, что там действ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ичего нет. Если мы опустим бутылку в вод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о увидим, что из горлышка вы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узырьки. Это вода вытесняет воздух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бутылки. Большинство предметов, 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ыглядят пусты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самом де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заполнены  воздух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D9BB-3862-4D2F-93C4-0FAB6EF8A5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FE0-D342-4AFA-A92D-DD388DB1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814-9A34-4BBD-AC27-6A9E00B5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21E-1785-4F5E-95C8-6B44F438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558-487D-4A5E-BAC7-83B55393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37C16-2F81-440F-AED2-474A0416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5A016-1C4C-42B5-A5F1-F219E012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72A1D-28E2-4D94-A864-092C2EA9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30908-C357-4ADF-A03F-A634F1B6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417CF-938B-42A4-90BE-66711B71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AD86D-1A66-48DD-AB48-8A9011F7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87214-4EE7-44C8-ACB4-54653B8E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6DF-424B-4C86-9F5C-FD855963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25CE1-F896-4A8B-A74B-5C4CE7F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CF718-A6AB-4EC2-A4B0-BD5267E2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364ED-1899-4A44-A2DB-4895E114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85722-735B-4253-B901-15CFFAF3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30617-EBCF-491B-97B5-1067EF88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5C6-3195-4B0F-A2A1-E88C1736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5D0-C76D-4532-A58F-454D2839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03C-DCDA-41AE-8153-1C8104D3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E9D-BB6B-4FEC-830F-0CB73990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35D-CA6A-4645-B070-6EEA09D4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6FB-7179-4851-BDB4-D5C6C09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336-8826-4998-82E3-ADB1B1C7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21B8-2742-495D-A2FA-ED152F14A1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5715000"/>
            <a:ext cx="9169560" cy="97776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AA2E-C0AC-4E51-BF5D-17586AC18E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Monotype Corsiva"/>
              </a:rPr>
              <a:t>Про возду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8" name="Picture 5" descr="1"/>
          <p:cNvPicPr/>
          <p:nvPr/>
        </p:nvPicPr>
        <p:blipFill>
          <a:blip r:embed="rId2"/>
          <a:stretch/>
        </p:blipFill>
        <p:spPr>
          <a:xfrm>
            <a:off x="5940360" y="4543560"/>
            <a:ext cx="3000600" cy="2125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здух – это смесь разных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60560" y="2331720"/>
            <a:ext cx="4102200" cy="3559320"/>
          </a:xfrm>
          <a:prstGeom prst="rect">
            <a:avLst/>
          </a:prstGeom>
          <a:ln w="0">
            <a:noFill/>
          </a:ln>
        </p:spPr>
      </p:pic>
      <p:sp>
        <p:nvSpPr>
          <p:cNvPr id="164" name="Овальная выноска 9"/>
          <p:cNvSpPr/>
          <p:nvPr/>
        </p:nvSpPr>
        <p:spPr>
          <a:xfrm>
            <a:off x="395280" y="1628640"/>
            <a:ext cx="3429000" cy="857520"/>
          </a:xfrm>
          <a:prstGeom prst="wedgeEllipseCallout">
            <a:avLst>
              <a:gd name="adj1" fmla="val 45231"/>
              <a:gd name="adj2" fmla="val 158518"/>
            </a:avLst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углекислый газ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ьная выноска 12"/>
          <p:cNvSpPr/>
          <p:nvPr/>
        </p:nvSpPr>
        <p:spPr>
          <a:xfrm>
            <a:off x="5508720" y="1844640"/>
            <a:ext cx="3429000" cy="857160"/>
          </a:xfrm>
          <a:prstGeom prst="wedgeEllipseCallout">
            <a:avLst>
              <a:gd name="adj1" fmla="val -52731"/>
              <a:gd name="adj2" fmla="val 98333"/>
            </a:avLst>
          </a:prstGeom>
          <a:solidFill>
            <a:srgbClr val="99ff66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ьная выноска 13"/>
          <p:cNvSpPr/>
          <p:nvPr/>
        </p:nvSpPr>
        <p:spPr>
          <a:xfrm>
            <a:off x="5435640" y="5661000"/>
            <a:ext cx="3429000" cy="85716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50560" y="1915920"/>
            <a:ext cx="7093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дуем воздушный шарик.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дохнём воздух из него. Выдохн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Ещё раз вдохнём. Становится вс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руднее вдыхать.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ы «выловили» весь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шарика. Если бы внутри шар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ейчас оказалась мышка,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дохнулась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10"/>
          <p:cNvPicPr/>
          <p:nvPr/>
        </p:nvPicPr>
        <p:blipFill>
          <a:blip r:embed="rId2"/>
          <a:stretch/>
        </p:blipFill>
        <p:spPr>
          <a:xfrm>
            <a:off x="111240" y="1628640"/>
            <a:ext cx="1796760" cy="41054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76" name="Text Box 7"/>
          <p:cNvSpPr/>
          <p:nvPr/>
        </p:nvSpPr>
        <p:spPr>
          <a:xfrm>
            <a:off x="-756360" y="5805360"/>
            <a:ext cx="107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Для чего мы проветриваем комна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живое давно 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охнулось, если 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стения. И ду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ан, и трави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рохотные водоро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дно ловят углекис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, он необходим растениям для питания.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ют в воздух кислород. Леса, луга, по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ки, сады – все растения на Земле в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екислого газа дают нам живительный кисл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вокруг зелени, тем чище возду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2"/>
          <p:cNvPicPr/>
          <p:nvPr/>
        </p:nvPicPr>
        <p:blipFill>
          <a:blip r:embed="rId1"/>
          <a:stretch/>
        </p:blipFill>
        <p:spPr>
          <a:xfrm>
            <a:off x="4643280" y="189000"/>
            <a:ext cx="4287960" cy="325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чего загрязняется возду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2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88" name="Picture 5" descr="13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89" name="Picture 6" descr="14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0" name="Picture 7" descr="15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1" name="Picture 11" descr="17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2" name="Picture 10" descr="16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на 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 схему в учебнике (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объясните значение сх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делать, чтобы защитить воздух от загряз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hgk"/>
          <p:cNvPicPr/>
          <p:nvPr/>
        </p:nvPicPr>
        <p:blipFill>
          <a:blip r:embed="rId1"/>
          <a:stretch/>
        </p:blipFill>
        <p:spPr>
          <a:xfrm>
            <a:off x="611280" y="3357720"/>
            <a:ext cx="7961400" cy="24796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ьзование воздуха челове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18"/>
          <p:cNvPicPr/>
          <p:nvPr/>
        </p:nvPicPr>
        <p:blipFill>
          <a:blip r:embed="rId1"/>
          <a:stretch/>
        </p:blipFill>
        <p:spPr>
          <a:xfrm>
            <a:off x="324000" y="1557360"/>
            <a:ext cx="2736720" cy="1811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0" name="Picture 5" descr="20"/>
          <p:cNvPicPr/>
          <p:nvPr/>
        </p:nvPicPr>
        <p:blipFill>
          <a:blip r:embed="rId2"/>
          <a:stretch/>
        </p:blipFill>
        <p:spPr>
          <a:xfrm>
            <a:off x="611280" y="3645000"/>
            <a:ext cx="2176200" cy="2901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1" name="Picture 6" descr="21"/>
          <p:cNvPicPr/>
          <p:nvPr/>
        </p:nvPicPr>
        <p:blipFill>
          <a:blip r:embed="rId3"/>
          <a:stretch/>
        </p:blipFill>
        <p:spPr>
          <a:xfrm>
            <a:off x="3276720" y="2276640"/>
            <a:ext cx="2485800" cy="345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2" name="Picture 7" descr="22"/>
          <p:cNvPicPr/>
          <p:nvPr/>
        </p:nvPicPr>
        <p:blipFill>
          <a:blip r:embed="rId4"/>
          <a:stretch/>
        </p:blipFill>
        <p:spPr>
          <a:xfrm>
            <a:off x="6421320" y="3645000"/>
            <a:ext cx="2052720" cy="2985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3" name="Picture 8" descr="24"/>
          <p:cNvPicPr/>
          <p:nvPr/>
        </p:nvPicPr>
        <p:blipFill>
          <a:blip r:embed="rId5"/>
          <a:stretch/>
        </p:blipFill>
        <p:spPr>
          <a:xfrm>
            <a:off x="6012000" y="1628640"/>
            <a:ext cx="2879640" cy="180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ельзя отнести к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"/>
          <p:cNvPicPr/>
          <p:nvPr/>
        </p:nvPicPr>
        <p:blipFill>
          <a:blip r:embed="rId1"/>
          <a:stretch/>
        </p:blipFill>
        <p:spPr>
          <a:xfrm>
            <a:off x="324000" y="1413000"/>
            <a:ext cx="1420560" cy="1726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02" name="Picture 5" descr="4"/>
          <p:cNvPicPr/>
          <p:nvPr/>
        </p:nvPicPr>
        <p:blipFill>
          <a:blip r:embed="rId2"/>
          <a:stretch/>
        </p:blipFill>
        <p:spPr>
          <a:xfrm>
            <a:off x="7020000" y="1413000"/>
            <a:ext cx="1800000" cy="1523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3" name="Picture 6" descr="5"/>
          <p:cNvPicPr/>
          <p:nvPr/>
        </p:nvPicPr>
        <p:blipFill>
          <a:blip r:embed="rId3"/>
          <a:stretch/>
        </p:blipFill>
        <p:spPr>
          <a:xfrm>
            <a:off x="2340000" y="1341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4" name="Picture 7" descr="6"/>
          <p:cNvPicPr/>
          <p:nvPr/>
        </p:nvPicPr>
        <p:blipFill>
          <a:blip r:embed="rId4"/>
          <a:stretch/>
        </p:blipFill>
        <p:spPr>
          <a:xfrm>
            <a:off x="250920" y="3645000"/>
            <a:ext cx="1727280" cy="15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5" name="Picture 9" descr="7"/>
          <p:cNvPicPr/>
          <p:nvPr/>
        </p:nvPicPr>
        <p:blipFill>
          <a:blip r:embed="rId5"/>
          <a:stretch/>
        </p:blipFill>
        <p:spPr>
          <a:xfrm>
            <a:off x="5148360" y="1916280"/>
            <a:ext cx="165708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6" name="Picture 11" descr="8"/>
          <p:cNvPicPr/>
          <p:nvPr/>
        </p:nvPicPr>
        <p:blipFill>
          <a:blip r:embed="rId6"/>
          <a:stretch/>
        </p:blipFill>
        <p:spPr>
          <a:xfrm>
            <a:off x="7236000" y="3860640"/>
            <a:ext cx="156816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7" name="Picture 12" descr="9"/>
          <p:cNvPicPr/>
          <p:nvPr/>
        </p:nvPicPr>
        <p:blipFill>
          <a:blip r:embed="rId7"/>
          <a:stretch/>
        </p:blipFill>
        <p:spPr>
          <a:xfrm>
            <a:off x="2627280" y="2781360"/>
            <a:ext cx="1584360" cy="1584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08" name="Picture 13" descr="10"/>
          <p:cNvPicPr/>
          <p:nvPr/>
        </p:nvPicPr>
        <p:blipFill>
          <a:blip r:embed="rId8"/>
          <a:stretch/>
        </p:blipFill>
        <p:spPr>
          <a:xfrm>
            <a:off x="4788000" y="4292640"/>
            <a:ext cx="1944720" cy="1458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9" name="Picture 14" descr="11"/>
          <p:cNvPicPr/>
          <p:nvPr/>
        </p:nvPicPr>
        <p:blipFill>
          <a:blip r:embed="rId9"/>
          <a:stretch/>
        </p:blipFill>
        <p:spPr>
          <a:xfrm>
            <a:off x="2340000" y="4869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эти предм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3"/>
          <p:cNvPicPr/>
          <p:nvPr/>
        </p:nvPicPr>
        <p:blipFill>
          <a:blip r:embed="rId1"/>
          <a:stretch/>
        </p:blipFill>
        <p:spPr>
          <a:xfrm>
            <a:off x="250920" y="249228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13" name="Picture 5" descr="5"/>
          <p:cNvPicPr/>
          <p:nvPr/>
        </p:nvPicPr>
        <p:blipFill>
          <a:blip r:embed="rId2"/>
          <a:stretch/>
        </p:blipFill>
        <p:spPr>
          <a:xfrm>
            <a:off x="2124000" y="2565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Picture 7" descr="7"/>
          <p:cNvPicPr/>
          <p:nvPr/>
        </p:nvPicPr>
        <p:blipFill>
          <a:blip r:embed="rId3"/>
          <a:stretch/>
        </p:blipFill>
        <p:spPr>
          <a:xfrm>
            <a:off x="4932360" y="2565360"/>
            <a:ext cx="1657440" cy="16574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5" name="Picture 8" descr="8"/>
          <p:cNvPicPr/>
          <p:nvPr/>
        </p:nvPicPr>
        <p:blipFill>
          <a:blip r:embed="rId4"/>
          <a:stretch/>
        </p:blipFill>
        <p:spPr>
          <a:xfrm>
            <a:off x="7164360" y="2421000"/>
            <a:ext cx="1568520" cy="180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Picture 10" descr="10"/>
          <p:cNvPicPr/>
          <p:nvPr/>
        </p:nvPicPr>
        <p:blipFill>
          <a:blip r:embed="rId5"/>
          <a:stretch/>
        </p:blipFill>
        <p:spPr>
          <a:xfrm>
            <a:off x="2124000" y="472428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17" name="Picture 11" descr="11"/>
          <p:cNvPicPr/>
          <p:nvPr/>
        </p:nvPicPr>
        <p:blipFill>
          <a:blip r:embed="rId6"/>
          <a:stretch/>
        </p:blipFill>
        <p:spPr>
          <a:xfrm>
            <a:off x="4932360" y="4653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18" name="Text Box 16"/>
          <p:cNvSpPr/>
          <p:nvPr/>
        </p:nvSpPr>
        <p:spPr>
          <a:xfrm>
            <a:off x="561960" y="1700280"/>
            <a:ext cx="277452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5026320" y="1700280"/>
            <a:ext cx="313884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3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4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5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6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27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не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31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2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33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34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35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ьте слово по первым буквам в названиях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39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0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41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42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43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44" name="Text Box 9"/>
          <p:cNvSpPr/>
          <p:nvPr/>
        </p:nvSpPr>
        <p:spPr>
          <a:xfrm>
            <a:off x="1476360" y="476280"/>
            <a:ext cx="5977080" cy="764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4431960" y="3349800"/>
            <a:ext cx="44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он бывает тёпл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т холодом зи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иней красит ст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ежит на них кай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 нём не 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мы его вдыхае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едь нам необход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71960" y="260280"/>
            <a:ext cx="522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– прозрачный невидим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ий и бесцветн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есомою косы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кутывае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лесу – густой, душист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свежестью смолис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дубом и со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274211_0"/>
          <p:cNvPicPr/>
          <p:nvPr/>
        </p:nvPicPr>
        <p:blipFill>
          <a:blip r:embed="rId1"/>
          <a:stretch/>
        </p:blipFill>
        <p:spPr>
          <a:xfrm>
            <a:off x="5796000" y="404640"/>
            <a:ext cx="3089160" cy="2318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49" name="Picture 10" descr="0_2f6d_cc2cba91_XL"/>
          <p:cNvPicPr/>
          <p:nvPr/>
        </p:nvPicPr>
        <p:blipFill>
          <a:blip r:embed="rId2"/>
          <a:stretch/>
        </p:blipFill>
        <p:spPr>
          <a:xfrm>
            <a:off x="1116000" y="3429000"/>
            <a:ext cx="2162160" cy="2881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омашите ладошками около ли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Мы ощущаем легкий ветерок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движение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5"/>
          <p:cNvPicPr/>
          <p:nvPr/>
        </p:nvPicPr>
        <p:blipFill>
          <a:blip r:embed="rId2"/>
          <a:stretch/>
        </p:blipFill>
        <p:spPr>
          <a:xfrm>
            <a:off x="2195640" y="4221000"/>
            <a:ext cx="3633840" cy="2021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3280" y="1860480"/>
            <a:ext cx="774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озьмём пустую прозрачную пластиков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у и проверим, что там действ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ичего нет. Если мы опустим бутылку в во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о увидим, что из горлышка вых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узырьки. Это вода вытесняет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и. Большинство предметов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глядят пуст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полнены  воздух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ab-02"/>
          <p:cNvPicPr/>
          <p:nvPr/>
        </p:nvPicPr>
        <p:blipFill>
          <a:blip r:embed="rId1"/>
          <a:stretch/>
        </p:blipFill>
        <p:spPr>
          <a:xfrm>
            <a:off x="5435640" y="4581360"/>
            <a:ext cx="3476520" cy="2089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59" name="Picture 5" descr="Рисунок1"/>
          <p:cNvPicPr/>
          <p:nvPr/>
        </p:nvPicPr>
        <p:blipFill>
          <a:blip r:embed="rId2"/>
          <a:stretch/>
        </p:blipFill>
        <p:spPr>
          <a:xfrm>
            <a:off x="6300720" y="260280"/>
            <a:ext cx="2286000" cy="165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7"/>
          <p:cNvPicPr/>
          <p:nvPr/>
        </p:nvPicPr>
        <p:blipFill>
          <a:blip r:embed="rId3"/>
          <a:stretch/>
        </p:blipFill>
        <p:spPr>
          <a:xfrm>
            <a:off x="395280" y="1916280"/>
            <a:ext cx="824040" cy="208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5:47:06Z</dcterms:created>
  <dc:creator>мама</dc:creator>
  <dc:description/>
  <dc:language>en-US</dc:language>
  <cp:lastModifiedBy>LEGION2</cp:lastModifiedBy>
  <dcterms:modified xsi:type="dcterms:W3CDTF">2015-04-22T13:05:05Z</dcterms:modified>
  <cp:revision>6</cp:revision>
  <dc:subject/>
  <dc:title>Слайд 1</dc:title>
</cp:coreProperties>
</file>