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27C-996F-4837-ACC7-1E3B8916D6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DAAB-5CB7-4324-B66E-20294B8A0B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СТЬ СОЗНАН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CFBB-EB96-4E5C-8AA7-F3535B0491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мещение теософической и Агни-Йогически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миуровне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рехуровневую мод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FBE3-2543-4577-898B-227935150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66CF-DE6F-4483-BBEC-1535CBA6EB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09FE-1785-4D8F-96CF-075754AA5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нонс раб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гни Йога, Братство, Ч.1, 4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316-683E-4510-BAEA-AD16B6328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9C6F-2489-466C-9282-8D9F90282B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D270-A535-470F-9186-A55EE5CBC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1B76-5331-4A7D-A312-51F26C20E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к что верно 7-3-11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1CE7-218D-430B-B776-33A14517D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мертная триа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24B0-17E1-49B4-AC0E-7C1888F47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8E43-B18E-4140-AFF8-977EBADDF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софическая тради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Физическое т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Эфирный двойник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ра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Ка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Мана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Будд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Ат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027-0C3A-4795-A24A-C760D112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A5B-C748-47D1-82CD-320F44D6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E77-6C8A-415B-A3F8-1D7AB61A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730-ED38-423F-9053-F71D83CE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011-7B55-4E28-A238-52A86A7F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A28F-5F8A-423C-81DA-B7B2C59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0A34-6DE7-4F5E-AA34-DFDA2446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06C3-178A-4E4B-9D98-27B54AD6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5C3E-CC6C-48E4-B155-856FD39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50CE-4D9B-4874-8404-C78E11CD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515F-1DCF-4342-A31A-4997E7BA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1E7-D9D5-4F09-B7FD-F62A57C8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28E6-0B6D-4068-A562-8D6889FE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C4E4-9065-4809-89FF-3F3AA77E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1B11-B319-4E03-AC05-014F720D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F4E9-C29F-420E-AEF0-17575B35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1D25-BDCE-48C7-AE74-A8A2F888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01B-D1E7-4040-A89A-7182936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FCE-2BCF-49A5-A8B0-83D0C343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549-7625-49D7-B647-48B05BFE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911-7E74-444B-8301-A0288DD1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2EC-2086-4228-A962-100EBA8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E19-B590-470C-A10A-E975BB10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652-CE99-4E47-9441-EE78C64D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F1B1-3AB7-491C-8F30-2DDCE918B90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A83C-645F-46FA-9CA4-6986DF96650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1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2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4" descr="2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_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1" descr="1_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m_orif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5" descr="Фото М. В. Нестеров. Троица Ветхозаветна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LEGION</cp:lastModifiedBy>
  <dcterms:modified xsi:type="dcterms:W3CDTF">2014-11-11T07:57:02Z</dcterms:modified>
  <cp:revision>46</cp:revision>
  <dc:subject/>
  <dc:title>COIN Project: lessons learned during the first year of the project</dc:title>
</cp:coreProperties>
</file>