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C773-790E-415A-9A77-EAD0527DAA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3B01-B26D-4077-90E8-1A8C61F33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СТЬ СОЗНАН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85A2-AE6B-4F14-B06E-6A7263E77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мещение теософической и Агни-Йогически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миуровне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трехуровневую мод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40F-6572-4C77-83D9-398E54A5E4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D34E-A179-4B96-95F8-DEFA4ACC89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 (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(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3DBC-E74B-448D-8A58-E472F917A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нонс раб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гни Йога, Братство, Ч.1, 4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76D2-10A6-449B-827F-5074E21DF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2C9F-AA87-4FB1-A976-6961E71BAD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61A2-8731-4B80-A79E-40561DAF2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D0F2-9779-463B-9C28-089CF860E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к что верно 7-3-11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A09-3EC0-4F3D-A2B0-697278DA6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ановка 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мертная триа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6E6-C14E-4357-924C-F069C4369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D1D-4045-4168-8725-CFB1781CE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софическая тради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Физическое т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Эфирный двойник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ран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Ка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Манас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Буддх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Атм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5A7-5895-4A68-926B-4353B3A4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15A-D4C1-4868-AACA-363183D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8B3-6CCC-4377-84A5-71198885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52C-6560-4511-BCBB-7635EB91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B61-B33F-4F95-AA27-A6DA9182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9A45-8238-414C-BC0F-0E346C69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73F4-E2BC-43E1-9D55-152056A8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31AA-7E06-409F-8410-BB0A88B8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6D1-954B-4628-B55C-5AD1C998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3F17-B5F8-4FAB-BCF9-2DB7047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C253-3583-45B0-AABA-A6AC403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E07-B398-4525-9208-7E67BAE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447E-C5B8-4B5B-B7FD-AC16EB70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143-C989-4D5A-BA20-3980BE35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C22B-1FB7-4577-B54F-BEF327A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E258-1035-4558-A428-CA874D0D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C47-3C99-4346-8391-4856CB80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0F4-7DD2-4482-A327-C7F736E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189-0EDA-41B7-B88C-7F9241C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04D-C087-41F5-9F3A-C126E109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185-2DFE-4491-941F-6526C28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5A0-4F75-4745-9EDE-C345858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48D-3323-40F8-997A-73E78528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8A6-20AD-4249-9E47-5F3B503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4C23-B7D4-4F45-9AD6-D195E1E607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23D2-3F59-420F-922C-F77BC912BDC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1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2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4" descr="2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_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1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1" descr="1_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m_orif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Picture 5" descr="Фото М. В. Нестеров. Троица Ветхозаветна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LEGION</cp:lastModifiedBy>
  <dcterms:modified xsi:type="dcterms:W3CDTF">2014-11-11T07:57:02Z</dcterms:modified>
  <cp:revision>46</cp:revision>
  <dc:subject/>
  <dc:title>COIN Project: lessons learned during the first year of the project</dc:title>
</cp:coreProperties>
</file>