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EB06-1EA0-42C8-AF1B-59EBFA41E5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29EB-509D-4419-B1FE-1EFF4D7EC9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МЕРНОСТЬ СОЗНАНИЯ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7600-2596-4CD6-84F1-024580FEC5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мещение теософической и Агни-Йогический пози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Философский язык Живот Этики – Агни Йоги, конечно, не лишен восточной терминологии и оригинальной стилистики по сравнению с теософией. Однако по многим своим параметрам он оказался проще и доступнее языка теософского текста 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века. Так, в частности, теософска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емиуровне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нтологических паттернов космической реальности в Живой Этике трансформируется в более простую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трехуровневую мод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и уровни реальности называются «Плотный мир», «Тонкий мир» и «Огненный мир»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Р.Абле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4E30-D824-4A69-8D80-10B45DF678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бъединения многомерности сознания разных традиций 7 + 4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0F3A-64CB-411E-9EE2-600CFEA351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ы (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в данной статье сводится воедино современная физическая картина мира (многомерность сознания) с древняя эзотерической доктриной. Решение этого внешнего противоречия пока является теоретическим и ждет проверки практикой. Хотя в приложении к сознанию это будет сделать крайне трудно. Но, тем не менее, гипотеза есть. Пусть это будет малым приближением в осмыслении великого понятия Сознания, которое ведет человечество в эволюцию. Ведь не даром сказано, что «Это есть ЕДИНАЯ ЖИЗНЬ, вечная, невидимая и, в то же время, вездесущая, без начала и конца, но периодичная в своих регулярных проявлениях, между которыми царствует мрак тайны Не-Бытия; несознательное, вместе с тем Абсолютное Сознание, непостижимая, тем не менее, единая самосущая Реальность; истинно, Хаос для чувств, Космос для разума. На эзотерическом языке ее единое абсолютное свойство, вечно непрекращающееся Движение, называется Великим Дыханием, и является непрестанным движением Вселенной в смысле беспредельного, вечносущего Пространства. То, что лишено движения не может быть Божественным. Но фактически и в действительности нет ничего абсолютно неподвижного во Вселенской Душе». Е.П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ы (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Придет время, когда скрытые тайны природы и Высшее знание, находящееся ныне в обладании Великих Учителей, станут доступными массам. К этому ведут человечество те, кто идет впереди, непосредственно руководимые Владыками Света. И конечно, и прежде всего Сами Великие Учителя, время от времени приходящие на Землю и живущие среди людей. Цель их одна – дать людям знание, и притом так, чтобы они им не злоупотребили. Опасность этого злоупотребления велика. Могут уничтожить Землю. Потому путями непосредственного познавания Ведем лишь немногих избранных, проверенных и испытанных на протяжении тысячелетий совместной работы. Только им Доверяем и Будем давать через них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рани Агни Йоги 1957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E2C7-9C47-4854-872E-8185D63105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нонс рабо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анализированы древнейшие теории состава человека и его сознания, а также современные физические теории.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гументирована гипотеза  объединения эзотерической и современной физической картины м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посильный вклад в приближение к выполнению завета Агни Йоги о том, чт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древние символы знания должны превратиться в научные формулы»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гни Йога, Братство, Ч.1, 42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92BE-E822-4726-A441-EE72320A3D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4628-ECF7-4F95-B88C-A6E9337B4B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становка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289B-2EAB-4ACF-BDC8-E2743754C6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3957-5DD8-4317-A4B9-1A2113E336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ак что верно 7-3-11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9F79-6FF6-4B44-8B07-E0EC1576E7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становка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смертная триа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A690-2897-4B36-87EB-DB4D4B9CCD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BD93-9488-4DCE-960C-DD83612C49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софическая традиц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яснения Е.И.Рерих Том III (1935 г.). «К семеричному подразделению тела челове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1. Физическое т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 Эфирный двойник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ываемый низшим астральным телом). Многие феномены на спиритических сеансах совершаются при помощи, именно, эфирного двойника медиу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Пран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жизненный принцип, нераздельный от всех проявлений в Космо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4. Кам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животная душа (или высшее астральное тело, через которое проявляется желание в двух аспектах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Кама-Манас - низший ум или интелл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Кама-Рупа - форма (субъективная форма ментальных и физических желаний и мыслей, или мыслитель в действии).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5. Манас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самосознание или мыслитель (Высший Разу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6. Буддх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духовность, духовная душа - в отличие от человеческо-животной души - проводник, через который проявляется Ат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7. Атм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Дух, или огненное начало, или энергия, разлитая во всем Космос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73A6-F2EA-4D0B-BFDD-E24F88BE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9CE-3C91-4001-BC07-F40559E6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D97E-6FC3-47B6-96C7-7710BFE6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5AB-9BAC-475F-BC53-1E780767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0DDB-8E49-4F03-A2C9-401D9FB8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9143-7C2B-439F-8D58-0E6B8A53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E0BE-118C-4B76-926B-55F99BD0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3FC3-0F3E-46AD-B7DD-0060292C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3C8C-2819-4D0E-B818-5BB610E6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69C5-B473-4D29-B678-44E83E70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31F9-0799-438C-A27C-629A0F55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B52-5E4C-40D6-837D-0BCCD681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5B73-8EFF-4F2F-8C06-D86D657C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7F16-F55B-4193-A275-DDC0E053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03CC-32A8-4D8A-9BAE-96FFBCEA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FEC7-504B-49CA-8684-9E15A69C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105A-5837-49CF-AD5F-D4F54433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A88A-424F-4D1D-899D-BDEF0E4D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D11B-77D8-4DC6-8143-FDAAC149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FB5B-4516-4D10-8CD5-C698DC86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9C16-149A-4572-99C6-8274B035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4580-2342-4441-9682-B6EFB5CD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2E30-0013-41A1-8983-E5C3EB02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89BF-44A4-430F-9E0B-23BE2106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F845-17AF-445E-8048-26CF9307CC5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51F9-EFCF-44D3-85FB-E3471A0BD62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hyperlink" Target="http://ru.wikipedia.org/wiki/&#1060;&#1072;&#1081;&#1083;:Angelsatmamre-trinity-rublev-1410.jp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68482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МНОГОМЕРНОСТЬ СОЗНАНИЯ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564000" y="3049560"/>
            <a:ext cx="353376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58" name="Picture 8" descr="donntu_gerb1"/>
          <p:cNvPicPr/>
          <p:nvPr/>
        </p:nvPicPr>
        <p:blipFill>
          <a:blip r:embed="rId1"/>
          <a:stretch/>
        </p:blipFill>
        <p:spPr>
          <a:xfrm>
            <a:off x="7451640" y="549360"/>
            <a:ext cx="1479600" cy="2087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logo2_new"/>
          <p:cNvPicPr/>
          <p:nvPr/>
        </p:nvPicPr>
        <p:blipFill>
          <a:blip r:embed="rId2"/>
          <a:stretch/>
        </p:blipFill>
        <p:spPr>
          <a:xfrm>
            <a:off x="324000" y="2924280"/>
            <a:ext cx="3095640" cy="24508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0066"/>
                </a:solidFill>
                <a:latin typeface="Arial"/>
              </a:rPr>
              <a:t>Совмещение теософической и Агни-Йогический позиции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Философский язык Живот Этики – Агни Йоги, конечно, не лишен восточной терминологии и оригинальной стилистики по сравнению с теософией. Однако по многим своим параметрам он оказался проще и доступнее языка теософского текста 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 века. Так, в частности, теософская </a:t>
            </a: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семиуровнев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нтологических паттернов космической реальности в Живой Этике трансформируется в более простую </a:t>
            </a: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трехуровневую модель</a:t>
            </a: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и уровни реальности называются «Плотный мир», «Тонкий мир» и «Огненный мир»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Р.Абле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Гипотеза объединения многомерности сознания разных традиций 7 + 4 = 11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3" name="Picture 4" descr="2"/>
          <p:cNvPicPr/>
          <p:nvPr/>
        </p:nvPicPr>
        <p:blipFill>
          <a:blip r:embed="rId1"/>
          <a:stretch/>
        </p:blipFill>
        <p:spPr>
          <a:xfrm>
            <a:off x="4643280" y="1557360"/>
            <a:ext cx="4159440" cy="4680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1_"/>
          <p:cNvPicPr/>
          <p:nvPr/>
        </p:nvPicPr>
        <p:blipFill>
          <a:blip r:embed="rId2"/>
          <a:stretch/>
        </p:blipFill>
        <p:spPr>
          <a:xfrm>
            <a:off x="539640" y="1628640"/>
            <a:ext cx="4160880" cy="4399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423px-Banner_of_Peace_from_the_Roerich_Pact.svg.png"/>
          <p:cNvPicPr/>
          <p:nvPr/>
        </p:nvPicPr>
        <p:blipFill>
          <a:blip r:embed="rId3"/>
          <a:stretch/>
        </p:blipFill>
        <p:spPr>
          <a:xfrm>
            <a:off x="4284720" y="177336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Выводы (1)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в данной статье сводится воедино современная физическая картина мира (многомерность сознания) с древняя эзотерической доктриной. Решение этого внешнего противоречия пока является теоретическим и ждет проверки практикой. Хотя в приложении к сознанию это будет сделать крайне трудно. Но, тем не менее, гипотеза есть. Пусть это будет малым приближением в осмыслении великого понятия Сознания, которое ведет человечество в эволюцию. Ведь не даром сказано, что «Это есть ЕДИНАЯ ЖИЗНЬ, вечная, невидимая и, в то же время, вездесущая, без начала и конца, но периодичная в своих регулярных проявлениях, между которыми царствует мрак тайны Не-Бытия; несознательное, вместе с тем Абсолютное Сознание, непостижимая, тем не менее, единая самосущая Реальность; истинно, Хаос для чувств, Космос для разума. На эзотерическом языке ее единое абсолютное свойство, вечно непрекращающееся Движение, называется Великим Дыханием, и является непрестанным движением Вселенной в смысле беспредельного, вечносущего Пространства. То, что лишено движения не может быть Божественным. Но фактически и в действительности нет ничего абсолютно неподвижного во Вселенской Душе». Е.П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Выводы (2)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Придет время, когда скрытые тайны природы и Высшее знание, находящееся ныне в обладании Великих Учителей, станут доступными массам. К этому ведут человечество те, кто идет впереди, непосредственно руководимые Владыками Света. И конечно, и прежде всего Сами Великие Учителя, время от времени приходящие на Землю и живущие среди людей. Цель их одна – дать людям знание, и притом так, чтобы они им не злоупотребили. Опасность этого злоупотребления велика. Могут уничтожить Землю. Потому путями непосредственного познавания Ведем лишь немногих избранных, проверенных и испытанных на протяжении тысячелетий совместной работы. Только им Доверяем и Будем давать через них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рани Агни Йоги 1957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Анонс работ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Проанализированы древнейшие теории состава человека и его сознания, а также современные физические теории. 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Аргументирована гипотеза  объединения эзотерической и современной физической картины мир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Это посильный вклад в приближение к выполнению завета Агни Йоги о том, что </a:t>
            </a:r>
            <a:r>
              <a:rPr b="1" i="1" lang="ru-RU" sz="2700" spc="-1" strike="noStrike">
                <a:solidFill>
                  <a:srgbClr val="330066"/>
                </a:solidFill>
                <a:latin typeface="Arial"/>
              </a:rPr>
              <a:t>«древние символы знания должны превратиться в научные формулы».</a:t>
            </a:r>
            <a:r>
              <a:rPr b="1" lang="ru-RU" sz="27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Агни Йога, Братство, Ч.1, 42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остановка задач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43848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1"/>
          <p:cNvPicPr/>
          <p:nvPr/>
        </p:nvPicPr>
        <p:blipFill>
          <a:blip r:embed="rId1"/>
          <a:stretch/>
        </p:blipFill>
        <p:spPr>
          <a:xfrm>
            <a:off x="395280" y="189000"/>
            <a:ext cx="4313160" cy="63514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5003640" y="981000"/>
            <a:ext cx="3384720" cy="56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«физическая и психическая реальности имеют неразрывную взаимосвязь и являются лишь частными случаями еще мало осмысленной в своей многомерной сложности интегральной космической Реа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С.Р.Абл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Так что верно 7-3-11 ??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Picture 21" descr="1_"/>
          <p:cNvPicPr/>
          <p:nvPr/>
        </p:nvPicPr>
        <p:blipFill>
          <a:blip r:embed="rId1"/>
          <a:stretch/>
        </p:blipFill>
        <p:spPr>
          <a:xfrm>
            <a:off x="0" y="1628640"/>
            <a:ext cx="3819600" cy="4038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3" descr="423px-Banner_of_Peace_from_the_Roerich_Pact.svg.png"/>
          <p:cNvPicPr/>
          <p:nvPr/>
        </p:nvPicPr>
        <p:blipFill>
          <a:blip r:embed="rId2"/>
          <a:stretch/>
        </p:blipFill>
        <p:spPr>
          <a:xfrm>
            <a:off x="4067280" y="2060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5" descr="m_orif"/>
          <p:cNvPicPr/>
          <p:nvPr/>
        </p:nvPicPr>
        <p:blipFill>
          <a:blip r:embed="rId3"/>
          <a:stretch/>
        </p:blipFill>
        <p:spPr>
          <a:xfrm>
            <a:off x="6516720" y="1700280"/>
            <a:ext cx="2333520" cy="381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7" descr="Angelsatmamre-trinity-rublev-141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1989000"/>
            <a:ext cx="2857320" cy="356256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остановка задач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ессмертная триад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3" name="Picture 5" descr="Фото М. В. Нестеров. Троица Ветхозаветная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8360" y="1557360"/>
            <a:ext cx="7272360" cy="476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423px-Banner_of_Peace_from_the_Roerich_Pact.svg.png"/>
          <p:cNvPicPr/>
          <p:nvPr/>
        </p:nvPicPr>
        <p:blipFill>
          <a:blip r:embed="rId3"/>
          <a:stretch/>
        </p:blipFill>
        <p:spPr>
          <a:xfrm>
            <a:off x="6300720" y="33336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Теософическая традиция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(пояснения Е.И.Рерих Том III (1935 г.). «К семеричному подразделению тела человека»: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1. Физическое те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2. Эфирный двойник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ываемый низшим астральным телом). Многие феномены на спиритических сеансах совершаются при помощи, именно, эфирного двойника медиу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3. Пран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жизненный принцип, нераздельный от всех проявлений в Космо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4. Кам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животная душа (или высшее астральное тело, через которое проявляется желание в двух аспектах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Кама-Манас - низший ум или интелле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Кама-Рупа - форма (субъективная форма ментальных и физических желаний и мыслей, или мыслитель в действии).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5. Мана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самосознание или мыслитель (Высший Разу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6. Буддх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духовность, духовная душа - в отличие от человеческо-животной души - проводник, через который проявляется Ат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7. Атм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Дух, или огненное начало, или энергия, разлитая во всем Космос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8:35:35Z</dcterms:created>
  <dc:creator>Fernando Merello</dc:creator>
  <dc:description/>
  <dc:language>en-US</dc:language>
  <cp:lastModifiedBy>LEGION</cp:lastModifiedBy>
  <dcterms:modified xsi:type="dcterms:W3CDTF">2014-11-11T07:57:02Z</dcterms:modified>
  <cp:revision>46</cp:revision>
  <dc:subject/>
  <dc:title>COIN Project: lessons learned during the first year of the project</dc:title>
</cp:coreProperties>
</file>