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C757-C011-499F-9131-43B42CFF383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МБОУ «Алексее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Прокопьева Л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7E39-755B-4726-91D0-91F4F2987A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воют на рассвете или в сумерках, но не каждый день. Начинается вой с сольного завывания вожака, которое существенно отличается от завывания других членов стаи. Остальные присоединяются чуть позже. Хоровой вой обычно заканчивается тявкающим визгливым л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F9E2-9756-4DE2-BC6C-A35FBB8147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голосовое творчество стаи является признаком общественной жизни. Пристрастие волков к нему имеет эмоциональную основу и обостряет чувство принадлежности к стае. Также это средство общения с другими стаями и отбившимися собрать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14C5-ECCD-4FC1-8014-6A64A03EA0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жак господствует над самцами стаи, а его подруга поддерживает порядок среди волчиц. Вожаки постоянно напоминают своим «подчиненным», кто в стае хозяин: рычат на них, кусают, гоняют и даже сбивают с ног, предпочитая проделывать это на глазах у всей ста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ED18-3263-4C48-A26D-EC0F6663E8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развивает скорость до 56 км/ч, совершает прыжки на 4,8 м. Добычей служит почти любой зверь – от мыши до оленя, но основа рациона – грызуны и зайцеобразные. Хищник очень прожорлив – за один раз он съедает до 8 кг мяса, которого ему хватает на несколько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BDA6-FC20-4AD3-849B-3FC83EA101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созданы для охоты самой природой. Зимой волк на снегу оставляют аккуратную цепочку следов – он ставит заднюю лапу точно за передней. Благодаря такой поступи он может бегать по любой местности и даже по глубокому снегу. Волчица трусит впереди, за ней гуськом, стараясь попасть след в след, тянутся волчата, а позади них старший волк. Пройдет по снежному полю весь выводок, а посмотришь на след - и кажется, что здесь пробежал только один зв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C2FF-E827-4419-92AD-244AD085BF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волка - это зубы. Их в его пасти целых 42. Впереди торчат 4 острых, кривых 5-ти сантиметровых клыка - по два сверху и снизу. Ими волк может прокусить плотную шкуру жертвы. А хищными, или плотоядными, зубами - так называют коренные зубы всех хищников - взрослый волк разгрызает даже бедренную кость ло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A9C7-68A7-4577-918C-8467094E7D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ищет себе пару. В это время самцы становятся непримиримыми. Они громко рычат, шерсть на спине становится дыбом, хвост агрессивно поджат – так  самцы выясняют, кто же из них сильнее. Победителю и суждено продолжить волчий род. Проигравший продолжает поиск самок. Бывает, что один из соперников погибает в жестоком сра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2B58-B727-4AEF-B054-EB16E073D7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и приносят от 3 до 10-13 слепых волчат, прозревающих на 12-13 день. Подросших волчат родители кормят отрыжкой из съеденного мяса, позже - убитой   добычей. В выкармливании волчат принимает участие вся ст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0F76-92BD-4FF3-8F90-53CBD5E364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волки внимательно заботятся о своём потомстве, до 60-80 % щенков погибают в первый год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DC9B-89D2-4E4E-8989-8786C946DB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ь имеет высокоразвитую психику. Отличное чутьё, великолепное зрение и замечательный слух. Иначе быть не может: борьба за существование! Зверь очень хорошо видит и днем и ночью. К особенностям его зрения относится способность замечать даже малейшие следы на снегу, в лесу, на траве и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851C-D2EE-4A13-B968-E1856FD8E9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ий хмурый день хол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– бродит зверь голод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есам, полям он рыщ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ду себе он ищ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ах «серым» он зовё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там достаё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бманет вдруг ли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верит в чуд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ти он ей попался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хвоста чуть не ост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ман – поди узн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от трусишка-за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 нос в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из лап уход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всех добра не жд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ричит: «Ну, погоди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гко ему живё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этот зверь зовё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61FF-30AA-4D2B-90A1-313DF380F4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 - достаточно территориальное существо. Размножающиеся пары, а нередко и стаи, живут оседло на определённых участках, границы которых обозначаются пахучими ме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97CF-2057-40A8-A04E-86EA8BBA17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ах, фольклоре и волшебных сказках волк олицетворяет свирепость, коварство, жестокость, зло, но также храбрость и победу. Кроме того, при определенных обстоятельствах волк мог стать могучим защитником беспомощных созданий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E2BC-E61F-4EDD-99B6-2E3438B294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ристианстве волк – зло, жестокость, хитрость и ересь, дьявол, угрожающий верующим. Лишь святым дана сила любвеобильного убеждения, чтобы приручить дикость свирепого зв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4FA3-0A41-4E02-BC5C-586FD1965C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5F5B-A21C-4D37-B5AA-008D5C38C7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, или серый волк, или обыкновенный волк – хищное  млекопитающее семейства псовых. Ученые уверяют, что волки обитают на Земле уже достаточно давно, произошли они от плотоядных хищников, живших 100 миллионов лет наз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D17E-5E6E-4B89-9DEA-5FD29ECD2E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ть этого хищника? Самое распространённое — Серый или Разбойник. Нередко эти слова стоят рядом. Более современное название — Санитар леса. Как мы видим, оценки противоположные. И на это есть свои прич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8A5A-BFDD-436D-85CB-61A27CBDE0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лков ежегодно погибает очень много лосей, благородных оленей, косуль, кабанов и других животных. Огромный вред наносит хищник, животноводству и охотничьему хозяйству. Но в то же время санитар леса неоценим для экосистемы: он уничтожает больных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E34E-8F11-4A50-B6A6-E6AB06DAAB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принадлежит к семейству псовых. Издали его можно принять за крупную собаку . Вес старого матерого зверя достигает 50 килограммов. А изредка встречаются гиганты до 80 кг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E989-940C-478B-9D03-3184B9287A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хищников в России – около ста тысяч особ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Серая братия обитает повсюду: в тундре, в равнинных лесах, в горах, степях, даже в пустыне. Они живут там, где есть для них еда. По лесам бродят хищники серо-бурого цвета, в тундре они светлые, в горах Азии  живет очень редкий Красный вол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CE6A-3CC9-4C8F-9F92-7D83ADDEA4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 у волков густой, довольно длинный и состоит из двух слоёв, из-за чего иногда животное выглядит крупнее, чем оно есть на самом деле. Первый слой шерсти состоит из жёстких остевых волос, которые отталкивают воду и грязь. Второй слой, называемый подшёрстком, включает в себя водонепроницаемый пух, согревающий живот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B3EC-D748-44A0-9D1A-8F5AC0AB84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й весной или ранним летом пух комочками отслаивается от тела (линька), при этом животные трутся о камни или ветки деревьев ради облегчения эт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F136-D2DE-4C23-ADC5-C6D72CD5A0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31D3-DD2F-4409-9FC6-4724FA4C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3D0-329B-4257-90D6-6D373922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52F1-FAAC-491D-A78E-4BC85392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7C11-5B06-454E-A718-858E29B0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596BD-117E-4D7B-9FBE-8E60D74B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4F1B8-9385-4294-BE96-B73BF46F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9C66D-4D21-4902-B480-A39AF090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2B9EA-FFC9-4A48-8805-FBCCA5A8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17BEA-6E51-474C-8ECE-4C678F02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168F7-967D-4936-82D6-BC45567C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71C37-B52A-46FC-96BC-3840C8F6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796-6334-49F5-81F2-F50C7792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0A55C-D4E9-442A-B983-CF24ADF9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E6649-2FAB-4D8A-88E3-A0EC03F2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BE309-DABC-4BC5-8C73-B4B89038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6D445-52A0-4715-B13F-50CE7B45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C44D3-F8F3-4619-B6A7-D06B6995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9A054-ADD6-4B5A-8C12-6A51A52D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483C9-FF96-428C-8836-4057EB4A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B6F27-C419-4FA8-B97A-C8E5C54A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70CED-806C-471E-8AF7-40F5B844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98465-E716-4E7B-AFCC-1F3D6285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CCB3-10ED-4FC4-87CC-D9A16854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95382-38B0-4F5F-BCBD-578A97AC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6B711-3036-40AB-878A-15D7BAC6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2781D-4763-4A04-87D5-B4765D30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A9E85-E1C9-4069-87C8-7FF25A4F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3CF16-9F75-49D0-B078-C80EEEC3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3923A-4998-49E3-A276-4C790C3D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B320C-277A-4BBB-ADC8-CAB85F26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B4815-E3FB-4C8D-8638-58D08034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B2E02-A6E2-48F7-9891-AEBD6B3D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74395-D035-4B6C-8570-7B2C1C46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5CE-CC9A-42A0-B88E-6210F961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DE37F-F5C9-4D3F-B148-D72FC0BF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94D70-9B93-4B0E-893B-ADA9D7EE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F90B4-6D00-42FB-B83C-FD88701E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2B38C-DED6-4796-BB98-EE988015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F3ECC-333F-49EA-A17D-0ECCA666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7CA82-5373-46AE-BD06-FC5B8160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81D9A-E2BB-4D8A-AD2E-2163BF85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1EC1F-5BFE-4603-B4CA-8B9AD05F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CF1AC-B224-46BA-8978-39BED0AD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06579-0892-4AAE-B296-AC822BB1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69F2-A7D1-4ABB-A9F3-65E93DB2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CFDD3-4866-49E1-98C0-E9E3B8BC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F087C-FE78-4C84-B5D9-C808CB1B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A0D1A-65BF-43FF-AF7E-9F9C64E1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E159C-6E9E-43BA-94BE-D6F9ED71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1AAA6-1437-4CAA-8BF8-0B375589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8EF05-E048-4D38-B416-F5045227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45996-F39D-4F31-A075-5C684F29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942DD-B984-4ED4-9437-B49B9DB6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9A066-A7FA-486E-B799-1EC8EA47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546D5-138E-4949-A9FE-441D0AFF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808D-745A-4AEF-AAE8-FFDE7C2E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1FCE4-7F23-4886-B638-4ED6E42D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0F77B-64C5-409B-A8EF-5E116884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EE462-F696-48F6-B587-95E962C1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2426F-CB69-46DB-A57E-CEFE2158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344F3-BAFF-444A-A4A3-B5EF3433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101C0-EE31-4CD5-845E-E5C08D30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CB0FA-05D0-4682-82C1-59DB5C23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019F3-886A-4282-875A-39E59A65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00A0A-5846-4BA6-AE2D-3F8416AB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2DA53-433B-4D78-B0A0-2DE0A8B7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0A6C-4249-4012-86BF-CBEE8E14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294CA-37D2-4269-8E93-47CA59AF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D7D24-1EFD-4B32-BC07-F84EAD01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1C405-F1C3-4C9F-B386-8350D627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7C4-51BE-49B0-962D-B8F918AA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6B3-ADE2-4FE6-AB9D-BE1F8100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a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fa9d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fa9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3682-2F0C-40A8-83EB-285589DDC4DE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629B-6ED1-401C-BEBC-8255523589B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A3FB-0074-4CC5-A6DC-8880F2B5629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189B-CF01-45FD-9147-CB0D10313987}" type="datetime">
              <a:rPr b="0" lang="ru-RU" sz="1000" spc="-1" strike="noStrike">
                <a:solidFill>
                  <a:srgbClr val="ffffff"/>
                </a:solidFill>
                <a:latin typeface="Tahoma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6d63"/>
            </a:gs>
            <a:gs pos="100000">
              <a:srgbClr val="a5bd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f7164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728778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79b8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8bf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a675e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3847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ac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5750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615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dc3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c6e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9786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c54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6d63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82958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5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897d"/>
                  </a:gs>
                  <a:gs pos="100000">
                    <a:srgbClr val="a5bd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adc3b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4A70-6339-4945-AC64-D7D4708E70A2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E9DC-2B1A-444C-8259-25E9A6063C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a9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99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200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06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a9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fa9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48B6-F68F-40CA-AA03-8CE8DE410AEB}" type="datetime">
              <a:rPr b="0" lang="ru-RU" sz="1000" spc="-1" strike="noStrike">
                <a:solidFill>
                  <a:srgbClr val="000000"/>
                </a:solidFill>
                <a:latin typeface="Tahom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F6D0-8F15-419D-9917-3C1D1762AE0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5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6AC6-B557-43FC-88A3-EDD448ED436D}" type="datetime">
              <a:rPr b="0" lang="ru-RU" sz="1000" spc="-1" strike="noStrike">
                <a:solidFill>
                  <a:srgbClr val="ffffff"/>
                </a:solidFill>
                <a:latin typeface="Tahoma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2589-991C-46EE-8089-7C567C84184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6d63"/>
            </a:gs>
            <a:gs pos="100000">
              <a:srgbClr val="a5bd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1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f7164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728778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879b8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8bf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a675e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96b29e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3847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ac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a5bd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c5750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5615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a5bdac"/>
                </a:gs>
                <a:gs pos="100000">
                  <a:srgbClr val="adc3b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7769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c6e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6b2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9786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647369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05c54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ca092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768c7d"/>
                </a:gs>
                <a:gs pos="100000">
                  <a:srgbClr val="96b2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6d63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8897d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829588"/>
                </a:gs>
                <a:gs pos="100000">
                  <a:srgbClr val="a5bda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5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8897d"/>
                  </a:gs>
                  <a:gs pos="100000">
                    <a:srgbClr val="a5bd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bdac"/>
                  </a:gs>
                  <a:gs pos="100000">
                    <a:srgbClr val="adc3b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2711-BCF3-42A6-AF1B-0528431878B0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3398-C1CA-44F3-A4E4-3AE21D02CBC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428920" y="4643280"/>
            <a:ext cx="640080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Авто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МБОУ «Алексеевская СОШ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74440"/>
                </a:solidFill>
                <a:latin typeface="Times New Roman"/>
                <a:ea typeface="Times New Roman"/>
              </a:rPr>
              <a:t>Прокопьева Л.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Прямоугольник 3" descr=""/>
          <p:cNvPicPr/>
          <p:nvPr/>
        </p:nvPicPr>
        <p:blipFill>
          <a:blip r:embed="rId1"/>
          <a:stretch/>
        </p:blipFill>
        <p:spPr>
          <a:xfrm>
            <a:off x="1779480" y="1182600"/>
            <a:ext cx="5364360" cy="2494080"/>
          </a:xfrm>
          <a:prstGeom prst="rect">
            <a:avLst/>
          </a:prstGeom>
          <a:ln w="0">
            <a:noFill/>
          </a:ln>
        </p:spPr>
      </p:pic>
      <p:sp>
        <p:nvSpPr>
          <p:cNvPr id="4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1"/>
          <p:cNvSpPr/>
          <p:nvPr/>
        </p:nvSpPr>
        <p:spPr>
          <a:xfrm>
            <a:off x="357120" y="857160"/>
            <a:ext cx="4143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воют на рассвете или в сумерках, но не каждый день. Начинается вой с сольного завывания вожака, которое существенно отличается от завывания других членов стаи. Остальные присоединяются чуть позже. Хоровой вой обычно заканчивается тявкающим визгливым л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2" descr="00018529.jpg"/>
          <p:cNvPicPr/>
          <p:nvPr/>
        </p:nvPicPr>
        <p:blipFill>
          <a:blip r:embed="rId1"/>
          <a:stretch/>
        </p:blipFill>
        <p:spPr>
          <a:xfrm>
            <a:off x="5072040" y="1214280"/>
            <a:ext cx="3865680" cy="434340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Прямоугольник 1"/>
          <p:cNvSpPr/>
          <p:nvPr/>
        </p:nvSpPr>
        <p:spPr>
          <a:xfrm>
            <a:off x="4572000" y="78588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ое голосовое творчество стаи является признаком общественной жизни. Пристрастие волков к нему имеет эмоциональную основу и обостряет чувство принадлежности к стае. Также это средство общения с другими стаями и отбившимися собрать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Рисунок 2" descr="00018345.jpg"/>
          <p:cNvPicPr/>
          <p:nvPr/>
        </p:nvPicPr>
        <p:blipFill>
          <a:blip r:embed="rId1"/>
          <a:stretch/>
        </p:blipFill>
        <p:spPr>
          <a:xfrm>
            <a:off x="285840" y="1785960"/>
            <a:ext cx="4114800" cy="321480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2"/>
          <p:cNvSpPr/>
          <p:nvPr/>
        </p:nvSpPr>
        <p:spPr>
          <a:xfrm>
            <a:off x="5286240" y="785880"/>
            <a:ext cx="3857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жак господствует над самцами стаи, а его подруга поддерживает порядок среди волчиц. Вожаки постоянно напоминают своим «подчиненным», кто в стае хозяин: рычат на них, кусают, гоняют и даже сбивают с ног, предпочитая проделывать это на глазах у всей ста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4" descr="Фотографии живой природы &quot;Волки&quot;"/>
          <p:cNvPicPr/>
          <p:nvPr/>
        </p:nvPicPr>
        <p:blipFill>
          <a:blip r:embed="rId1"/>
          <a:stretch/>
        </p:blipFill>
        <p:spPr>
          <a:xfrm>
            <a:off x="357120" y="1714680"/>
            <a:ext cx="4762440" cy="357156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1"/>
          <p:cNvSpPr/>
          <p:nvPr/>
        </p:nvSpPr>
        <p:spPr>
          <a:xfrm>
            <a:off x="285840" y="625320"/>
            <a:ext cx="4071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развивает скорость до 56 км/ч, совершает прыжки на 4,8 м. Добычей служит почти любой зверь – от мыши до оленя, но основа рациона – грызуны и зайцеобразные. Хищник очень прожорлив – за один раз он съедает до 8 кг мяса, которого ему хватает на несколько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http://image.css-nkp.net/images/4570017j.jpg"/>
          <p:cNvPicPr/>
          <p:nvPr/>
        </p:nvPicPr>
        <p:blipFill>
          <a:blip r:embed="rId1"/>
          <a:stretch/>
        </p:blipFill>
        <p:spPr>
          <a:xfrm>
            <a:off x="4606920" y="1714680"/>
            <a:ext cx="4286160" cy="321444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1"/>
          <p:cNvSpPr/>
          <p:nvPr/>
        </p:nvSpPr>
        <p:spPr>
          <a:xfrm>
            <a:off x="214200" y="2887560"/>
            <a:ext cx="892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и созданы для охоты самой природой. Зимой волк на снегу оставляют аккуратную цепочку следов – он ставит заднюю лапу точно за передней. Благодаря такой поступи он может бегать по любой местности и даже по глубокому снегу. Волчица трусит впереди, за ней гуськом, стараясь попасть след в след, тянутся волчата, а позади них старший волк. Пройдет по снежному полю весь выводок, а посмотришь на след - и кажется, что здесь пробежал только один з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 (500x259, 44Kb)"/>
          <p:cNvPicPr/>
          <p:nvPr/>
        </p:nvPicPr>
        <p:blipFill>
          <a:blip r:embed="rId1"/>
          <a:stretch/>
        </p:blipFill>
        <p:spPr>
          <a:xfrm>
            <a:off x="1643040" y="285840"/>
            <a:ext cx="5000760" cy="2590560"/>
          </a:xfrm>
          <a:prstGeom prst="rect">
            <a:avLst/>
          </a:prstGeom>
          <a:ln w="0">
            <a:noFill/>
          </a:ln>
        </p:spPr>
      </p:pic>
      <p:sp>
        <p:nvSpPr>
          <p:cNvPr id="4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Прямоугольник 1"/>
          <p:cNvSpPr/>
          <p:nvPr/>
        </p:nvSpPr>
        <p:spPr>
          <a:xfrm>
            <a:off x="214200" y="42876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жие волка - это зубы. Их в его пасти целых 42. Впереди торчат 4 острых, кривых 5-ти сантиметровых клыка - по два сверху и снизу. Ими волк может прокусить плотную шкуру жертвы. А хищными, или плотоядными, зубами - так называют коренные зубы всех хищников - взрослый волк разгрызает даже бедренную кость л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http://img-fotki.yandex.ru/get/4511/30141762.674/0_7c05a_7867772f_XL"/>
          <p:cNvPicPr/>
          <p:nvPr/>
        </p:nvPicPr>
        <p:blipFill>
          <a:blip r:embed="rId1"/>
          <a:stretch/>
        </p:blipFill>
        <p:spPr>
          <a:xfrm>
            <a:off x="4714920" y="1571760"/>
            <a:ext cx="4143240" cy="37447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1"/>
          <p:cNvSpPr/>
          <p:nvPr/>
        </p:nvSpPr>
        <p:spPr>
          <a:xfrm>
            <a:off x="4786200" y="0"/>
            <a:ext cx="4357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ищет себе пару. В это время самцы становятся непримиримыми. Они громко рычат, шерсть на спине становится дыбом, хвост агрессивно поджат – так  самцы выясняют, кто же из них сильнее. Победителю и суждено продолжить волчий род. Проигравший продолжает поиск самок. Бывает, что один из соперников погибает в жестоком сра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Волк, или серый волк, или обыкновенный волк"/>
          <p:cNvPicPr/>
          <p:nvPr/>
        </p:nvPicPr>
        <p:blipFill>
          <a:blip r:embed="rId1"/>
          <a:stretch/>
        </p:blipFill>
        <p:spPr>
          <a:xfrm>
            <a:off x="214200" y="1571760"/>
            <a:ext cx="4286520" cy="320976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2"/>
          <p:cNvSpPr/>
          <p:nvPr/>
        </p:nvSpPr>
        <p:spPr>
          <a:xfrm>
            <a:off x="5214960" y="857160"/>
            <a:ext cx="3643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ки приносят от 3 до 10-13 слепых волчат, прозревающих на 12-13 день. Подросших волчат родители кормят отрыжкой из съеденного мяса, позже - убитой   добычей. В выкармливании волчат принимает участие вся ст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http://forum.materinstvo.ru/uploads/1206806182/post-40296-1206998163.jpg"/>
          <p:cNvPicPr/>
          <p:nvPr/>
        </p:nvPicPr>
        <p:blipFill>
          <a:blip r:embed="rId1"/>
          <a:stretch/>
        </p:blipFill>
        <p:spPr>
          <a:xfrm>
            <a:off x="0" y="178596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4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Box 1"/>
          <p:cNvSpPr/>
          <p:nvPr/>
        </p:nvSpPr>
        <p:spPr>
          <a:xfrm>
            <a:off x="4572000" y="428616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волки внимательно заботятся о своём потомстве, до 60-80 % щенков погибают в первый год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http://lifeglobe.net/media/entry/1078/image_59.png"/>
          <p:cNvPicPr/>
          <p:nvPr/>
        </p:nvPicPr>
        <p:blipFill>
          <a:blip r:embed="rId1"/>
          <a:stretch/>
        </p:blipFill>
        <p:spPr>
          <a:xfrm>
            <a:off x="214200" y="357120"/>
            <a:ext cx="5248440" cy="394344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1"/>
          <p:cNvSpPr/>
          <p:nvPr/>
        </p:nvSpPr>
        <p:spPr>
          <a:xfrm>
            <a:off x="214200" y="301680"/>
            <a:ext cx="8715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ь имеет высокоразвитую психику. Отличное чутьё, великолепное зрение и замечательный слух. Иначе быть не может: борьба за существование! Зверь очень хорошо видит и днем и ночью. К особенностям его зрения относится способность замечать даже малейшие следы на снегу, в лесу, на траве и на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2" descr="7000_d05c013204_84.252.140.65_36411.jpg"/>
          <p:cNvPicPr/>
          <p:nvPr/>
        </p:nvPicPr>
        <p:blipFill>
          <a:blip r:embed="rId1"/>
          <a:stretch/>
        </p:blipFill>
        <p:spPr>
          <a:xfrm>
            <a:off x="1785960" y="300024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143000" y="333360"/>
            <a:ext cx="507204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ий хмурый день холод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ит – бродит зверь голод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лесам, полям он рыщ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ду себе он ищ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ах «серым» он зовётс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му там достаё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обманет вдруг лис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поверит в чуде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ти он ей попался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хвоста чуть не остал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бман – поди узнай-ка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от трусишка-зай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 нос води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сегда из лап уходи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всех добра не жди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кричит: «Ну, погоди!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гко ему живё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е этот зверь зовётся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аида Торопч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Рисунок 3" descr="24_135370_profile.gif"/>
          <p:cNvPicPr/>
          <p:nvPr/>
        </p:nvPicPr>
        <p:blipFill>
          <a:blip r:embed="rId1"/>
          <a:stretch/>
        </p:blipFill>
        <p:spPr>
          <a:xfrm>
            <a:off x="5211720" y="1139760"/>
            <a:ext cx="3571920" cy="398628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рямоугольник 1"/>
          <p:cNvSpPr/>
          <p:nvPr/>
        </p:nvSpPr>
        <p:spPr>
          <a:xfrm>
            <a:off x="225360" y="292896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 - достаточно территориальное существо. Размножающиеся пары, а нередко и стаи, живут оседло на определённых участках, границы которых обозначаются пахучими ме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Рисунок 2" descr="00018593.jpg"/>
          <p:cNvPicPr/>
          <p:nvPr/>
        </p:nvPicPr>
        <p:blipFill>
          <a:blip r:embed="rId1"/>
          <a:stretch/>
        </p:blipFill>
        <p:spPr>
          <a:xfrm>
            <a:off x="4786200" y="214200"/>
            <a:ext cx="4143600" cy="3237120"/>
          </a:xfrm>
          <a:prstGeom prst="rect">
            <a:avLst/>
          </a:prstGeom>
          <a:ln w="0">
            <a:noFill/>
          </a:ln>
        </p:spPr>
      </p:pic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1"/>
          <p:cNvSpPr/>
          <p:nvPr/>
        </p:nvSpPr>
        <p:spPr>
          <a:xfrm>
            <a:off x="571680" y="857160"/>
            <a:ext cx="4000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фах, фольклоре и волшебных сказках волк олицетворяет свирепость, коварство, жестокость, зло, но также храбрость и победу. Кроме того, при определенных обстоятельствах волк мог стать могучим защитником беспомощных создани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Рисунок 3" descr="6ba316d3b900.png"/>
          <p:cNvPicPr/>
          <p:nvPr/>
        </p:nvPicPr>
        <p:blipFill>
          <a:blip r:embed="rId1"/>
          <a:stretch/>
        </p:blipFill>
        <p:spPr>
          <a:xfrm>
            <a:off x="4572000" y="1285920"/>
            <a:ext cx="4276800" cy="4465440"/>
          </a:xfrm>
          <a:prstGeom prst="rect">
            <a:avLst/>
          </a:prstGeom>
          <a:ln w="0">
            <a:noFill/>
          </a:ln>
        </p:spPr>
      </p:pic>
      <p:sp>
        <p:nvSpPr>
          <p:cNvPr id="4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1"/>
          <p:cNvSpPr/>
          <p:nvPr/>
        </p:nvSpPr>
        <p:spPr>
          <a:xfrm>
            <a:off x="4572000" y="1428840"/>
            <a:ext cx="4071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ристианстве волк – зло, жестокость, хитрость и ересь, дьявол, угрожающий верующим. Лишь святым дана сила любвеобильного убеждения, чтобы приручить дикость свирепого зве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Рисунок 2" descr="10964.jpg"/>
          <p:cNvPicPr/>
          <p:nvPr/>
        </p:nvPicPr>
        <p:blipFill>
          <a:blip r:embed="rId1"/>
          <a:stretch/>
        </p:blipFill>
        <p:spPr>
          <a:xfrm>
            <a:off x="357120" y="1500120"/>
            <a:ext cx="3997440" cy="4267440"/>
          </a:xfrm>
          <a:prstGeom prst="rect">
            <a:avLst/>
          </a:prstGeom>
          <a:ln w="0">
            <a:noFill/>
          </a:ln>
        </p:spPr>
      </p:pic>
      <p:sp>
        <p:nvSpPr>
          <p:cNvPr id="4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Прямоугольник 3" descr=""/>
          <p:cNvPicPr/>
          <p:nvPr/>
        </p:nvPicPr>
        <p:blipFill>
          <a:blip r:embed="rId1"/>
          <a:stretch/>
        </p:blipFill>
        <p:spPr>
          <a:xfrm>
            <a:off x="1000080" y="1182600"/>
            <a:ext cx="7504200" cy="5175360"/>
          </a:xfrm>
          <a:prstGeom prst="rect">
            <a:avLst/>
          </a:prstGeom>
          <a:ln w="0">
            <a:noFill/>
          </a:ln>
        </p:spPr>
      </p:pic>
      <p:sp>
        <p:nvSpPr>
          <p:cNvPr id="4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5286240" y="500040"/>
            <a:ext cx="3857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, или серый волк, или обыкновенный волк – хищное  млекопитающее семейства псовых. Ученые уверяют, что волки обитают на Земле уже достаточно давно, произошли они от плотоядных хищников, живших 100 миллионов лет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http://img1.liveinternet.ru/images/foto/b/1/621/1520621/f_4234735.jpg"/>
          <p:cNvPicPr/>
          <p:nvPr/>
        </p:nvPicPr>
        <p:blipFill>
          <a:blip r:embed="rId1"/>
          <a:stretch/>
        </p:blipFill>
        <p:spPr>
          <a:xfrm>
            <a:off x="0" y="1571760"/>
            <a:ext cx="5054760" cy="328608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1"/>
          <p:cNvSpPr/>
          <p:nvPr/>
        </p:nvSpPr>
        <p:spPr>
          <a:xfrm>
            <a:off x="3857760" y="2143080"/>
            <a:ext cx="5072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ть этого хищника? Самое распространённое — Серый или Разбойник. Нередко эти слова стоят рядом. Более современное название — Санитар леса. Как мы видим, оценки противоположные. И на это есть свои прич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2" descr="00018501.jpg"/>
          <p:cNvPicPr/>
          <p:nvPr/>
        </p:nvPicPr>
        <p:blipFill>
          <a:blip r:embed="rId1"/>
          <a:stretch/>
        </p:blipFill>
        <p:spPr>
          <a:xfrm>
            <a:off x="285840" y="1071720"/>
            <a:ext cx="3165480" cy="4357440"/>
          </a:xfrm>
          <a:prstGeom prst="rect">
            <a:avLst/>
          </a:prstGeom>
          <a:ln w="0">
            <a:noFill/>
          </a:ln>
        </p:spPr>
      </p:pic>
      <p:sp>
        <p:nvSpPr>
          <p:cNvPr id="4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214200" y="1000080"/>
            <a:ext cx="4714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олков ежегодно погибает очень много лосей, благородных оленей, косуль, кабанов и других животных. Огромный вред наносит хищник, животноводству и охотничьему хозяйству. Но в то же время санитар леса неоценим для экосистемы: он уничтожает больных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4" descr="Волк, или серый волк, или обыкновенный волк"/>
          <p:cNvPicPr/>
          <p:nvPr/>
        </p:nvPicPr>
        <p:blipFill>
          <a:blip r:embed="rId1"/>
          <a:stretch/>
        </p:blipFill>
        <p:spPr>
          <a:xfrm>
            <a:off x="5072040" y="1285920"/>
            <a:ext cx="3862440" cy="425916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1"/>
          <p:cNvSpPr/>
          <p:nvPr/>
        </p:nvSpPr>
        <p:spPr>
          <a:xfrm>
            <a:off x="4205160" y="1682640"/>
            <a:ext cx="464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 принадлежит к семейству псовых. Издали его можно принять за крупную собаку . Вес старого матерого зверя достигает 50 килограммов. А изредка встречаются гиганты до 80 кг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Рисунок 2" descr="00018517.jpg"/>
          <p:cNvPicPr/>
          <p:nvPr/>
        </p:nvPicPr>
        <p:blipFill>
          <a:blip r:embed="rId1"/>
          <a:stretch/>
        </p:blipFill>
        <p:spPr>
          <a:xfrm>
            <a:off x="500040" y="1928880"/>
            <a:ext cx="3705120" cy="309564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1"/>
          <p:cNvSpPr/>
          <p:nvPr/>
        </p:nvSpPr>
        <p:spPr>
          <a:xfrm>
            <a:off x="3786120" y="1143000"/>
            <a:ext cx="5072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хищников в России – около ста тысяч ос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стране Серая братия обитает повсюду: в тундре, в равнинных лесах, в горах, степях, даже в пустыне. Они живут там, где есть для них еда. По лесам бродят хищники серо-бурого цвета, в тундре они светлые, в горах Азии  живет очень редкий Красный вол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D:\Мои документы\Рисунки и анимашки\Волк\84124022_0_103d7_612626cb_XL.jpg"/>
          <p:cNvPicPr/>
          <p:nvPr/>
        </p:nvPicPr>
        <p:blipFill>
          <a:blip r:embed="rId1"/>
          <a:srcRect l="4712" t="0" r="18298" b="0"/>
          <a:stretch/>
        </p:blipFill>
        <p:spPr>
          <a:xfrm>
            <a:off x="214200" y="1785960"/>
            <a:ext cx="3500640" cy="301140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1000080" y="428760"/>
            <a:ext cx="7858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 у волков густой, довольно длинный и состоит из двух слоёв, из-за чего иногда животное выглядит крупнее, чем оно есть на самом деле. Первый слой шерсти состоит из жёстких остевых волос, которые отталкивают воду и грязь. Второй слой, называемый подшёрстком, включает в себя водонепроницаемый пух, согревающий живот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2" descr="00018590.jpg"/>
          <p:cNvPicPr/>
          <p:nvPr/>
        </p:nvPicPr>
        <p:blipFill>
          <a:blip r:embed="rId1"/>
          <a:stretch/>
        </p:blipFill>
        <p:spPr>
          <a:xfrm>
            <a:off x="2286000" y="3571920"/>
            <a:ext cx="4714920" cy="314316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"/>
          <p:cNvSpPr/>
          <p:nvPr/>
        </p:nvSpPr>
        <p:spPr>
          <a:xfrm>
            <a:off x="4286160" y="157176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й весной или ранним летом пух комочками отслаивается от тела (линька), при этом животные трутся о камни или ветки деревьев ради облегчения эт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Рисунок 2" descr="78гее54к.jpg"/>
          <p:cNvPicPr/>
          <p:nvPr/>
        </p:nvPicPr>
        <p:blipFill>
          <a:blip r:embed="rId1"/>
          <a:stretch/>
        </p:blipFill>
        <p:spPr>
          <a:xfrm>
            <a:off x="714240" y="1285920"/>
            <a:ext cx="3260880" cy="454356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4:09:09Z</dcterms:created>
  <dc:creator>школа</dc:creator>
  <dc:description/>
  <dc:language>en-US</dc:language>
  <cp:lastModifiedBy>LEGION2</cp:lastModifiedBy>
  <dcterms:modified xsi:type="dcterms:W3CDTF">2015-04-23T07:57:07Z</dcterms:modified>
  <cp:revision>26</cp:revision>
  <dc:subject/>
  <dc:title>Волки.</dc:title>
</cp:coreProperties>
</file>