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8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3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23.jpeg" ContentType="image/jpeg"/>
  <Override PartName="/ppt/media/image18.jpeg" ContentType="image/jpeg"/>
  <Override PartName="/ppt/media/image22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6.jpeg" ContentType="image/jpeg"/>
  <Override PartName="/ppt/media/image14.jpeg" ContentType="image/jpeg"/>
  <Override PartName="/ppt/media/image24.png" ContentType="image/png"/>
  <Override PartName="/ppt/media/image1.png" ContentType="image/png"/>
  <Override PartName="/ppt/media/image2.png" ContentType="image/png"/>
  <Override PartName="/ppt/media/image2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494C7-271A-4EC7-985B-8815D0FDC66B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Автор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учитель начальных класс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МБОУ «Алексеевская СОШ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Прокопьева Л.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10A50-72D0-45A7-974C-482D42F4029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лки воют на рассвете или в сумерках, но не каждый день. Начинается вой с сольного завывания вожака, которое существенно отличается от завывания других членов стаи. Остальные присоединяются чуть позже. Хоровой вой обычно заканчивается тявкающим визгливым ла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0210F-7A25-46EA-A222-8D99BF586DE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лективное голосовое творчество стаи является признаком общественной жизни. Пристрастие волков к нему имеет эмоциональную основу и обостряет чувство принадлежности к стае. Также это средство общения с другими стаями и отбившимися собратья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396D4-46DD-453D-8FF6-BFB2D75D738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жак господствует над самцами стаи, а его подруга поддерживает порядок среди волчиц. Вожаки постоянно напоминают своим «подчиненным», кто в стае хозяин: рычат на них, кусают, гоняют и даже сбивают с ног, предпочитая проделывать это на глазах у всей ста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05AC8-4C57-4BE4-8F93-DA70423E7B7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лк развивает скорость до 56 км/ч, совершает прыжки на 4,8 м. Добычей служит почти любой зверь – от мыши до оленя, но основа рациона – грызуны и зайцеобразные. Хищник очень прожорлив – за один раз он съедает до 8 кг мяса, которого ему хватает на несколько дн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C0C7D-74AA-4F1A-B1CC-3EE6EBA6159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лки созданы для охоты самой природой. Зимой волк на снегу оставляют аккуратную цепочку следов – он ставит заднюю лапу точно за передней. Благодаря такой поступи он может бегать по любой местности и даже по глубокому снегу. Волчица трусит впереди, за ней гуськом, стараясь попасть след в след, тянутся волчата, а позади них старший волк. Пройдет по снежному полю весь выводок, а посмотришь на след - и кажется, что здесь пробежал только один звер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2A1E5-3356-4A3D-95B2-32C29F09771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ужие волка - это зубы. Их в его пасти целых 42. Впереди торчат 4 острых, кривых 5-ти сантиметровых клыка - по два сверху и снизу. Ими волк может прокусить плотную шкуру жертвы. А хищными, или плотоядными, зубами - так называют коренные зубы всех хищников - взрослый волк разгрызает даже бедренную кость ло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1E3D5-D89C-4882-9066-76E59F841AE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лк ищет себе пару. В это время самцы становятся непримиримыми. Они громко рычат, шерсть на спине становится дыбом, хвост агрессивно поджат – так  самцы выясняют, кто же из них сильнее. Победителю и суждено продолжить волчий род. Проигравший продолжает поиск самок. Бывает, что один из соперников погибает в жестоком сражен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5D8A9-1DE8-4975-82F1-6F39297A4A3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ки приносят от 3 до 10-13 слепых волчат, прозревающих на 12-13 день. Подросших волчат родители кормят отрыжкой из съеденного мяса, позже - убитой   добычей. В выкармливании волчат принимает участие вся ста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C8E3A-F63E-4AE8-968F-D56061318D6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тя волки внимательно заботятся о своём потомстве, до 60-80 % щенков погибают в первый год жизн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0C900-FF52-45FA-848E-EDA085DE30D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верь имеет высокоразвитую психику. Отличное чутьё, великолепное зрение и замечательный слух. Иначе быть не может: борьба за существование! Зверь очень хорошо видит и днем и ночью. К особенностям его зрения относится способность замечать даже малейшие следы на снегу, в лесу, на траве и на земл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BB825-062B-4FD3-8713-8B16BB3337A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зимний хмурый день холодн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дит – бродит зверь голодны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лесам, полям он рыщет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еду себе он ищ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казках «серым» он зовётся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ему там достаёт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 обманет вдруг лис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 поверит в чудес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пути он ей попался 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 хвоста чуть не остал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де обман – поди узнай-ка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же вот трусишка-зай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оянно за нос води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всегда из лап уходи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о всех добра не жди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 кричит: «Ну, погоди!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легко ему живёт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же этот зверь зовётся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C0B96-4DDD-46CD-965D-91185CB2A55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лк - достаточно территориальное существо. Размножающиеся пары, а нередко и стаи, живут оседло на определённых участках, границы которых обозначаются пахучими метк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AC046-39E9-46B9-B03B-3BF80EA7CCC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мифах, фольклоре и волшебных сказках волк олицетворяет свирепость, коварство, жестокость, зло, но также храбрость и победу. Кроме того, при определенных обстоятельствах волк мог стать могучим защитником беспомощных созданий.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943A2-5F37-4B84-AD0E-5A599BD0FDD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христианстве волк – зло, жестокость, хитрость и ересь, дьявол, угрожающий верующим. Лишь святым дана сила любвеобильного убеждения, чтобы приручить дикость свирепого звер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291A2-889F-4AAF-B3AF-7080FFDDB4E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F9C67-38D5-4824-BC90-3FA63B8107C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лк, или серый волк, или обыкновенный волк – хищное  млекопитающее семейства псовых. Ученые уверяют, что волки обитают на Земле уже достаточно давно, произошли они от плотоядных хищников, живших 100 миллионов лет наза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A6E63-F1B5-49FA-88CB-05B4C05195A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называть этого хищника? Самое распространённое — Серый или Разбойник. Нередко эти слова стоят рядом. Более современное название — Санитар леса. Как мы видим, оценки противоположные. И на это есть свои причин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1DDCD-D831-47FF-A878-B9334BFCE54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 волков ежегодно погибает очень много лосей, благородных оленей, косуль, кабанов и других животных. Огромный вред наносит хищник, животноводству и охотничьему хозяйству. Но в то же время санитар леса неоценим для экосистемы: он уничтожает больных животны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7DF5F-789C-4E3B-9F0B-8EF62091342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лк принадлежит к семейству псовых. Издали его можно принять за крупную собаку . Вес старого матерого зверя достигает 50 килограммов. А изредка встречаются гиганты до 80 кг!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49B87-5E78-4C44-A46B-CCB82957047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ьше всего хищников в России – около ста тысяч особ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нашей стране Серая братия обитает повсюду: в тундре, в равнинных лесах, в горах, степях, даже в пустыне. Они живут там, где есть для них еда. По лесам бродят хищники серо-бурого цвета, в тундре они светлые, в горах Азии  живет очень редкий Красный вол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EECF2-03F1-46FE-A8F3-8FCF7B4FD13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х у волков густой, довольно длинный и состоит из двух слоёв, из-за чего иногда животное выглядит крупнее, чем оно есть на самом деле. Первый слой шерсти состоит из жёстких остевых волос, которые отталкивают воду и грязь. Второй слой, называемый подшёрстком, включает в себя водонепроницаемый пух, согревающий животно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C7B93-BCDB-48F4-8C8B-A480DC2F0E1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дней весной или ранним летом пух комочками отслаивается от тела (линька), при этом животные трутся о камни или ветки деревьев ради облегчения этого процесс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418E5-EAEB-4485-9965-BD11EE253B4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E13E3-82B0-4AD9-B875-355134BD1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AAB73-5150-4C34-9FF1-2018F9636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0E864-B9EB-40F8-AF0C-8C349D66F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75EDE-3D3C-4E21-9169-D95832D7D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37B7E3-54C2-46E7-86A8-903CAA761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5FF010-FB7F-4361-A82F-E6F84D81B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CCDEED-4C45-45EA-8ACE-C5BF6D1F0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D1033D-A985-49B6-B1CA-42C17A5F2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B1A97B-F6E7-42B0-A700-6385933AA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56FB0A-6320-469F-8F82-EC4C217D2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98B19A-9134-4AE4-998E-06E4A867A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44D7F-77D2-4127-8DDD-2B86AA77D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AF6096-194E-4BBF-9AFD-B40A36BD4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73FCD5-DC36-4D93-A46A-A8021E246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608E2A-C3FC-483A-88E5-DF41A2C8D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2FD8D9-B1DA-45EF-AFDE-F6524C331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2977FC-B49B-4D04-A906-C21A57EAF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9EB1D9-FD4D-4783-8C84-479E2149C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4F4DA3-64B9-4789-A0FD-97571B3D9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913E5A-A441-4E44-AB4E-82B426257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ED4181-D457-44DF-B70D-3C459ECFF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E14F86-AC47-41FD-B289-904444213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41884-6562-4050-A6EC-308407B7F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2F1FE1-E5DA-4D3C-87E8-C1DA5D703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172D7D-BD28-4C7A-9C51-2033A6A9C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4AA143-D05B-4827-8449-A6C3A410D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E41F0A-C757-4A40-B351-E27F80B27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C3A6CA-BD78-471C-BD35-A3B6EB589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9BF39A-FEDE-4CE7-94CB-CC832C4A8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6D34C6-13A0-4B53-AAFC-9C80C9AAF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37259D-A724-4D51-9B17-A7DC567C4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9704D7-EBC9-4AB2-8DBE-23348734B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10E31D-7D2D-448F-99AC-65ED3B7C9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2083B-2EA7-4F75-A4D8-57F414A96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F35EB0-EA6D-4A34-A4DF-27CB4B5CC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199607-F604-4D1E-8D83-669A8BE53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F3A8D2-8C75-4280-ADAA-E76EEF459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4E2953-61A8-455C-9AF9-7096F967E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921CA4-3123-4E2F-997B-86D38A42B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8BD783-779D-45C2-A57D-30946E948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818831-FCBD-44C6-8DCF-B267EAF25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D76ED0-ABD7-4EBC-AB98-F99D7AE51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157208-919B-48E9-A685-D95F59AAD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BF019B-EC25-4843-8145-7653F9382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41ABF-92A2-485A-819A-B2C04510D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0D250A-C9B6-453A-82C9-087B1C2DA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503E38-C069-4467-A620-C61600B6A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D51029-D94E-46ED-9CD9-15E036A50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0A8749-2353-4EFD-AD72-382D1CB5D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A33F6C-5D1D-452F-AED2-CEEC06B68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4F981C-1B1A-4B3A-B527-3ED6BFAB0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B512A3-CD03-41CF-81A3-3009F80D8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FF673B-E885-4022-BB7C-8FFB6706B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9CDC30-2421-4032-8610-8E9E85869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0B6919-DA9B-4C5A-81B8-897EE3578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BCD52-E582-4410-8E1D-8584066D2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FCD0E1-A998-4E23-A670-F49E3D50E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754795-00BB-45D4-A1FF-C2036B897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619E2D-AFEA-4B99-85FC-1961BFAC9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F262C4-93C7-47EF-A938-A513C316E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56B958-4955-41A6-9254-C9D0BE15C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DBDB4D-24D6-4277-8081-DD29FD022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D15AB3-7677-40D5-870F-FCAFA7EA0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AEAFAF-34D7-4BA8-BACE-01D2A59DF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B1EFCA-5913-4DBF-B5E9-E367B7D0D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B8FCC1-5D57-425F-9ECA-E7E9C4DB6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9E7B4-C7E7-443F-AEE6-A5EAB6998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07F5C4-AA87-42C3-AFA3-94086FA86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8DEF74-140B-4084-AC57-FB463B41D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F6101C-BD37-498A-AE98-68408796B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079F8-CD40-463E-91BE-E5F845B5E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7E680-0D01-4A2A-AE7C-D96549F2D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fa9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fa9d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fa9d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a9d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fa9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fa9d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0c0c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0c0c0"/>
                  </a:gs>
                  <a:gs pos="50000">
                    <a:srgbClr val="3333cc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0c0c0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0c0c0"/>
                  </a:gs>
                  <a:gs pos="50000">
                    <a:srgbClr val="3333cc"/>
                  </a:gs>
                  <a:gs pos="100000">
                    <a:srgbClr val="c0c0c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26DAF-5032-4FAA-B465-529C40B1A3AA}" type="datetime">
              <a:rPr b="0" lang="ru-RU" sz="1000" spc="-1" strike="noStrike">
                <a:solidFill>
                  <a:srgbClr val="000000"/>
                </a:solidFill>
                <a:latin typeface="Tahoma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1AE06-10B3-4F63-BE64-262AE05609E6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55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 type="sldNum" idx="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8D411-D22D-44FC-B4CE-FEBBD2591533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 type="dt" idx="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66773-A276-474A-929A-CFC7DC85FF90}" type="datetime">
              <a:rPr b="0" lang="ru-RU" sz="1000" spc="-1" strike="noStrike">
                <a:solidFill>
                  <a:srgbClr val="ffffff"/>
                </a:solidFill>
                <a:latin typeface="Tahoma"/>
              </a:rPr>
              <a:t>31.07.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f6d63"/>
            </a:gs>
            <a:gs pos="100000">
              <a:srgbClr val="a5bda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18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5f7164"/>
                </a:gs>
                <a:gs pos="100000">
                  <a:srgbClr val="96b29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647369"/>
                </a:gs>
                <a:gs pos="100000">
                  <a:srgbClr val="a5bda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728778"/>
                </a:gs>
                <a:gs pos="100000">
                  <a:srgbClr val="96b29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96b29e"/>
                </a:gs>
                <a:gs pos="100000">
                  <a:srgbClr val="a5bda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879b8d"/>
                </a:gs>
                <a:gs pos="100000">
                  <a:srgbClr val="a5bda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a5bd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a5bd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78897d"/>
                </a:gs>
                <a:gs pos="100000">
                  <a:srgbClr val="a5bda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a5bd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a5bdac"/>
                </a:gs>
                <a:gs pos="100000">
                  <a:srgbClr val="a8bfa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a5bd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5a675e"/>
                </a:gs>
                <a:gs pos="100000">
                  <a:srgbClr val="a5bda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96b29e"/>
                </a:gs>
                <a:gs pos="100000">
                  <a:srgbClr val="a5bda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647769"/>
                </a:gs>
                <a:gs pos="100000">
                  <a:srgbClr val="96b29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38478"/>
                </a:gs>
                <a:gs pos="100000">
                  <a:srgbClr val="a5bda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a5bdac"/>
                </a:gs>
                <a:gs pos="100000">
                  <a:srgbClr val="aac1b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a5bd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c5750"/>
                </a:gs>
                <a:gs pos="100000">
                  <a:srgbClr val="a5bda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56158"/>
                </a:gs>
                <a:gs pos="100000">
                  <a:srgbClr val="a5bda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68c7d"/>
                </a:gs>
                <a:gs pos="100000">
                  <a:srgbClr val="96b29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a5bdac"/>
                </a:gs>
                <a:gs pos="100000">
                  <a:srgbClr val="adc3b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96b2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47769"/>
                </a:gs>
                <a:gs pos="100000">
                  <a:srgbClr val="96b29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697c6e"/>
                </a:gs>
                <a:gs pos="100000">
                  <a:srgbClr val="96b29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96b2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69786d"/>
                </a:gs>
                <a:gs pos="100000">
                  <a:srgbClr val="a5bda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647369"/>
                </a:gs>
                <a:gs pos="100000">
                  <a:srgbClr val="a5bda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8ca092"/>
                </a:gs>
                <a:gs pos="100000">
                  <a:srgbClr val="a5bda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05c54"/>
                </a:gs>
                <a:gs pos="100000">
                  <a:srgbClr val="a5bda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ca092"/>
                </a:gs>
                <a:gs pos="100000">
                  <a:srgbClr val="a5bda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768c7d"/>
                </a:gs>
                <a:gs pos="100000">
                  <a:srgbClr val="96b29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f6d63"/>
                </a:gs>
                <a:gs pos="100000">
                  <a:srgbClr val="a5bda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8897d"/>
                </a:gs>
                <a:gs pos="100000">
                  <a:srgbClr val="a5bda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829588"/>
                </a:gs>
                <a:gs pos="100000">
                  <a:srgbClr val="a5bda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4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55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8897d"/>
                  </a:gs>
                  <a:gs pos="100000">
                    <a:srgbClr val="a5bda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bdac"/>
                  </a:gs>
                  <a:gs pos="100000">
                    <a:srgbClr val="adc3b3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BBC91-E877-4398-BD94-735E6D312434}" type="datetime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C2A72-05B0-4F9B-9BA3-C695D23D6BE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fa9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8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199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200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a9df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a9d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2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0c0c0"/>
                </a:gs>
                <a:gs pos="50000">
                  <a:srgbClr val="3333cc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c0c0c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0c0c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5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206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a9d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fa9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fa9d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0c0c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0c0c0"/>
                  </a:gs>
                  <a:gs pos="50000">
                    <a:srgbClr val="3333cc"/>
                  </a:gs>
                  <a:gs pos="100000">
                    <a:srgbClr val="c0c0c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0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1EECE-8788-4BC9-8947-C7905DE274AC}" type="datetime">
              <a:rPr b="0" lang="ru-RU" sz="1000" spc="-1" strike="noStrike">
                <a:solidFill>
                  <a:srgbClr val="000000"/>
                </a:solidFill>
                <a:latin typeface="Tahoma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1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2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4EC04-B5EC-4FEC-8C34-8F3276E66D2B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3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254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01B73-8251-4F70-9B61-254BBF83EF66}" type="datetime">
              <a:rPr b="0" lang="ru-RU" sz="1000" spc="-1" strike="noStrike">
                <a:solidFill>
                  <a:srgbClr val="ffffff"/>
                </a:solidFill>
                <a:latin typeface="Tahoma"/>
              </a:rPr>
              <a:t>31.07.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FE281-C3F6-45B1-A2FF-47E38D5CE1F5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f6d63"/>
            </a:gs>
            <a:gs pos="100000">
              <a:srgbClr val="a5bda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6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317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5f7164"/>
                </a:gs>
                <a:gs pos="100000">
                  <a:srgbClr val="96b29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647369"/>
                </a:gs>
                <a:gs pos="100000">
                  <a:srgbClr val="a5bda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728778"/>
                </a:gs>
                <a:gs pos="100000">
                  <a:srgbClr val="96b29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96b29e"/>
                </a:gs>
                <a:gs pos="100000">
                  <a:srgbClr val="a5bda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879b8d"/>
                </a:gs>
                <a:gs pos="100000">
                  <a:srgbClr val="a5bda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a5bd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a5bd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78897d"/>
                </a:gs>
                <a:gs pos="100000">
                  <a:srgbClr val="a5bda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a5bd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a5bdac"/>
                </a:gs>
                <a:gs pos="100000">
                  <a:srgbClr val="a8bfa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a5bd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5a675e"/>
                </a:gs>
                <a:gs pos="100000">
                  <a:srgbClr val="a5bda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96b29e"/>
                </a:gs>
                <a:gs pos="100000">
                  <a:srgbClr val="a5bda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647769"/>
                </a:gs>
                <a:gs pos="100000">
                  <a:srgbClr val="96b29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38478"/>
                </a:gs>
                <a:gs pos="100000">
                  <a:srgbClr val="a5bda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a5bdac"/>
                </a:gs>
                <a:gs pos="100000">
                  <a:srgbClr val="aac1b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a5bd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c5750"/>
                </a:gs>
                <a:gs pos="100000">
                  <a:srgbClr val="a5bda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56158"/>
                </a:gs>
                <a:gs pos="100000">
                  <a:srgbClr val="a5bda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68c7d"/>
                </a:gs>
                <a:gs pos="100000">
                  <a:srgbClr val="96b29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a5bdac"/>
                </a:gs>
                <a:gs pos="100000">
                  <a:srgbClr val="adc3b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96b2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47769"/>
                </a:gs>
                <a:gs pos="100000">
                  <a:srgbClr val="96b29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697c6e"/>
                </a:gs>
                <a:gs pos="100000">
                  <a:srgbClr val="96b29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96b2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69786d"/>
                </a:gs>
                <a:gs pos="100000">
                  <a:srgbClr val="a5bda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647369"/>
                </a:gs>
                <a:gs pos="100000">
                  <a:srgbClr val="a5bda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8ca092"/>
                </a:gs>
                <a:gs pos="100000">
                  <a:srgbClr val="a5bda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05c54"/>
                </a:gs>
                <a:gs pos="100000">
                  <a:srgbClr val="a5bda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ca092"/>
                </a:gs>
                <a:gs pos="100000">
                  <a:srgbClr val="a5bda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768c7d"/>
                </a:gs>
                <a:gs pos="100000">
                  <a:srgbClr val="96b29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f6d63"/>
                </a:gs>
                <a:gs pos="100000">
                  <a:srgbClr val="a5bda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8897d"/>
                </a:gs>
                <a:gs pos="100000">
                  <a:srgbClr val="a5bda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829588"/>
                </a:gs>
                <a:gs pos="100000">
                  <a:srgbClr val="a5bda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3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54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8897d"/>
                  </a:gs>
                  <a:gs pos="100000">
                    <a:srgbClr val="a5bda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bdac"/>
                  </a:gs>
                  <a:gs pos="100000">
                    <a:srgbClr val="adc3b3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9EABD-AA8D-47B4-8ED1-62A04C1C9F7D}" type="datetime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BE8C4-9BCF-45CA-A045-B029DC7A3C63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2428920" y="4643280"/>
            <a:ext cx="6400800" cy="149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274440"/>
                </a:solidFill>
                <a:latin typeface="Times New Roman"/>
                <a:ea typeface="Times New Roman"/>
              </a:rPr>
              <a:t>Автор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274440"/>
                </a:solidFill>
                <a:latin typeface="Times New Roman"/>
                <a:ea typeface="Times New Roman"/>
              </a:rPr>
              <a:t>учитель начальных классов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274440"/>
                </a:solidFill>
                <a:latin typeface="Times New Roman"/>
                <a:ea typeface="Times New Roman"/>
              </a:rPr>
              <a:t>МБОУ «Алексеевская СОШ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274440"/>
                </a:solidFill>
                <a:latin typeface="Times New Roman"/>
                <a:ea typeface="Times New Roman"/>
              </a:rPr>
              <a:t>Прокопьева Л.Н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5" name="Прямоугольник 3" descr=""/>
          <p:cNvPicPr/>
          <p:nvPr/>
        </p:nvPicPr>
        <p:blipFill>
          <a:blip r:embed="rId1"/>
          <a:stretch/>
        </p:blipFill>
        <p:spPr>
          <a:xfrm>
            <a:off x="1779480" y="1182600"/>
            <a:ext cx="5364360" cy="2494080"/>
          </a:xfrm>
          <a:prstGeom prst="rect">
            <a:avLst/>
          </a:prstGeom>
          <a:ln w="0">
            <a:noFill/>
          </a:ln>
        </p:spPr>
      </p:pic>
      <p:sp>
        <p:nvSpPr>
          <p:cNvPr id="40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Прямоугольник 1"/>
          <p:cNvSpPr/>
          <p:nvPr/>
        </p:nvSpPr>
        <p:spPr>
          <a:xfrm>
            <a:off x="357120" y="857160"/>
            <a:ext cx="414360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лки воют на рассвете или в сумерках, но не каждый день. Начинается вой с сольного завывания вожака, которое существенно отличается от завывания других членов стаи. Остальные присоединяются чуть позже. Хоровой вой обычно заканчивается тявкающим визгливым лае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2" name="Рисунок 2" descr="00018529.jpg"/>
          <p:cNvPicPr/>
          <p:nvPr/>
        </p:nvPicPr>
        <p:blipFill>
          <a:blip r:embed="rId1"/>
          <a:stretch/>
        </p:blipFill>
        <p:spPr>
          <a:xfrm>
            <a:off x="5072040" y="1214280"/>
            <a:ext cx="3865680" cy="4343400"/>
          </a:xfrm>
          <a:prstGeom prst="rect">
            <a:avLst/>
          </a:prstGeom>
          <a:ln w="0">
            <a:noFill/>
          </a:ln>
        </p:spPr>
      </p:pic>
      <p:sp>
        <p:nvSpPr>
          <p:cNvPr id="4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Прямоугольник 1"/>
          <p:cNvSpPr/>
          <p:nvPr/>
        </p:nvSpPr>
        <p:spPr>
          <a:xfrm>
            <a:off x="4572000" y="785880"/>
            <a:ext cx="45720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лективное голосовое творчество стаи является признаком общественной жизни. Пристрастие волков к нему имеет эмоциональную основу и обостряет чувство принадлежности к стае. Также это средство общения с другими стаями и отбившимися собратья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Рисунок 2" descr="00018345.jpg"/>
          <p:cNvPicPr/>
          <p:nvPr/>
        </p:nvPicPr>
        <p:blipFill>
          <a:blip r:embed="rId1"/>
          <a:stretch/>
        </p:blipFill>
        <p:spPr>
          <a:xfrm>
            <a:off x="285840" y="1785960"/>
            <a:ext cx="4114800" cy="3214800"/>
          </a:xfrm>
          <a:prstGeom prst="rect">
            <a:avLst/>
          </a:prstGeom>
          <a:ln w="0">
            <a:noFill/>
          </a:ln>
        </p:spPr>
      </p:pic>
      <p:sp>
        <p:nvSpPr>
          <p:cNvPr id="43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TextBox 2"/>
          <p:cNvSpPr/>
          <p:nvPr/>
        </p:nvSpPr>
        <p:spPr>
          <a:xfrm>
            <a:off x="5286240" y="785880"/>
            <a:ext cx="385776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жак господствует над самцами стаи, а его подруга поддерживает порядок среди волчиц. Вожаки постоянно напоминают своим «подчиненным», кто в стае хозяин: рычат на них, кусают, гоняют и даже сбивают с ног, предпочитая проделывать это на глазах у всей ста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8" name="Picture 4" descr="Фотографии живой природы &quot;Волки&quot;"/>
          <p:cNvPicPr/>
          <p:nvPr/>
        </p:nvPicPr>
        <p:blipFill>
          <a:blip r:embed="rId1"/>
          <a:stretch/>
        </p:blipFill>
        <p:spPr>
          <a:xfrm>
            <a:off x="357120" y="1714680"/>
            <a:ext cx="4762440" cy="3571560"/>
          </a:xfrm>
          <a:prstGeom prst="rect">
            <a:avLst/>
          </a:prstGeom>
          <a:ln w="0">
            <a:noFill/>
          </a:ln>
        </p:spPr>
      </p:pic>
      <p:sp>
        <p:nvSpPr>
          <p:cNvPr id="43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Прямоугольник 1"/>
          <p:cNvSpPr/>
          <p:nvPr/>
        </p:nvSpPr>
        <p:spPr>
          <a:xfrm>
            <a:off x="285840" y="625320"/>
            <a:ext cx="407196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лк развивает скорость до 56 км/ч, совершает прыжки на 4,8 м. Добычей служит почти любой зверь – от мыши до оленя, но основа рациона – грызуны и зайцеобразные. Хищник очень прожорлив – за один раз он съедает до 8 кг мяса, которого ему хватает на несколько дн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1" name="Picture 4" descr="http://image.css-nkp.net/images/4570017j.jpg"/>
          <p:cNvPicPr/>
          <p:nvPr/>
        </p:nvPicPr>
        <p:blipFill>
          <a:blip r:embed="rId1"/>
          <a:stretch/>
        </p:blipFill>
        <p:spPr>
          <a:xfrm>
            <a:off x="4606920" y="1714680"/>
            <a:ext cx="4286160" cy="3214440"/>
          </a:xfrm>
          <a:prstGeom prst="rect">
            <a:avLst/>
          </a:prstGeom>
          <a:ln w="0">
            <a:noFill/>
          </a:ln>
        </p:spPr>
      </p:pic>
      <p:sp>
        <p:nvSpPr>
          <p:cNvPr id="4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Прямоугольник 1"/>
          <p:cNvSpPr/>
          <p:nvPr/>
        </p:nvSpPr>
        <p:spPr>
          <a:xfrm>
            <a:off x="214200" y="2887560"/>
            <a:ext cx="89298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лки созданы для охоты самой природой. Зимой волк на снегу оставляют аккуратную цепочку следов – он ставит заднюю лапу точно за передней. Благодаря такой поступи он может бегать по любой местности и даже по глубокому снегу. Волчица трусит впереди, за ней гуськом, стараясь попасть след в след, тянутся волчата, а позади них старший волк. Пройдет по снежному полю весь выводок, а посмотришь на след - и кажется, что здесь пробежал только один звер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4" name="Picture 2" descr=" (500x259, 44Kb)"/>
          <p:cNvPicPr/>
          <p:nvPr/>
        </p:nvPicPr>
        <p:blipFill>
          <a:blip r:embed="rId1"/>
          <a:stretch/>
        </p:blipFill>
        <p:spPr>
          <a:xfrm>
            <a:off x="1643040" y="285840"/>
            <a:ext cx="5000760" cy="2590560"/>
          </a:xfrm>
          <a:prstGeom prst="rect">
            <a:avLst/>
          </a:prstGeom>
          <a:ln w="0">
            <a:noFill/>
          </a:ln>
        </p:spPr>
      </p:pic>
      <p:sp>
        <p:nvSpPr>
          <p:cNvPr id="4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Прямоугольник 1"/>
          <p:cNvSpPr/>
          <p:nvPr/>
        </p:nvSpPr>
        <p:spPr>
          <a:xfrm>
            <a:off x="214200" y="428760"/>
            <a:ext cx="457200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ужие волка - это зубы. Их в его пасти целых 42. Впереди торчат 4 острых, кривых 5-ти сантиметровых клыка - по два сверху и снизу. Ими волк может прокусить плотную шкуру жертвы. А хищными, или плотоядными, зубами - так называют коренные зубы всех хищников - взрослый волк разгрызает даже бедренную кость ло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7" name="Picture 2" descr="http://img-fotki.yandex.ru/get/4511/30141762.674/0_7c05a_7867772f_XL"/>
          <p:cNvPicPr/>
          <p:nvPr/>
        </p:nvPicPr>
        <p:blipFill>
          <a:blip r:embed="rId1"/>
          <a:stretch/>
        </p:blipFill>
        <p:spPr>
          <a:xfrm>
            <a:off x="4714920" y="1571760"/>
            <a:ext cx="4143240" cy="3744720"/>
          </a:xfrm>
          <a:prstGeom prst="rect">
            <a:avLst/>
          </a:prstGeom>
          <a:ln w="0">
            <a:noFill/>
          </a:ln>
        </p:spPr>
      </p:pic>
      <p:sp>
        <p:nvSpPr>
          <p:cNvPr id="44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TextBox 1"/>
          <p:cNvSpPr/>
          <p:nvPr/>
        </p:nvSpPr>
        <p:spPr>
          <a:xfrm>
            <a:off x="4786200" y="0"/>
            <a:ext cx="435780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лк ищет себе пару. В это время самцы становятся непримиримыми. Они громко рычат, шерсть на спине становится дыбом, хвост агрессивно поджат – так  самцы выясняют, кто же из них сильнее. Победителю и суждено продолжить волчий род. Проигравший продолжает поиск самок. Бывает, что один из соперников погибает в жестоком сражен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0" name="Picture 4" descr="Волк, или серый волк, или обыкновенный волк"/>
          <p:cNvPicPr/>
          <p:nvPr/>
        </p:nvPicPr>
        <p:blipFill>
          <a:blip r:embed="rId1"/>
          <a:stretch/>
        </p:blipFill>
        <p:spPr>
          <a:xfrm>
            <a:off x="214200" y="1571760"/>
            <a:ext cx="4286520" cy="3209760"/>
          </a:xfrm>
          <a:prstGeom prst="rect">
            <a:avLst/>
          </a:prstGeom>
          <a:ln w="0">
            <a:noFill/>
          </a:ln>
        </p:spPr>
      </p:pic>
      <p:sp>
        <p:nvSpPr>
          <p:cNvPr id="4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TextBox 2"/>
          <p:cNvSpPr/>
          <p:nvPr/>
        </p:nvSpPr>
        <p:spPr>
          <a:xfrm>
            <a:off x="5214960" y="857160"/>
            <a:ext cx="364320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ки приносят от 3 до 10-13 слепых волчат, прозревающих на 12-13 день. Подросших волчат родители кормят отрыжкой из съеденного мяса, позже - убитой   добычей. В выкармливании волчат принимает участие вся ста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3" name="Picture 4" descr="http://forum.materinstvo.ru/uploads/1206806182/post-40296-1206998163.jpg"/>
          <p:cNvPicPr/>
          <p:nvPr/>
        </p:nvPicPr>
        <p:blipFill>
          <a:blip r:embed="rId1"/>
          <a:stretch/>
        </p:blipFill>
        <p:spPr>
          <a:xfrm>
            <a:off x="0" y="1785960"/>
            <a:ext cx="5048280" cy="3786120"/>
          </a:xfrm>
          <a:prstGeom prst="rect">
            <a:avLst/>
          </a:prstGeom>
          <a:ln w="0">
            <a:noFill/>
          </a:ln>
        </p:spPr>
      </p:pic>
      <p:sp>
        <p:nvSpPr>
          <p:cNvPr id="4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TextBox 1"/>
          <p:cNvSpPr/>
          <p:nvPr/>
        </p:nvSpPr>
        <p:spPr>
          <a:xfrm>
            <a:off x="4572000" y="4286160"/>
            <a:ext cx="4572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тя волки внимательно заботятся о своём потомстве, до 60-80 % щенков погибают в первый год жизн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6" name="Picture 2" descr="http://lifeglobe.net/media/entry/1078/image_59.png"/>
          <p:cNvPicPr/>
          <p:nvPr/>
        </p:nvPicPr>
        <p:blipFill>
          <a:blip r:embed="rId1"/>
          <a:stretch/>
        </p:blipFill>
        <p:spPr>
          <a:xfrm>
            <a:off x="214200" y="357120"/>
            <a:ext cx="5248440" cy="3943440"/>
          </a:xfrm>
          <a:prstGeom prst="rect">
            <a:avLst/>
          </a:prstGeom>
          <a:ln w="0">
            <a:noFill/>
          </a:ln>
        </p:spPr>
      </p:pic>
      <p:sp>
        <p:nvSpPr>
          <p:cNvPr id="457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TextBox 1"/>
          <p:cNvSpPr/>
          <p:nvPr/>
        </p:nvSpPr>
        <p:spPr>
          <a:xfrm>
            <a:off x="214200" y="301680"/>
            <a:ext cx="87156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верь имеет высокоразвитую психику. Отличное чутьё, великолепное зрение и замечательный слух. Иначе быть не может: борьба за существование! Зверь очень хорошо видит и днем и ночью. К особенностям его зрения относится способность замечать даже малейшие следы на снегу, в лесу, на траве и на земл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0" name="Рисунок 2" descr="7000_d05c013204_84.252.140.65_36411.jpg"/>
          <p:cNvPicPr/>
          <p:nvPr/>
        </p:nvPicPr>
        <p:blipFill>
          <a:blip r:embed="rId1"/>
          <a:stretch/>
        </p:blipFill>
        <p:spPr>
          <a:xfrm>
            <a:off x="1785960" y="3000240"/>
            <a:ext cx="4857840" cy="3643560"/>
          </a:xfrm>
          <a:prstGeom prst="rect">
            <a:avLst/>
          </a:prstGeom>
          <a:ln w="0">
            <a:noFill/>
          </a:ln>
        </p:spPr>
      </p:pic>
      <p:sp>
        <p:nvSpPr>
          <p:cNvPr id="4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Прямоугольник 1"/>
          <p:cNvSpPr/>
          <p:nvPr/>
        </p:nvSpPr>
        <p:spPr>
          <a:xfrm>
            <a:off x="1143000" y="333360"/>
            <a:ext cx="5072040" cy="64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зимний хмурый день холодны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дит – бродит зверь голодны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лесам, полям он рыщет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еду себе он ищет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казках «серым» он зовётся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ему там достаётс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 обманет вдруг лиса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 поверит в чудес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пути он ей попался –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 хвоста чуть не осталс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де обман – поди узнай-ка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же вот трусишка-зайк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оянно за нос води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всегда из лап уходит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о всех добра не жди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 кричит: «Ну, погоди!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легко ему живётс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же этот зверь зовётся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инаида Торопчин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8" name="Рисунок 3" descr="24_135370_profile.gif"/>
          <p:cNvPicPr/>
          <p:nvPr/>
        </p:nvPicPr>
        <p:blipFill>
          <a:blip r:embed="rId1"/>
          <a:stretch/>
        </p:blipFill>
        <p:spPr>
          <a:xfrm>
            <a:off x="5211720" y="1139760"/>
            <a:ext cx="3571920" cy="3986280"/>
          </a:xfrm>
          <a:prstGeom prst="rect">
            <a:avLst/>
          </a:prstGeom>
          <a:ln w="0">
            <a:noFill/>
          </a:ln>
        </p:spPr>
      </p:pic>
      <p:sp>
        <p:nvSpPr>
          <p:cNvPr id="4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Прямоугольник 1"/>
          <p:cNvSpPr/>
          <p:nvPr/>
        </p:nvSpPr>
        <p:spPr>
          <a:xfrm>
            <a:off x="225360" y="2928960"/>
            <a:ext cx="45720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лк - достаточно территориальное существо. Размножающиеся пары, а нередко и стаи, живут оседло на определённых участках, границы которых обозначаются пахучими метк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3" name="Рисунок 2" descr="00018593.jpg"/>
          <p:cNvPicPr/>
          <p:nvPr/>
        </p:nvPicPr>
        <p:blipFill>
          <a:blip r:embed="rId1"/>
          <a:stretch/>
        </p:blipFill>
        <p:spPr>
          <a:xfrm>
            <a:off x="4786200" y="214200"/>
            <a:ext cx="4143600" cy="3237120"/>
          </a:xfrm>
          <a:prstGeom prst="rect">
            <a:avLst/>
          </a:prstGeom>
          <a:ln w="0">
            <a:noFill/>
          </a:ln>
        </p:spPr>
      </p:pic>
      <p:sp>
        <p:nvSpPr>
          <p:cNvPr id="4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Прямоугольник 1"/>
          <p:cNvSpPr/>
          <p:nvPr/>
        </p:nvSpPr>
        <p:spPr>
          <a:xfrm>
            <a:off x="571680" y="857160"/>
            <a:ext cx="40003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мифах, фольклоре и волшебных сказках волк олицетворяет свирепость, коварство, жестокость, зло, но также храбрость и победу. Кроме того, при определенных обстоятельствах волк мог стать могучим защитником беспомощных созданий.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6" name="Рисунок 3" descr="6ba316d3b900.png"/>
          <p:cNvPicPr/>
          <p:nvPr/>
        </p:nvPicPr>
        <p:blipFill>
          <a:blip r:embed="rId1"/>
          <a:stretch/>
        </p:blipFill>
        <p:spPr>
          <a:xfrm>
            <a:off x="4572000" y="1285920"/>
            <a:ext cx="4276800" cy="4465440"/>
          </a:xfrm>
          <a:prstGeom prst="rect">
            <a:avLst/>
          </a:prstGeom>
          <a:ln w="0">
            <a:noFill/>
          </a:ln>
        </p:spPr>
      </p:pic>
      <p:sp>
        <p:nvSpPr>
          <p:cNvPr id="4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Прямоугольник 1"/>
          <p:cNvSpPr/>
          <p:nvPr/>
        </p:nvSpPr>
        <p:spPr>
          <a:xfrm>
            <a:off x="4572000" y="1428840"/>
            <a:ext cx="40719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христианстве волк – зло, жестокость, хитрость и ересь, дьявол, угрожающий верующим. Лишь святым дана сила любвеобильного убеждения, чтобы приручить дикость свирепого звер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9" name="Рисунок 2" descr="10964.jpg"/>
          <p:cNvPicPr/>
          <p:nvPr/>
        </p:nvPicPr>
        <p:blipFill>
          <a:blip r:embed="rId1"/>
          <a:stretch/>
        </p:blipFill>
        <p:spPr>
          <a:xfrm>
            <a:off x="357120" y="1500120"/>
            <a:ext cx="3997440" cy="4267440"/>
          </a:xfrm>
          <a:prstGeom prst="rect">
            <a:avLst/>
          </a:prstGeom>
          <a:ln w="0">
            <a:noFill/>
          </a:ln>
        </p:spPr>
      </p:pic>
      <p:sp>
        <p:nvSpPr>
          <p:cNvPr id="4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1" name="Прямоугольник 3" descr=""/>
          <p:cNvPicPr/>
          <p:nvPr/>
        </p:nvPicPr>
        <p:blipFill>
          <a:blip r:embed="rId1"/>
          <a:stretch/>
        </p:blipFill>
        <p:spPr>
          <a:xfrm>
            <a:off x="1000080" y="1182600"/>
            <a:ext cx="7504200" cy="5175360"/>
          </a:xfrm>
          <a:prstGeom prst="rect">
            <a:avLst/>
          </a:prstGeom>
          <a:ln w="0">
            <a:noFill/>
          </a:ln>
        </p:spPr>
      </p:pic>
      <p:sp>
        <p:nvSpPr>
          <p:cNvPr id="4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TextBox 1"/>
          <p:cNvSpPr/>
          <p:nvPr/>
        </p:nvSpPr>
        <p:spPr>
          <a:xfrm>
            <a:off x="5286240" y="500040"/>
            <a:ext cx="385776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лк, или серый волк, или обыкновенный волк – хищное  млекопитающее семейства псовых. Ученые уверяют, что волки обитают на Земле уже достаточно давно, произошли они от плотоядных хищников, живших 100 миллионов лет наза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Picture 2" descr="http://img1.liveinternet.ru/images/foto/b/1/621/1520621/f_4234735.jpg"/>
          <p:cNvPicPr/>
          <p:nvPr/>
        </p:nvPicPr>
        <p:blipFill>
          <a:blip r:embed="rId1"/>
          <a:stretch/>
        </p:blipFill>
        <p:spPr>
          <a:xfrm>
            <a:off x="0" y="1571760"/>
            <a:ext cx="5054760" cy="3286080"/>
          </a:xfrm>
          <a:prstGeom prst="rect">
            <a:avLst/>
          </a:prstGeom>
          <a:ln w="0">
            <a:noFill/>
          </a:ln>
        </p:spPr>
      </p:pic>
      <p:sp>
        <p:nvSpPr>
          <p:cNvPr id="41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TextBox 1"/>
          <p:cNvSpPr/>
          <p:nvPr/>
        </p:nvSpPr>
        <p:spPr>
          <a:xfrm>
            <a:off x="3857760" y="2143080"/>
            <a:ext cx="50720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называть этого хищника? Самое распространённое — Серый или Разбойник. Нередко эти слова стоят рядом. Более современное название — Санитар леса. Как мы видим, оценки противоположные. И на это есть свои причин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4" name="Рисунок 2" descr="00018501.jpg"/>
          <p:cNvPicPr/>
          <p:nvPr/>
        </p:nvPicPr>
        <p:blipFill>
          <a:blip r:embed="rId1"/>
          <a:stretch/>
        </p:blipFill>
        <p:spPr>
          <a:xfrm>
            <a:off x="285840" y="1071720"/>
            <a:ext cx="3165480" cy="4357440"/>
          </a:xfrm>
          <a:prstGeom prst="rect">
            <a:avLst/>
          </a:prstGeom>
          <a:ln w="0">
            <a:noFill/>
          </a:ln>
        </p:spPr>
      </p:pic>
      <p:sp>
        <p:nvSpPr>
          <p:cNvPr id="4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TextBox 1"/>
          <p:cNvSpPr/>
          <p:nvPr/>
        </p:nvSpPr>
        <p:spPr>
          <a:xfrm>
            <a:off x="214200" y="1000080"/>
            <a:ext cx="47149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 волков ежегодно погибает очень много лосей, благородных оленей, косуль, кабанов и других животных. Огромный вред наносит хищник, животноводству и охотничьему хозяйству. Но в то же время санитар леса неоценим для экосистемы: он уничтожает больных животны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Picture 4" descr="Волк, или серый волк, или обыкновенный волк"/>
          <p:cNvPicPr/>
          <p:nvPr/>
        </p:nvPicPr>
        <p:blipFill>
          <a:blip r:embed="rId1"/>
          <a:stretch/>
        </p:blipFill>
        <p:spPr>
          <a:xfrm>
            <a:off x="5072040" y="1285920"/>
            <a:ext cx="3862440" cy="4259160"/>
          </a:xfrm>
          <a:prstGeom prst="rect">
            <a:avLst/>
          </a:prstGeom>
          <a:ln w="0">
            <a:noFill/>
          </a:ln>
        </p:spPr>
      </p:pic>
      <p:sp>
        <p:nvSpPr>
          <p:cNvPr id="4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TextBox 1"/>
          <p:cNvSpPr/>
          <p:nvPr/>
        </p:nvSpPr>
        <p:spPr>
          <a:xfrm>
            <a:off x="4205160" y="1682640"/>
            <a:ext cx="46436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лк принадлежит к семейству псовых. Издали его можно принять за крупную собаку . Вес старого матерого зверя достигает 50 килограммов. А изредка встречаются гиганты до 80 кг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0" name="Рисунок 2" descr="00018517.jpg"/>
          <p:cNvPicPr/>
          <p:nvPr/>
        </p:nvPicPr>
        <p:blipFill>
          <a:blip r:embed="rId1"/>
          <a:stretch/>
        </p:blipFill>
        <p:spPr>
          <a:xfrm>
            <a:off x="500040" y="1928880"/>
            <a:ext cx="3705120" cy="3095640"/>
          </a:xfrm>
          <a:prstGeom prst="rect">
            <a:avLst/>
          </a:prstGeom>
          <a:ln w="0">
            <a:noFill/>
          </a:ln>
        </p:spPr>
      </p:pic>
      <p:sp>
        <p:nvSpPr>
          <p:cNvPr id="4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TextBox 1"/>
          <p:cNvSpPr/>
          <p:nvPr/>
        </p:nvSpPr>
        <p:spPr>
          <a:xfrm>
            <a:off x="3786120" y="1143000"/>
            <a:ext cx="507204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ьше всего хищников в России – около ста тысяч особ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нашей стране Серая братия обитает повсюду: в тундре, в равнинных лесах, в горах, степях, даже в пустыне. Они живут там, где есть для них еда. По лесам бродят хищники серо-бурого цвета, в тундре они светлые, в горах Азии  живет очень редкий Красный вол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Picture 3" descr="D:\Мои документы\Рисунки и анимашки\Волк\84124022_0_103d7_612626cb_XL.jpg"/>
          <p:cNvPicPr/>
          <p:nvPr/>
        </p:nvPicPr>
        <p:blipFill>
          <a:blip r:embed="rId1"/>
          <a:srcRect l="4712" t="0" r="18298" b="0"/>
          <a:stretch/>
        </p:blipFill>
        <p:spPr>
          <a:xfrm>
            <a:off x="214200" y="1785960"/>
            <a:ext cx="3500640" cy="3011400"/>
          </a:xfrm>
          <a:prstGeom prst="rect">
            <a:avLst/>
          </a:prstGeom>
          <a:ln w="0">
            <a:noFill/>
          </a:ln>
        </p:spPr>
      </p:pic>
      <p:sp>
        <p:nvSpPr>
          <p:cNvPr id="4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Прямоугольник 1"/>
          <p:cNvSpPr/>
          <p:nvPr/>
        </p:nvSpPr>
        <p:spPr>
          <a:xfrm>
            <a:off x="1000080" y="428760"/>
            <a:ext cx="78580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х у волков густой, довольно длинный и состоит из двух слоёв, из-за чего иногда животное выглядит крупнее, чем оно есть на самом деле. Первый слой шерсти состоит из жёстких остевых волос, которые отталкивают воду и грязь. Второй слой, называемый подшёрстком, включает в себя водонепроницаемый пух, согревающий животно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6" name="Рисунок 2" descr="00018590.jpg"/>
          <p:cNvPicPr/>
          <p:nvPr/>
        </p:nvPicPr>
        <p:blipFill>
          <a:blip r:embed="rId1"/>
          <a:stretch/>
        </p:blipFill>
        <p:spPr>
          <a:xfrm>
            <a:off x="2286000" y="3571920"/>
            <a:ext cx="4714920" cy="3143160"/>
          </a:xfrm>
          <a:prstGeom prst="rect">
            <a:avLst/>
          </a:prstGeom>
          <a:ln w="0">
            <a:noFill/>
          </a:ln>
        </p:spPr>
      </p:pic>
      <p:sp>
        <p:nvSpPr>
          <p:cNvPr id="4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Прямоугольник 1"/>
          <p:cNvSpPr/>
          <p:nvPr/>
        </p:nvSpPr>
        <p:spPr>
          <a:xfrm>
            <a:off x="4286160" y="1571760"/>
            <a:ext cx="4572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дней весной или ранним летом пух комочками отслаивается от тела (линька), при этом животные трутся о камни или ветки деревьев ради облегчения этого процесс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Рисунок 2" descr="78гее54к.jpg"/>
          <p:cNvPicPr/>
          <p:nvPr/>
        </p:nvPicPr>
        <p:blipFill>
          <a:blip r:embed="rId1"/>
          <a:stretch/>
        </p:blipFill>
        <p:spPr>
          <a:xfrm>
            <a:off x="714240" y="1285920"/>
            <a:ext cx="3260880" cy="4543560"/>
          </a:xfrm>
          <a:prstGeom prst="rect">
            <a:avLst/>
          </a:prstGeom>
          <a:ln w="0">
            <a:noFill/>
          </a:ln>
        </p:spPr>
      </p:pic>
      <p:sp>
        <p:nvSpPr>
          <p:cNvPr id="4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9T14:09:09Z</dcterms:created>
  <dc:creator>школа</dc:creator>
  <dc:description/>
  <dc:language>en-US</dc:language>
  <cp:lastModifiedBy>LEGION2</cp:lastModifiedBy>
  <dcterms:modified xsi:type="dcterms:W3CDTF">2015-04-23T07:57:07Z</dcterms:modified>
  <cp:revision>26</cp:revision>
  <dc:subject/>
  <dc:title>Волки.</dc:title>
</cp:coreProperties>
</file>