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A583-DBED-47E7-A62E-DCA7ABD42AA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МБОУ «Алексеев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Прокопьева Л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631C-F97B-4BBD-89C9-65CE744AB0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воют на рассвете или в сумерках, но не каждый день. Начинается вой с сольного завывания вожака, которое существенно отличается от завывания других членов стаи. Остальные присоединяются чуть позже. Хоровой вой обычно заканчивается тявкающим визгливым л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3F96-2C7B-4F8B-9FCA-4EC3137025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ое голосовое творчество стаи является признаком общественной жизни. Пристрастие волков к нему имеет эмоциональную основу и обостряет чувство принадлежности к стае. Также это средство общения с другими стаями и отбившимися собрать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4152-163A-4004-A392-1E5596CDD4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жак господствует над самцами стаи, а его подруга поддерживает порядок среди волчиц. Вожаки постоянно напоминают своим «подчиненным», кто в стае хозяин: рычат на них, кусают, гоняют и даже сбивают с ног, предпочитая проделывать это на глазах у всей ста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65C6-82F0-4C25-993E-2E9D4EF5FB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развивает скорость до 56 км/ч, совершает прыжки на 4,8 м. Добычей служит почти любой зверь – от мыши до оленя, но основа рациона – грызуны и зайцеобразные. Хищник очень прожорлив – за один раз он съедает до 8 кг мяса, которого ему хватает на несколько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8C1A-9232-46F5-A9E6-846874F153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созданы для охоты самой природой. Зимой волк на снегу оставляют аккуратную цепочку следов – он ставит заднюю лапу точно за передней. Благодаря такой поступи он может бегать по любой местности и даже по глубокому снегу. Волчица трусит впереди, за ней гуськом, стараясь попасть след в след, тянутся волчата, а позади них старший волк. Пройдет по снежному полю весь выводок, а посмотришь на след - и кажется, что здесь пробежал только один зве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28E7-7C58-4E44-8D6F-80D6A310E9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жие волка - это зубы. Их в его пасти целых 42. Впереди торчат 4 острых, кривых 5-ти сантиметровых клыка - по два сверху и снизу. Ими волк может прокусить плотную шкуру жертвы. А хищными, или плотоядными, зубами - так называют коренные зубы всех хищников - взрослый волк разгрызает даже бедренную кость ло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EDA3-7EE6-4DFB-852B-D1DF7E15AA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ищет себе пару. В это время самцы становятся непримиримыми. Они громко рычат, шерсть на спине становится дыбом, хвост агрессивно поджат – так  самцы выясняют, кто же из них сильнее. Победителю и суждено продолжить волчий род. Проигравший продолжает поиск самок. Бывает, что один из соперников погибает в жестоком сраж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8297-275A-4424-8894-9E3C6ABF3A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ки приносят от 3 до 10-13 слепых волчат, прозревающих на 12-13 день. Подросших волчат родители кормят отрыжкой из съеденного мяса, позже - убитой   добычей. В выкармливании волчат принимает участие вся ст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DC1D-3982-437B-A94F-C5DE23E2B9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волки внимательно заботятся о своём потомстве, до 60-80 % щенков погибают в первый год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EE64-DF0A-4200-9514-FF0643F29D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ь имеет высокоразвитую психику. Отличное чутьё, великолепное зрение и замечательный слух. Иначе быть не может: борьба за существование! Зверь очень хорошо видит и днем и ночью. К особенностям его зрения относится способность замечать даже малейшие следы на снегу, в лесу, на траве и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E42E-EC0C-4308-A552-53157D8D0F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имний хмурый день холо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т – бродит зверь голод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лесам, полям он рыщ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ду себе он ищ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азках «серым» он зовё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му там достаё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обманет вдруг ли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верит в чуд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ути он ей попался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хвоста чуть не остал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обман – поди узнай-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вот трусишка-за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за нос в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гда из лап уход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 всех добра не жд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кричит: «Ну, погоди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егко ему живё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же этот зверь зовёт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159F-EAFD-4528-BED7-F0A5CC9C73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 - достаточно территориальное существо. Размножающиеся пары, а нередко и стаи, живут оседло на определённых участках, границы которых обозначаются пахучими ме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0710-DAC9-43A4-AAFB-275688F508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фах, фольклоре и волшебных сказках волк олицетворяет свирепость, коварство, жестокость, зло, но также храбрость и победу. Кроме того, при определенных обстоятельствах волк мог стать могучим защитником беспомощных созданий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6FCF-69EE-4B7F-8DF9-F7285C4AD7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ристианстве волк – зло, жестокость, хитрость и ересь, дьявол, угрожающий верующим. Лишь святым дана сила любвеобильного убеждения, чтобы приручить дикость свирепого зве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93A1-93AA-424A-A5CE-8E53F97590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E483-A079-46A3-A470-84D62999BD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, или серый волк, или обыкновенный волк – хищное  млекопитающее семейства псовых. Ученые уверяют, что волки обитают на Земле уже достаточно давно, произошли они от плотоядных хищников, живших 100 миллионов лет наза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9800-6858-4988-BFED-223C65BFC0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ть этого хищника? Самое распространённое — Серый или Разбойник. Нередко эти слова стоят рядом. Более современное название — Санитар леса. Как мы видим, оценки противоположные. И на это есть свои прич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41B9-725D-4067-8ACC-541A3C05D3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олков ежегодно погибает очень много лосей, благородных оленей, косуль, кабанов и других животных. Огромный вред наносит хищник, животноводству и охотничьему хозяйству. Но в то же время санитар леса неоценим для экосистемы: он уничтожает больных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EA5F-4501-4D97-AB8D-886ED3E918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принадлежит к семейству псовых. Издали его можно принять за крупную собаку . Вес старого матерого зверя достигает 50 килограммов. А изредка встречаются гиганты до 80 кг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6B8D-5527-4848-B01D-A648C9810B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всего хищников в России – около ста тысяч особ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стране Серая братия обитает повсюду: в тундре, в равнинных лесах, в горах, степях, даже в пустыне. Они живут там, где есть для них еда. По лесам бродят хищники серо-бурого цвета, в тундре они светлые, в горах Азии  живет очень редкий Красный вол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7165-FFE8-4DBD-8F18-FA455A3C7A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 у волков густой, довольно длинный и состоит из двух слоёв, из-за чего иногда животное выглядит крупнее, чем оно есть на самом деле. Первый слой шерсти состоит из жёстких остевых волос, которые отталкивают воду и грязь. Второй слой, называемый подшёрстком, включает в себя водонепроницаемый пух, согревающий животн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1A9F-87EE-4205-8E72-94E4676DC8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й весной или ранним летом пух комочками отслаивается от тела (линька), при этом животные трутся о камни или ветки деревьев ради облегчения эт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7524-670E-45EF-AB6A-9419A3DFDD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7156-5F73-4734-A896-04CDEDD0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2866-BDCC-4D42-8BFB-AA03E18B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59AC-4037-4CAA-82F0-0F8D533D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EFF0-512E-4FF9-A64D-D14108A8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5A6FE-BC1C-4317-B04D-58A77DFA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E31C4-8776-45D2-A95D-51EFC059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F036C-0A58-4765-B007-A3578EBF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1DBF3-D09F-4B7C-AEC8-5A44EA14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6CDC4-31D0-4211-B758-17D73317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D09B2-8A39-4E57-BC37-20E7CDBE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2BC7A-A155-4935-A60E-78D21DE4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80E8-27F1-4972-B246-D7EE3EA4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A6E81-2F7C-41DA-85A5-A7FF8EFD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A02FA-8908-46F3-B7C2-B67963B5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12578-D126-4810-8D45-71833A46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9E8F2-086D-496C-8044-95B49CCA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42BBE-1C03-45B3-8F7A-32D7F3B4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821C7-AC02-44B6-8D65-880FD0D6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D5B68-526D-4555-96F2-09334D1E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AE814-DD13-4BAC-B3E8-641AACC8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6F5E1-2AE2-4A60-9239-1F8D5242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FF826-8B2A-47B3-9FCE-6B383BDB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E87B-616B-41BF-9C60-BCA1E1F5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19013-E249-4459-B193-552A4A81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BAA16-31E2-4FE2-9460-0676B14F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5CD70-74EA-40BA-AEB7-802162F7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7BCE6-108B-404D-B264-386E1149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567B2-2383-4F25-AC6E-22BC79B8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4FB7C-3EED-4A3F-84CB-6A483952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F0B8C-00CE-4E97-8093-FDD7BD4A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30179-5DBA-4CDF-8E92-21A0F30E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3C127-16E7-441A-8DF1-C6217F1F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9814A-2AB8-40A1-A093-A5372300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EB0C-89CC-464B-955D-B4DD6D8C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FD8B0-E8B9-4E3A-9473-DB5962E1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318D3-7597-4ADC-B5D3-748886F6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45C39-DFD3-46ED-A1CE-56DE0BB3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7F9CC-DD4B-47DB-94F0-D2491E71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F1D0F-24B4-4F9D-9B64-6FE69A92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E206C-55B6-4817-B1DA-B46D3E6A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54437-74D0-42F9-832F-38F53575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08CF3-538D-4D20-9D33-3D297985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688D4-3F31-4F45-A2F8-CFC868C1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59FD8-9A72-4098-9948-7B6D71E1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A5E8-98E9-44A2-B411-526130DF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25B07-60C9-4933-B8C6-4B93FF85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FE1D6-7184-4C58-8F95-96BEE1D5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4B663-49BF-4EA3-9F55-37D5B714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C141D-4AB2-4935-A0FC-7E132FA7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2E333-B970-465C-BE7B-F9377C0C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204C7-ECD4-4B78-AA16-1D5CBD5C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DF3BE-EC5B-4EE1-8BEF-AD96C63E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55F86-4CA8-4571-A0FF-BFD26C85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FBFFF-E126-4227-83E6-99A1654C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2C0BD-4E47-4D39-A06A-194F31A9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374D-FDE3-4BBD-B57A-814934D1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54DF2-2256-4AB6-B498-86432796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395F8-354C-4C97-83C0-874625F6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42FAB-2E81-4E18-9170-30F25103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55E94-8972-49C2-8922-01D42B18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82CAD-480F-4637-BF7C-3B0FFD3B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DCE0C-01F4-433F-B2D7-B16DA64B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E2C57-B299-4261-866C-685EE6C9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F813E-0FF7-43DC-8E4A-21A3119F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C8074-7CAA-44CF-A028-DDE3004B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77371-8334-4337-9041-76A05CEB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B5C9-22A9-4F4F-8095-CA387C87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A6C5A-E54F-4F50-B7DE-D4966F87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3A99B-926B-4939-A77D-1A5EDEE1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E9F45-A3E2-41C2-AC10-C3C3B1AC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E33B-205E-420A-97F0-E4C5530F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D306-84DF-465E-8E1F-017EC97E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a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fa9d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fa9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27CD-5EB0-4DAA-BD32-923A0E192DAD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EEFC-0C2C-48EE-BB65-C7FF9B3372B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0355-94E1-49FA-8D0D-0CF42B4D443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8AB9-CCA6-453D-8F6F-B1DB5422E976}" type="datetime">
              <a:rPr b="0" lang="ru-RU" sz="1000" spc="-1" strike="noStrike">
                <a:solidFill>
                  <a:srgbClr val="ffffff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6d63"/>
            </a:gs>
            <a:gs pos="100000">
              <a:srgbClr val="a5bd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18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5f7164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728778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879b8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8bf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a675e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3847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ac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5750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615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dc3b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697c6e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9786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5c54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6d63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82958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55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897d"/>
                  </a:gs>
                  <a:gs pos="100000">
                    <a:srgbClr val="a5bd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bdac"/>
                  </a:gs>
                  <a:gs pos="100000">
                    <a:srgbClr val="adc3b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6EB0-7A77-4E83-9862-D3BB170F48D8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0040-AE99-408C-BFA9-FDF37E0B24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a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99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200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206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7636-231B-452F-B125-987D7804B95D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5590-B468-4E7D-B975-F5B3BE749EC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5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2A2F-DE10-4671-AB6B-C212D015C085}" type="datetime">
              <a:rPr b="0" lang="ru-RU" sz="1000" spc="-1" strike="noStrike">
                <a:solidFill>
                  <a:srgbClr val="ffffff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7916-73B3-4BFA-8541-6D853D66673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6d63"/>
            </a:gs>
            <a:gs pos="100000">
              <a:srgbClr val="a5bd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1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5f7164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728778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879b8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8bf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a675e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3847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ac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5750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615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dc3b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697c6e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9786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5c54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6d63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82958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5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897d"/>
                  </a:gs>
                  <a:gs pos="100000">
                    <a:srgbClr val="a5bd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bdac"/>
                  </a:gs>
                  <a:gs pos="100000">
                    <a:srgbClr val="adc3b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2D1A-7054-4614-B3C0-DD6F6B69C348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0ABB-81BD-4E3B-A8C5-1ECBBC26354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2428920" y="4643280"/>
            <a:ext cx="640080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Авто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МБОУ «Алексеевская СОШ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Прокопьева Л.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Прямоугольник 3" descr=""/>
          <p:cNvPicPr/>
          <p:nvPr/>
        </p:nvPicPr>
        <p:blipFill>
          <a:blip r:embed="rId1"/>
          <a:stretch/>
        </p:blipFill>
        <p:spPr>
          <a:xfrm>
            <a:off x="1779480" y="1182600"/>
            <a:ext cx="5364360" cy="249408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Прямоугольник 1"/>
          <p:cNvSpPr/>
          <p:nvPr/>
        </p:nvSpPr>
        <p:spPr>
          <a:xfrm>
            <a:off x="357120" y="857160"/>
            <a:ext cx="4143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воют на рассвете или в сумерках, но не каждый день. Начинается вой с сольного завывания вожака, которое существенно отличается от завывания других членов стаи. Остальные присоединяются чуть позже. Хоровой вой обычно заканчивается тявкающим визгливым ла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Рисунок 2" descr="00018529.jpg"/>
          <p:cNvPicPr/>
          <p:nvPr/>
        </p:nvPicPr>
        <p:blipFill>
          <a:blip r:embed="rId1"/>
          <a:stretch/>
        </p:blipFill>
        <p:spPr>
          <a:xfrm>
            <a:off x="5072040" y="1214280"/>
            <a:ext cx="3865680" cy="4343400"/>
          </a:xfrm>
          <a:prstGeom prst="rect">
            <a:avLst/>
          </a:prstGeom>
          <a:ln w="0">
            <a:noFill/>
          </a:ln>
        </p:spPr>
      </p:pic>
      <p:sp>
        <p:nvSpPr>
          <p:cNvPr id="4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1"/>
          <p:cNvSpPr/>
          <p:nvPr/>
        </p:nvSpPr>
        <p:spPr>
          <a:xfrm>
            <a:off x="4572000" y="78588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ое голосовое творчество стаи является признаком общественной жизни. Пристрастие волков к нему имеет эмоциональную основу и обостряет чувство принадлежности к стае. Также это средство общения с другими стаями и отбившимися собрать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Рисунок 2" descr="00018345.jpg"/>
          <p:cNvPicPr/>
          <p:nvPr/>
        </p:nvPicPr>
        <p:blipFill>
          <a:blip r:embed="rId1"/>
          <a:stretch/>
        </p:blipFill>
        <p:spPr>
          <a:xfrm>
            <a:off x="285840" y="1785960"/>
            <a:ext cx="4114800" cy="3214800"/>
          </a:xfrm>
          <a:prstGeom prst="rect">
            <a:avLst/>
          </a:prstGeom>
          <a:ln w="0">
            <a:noFill/>
          </a:ln>
        </p:spPr>
      </p:pic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2"/>
          <p:cNvSpPr/>
          <p:nvPr/>
        </p:nvSpPr>
        <p:spPr>
          <a:xfrm>
            <a:off x="5286240" y="785880"/>
            <a:ext cx="3857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жак господствует над самцами стаи, а его подруга поддерживает порядок среди волчиц. Вожаки постоянно напоминают своим «подчиненным», кто в стае хозяин: рычат на них, кусают, гоняют и даже сбивают с ног, предпочитая проделывать это на глазах у всей ста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4" descr="Фотографии живой природы &quot;Волки&quot;"/>
          <p:cNvPicPr/>
          <p:nvPr/>
        </p:nvPicPr>
        <p:blipFill>
          <a:blip r:embed="rId1"/>
          <a:stretch/>
        </p:blipFill>
        <p:spPr>
          <a:xfrm>
            <a:off x="357120" y="1714680"/>
            <a:ext cx="4762440" cy="357156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Прямоугольник 1"/>
          <p:cNvSpPr/>
          <p:nvPr/>
        </p:nvSpPr>
        <p:spPr>
          <a:xfrm>
            <a:off x="285840" y="625320"/>
            <a:ext cx="4071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развивает скорость до 56 км/ч, совершает прыжки на 4,8 м. Добычей служит почти любой зверь – от мыши до оленя, но основа рациона – грызуны и зайцеобразные. Хищник очень прожорлив – за один раз он съедает до 8 кг мяса, которого ему хватает на несколько д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http://image.css-nkp.net/images/4570017j.jpg"/>
          <p:cNvPicPr/>
          <p:nvPr/>
        </p:nvPicPr>
        <p:blipFill>
          <a:blip r:embed="rId1"/>
          <a:stretch/>
        </p:blipFill>
        <p:spPr>
          <a:xfrm>
            <a:off x="4606920" y="1714680"/>
            <a:ext cx="4286160" cy="321444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1"/>
          <p:cNvSpPr/>
          <p:nvPr/>
        </p:nvSpPr>
        <p:spPr>
          <a:xfrm>
            <a:off x="214200" y="2887560"/>
            <a:ext cx="8929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созданы для охоты самой природой. Зимой волк на снегу оставляют аккуратную цепочку следов – он ставит заднюю лапу точно за передней. Благодаря такой поступи он может бегать по любой местности и даже по глубокому снегу. Волчица трусит впереди, за ней гуськом, стараясь попасть след в след, тянутся волчата, а позади них старший волк. Пройдет по снежному полю весь выводок, а посмотришь на след - и кажется, что здесь пробежал только один зве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2" descr=" (500x259, 44Kb)"/>
          <p:cNvPicPr/>
          <p:nvPr/>
        </p:nvPicPr>
        <p:blipFill>
          <a:blip r:embed="rId1"/>
          <a:stretch/>
        </p:blipFill>
        <p:spPr>
          <a:xfrm>
            <a:off x="1643040" y="285840"/>
            <a:ext cx="5000760" cy="2590560"/>
          </a:xfrm>
          <a:prstGeom prst="rect">
            <a:avLst/>
          </a:prstGeom>
          <a:ln w="0">
            <a:noFill/>
          </a:ln>
        </p:spPr>
      </p:pic>
      <p:sp>
        <p:nvSpPr>
          <p:cNvPr id="4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Прямоугольник 1"/>
          <p:cNvSpPr/>
          <p:nvPr/>
        </p:nvSpPr>
        <p:spPr>
          <a:xfrm>
            <a:off x="214200" y="42876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жие волка - это зубы. Их в его пасти целых 42. Впереди торчат 4 острых, кривых 5-ти сантиметровых клыка - по два сверху и снизу. Ими волк может прокусить плотную шкуру жертвы. А хищными, или плотоядными, зубами - так называют коренные зубы всех хищников - взрослый волк разгрызает даже бедренную кость ло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" descr="http://img-fotki.yandex.ru/get/4511/30141762.674/0_7c05a_7867772f_XL"/>
          <p:cNvPicPr/>
          <p:nvPr/>
        </p:nvPicPr>
        <p:blipFill>
          <a:blip r:embed="rId1"/>
          <a:stretch/>
        </p:blipFill>
        <p:spPr>
          <a:xfrm>
            <a:off x="4714920" y="1571760"/>
            <a:ext cx="4143240" cy="374472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1"/>
          <p:cNvSpPr/>
          <p:nvPr/>
        </p:nvSpPr>
        <p:spPr>
          <a:xfrm>
            <a:off x="4786200" y="0"/>
            <a:ext cx="4357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ищет себе пару. В это время самцы становятся непримиримыми. Они громко рычат, шерсть на спине становится дыбом, хвост агрессивно поджат – так  самцы выясняют, кто же из них сильнее. Победителю и суждено продолжить волчий род. Проигравший продолжает поиск самок. Бывает, что один из соперников погибает в жестоком сра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" descr="Волк, или серый волк, или обыкновенный волк"/>
          <p:cNvPicPr/>
          <p:nvPr/>
        </p:nvPicPr>
        <p:blipFill>
          <a:blip r:embed="rId1"/>
          <a:stretch/>
        </p:blipFill>
        <p:spPr>
          <a:xfrm>
            <a:off x="214200" y="1571760"/>
            <a:ext cx="4286520" cy="3209760"/>
          </a:xfrm>
          <a:prstGeom prst="rect">
            <a:avLst/>
          </a:prstGeom>
          <a:ln w="0">
            <a:noFill/>
          </a:ln>
        </p:spPr>
      </p:pic>
      <p:sp>
        <p:nvSpPr>
          <p:cNvPr id="4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2"/>
          <p:cNvSpPr/>
          <p:nvPr/>
        </p:nvSpPr>
        <p:spPr>
          <a:xfrm>
            <a:off x="5214960" y="857160"/>
            <a:ext cx="3643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ки приносят от 3 до 10-13 слепых волчат, прозревающих на 12-13 день. Подросших волчат родители кормят отрыжкой из съеденного мяса, позже - убитой   добычей. В выкармливании волчат принимает участие вся ст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http://forum.materinstvo.ru/uploads/1206806182/post-40296-1206998163.jpg"/>
          <p:cNvPicPr/>
          <p:nvPr/>
        </p:nvPicPr>
        <p:blipFill>
          <a:blip r:embed="rId1"/>
          <a:stretch/>
        </p:blipFill>
        <p:spPr>
          <a:xfrm>
            <a:off x="0" y="1785960"/>
            <a:ext cx="5048280" cy="3786120"/>
          </a:xfrm>
          <a:prstGeom prst="rect">
            <a:avLst/>
          </a:prstGeom>
          <a:ln w="0">
            <a:noFill/>
          </a:ln>
        </p:spPr>
      </p:pic>
      <p:sp>
        <p:nvSpPr>
          <p:cNvPr id="4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Box 1"/>
          <p:cNvSpPr/>
          <p:nvPr/>
        </p:nvSpPr>
        <p:spPr>
          <a:xfrm>
            <a:off x="4572000" y="428616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волки внимательно заботятся о своём потомстве, до 60-80 % щенков погибают в первый год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2" descr="http://lifeglobe.net/media/entry/1078/image_59.png"/>
          <p:cNvPicPr/>
          <p:nvPr/>
        </p:nvPicPr>
        <p:blipFill>
          <a:blip r:embed="rId1"/>
          <a:stretch/>
        </p:blipFill>
        <p:spPr>
          <a:xfrm>
            <a:off x="214200" y="357120"/>
            <a:ext cx="5248440" cy="3943440"/>
          </a:xfrm>
          <a:prstGeom prst="rect">
            <a:avLst/>
          </a:prstGeom>
          <a:ln w="0">
            <a:noFill/>
          </a:ln>
        </p:spPr>
      </p:pic>
      <p:sp>
        <p:nvSpPr>
          <p:cNvPr id="45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1"/>
          <p:cNvSpPr/>
          <p:nvPr/>
        </p:nvSpPr>
        <p:spPr>
          <a:xfrm>
            <a:off x="214200" y="301680"/>
            <a:ext cx="871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ь имеет высокоразвитую психику. Отличное чутьё, великолепное зрение и замечательный слух. Иначе быть не может: борьба за существование! Зверь очень хорошо видит и днем и ночью. К особенностям его зрения относится способность замечать даже малейшие следы на снегу, в лесу, на траве и на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Рисунок 2" descr="7000_d05c013204_84.252.140.65_36411.jpg"/>
          <p:cNvPicPr/>
          <p:nvPr/>
        </p:nvPicPr>
        <p:blipFill>
          <a:blip r:embed="rId1"/>
          <a:stretch/>
        </p:blipFill>
        <p:spPr>
          <a:xfrm>
            <a:off x="1785960" y="3000240"/>
            <a:ext cx="4857840" cy="3643560"/>
          </a:xfrm>
          <a:prstGeom prst="rect">
            <a:avLst/>
          </a:prstGeom>
          <a:ln w="0">
            <a:noFill/>
          </a:ln>
        </p:spPr>
      </p:pic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1"/>
          <p:cNvSpPr/>
          <p:nvPr/>
        </p:nvSpPr>
        <p:spPr>
          <a:xfrm>
            <a:off x="1143000" y="333360"/>
            <a:ext cx="507204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имний хмурый день холод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т – бродит зверь голод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лесам, полям он рыще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ду себе он ищ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азках «серым» он зовётс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му там достаё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обманет вдруг лис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верит в чудес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ути он ей попался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хвоста чуть не остал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обман – поди узнай-ка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вот трусишка-зай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за нос вод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гда из лап уходи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 всех добра не жди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кричит: «Ну, погоди!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егко ему живё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же этот зверь зовётся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наида Торопч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Рисунок 3" descr="24_135370_profile.gif"/>
          <p:cNvPicPr/>
          <p:nvPr/>
        </p:nvPicPr>
        <p:blipFill>
          <a:blip r:embed="rId1"/>
          <a:stretch/>
        </p:blipFill>
        <p:spPr>
          <a:xfrm>
            <a:off x="5211720" y="1139760"/>
            <a:ext cx="3571920" cy="398628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рямоугольник 1"/>
          <p:cNvSpPr/>
          <p:nvPr/>
        </p:nvSpPr>
        <p:spPr>
          <a:xfrm>
            <a:off x="225360" y="292896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 - достаточно территориальное существо. Размножающиеся пары, а нередко и стаи, живут оседло на определённых участках, границы которых обозначаются пахучими мет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Рисунок 2" descr="00018593.jpg"/>
          <p:cNvPicPr/>
          <p:nvPr/>
        </p:nvPicPr>
        <p:blipFill>
          <a:blip r:embed="rId1"/>
          <a:stretch/>
        </p:blipFill>
        <p:spPr>
          <a:xfrm>
            <a:off x="4786200" y="214200"/>
            <a:ext cx="4143600" cy="3237120"/>
          </a:xfrm>
          <a:prstGeom prst="rect">
            <a:avLst/>
          </a:prstGeom>
          <a:ln w="0">
            <a:noFill/>
          </a:ln>
        </p:spPr>
      </p:pic>
      <p:sp>
        <p:nvSpPr>
          <p:cNvPr id="4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Прямоугольник 1"/>
          <p:cNvSpPr/>
          <p:nvPr/>
        </p:nvSpPr>
        <p:spPr>
          <a:xfrm>
            <a:off x="571680" y="857160"/>
            <a:ext cx="4000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фах, фольклоре и волшебных сказках волк олицетворяет свирепость, коварство, жестокость, зло, но также храбрость и победу. Кроме того, при определенных обстоятельствах волк мог стать могучим защитником беспомощных созданий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Рисунок 3" descr="6ba316d3b900.png"/>
          <p:cNvPicPr/>
          <p:nvPr/>
        </p:nvPicPr>
        <p:blipFill>
          <a:blip r:embed="rId1"/>
          <a:stretch/>
        </p:blipFill>
        <p:spPr>
          <a:xfrm>
            <a:off x="4572000" y="1285920"/>
            <a:ext cx="4276800" cy="4465440"/>
          </a:xfrm>
          <a:prstGeom prst="rect">
            <a:avLst/>
          </a:prstGeom>
          <a:ln w="0">
            <a:noFill/>
          </a:ln>
        </p:spPr>
      </p:pic>
      <p:sp>
        <p:nvSpPr>
          <p:cNvPr id="4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Прямоугольник 1"/>
          <p:cNvSpPr/>
          <p:nvPr/>
        </p:nvSpPr>
        <p:spPr>
          <a:xfrm>
            <a:off x="4572000" y="1428840"/>
            <a:ext cx="4071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ристианстве волк – зло, жестокость, хитрость и ересь, дьявол, угрожающий верующим. Лишь святым дана сила любвеобильного убеждения, чтобы приручить дикость свирепого зве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Рисунок 2" descr="10964.jpg"/>
          <p:cNvPicPr/>
          <p:nvPr/>
        </p:nvPicPr>
        <p:blipFill>
          <a:blip r:embed="rId1"/>
          <a:stretch/>
        </p:blipFill>
        <p:spPr>
          <a:xfrm>
            <a:off x="357120" y="1500120"/>
            <a:ext cx="3997440" cy="4267440"/>
          </a:xfrm>
          <a:prstGeom prst="rect">
            <a:avLst/>
          </a:prstGeom>
          <a:ln w="0">
            <a:noFill/>
          </a:ln>
        </p:spPr>
      </p:pic>
      <p:sp>
        <p:nvSpPr>
          <p:cNvPr id="4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Прямоугольник 3" descr=""/>
          <p:cNvPicPr/>
          <p:nvPr/>
        </p:nvPicPr>
        <p:blipFill>
          <a:blip r:embed="rId1"/>
          <a:stretch/>
        </p:blipFill>
        <p:spPr>
          <a:xfrm>
            <a:off x="1000080" y="1182600"/>
            <a:ext cx="7504200" cy="5175360"/>
          </a:xfrm>
          <a:prstGeom prst="rect">
            <a:avLst/>
          </a:prstGeom>
          <a:ln w="0">
            <a:noFill/>
          </a:ln>
        </p:spPr>
      </p:pic>
      <p:sp>
        <p:nvSpPr>
          <p:cNvPr id="4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5286240" y="500040"/>
            <a:ext cx="3857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, или серый волк, или обыкновенный волк – хищное  млекопитающее семейства псовых. Ученые уверяют, что волки обитают на Земле уже достаточно давно, произошли они от плотоядных хищников, живших 100 миллионов лет 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http://img1.liveinternet.ru/images/foto/b/1/621/1520621/f_4234735.jpg"/>
          <p:cNvPicPr/>
          <p:nvPr/>
        </p:nvPicPr>
        <p:blipFill>
          <a:blip r:embed="rId1"/>
          <a:stretch/>
        </p:blipFill>
        <p:spPr>
          <a:xfrm>
            <a:off x="0" y="1571760"/>
            <a:ext cx="5054760" cy="3286080"/>
          </a:xfrm>
          <a:prstGeom prst="rect">
            <a:avLst/>
          </a:prstGeom>
          <a:ln w="0">
            <a:noFill/>
          </a:ln>
        </p:spPr>
      </p:pic>
      <p:sp>
        <p:nvSpPr>
          <p:cNvPr id="4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1"/>
          <p:cNvSpPr/>
          <p:nvPr/>
        </p:nvSpPr>
        <p:spPr>
          <a:xfrm>
            <a:off x="3857760" y="2143080"/>
            <a:ext cx="5072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ть этого хищника? Самое распространённое — Серый или Разбойник. Нередко эти слова стоят рядом. Более современное название — Санитар леса. Как мы видим, оценки противоположные. И на это есть свои причи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Рисунок 2" descr="00018501.jpg"/>
          <p:cNvPicPr/>
          <p:nvPr/>
        </p:nvPicPr>
        <p:blipFill>
          <a:blip r:embed="rId1"/>
          <a:stretch/>
        </p:blipFill>
        <p:spPr>
          <a:xfrm>
            <a:off x="285840" y="1071720"/>
            <a:ext cx="3165480" cy="4357440"/>
          </a:xfrm>
          <a:prstGeom prst="rect">
            <a:avLst/>
          </a:prstGeom>
          <a:ln w="0">
            <a:noFill/>
          </a:ln>
        </p:spPr>
      </p:pic>
      <p:sp>
        <p:nvSpPr>
          <p:cNvPr id="4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214200" y="1000080"/>
            <a:ext cx="4714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олков ежегодно погибает очень много лосей, благородных оленей, косуль, кабанов и других животных. Огромный вред наносит хищник, животноводству и охотничьему хозяйству. Но в то же время санитар леса неоценим для экосистемы: он уничтожает больных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Волк, или серый волк, или обыкновенный волк"/>
          <p:cNvPicPr/>
          <p:nvPr/>
        </p:nvPicPr>
        <p:blipFill>
          <a:blip r:embed="rId1"/>
          <a:stretch/>
        </p:blipFill>
        <p:spPr>
          <a:xfrm>
            <a:off x="5072040" y="1285920"/>
            <a:ext cx="3862440" cy="4259160"/>
          </a:xfrm>
          <a:prstGeom prst="rect">
            <a:avLst/>
          </a:prstGeom>
          <a:ln w="0">
            <a:noFill/>
          </a:ln>
        </p:spPr>
      </p:pic>
      <p:sp>
        <p:nvSpPr>
          <p:cNvPr id="4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1"/>
          <p:cNvSpPr/>
          <p:nvPr/>
        </p:nvSpPr>
        <p:spPr>
          <a:xfrm>
            <a:off x="4205160" y="1682640"/>
            <a:ext cx="4643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принадлежит к семейству псовых. Издали его можно принять за крупную собаку . Вес старого матерого зверя достигает 50 килограммов. А изредка встречаются гиганты до 80 кг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Рисунок 2" descr="00018517.jpg"/>
          <p:cNvPicPr/>
          <p:nvPr/>
        </p:nvPicPr>
        <p:blipFill>
          <a:blip r:embed="rId1"/>
          <a:stretch/>
        </p:blipFill>
        <p:spPr>
          <a:xfrm>
            <a:off x="500040" y="1928880"/>
            <a:ext cx="3705120" cy="309564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1"/>
          <p:cNvSpPr/>
          <p:nvPr/>
        </p:nvSpPr>
        <p:spPr>
          <a:xfrm>
            <a:off x="3786120" y="1143000"/>
            <a:ext cx="5072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всего хищников в России – около ста тысяч ос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стране Серая братия обитает повсюду: в тундре, в равнинных лесах, в горах, степях, даже в пустыне. Они живут там, где есть для них еда. По лесам бродят хищники серо-бурого цвета, в тундре они светлые, в горах Азии  живет очень редкий Красный вол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" descr="D:\Мои документы\Рисунки и анимашки\Волк\84124022_0_103d7_612626cb_XL.jpg"/>
          <p:cNvPicPr/>
          <p:nvPr/>
        </p:nvPicPr>
        <p:blipFill>
          <a:blip r:embed="rId1"/>
          <a:srcRect l="4712" t="0" r="18298" b="0"/>
          <a:stretch/>
        </p:blipFill>
        <p:spPr>
          <a:xfrm>
            <a:off x="214200" y="1785960"/>
            <a:ext cx="3500640" cy="301140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оугольник 1"/>
          <p:cNvSpPr/>
          <p:nvPr/>
        </p:nvSpPr>
        <p:spPr>
          <a:xfrm>
            <a:off x="1000080" y="428760"/>
            <a:ext cx="7858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 у волков густой, довольно длинный и состоит из двух слоёв, из-за чего иногда животное выглядит крупнее, чем оно есть на самом деле. Первый слой шерсти состоит из жёстких остевых волос, которые отталкивают воду и грязь. Второй слой, называемый подшёрстком, включает в себя водонепроницаемый пух, согревающий животн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Рисунок 2" descr="00018590.jpg"/>
          <p:cNvPicPr/>
          <p:nvPr/>
        </p:nvPicPr>
        <p:blipFill>
          <a:blip r:embed="rId1"/>
          <a:stretch/>
        </p:blipFill>
        <p:spPr>
          <a:xfrm>
            <a:off x="2286000" y="3571920"/>
            <a:ext cx="4714920" cy="314316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1"/>
          <p:cNvSpPr/>
          <p:nvPr/>
        </p:nvSpPr>
        <p:spPr>
          <a:xfrm>
            <a:off x="4286160" y="157176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й весной или ранним летом пух комочками отслаивается от тела (линька), при этом животные трутся о камни или ветки деревьев ради облегчения этого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Рисунок 2" descr="78гее54к.jpg"/>
          <p:cNvPicPr/>
          <p:nvPr/>
        </p:nvPicPr>
        <p:blipFill>
          <a:blip r:embed="rId1"/>
          <a:stretch/>
        </p:blipFill>
        <p:spPr>
          <a:xfrm>
            <a:off x="714240" y="1285920"/>
            <a:ext cx="3260880" cy="4543560"/>
          </a:xfrm>
          <a:prstGeom prst="rect">
            <a:avLst/>
          </a:prstGeom>
          <a:ln w="0">
            <a:noFill/>
          </a:ln>
        </p:spPr>
      </p:pic>
      <p:sp>
        <p:nvSpPr>
          <p:cNvPr id="4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4:09:09Z</dcterms:created>
  <dc:creator>школа</dc:creator>
  <dc:description/>
  <dc:language>en-US</dc:language>
  <cp:lastModifiedBy>LEGION2</cp:lastModifiedBy>
  <dcterms:modified xsi:type="dcterms:W3CDTF">2015-04-23T07:57:07Z</dcterms:modified>
  <cp:revision>26</cp:revision>
  <dc:subject/>
  <dc:title>Волки.</dc:title>
</cp:coreProperties>
</file>