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2CBC-ED05-48C8-B730-EECAEBEAE6B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Авто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МБОУ «Алексеевская С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Прокопьева Л.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2D9E-F34F-4A89-A360-A95B5DDB8B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и воют на рассвете или в сумерках, но не каждый день. Начинается вой с сольного завывания вожака, которое существенно отличается от завывания других членов стаи. Остальные присоединяются чуть позже. Хоровой вой обычно заканчивается тявкающим визгливым л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3CFB-1E8B-4996-BFED-C069AD2C60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ое голосовое творчество стаи является признаком общественной жизни. Пристрастие волков к нему имеет эмоциональную основу и обостряет чувство принадлежности к стае. Также это средство общения с другими стаями и отбившимися собрать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B933-4990-413F-AD8E-168BE999F7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жак господствует над самцами стаи, а его подруга поддерживает порядок среди волчиц. Вожаки постоянно напоминают своим «подчиненным», кто в стае хозяин: рычат на них, кусают, гоняют и даже сбивают с ног, предпочитая проделывать это на глазах у всей ста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638D-E7BB-4587-9036-F46DC1C5E4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развивает скорость до 56 км/ч, совершает прыжки на 4,8 м. Добычей служит почти любой зверь – от мыши до оленя, но основа рациона – грызуны и зайцеобразные. Хищник очень прожорлив – за один раз он съедает до 8 кг мяса, которого ему хватает на несколько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4AA0-8F52-4A91-812B-69F0B06275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и созданы для охоты самой природой. Зимой волк на снегу оставляют аккуратную цепочку следов – он ставит заднюю лапу точно за передней. Благодаря такой поступи он может бегать по любой местности и даже по глубокому снегу. Волчица трусит впереди, за ней гуськом, стараясь попасть след в след, тянутся волчата, а позади них старший волк. Пройдет по снежному полю весь выводок, а посмотришь на след - и кажется, что здесь пробежал только один зве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CA65-CABC-4116-AEFD-EE116B1C9B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ужие волка - это зубы. Их в его пасти целых 42. Впереди торчат 4 острых, кривых 5-ти сантиметровых клыка - по два сверху и снизу. Ими волк может прокусить плотную шкуру жертвы. А хищными, или плотоядными, зубами - так называют коренные зубы всех хищников - взрослый волк разгрызает даже бедренную кость ло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6252-C60A-4A68-A6A0-C3EDC9680A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ищет себе пару. В это время самцы становятся непримиримыми. Они громко рычат, шерсть на спине становится дыбом, хвост агрессивно поджат – так  самцы выясняют, кто же из них сильнее. Победителю и суждено продолжить волчий род. Проигравший продолжает поиск самок. Бывает, что один из соперников погибает в жестоком сраж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25FC-9AB5-4073-A4D1-EBB34B85D7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ки приносят от 3 до 10-13 слепых волчат, прозревающих на 12-13 день. Подросших волчат родители кормят отрыжкой из съеденного мяса, позже - убитой   добычей. В выкармливании волчат принимает участие вся ст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B143-8E30-4651-9EA7-94A533FC63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я волки внимательно заботятся о своём потомстве, до 60-80 % щенков погибают в первый год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6733-13A7-4E44-A66B-5EEBF3D79A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рь имеет высокоразвитую психику. Отличное чутьё, великолепное зрение и замечательный слух. Иначе быть не может: борьба за существование! Зверь очень хорошо видит и днем и ночью. К особенностям его зрения относится способность замечать даже малейшие следы на снегу, в лесу, на траве и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D4FB-DD9C-4FA8-A069-D1B07163C4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имний хмурый день холо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ит – бродит зверь голод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лесам, полям он рыщ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ду себе он ищ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казках «серым» он зовё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му там достаё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обманет вдруг ли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оверит в чуд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ути он ей попался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хвоста чуть не остал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обман – поди узнай-к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вот трусишка-за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за нос во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сегда из лап уход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 всех добра не жд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кричит: «Ну, погоди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егко ему живё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же этот зверь зовётс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F017-11D0-44CC-8AED-B2E6AE313C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 - достаточно территориальное существо. Размножающиеся пары, а нередко и стаи, живут оседло на определённых участках, границы которых обозначаются пахучими мет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E5EF-1FD7-407C-B6C2-91BC2E83B7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ифах, фольклоре и волшебных сказках волк олицетворяет свирепость, коварство, жестокость, зло, но также храбрость и победу. Кроме того, при определенных обстоятельствах волк мог стать могучим защитником беспомощных созданий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AA20-8938-4263-ADCD-D624C13303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ристианстве волк – зло, жестокость, хитрость и ересь, дьявол, угрожающий верующим. Лишь святым дана сила любвеобильного убеждения, чтобы приручить дикость свирепого зве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32C4-18A6-4ABB-BE45-2BA7130475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C0BD-B460-48F4-A82D-603927B988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, или серый волк, или обыкновенный волк – хищное  млекопитающее семейства псовых. Ученые уверяют, что волки обитают на Земле уже достаточно давно, произошли они от плотоядных хищников, живших 100 миллионов лет наза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46CF-A793-494B-9FCF-9DFD6616C0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ть этого хищника? Самое распространённое — Серый или Разбойник. Нередко эти слова стоят рядом. Более современное название — Санитар леса. Как мы видим, оценки противоположные. И на это есть свои причи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594F-5612-4BA7-8598-B4FB7FB811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волков ежегодно погибает очень много лосей, благородных оленей, косуль, кабанов и других животных. Огромный вред наносит хищник, животноводству и охотничьему хозяйству. Но в то же время санитар леса неоценим для экосистемы: он уничтожает больных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12BD-DE64-441B-B9DB-9E18C4B85E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принадлежит к семейству псовых. Издали его можно принять за крупную собаку . Вес старого матерого зверя достигает 50 килограммов. А изредка встречаются гиганты до 80 кг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2290-2CF3-4D87-9AE6-C0EA3D3A78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всего хищников в России – около ста тысяч особ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й стране Серая братия обитает повсюду: в тундре, в равнинных лесах, в горах, степях, даже в пустыне. Они живут там, где есть для них еда. По лесам бродят хищники серо-бурого цвета, в тундре они светлые, в горах Азии  живет очень редкий Красный вол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6CA8-903D-455B-B263-9EB1911E24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 у волков густой, довольно длинный и состоит из двух слоёв, из-за чего иногда животное выглядит крупнее, чем оно есть на самом деле. Первый слой шерсти состоит из жёстких остевых волос, которые отталкивают воду и грязь. Второй слой, называемый подшёрстком, включает в себя водонепроницаемый пух, согревающий животно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9503-8ECA-48AF-A993-09348E200C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ей весной или ранним летом пух комочками отслаивается от тела (линька), при этом животные трутся о камни или ветки деревьев ради облегчения эт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A908-7260-48A7-BA0F-B4ADCDFBF3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E7A9-B091-4898-8B8D-5BEC21539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292A-3C74-40C1-A938-DF6453DA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2713-E4DE-4B67-9660-1C65434B1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FADC-BD74-41F1-998B-66E58AADB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899A1-6D92-4569-B2CE-C874D3DF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5730D-3575-4E07-B703-08B28853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D2632-6A4C-4A0F-B730-ACDC2F89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4D737-5A9D-4BDD-9999-83A0D26C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76788-0A76-4B1D-A863-73B38A3D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5CD6A-C021-4389-98D9-D7BECB8F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A7965-70B5-4295-9D12-230AFC8B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A05A-099B-41F7-9AF9-72FC4729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F342E-D9A2-4273-A829-549ED389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3A377-9949-42EA-B29B-7E805BD1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9A842-92D1-472C-9AC5-E51412F1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2BB79-CF2A-4E1F-8B9B-0B44A9A29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882C8-562E-4AB7-BE4C-65FC5552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0356A-4C73-4766-8630-2D16A080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D3020-35AE-41B9-A7A1-A53E4A70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C7338-BF53-4ED9-B82C-84888E4E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D5855-3689-447D-84E3-BF243F71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706BB-D2FE-426C-941E-CCFAFF13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1289-7EB6-43F1-A750-E7A9EF40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36A0D-44F8-4EDF-A849-6F60A9C9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03962-54E5-48C8-8CE0-0F00056A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40E66-F80B-4CBA-A3F2-47CA89E9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28174-66F3-41CD-BBDE-AD63B2B9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E3463-CD02-4BCF-ACE2-F59A2044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827C8-413F-497A-AB1C-611989CB1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D4F4B-3C23-4BFD-862F-B00EAABA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B58A4-11C8-4E6A-B2B1-3AEA7EFDF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A2962-E20B-4D01-8656-11466E40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7CF17-5C09-4113-ADD2-45CDA95C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24B4-7212-4163-9E53-F4903FD6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1DA97-F925-4773-A9DA-0E84B7DA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5DC88-DBA5-4D6C-964C-7BC4E447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9DFAC-655B-419F-85ED-481DF6B7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58E25-7955-4B41-8311-63A1EEE1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E2B0F-593F-4DA4-B435-980A49E6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17EB2-A2F3-40FE-AFAB-C655A61D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38103-9995-4EFF-BE42-C36A043B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05C55-AF0F-4133-AA07-9DD75F76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9461B-91CD-4B41-B238-56B61DB2E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4BDCB-D60F-4CDD-A4C4-BD1F71811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CA2D-3000-4415-88E3-10579F13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7517F-EBE8-45DE-B9EB-82EF19F2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80A4B-AA9B-47C3-A804-C172202E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61070-B95A-402B-B112-08E2BF43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2A3C3-F81B-44FD-9EFF-98516586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CF839-0625-4DFB-BF0B-698C2269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7BAD2-D04C-407B-B542-A7D87E32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E3862-0A94-4844-9AF9-C4FB14A1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CCCE7-B2DA-4C92-9B75-ADDB10CC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ECB23-20B0-4DDF-A20B-D9AB8CBB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DA187-A6A3-4C0B-830C-D0510D520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E534-0A58-482A-80DB-4AC470C3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BAD0A-83E5-4ECD-A8CC-278D826D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BB67F-E014-40BF-B8D3-85DD3B53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69BF4-57DC-496F-906F-C4DDD0CF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0FEA7-213B-49C7-BD31-0B22D098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FDDFC-401B-4728-8B25-C9B4ED37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48E8F-5BD4-4D1F-B183-2228B827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F07F7-9389-4A96-A895-6D36B42D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EEDDE-7D8A-4E3B-841E-9475550A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51C3D-DF94-4E0B-B9CC-B0DC65E4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F046B-9E0D-4748-A48D-D827E604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179E-3D58-44A4-8784-3B5F690D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9177F-8641-46C2-8C1C-6BE3C1B0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5188B-8E32-413F-AD6E-F62CAD073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2DD92-E033-412E-8060-6A4FF4B9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CE89-4972-4CB4-8E5D-B6E24080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BE1F-EA80-4E25-9BC0-ACAC889A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a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fa9d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fa9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a9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fa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fa9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202E-827C-4677-BC58-5D2AEDD056E4}" type="datetime">
              <a:rPr b="0" lang="ru-RU" sz="10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8D83-29AC-4A94-BD93-9496F1F266D4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F68B-6187-465D-BB7E-BC8FF9774A1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4629-F385-4F2E-83AA-E57EC72E7EDE}" type="datetime">
              <a:rPr b="0" lang="ru-RU" sz="10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6d63"/>
            </a:gs>
            <a:gs pos="100000">
              <a:srgbClr val="a5bd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18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5f7164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647369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728778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879b8d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78897d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8bf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a675e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647769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3847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ac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5750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5615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8c7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dc3b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47769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697c6e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69786d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647369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8ca092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5c54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ca092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768c7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6d63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897d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82958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55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897d"/>
                  </a:gs>
                  <a:gs pos="100000">
                    <a:srgbClr val="a5bd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bdac"/>
                  </a:gs>
                  <a:gs pos="100000">
                    <a:srgbClr val="adc3b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44CE-36CE-4CFC-91FA-EC0181DD348F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1C57-FDBF-4759-BB38-5D2BB20950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a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99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200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a9d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a9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206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a9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fa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fa9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A558-B15E-4CB0-BCEC-3986057B2E0A}" type="datetime">
              <a:rPr b="0" lang="ru-RU" sz="10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071E-9510-48E4-B810-0C38812CC53D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5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1B1D-5562-4388-8504-CC58E9C941C0}" type="datetime">
              <a:rPr b="0" lang="ru-RU" sz="10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7DC5-B5B2-47C6-85A3-EA578DBE1CC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6d63"/>
            </a:gs>
            <a:gs pos="100000">
              <a:srgbClr val="a5bd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1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5f7164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647369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728778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879b8d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78897d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8bf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a675e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647769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3847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ac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5750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5615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8c7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dc3b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47769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697c6e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69786d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647369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8ca092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5c54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ca092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768c7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6d63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897d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82958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5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897d"/>
                  </a:gs>
                  <a:gs pos="100000">
                    <a:srgbClr val="a5bd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bdac"/>
                  </a:gs>
                  <a:gs pos="100000">
                    <a:srgbClr val="adc3b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B6FF-CF3B-43BF-B57E-B92FEDFEE92A}" type="datetime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77DA-AC83-4592-AB86-C3BA1FD69BF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2428920" y="4643280"/>
            <a:ext cx="6400800" cy="14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74440"/>
                </a:solidFill>
                <a:latin typeface="Times New Roman"/>
                <a:ea typeface="Times New Roman"/>
              </a:rPr>
              <a:t>Авто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74440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74440"/>
                </a:solidFill>
                <a:latin typeface="Times New Roman"/>
                <a:ea typeface="Times New Roman"/>
              </a:rPr>
              <a:t>МБОУ «Алексеевская СОШ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74440"/>
                </a:solidFill>
                <a:latin typeface="Times New Roman"/>
                <a:ea typeface="Times New Roman"/>
              </a:rPr>
              <a:t>Прокопьева Л.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Прямоугольник 3" descr=""/>
          <p:cNvPicPr/>
          <p:nvPr/>
        </p:nvPicPr>
        <p:blipFill>
          <a:blip r:embed="rId1"/>
          <a:stretch/>
        </p:blipFill>
        <p:spPr>
          <a:xfrm>
            <a:off x="1779480" y="1182600"/>
            <a:ext cx="5364360" cy="2494080"/>
          </a:xfrm>
          <a:prstGeom prst="rect">
            <a:avLst/>
          </a:prstGeom>
          <a:ln w="0">
            <a:noFill/>
          </a:ln>
        </p:spPr>
      </p:pic>
      <p:sp>
        <p:nvSpPr>
          <p:cNvPr id="4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Прямоугольник 1"/>
          <p:cNvSpPr/>
          <p:nvPr/>
        </p:nvSpPr>
        <p:spPr>
          <a:xfrm>
            <a:off x="357120" y="857160"/>
            <a:ext cx="4143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и воют на рассвете или в сумерках, но не каждый день. Начинается вой с сольного завывания вожака, которое существенно отличается от завывания других членов стаи. Остальные присоединяются чуть позже. Хоровой вой обычно заканчивается тявкающим визгливым ла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Рисунок 2" descr="00018529.jpg"/>
          <p:cNvPicPr/>
          <p:nvPr/>
        </p:nvPicPr>
        <p:blipFill>
          <a:blip r:embed="rId1"/>
          <a:stretch/>
        </p:blipFill>
        <p:spPr>
          <a:xfrm>
            <a:off x="5072040" y="1214280"/>
            <a:ext cx="3865680" cy="4343400"/>
          </a:xfrm>
          <a:prstGeom prst="rect">
            <a:avLst/>
          </a:prstGeom>
          <a:ln w="0">
            <a:noFill/>
          </a:ln>
        </p:spPr>
      </p:pic>
      <p:sp>
        <p:nvSpPr>
          <p:cNvPr id="4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Прямоугольник 1"/>
          <p:cNvSpPr/>
          <p:nvPr/>
        </p:nvSpPr>
        <p:spPr>
          <a:xfrm>
            <a:off x="4572000" y="78588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ое голосовое творчество стаи является признаком общественной жизни. Пристрастие волков к нему имеет эмоциональную основу и обостряет чувство принадлежности к стае. Также это средство общения с другими стаями и отбившимися собрать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Рисунок 2" descr="00018345.jpg"/>
          <p:cNvPicPr/>
          <p:nvPr/>
        </p:nvPicPr>
        <p:blipFill>
          <a:blip r:embed="rId1"/>
          <a:stretch/>
        </p:blipFill>
        <p:spPr>
          <a:xfrm>
            <a:off x="285840" y="1785960"/>
            <a:ext cx="4114800" cy="3214800"/>
          </a:xfrm>
          <a:prstGeom prst="rect">
            <a:avLst/>
          </a:prstGeom>
          <a:ln w="0">
            <a:noFill/>
          </a:ln>
        </p:spPr>
      </p:pic>
      <p:sp>
        <p:nvSpPr>
          <p:cNvPr id="4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2"/>
          <p:cNvSpPr/>
          <p:nvPr/>
        </p:nvSpPr>
        <p:spPr>
          <a:xfrm>
            <a:off x="5286240" y="785880"/>
            <a:ext cx="38577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жак господствует над самцами стаи, а его подруга поддерживает порядок среди волчиц. Вожаки постоянно напоминают своим «подчиненным», кто в стае хозяин: рычат на них, кусают, гоняют и даже сбивают с ног, предпочитая проделывать это на глазах у всей ста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4" descr="Фотографии живой природы &quot;Волки&quot;"/>
          <p:cNvPicPr/>
          <p:nvPr/>
        </p:nvPicPr>
        <p:blipFill>
          <a:blip r:embed="rId1"/>
          <a:stretch/>
        </p:blipFill>
        <p:spPr>
          <a:xfrm>
            <a:off x="357120" y="1714680"/>
            <a:ext cx="4762440" cy="3571560"/>
          </a:xfrm>
          <a:prstGeom prst="rect">
            <a:avLst/>
          </a:prstGeom>
          <a:ln w="0">
            <a:noFill/>
          </a:ln>
        </p:spPr>
      </p:pic>
      <p:sp>
        <p:nvSpPr>
          <p:cNvPr id="4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Прямоугольник 1"/>
          <p:cNvSpPr/>
          <p:nvPr/>
        </p:nvSpPr>
        <p:spPr>
          <a:xfrm>
            <a:off x="285840" y="625320"/>
            <a:ext cx="40719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развивает скорость до 56 км/ч, совершает прыжки на 4,8 м. Добычей служит почти любой зверь – от мыши до оленя, но основа рациона – грызуны и зайцеобразные. Хищник очень прожорлив – за один раз он съедает до 8 кг мяса, которого ему хватает на несколько д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4" descr="http://image.css-nkp.net/images/4570017j.jpg"/>
          <p:cNvPicPr/>
          <p:nvPr/>
        </p:nvPicPr>
        <p:blipFill>
          <a:blip r:embed="rId1"/>
          <a:stretch/>
        </p:blipFill>
        <p:spPr>
          <a:xfrm>
            <a:off x="4606920" y="1714680"/>
            <a:ext cx="4286160" cy="3214440"/>
          </a:xfrm>
          <a:prstGeom prst="rect">
            <a:avLst/>
          </a:prstGeom>
          <a:ln w="0">
            <a:noFill/>
          </a:ln>
        </p:spPr>
      </p:pic>
      <p:sp>
        <p:nvSpPr>
          <p:cNvPr id="4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ик 1"/>
          <p:cNvSpPr/>
          <p:nvPr/>
        </p:nvSpPr>
        <p:spPr>
          <a:xfrm>
            <a:off x="214200" y="2887560"/>
            <a:ext cx="8929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и созданы для охоты самой природой. Зимой волк на снегу оставляют аккуратную цепочку следов – он ставит заднюю лапу точно за передней. Благодаря такой поступи он может бегать по любой местности и даже по глубокому снегу. Волчица трусит впереди, за ней гуськом, стараясь попасть след в след, тянутся волчата, а позади них старший волк. Пройдет по снежному полю весь выводок, а посмотришь на след - и кажется, что здесь пробежал только один зве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2" descr=" (500x259, 44Kb)"/>
          <p:cNvPicPr/>
          <p:nvPr/>
        </p:nvPicPr>
        <p:blipFill>
          <a:blip r:embed="rId1"/>
          <a:stretch/>
        </p:blipFill>
        <p:spPr>
          <a:xfrm>
            <a:off x="1643040" y="285840"/>
            <a:ext cx="5000760" cy="2590560"/>
          </a:xfrm>
          <a:prstGeom prst="rect">
            <a:avLst/>
          </a:prstGeom>
          <a:ln w="0">
            <a:noFill/>
          </a:ln>
        </p:spPr>
      </p:pic>
      <p:sp>
        <p:nvSpPr>
          <p:cNvPr id="4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Прямоугольник 1"/>
          <p:cNvSpPr/>
          <p:nvPr/>
        </p:nvSpPr>
        <p:spPr>
          <a:xfrm>
            <a:off x="214200" y="428760"/>
            <a:ext cx="4572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ужие волка - это зубы. Их в его пасти целых 42. Впереди торчат 4 острых, кривых 5-ти сантиметровых клыка - по два сверху и снизу. Ими волк может прокусить плотную шкуру жертвы. А хищными, или плотоядными, зубами - так называют коренные зубы всех хищников - взрослый волк разгрызает даже бедренную кость ло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2" descr="http://img-fotki.yandex.ru/get/4511/30141762.674/0_7c05a_7867772f_XL"/>
          <p:cNvPicPr/>
          <p:nvPr/>
        </p:nvPicPr>
        <p:blipFill>
          <a:blip r:embed="rId1"/>
          <a:stretch/>
        </p:blipFill>
        <p:spPr>
          <a:xfrm>
            <a:off x="4714920" y="1571760"/>
            <a:ext cx="4143240" cy="3744720"/>
          </a:xfrm>
          <a:prstGeom prst="rect">
            <a:avLst/>
          </a:prstGeom>
          <a:ln w="0">
            <a:noFill/>
          </a:ln>
        </p:spPr>
      </p:pic>
      <p:sp>
        <p:nvSpPr>
          <p:cNvPr id="4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1"/>
          <p:cNvSpPr/>
          <p:nvPr/>
        </p:nvSpPr>
        <p:spPr>
          <a:xfrm>
            <a:off x="4786200" y="0"/>
            <a:ext cx="4357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ищет себе пару. В это время самцы становятся непримиримыми. Они громко рычат, шерсть на спине становится дыбом, хвост агрессивно поджат – так  самцы выясняют, кто же из них сильнее. Победителю и суждено продолжить волчий род. Проигравший продолжает поиск самок. Бывает, что один из соперников погибает в жестоком сраж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4" descr="Волк, или серый волк, или обыкновенный волк"/>
          <p:cNvPicPr/>
          <p:nvPr/>
        </p:nvPicPr>
        <p:blipFill>
          <a:blip r:embed="rId1"/>
          <a:stretch/>
        </p:blipFill>
        <p:spPr>
          <a:xfrm>
            <a:off x="214200" y="1571760"/>
            <a:ext cx="4286520" cy="3209760"/>
          </a:xfrm>
          <a:prstGeom prst="rect">
            <a:avLst/>
          </a:prstGeom>
          <a:ln w="0">
            <a:noFill/>
          </a:ln>
        </p:spPr>
      </p:pic>
      <p:sp>
        <p:nvSpPr>
          <p:cNvPr id="4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Box 2"/>
          <p:cNvSpPr/>
          <p:nvPr/>
        </p:nvSpPr>
        <p:spPr>
          <a:xfrm>
            <a:off x="5214960" y="857160"/>
            <a:ext cx="3643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ки приносят от 3 до 10-13 слепых волчат, прозревающих на 12-13 день. Подросших волчат родители кормят отрыжкой из съеденного мяса, позже - убитой   добычей. В выкармливании волчат принимает участие вся ст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4" descr="http://forum.materinstvo.ru/uploads/1206806182/post-40296-1206998163.jpg"/>
          <p:cNvPicPr/>
          <p:nvPr/>
        </p:nvPicPr>
        <p:blipFill>
          <a:blip r:embed="rId1"/>
          <a:stretch/>
        </p:blipFill>
        <p:spPr>
          <a:xfrm>
            <a:off x="0" y="1785960"/>
            <a:ext cx="5048280" cy="3786120"/>
          </a:xfrm>
          <a:prstGeom prst="rect">
            <a:avLst/>
          </a:prstGeom>
          <a:ln w="0">
            <a:noFill/>
          </a:ln>
        </p:spPr>
      </p:pic>
      <p:sp>
        <p:nvSpPr>
          <p:cNvPr id="4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Box 1"/>
          <p:cNvSpPr/>
          <p:nvPr/>
        </p:nvSpPr>
        <p:spPr>
          <a:xfrm>
            <a:off x="4572000" y="428616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я волки внимательно заботятся о своём потомстве, до 60-80 % щенков погибают в первый год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2" descr="http://lifeglobe.net/media/entry/1078/image_59.png"/>
          <p:cNvPicPr/>
          <p:nvPr/>
        </p:nvPicPr>
        <p:blipFill>
          <a:blip r:embed="rId1"/>
          <a:stretch/>
        </p:blipFill>
        <p:spPr>
          <a:xfrm>
            <a:off x="214200" y="357120"/>
            <a:ext cx="5248440" cy="3943440"/>
          </a:xfrm>
          <a:prstGeom prst="rect">
            <a:avLst/>
          </a:prstGeom>
          <a:ln w="0">
            <a:noFill/>
          </a:ln>
        </p:spPr>
      </p:pic>
      <p:sp>
        <p:nvSpPr>
          <p:cNvPr id="45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1"/>
          <p:cNvSpPr/>
          <p:nvPr/>
        </p:nvSpPr>
        <p:spPr>
          <a:xfrm>
            <a:off x="214200" y="301680"/>
            <a:ext cx="8715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рь имеет высокоразвитую психику. Отличное чутьё, великолепное зрение и замечательный слух. Иначе быть не может: борьба за существование! Зверь очень хорошо видит и днем и ночью. К особенностям его зрения относится способность замечать даже малейшие следы на снегу, в лесу, на траве и на зем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Рисунок 2" descr="7000_d05c013204_84.252.140.65_36411.jpg"/>
          <p:cNvPicPr/>
          <p:nvPr/>
        </p:nvPicPr>
        <p:blipFill>
          <a:blip r:embed="rId1"/>
          <a:stretch/>
        </p:blipFill>
        <p:spPr>
          <a:xfrm>
            <a:off x="1785960" y="3000240"/>
            <a:ext cx="4857840" cy="3643560"/>
          </a:xfrm>
          <a:prstGeom prst="rect">
            <a:avLst/>
          </a:prstGeom>
          <a:ln w="0">
            <a:noFill/>
          </a:ln>
        </p:spPr>
      </p:pic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1"/>
          <p:cNvSpPr/>
          <p:nvPr/>
        </p:nvSpPr>
        <p:spPr>
          <a:xfrm>
            <a:off x="1143000" y="333360"/>
            <a:ext cx="507204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имний хмурый день холод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ит – бродит зверь голод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лесам, полям он рыще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ду себе он ищ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казках «серым» он зовётс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му там достаё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обманет вдруг лис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оверит в чудес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ути он ей попался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хвоста чуть не остал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обман – поди узнай-ка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вот трусишка-зай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за нос вод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сегда из лап уходи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 всех добра не жди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кричит: «Ну, погоди!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егко ему живё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же этот зверь зовётся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наида Торопч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Рисунок 3" descr="24_135370_profile.gif"/>
          <p:cNvPicPr/>
          <p:nvPr/>
        </p:nvPicPr>
        <p:blipFill>
          <a:blip r:embed="rId1"/>
          <a:stretch/>
        </p:blipFill>
        <p:spPr>
          <a:xfrm>
            <a:off x="5211720" y="1139760"/>
            <a:ext cx="3571920" cy="398628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Прямоугольник 1"/>
          <p:cNvSpPr/>
          <p:nvPr/>
        </p:nvSpPr>
        <p:spPr>
          <a:xfrm>
            <a:off x="225360" y="292896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 - достаточно территориальное существо. Размножающиеся пары, а нередко и стаи, живут оседло на определённых участках, границы которых обозначаются пахучими мет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Рисунок 2" descr="00018593.jpg"/>
          <p:cNvPicPr/>
          <p:nvPr/>
        </p:nvPicPr>
        <p:blipFill>
          <a:blip r:embed="rId1"/>
          <a:stretch/>
        </p:blipFill>
        <p:spPr>
          <a:xfrm>
            <a:off x="4786200" y="214200"/>
            <a:ext cx="4143600" cy="3237120"/>
          </a:xfrm>
          <a:prstGeom prst="rect">
            <a:avLst/>
          </a:prstGeom>
          <a:ln w="0">
            <a:noFill/>
          </a:ln>
        </p:spPr>
      </p:pic>
      <p:sp>
        <p:nvSpPr>
          <p:cNvPr id="4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Прямоугольник 1"/>
          <p:cNvSpPr/>
          <p:nvPr/>
        </p:nvSpPr>
        <p:spPr>
          <a:xfrm>
            <a:off x="571680" y="857160"/>
            <a:ext cx="4000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ифах, фольклоре и волшебных сказках волк олицетворяет свирепость, коварство, жестокость, зло, но также храбрость и победу. Кроме того, при определенных обстоятельствах волк мог стать могучим защитником беспомощных созданий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Рисунок 3" descr="6ba316d3b900.png"/>
          <p:cNvPicPr/>
          <p:nvPr/>
        </p:nvPicPr>
        <p:blipFill>
          <a:blip r:embed="rId1"/>
          <a:stretch/>
        </p:blipFill>
        <p:spPr>
          <a:xfrm>
            <a:off x="4572000" y="1285920"/>
            <a:ext cx="4276800" cy="4465440"/>
          </a:xfrm>
          <a:prstGeom prst="rect">
            <a:avLst/>
          </a:prstGeom>
          <a:ln w="0">
            <a:noFill/>
          </a:ln>
        </p:spPr>
      </p:pic>
      <p:sp>
        <p:nvSpPr>
          <p:cNvPr id="4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Прямоугольник 1"/>
          <p:cNvSpPr/>
          <p:nvPr/>
        </p:nvSpPr>
        <p:spPr>
          <a:xfrm>
            <a:off x="4572000" y="1428840"/>
            <a:ext cx="4071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ристианстве волк – зло, жестокость, хитрость и ересь, дьявол, угрожающий верующим. Лишь святым дана сила любвеобильного убеждения, чтобы приручить дикость свирепого зве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Рисунок 2" descr="10964.jpg"/>
          <p:cNvPicPr/>
          <p:nvPr/>
        </p:nvPicPr>
        <p:blipFill>
          <a:blip r:embed="rId1"/>
          <a:stretch/>
        </p:blipFill>
        <p:spPr>
          <a:xfrm>
            <a:off x="357120" y="1500120"/>
            <a:ext cx="3997440" cy="4267440"/>
          </a:xfrm>
          <a:prstGeom prst="rect">
            <a:avLst/>
          </a:prstGeom>
          <a:ln w="0">
            <a:noFill/>
          </a:ln>
        </p:spPr>
      </p:pic>
      <p:sp>
        <p:nvSpPr>
          <p:cNvPr id="4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Прямоугольник 3" descr=""/>
          <p:cNvPicPr/>
          <p:nvPr/>
        </p:nvPicPr>
        <p:blipFill>
          <a:blip r:embed="rId1"/>
          <a:stretch/>
        </p:blipFill>
        <p:spPr>
          <a:xfrm>
            <a:off x="1000080" y="1182600"/>
            <a:ext cx="7504200" cy="5175360"/>
          </a:xfrm>
          <a:prstGeom prst="rect">
            <a:avLst/>
          </a:prstGeom>
          <a:ln w="0">
            <a:noFill/>
          </a:ln>
        </p:spPr>
      </p:pic>
      <p:sp>
        <p:nvSpPr>
          <p:cNvPr id="4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1"/>
          <p:cNvSpPr/>
          <p:nvPr/>
        </p:nvSpPr>
        <p:spPr>
          <a:xfrm>
            <a:off x="5286240" y="500040"/>
            <a:ext cx="38577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, или серый волк, или обыкновенный волк – хищное  млекопитающее семейства псовых. Ученые уверяют, что волки обитают на Земле уже достаточно давно, произошли они от плотоядных хищников, живших 100 миллионов лет наз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http://img1.liveinternet.ru/images/foto/b/1/621/1520621/f_4234735.jpg"/>
          <p:cNvPicPr/>
          <p:nvPr/>
        </p:nvPicPr>
        <p:blipFill>
          <a:blip r:embed="rId1"/>
          <a:stretch/>
        </p:blipFill>
        <p:spPr>
          <a:xfrm>
            <a:off x="0" y="1571760"/>
            <a:ext cx="5054760" cy="3286080"/>
          </a:xfrm>
          <a:prstGeom prst="rect">
            <a:avLst/>
          </a:prstGeom>
          <a:ln w="0">
            <a:noFill/>
          </a:ln>
        </p:spPr>
      </p:pic>
      <p:sp>
        <p:nvSpPr>
          <p:cNvPr id="4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Box 1"/>
          <p:cNvSpPr/>
          <p:nvPr/>
        </p:nvSpPr>
        <p:spPr>
          <a:xfrm>
            <a:off x="3857760" y="2143080"/>
            <a:ext cx="5072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ть этого хищника? Самое распространённое — Серый или Разбойник. Нередко эти слова стоят рядом. Более современное название — Санитар леса. Как мы видим, оценки противоположные. И на это есть свои причи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Рисунок 2" descr="00018501.jpg"/>
          <p:cNvPicPr/>
          <p:nvPr/>
        </p:nvPicPr>
        <p:blipFill>
          <a:blip r:embed="rId1"/>
          <a:stretch/>
        </p:blipFill>
        <p:spPr>
          <a:xfrm>
            <a:off x="285840" y="1071720"/>
            <a:ext cx="3165480" cy="4357440"/>
          </a:xfrm>
          <a:prstGeom prst="rect">
            <a:avLst/>
          </a:prstGeom>
          <a:ln w="0">
            <a:noFill/>
          </a:ln>
        </p:spPr>
      </p:pic>
      <p:sp>
        <p:nvSpPr>
          <p:cNvPr id="4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1"/>
          <p:cNvSpPr/>
          <p:nvPr/>
        </p:nvSpPr>
        <p:spPr>
          <a:xfrm>
            <a:off x="214200" y="1000080"/>
            <a:ext cx="4714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волков ежегодно погибает очень много лосей, благородных оленей, косуль, кабанов и других животных. Огромный вред наносит хищник, животноводству и охотничьему хозяйству. Но в то же время санитар леса неоценим для экосистемы: он уничтожает больных живо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4" descr="Волк, или серый волк, или обыкновенный волк"/>
          <p:cNvPicPr/>
          <p:nvPr/>
        </p:nvPicPr>
        <p:blipFill>
          <a:blip r:embed="rId1"/>
          <a:stretch/>
        </p:blipFill>
        <p:spPr>
          <a:xfrm>
            <a:off x="5072040" y="1285920"/>
            <a:ext cx="3862440" cy="4259160"/>
          </a:xfrm>
          <a:prstGeom prst="rect">
            <a:avLst/>
          </a:prstGeom>
          <a:ln w="0">
            <a:noFill/>
          </a:ln>
        </p:spPr>
      </p:pic>
      <p:sp>
        <p:nvSpPr>
          <p:cNvPr id="4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Box 1"/>
          <p:cNvSpPr/>
          <p:nvPr/>
        </p:nvSpPr>
        <p:spPr>
          <a:xfrm>
            <a:off x="4205160" y="1682640"/>
            <a:ext cx="4643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принадлежит к семейству псовых. Издали его можно принять за крупную собаку . Вес старого матерого зверя достигает 50 килограммов. А изредка встречаются гиганты до 80 кг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Рисунок 2" descr="00018517.jpg"/>
          <p:cNvPicPr/>
          <p:nvPr/>
        </p:nvPicPr>
        <p:blipFill>
          <a:blip r:embed="rId1"/>
          <a:stretch/>
        </p:blipFill>
        <p:spPr>
          <a:xfrm>
            <a:off x="500040" y="1928880"/>
            <a:ext cx="3705120" cy="309564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1"/>
          <p:cNvSpPr/>
          <p:nvPr/>
        </p:nvSpPr>
        <p:spPr>
          <a:xfrm>
            <a:off x="3786120" y="1143000"/>
            <a:ext cx="5072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всего хищников в России – около ста тысяч особ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й стране Серая братия обитает повсюду: в тундре, в равнинных лесах, в горах, степях, даже в пустыне. Они живут там, где есть для них еда. По лесам бродят хищники серо-бурого цвета, в тундре они светлые, в горах Азии  живет очень редкий Красный вол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3" descr="D:\Мои документы\Рисунки и анимашки\Волк\84124022_0_103d7_612626cb_XL.jpg"/>
          <p:cNvPicPr/>
          <p:nvPr/>
        </p:nvPicPr>
        <p:blipFill>
          <a:blip r:embed="rId1"/>
          <a:srcRect l="4712" t="0" r="18298" b="0"/>
          <a:stretch/>
        </p:blipFill>
        <p:spPr>
          <a:xfrm>
            <a:off x="214200" y="1785960"/>
            <a:ext cx="3500640" cy="3011400"/>
          </a:xfrm>
          <a:prstGeom prst="rect">
            <a:avLst/>
          </a:prstGeom>
          <a:ln w="0">
            <a:noFill/>
          </a:ln>
        </p:spPr>
      </p:pic>
      <p:sp>
        <p:nvSpPr>
          <p:cNvPr id="4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Прямоугольник 1"/>
          <p:cNvSpPr/>
          <p:nvPr/>
        </p:nvSpPr>
        <p:spPr>
          <a:xfrm>
            <a:off x="1000080" y="428760"/>
            <a:ext cx="7858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 у волков густой, довольно длинный и состоит из двух слоёв, из-за чего иногда животное выглядит крупнее, чем оно есть на самом деле. Первый слой шерсти состоит из жёстких остевых волос, которые отталкивают воду и грязь. Второй слой, называемый подшёрстком, включает в себя водонепроницаемый пух, согревающий животно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Рисунок 2" descr="00018590.jpg"/>
          <p:cNvPicPr/>
          <p:nvPr/>
        </p:nvPicPr>
        <p:blipFill>
          <a:blip r:embed="rId1"/>
          <a:stretch/>
        </p:blipFill>
        <p:spPr>
          <a:xfrm>
            <a:off x="2286000" y="3571920"/>
            <a:ext cx="4714920" cy="3143160"/>
          </a:xfrm>
          <a:prstGeom prst="rect">
            <a:avLst/>
          </a:prstGeom>
          <a:ln w="0">
            <a:noFill/>
          </a:ln>
        </p:spPr>
      </p:pic>
      <p:sp>
        <p:nvSpPr>
          <p:cNvPr id="4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1"/>
          <p:cNvSpPr/>
          <p:nvPr/>
        </p:nvSpPr>
        <p:spPr>
          <a:xfrm>
            <a:off x="4286160" y="157176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ей весной или ранним летом пух комочками отслаивается от тела (линька), при этом животные трутся о камни или ветки деревьев ради облегчения этого 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Рисунок 2" descr="78гее54к.jpg"/>
          <p:cNvPicPr/>
          <p:nvPr/>
        </p:nvPicPr>
        <p:blipFill>
          <a:blip r:embed="rId1"/>
          <a:stretch/>
        </p:blipFill>
        <p:spPr>
          <a:xfrm>
            <a:off x="714240" y="1285920"/>
            <a:ext cx="3260880" cy="4543560"/>
          </a:xfrm>
          <a:prstGeom prst="rect">
            <a:avLst/>
          </a:prstGeom>
          <a:ln w="0">
            <a:noFill/>
          </a:ln>
        </p:spPr>
      </p:pic>
      <p:sp>
        <p:nvSpPr>
          <p:cNvPr id="4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4:09:09Z</dcterms:created>
  <dc:creator>школа</dc:creator>
  <dc:description/>
  <dc:language>en-US</dc:language>
  <cp:lastModifiedBy>LEGION2</cp:lastModifiedBy>
  <dcterms:modified xsi:type="dcterms:W3CDTF">2015-04-23T07:57:07Z</dcterms:modified>
  <cp:revision>26</cp:revision>
  <dc:subject/>
  <dc:title>Волки.</dc:title>
</cp:coreProperties>
</file>