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D27B-8707-4B09-8ABD-B9474C169E3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МБОУ «Алексее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рокопьева Л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C3C8-0B63-4DD8-9254-7A56C9CD00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воют на рассвете или в сумерках, но не каждый день. Начинается вой с сольного завывания вожака, которое существенно отличается от завывания других членов стаи. Остальные присоединяются чуть позже. Хоровой вой обычно заканчивается тявкающим визгливым л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6821-D69D-442F-A6FB-3873CBE1B0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е голосовое творчество стаи является признаком общественной жизни. Пристрастие волков к нему имеет эмоциональную основу и обостряет чувство принадлежности к стае. Также это средство общения с другими стаями и отбившимися собрать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A83C-061E-4D5C-8FD7-B5EB60CAC6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жак господствует над самцами стаи, а его подруга поддерживает порядок среди волчиц. Вожаки постоянно напоминают своим «подчиненным», кто в стае хозяин: рычат на них, кусают, гоняют и даже сбивают с ног, предпочитая проделывать это на глазах у всей ста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3A2A-2467-49FE-A0C6-B95B875F02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развивает скорость до 56 км/ч, совершает прыжки на 4,8 м. Добычей служит почти любой зверь – от мыши до оленя, но основа рациона – грызуны и зайцеобразные. Хищник очень прожорлив – за один раз он съедает до 8 кг мяса, которого ему хватает на несколько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D127-3A6F-404C-823D-7095EA9398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созданы для охоты самой природой. Зимой волк на снегу оставляют аккуратную цепочку следов – он ставит заднюю лапу точно за передней. Благодаря такой поступи он может бегать по любой местности и даже по глубокому снегу. Волчица трусит впереди, за ней гуськом, стараясь попасть след в след, тянутся волчата, а позади них старший волк. Пройдет по снежному полю весь выводок, а посмотришь на след - и кажется, что здесь пробежал только один зв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E226-8DE6-47F9-A984-5025FBFA7E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жие волка - это зубы. Их в его пасти целых 42. Впереди торчат 4 острых, кривых 5-ти сантиметровых клыка - по два сверху и снизу. Ими волк может прокусить плотную шкуру жертвы. А хищными, или плотоядными, зубами - так называют коренные зубы всех хищников - взрослый волк разгрызает даже бедренную кость ло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527B-E396-4754-B676-C10055AE7F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ищет себе пару. В это время самцы становятся непримиримыми. Они громко рычат, шерсть на спине становится дыбом, хвост агрессивно поджат – так  самцы выясняют, кто же из них сильнее. Победителю и суждено продолжить волчий род. Проигравший продолжает поиск самок. Бывает, что один из соперников погибает в жестоком сраж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46FF-6751-4C16-A8AB-124C0E7DE9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и приносят от 3 до 10-13 слепых волчат, прозревающих на 12-13 день. Подросших волчат родители кормят отрыжкой из съеденного мяса, позже - убитой   добычей. В выкармливании волчат принимает участие вся ст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E16E-52FF-4448-AA51-E5BF54CFEB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волки внимательно заботятся о своём потомстве, до 60-80 % щенков погибают в первый год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5556-938E-4EB1-B04C-1BCF457471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ь имеет высокоразвитую психику. Отличное чутьё, великолепное зрение и замечательный слух. Иначе быть не может: борьба за существование! Зверь очень хорошо видит и днем и ночью. К особенностям его зрения относится способность замечать даже малейшие следы на снегу, в лесу, на траве и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FAF6-B96D-45DF-9923-AEB37693ED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ий хмурый день холо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 – бродит зверь голод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лесам, полям он рыщ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ду себе он ищ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ах «серым» он зовё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му там достаё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обманет вдруг ли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верит в чуд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ути он ей попался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хвоста чуть не остал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бман – поди узн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от трусишка-за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за нос в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гда из лап уход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 всех добра не жд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ричит: «Ну, погоди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гко ему живё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этот зверь зовё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BB91-735D-4F20-9876-120966CD8C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 - достаточно территориальное существо. Размножающиеся пары, а нередко и стаи, живут оседло на определённых участках, границы которых обозначаются пахучими ме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0793-0C7A-40BE-A348-148305CCAB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фах, фольклоре и волшебных сказках волк олицетворяет свирепость, коварство, жестокость, зло, но также храбрость и победу. Кроме того, при определенных обстоятельствах волк мог стать могучим защитником беспомощных созданий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3995-E36B-4B6B-A1E5-379ABAD99B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ристианстве волк – зло, жестокость, хитрость и ересь, дьявол, угрожающий верующим. Лишь святым дана сила любвеобильного убеждения, чтобы приручить дикость свирепого зв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7BE0-D121-4A35-8E8A-8291FBFDA4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F337-821E-4670-9EC8-E1091B2CEC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, или серый волк, или обыкновенный волк – хищное  млекопитающее семейства псовых. Ученые уверяют, что волки обитают на Земле уже достаточно давно, произошли они от плотоядных хищников, живших 100 миллионов лет наз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D788-51F5-4C8C-ADA5-F2526C8106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ть этого хищника? Самое распространённое — Серый или Разбойник. Нередко эти слова стоят рядом. Более современное название — Санитар леса. Как мы видим, оценки противоположные. И на это есть свои прич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84D2-DE02-4427-B5C0-5E9BFBE945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олков ежегодно погибает очень много лосей, благородных оленей, косуль, кабанов и других животных. Огромный вред наносит хищник, животноводству и охотничьему хозяйству. Но в то же время санитар леса неоценим для экосистемы: он уничтожает больных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06CB-223A-449D-A224-4FCD03D33E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принадлежит к семейству псовых. Издали его можно принять за крупную собаку . Вес старого матерого зверя достигает 50 килограммов. А изредка встречаются гиганты до 80 кг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FC5C-0FE4-4D03-8EE5-42C757D0F9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хищников в России – около ста тысяч особ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Серая братия обитает повсюду: в тундре, в равнинных лесах, в горах, степях, даже в пустыне. Они живут там, где есть для них еда. По лесам бродят хищники серо-бурого цвета, в тундре они светлые, в горах Азии  живет очень редкий Красный вол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C212-10A6-4607-9E2D-83D68B787C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 у волков густой, довольно длинный и состоит из двух слоёв, из-за чего иногда животное выглядит крупнее, чем оно есть на самом деле. Первый слой шерсти состоит из жёстких остевых волос, которые отталкивают воду и грязь. Второй слой, называемый подшёрстком, включает в себя водонепроницаемый пух, согревающий живот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10A5-350A-47D0-A5B2-0A8FD08A34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й весной или ранним летом пух комочками отслаивается от тела (линька), при этом животные трутся о камни или ветки деревьев ради облегчения эт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2E69-6EB2-4F02-841E-AC8A11163A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7A99-41E0-499D-A587-EBAA0F62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8082-19CB-4991-9FDA-91771248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A3FD-3ACA-40D7-8BD6-BD9C61EC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5DB-68BD-4B7D-9A6B-9C6870BB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3302C-872B-4265-BBAB-B97FF214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2C0AC-2FF9-40FB-835B-6CE33590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B3D2F-2E49-4265-8501-76E61111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6BD9E-D7F4-441E-8088-1FC068E0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12DD6-9D16-4147-8273-B9F37F41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2AD4D-DEEA-454A-A07E-BFCD5555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64C59-674F-4F8A-95EE-573EC4D3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CFA-4C98-4101-9D92-C3F1FB6C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72E76-1D82-4D91-B244-77AD530B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6F23B-BCC3-442A-B4B8-06604BCA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89C04-A618-4ACA-87DB-B3AC6E43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7A88D-D050-485F-BD7C-3F5370CA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840F4-24D0-4A39-8C3B-DCA0B353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A06EB-24C8-443C-988A-BDA7B8EF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9653E-AE55-4074-9C64-434C6DDA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41D4C-1076-4645-87D6-34983E7E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AA1BD-291C-4804-A659-0D73DA52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E048C-0EC5-4956-AF50-5616E79D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0A63-CBEE-45FF-B53D-0D000CF2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C06F5-B71B-49D8-A54C-C8927C57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B85D3-CC12-4C87-BE8C-CFB8E160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FCD30-78C0-4BFD-B341-4B848C18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92B2D-9EBC-4299-8322-ED390329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E9238-1E49-4AAC-91D5-69F941A6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1BD44-3C23-4A57-BBDC-CF52C689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54260-2289-494A-AB3C-57CA406C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7B2B5-3B47-4E99-A8A0-0FB976E0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FEA7F-F940-4319-BF23-4427B775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3512D-480E-4951-8614-7221EA53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C99D-2A60-420E-81F7-658A559D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44AC1-41C6-40C7-8890-BA169940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492FA-5D67-496D-9C88-9284A10F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900C5-D613-4DF6-8B15-DB2C629D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26AD5-9B32-4E1B-AB00-7902504F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10D41-1885-40DD-9698-29D52E78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DE394-61BB-48B5-AE96-C86CDFBE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C7F83-93DC-4F15-BD6E-7CF3BFFF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3298D-12E3-42AB-A112-96655C49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4B255-1D1A-42B9-AD14-ABFD7525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0BBFD-89C3-44B7-90B6-E69E2912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15A2-FB3B-4241-9455-D2739B0D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54466-9DFE-4022-83F4-2E68DB4A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C31EF-F0C8-4EEB-A7D1-E67C0931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C9951-4925-48F9-A5C5-97F4444D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170A5-13B0-45F0-B2B1-E146DE95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2753B-6AE8-4124-8EFE-C2FAA8FF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79CE9-2163-4989-A14F-AB3E2E44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0D79F-7653-421D-973D-5D3A8D05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E9040-488B-4A69-8D70-0FC4BA8F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770B6-942C-4A09-81B8-0344152B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518F8-02B8-4143-A2AC-63945917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B6D7-366B-42BA-A6E2-D40C5DDB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434DC-D2BB-41E1-B186-BB3190B5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50077-11E8-432D-A6FB-7BB14D65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F7198-85E7-4FCA-AB56-84FD0549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E9D86-5B7D-4A44-B08D-95A06A69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D7CB7-BE6E-4EC0-8B8D-C31CB272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BE818-3FEC-4D30-A2D4-8C188060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4AA0E-CA68-405E-99D8-2A93ACD6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A1668-6A06-405E-B449-09833F72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3E93D-03A0-4DEB-BFDC-CE6936CC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EC676-4813-442A-8FBE-D0CAD34F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D708-7225-411D-834F-73880B84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8A240-2890-4E43-B2DA-6F8687B1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A4A02-4998-4D57-BBC3-034D25E3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72F17-7FCE-48D9-9B94-B8D4FEEB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FFE1-6584-456F-A78B-6F810376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CB0-0379-4469-B5BC-8A78D719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a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fa9d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fa9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A7E1-B6F9-4A80-A4D3-A12831A691A7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6219-6F55-46A8-BB78-1FE732321FD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F46D-565E-4C13-9B93-7A465162800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C836-48F7-4B2B-9100-E63154FD0BA0}" type="datetime">
              <a:rPr b="0" lang="ru-RU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6d63"/>
            </a:gs>
            <a:gs pos="100000">
              <a:srgbClr val="a5bd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1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f7164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728778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879b8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8bf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a675e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3847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ac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5750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615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dc3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c6e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9786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c54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6d63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82958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5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897d"/>
                  </a:gs>
                  <a:gs pos="100000">
                    <a:srgbClr val="a5bd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adc3b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0EF2-63ED-4CC1-9375-A24919CDF52D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99D0-E7E4-4B50-A405-199F9285C3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a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99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200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06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7CEC-2E10-4C79-80B7-7FB5F93F9744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FCE1-7F2D-4C5D-A063-13615BC9002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D85D-1DD1-4943-829E-9B71F3499A1A}" type="datetime">
              <a:rPr b="0" lang="ru-RU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1104-62AF-40C1-A9BD-067F0F963C5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6d63"/>
            </a:gs>
            <a:gs pos="100000">
              <a:srgbClr val="a5bd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1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f7164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728778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879b8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8bf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a675e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3847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ac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5750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615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dc3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c6e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9786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c54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6d63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82958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5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897d"/>
                  </a:gs>
                  <a:gs pos="100000">
                    <a:srgbClr val="a5bd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adc3b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9690-315D-4517-A0E5-FDE7F69C9035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70B1-4219-40A6-A4D8-D448B4B2E20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2428920" y="4643280"/>
            <a:ext cx="640080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Авто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МБОУ «Алексеевская СОШ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Прокопьева Л.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Прямоугольник 3" descr=""/>
          <p:cNvPicPr/>
          <p:nvPr/>
        </p:nvPicPr>
        <p:blipFill>
          <a:blip r:embed="rId1"/>
          <a:stretch/>
        </p:blipFill>
        <p:spPr>
          <a:xfrm>
            <a:off x="1779480" y="1182600"/>
            <a:ext cx="5364360" cy="249408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Прямоугольник 1"/>
          <p:cNvSpPr/>
          <p:nvPr/>
        </p:nvSpPr>
        <p:spPr>
          <a:xfrm>
            <a:off x="357120" y="857160"/>
            <a:ext cx="4143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воют на рассвете или в сумерках, но не каждый день. Начинается вой с сольного завывания вожака, которое существенно отличается от завывания других членов стаи. Остальные присоединяются чуть позже. Хоровой вой обычно заканчивается тявкающим визгливым ла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Рисунок 2" descr="00018529.jpg"/>
          <p:cNvPicPr/>
          <p:nvPr/>
        </p:nvPicPr>
        <p:blipFill>
          <a:blip r:embed="rId1"/>
          <a:stretch/>
        </p:blipFill>
        <p:spPr>
          <a:xfrm>
            <a:off x="5072040" y="1214280"/>
            <a:ext cx="3865680" cy="4343400"/>
          </a:xfrm>
          <a:prstGeom prst="rect">
            <a:avLst/>
          </a:prstGeom>
          <a:ln w="0">
            <a:noFill/>
          </a:ln>
        </p:spPr>
      </p:pic>
      <p:sp>
        <p:nvSpPr>
          <p:cNvPr id="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1"/>
          <p:cNvSpPr/>
          <p:nvPr/>
        </p:nvSpPr>
        <p:spPr>
          <a:xfrm>
            <a:off x="4572000" y="78588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е голосовое творчество стаи является признаком общественной жизни. Пристрастие волков к нему имеет эмоциональную основу и обостряет чувство принадлежности к стае. Также это средство общения с другими стаями и отбившимися собрать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Рисунок 2" descr="00018345.jpg"/>
          <p:cNvPicPr/>
          <p:nvPr/>
        </p:nvPicPr>
        <p:blipFill>
          <a:blip r:embed="rId1"/>
          <a:stretch/>
        </p:blipFill>
        <p:spPr>
          <a:xfrm>
            <a:off x="285840" y="1785960"/>
            <a:ext cx="4114800" cy="3214800"/>
          </a:xfrm>
          <a:prstGeom prst="rect">
            <a:avLst/>
          </a:prstGeom>
          <a:ln w="0">
            <a:noFill/>
          </a:ln>
        </p:spPr>
      </p:pic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2"/>
          <p:cNvSpPr/>
          <p:nvPr/>
        </p:nvSpPr>
        <p:spPr>
          <a:xfrm>
            <a:off x="5286240" y="785880"/>
            <a:ext cx="3857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жак господствует над самцами стаи, а его подруга поддерживает порядок среди волчиц. Вожаки постоянно напоминают своим «подчиненным», кто в стае хозяин: рычат на них, кусают, гоняют и даже сбивают с ног, предпочитая проделывать это на глазах у всей ста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4" descr="Фотографии живой природы &quot;Волки&quot;"/>
          <p:cNvPicPr/>
          <p:nvPr/>
        </p:nvPicPr>
        <p:blipFill>
          <a:blip r:embed="rId1"/>
          <a:stretch/>
        </p:blipFill>
        <p:spPr>
          <a:xfrm>
            <a:off x="357120" y="1714680"/>
            <a:ext cx="4762440" cy="357156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оугольник 1"/>
          <p:cNvSpPr/>
          <p:nvPr/>
        </p:nvSpPr>
        <p:spPr>
          <a:xfrm>
            <a:off x="285840" y="625320"/>
            <a:ext cx="4071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развивает скорость до 56 км/ч, совершает прыжки на 4,8 м. Добычей служит почти любой зверь – от мыши до оленя, но основа рациона – грызуны и зайцеобразные. Хищник очень прожорлив – за один раз он съедает до 8 кг мяса, которого ему хватает на несколько д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http://image.css-nkp.net/images/4570017j.jpg"/>
          <p:cNvPicPr/>
          <p:nvPr/>
        </p:nvPicPr>
        <p:blipFill>
          <a:blip r:embed="rId1"/>
          <a:stretch/>
        </p:blipFill>
        <p:spPr>
          <a:xfrm>
            <a:off x="4606920" y="171468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1"/>
          <p:cNvSpPr/>
          <p:nvPr/>
        </p:nvSpPr>
        <p:spPr>
          <a:xfrm>
            <a:off x="214200" y="2887560"/>
            <a:ext cx="892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созданы для охоты самой природой. Зимой волк на снегу оставляют аккуратную цепочку следов – он ставит заднюю лапу точно за передней. Благодаря такой поступи он может бегать по любой местности и даже по глубокому снегу. Волчица трусит впереди, за ней гуськом, стараясь попасть след в след, тянутся волчата, а позади них старший волк. Пройдет по снежному полю весь выводок, а посмотришь на след - и кажется, что здесь пробежал только один зве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 (500x259, 44Kb)"/>
          <p:cNvPicPr/>
          <p:nvPr/>
        </p:nvPicPr>
        <p:blipFill>
          <a:blip r:embed="rId1"/>
          <a:stretch/>
        </p:blipFill>
        <p:spPr>
          <a:xfrm>
            <a:off x="1643040" y="285840"/>
            <a:ext cx="5000760" cy="2590560"/>
          </a:xfrm>
          <a:prstGeom prst="rect">
            <a:avLst/>
          </a:prstGeom>
          <a:ln w="0">
            <a:noFill/>
          </a:ln>
        </p:spPr>
      </p:pic>
      <p:sp>
        <p:nvSpPr>
          <p:cNvPr id="4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Прямоугольник 1"/>
          <p:cNvSpPr/>
          <p:nvPr/>
        </p:nvSpPr>
        <p:spPr>
          <a:xfrm>
            <a:off x="214200" y="42876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жие волка - это зубы. Их в его пасти целых 42. Впереди торчат 4 острых, кривых 5-ти сантиметровых клыка - по два сверху и снизу. Ими волк может прокусить плотную шкуру жертвы. А хищными, или плотоядными, зубами - так называют коренные зубы всех хищников - взрослый волк разгрызает даже бедренную кость ло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http://img-fotki.yandex.ru/get/4511/30141762.674/0_7c05a_7867772f_XL"/>
          <p:cNvPicPr/>
          <p:nvPr/>
        </p:nvPicPr>
        <p:blipFill>
          <a:blip r:embed="rId1"/>
          <a:stretch/>
        </p:blipFill>
        <p:spPr>
          <a:xfrm>
            <a:off x="4714920" y="1571760"/>
            <a:ext cx="4143240" cy="37447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1"/>
          <p:cNvSpPr/>
          <p:nvPr/>
        </p:nvSpPr>
        <p:spPr>
          <a:xfrm>
            <a:off x="4786200" y="0"/>
            <a:ext cx="4357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ищет себе пару. В это время самцы становятся непримиримыми. Они громко рычат, шерсть на спине становится дыбом, хвост агрессивно поджат – так  самцы выясняют, кто же из них сильнее. Победителю и суждено продолжить волчий род. Проигравший продолжает поиск самок. Бывает, что один из соперников погибает в жестоком сра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Волк, или серый волк, или обыкновенный волк"/>
          <p:cNvPicPr/>
          <p:nvPr/>
        </p:nvPicPr>
        <p:blipFill>
          <a:blip r:embed="rId1"/>
          <a:stretch/>
        </p:blipFill>
        <p:spPr>
          <a:xfrm>
            <a:off x="214200" y="1571760"/>
            <a:ext cx="4286520" cy="320976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2"/>
          <p:cNvSpPr/>
          <p:nvPr/>
        </p:nvSpPr>
        <p:spPr>
          <a:xfrm>
            <a:off x="5214960" y="857160"/>
            <a:ext cx="3643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и приносят от 3 до 10-13 слепых волчат, прозревающих на 12-13 день. Подросших волчат родители кормят отрыжкой из съеденного мяса, позже - убитой   добычей. В выкармливании волчат принимает участие вся ст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http://forum.materinstvo.ru/uploads/1206806182/post-40296-1206998163.jpg"/>
          <p:cNvPicPr/>
          <p:nvPr/>
        </p:nvPicPr>
        <p:blipFill>
          <a:blip r:embed="rId1"/>
          <a:stretch/>
        </p:blipFill>
        <p:spPr>
          <a:xfrm>
            <a:off x="0" y="178596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4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Box 1"/>
          <p:cNvSpPr/>
          <p:nvPr/>
        </p:nvSpPr>
        <p:spPr>
          <a:xfrm>
            <a:off x="4572000" y="428616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волки внимательно заботятся о своём потомстве, до 60-80 % щенков погибают в первый год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" descr="http://lifeglobe.net/media/entry/1078/image_59.png"/>
          <p:cNvPicPr/>
          <p:nvPr/>
        </p:nvPicPr>
        <p:blipFill>
          <a:blip r:embed="rId1"/>
          <a:stretch/>
        </p:blipFill>
        <p:spPr>
          <a:xfrm>
            <a:off x="214200" y="357120"/>
            <a:ext cx="5248440" cy="394344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1"/>
          <p:cNvSpPr/>
          <p:nvPr/>
        </p:nvSpPr>
        <p:spPr>
          <a:xfrm>
            <a:off x="214200" y="301680"/>
            <a:ext cx="871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ь имеет высокоразвитую психику. Отличное чутьё, великолепное зрение и замечательный слух. Иначе быть не может: борьба за существование! Зверь очень хорошо видит и днем и ночью. К особенностям его зрения относится способность замечать даже малейшие следы на снегу, в лесу, на траве и на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Рисунок 2" descr="7000_d05c013204_84.252.140.65_36411.jpg"/>
          <p:cNvPicPr/>
          <p:nvPr/>
        </p:nvPicPr>
        <p:blipFill>
          <a:blip r:embed="rId1"/>
          <a:stretch/>
        </p:blipFill>
        <p:spPr>
          <a:xfrm>
            <a:off x="1785960" y="300024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1143000" y="333360"/>
            <a:ext cx="507204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ий хмурый день холод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 – бродит зверь голод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лесам, полям он рыщ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ду себе он ищ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ах «серым» он зовётс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му там достаё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обманет вдруг лис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верит в чуде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ути он ей попался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хвоста чуть не остал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бман – поди узнай-ка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от трусишка-зай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за нос вод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гда из лап уход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 всех добра не жди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ричит: «Ну, погоди!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гко ему живё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этот зверь зовётся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наида Торопч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Рисунок 3" descr="24_135370_profile.gif"/>
          <p:cNvPicPr/>
          <p:nvPr/>
        </p:nvPicPr>
        <p:blipFill>
          <a:blip r:embed="rId1"/>
          <a:stretch/>
        </p:blipFill>
        <p:spPr>
          <a:xfrm>
            <a:off x="5211720" y="1139760"/>
            <a:ext cx="3571920" cy="398628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рямоугольник 1"/>
          <p:cNvSpPr/>
          <p:nvPr/>
        </p:nvSpPr>
        <p:spPr>
          <a:xfrm>
            <a:off x="225360" y="292896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 - достаточно территориальное существо. Размножающиеся пары, а нередко и стаи, живут оседло на определённых участках, границы которых обозначаются пахучими мет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Рисунок 2" descr="00018593.jpg"/>
          <p:cNvPicPr/>
          <p:nvPr/>
        </p:nvPicPr>
        <p:blipFill>
          <a:blip r:embed="rId1"/>
          <a:stretch/>
        </p:blipFill>
        <p:spPr>
          <a:xfrm>
            <a:off x="4786200" y="214200"/>
            <a:ext cx="4143600" cy="3237120"/>
          </a:xfrm>
          <a:prstGeom prst="rect">
            <a:avLst/>
          </a:prstGeom>
          <a:ln w="0">
            <a:noFill/>
          </a:ln>
        </p:spPr>
      </p:pic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Прямоугольник 1"/>
          <p:cNvSpPr/>
          <p:nvPr/>
        </p:nvSpPr>
        <p:spPr>
          <a:xfrm>
            <a:off x="571680" y="857160"/>
            <a:ext cx="4000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фах, фольклоре и волшебных сказках волк олицетворяет свирепость, коварство, жестокость, зло, но также храбрость и победу. Кроме того, при определенных обстоятельствах волк мог стать могучим защитником беспомощных созданий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Рисунок 3" descr="6ba316d3b900.png"/>
          <p:cNvPicPr/>
          <p:nvPr/>
        </p:nvPicPr>
        <p:blipFill>
          <a:blip r:embed="rId1"/>
          <a:stretch/>
        </p:blipFill>
        <p:spPr>
          <a:xfrm>
            <a:off x="4572000" y="1285920"/>
            <a:ext cx="4276800" cy="4465440"/>
          </a:xfrm>
          <a:prstGeom prst="rect">
            <a:avLst/>
          </a:prstGeom>
          <a:ln w="0">
            <a:noFill/>
          </a:ln>
        </p:spPr>
      </p:pic>
      <p:sp>
        <p:nvSpPr>
          <p:cNvPr id="4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Прямоугольник 1"/>
          <p:cNvSpPr/>
          <p:nvPr/>
        </p:nvSpPr>
        <p:spPr>
          <a:xfrm>
            <a:off x="4572000" y="1428840"/>
            <a:ext cx="4071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ристианстве волк – зло, жестокость, хитрость и ересь, дьявол, угрожающий верующим. Лишь святым дана сила любвеобильного убеждения, чтобы приручить дикость свирепого зве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Рисунок 2" descr="10964.jpg"/>
          <p:cNvPicPr/>
          <p:nvPr/>
        </p:nvPicPr>
        <p:blipFill>
          <a:blip r:embed="rId1"/>
          <a:stretch/>
        </p:blipFill>
        <p:spPr>
          <a:xfrm>
            <a:off x="357120" y="1500120"/>
            <a:ext cx="3997440" cy="4267440"/>
          </a:xfrm>
          <a:prstGeom prst="rect">
            <a:avLst/>
          </a:prstGeom>
          <a:ln w="0">
            <a:noFill/>
          </a:ln>
        </p:spPr>
      </p:pic>
      <p:sp>
        <p:nvSpPr>
          <p:cNvPr id="4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Прямоугольник 3" descr=""/>
          <p:cNvPicPr/>
          <p:nvPr/>
        </p:nvPicPr>
        <p:blipFill>
          <a:blip r:embed="rId1"/>
          <a:stretch/>
        </p:blipFill>
        <p:spPr>
          <a:xfrm>
            <a:off x="1000080" y="1182600"/>
            <a:ext cx="7504200" cy="5175360"/>
          </a:xfrm>
          <a:prstGeom prst="rect">
            <a:avLst/>
          </a:prstGeom>
          <a:ln w="0">
            <a:noFill/>
          </a:ln>
        </p:spPr>
      </p:pic>
      <p:sp>
        <p:nvSpPr>
          <p:cNvPr id="4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5286240" y="500040"/>
            <a:ext cx="3857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, или серый волк, или обыкновенный волк – хищное  млекопитающее семейства псовых. Ученые уверяют, что волки обитают на Земле уже достаточно давно, произошли они от плотоядных хищников, живших 100 миллионов лет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http://img1.liveinternet.ru/images/foto/b/1/621/1520621/f_4234735.jpg"/>
          <p:cNvPicPr/>
          <p:nvPr/>
        </p:nvPicPr>
        <p:blipFill>
          <a:blip r:embed="rId1"/>
          <a:stretch/>
        </p:blipFill>
        <p:spPr>
          <a:xfrm>
            <a:off x="0" y="1571760"/>
            <a:ext cx="5054760" cy="3286080"/>
          </a:xfrm>
          <a:prstGeom prst="rect">
            <a:avLst/>
          </a:prstGeom>
          <a:ln w="0">
            <a:noFill/>
          </a:ln>
        </p:spPr>
      </p:pic>
      <p:sp>
        <p:nvSpPr>
          <p:cNvPr id="4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1"/>
          <p:cNvSpPr/>
          <p:nvPr/>
        </p:nvSpPr>
        <p:spPr>
          <a:xfrm>
            <a:off x="3857760" y="2143080"/>
            <a:ext cx="5072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ть этого хищника? Самое распространённое — Серый или Разбойник. Нередко эти слова стоят рядом. Более современное название — Санитар леса. Как мы видим, оценки противоположные. И на это есть свои прич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2" descr="00018501.jpg"/>
          <p:cNvPicPr/>
          <p:nvPr/>
        </p:nvPicPr>
        <p:blipFill>
          <a:blip r:embed="rId1"/>
          <a:stretch/>
        </p:blipFill>
        <p:spPr>
          <a:xfrm>
            <a:off x="285840" y="1071720"/>
            <a:ext cx="3165480" cy="4357440"/>
          </a:xfrm>
          <a:prstGeom prst="rect">
            <a:avLst/>
          </a:prstGeom>
          <a:ln w="0">
            <a:noFill/>
          </a:ln>
        </p:spPr>
      </p:pic>
      <p:sp>
        <p:nvSpPr>
          <p:cNvPr id="4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214200" y="1000080"/>
            <a:ext cx="4714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олков ежегодно погибает очень много лосей, благородных оленей, косуль, кабанов и других животных. Огромный вред наносит хищник, животноводству и охотничьему хозяйству. Но в то же время санитар леса неоценим для экосистемы: он уничтожает больных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Волк, или серый волк, или обыкновенный волк"/>
          <p:cNvPicPr/>
          <p:nvPr/>
        </p:nvPicPr>
        <p:blipFill>
          <a:blip r:embed="rId1"/>
          <a:stretch/>
        </p:blipFill>
        <p:spPr>
          <a:xfrm>
            <a:off x="5072040" y="1285920"/>
            <a:ext cx="3862440" cy="4259160"/>
          </a:xfrm>
          <a:prstGeom prst="rect">
            <a:avLst/>
          </a:prstGeom>
          <a:ln w="0">
            <a:noFill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1"/>
          <p:cNvSpPr/>
          <p:nvPr/>
        </p:nvSpPr>
        <p:spPr>
          <a:xfrm>
            <a:off x="4205160" y="1682640"/>
            <a:ext cx="4643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принадлежит к семейству псовых. Издали его можно принять за крупную собаку . Вес старого матерого зверя достигает 50 килограммов. А изредка встречаются гиганты до 80 кг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Рисунок 2" descr="00018517.jpg"/>
          <p:cNvPicPr/>
          <p:nvPr/>
        </p:nvPicPr>
        <p:blipFill>
          <a:blip r:embed="rId1"/>
          <a:stretch/>
        </p:blipFill>
        <p:spPr>
          <a:xfrm>
            <a:off x="500040" y="1928880"/>
            <a:ext cx="3705120" cy="309564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1"/>
          <p:cNvSpPr/>
          <p:nvPr/>
        </p:nvSpPr>
        <p:spPr>
          <a:xfrm>
            <a:off x="3786120" y="1143000"/>
            <a:ext cx="5072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хищников в России – около ста тысяч ос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Серая братия обитает повсюду: в тундре, в равнинных лесах, в горах, степях, даже в пустыне. Они живут там, где есть для них еда. По лесам бродят хищники серо-бурого цвета, в тундре они светлые, в горах Азии  живет очень редкий Красный вол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D:\Мои документы\Рисунки и анимашки\Волк\84124022_0_103d7_612626cb_XL.jpg"/>
          <p:cNvPicPr/>
          <p:nvPr/>
        </p:nvPicPr>
        <p:blipFill>
          <a:blip r:embed="rId1"/>
          <a:srcRect l="4712" t="0" r="18298" b="0"/>
          <a:stretch/>
        </p:blipFill>
        <p:spPr>
          <a:xfrm>
            <a:off x="214200" y="1785960"/>
            <a:ext cx="3500640" cy="301140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1"/>
          <p:cNvSpPr/>
          <p:nvPr/>
        </p:nvSpPr>
        <p:spPr>
          <a:xfrm>
            <a:off x="1000080" y="428760"/>
            <a:ext cx="7858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 у волков густой, довольно длинный и состоит из двух слоёв, из-за чего иногда животное выглядит крупнее, чем оно есть на самом деле. Первый слой шерсти состоит из жёстких остевых волос, которые отталкивают воду и грязь. Второй слой, называемый подшёрстком, включает в себя водонепроницаемый пух, согревающий живот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Рисунок 2" descr="00018590.jpg"/>
          <p:cNvPicPr/>
          <p:nvPr/>
        </p:nvPicPr>
        <p:blipFill>
          <a:blip r:embed="rId1"/>
          <a:stretch/>
        </p:blipFill>
        <p:spPr>
          <a:xfrm>
            <a:off x="2286000" y="3571920"/>
            <a:ext cx="4714920" cy="314316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"/>
          <p:cNvSpPr/>
          <p:nvPr/>
        </p:nvSpPr>
        <p:spPr>
          <a:xfrm>
            <a:off x="4286160" y="157176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й весной или ранним летом пух комочками отслаивается от тела (линька), при этом животные трутся о камни или ветки деревьев ради облегчения эт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Рисунок 2" descr="78гее54к.jpg"/>
          <p:cNvPicPr/>
          <p:nvPr/>
        </p:nvPicPr>
        <p:blipFill>
          <a:blip r:embed="rId1"/>
          <a:stretch/>
        </p:blipFill>
        <p:spPr>
          <a:xfrm>
            <a:off x="714240" y="1285920"/>
            <a:ext cx="3260880" cy="454356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4:09:09Z</dcterms:created>
  <dc:creator>школа</dc:creator>
  <dc:description/>
  <dc:language>en-US</dc:language>
  <cp:lastModifiedBy>LEGION2</cp:lastModifiedBy>
  <dcterms:modified xsi:type="dcterms:W3CDTF">2015-04-23T07:57:07Z</dcterms:modified>
  <cp:revision>26</cp:revision>
  <dc:subject/>
  <dc:title>Волки.</dc:title>
</cp:coreProperties>
</file>