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B760-1FE2-4C82-B573-6637056844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ленькие голов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я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7C29-9179-44CA-BD04-EDDBFFBB8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нарисуем голов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EB00-92D4-446A-A5C1-55F4ABE477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таких головастиков мы часто видим в п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8BB3-92C5-4DFA-8DB3-27D8233DFC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у головастика появляются за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70DC-B5DC-4D84-A649-012BC74F8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у малыша появились и пере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DF6C-4DF2-40B5-B0A6-6C1D0FAC6B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076-0842-45CC-8D89-14FAAD33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075-0F18-4272-81F9-6A5339D4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640-1758-45AB-9ACA-B7816997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678-5AE5-4A45-840C-38F865E9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DB5-66E8-4A87-9049-BC12B32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4A2-A6A6-43FC-9210-4FE79D9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319-E1A0-4445-AE83-83BA8371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9B1-FF20-42AB-AC6D-E4F80F0E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D6E-60C9-440F-B6B1-D06EF09A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AE2-9D8C-4D9B-B47B-3E6A531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DFF-67BF-4540-AE05-A9D4E76C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6B8-85DA-4E1F-9EDD-2106287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A837-48B5-4E0E-A8D0-4454FC1B7FC2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аленькие голова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зентация для 1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нарисуем голов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tumblr_l5m7ngRU241qawpgg"/>
          <p:cNvPicPr/>
          <p:nvPr/>
        </p:nvPicPr>
        <p:blipFill>
          <a:blip r:embed="rId1"/>
          <a:stretch/>
        </p:blipFill>
        <p:spPr>
          <a:xfrm>
            <a:off x="1403280" y="1628640"/>
            <a:ext cx="6194520" cy="4556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их головастиков мы часто видим в пр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_6a910_4eb43b5a_XL"/>
          <p:cNvPicPr/>
          <p:nvPr/>
        </p:nvPicPr>
        <p:blipFill>
          <a:blip r:embed="rId1"/>
          <a:stretch/>
        </p:blipFill>
        <p:spPr>
          <a:xfrm>
            <a:off x="1116000" y="1536840"/>
            <a:ext cx="6840720" cy="5337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tads030404"/>
          <p:cNvPicPr/>
          <p:nvPr/>
        </p:nvPicPr>
        <p:blipFill>
          <a:blip r:embed="rId1"/>
          <a:stretch/>
        </p:blipFill>
        <p:spPr>
          <a:xfrm>
            <a:off x="250920" y="130320"/>
            <a:ext cx="8642160" cy="6489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_6fa6a_a7009121_XL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53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ачала у головастика появляются за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final_FL005491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24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woodfrog_rana_sylvatica_larva_500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6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 у малыша появились и пере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0_59970_701ab2e7_XL"/>
          <p:cNvPicPr/>
          <p:nvPr/>
        </p:nvPicPr>
        <p:blipFill>
          <a:blip r:embed="rId1"/>
          <a:stretch/>
        </p:blipFill>
        <p:spPr>
          <a:xfrm>
            <a:off x="1476360" y="1700280"/>
            <a:ext cx="599292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kids-tadpole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99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630bd_d12c93e4_XL"/>
          <p:cNvPicPr/>
          <p:nvPr/>
        </p:nvPicPr>
        <p:blipFill>
          <a:blip r:embed="rId1"/>
          <a:stretch/>
        </p:blipFill>
        <p:spPr>
          <a:xfrm>
            <a:off x="179280" y="209520"/>
            <a:ext cx="8713800" cy="6448320"/>
          </a:xfrm>
          <a:prstGeom prst="rect">
            <a:avLst/>
          </a:prstGeom>
          <a:ln w="0">
            <a:noFill/>
          </a:ln>
        </p:spPr>
      </p:pic>
      <p:pic>
        <p:nvPicPr>
          <p:cNvPr id="74" name="MS90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90296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MS902969.wav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2:50Z</dcterms:created>
  <dc:creator>Мама</dc:creator>
  <dc:description/>
  <dc:language>en-US</dc:language>
  <cp:lastModifiedBy>LEGION2</cp:lastModifiedBy>
  <dcterms:modified xsi:type="dcterms:W3CDTF">2015-04-23T08:35:53Z</dcterms:modified>
  <cp:revision>4</cp:revision>
  <dc:subject/>
  <dc:title>Слайд 1</dc:title>
</cp:coreProperties>
</file>