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610A-50BB-4336-A96D-36E7A18172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ленькие голов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я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A27F-DA66-462F-86D9-669AC49C71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нарисуем голов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FA2C-2DFA-41E7-89ED-E3D88410F7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таких головастиков мы часто видим в п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84A8-1302-446A-AD9E-24227EDFED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чала у головастика появляются за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DBD2-B24E-4BBF-9E17-2969BA6CF9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у малыша появились и пере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986F-091E-4F2C-B6C8-01DBFEC5C9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D90-CB90-464D-8717-34B0B061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09B-7AF2-49A8-B3D2-C701346E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812-6296-4CB4-B5B8-9EBD2578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EDF-FBE9-4C36-A843-D11149AB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8B3-B449-49FC-B46A-8B08A50B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E74-F36D-488C-8842-453A86A7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A8B-BDDA-456C-844D-922B0BA0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6BB-4B41-4857-B2D1-BB4F81EE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56D-F2E8-48DA-B649-B01ED59F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7F4-3B99-409E-9986-C5F5ED4D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F15-311E-456E-8253-EB5A344A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13A-5585-41D9-B113-08498630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2C71-7642-499E-B81F-79936C1E1BC2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аленькие голова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езентация для 1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те нарисуем голов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tumblr_l5m7ngRU241qawpgg"/>
          <p:cNvPicPr/>
          <p:nvPr/>
        </p:nvPicPr>
        <p:blipFill>
          <a:blip r:embed="rId1"/>
          <a:stretch/>
        </p:blipFill>
        <p:spPr>
          <a:xfrm>
            <a:off x="1403280" y="1628640"/>
            <a:ext cx="6194520" cy="4556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таких головастиков мы часто видим в пру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_6a910_4eb43b5a_XL"/>
          <p:cNvPicPr/>
          <p:nvPr/>
        </p:nvPicPr>
        <p:blipFill>
          <a:blip r:embed="rId1"/>
          <a:stretch/>
        </p:blipFill>
        <p:spPr>
          <a:xfrm>
            <a:off x="1116000" y="1536840"/>
            <a:ext cx="6840720" cy="5337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tads030404"/>
          <p:cNvPicPr/>
          <p:nvPr/>
        </p:nvPicPr>
        <p:blipFill>
          <a:blip r:embed="rId1"/>
          <a:stretch/>
        </p:blipFill>
        <p:spPr>
          <a:xfrm>
            <a:off x="250920" y="130320"/>
            <a:ext cx="8642160" cy="6489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0_6fa6a_a7009121_XL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5372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ачала у головастика появляются за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final_FL005491"/>
          <p:cNvPicPr/>
          <p:nvPr/>
        </p:nvPicPr>
        <p:blipFill>
          <a:blip r:embed="rId1"/>
          <a:stretch/>
        </p:blipFill>
        <p:spPr>
          <a:xfrm>
            <a:off x="539640" y="1413000"/>
            <a:ext cx="7993080" cy="524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woodfrog_rana_sylvatica_larva_500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5689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еперь у малыша появились и пере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0_59970_701ab2e7_XL"/>
          <p:cNvPicPr/>
          <p:nvPr/>
        </p:nvPicPr>
        <p:blipFill>
          <a:blip r:embed="rId1"/>
          <a:stretch/>
        </p:blipFill>
        <p:spPr>
          <a:xfrm>
            <a:off x="1476360" y="1700280"/>
            <a:ext cx="5992920" cy="46227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kids-tadpole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99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_630bd_d12c93e4_XL"/>
          <p:cNvPicPr/>
          <p:nvPr/>
        </p:nvPicPr>
        <p:blipFill>
          <a:blip r:embed="rId1"/>
          <a:stretch/>
        </p:blipFill>
        <p:spPr>
          <a:xfrm>
            <a:off x="179280" y="209520"/>
            <a:ext cx="8713800" cy="6448320"/>
          </a:xfrm>
          <a:prstGeom prst="rect">
            <a:avLst/>
          </a:prstGeom>
          <a:ln w="0">
            <a:noFill/>
          </a:ln>
        </p:spPr>
      </p:pic>
      <p:pic>
        <p:nvPicPr>
          <p:cNvPr id="74" name="MS9029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MS90296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MS902969.wav" descr=""/>
          <p:cNvPicPr/>
          <p:nvPr/>
        </p:nvPicPr>
        <p:blipFill>
          <a:blip r:embed="rId4"/>
          <a:stretch/>
        </p:blipFill>
        <p:spPr>
          <a:xfrm>
            <a:off x="82692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6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26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22:50Z</dcterms:created>
  <dc:creator>Мама</dc:creator>
  <dc:description/>
  <dc:language>en-US</dc:language>
  <cp:lastModifiedBy>LEGION2</cp:lastModifiedBy>
  <dcterms:modified xsi:type="dcterms:W3CDTF">2015-04-23T08:35:53Z</dcterms:modified>
  <cp:revision>4</cp:revision>
  <dc:subject/>
  <dc:title>Слайд 1</dc:title>
</cp:coreProperties>
</file>