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9062-C49E-4EBF-9AAD-3B91A37D97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ленькие голова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зентация для 1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B637-F2C0-4325-8B64-1335EC637F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нарисуем голова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6E65-82C6-4532-B70B-F380579E8D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таких головастиков мы часто видим в пру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510B-64B1-485A-AC2F-C3AAE396BE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ачала у головастика появляются задние ла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922B-FC97-4A9F-82C4-02834C6E6A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у малыша появились и передние ла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578E-2A8F-467E-9AED-67BAB23EA4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6719-17DE-4470-940C-A5B23DCB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5B6F-6A88-4905-BB49-CD40CCBA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DC75-C076-45E3-B230-075F5326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19AD-D231-4EAB-97DA-A37907D3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F67-5D38-4DBC-AED4-5C4DAEB0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F11-F8C7-4C37-AD1E-59AE7D71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4080-7C23-4C93-88ED-AB5C3B6E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F644-4F46-4182-8BB4-5167E576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C5EE-7D44-4E9C-9C8B-93B7C5EA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F12B-A649-45D8-AEEB-9FCC98CA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4BD6-6896-4BD9-ABAE-8444937C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0B01-06CA-4ABA-8147-D5D0B359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6A46-8AEA-4D83-86ED-4CFD90879193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аленькие голова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езентация для 1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вайте нарисуем голова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tumblr_l5m7ngRU241qawpgg"/>
          <p:cNvPicPr/>
          <p:nvPr/>
        </p:nvPicPr>
        <p:blipFill>
          <a:blip r:embed="rId1"/>
          <a:stretch/>
        </p:blipFill>
        <p:spPr>
          <a:xfrm>
            <a:off x="1403280" y="1628640"/>
            <a:ext cx="6194520" cy="4556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т таких головастиков мы часто видим в пру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0_6a910_4eb43b5a_XL"/>
          <p:cNvPicPr/>
          <p:nvPr/>
        </p:nvPicPr>
        <p:blipFill>
          <a:blip r:embed="rId1"/>
          <a:stretch/>
        </p:blipFill>
        <p:spPr>
          <a:xfrm>
            <a:off x="1116000" y="1536840"/>
            <a:ext cx="6840720" cy="5337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tads030404"/>
          <p:cNvPicPr/>
          <p:nvPr/>
        </p:nvPicPr>
        <p:blipFill>
          <a:blip r:embed="rId1"/>
          <a:stretch/>
        </p:blipFill>
        <p:spPr>
          <a:xfrm>
            <a:off x="250920" y="130320"/>
            <a:ext cx="8642160" cy="648972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0_6fa6a_a7009121_XL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5372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начала у головастика появляются задние лап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final_FL005491"/>
          <p:cNvPicPr/>
          <p:nvPr/>
        </p:nvPicPr>
        <p:blipFill>
          <a:blip r:embed="rId1"/>
          <a:stretch/>
        </p:blipFill>
        <p:spPr>
          <a:xfrm>
            <a:off x="539640" y="1413000"/>
            <a:ext cx="7993080" cy="5249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woodfrog_rana_sylvatica_larva_500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65689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теперь у малыша появились и передние лап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0_59970_701ab2e7_XL"/>
          <p:cNvPicPr/>
          <p:nvPr/>
        </p:nvPicPr>
        <p:blipFill>
          <a:blip r:embed="rId1"/>
          <a:stretch/>
        </p:blipFill>
        <p:spPr>
          <a:xfrm>
            <a:off x="1476360" y="1700280"/>
            <a:ext cx="5992920" cy="46227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kids-tadpole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57992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0_630bd_d12c93e4_XL"/>
          <p:cNvPicPr/>
          <p:nvPr/>
        </p:nvPicPr>
        <p:blipFill>
          <a:blip r:embed="rId1"/>
          <a:stretch/>
        </p:blipFill>
        <p:spPr>
          <a:xfrm>
            <a:off x="179280" y="209520"/>
            <a:ext cx="8713800" cy="6448320"/>
          </a:xfrm>
          <a:prstGeom prst="rect">
            <a:avLst/>
          </a:prstGeom>
          <a:ln w="0">
            <a:noFill/>
          </a:ln>
        </p:spPr>
      </p:pic>
      <p:pic>
        <p:nvPicPr>
          <p:cNvPr id="74" name="MS902967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5" name="MS902968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6" name="MS902969.wav" descr=""/>
          <p:cNvPicPr/>
          <p:nvPr/>
        </p:nvPicPr>
        <p:blipFill>
          <a:blip r:embed="rId4"/>
          <a:stretch/>
        </p:blipFill>
        <p:spPr>
          <a:xfrm>
            <a:off x="826920" y="98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68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268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26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5:22:50Z</dcterms:created>
  <dc:creator>Мама</dc:creator>
  <dc:description/>
  <dc:language>en-US</dc:language>
  <cp:lastModifiedBy>LEGION2</cp:lastModifiedBy>
  <dcterms:modified xsi:type="dcterms:W3CDTF">2015-04-23T08:35:53Z</dcterms:modified>
  <cp:revision>4</cp:revision>
  <dc:subject/>
  <dc:title>Слайд 1</dc:title>
</cp:coreProperties>
</file>