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A059-C56A-4333-9270-891197FDF9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ленькие голова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зентация для 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A7C1-A884-49DD-AF35-62AFE01FB8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нарисуем голова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4765-5D44-4563-B8C5-ADE18AED22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таких головастиков мы часто видим в пр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5F70-17BD-4D9E-B376-2CFE449E94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ачала у головастика появляются задние ла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51E2-081E-48B5-89C1-7B5217BC3F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у малыша появились и передние ла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FE94-7F76-4F6D-80FD-85F4634B22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3CA7-6610-4529-98C3-81D7E7B4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84EB-CFE4-45B1-83BB-4F50D82C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152-EF4A-4A47-84B6-CE2AD943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091-F88E-4B79-AF5B-62682CBF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96C-0E71-446F-85FE-A5429A1E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B38-6389-417F-9F73-9DEEE515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6D4F-0257-4B65-A685-5E8C1872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113-2A85-467A-AAC9-5A7C899A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006-C374-4163-A58D-F9C6DFCA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F463-9652-4FEE-AC5A-93C8363E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69A-30C9-44F8-9A9D-0D924EF4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470B-5E84-4917-8B5A-87B8286D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5987-B6B8-424D-A17F-39AE97291A21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аленькие голова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езентация для 1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вайте нарисуем голова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tumblr_l5m7ngRU241qawpgg"/>
          <p:cNvPicPr/>
          <p:nvPr/>
        </p:nvPicPr>
        <p:blipFill>
          <a:blip r:embed="rId1"/>
          <a:stretch/>
        </p:blipFill>
        <p:spPr>
          <a:xfrm>
            <a:off x="1403280" y="1628640"/>
            <a:ext cx="6194520" cy="4556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т таких головастиков мы часто видим в пру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0_6a910_4eb43b5a_XL"/>
          <p:cNvPicPr/>
          <p:nvPr/>
        </p:nvPicPr>
        <p:blipFill>
          <a:blip r:embed="rId1"/>
          <a:stretch/>
        </p:blipFill>
        <p:spPr>
          <a:xfrm>
            <a:off x="1116000" y="1536840"/>
            <a:ext cx="6840720" cy="5337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tads030404"/>
          <p:cNvPicPr/>
          <p:nvPr/>
        </p:nvPicPr>
        <p:blipFill>
          <a:blip r:embed="rId1"/>
          <a:stretch/>
        </p:blipFill>
        <p:spPr>
          <a:xfrm>
            <a:off x="250920" y="130320"/>
            <a:ext cx="8642160" cy="64897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0_6fa6a_a7009121_XL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5372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начала у головастика появляются задние ла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final_FL005491"/>
          <p:cNvPicPr/>
          <p:nvPr/>
        </p:nvPicPr>
        <p:blipFill>
          <a:blip r:embed="rId1"/>
          <a:stretch/>
        </p:blipFill>
        <p:spPr>
          <a:xfrm>
            <a:off x="539640" y="1413000"/>
            <a:ext cx="7993080" cy="5249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woodfrog_rana_sylvatica_larva_500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65689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теперь у малыша появились и передние ла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0_59970_701ab2e7_XL"/>
          <p:cNvPicPr/>
          <p:nvPr/>
        </p:nvPicPr>
        <p:blipFill>
          <a:blip r:embed="rId1"/>
          <a:stretch/>
        </p:blipFill>
        <p:spPr>
          <a:xfrm>
            <a:off x="1476360" y="1700280"/>
            <a:ext cx="5992920" cy="46227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kids-tadpole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57992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0_630bd_d12c93e4_XL"/>
          <p:cNvPicPr/>
          <p:nvPr/>
        </p:nvPicPr>
        <p:blipFill>
          <a:blip r:embed="rId1"/>
          <a:stretch/>
        </p:blipFill>
        <p:spPr>
          <a:xfrm>
            <a:off x="179280" y="209520"/>
            <a:ext cx="8713800" cy="6448320"/>
          </a:xfrm>
          <a:prstGeom prst="rect">
            <a:avLst/>
          </a:prstGeom>
          <a:ln w="0">
            <a:noFill/>
          </a:ln>
        </p:spPr>
      </p:pic>
      <p:pic>
        <p:nvPicPr>
          <p:cNvPr id="74" name="MS90296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MS902968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MS902969.wav" descr=""/>
          <p:cNvPicPr/>
          <p:nvPr/>
        </p:nvPicPr>
        <p:blipFill>
          <a:blip r:embed="rId4"/>
          <a:stretch/>
        </p:blipFill>
        <p:spPr>
          <a:xfrm>
            <a:off x="826920" y="98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68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26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26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5:22:50Z</dcterms:created>
  <dc:creator>Мама</dc:creator>
  <dc:description/>
  <dc:language>en-US</dc:language>
  <cp:lastModifiedBy>LEGION2</cp:lastModifiedBy>
  <dcterms:modified xsi:type="dcterms:W3CDTF">2015-04-23T08:35:53Z</dcterms:modified>
  <cp:revision>4</cp:revision>
  <dc:subject/>
  <dc:title>Слайд 1</dc:title>
</cp:coreProperties>
</file>