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C3E4-54CA-426C-A651-DC4023F478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ленькие голова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зентация для 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693C-69DD-4BFE-934F-7B866C0BA5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нарисуем голов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A3C1-2C4E-496E-A36F-C6064CEAE4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таких головастиков мы часто видим в пр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0F64-8524-414A-B3C2-09661F7FC1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чала у головастика появляются задние ла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CCFD-84A0-4CEC-B5D6-5AA76A5B39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у малыша появились и передние ла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ED3C-218B-4393-87A1-293D2C7E87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538-5666-4B78-9F85-5D4877EB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497-5387-4870-8A56-648C56F5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1E05-2FE5-4AAE-8743-549D6434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908-B20C-4542-90B6-AB53B3DE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FA5-6FBA-4D13-B715-03E3A24B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E9B-9E05-4000-8F9B-DE1C87E0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E5C-EA7C-434C-B5BA-E41A3EE3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BA4-34F0-4828-936D-9666326D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C71-E992-4827-AE1F-0A8C70A1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DC7-54BD-4658-A06A-F369B9AA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1E36-8A8B-4DB8-A461-60F7481F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3C5-A200-4E5D-9722-05DB5272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317F-845F-4BD8-BB4F-20467AA36C17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аленькие голова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езентация для 1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айте нарисуем голов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tumblr_l5m7ngRU241qawpgg"/>
          <p:cNvPicPr/>
          <p:nvPr/>
        </p:nvPicPr>
        <p:blipFill>
          <a:blip r:embed="rId1"/>
          <a:stretch/>
        </p:blipFill>
        <p:spPr>
          <a:xfrm>
            <a:off x="1403280" y="1628640"/>
            <a:ext cx="6194520" cy="4556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 таких головастиков мы часто видим в пру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0_6a910_4eb43b5a_XL"/>
          <p:cNvPicPr/>
          <p:nvPr/>
        </p:nvPicPr>
        <p:blipFill>
          <a:blip r:embed="rId1"/>
          <a:stretch/>
        </p:blipFill>
        <p:spPr>
          <a:xfrm>
            <a:off x="1116000" y="1536840"/>
            <a:ext cx="6840720" cy="5337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tads030404"/>
          <p:cNvPicPr/>
          <p:nvPr/>
        </p:nvPicPr>
        <p:blipFill>
          <a:blip r:embed="rId1"/>
          <a:stretch/>
        </p:blipFill>
        <p:spPr>
          <a:xfrm>
            <a:off x="250920" y="130320"/>
            <a:ext cx="8642160" cy="64897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0_6fa6a_a7009121_XL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5372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ачала у головастика появляются задние ла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final_FL005491"/>
          <p:cNvPicPr/>
          <p:nvPr/>
        </p:nvPicPr>
        <p:blipFill>
          <a:blip r:embed="rId1"/>
          <a:stretch/>
        </p:blipFill>
        <p:spPr>
          <a:xfrm>
            <a:off x="539640" y="1413000"/>
            <a:ext cx="7993080" cy="5249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woodfrog_rana_sylvatica_larva_500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65689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теперь у малыша появились и передние ла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0_59970_701ab2e7_XL"/>
          <p:cNvPicPr/>
          <p:nvPr/>
        </p:nvPicPr>
        <p:blipFill>
          <a:blip r:embed="rId1"/>
          <a:stretch/>
        </p:blipFill>
        <p:spPr>
          <a:xfrm>
            <a:off x="1476360" y="1700280"/>
            <a:ext cx="5992920" cy="46227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kids-tadpole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7992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0_630bd_d12c93e4_XL"/>
          <p:cNvPicPr/>
          <p:nvPr/>
        </p:nvPicPr>
        <p:blipFill>
          <a:blip r:embed="rId1"/>
          <a:stretch/>
        </p:blipFill>
        <p:spPr>
          <a:xfrm>
            <a:off x="179280" y="209520"/>
            <a:ext cx="8713800" cy="6448320"/>
          </a:xfrm>
          <a:prstGeom prst="rect">
            <a:avLst/>
          </a:prstGeom>
          <a:ln w="0">
            <a:noFill/>
          </a:ln>
        </p:spPr>
      </p:pic>
      <p:pic>
        <p:nvPicPr>
          <p:cNvPr id="74" name="MS9029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MS90296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MS902969.wav" descr=""/>
          <p:cNvPicPr/>
          <p:nvPr/>
        </p:nvPicPr>
        <p:blipFill>
          <a:blip r:embed="rId4"/>
          <a:stretch/>
        </p:blipFill>
        <p:spPr>
          <a:xfrm>
            <a:off x="826920" y="98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8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26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26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5:22:50Z</dcterms:created>
  <dc:creator>Мама</dc:creator>
  <dc:description/>
  <dc:language>en-US</dc:language>
  <cp:lastModifiedBy>LEGION2</cp:lastModifiedBy>
  <dcterms:modified xsi:type="dcterms:W3CDTF">2015-04-23T08:35:53Z</dcterms:modified>
  <cp:revision>4</cp:revision>
  <dc:subject/>
  <dc:title>Слайд 1</dc:title>
</cp:coreProperties>
</file>