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29FF-6460-4AFF-9747-09EA42BE7F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CF92-9598-42B3-B5A0-7BD9940FA6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– вред или польз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лыгина М.Д., 2 «В»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приготовим насыщенный солевой раствор. Возьмем лист цветной бумаги (я взяла черный), кисть и попробуем что-нибудь нарисовать этим раствором. Оставляем рисунок на ночь в теплом месте. Утром наш рисунок проявит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Вода испарилась, а соль осталась, образовав мельчайшие кристалл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8E1D-2F3B-43CC-A769-721E79D16C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приготовим насыщенный солевой раствор. На карандаш привяжем толстую нить, опустим нить в банку и оставим ее в теплом месте на 3 нед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кристаллов соли показано на фот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108E-535E-4159-83BA-AD20980D5D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ы соли неисчерпаемы. Соль добывают разными способами, в пищу употребляем, в основном, каменную и самосадочную сол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используется в промышленности, медицине, в быту. Без соли человеку нельзя, но и пересолить страшно. Чем станет для нас соль – «белым золотом» или «белой смертью» - решать каждому из нас. Но лучше рационально использовать этот удивительный минера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99F6-45BC-4DC8-A234-66BB0F4909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BB68-9B71-4860-9282-DB55143B44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накомство» с солью (история, получение соли, применение сол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свойств соли (проведение опытов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щивание кристаллов поваренной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3118-1F18-47B5-A77A-D88030E561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ол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рошлом соль это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ю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 обряд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 достатка и благополуч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C7FC-64DD-4ED0-B35B-3E4514AD1B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для организма человека и живот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ая роль в рабо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ервной системы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ищеварительной системы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вижения мышц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спасает организм от обезвожи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Избыточное потребление соли ведет к болезням сердца и сосудов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потребления соли для человека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 граммов в сут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ение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быт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права для различных блю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ервант пищевых продуктов (рыба, мясо, овощи, грибы и т.д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медицин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лактика недостатка йода  и фтора в организм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зиологический раство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ль в промышленности и техник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готовление пластмасс, алюминия, бумаги, мыла, стекла, аккумулято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при обработке мехов и кож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гент для борьбы с гололе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4BCA-50C0-4CA3-9687-941BC7277A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менная или твердая – добывается шахтным или карьерным способ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садочная или озерная - добывается на дне солевых оз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дочная – при испарении воды под воздействием солнца, соль оседает на дне бассейн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арочная – получается выпариванием воды из рассол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574D-6832-4F51-AEB3-203A19B38A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йства со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рачный кристалл не имеющий запаха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банку с водой, опустим туда ложку соли и перемешаем, кристаллы соли исчезнут – растворятся в вод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Соль растворяется в воде.</a:t>
            </a:r>
            <a:r>
              <a:rPr b="1" lang="ru-RU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F95D-9AC4-4925-AC63-F27F924196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банку с теплой водой и опустим туда сырое яйцо – оно утонет. Затем в банку добавляем соль до тех пор, пока на дне банки не останутся кристаллы соли, которые не будут растворяться (получим насыщенный солевой раствор). В этот раствор опустим яйцо – оно будет плавать на поверхности во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Соль увеличивает плотность вод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в соленой воде тело не тонет. На территории нашей республики есть озеро Тус, где каждый человек может убедиться в этом свойстве насыщенного солевого раство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009D-CE60-4FE9-904E-EA8FC8E127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Опыт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озьмем миску с водой, опустим в нее кусочек льда, положим на него спичку и посыпем вокруг спички немного соли. Через несколько секунд кусочек льда можно будет поднять за спичку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ь заставила таять лед вокруг спички, потому что </a:t>
            </a:r>
            <a:r>
              <a:rPr b="0" lang="ru-RU" sz="1200" spc="-1" strike="noStrike">
                <a:solidFill>
                  <a:srgbClr val="ccccff"/>
                </a:solidFill>
                <a:latin typeface="Times New Roman"/>
              </a:rPr>
              <a:t>температура замерзания соленой воды ниже, чем пресно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леный раствор постепенно стекает в миску, и спичка примерзает к кусочку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7E0B-61C7-49F0-B175-742F9F5FAC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BAC2-ABE0-453C-8B9E-B78B51FF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B30E-8AF9-493E-BE54-957E51CB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E54C-DD82-4F9A-A9B4-792D814D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4722-AA87-4844-82D7-6C60D92B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169E-2239-47A8-B450-2668F955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A996-4F97-428E-861B-5F8D72D9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A932-82D5-4107-A384-8E3F1145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CD61-204B-42BC-B2BB-9D00BE3F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6E8E-2991-4D24-B337-E2D5497D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32DF-1354-4422-8CE7-5DDDBE47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62D7-4379-451B-A898-921E0AB2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290-6D23-4C75-8C9C-525561CB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91C5-7DC9-4683-9010-2257DDDC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4501-2E75-488B-83E3-E264CB65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697F-838F-4919-A9C5-0CEF9E93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D3DA-3E89-4EC6-ADC3-E4E7B47A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02BE-73D5-4E4A-BF37-4CA3DE5D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8F3-E727-4AC4-B6F0-D646A772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A209-9021-4951-AB1C-D3859733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6C1-FBB6-4EFE-93C5-C0C23EC6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7C0-1480-49A8-8969-CF24A74B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5AB-6424-4E2E-A34B-D2E2D201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208-C55C-4267-A3EC-DA6328D1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E7A5-A99D-4C0A-8070-E6A9C1DA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9715-893B-44D5-8019-222E471077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6F6F-79B5-43AD-BF7D-A68E3C366AF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s://s3-eu-west-1.amazonaws.com/uploads.drugiegoroda.ru/44/files/2010/11/12c060d5a41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39640" y="1380600"/>
            <a:ext cx="665172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ль – вред или польза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076720" y="6021360"/>
            <a:ext cx="3888000" cy="4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лыгина М.Д., 2 «В» клас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рис солью"/>
          <p:cNvPicPr/>
          <p:nvPr/>
        </p:nvPicPr>
        <p:blipFill>
          <a:blip r:embed="rId1"/>
          <a:stretch/>
        </p:blipFill>
        <p:spPr>
          <a:xfrm>
            <a:off x="2397240" y="2111400"/>
            <a:ext cx="4297320" cy="32241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1"/>
          <p:cNvSpPr/>
          <p:nvPr/>
        </p:nvSpPr>
        <p:spPr>
          <a:xfrm>
            <a:off x="1150920" y="208080"/>
            <a:ext cx="75042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4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приготовим насыщенный солевой раствор. Возьмем лист цветной бумаги (я взяла черный), кисть и попробуем что-нибудь нарисовать этим раствором. Оставляем рисунок на ночь в теплом месте. Утром наш рисунок проявитс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1163520" y="5481720"/>
            <a:ext cx="74916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Вода испарилась, а соль осталась, образовав мельчайшие кристаллик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через 2 нед"/>
          <p:cNvPicPr/>
          <p:nvPr/>
        </p:nvPicPr>
        <p:blipFill>
          <a:blip r:embed="rId1"/>
          <a:stretch/>
        </p:blipFill>
        <p:spPr>
          <a:xfrm>
            <a:off x="4014720" y="2065320"/>
            <a:ext cx="4498920" cy="1320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через нед 1"/>
          <p:cNvPicPr/>
          <p:nvPr/>
        </p:nvPicPr>
        <p:blipFill>
          <a:blip r:embed="rId2"/>
          <a:stretch/>
        </p:blipFill>
        <p:spPr>
          <a:xfrm>
            <a:off x="839880" y="2549520"/>
            <a:ext cx="2954160" cy="33084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1150920" y="208080"/>
            <a:ext cx="750420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5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приготовим насыщенный солевой раствор. На карандаш привяжем толстую нить, опустим нить в банку и оставим ее в теплом месте на 3 недел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Формирование кристаллов соли показано на фот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11" descr="через 3 нед 1"/>
          <p:cNvPicPr/>
          <p:nvPr/>
        </p:nvPicPr>
        <p:blipFill>
          <a:blip r:embed="rId3"/>
          <a:stretch/>
        </p:blipFill>
        <p:spPr>
          <a:xfrm>
            <a:off x="4029120" y="3449520"/>
            <a:ext cx="4597200" cy="30639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422440" y="687240"/>
            <a:ext cx="4753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04640" y="2635200"/>
            <a:ext cx="851220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Запасы соли неисчерпаемы. Соль добывают разными способами, в пищу употребляем, в основном, каменную и самосадочную соль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используется в промышленности, медицине, в быту. Без соли человеку нельзя, но и пересолить страшно. Чем станет для нас соль – «белым золотом» или «белой смертью» - решать каждому из нас. Но лучше рационально использовать этот удивительный минера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ь работ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76360" y="2421000"/>
            <a:ext cx="7491600" cy="29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«знакомство» с солью (история, получение соли, применение соли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зучение свойств соли (проведение опытов)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ыращивание кристаллов поваренной со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00120" y="1155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Что такое соль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6360" y="1267920"/>
            <a:ext cx="7491600" cy="20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прошлом соль это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валю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бъект обряд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ризнак достатка и благополуч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403360" y="3344760"/>
            <a:ext cx="5651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ейчас соль это недорогой и распространенный продук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476360" y="4365720"/>
            <a:ext cx="74916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называют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галитом в минералог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поваренной или пищевой в технике и в быт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хлоридом натрия в хим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34920" y="188640"/>
            <a:ext cx="59418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ль для организма человека и животны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7491600" cy="44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Важная роль в рабо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нервной сист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ищеварительной систем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движения мышц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оль спасает организм от обезвожи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Избыточное потребление соли ведет к болезням сердца и сосудов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Норма потребления соли для человека –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5 граммов в сут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411280" y="260280"/>
            <a:ext cx="475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менение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403280" y="1195560"/>
            <a:ext cx="74916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быту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иправа для различных блюд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консервант пищевых продуктов (рыба, мясо, овощи, грибы и т.д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1403280" y="3068640"/>
            <a:ext cx="7491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медицин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профилактика недостатка йода  и фтора в организм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физиологический раство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403280" y="4522680"/>
            <a:ext cx="7491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оль в промышленности и техник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зготовление пластмасс, алюминия, бумаги, мыла, стекла, аккумулятор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спользование при обработке мехов и кож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реагент для борьбы с гололед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1979640" y="620640"/>
            <a:ext cx="56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иды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246320" y="1835280"/>
            <a:ext cx="749124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каменная или твердая – добывается шахтным или карьерным способом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самосадочная или озерная - добывается на дне солевых озер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садочная – при испарении воды под воздействием солнца, соль оседает на дне бассейнов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выварочная – получается выпариванием воды из рассолов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9" descr="1374633827_012[1]"/>
          <p:cNvPicPr/>
          <p:nvPr/>
        </p:nvPicPr>
        <p:blipFill>
          <a:blip r:embed="rId1"/>
          <a:stretch/>
        </p:blipFill>
        <p:spPr>
          <a:xfrm>
            <a:off x="971640" y="4076640"/>
            <a:ext cx="3779640" cy="2567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1365119147_img[1]"/>
          <p:cNvPicPr/>
          <p:nvPr/>
        </p:nvPicPr>
        <p:blipFill>
          <a:blip r:embed="rId2"/>
          <a:stretch/>
        </p:blipFill>
        <p:spPr>
          <a:xfrm>
            <a:off x="5292720" y="4005360"/>
            <a:ext cx="3255840" cy="26082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979640" y="620640"/>
            <a:ext cx="56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войства сол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187280" y="1952640"/>
            <a:ext cx="74916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– прозрачный кристалл не имеющий запах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0001-001-Soli[1]"/>
          <p:cNvPicPr/>
          <p:nvPr/>
        </p:nvPicPr>
        <p:blipFill>
          <a:blip r:embed="rId1"/>
          <a:stretch/>
        </p:blipFill>
        <p:spPr>
          <a:xfrm>
            <a:off x="2733840" y="2403360"/>
            <a:ext cx="3301920" cy="3024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250920" y="5551560"/>
            <a:ext cx="8713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1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банку с водой, опустим туда ложку соли и перемешаем, кристаллы соли исчезнут – растворятся в вод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ль растворяется в воде.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1163520" y="208080"/>
            <a:ext cx="74916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2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банку с теплой водой и опустим туда сырое яйцо – оно утонет. Затем в банку добавляем соль до тех пор, пока на дне банки не останутся кристаллы соли, которые не будут растворяться (получим насыщенный солевой раствор). В этот раствор опустим яйцо – оно будет плавать на поверхности вод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9" descr="яйцо"/>
          <p:cNvPicPr/>
          <p:nvPr/>
        </p:nvPicPr>
        <p:blipFill>
          <a:blip r:embed="rId1"/>
          <a:stretch/>
        </p:blipFill>
        <p:spPr>
          <a:xfrm>
            <a:off x="297000" y="2216160"/>
            <a:ext cx="3168360" cy="3035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яйцо 1"/>
          <p:cNvPicPr/>
          <p:nvPr/>
        </p:nvPicPr>
        <p:blipFill>
          <a:blip r:embed="rId2"/>
          <a:stretch/>
        </p:blipFill>
        <p:spPr>
          <a:xfrm>
            <a:off x="3571920" y="2201760"/>
            <a:ext cx="2531880" cy="3044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https://s3-eu-west-1.amazonaws.com/uploads.drugiegoroda.ru/44/files/2010/11/12c060d5a4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9440" y="2244600"/>
            <a:ext cx="2760480" cy="2955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6"/>
          <p:cNvSpPr/>
          <p:nvPr/>
        </p:nvSpPr>
        <p:spPr>
          <a:xfrm>
            <a:off x="1163520" y="5361120"/>
            <a:ext cx="749160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ль увеличивает плотность воды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333399"/>
                </a:solidFill>
                <a:latin typeface="Tahoma"/>
              </a:rPr>
              <a:t>поэтому в соленой воде тело не тонет. На территории нашей республики есть озеро Тус, где каждый человек может убедиться в этом свойстве насыщенного солевого раствора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8" descr="спич"/>
          <p:cNvPicPr/>
          <p:nvPr/>
        </p:nvPicPr>
        <p:blipFill>
          <a:blip r:embed="rId1"/>
          <a:stretch/>
        </p:blipFill>
        <p:spPr>
          <a:xfrm>
            <a:off x="498600" y="2076480"/>
            <a:ext cx="3970080" cy="329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спич1"/>
          <p:cNvPicPr/>
          <p:nvPr/>
        </p:nvPicPr>
        <p:blipFill>
          <a:blip r:embed="rId2"/>
          <a:stretch/>
        </p:blipFill>
        <p:spPr>
          <a:xfrm>
            <a:off x="4708440" y="2116080"/>
            <a:ext cx="4040280" cy="32623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3"/>
          <p:cNvSpPr/>
          <p:nvPr/>
        </p:nvSpPr>
        <p:spPr>
          <a:xfrm>
            <a:off x="1163520" y="208080"/>
            <a:ext cx="74916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пыт 3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– возьмем миску с водой, опустим в нее кусочек льда, положим на него спичку и посыпем вокруг спички немного соли. Через несколько секунд кусочек льда можно будет поднять за спичку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1104840" y="5313240"/>
            <a:ext cx="75502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оль заставила таять лед вокруг спички, потому что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температура замерзания соленой воды ниже, чем пресной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Соленый раствор постепенно стекает в миску, и спичка примерзает к кусочку льд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04:01:22Z</dcterms:created>
  <dc:creator>Koretskiy</dc:creator>
  <dc:description/>
  <dc:language>en-US</dc:language>
  <cp:lastModifiedBy>LEGION2</cp:lastModifiedBy>
  <dcterms:modified xsi:type="dcterms:W3CDTF">2015-04-23T09:21:47Z</dcterms:modified>
  <cp:revision>35</cp:revision>
  <dc:subject/>
  <dc:title>Соль – вред или польза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