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FD48-807B-4B33-912B-E3CF6EC5F8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9025-0816-4687-87D2-DFDC263090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– вред или польз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лыгина М.Д., 2 «В»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приготовим насыщенный солевой раствор. Возьмем лист цветной бумаги (я взяла черный), кисть и попробуем что-нибудь нарисовать этим раствором. Оставляем рисунок на ночь в теплом месте. Утром наш рисунок проявит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Вода испарилась, а соль осталась, образовав мельчайшие кристалл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D2A4-5069-4C72-8C31-61C4E34AD3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приготовим насыщенный солевой раствор. На карандаш привяжем толстую нить, опустим нить в банку и оставим ее в теплом месте на 3 нед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кристаллов соли показано на фот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33B1-22AC-4255-9554-F73FAC2A1E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ы соли неисчерпаемы. Соль добывают разными способами, в пищу употребляем, в основном, каменную и самосадочную сол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используется в промышленности, медицине, в быту. Без соли человеку нельзя, но и пересолить страшно. Чем станет для нас соль – «белым золотом» или «белой смертью» - решать каждому из нас. Но лучше рационально использовать этот удивительный минер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FB5D-625E-45AC-B187-70D399C441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46DE-6081-479D-B10C-F599CA9F65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накомство» с солью (история, получение соли, применение сол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свойств соли (проведение опытов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щивание кристаллов поваренной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C8CB-CB69-4332-BC61-BADBD9E99C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ол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рошлом соль это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ю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 обря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 достатка и благополуч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0C50-A0D1-4DF8-B9A4-D884E5D919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для организма человека и живот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ая роль в рабо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ервной системы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ищеварительной системы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вижения мышц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спасает организм от обезвожи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Избыточное потребление соли ведет к болезням сердца и сосудов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потребления соли для человек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 граммов в су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ение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быт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права для различных блю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ервант пищевых продуктов (рыба, мясо, овощи, грибы и т.д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медицин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недостатка йода  и фтора в организм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зиологический раство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промышленности и техник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готовление пластмасс, алюминия, бумаги, мыла, стекла, аккумулято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при обработке мехов и ко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гент для борьбы с гололе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9AC8-3263-4932-B0B1-8CEFEB7585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менная или твердая – добывается шахтным или карьерным способ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садочная или озерная - добывается на дне солевых оз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дочная – при испарении воды под воздействием солнца, соль оседает на дне бассейн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арочная – получается выпариванием воды из рассол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88D4-2F9B-4416-8B9B-E82A64ED54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йства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рачный кристалл не имеющий запаха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банку с водой, опустим туда ложку соли и перемешаем, кристаллы соли исчезнут – растворятся в вод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Соль растворяется в воде.</a:t>
            </a:r>
            <a:r>
              <a:rPr b="1" lang="ru-RU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3F28-4852-4DC5-8D90-1F000C4876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банку с теплой водой и опустим туда сырое яйцо – оно утонет. Затем в банку добавляем соль до тех пор, пока на дне банки не останутся кристаллы соли, которые не будут растворяться (получим насыщенный солевой раствор). В этот раствор опустим яйцо – оно будет плавать на поверхности во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Соль увеличивает плотность вод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в соленой воде тело не тонет. На территории нашей республики есть озеро Тус, где каждый человек может убедиться в этом свойстве насыщенного солевого раство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90A3-88E4-440F-8BD5-48F666355E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миску с водой, опустим в нее кусочек льда, положим на него спичку и посыпем вокруг спички немного соли. Через несколько секунд кусочек льда можно будет поднять за спичку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заставила таять лед вокруг спички, потому что </a:t>
            </a: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температура замерзания соленой воды ниже, чем пресно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леный раствор постепенно стекает в миску, и спичка примерзает к кусочку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286A-DCC8-429D-8355-53D9F1BCDD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E1C-617A-4CB6-9816-AC50D725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048-963F-4446-AA7F-A1828281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1802-D926-4A19-A72E-DB61AC56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6FD-11BF-4B28-BF71-71BDACB3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4DFA-A8D8-424C-BD52-FCCA74C3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5D1E-36F1-471F-AF19-005E1B6E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380E-DE9A-4E60-B976-239F6F09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3A63-D452-40E6-823D-3A00F99D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3E33-5E9E-4C52-A007-D21F1411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9232-FBC3-4641-96CD-BBD09729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AF92-4F0D-4C54-9AC1-18AEE681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720-2BC0-4EF6-A06D-4E5941DD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B0C1-CF06-4B09-8DAB-84F297EB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851A-2CB0-454D-8F90-B1D162E1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8D52-E75C-4D56-A6B6-C4C453C2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19E8-560D-403A-985F-9A946D76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8EEC-00E8-4233-B895-F9D4A66C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750-0A28-4A17-8829-1FB24760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327-7515-4E66-AAE1-DD8C83CD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89FC-6450-4FB2-9DF5-B5E2F15B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4560-BF93-4305-BB8A-A3A6FCC3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1BF-EFC5-4086-AFBD-403F1334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9C7-066C-44B5-AF69-630CF823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96E-793F-4D2C-87AE-DC817373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088E-AD0F-46C7-A4B0-F3A4F1595A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3E7A-898A-4510-A575-AAD844B4E4E3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s://s3-eu-west-1.amazonaws.com/uploads.drugiegoroda.ru/44/files/2010/11/12c060d5a41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39640" y="1380600"/>
            <a:ext cx="665172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ль – вред или польза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076720" y="6021360"/>
            <a:ext cx="388800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лыгина М.Д., 2 «В» клас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рис солью"/>
          <p:cNvPicPr/>
          <p:nvPr/>
        </p:nvPicPr>
        <p:blipFill>
          <a:blip r:embed="rId1"/>
          <a:stretch/>
        </p:blipFill>
        <p:spPr>
          <a:xfrm>
            <a:off x="2397240" y="2111400"/>
            <a:ext cx="4297320" cy="32241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1"/>
          <p:cNvSpPr/>
          <p:nvPr/>
        </p:nvSpPr>
        <p:spPr>
          <a:xfrm>
            <a:off x="1150920" y="208080"/>
            <a:ext cx="75042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4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приготовим насыщенный солевой раствор. Возьмем лист цветной бумаги (я взяла черный), кисть и попробуем что-нибудь нарисовать этим раствором. Оставляем рисунок на ночь в теплом месте. Утром наш рисунок проявитс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1163520" y="5481720"/>
            <a:ext cx="74916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Вода испарилась, а соль осталась, образовав мельчайшие кристаллик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через 2 нед"/>
          <p:cNvPicPr/>
          <p:nvPr/>
        </p:nvPicPr>
        <p:blipFill>
          <a:blip r:embed="rId1"/>
          <a:stretch/>
        </p:blipFill>
        <p:spPr>
          <a:xfrm>
            <a:off x="4014720" y="2065320"/>
            <a:ext cx="4498920" cy="1320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через нед 1"/>
          <p:cNvPicPr/>
          <p:nvPr/>
        </p:nvPicPr>
        <p:blipFill>
          <a:blip r:embed="rId2"/>
          <a:stretch/>
        </p:blipFill>
        <p:spPr>
          <a:xfrm>
            <a:off x="839880" y="2549520"/>
            <a:ext cx="2954160" cy="33084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1150920" y="208080"/>
            <a:ext cx="75042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5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приготовим насыщенный солевой раствор. На карандаш привяжем толстую нить, опустим нить в банку и оставим ее в теплом месте на 3 недел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Формирование кристаллов соли показано на фот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11" descr="через 3 нед 1"/>
          <p:cNvPicPr/>
          <p:nvPr/>
        </p:nvPicPr>
        <p:blipFill>
          <a:blip r:embed="rId3"/>
          <a:stretch/>
        </p:blipFill>
        <p:spPr>
          <a:xfrm>
            <a:off x="4029120" y="3449520"/>
            <a:ext cx="4597200" cy="30639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422440" y="687240"/>
            <a:ext cx="4753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04640" y="2635200"/>
            <a:ext cx="851220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Запасы соли неисчерпаемы. Соль добывают разными способами, в пищу употребляем, в основном, каменную и самосадочную соль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используется в промышленности, медицине, в быту. Без соли человеку нельзя, но и пересолить страшно. Чем станет для нас соль – «белым золотом» или «белой смертью» - решать каждому из нас. Но лучше рационально использовать этот удивительный минера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ь работ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76360" y="2421000"/>
            <a:ext cx="7491600" cy="29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«знакомство» с солью (история, получение соли, применение соли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зучение свойств соли (проведение опытов)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ыращивание кристаллов поваренной со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00120" y="1155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Что такое соль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6360" y="1267920"/>
            <a:ext cx="7491600" cy="20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прошлом соль эт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валю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бъект обряд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ризнак достатка и благополуч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403360" y="3344760"/>
            <a:ext cx="565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ейчас соль это недорогой и распространенный продук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476360" y="4365720"/>
            <a:ext cx="74916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называют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галитом в минералог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оваренной или пищевой в технике и в быт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хлоридом натрия в хим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34920" y="188640"/>
            <a:ext cx="59418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ль для организма человека и животны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7491600" cy="44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Важная роль в рабо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нервной сист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ищеварительной сист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движения мышц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оль спасает организм от обезвожи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Избыточное потребление соли ведет к болезням сердца и сосудов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Норма потребления соли для человека –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5 граммов в сут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411280" y="260280"/>
            <a:ext cx="475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нение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403280" y="1195560"/>
            <a:ext cx="74916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быту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иправа для различных блюд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консервант пищевых продуктов (рыба, мясо, овощи, грибы и т.д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403280" y="3068640"/>
            <a:ext cx="7491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медицин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офилактика недостатка йода  и фтора в организм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физиологический раство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403280" y="4522680"/>
            <a:ext cx="749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промышленности и техник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зготовление пластмасс, алюминия, бумаги, мыла, стекла, аккумулятор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спользование при обработке мехов и кож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еагент для борьбы с гололед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1979640" y="620640"/>
            <a:ext cx="56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ы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246320" y="1835280"/>
            <a:ext cx="749124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каменная или твердая – добывается шахтным или карьерным способом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самосадочная или озерная - добывается на дне солевых озер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садочная – при испарении воды под воздействием солнца, соль оседает на дне бассейнов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выварочная – получается выпариванием воды из рассолов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9" descr="1374633827_012[1]"/>
          <p:cNvPicPr/>
          <p:nvPr/>
        </p:nvPicPr>
        <p:blipFill>
          <a:blip r:embed="rId1"/>
          <a:stretch/>
        </p:blipFill>
        <p:spPr>
          <a:xfrm>
            <a:off x="971640" y="4076640"/>
            <a:ext cx="3779640" cy="2567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1365119147_img[1]"/>
          <p:cNvPicPr/>
          <p:nvPr/>
        </p:nvPicPr>
        <p:blipFill>
          <a:blip r:embed="rId2"/>
          <a:stretch/>
        </p:blipFill>
        <p:spPr>
          <a:xfrm>
            <a:off x="5292720" y="4005360"/>
            <a:ext cx="3255840" cy="26082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979640" y="620640"/>
            <a:ext cx="56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войства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187280" y="1952640"/>
            <a:ext cx="74916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– прозрачный кристалл не имеющий запах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0001-001-Soli[1]"/>
          <p:cNvPicPr/>
          <p:nvPr/>
        </p:nvPicPr>
        <p:blipFill>
          <a:blip r:embed="rId1"/>
          <a:stretch/>
        </p:blipFill>
        <p:spPr>
          <a:xfrm>
            <a:off x="2733840" y="2403360"/>
            <a:ext cx="3301920" cy="3024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250920" y="5551560"/>
            <a:ext cx="8713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1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банку с водой, опустим туда ложку соли и перемешаем, кристаллы соли исчезнут – растворятся в вод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ль растворяется в воде.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163520" y="208080"/>
            <a:ext cx="74916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2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банку с теплой водой и опустим туда сырое яйцо – оно утонет. Затем в банку добавляем соль до тех пор, пока на дне банки не останутся кристаллы соли, которые не будут растворяться (получим насыщенный солевой раствор). В этот раствор опустим яйцо – оно будет плавать на поверхности вод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9" descr="яйцо"/>
          <p:cNvPicPr/>
          <p:nvPr/>
        </p:nvPicPr>
        <p:blipFill>
          <a:blip r:embed="rId1"/>
          <a:stretch/>
        </p:blipFill>
        <p:spPr>
          <a:xfrm>
            <a:off x="297000" y="2216160"/>
            <a:ext cx="3168360" cy="3035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яйцо 1"/>
          <p:cNvPicPr/>
          <p:nvPr/>
        </p:nvPicPr>
        <p:blipFill>
          <a:blip r:embed="rId2"/>
          <a:stretch/>
        </p:blipFill>
        <p:spPr>
          <a:xfrm>
            <a:off x="3571920" y="2201760"/>
            <a:ext cx="2531880" cy="3044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https://s3-eu-west-1.amazonaws.com/uploads.drugiegoroda.ru/44/files/2010/11/12c060d5a4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9440" y="2244600"/>
            <a:ext cx="2760480" cy="2955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6"/>
          <p:cNvSpPr/>
          <p:nvPr/>
        </p:nvSpPr>
        <p:spPr>
          <a:xfrm>
            <a:off x="1163520" y="5361120"/>
            <a:ext cx="749160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ль увеличивает плотность воды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поэтому в соленой воде тело не тонет. На территории нашей республики есть озеро Тус, где каждый человек может убедиться в этом свойстве насыщенного солевого раствора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спич"/>
          <p:cNvPicPr/>
          <p:nvPr/>
        </p:nvPicPr>
        <p:blipFill>
          <a:blip r:embed="rId1"/>
          <a:stretch/>
        </p:blipFill>
        <p:spPr>
          <a:xfrm>
            <a:off x="498600" y="2076480"/>
            <a:ext cx="3970080" cy="329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спич1"/>
          <p:cNvPicPr/>
          <p:nvPr/>
        </p:nvPicPr>
        <p:blipFill>
          <a:blip r:embed="rId2"/>
          <a:stretch/>
        </p:blipFill>
        <p:spPr>
          <a:xfrm>
            <a:off x="4708440" y="2116080"/>
            <a:ext cx="4040280" cy="3262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3"/>
          <p:cNvSpPr/>
          <p:nvPr/>
        </p:nvSpPr>
        <p:spPr>
          <a:xfrm>
            <a:off x="1163520" y="208080"/>
            <a:ext cx="74916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3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миску с водой, опустим в нее кусочек льда, положим на него спичку и посыпем вокруг спички немного соли. Через несколько секунд кусочек льда можно будет поднять за спичку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1104840" y="5313240"/>
            <a:ext cx="75502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заставила таять лед вокруг спички, потому что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температура замерзания соленой воды ниже, чем пресной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Соленый раствор постепенно стекает в миску, и спичка примерзает к кусочку льд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04:01:22Z</dcterms:created>
  <dc:creator>Koretskiy</dc:creator>
  <dc:description/>
  <dc:language>en-US</dc:language>
  <cp:lastModifiedBy>LEGION2</cp:lastModifiedBy>
  <dcterms:modified xsi:type="dcterms:W3CDTF">2015-04-23T09:21:47Z</dcterms:modified>
  <cp:revision>35</cp:revision>
  <dc:subject/>
  <dc:title>Соль – вред или польза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