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A781-3AA5-4D1B-AA67-982FB503DC4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</a:rPr>
              <a:t>Мораль </a:t>
            </a:r>
            <a:r>
              <a:rPr b="1" lang="en-US" sz="1200" spc="-1" strike="noStrike">
                <a:solidFill>
                  <a:srgbClr val="c00000"/>
                </a:solidFill>
                <a:latin typeface="Times New Roman"/>
              </a:rPr>
              <a:t>XXI </a:t>
            </a:r>
            <a:r>
              <a:rPr b="1" lang="ru-RU" sz="1200" spc="-1" strike="noStrike">
                <a:solidFill>
                  <a:srgbClr val="c00000"/>
                </a:solidFill>
                <a:latin typeface="Times New Roman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87F0-04DB-4B6C-96E9-BA5009A554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lang="ru-RU" sz="12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200"/>
            </a:br>
            <a:br>
              <a:rPr sz="11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. Установить правильные приоритеты в своей жизни, понимая, что первая и основная обязанность – это личное развитие, поскольку дать что-то ценное миру и людям можно, только став настоящим, завершенным человеком.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 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2. Быть преданным добру и собственному духу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3. Признать свою нечестность.</a:t>
            </a:r>
            <a:br>
              <a:rPr sz="1100"/>
            </a:br>
            <a:br>
              <a:rPr sz="1100"/>
            </a:br>
            <a:r>
              <a:rPr b="0" i="1" lang="ru-RU" sz="11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100"/>
            </a:br>
            <a:r>
              <a:rPr b="0" i="1" lang="ru-RU" sz="11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100"/>
            </a:br>
            <a:r>
              <a:rPr b="0" i="1" lang="ru-RU" sz="1100" spc="-1" strike="noStrike">
                <a:solidFill>
                  <a:srgbClr val="00b0f0"/>
                </a:solidFill>
                <a:latin typeface="AdventureC"/>
              </a:rPr>
              <a:t>               </a:t>
            </a:r>
            <a:r>
              <a:rPr b="0" i="1" lang="ru-RU" sz="1000" spc="-1" strike="noStrike">
                <a:solidFill>
                  <a:srgbClr val="ffffff"/>
                </a:solidFill>
                <a:latin typeface="AdventureC"/>
              </a:rPr>
              <a:t>Да</a:t>
            </a:r>
            <a:r>
              <a:rPr b="0" i="1" lang="ru-RU" sz="1000" spc="-1" strike="noStrike">
                <a:solidFill>
                  <a:srgbClr val="ffffff"/>
                </a:solidFill>
                <a:latin typeface="ArbatC"/>
              </a:rPr>
              <a:t>рио Салас Соммэр           </a:t>
            </a:r>
            <a:br>
              <a:rPr sz="10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3D79-4760-4637-96C0-BC3FA216B6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lang="ru-RU" sz="12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100"/>
            </a:br>
            <a:br>
              <a:rPr sz="11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4. Эмоционально ставить себя на место других, научиться понимать их и быть терпимым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5. Контролировать негативные эмоции и уметь "подставлять другую щеку"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6. Выйти из своей "ментальной норы", покинуть ее тесный мирок и открыть для себя другую реальность.</a:t>
            </a:r>
            <a:br>
              <a:rPr sz="1200"/>
            </a:br>
            <a:br>
              <a:rPr sz="1200"/>
            </a:br>
            <a:br>
              <a:rPr sz="1100"/>
            </a:br>
            <a:br>
              <a:rPr sz="1000"/>
            </a:br>
            <a:r>
              <a:rPr b="0" i="1" lang="ru-RU" sz="10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000"/>
            </a:br>
            <a:r>
              <a:rPr b="0" i="1" lang="ru-RU" sz="10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r>
              <a:rPr b="0" i="1" lang="ru-RU" sz="1000" spc="-1" strike="noStrike">
                <a:solidFill>
                  <a:srgbClr val="ffffff"/>
                </a:solidFill>
                <a:latin typeface="AdventureC"/>
              </a:rPr>
              <a:t>      Да</a:t>
            </a:r>
            <a:r>
              <a:rPr b="0" i="1" lang="ru-RU" sz="1000" spc="-1" strike="noStrike">
                <a:solidFill>
                  <a:srgbClr val="ffffff"/>
                </a:solidFill>
                <a:latin typeface="ArbatC"/>
              </a:rPr>
              <a:t>рио Салас Соммэр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DC2E-5977-45D9-B781-7C6C3ACA1C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2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7. Развивать волю и закалять характер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8. Жить в гармонии с Природой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9. Следовать закону "эквивалентного равенства"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0. Не доверять первому впечатлению и пытаться найти более глубокую истину. 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70D7-FBFE-43DA-B7D7-40B85DEE37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еобходимо вернуться к традиционным ценностям человечества, таким, как 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упорный труд, настойчивость, честность, добродетель, готовность к самопожертвованию, сплоченность семьи, терпимость, доброта, любовь, справедливость, дружба и альтруизм».       </a:t>
            </a: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          </a:t>
            </a: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                                Дарио Салас Соммэр                                       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2EE6-7A19-4636-B674-2CC64C5309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Важность морали</a:t>
            </a:r>
            <a:br>
              <a:rPr sz="1400"/>
            </a:br>
            <a:br>
              <a:rPr sz="14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Многие современные ученые приходят к выводу, что у человечества нет будущего, если оно не будет руководствоваться моралью и не начнет выполнять законы Природы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Единственный выход – изучать законы морали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чищать и воспитывать себя с помощью нашего созна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Для достижения этого людям необходимо развить сознание, являющееся основным богатством во Вселенной. 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40FF-61DA-42EB-A408-FDEE54FE7A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Что такое мораль?</a:t>
            </a:r>
            <a:br>
              <a:rPr sz="1400"/>
            </a:br>
            <a:br>
              <a:rPr sz="14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бычная человеческая мораль никогда не была всеохватывающей, её меняли и приспосабливали в различных культурах и сообществах на протяжении всей истории цивилизации: каннибализм, инквизиция, войны, конфликты религий, народов, политических систем и т.д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месте с тем в природе существуют непреложные законы, не подчиненные времени и текущим социальным и общественным мнениям, которые представляют собой мораль космическую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A346-7ABB-4683-99F2-AAEFEE299D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 (Заголовки)"/>
              </a:rPr>
              <a:t>Основы мор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Мораль челове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зменчива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убъек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правдывает людские по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Фрагмента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граничена рамками план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Мораль Кос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е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еиз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праведли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сегда стоит выше эго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Ц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стинна в любой точке времени и простр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4708-8C62-4B5C-A29A-DCC6349B54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Дарио Салас Соммэр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: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"...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Некоторые считают, что все равно каким быть — хорошим или плохим, и что это только вопрос предпочтений. </a:t>
            </a: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Думаю, что новая Мораль должна основываться на научных постулатах, которые покажут: быть плохим, в конечном счете, крайне убыточно, а действовать согласно принципами добра — выгодно. </a:t>
            </a: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Я убежден, что серьезные нарушения морали вызывают состояние хаоса и органического распада, порождает энергию, которая входит в диссонанс с порядком и гармонией Природы, чем наносится серьезный вред телу и мозгу. </a:t>
            </a: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Годы наблюдений и опытов убедили меня, что человек без высшего сознания — это робот, слепо идущий по жизни и ограниченный выполнением программы, которая находится в его мозге". 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E4E5-7250-4432-94EC-26176B1EEE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овое научное направление,  использующее синергию древней философской традиции и современной нау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Данная наука позволяет людям сознательно и целенаправленно взаимодействовать с Природой, не противопоставляя себя ей, а сотрудничая с ней и достигая, таким образом, как личного, так и всеобщего благ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овременные достижения квантовой физики позволяют научным языком описать и подтвердить эти законы. </a:t>
            </a:r>
            <a:br>
              <a:rPr sz="1000"/>
            </a:b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8062-BDD4-4B66-A37B-C9B9613D7B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Автор научной идеи о физических основах морали Дарио Салас Соммэр научно обосновал, что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Мораль объективна, описывается законами квантовой физики и представляет собой совокупность неизменных законов Природы, лежащих в основе существования Вселенно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облюдение этих законов способствует развитию высшего сознания, а их нарушение вызывает падение жизненной силы и деградацию человека.</a:t>
            </a:r>
            <a:br>
              <a:rPr sz="1200"/>
            </a:b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EC52-DFBD-490C-8DC1-ADECCE099A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Физика 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(φύσις) с древнегреческого языка переводится как 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Природа. 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 данном случае «</a:t>
            </a:r>
            <a:r>
              <a:rPr b="1" i="1" lang="ru-RU" sz="1200" spc="-1" strike="noStrike">
                <a:solidFill>
                  <a:srgbClr val="7f7f7f"/>
                </a:solidFill>
                <a:latin typeface="Calibri"/>
              </a:rPr>
              <a:t>Физика Морали»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есть объяснение </a:t>
            </a:r>
            <a:r>
              <a:rPr b="1" i="1" lang="ru-RU" sz="1200" spc="-1" strike="noStrike">
                <a:solidFill>
                  <a:srgbClr val="7f7f7f"/>
                </a:solidFill>
                <a:latin typeface="Calibri"/>
              </a:rPr>
              <a:t>Природы Морали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При этом под словом 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Мораль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понимается свод вечных и неизменных законов Природы, лежащих в основе существования Вселенно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Это не новый набор искусственных запрещающих правил, а научное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бъяснение механизмов взаимодействия человека и Природы.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6F1D-9AB8-4398-8B41-C82F821E95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Термин </a:t>
            </a:r>
            <a:r>
              <a:rPr b="1" i="1" lang="ru-RU" sz="1200" spc="-1" strike="noStrike">
                <a:solidFill>
                  <a:srgbClr val="7f7f7f"/>
                </a:solidFill>
                <a:latin typeface="Calibri"/>
              </a:rPr>
              <a:t>«Физика морали»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Дарио Салас предложил в своей книге </a:t>
            </a:r>
            <a:r>
              <a:rPr b="1" lang="ru-RU" sz="1200" spc="-1" strike="noStrike">
                <a:solidFill>
                  <a:srgbClr val="7f7f7f"/>
                </a:solidFill>
                <a:latin typeface="Calibri"/>
              </a:rPr>
              <a:t>«Мораль XXI века».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 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Мораль, излагаемая в этой книге представляет собой описание трансцендентальных ценносте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Также в этой книге впервые научно доказывается, что быть моральным выгодно и единственное, что делает человека человеком — это высокий уровень сознания.</a:t>
            </a:r>
            <a:br>
              <a:rPr sz="1200"/>
            </a:br>
            <a:br>
              <a:rPr sz="1200"/>
            </a:b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ffffff"/>
                </a:solidFill>
                <a:latin typeface="ArbatC"/>
              </a:rPr>
              <a:t> 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9EC2-7270-42BB-8F65-2EF8BD7FF4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56DE-14FA-4B6E-BA77-C4FA1899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1EB-5622-4417-BB71-B4EB2A58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D0CA-6DDC-4499-B3E2-70EA838A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6ED6-9666-43C6-AB08-8C0F9AF6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852C-67E8-4206-A1D8-0A047A0E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BD03-FD16-4628-8D60-F9ED9815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52F7-CD06-42D1-A3C0-E32092DD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A0CD-12A7-4481-9D2B-B239D584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64BC-B13A-49ED-A745-45B5B12E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19C5-5B0B-4BBC-AC6A-317A6727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7ADB-4F42-453B-B701-D2104C05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C9AF-E6E9-485C-BF8C-5DFC564B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8D80-24E9-490B-A5E5-642ED178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6D5F-011A-41CB-9C2C-C2111484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7555-1483-4523-9EA9-E1122B9C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808A-B9EB-4D1A-AABC-0F918F51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B5E9-F92D-4118-922F-EECF2C71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BDED1-A602-40B2-89AA-243FD92E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874D8-7D1A-44D8-B408-75E1DACE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6B9CA-A56A-434B-B435-A83891E9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03538-9231-4934-95B5-1E918F6B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C6816-F6A2-4675-B08D-CFB097F9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CDE-7B8B-4F6B-A547-E3DE3199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78F6B-6753-4388-A9BB-B6C551E1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3D93D-4285-432B-ACC4-5E656BFD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F4526-7262-48BE-9F2C-F521766E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A71C3-FB9E-4118-A680-DFED52BF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F17AA-4EEF-4988-ACAB-1E383E1E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5E9C4-B294-46F4-9ED7-01FDF478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6CE4E-D623-4020-9B59-95590222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CD567-20A0-43AD-AECB-4D2D4A10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33AAC-8811-4F0C-8DA8-AE469A4E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BE943-01A7-43DD-8E4E-9938F624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2E03-865B-4660-B13A-E5B0A9A6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7E700-B604-4C6E-86CF-DF918C26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4D64D-4FB6-4F7D-98D0-F5B82467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942F7-C533-413F-B153-8FE70772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6426F-C514-4B79-AE66-EBC8B678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225FE-DDDF-4F31-8C32-B1D2E3FE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CCD2D-9579-42F4-837E-5AC37A8C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7B163-5B1A-4C96-A784-24402465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7A805-D1DD-49FE-85AF-5BEC8550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23C7A-A8E1-49F2-87DC-3E99F9F5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BF0A2-823C-4251-B575-F9521757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7318-F61B-44CF-8B62-CFF10A99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8D3D6-C686-493D-AEFA-71C6CF71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67E83-2FCE-4159-B445-175B07FA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0CCFC-5B97-4360-B9C8-99D46832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3C6A2-134B-455C-988F-576170A5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179CE-6AEF-49CA-8657-CC9D1388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849BB-4221-492B-BA1B-6B58F9DE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55CC2-373F-4C18-A775-93001341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56BD6-727B-4B74-B55D-CAA0D431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09301-245F-422A-82AB-C1C615D0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2B5DC-2AC7-4270-B206-713193EA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53CD-79E0-4C13-ADDC-235544C5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26FD3-BD0B-4668-80E6-991921F4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E24AD-1D84-4EE4-929C-1AF576BE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AB0F1-E9FE-408B-92F3-EB79B656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18DC6-CA65-4E2D-AABF-1D7D6F8B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E937D-6AE7-41A0-B162-497E5027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D43FE-E048-4B86-B76C-2F2D9D57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6F09B-32EF-45AD-A855-E22D13B4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251DE-9BD0-4F55-A5BF-56996166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5F389-8712-4595-803E-64B3EA36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18BAC-B5E8-49B6-8FE5-95420952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BA5-BA30-400B-9519-4A558014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53CF5-378C-44C6-BCBE-F9B32386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60485-BC0C-48E5-B716-4834DD90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E35CF-707A-45CF-BD61-6A337AB8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B7B90-3B72-4B62-9ECD-CCDFF93C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D5C03-07E0-4AEA-8D69-D73CB364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46F04-4F38-467A-99B3-2C8FE3F0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D186E-2828-4AE3-947B-AEB1464B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72172-B179-4980-BA78-4FBA6E4E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735DF-F145-4DC8-9FD3-B6EDECF9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765FA-498B-4AA3-8DE8-BD807AD4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DFD3-8FEF-47B7-A37F-CA685F00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50F8A-B456-4992-9DB5-CF5AB553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74354-1862-4D66-8B4F-AD8AAF28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03F17-83C4-44AA-80AB-FF47459E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4B473-C0CB-4701-906E-9DA8424F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B80D8-90CA-4513-9A2C-9F518C6E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0A3D9-7161-423D-8306-18F6DB62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9ACD2-73CD-4B15-ABE3-D98F9036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0B011-65F5-47B6-88CC-64F8B622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3214E-6C91-4A45-A8FB-FB3B64AC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E912B-AD5B-48A9-A578-6E9E17C2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B1E0-3BCE-476E-8B7A-5F0BACD7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9A7F1-B71F-4390-AA16-A0C5048A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07459-BF8A-4293-AF16-8C627B0D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D66B7-52DD-4B76-B4DF-2931F29D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CB029-4DB5-4AA1-92DF-A7FA1071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D3C7C-E2F1-435C-A578-BA3064A4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A1270-2EA4-434F-931A-DDF6C877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D225F-845B-4297-B024-FAC643B9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9CAB-EBFC-43D4-A450-D38DD3B65A31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E80C-6701-4685-A66E-ADA394FA51F8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08D3-FAA3-46D2-86BD-61547B0B4378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0F62-95C9-4851-9E2B-A356E732D2C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565F-47CA-4404-9902-5FCEB9BBDE26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B8F8-1744-4A2C-AE1E-7B560B64CC67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670F-55B6-44B5-8A32-C546DFFF20E3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C83D-F486-4CE1-B587-1F8981A18F59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3AF9-52E2-429C-B215-D7152C61AFBD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632D-BD1E-4A21-A3DC-64CE2CDD8EC6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03C7-D6A2-4D75-841A-9962C756DFBA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50F1-36CE-4E71-94F7-4C5C5DC72D99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09D6-62B2-4C00-BAF3-D033609A1AC3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0BDD-25EB-4D9E-B1A5-FC49CEE6EBFB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345F-76FC-4959-9ADC-191EB076A9C5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A6C0-31CD-4170-847C-857F2E50EB8E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699320" cy="190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Мораль </a:t>
            </a:r>
            <a:r>
              <a:rPr b="1" lang="en-US" sz="6000" spc="-1" strike="noStrike">
                <a:solidFill>
                  <a:srgbClr val="c00000"/>
                </a:solidFill>
                <a:latin typeface="Times New Roman"/>
              </a:rPr>
              <a:t>XXI 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века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1547640" y="5589720"/>
            <a:ext cx="62643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ndara"/>
              </a:rPr>
              <a:t>«Основы духовно-нравственной культуры народов Росси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27640" y="115560"/>
            <a:ext cx="4248000" cy="626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r>
              <a:rPr b="1" lang="ru-RU" sz="19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900"/>
            </a:br>
            <a:br>
              <a:rPr sz="18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1. Установить правильные приоритеты в своей жизни, понимая, что первая и основная обязанность – это личное развитие, поскольку дать что-то ценное миру и людям можно, только став настоящим, завершенным человеком.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 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 2. Быть преданным добру и собственному духу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3. Признать свою нечестность.</a:t>
            </a:r>
            <a:br>
              <a:rPr sz="1700"/>
            </a:br>
            <a:br>
              <a:rPr sz="1700"/>
            </a:br>
            <a:r>
              <a:rPr b="0" i="1" lang="ru-RU" sz="18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800"/>
            </a:br>
            <a:r>
              <a:rPr b="0" i="1" lang="ru-RU" sz="18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800"/>
            </a:br>
            <a:r>
              <a:rPr b="0" i="1" lang="ru-RU" sz="1800" spc="-1" strike="noStrike">
                <a:solidFill>
                  <a:srgbClr val="00b0f0"/>
                </a:solidFill>
                <a:latin typeface="AdventureC"/>
              </a:rPr>
              <a:t>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AdventureC"/>
              </a:rPr>
              <a:t>Да</a:t>
            </a:r>
            <a:r>
              <a:rPr b="0" i="1" lang="ru-RU" sz="1600" spc="-1" strike="noStrike">
                <a:solidFill>
                  <a:srgbClr val="ffffff"/>
                </a:solidFill>
                <a:latin typeface="ArbatC"/>
              </a:rPr>
              <a:t>рио Салас Соммэр           </a:t>
            </a:r>
            <a:br>
              <a:rPr sz="1600"/>
            </a:br>
            <a:br>
              <a:rPr sz="1700"/>
            </a:br>
            <a:br>
              <a:rPr sz="1700"/>
            </a:br>
            <a:br>
              <a:rPr sz="19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2" name="Прямоугольник 8"/>
          <p:cNvSpPr/>
          <p:nvPr/>
        </p:nvSpPr>
        <p:spPr>
          <a:xfrm>
            <a:off x="0" y="6206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r>
              <a:rPr b="1" lang="ru-RU" sz="19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7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4. Эмоционально ставить себя на место других, научиться понимать их и быть терпимыми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5. Контролировать негативные эмоции и уметь "подставлять другую щеку"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6. Выйти из своей "ментальной норы", покинуть ее тесный мирок и открыть для себя другую реальность.</a:t>
            </a:r>
            <a:br>
              <a:rPr sz="1900"/>
            </a:br>
            <a:br>
              <a:rPr sz="1900"/>
            </a:br>
            <a:br>
              <a:rPr sz="1700"/>
            </a:br>
            <a:br>
              <a:rPr sz="1600"/>
            </a:br>
            <a:r>
              <a:rPr b="0" i="1" lang="ru-RU" sz="16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600"/>
            </a:br>
            <a:r>
              <a:rPr b="0" i="1" lang="ru-RU" sz="16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r>
              <a:rPr b="0" i="1" lang="ru-RU" sz="1600" spc="-1" strike="noStrike">
                <a:solidFill>
                  <a:srgbClr val="ffffff"/>
                </a:solidFill>
                <a:latin typeface="AdventureC"/>
              </a:rPr>
              <a:t>      Да</a:t>
            </a:r>
            <a:r>
              <a:rPr b="0" i="1" lang="ru-RU" sz="1600" spc="-1" strike="noStrike">
                <a:solidFill>
                  <a:srgbClr val="ffffff"/>
                </a:solidFill>
                <a:latin typeface="ArbatC"/>
              </a:rPr>
              <a:t>рио Салас Соммэр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6" name="Прямоугольник 8"/>
          <p:cNvSpPr/>
          <p:nvPr/>
        </p:nvSpPr>
        <p:spPr>
          <a:xfrm>
            <a:off x="0" y="6206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427640" y="189000"/>
            <a:ext cx="424800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ru-RU" sz="19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7. Развивать волю и закалять характер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8. Жить в гармонии с Природой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9. Следовать закону "эквивалентного равенства"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10. Не доверять первому впечатлению и пытаться найти более глубокую истину. </a:t>
            </a:r>
            <a:br>
              <a:rPr sz="21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0" name="Прямоугольник 8"/>
          <p:cNvSpPr/>
          <p:nvPr/>
        </p:nvSpPr>
        <p:spPr>
          <a:xfrm>
            <a:off x="0" y="6206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5"/>
          <p:cNvSpPr/>
          <p:nvPr/>
        </p:nvSpPr>
        <p:spPr>
          <a:xfrm>
            <a:off x="6345360" y="5516640"/>
            <a:ext cx="22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dventureC"/>
              </a:rPr>
              <a:t>Да</a:t>
            </a:r>
            <a:r>
              <a:rPr b="0" i="1" lang="ru-RU" sz="1600" spc="-1" strike="noStrike">
                <a:solidFill>
                  <a:srgbClr val="ffffff"/>
                </a:solidFill>
                <a:latin typeface="ArbatC"/>
              </a:rPr>
              <a:t>рио Салас Соммэ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Рисунок 5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33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27640" y="115560"/>
            <a:ext cx="4248000" cy="64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«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Необходимо вернуться к традиционным ценностям человечества, таким, как 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упорный труд, настойчивость, честность, добродетель, готовность к самопожертвованию, сплоченность семьи, терпимость, доброта, любовь, справедливость, дружба и альтруизм».       </a:t>
            </a:r>
            <a:br>
              <a:rPr sz="19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          </a:t>
            </a:r>
            <a:br>
              <a:rPr sz="19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                                Дарио Салас Соммэр                                       </a:t>
            </a:r>
            <a:br>
              <a:rPr sz="16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5" name="Прямоугольник 8"/>
          <p:cNvSpPr/>
          <p:nvPr/>
        </p:nvSpPr>
        <p:spPr>
          <a:xfrm>
            <a:off x="0" y="62064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37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99640" y="1700280"/>
            <a:ext cx="769932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Важность морали</a:t>
            </a:r>
            <a:br>
              <a:rPr sz="2000"/>
            </a:br>
            <a:br>
              <a:rPr sz="20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Многие современные ученые приходят к выводу, что у человечества нет будущего, если оно не будет руководствоваться моралью и не начнет выполнять законы Природы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Единственный выход – изучать законы морали</a:t>
            </a:r>
            <a:r>
              <a:rPr b="0" lang="en-US" sz="1900" spc="-1" strike="noStrike">
                <a:solidFill>
                  <a:srgbClr val="7f7f7f"/>
                </a:solidFill>
                <a:latin typeface="Candara"/>
              </a:rPr>
              <a:t>,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очищать и воспитывать себя с помощью нашего сознания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Для достижения этого людям необходимо развить сознание, являющееся основным богатством во Вселенной. 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99640" y="1700280"/>
            <a:ext cx="769932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Что такое мораль?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Обычная человеческая мораль никогда не была всеохватывающей, её меняли и приспосабливали в различных культурах и сообществах на протяжении всей истории цивилизации: каннибализм, инквизиция, войны, конфликты религий, народов, политических систем и т.д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Вместе с тем в природе существуют непреложные законы, не подчиненные времени и текущим социальным и общественным мнениям, которые представляют собой мораль космическую.</a:t>
            </a: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 (Заголовки)"/>
              </a:rPr>
              <a:t>Основы морал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640" y="2677680"/>
            <a:ext cx="3959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ndara"/>
              </a:rPr>
              <a:t>Мораль человеческ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77880" y="3429000"/>
            <a:ext cx="381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Времен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Изменчивая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Субъектив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Оправдывает людские порок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Фрагментар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Ограничена рамками планеты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427280" y="2677680"/>
            <a:ext cx="4043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ndara"/>
              </a:rPr>
              <a:t>Мораль Космическ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45080" y="3429000"/>
            <a:ext cx="38224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Веч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Неизмен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Справедлив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Всегда стоит выше эгоизм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Цель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Истинна в любой точке времени и пространств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99640" y="1700280"/>
            <a:ext cx="769932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Дарио Салас Соммэр</a:t>
            </a:r>
            <a:r>
              <a:rPr b="0" lang="en-US" sz="2400" spc="-1" strike="noStrike">
                <a:solidFill>
                  <a:srgbClr val="c00000"/>
                </a:solidFill>
                <a:latin typeface="Candara"/>
              </a:rPr>
              <a:t>:</a:t>
            </a: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7f7f7f"/>
                </a:solidFill>
                <a:latin typeface="Candara"/>
              </a:rPr>
              <a:t>"...</a:t>
            </a: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Некоторые считают, что все равно каким быть — хорошим или плохим, и что это только вопрос предпочтений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Думаю, что новая Мораль должна основываться на научных постулатах, которые покажут: быть плохим, в конечном счете, крайне убыточно, а действовать согласно принципами добра — выгодно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Я убежден, что серьезные нарушения морали вызывают состояние хаоса и органического распада, порождает энергию, которая входит в диссонанс с порядком и гармонией Природы, чем наносится серьезный вред телу и мозгу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Годы наблюдений и опытов убедили меня, что человек без высшего сознания — это робот, слепо идущий по жизни и ограниченный выполнением программы, которая находится в его мозге". 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6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Новое научное направление,  использующее синергию древней философской традиции и современной науки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Данная наука позволяет людям сознательно и целенаправленно взаимодействовать с Природой, не противопоставляя себя ей, а сотрудничая с ней и достигая, таким образом, как личного, так и всеобщего блага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Современные достижения квантовой физики позволяют научным языком описать и подтвердить эти законы. </a:t>
            </a:r>
            <a:br>
              <a:rPr sz="16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6" name="Рисунок 4" descr="academy_146_PIX_red.jpg"/>
          <p:cNvPicPr/>
          <p:nvPr/>
        </p:nvPicPr>
        <p:blipFill>
          <a:blip r:embed="rId1"/>
          <a:stretch/>
        </p:blipFill>
        <p:spPr>
          <a:xfrm>
            <a:off x="1547640" y="1844640"/>
            <a:ext cx="1587600" cy="2305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8"/>
          <p:cNvSpPr/>
          <p:nvPr/>
        </p:nvSpPr>
        <p:spPr>
          <a:xfrm>
            <a:off x="0" y="620640"/>
            <a:ext cx="40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ические основы мо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«Физика морали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Автор научной идеи о физических основах морали Дарио Салас Соммэр научно обосновал, что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Мораль объективна, описывается законами квантовой физики и представляет собой совокупность неизменных законов Природы, лежащих в основе существования Вселенной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Соблюдение этих законов способствует развитию высшего сознания, а их нарушение вызывает падение жизненной силы и деградацию человека.</a:t>
            </a:r>
            <a:br>
              <a:rPr sz="1900"/>
            </a:br>
            <a:br>
              <a:rPr sz="1900"/>
            </a:br>
            <a:br>
              <a:rPr sz="1600"/>
            </a:br>
            <a:r>
              <a:rPr b="0" lang="ru-RU" sz="16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0" name="Рисунок 4" descr="academy_146_PIX_red.jpg"/>
          <p:cNvPicPr/>
          <p:nvPr/>
        </p:nvPicPr>
        <p:blipFill>
          <a:blip r:embed="rId1"/>
          <a:stretch/>
        </p:blipFill>
        <p:spPr>
          <a:xfrm>
            <a:off x="1547640" y="1844640"/>
            <a:ext cx="1587600" cy="230508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8"/>
          <p:cNvSpPr/>
          <p:nvPr/>
        </p:nvSpPr>
        <p:spPr>
          <a:xfrm>
            <a:off x="0" y="620640"/>
            <a:ext cx="40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ические основы мо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«Физика морали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9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Физика 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(φύσις) с древнегреческого языка переводится как 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Природа. 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В данном случае «</a:t>
            </a:r>
            <a:r>
              <a:rPr b="1" i="1" lang="ru-RU" sz="1900" spc="-1" strike="noStrike">
                <a:solidFill>
                  <a:srgbClr val="7f7f7f"/>
                </a:solidFill>
                <a:latin typeface="Candara"/>
              </a:rPr>
              <a:t>Физика Морали»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 есть объяснение </a:t>
            </a:r>
            <a:r>
              <a:rPr b="1" i="1" lang="ru-RU" sz="1900" spc="-1" strike="noStrike">
                <a:solidFill>
                  <a:srgbClr val="7f7f7f"/>
                </a:solidFill>
                <a:latin typeface="Candara"/>
              </a:rPr>
              <a:t>Природы Морали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При этом под словом 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Мораль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понимается свод вечных и неизменных законов Природы, лежащих в основе существования Вселенной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Это не новый набор искусственных запрещающих правил, а научное</a:t>
            </a:r>
            <a:r>
              <a:rPr b="0" lang="en-US" sz="1900" spc="-1" strike="noStrike">
                <a:solidFill>
                  <a:srgbClr val="7f7f7f"/>
                </a:solidFill>
                <a:latin typeface="Candara"/>
              </a:rPr>
              <a:t>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объяснение механизмов взаимодействия человека и Природы. </a:t>
            </a:r>
            <a:br>
              <a:rPr sz="1900"/>
            </a:br>
            <a:br>
              <a:rPr sz="1900"/>
            </a:br>
            <a:br>
              <a:rPr sz="1900"/>
            </a:br>
            <a:br>
              <a:rPr sz="1600"/>
            </a:br>
            <a:r>
              <a:rPr b="0" lang="ru-RU" sz="16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4" name="Рисунок 4" descr="academy_146_PIX_red.jpg"/>
          <p:cNvPicPr/>
          <p:nvPr/>
        </p:nvPicPr>
        <p:blipFill>
          <a:blip r:embed="rId1"/>
          <a:stretch/>
        </p:blipFill>
        <p:spPr>
          <a:xfrm>
            <a:off x="1547640" y="1844640"/>
            <a:ext cx="1587600" cy="230508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8"/>
          <p:cNvSpPr/>
          <p:nvPr/>
        </p:nvSpPr>
        <p:spPr>
          <a:xfrm>
            <a:off x="0" y="620640"/>
            <a:ext cx="40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Физические основы мо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(«Физика морали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Термин </a:t>
            </a:r>
            <a:r>
              <a:rPr b="1" i="1" lang="ru-RU" sz="1900" spc="-1" strike="noStrike">
                <a:solidFill>
                  <a:srgbClr val="7f7f7f"/>
                </a:solidFill>
                <a:latin typeface="Candara"/>
              </a:rPr>
              <a:t>«Физика морали»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Дарио Салас предложил в своей книге </a:t>
            </a:r>
            <a:r>
              <a:rPr b="1" lang="ru-RU" sz="1900" spc="-1" strike="noStrike">
                <a:solidFill>
                  <a:srgbClr val="7f7f7f"/>
                </a:solidFill>
                <a:latin typeface="Candara"/>
              </a:rPr>
              <a:t>«Мораль XXI века».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 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Мораль, излагаемая в этой книге представляет собой описание трансцендентальных ценностей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Также в этой книге впервые научно доказывается, что быть моральным выгодно и единственное, что делает человека человеком — это высокий уровень сознания.</a:t>
            </a:r>
            <a:br>
              <a:rPr sz="1900"/>
            </a:br>
            <a:br>
              <a:rPr sz="1900"/>
            </a:br>
            <a:br>
              <a:rPr sz="14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batC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8" name="Прямоугольник 8"/>
          <p:cNvSpPr/>
          <p:nvPr/>
        </p:nvSpPr>
        <p:spPr>
          <a:xfrm>
            <a:off x="0" y="62064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лана</dc:creator>
  <dc:description/>
  <dc:language>en-US</dc:language>
  <cp:lastModifiedBy>LEGION</cp:lastModifiedBy>
  <dcterms:modified xsi:type="dcterms:W3CDTF">2014-11-11T07:57:54Z</dcterms:modified>
  <cp:revision>167</cp:revision>
  <dc:subject/>
  <dc:title>Образовательно-воспитательная программа «Я -гражданин России» как основа воспитательной системы класса</dc:title>
</cp:coreProperties>
</file>