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0865-A691-4B81-8C47-BE80FFAF001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Урок по окружающему миру</a:t>
            </a:r>
            <a:br>
              <a:rPr sz="1200"/>
            </a:br>
            <a:r>
              <a:rPr b="0" i="1" lang="ru-RU" sz="1600" spc="-1" strike="noStrike">
                <a:solidFill>
                  <a:srgbClr val="000000"/>
                </a:solidFill>
                <a:latin typeface="Comic Sans MS"/>
              </a:rPr>
              <a:t>«В пустыне Африки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83CA-8687-4331-B879-A3FEB20675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План рассказа о верблюд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1. Внешний в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2. Повад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3. 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4. Польза,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7E86-C3F3-4512-A93B-C2E9AB35A2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13DA-333F-49C5-B343-CCA84B426A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В пустыне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AE20-EBEF-4F56-A916-54A7CF2B48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лан знакомства с пустыней Африки: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Моря и океаны, омывающие Африк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годные услов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собенности растительного ми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обенности животного ми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Основные занятия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954A-BCFE-4287-A08E-C073EE970B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Растительный мир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73CA-2A0F-4DEE-9363-F07414FD5C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Гран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2A4D-3FCD-44A7-9B9E-91E4202F53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Животный мир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6B0E-BD8D-4222-93E6-E29DE24333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nstantia"/>
              </a:rPr>
              <a:t>Занятия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3ACF2-721E-4909-9532-5BBC5EE829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BB37-1BFD-4126-A156-78493FF2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8A2B-94F9-46C4-ACAD-CEE8D957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510-4A1B-4796-B0E9-C3EF7D64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BFD-01EA-4D00-87DF-BE8C9D8F2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C0B2-4EEA-4705-808A-E53781DE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AD98-7B1F-41AA-8107-CC483979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B733-7194-4385-B365-0EA711AE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E908-EC5B-4FDE-920F-B7849D03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6979-7EB5-47A3-8EE0-AFAF56FC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6A6B-0548-497F-85A0-F1C445C8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59BA-8E22-4D49-B4FC-0B5B0984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1756-95AE-4587-A75E-6EB1AE65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C2B4-A508-4682-881A-9744E94E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0BBB-FDFD-4042-B507-CA17D69C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DC1E-8485-4C3C-91C4-A424DAA3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991C-A536-4BAF-8E61-9895FCEDD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E50B-8CBC-431B-862D-C44B2CCE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17F05-442E-4229-A1C2-3EFFF37B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5CBA4-6E93-46D7-973D-E78144E6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CB18E-C7DC-4F2F-AA58-64F01E67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B32F6-6721-422C-B31C-C0B04C67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91BAA-C3B3-4CA0-8855-6E3E2975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5D6-F95C-4B70-A25F-96249857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253F0-3B2D-4159-B123-5EA24662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AD5A2-FC38-41D9-BF1C-8E2897D2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7327D-40AA-401A-B930-E04D4962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CEDD5-5190-484A-A45F-AA6D1854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58C76-1CCD-4B68-8228-6DE71D41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6DB2A-C3E6-486C-B828-8EA0981C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7BEB1-0AD0-4D94-80C6-42F485D3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32D52-F882-4C6E-AAE1-BFCC0890F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4D094-22DC-46A5-9DBF-3654CF52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F6249-2E85-43BC-B785-2B216BEE5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453-CE58-4BE0-ABE3-E5100B5C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CFB1F-B0FD-4B87-A255-6C526AC3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CEA5E-9EDE-4D38-BB1A-830EA6C3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34332-3C40-4370-B3AF-3E2E81D5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5603F-C258-43AF-B49B-C9404662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9061B-E6A1-44E6-ACE6-F8621308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0FBDF-B714-43CD-808F-4C4BDE74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A1615-0965-42D2-AB85-3EE0963A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C9E0A-2412-415B-B591-49DD664A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49DF4-46DB-4658-97C9-EC81D6CD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7F9F-E5C1-48AB-ACCE-4F720356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B18A-087E-4632-8917-18D7FE36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79D-9BCB-463F-96AA-8A011F5F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C02A-49FA-44F4-83F5-9AF52C89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25E5-D142-4B48-88AB-715F563F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2E6AE-997D-4B28-80B8-DE88E5C8E4CB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FB2E-334C-4938-80EE-ACAF89EEC119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7DE6-280C-4595-BC5C-B6053D69B1B9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525B-46DD-4362-B8AE-855C016BCDE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6E3A-9599-4BC6-B650-3BCA974A79A8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74B6-5D05-4A2F-83C5-6C17257434C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EAE0-413A-4E83-85BE-C0DAFCDCF09C}" type="datetime">
              <a:rPr b="0" lang="ru-RU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7C80-9075-4989-9F52-95C4BD181C4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73120" y="701640"/>
            <a:ext cx="7851600" cy="111456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3" descr="81111_zhivotnye_afrika_dikaya_2560x1777_(www.GdeFon.ru).jpg"/>
          <p:cNvPicPr/>
          <p:nvPr/>
        </p:nvPicPr>
        <p:blipFill>
          <a:blip r:embed="rId2"/>
          <a:stretch/>
        </p:blipFill>
        <p:spPr>
          <a:xfrm>
            <a:off x="4572000" y="2928960"/>
            <a:ext cx="4572000" cy="3173400"/>
          </a:xfrm>
          <a:prstGeom prst="rect">
            <a:avLst/>
          </a:prstGeom>
          <a:ln w="0">
            <a:noFill/>
          </a:ln>
        </p:spPr>
      </p:pic>
      <p:pic>
        <p:nvPicPr>
          <p:cNvPr id="204" name="Рисунок 5" descr="africa.jpg"/>
          <p:cNvPicPr/>
          <p:nvPr/>
        </p:nvPicPr>
        <p:blipFill>
          <a:blip r:embed="rId3"/>
          <a:stretch/>
        </p:blipFill>
        <p:spPr>
          <a:xfrm>
            <a:off x="214200" y="2357280"/>
            <a:ext cx="4429080" cy="427536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3" descr="0_835c5_3b6f0893_orig.jpg"/>
          <p:cNvPicPr/>
          <p:nvPr/>
        </p:nvPicPr>
        <p:blipFill>
          <a:blip r:embed="rId1"/>
          <a:stretch/>
        </p:blipFill>
        <p:spPr>
          <a:xfrm>
            <a:off x="0" y="285840"/>
            <a:ext cx="9139320" cy="60721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4" descr="img_0731cd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070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3" descr="ea8892f2c29e8f50fcd75f17edace027_580_0_0.jpg"/>
          <p:cNvPicPr/>
          <p:nvPr/>
        </p:nvPicPr>
        <p:blipFill>
          <a:blip r:embed="rId1"/>
          <a:stretch/>
        </p:blipFill>
        <p:spPr>
          <a:xfrm>
            <a:off x="0" y="142920"/>
            <a:ext cx="5524560" cy="36669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058759_367.jpg"/>
          <p:cNvPicPr/>
          <p:nvPr/>
        </p:nvPicPr>
        <p:blipFill>
          <a:blip r:embed="rId2"/>
          <a:stretch/>
        </p:blipFill>
        <p:spPr>
          <a:xfrm>
            <a:off x="3071880" y="2805120"/>
            <a:ext cx="6072120" cy="405288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Box 3"/>
          <p:cNvSpPr/>
          <p:nvPr/>
        </p:nvSpPr>
        <p:spPr>
          <a:xfrm>
            <a:off x="142920" y="1000080"/>
            <a:ext cx="585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. Внешний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2. Пов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3. 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4. Польза,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1524240" y="285840"/>
            <a:ext cx="68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План рассказа о верблюд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6" descr="camels-444-2.jpg"/>
          <p:cNvPicPr/>
          <p:nvPr/>
        </p:nvPicPr>
        <p:blipFill>
          <a:blip r:embed="rId1"/>
          <a:stretch/>
        </p:blipFill>
        <p:spPr>
          <a:xfrm>
            <a:off x="3571920" y="1500120"/>
            <a:ext cx="5429160" cy="40719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457200" y="1785960"/>
            <a:ext cx="7918560" cy="244476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4" descr="1-3-11-b.jpg"/>
          <p:cNvPicPr/>
          <p:nvPr/>
        </p:nvPicPr>
        <p:blipFill>
          <a:blip r:embed="rId1"/>
          <a:stretch/>
        </p:blipFill>
        <p:spPr>
          <a:xfrm>
            <a:off x="0" y="142920"/>
            <a:ext cx="9085320" cy="650088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Рисунок 3" descr="Африка-закат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"/>
          <p:cNvSpPr/>
          <p:nvPr/>
        </p:nvSpPr>
        <p:spPr>
          <a:xfrm>
            <a:off x="1000080" y="5572080"/>
            <a:ext cx="7500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onstantia"/>
              </a:rPr>
              <a:t>В пустыне Афри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-171360" y="871560"/>
            <a:ext cx="9315360" cy="43290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3"/>
          <p:cNvSpPr/>
          <p:nvPr/>
        </p:nvSpPr>
        <p:spPr>
          <a:xfrm>
            <a:off x="357120" y="28584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астительный мир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Рисунок 4" descr="1283838316_01.jpg"/>
          <p:cNvPicPr/>
          <p:nvPr/>
        </p:nvPicPr>
        <p:blipFill>
          <a:blip r:embed="rId1"/>
          <a:stretch/>
        </p:blipFill>
        <p:spPr>
          <a:xfrm>
            <a:off x="285840" y="1143000"/>
            <a:ext cx="4286160" cy="42861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f_007.jpg"/>
          <p:cNvPicPr/>
          <p:nvPr/>
        </p:nvPicPr>
        <p:blipFill>
          <a:blip r:embed="rId2"/>
          <a:stretch/>
        </p:blipFill>
        <p:spPr>
          <a:xfrm>
            <a:off x="5214960" y="1143000"/>
            <a:ext cx="3429000" cy="46846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7"/>
          <p:cNvSpPr/>
          <p:nvPr/>
        </p:nvSpPr>
        <p:spPr>
          <a:xfrm>
            <a:off x="714240" y="54291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Верблюжья колю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Рисунок 3" descr="images.jpeg"/>
          <p:cNvPicPr/>
          <p:nvPr/>
        </p:nvPicPr>
        <p:blipFill>
          <a:blip r:embed="rId1"/>
          <a:stretch/>
        </p:blipFill>
        <p:spPr>
          <a:xfrm>
            <a:off x="428760" y="1357200"/>
            <a:ext cx="4857480" cy="36385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4" descr="medherb127.jpg"/>
          <p:cNvPicPr/>
          <p:nvPr/>
        </p:nvPicPr>
        <p:blipFill>
          <a:blip r:embed="rId2"/>
          <a:stretch/>
        </p:blipFill>
        <p:spPr>
          <a:xfrm>
            <a:off x="5786280" y="357120"/>
            <a:ext cx="2505240" cy="59054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5"/>
          <p:cNvSpPr/>
          <p:nvPr/>
        </p:nvSpPr>
        <p:spPr>
          <a:xfrm>
            <a:off x="428760" y="500076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Гран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1428840" y="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Животный мир Аф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Рисунок 4" descr="254039077.jpg"/>
          <p:cNvPicPr/>
          <p:nvPr/>
        </p:nvPicPr>
        <p:blipFill>
          <a:blip r:embed="rId1"/>
          <a:stretch/>
        </p:blipFill>
        <p:spPr>
          <a:xfrm>
            <a:off x="142920" y="1285920"/>
            <a:ext cx="4532400" cy="435780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5" descr="skara01.jpg"/>
          <p:cNvPicPr/>
          <p:nvPr/>
        </p:nvPicPr>
        <p:blipFill>
          <a:blip r:embed="rId2"/>
          <a:stretch/>
        </p:blipFill>
        <p:spPr>
          <a:xfrm>
            <a:off x="4929120" y="1285920"/>
            <a:ext cx="3619440" cy="4653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3" descr="aa226728ff41t.jpg"/>
          <p:cNvPicPr/>
          <p:nvPr/>
        </p:nvPicPr>
        <p:blipFill>
          <a:blip r:embed="rId1"/>
          <a:stretch/>
        </p:blipFill>
        <p:spPr>
          <a:xfrm>
            <a:off x="142920" y="0"/>
            <a:ext cx="4357800" cy="32688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4" descr="kobra-rezba-po-derevu-eksklyuziv_34645314_3_F.jpg"/>
          <p:cNvPicPr/>
          <p:nvPr/>
        </p:nvPicPr>
        <p:blipFill>
          <a:blip r:embed="rId2"/>
          <a:stretch/>
        </p:blipFill>
        <p:spPr>
          <a:xfrm>
            <a:off x="5072040" y="857160"/>
            <a:ext cx="3965760" cy="52866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5" descr="1292184088_img-c4eb9.jpg"/>
          <p:cNvPicPr/>
          <p:nvPr/>
        </p:nvPicPr>
        <p:blipFill>
          <a:blip r:embed="rId3"/>
          <a:stretch/>
        </p:blipFill>
        <p:spPr>
          <a:xfrm>
            <a:off x="142920" y="2943360"/>
            <a:ext cx="4714920" cy="3771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857160" y="14292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Занятия насе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Рисунок 4" descr="b56319682e914de0777e811b965baad0.jpg"/>
          <p:cNvPicPr/>
          <p:nvPr/>
        </p:nvPicPr>
        <p:blipFill>
          <a:blip r:embed="rId1"/>
          <a:stretch/>
        </p:blipFill>
        <p:spPr>
          <a:xfrm>
            <a:off x="714240" y="1214280"/>
            <a:ext cx="7715520" cy="51325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5T17:36:39Z</dcterms:created>
  <dc:creator>User</dc:creator>
  <dc:description/>
  <dc:language>en-US</dc:language>
  <cp:lastModifiedBy>LEGION2</cp:lastModifiedBy>
  <dcterms:modified xsi:type="dcterms:W3CDTF">2015-04-24T07:40:34Z</dcterms:modified>
  <cp:revision>6</cp:revision>
  <dc:subject/>
  <dc:title>Слайд 1</dc:title>
</cp:coreProperties>
</file>