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7E56-F0F9-4CC7-9661-83630BB035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 по окружающему миру</a:t>
            </a: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«В пустыне Африки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65EF-88A4-4FD2-AC84-E9CAF4A3A2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16FE-B5E2-4F22-9140-6866A07E56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FF15-EE99-4A7F-8D13-D4138E0061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1E78-F0B9-4A06-B3C3-F0EC995E2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лан знакомства с пустыней Африки: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оря и океаны, омывающие Афр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годные усло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собенности раститель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и живот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сновные занят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CCE3-9EE9-41A3-8C5C-7F879131E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76A3-B205-48F9-BBEE-169B60E65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C80E-FE22-4D74-B740-16AED944A3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E193-A8DF-4441-B5EC-E9E3192E4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E053-7EF2-40A8-AC47-757D8B704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660-BCAC-4CCC-A8AF-F70E7995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DD0-62B0-4CA6-A23C-E757C2E5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545-E7A9-45D4-B775-CD42F0C0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B40-33BE-4CDD-B8C2-BCFDD1CA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F206-3811-4C5F-A3AD-20C5BAB4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9836-2CA4-4014-B807-A0AC875A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A33C-32D0-4B23-BA99-E23B6271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0C67-021E-4326-B845-BF217330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E3D9-5E8D-4D08-920F-82F7EEEB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33CC-0CF0-4CC2-BBE0-4E947F79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6779-942D-4AD6-86E4-B866DD6E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AA7-27B7-46F0-8C92-120F2988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AF5C-C586-4F78-BCC9-8D8ABEF0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B0B5-80CA-4AEB-9BA9-307D0AFC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CE61-539D-4965-B3F6-F3413F84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C7DC-68E2-4015-9583-C9A13F1C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542D-183B-470F-8FB9-BA171726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FD12-164E-406B-9E49-14E5B855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95CC7-3468-46C1-BA38-6501F6CB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150F-2948-41DA-B224-31D5A140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5AFE-AF48-4E1C-B774-6708883D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F352-9CE3-4EC0-9DC4-33D5D00D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4D2-FA51-4534-A4D2-D2F6F6C1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279A-05D0-4BDE-AD91-ACB88E89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08792-E100-4D0E-9789-D9381FCC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36FFE-9D05-4ED1-A55B-C0CA6677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DDB4-0EFD-448F-BA74-47AD5AC9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94C5-B9B0-465D-851D-62612B00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E60C-8352-4DB5-855C-EF49D912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DAF7-6908-4FAA-BE47-736DB5A7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CB2F4-C141-4A78-8C05-5824005C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E1077-3C7F-4FF3-AAEA-A9653DA9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001CB-07D0-4581-8665-F91B8E44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93A-FC76-4F7A-AE3D-28ACB00E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41896-8039-4A23-913B-0E4D75B6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725EB-C424-4731-A02F-E5D19E6F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54BD-C11D-4341-B487-7582FA34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4FBFA-A634-48F7-BBA1-4A6BBBF3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823A-4472-4714-9009-FB7621A0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0FA25-11EB-4514-8C21-4C88C739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8D27C-7418-4372-BA49-75D88CCF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D5E4-F3AD-4246-B7A2-99481A4F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E651-D2E1-4E12-BBD3-73501D80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9C3-E6A7-468E-B8CB-6149662D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23B-8313-4424-87E3-AF4DF347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E43-6FB1-4DA8-B41C-9DC8634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E21-5CE1-4FB0-8D1F-439ED73E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05B-7AF6-465C-95F6-9C7D8422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15C3-344B-4D70-95FE-4F0676DC8E0F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8DFD-1F30-4598-AF5C-6D3285F9B70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0F0F-A0DB-4D5F-A597-F3181B394D31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B260-0E5D-44B1-BB07-D4C99CFD5F4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DC9A-92B2-4721-A023-E40EDE102863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1DB2-29D3-48EC-8B41-E7EA8184707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9014-55CA-4745-993E-CAF031C599D0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6B30-B96C-4D4E-99D7-A88F0394C47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73120" y="701640"/>
            <a:ext cx="7851600" cy="11145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81111_zhivotnye_afrika_dikaya_2560x1777_(www.GdeFon.ru).jpg"/>
          <p:cNvPicPr/>
          <p:nvPr/>
        </p:nvPicPr>
        <p:blipFill>
          <a:blip r:embed="rId2"/>
          <a:stretch/>
        </p:blipFill>
        <p:spPr>
          <a:xfrm>
            <a:off x="4572000" y="2928960"/>
            <a:ext cx="4572000" cy="31734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africa.jpg"/>
          <p:cNvPicPr/>
          <p:nvPr/>
        </p:nvPicPr>
        <p:blipFill>
          <a:blip r:embed="rId3"/>
          <a:stretch/>
        </p:blipFill>
        <p:spPr>
          <a:xfrm>
            <a:off x="214200" y="2357280"/>
            <a:ext cx="4429080" cy="42753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0_835c5_3b6f0893_orig.jpg"/>
          <p:cNvPicPr/>
          <p:nvPr/>
        </p:nvPicPr>
        <p:blipFill>
          <a:blip r:embed="rId1"/>
          <a:stretch/>
        </p:blipFill>
        <p:spPr>
          <a:xfrm>
            <a:off x="0" y="285840"/>
            <a:ext cx="9139320" cy="60721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4" descr="img_0731cd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ea8892f2c29e8f50fcd75f17edace027_580_0_0.jpg"/>
          <p:cNvPicPr/>
          <p:nvPr/>
        </p:nvPicPr>
        <p:blipFill>
          <a:blip r:embed="rId1"/>
          <a:stretch/>
        </p:blipFill>
        <p:spPr>
          <a:xfrm>
            <a:off x="0" y="142920"/>
            <a:ext cx="5524560" cy="3666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058759_367.jpg"/>
          <p:cNvPicPr/>
          <p:nvPr/>
        </p:nvPicPr>
        <p:blipFill>
          <a:blip r:embed="rId2"/>
          <a:stretch/>
        </p:blipFill>
        <p:spPr>
          <a:xfrm>
            <a:off x="3071880" y="2805120"/>
            <a:ext cx="6072120" cy="4052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3"/>
          <p:cNvSpPr/>
          <p:nvPr/>
        </p:nvSpPr>
        <p:spPr>
          <a:xfrm>
            <a:off x="142920" y="100008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524240" y="285840"/>
            <a:ext cx="6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6" descr="camels-444-2.jpg"/>
          <p:cNvPicPr/>
          <p:nvPr/>
        </p:nvPicPr>
        <p:blipFill>
          <a:blip r:embed="rId1"/>
          <a:stretch/>
        </p:blipFill>
        <p:spPr>
          <a:xfrm>
            <a:off x="3571920" y="15001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7918560" cy="24447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1-3-11-b.jpg"/>
          <p:cNvPicPr/>
          <p:nvPr/>
        </p:nvPicPr>
        <p:blipFill>
          <a:blip r:embed="rId1"/>
          <a:stretch/>
        </p:blipFill>
        <p:spPr>
          <a:xfrm>
            <a:off x="0" y="142920"/>
            <a:ext cx="9085320" cy="6500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Африка-зака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1000080" y="557208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-171360" y="871560"/>
            <a:ext cx="9315360" cy="4329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357120" y="2858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4" descr="1283838316_01.jpg"/>
          <p:cNvPicPr/>
          <p:nvPr/>
        </p:nvPicPr>
        <p:blipFill>
          <a:blip r:embed="rId1"/>
          <a:stretch/>
        </p:blipFill>
        <p:spPr>
          <a:xfrm>
            <a:off x="285840" y="114300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f_007.jpg"/>
          <p:cNvPicPr/>
          <p:nvPr/>
        </p:nvPicPr>
        <p:blipFill>
          <a:blip r:embed="rId2"/>
          <a:stretch/>
        </p:blipFill>
        <p:spPr>
          <a:xfrm>
            <a:off x="5214960" y="1143000"/>
            <a:ext cx="3429000" cy="4684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714240" y="54291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ерблюжья колю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images.jpeg"/>
          <p:cNvPicPr/>
          <p:nvPr/>
        </p:nvPicPr>
        <p:blipFill>
          <a:blip r:embed="rId1"/>
          <a:stretch/>
        </p:blipFill>
        <p:spPr>
          <a:xfrm>
            <a:off x="428760" y="1357200"/>
            <a:ext cx="4857480" cy="3638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medherb127.jpg"/>
          <p:cNvPicPr/>
          <p:nvPr/>
        </p:nvPicPr>
        <p:blipFill>
          <a:blip r:embed="rId2"/>
          <a:stretch/>
        </p:blipFill>
        <p:spPr>
          <a:xfrm>
            <a:off x="5786280" y="357120"/>
            <a:ext cx="2505240" cy="59054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28760" y="5000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428840" y="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4" descr="254039077.jpg"/>
          <p:cNvPicPr/>
          <p:nvPr/>
        </p:nvPicPr>
        <p:blipFill>
          <a:blip r:embed="rId1"/>
          <a:stretch/>
        </p:blipFill>
        <p:spPr>
          <a:xfrm>
            <a:off x="142920" y="1285920"/>
            <a:ext cx="4532400" cy="43578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skara01.jpg"/>
          <p:cNvPicPr/>
          <p:nvPr/>
        </p:nvPicPr>
        <p:blipFill>
          <a:blip r:embed="rId2"/>
          <a:stretch/>
        </p:blipFill>
        <p:spPr>
          <a:xfrm>
            <a:off x="4929120" y="1285920"/>
            <a:ext cx="3619440" cy="4653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aa226728ff41t.jpg"/>
          <p:cNvPicPr/>
          <p:nvPr/>
        </p:nvPicPr>
        <p:blipFill>
          <a:blip r:embed="rId1"/>
          <a:stretch/>
        </p:blipFill>
        <p:spPr>
          <a:xfrm>
            <a:off x="14292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kobra-rezba-po-derevu-eksklyuziv_34645314_3_F.jpg"/>
          <p:cNvPicPr/>
          <p:nvPr/>
        </p:nvPicPr>
        <p:blipFill>
          <a:blip r:embed="rId2"/>
          <a:stretch/>
        </p:blipFill>
        <p:spPr>
          <a:xfrm>
            <a:off x="5072040" y="857160"/>
            <a:ext cx="3965760" cy="5286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1292184088_img-c4eb9.jpg"/>
          <p:cNvPicPr/>
          <p:nvPr/>
        </p:nvPicPr>
        <p:blipFill>
          <a:blip r:embed="rId3"/>
          <a:stretch/>
        </p:blipFill>
        <p:spPr>
          <a:xfrm>
            <a:off x="142920" y="2943360"/>
            <a:ext cx="4714920" cy="3771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857160" y="1429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4" descr="b56319682e914de0777e811b965baad0.jpg"/>
          <p:cNvPicPr/>
          <p:nvPr/>
        </p:nvPicPr>
        <p:blipFill>
          <a:blip r:embed="rId1"/>
          <a:stretch/>
        </p:blipFill>
        <p:spPr>
          <a:xfrm>
            <a:off x="714240" y="1214280"/>
            <a:ext cx="7715520" cy="51325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36:39Z</dcterms:created>
  <dc:creator>User</dc:creator>
  <dc:description/>
  <dc:language>en-US</dc:language>
  <cp:lastModifiedBy>LEGION2</cp:lastModifiedBy>
  <dcterms:modified xsi:type="dcterms:W3CDTF">2015-04-24T07:40:34Z</dcterms:modified>
  <cp:revision>6</cp:revision>
  <dc:subject/>
  <dc:title>Слайд 1</dc:title>
</cp:coreProperties>
</file>