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7D26-C4CB-40D5-B63D-9F0E714C26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 по окружающему миру</a:t>
            </a: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«В пустыне Афри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4B4F-87D8-4141-BFAD-2EA9F2161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29F7-DF57-4F0F-BA3F-891D47710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6E9C-8E1D-41A6-B766-F135604FF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9401-FAD4-4E6F-9C08-8717D890C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лан знакомства с пустыней Африк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оря и океаны, омывающие Афр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годные усло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собенности раститель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и живот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сновные занят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C52E-DF35-4EC6-A08C-9F2A3674E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BC9B-3897-4B38-AB9F-2E277671B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5F09-344C-4795-BC85-24C745669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90E0-7EE9-4701-99AE-AF286FD1B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47BB-4CFC-4355-9962-B2D5BD47A5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BB3-6C56-4796-BFB6-CD13B3B1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27D-9747-457C-86E7-A3899491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D5F-9D44-4D27-94DA-6B2AA416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28B-9971-4F24-B4C1-0D67A9CE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9160-4972-41D8-A3AA-5A94B195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F88E-DF72-484E-AE6A-AF50307D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6EEB-6FDA-4C85-85B6-628ED11F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1FBC-44A2-4E37-A5A9-E4906FDC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4114-233D-443C-8B65-EFFA54D4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E2E3-25D3-4766-97E4-F6A4343D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E3B7-7F56-4AEB-A981-F39368A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0C8-0B14-4BD4-BBFD-B71F7437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A161-9C98-4698-AABF-AB5A7606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A030-FB4D-4570-AB99-86809FF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F758-0B08-46BF-B64E-49B2666F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9445-9046-4570-9F14-6DEDAF3E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680F-4555-43C8-82EE-97C4EA2B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5568-F441-43E0-81B4-1741FB3D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0822-49CC-4B47-BED9-0F309402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D584-A205-4D4C-9702-2EA13A3B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5DDF-49EA-4C59-973B-8127165C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BE2A9-F9A3-4468-85DA-BB008F03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AF8-FDFB-4555-AB6E-4416EE10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8CAD-F717-4F01-8290-8B70E474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A133-B9FB-487E-83B0-A58ED678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8DDC-6881-423A-831B-EFE502F4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47B8-3960-482A-8029-24A759D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53C4-C346-43CD-9855-BEB97F42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BB16-6A5F-430A-8285-EF484127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2378-6672-4725-99CE-C9397094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E0B7-2A2A-4147-9C3F-FA379901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2DA1A-0EB8-49D2-B725-99023D13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FF93-A217-4D9D-9196-93F3F00A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477-99BE-4011-8C2C-733BA868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9152-7FFF-423B-B8C2-F7B85CE7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2CA1-BB63-4A64-9C84-67771488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A09A-DEBD-43FF-BEE9-EEEE8834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1D7F3-5578-4536-88FB-15652453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CBC3-728B-4202-B99E-0EEACA6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FC48A-D73E-452E-BD0A-40AC92FC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E6B9-9999-42EC-8755-B81A0A28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1588-A15B-4657-88FF-E913A1E7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39F4-F64E-4016-8C1C-B5AC2291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1F5-6D0F-4220-B2BC-756254AB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B83-BE84-4A07-BAD3-1E56F460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EE4-91DE-46E8-9A61-DB3F90CD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BFC-2879-4796-A133-EC842B1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0C8-95EC-46F5-B831-59DF1C9D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E46B-1A32-40C8-8235-662BC580AF99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F2BF-CDF7-4499-9516-B90649A1121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8002-800E-42C3-BE65-84DAC67061A2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D6CD-8076-45AC-8B16-C82E3A7E0C1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5B42-8F6B-4594-BE09-1DB3BB20631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8F4D-5EEB-4BDB-B9F8-21C4C8D68C6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F782-9D6D-4163-8EE7-60C80BD151E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2279-6F51-4614-B254-A7E1F2D2D1F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73120" y="701640"/>
            <a:ext cx="7851600" cy="1114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81111_zhivotnye_afrika_dikaya_2560x1777_(www.GdeFon.ru).jpg"/>
          <p:cNvPicPr/>
          <p:nvPr/>
        </p:nvPicPr>
        <p:blipFill>
          <a:blip r:embed="rId2"/>
          <a:stretch/>
        </p:blipFill>
        <p:spPr>
          <a:xfrm>
            <a:off x="4572000" y="2928960"/>
            <a:ext cx="4572000" cy="3173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africa.jpg"/>
          <p:cNvPicPr/>
          <p:nvPr/>
        </p:nvPicPr>
        <p:blipFill>
          <a:blip r:embed="rId3"/>
          <a:stretch/>
        </p:blipFill>
        <p:spPr>
          <a:xfrm>
            <a:off x="214200" y="2357280"/>
            <a:ext cx="4429080" cy="42753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0_835c5_3b6f0893_orig.jpg"/>
          <p:cNvPicPr/>
          <p:nvPr/>
        </p:nvPicPr>
        <p:blipFill>
          <a:blip r:embed="rId1"/>
          <a:stretch/>
        </p:blipFill>
        <p:spPr>
          <a:xfrm>
            <a:off x="0" y="285840"/>
            <a:ext cx="913932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img_0731cd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ea8892f2c29e8f50fcd75f17edace027_580_0_0.jpg"/>
          <p:cNvPicPr/>
          <p:nvPr/>
        </p:nvPicPr>
        <p:blipFill>
          <a:blip r:embed="rId1"/>
          <a:stretch/>
        </p:blipFill>
        <p:spPr>
          <a:xfrm>
            <a:off x="0" y="142920"/>
            <a:ext cx="5524560" cy="3666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058759_367.jpg"/>
          <p:cNvPicPr/>
          <p:nvPr/>
        </p:nvPicPr>
        <p:blipFill>
          <a:blip r:embed="rId2"/>
          <a:stretch/>
        </p:blipFill>
        <p:spPr>
          <a:xfrm>
            <a:off x="3071880" y="2805120"/>
            <a:ext cx="6072120" cy="4052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42920" y="100008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524240" y="28584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amels-444-2.jpg"/>
          <p:cNvPicPr/>
          <p:nvPr/>
        </p:nvPicPr>
        <p:blipFill>
          <a:blip r:embed="rId1"/>
          <a:stretch/>
        </p:blipFill>
        <p:spPr>
          <a:xfrm>
            <a:off x="3571920" y="15001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7918560" cy="24447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1-3-11-b.jpg"/>
          <p:cNvPicPr/>
          <p:nvPr/>
        </p:nvPicPr>
        <p:blipFill>
          <a:blip r:embed="rId1"/>
          <a:stretch/>
        </p:blipFill>
        <p:spPr>
          <a:xfrm>
            <a:off x="0" y="142920"/>
            <a:ext cx="9085320" cy="6500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Африка-зак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000080" y="5572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-171360" y="871560"/>
            <a:ext cx="9315360" cy="4329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357120" y="285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1283838316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f_007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684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714240" y="5429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ерблюжья колю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images.jpeg"/>
          <p:cNvPicPr/>
          <p:nvPr/>
        </p:nvPicPr>
        <p:blipFill>
          <a:blip r:embed="rId1"/>
          <a:stretch/>
        </p:blipFill>
        <p:spPr>
          <a:xfrm>
            <a:off x="428760" y="1357200"/>
            <a:ext cx="4857480" cy="3638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dherb127.jpg"/>
          <p:cNvPicPr/>
          <p:nvPr/>
        </p:nvPicPr>
        <p:blipFill>
          <a:blip r:embed="rId2"/>
          <a:stretch/>
        </p:blipFill>
        <p:spPr>
          <a:xfrm>
            <a:off x="5786280" y="357120"/>
            <a:ext cx="25052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28760" y="5000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28840" y="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254039077.jpg"/>
          <p:cNvPicPr/>
          <p:nvPr/>
        </p:nvPicPr>
        <p:blipFill>
          <a:blip r:embed="rId1"/>
          <a:stretch/>
        </p:blipFill>
        <p:spPr>
          <a:xfrm>
            <a:off x="142920" y="1285920"/>
            <a:ext cx="4532400" cy="4357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skara01.jpg"/>
          <p:cNvPicPr/>
          <p:nvPr/>
        </p:nvPicPr>
        <p:blipFill>
          <a:blip r:embed="rId2"/>
          <a:stretch/>
        </p:blipFill>
        <p:spPr>
          <a:xfrm>
            <a:off x="4929120" y="1285920"/>
            <a:ext cx="361944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aa226728ff41t.jpg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kobra-rezba-po-derevu-eksklyuziv_34645314_3_F.jpg"/>
          <p:cNvPicPr/>
          <p:nvPr/>
        </p:nvPicPr>
        <p:blipFill>
          <a:blip r:embed="rId2"/>
          <a:stretch/>
        </p:blipFill>
        <p:spPr>
          <a:xfrm>
            <a:off x="5072040" y="857160"/>
            <a:ext cx="3965760" cy="528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292184088_img-c4eb9.jpg"/>
          <p:cNvPicPr/>
          <p:nvPr/>
        </p:nvPicPr>
        <p:blipFill>
          <a:blip r:embed="rId3"/>
          <a:stretch/>
        </p:blipFill>
        <p:spPr>
          <a:xfrm>
            <a:off x="142920" y="2943360"/>
            <a:ext cx="4714920" cy="3771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857160" y="1429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b56319682e914de0777e811b965baad0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1325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6:39Z</dcterms:created>
  <dc:creator>User</dc:creator>
  <dc:description/>
  <dc:language>en-US</dc:language>
  <cp:lastModifiedBy>LEGION2</cp:lastModifiedBy>
  <dcterms:modified xsi:type="dcterms:W3CDTF">2015-04-24T07:40:34Z</dcterms:modified>
  <cp:revision>6</cp:revision>
  <dc:subject/>
  <dc:title>Слайд 1</dc:title>
</cp:coreProperties>
</file>