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7.png" ContentType="image/png"/>
  <Override PartName="/ppt/media/image2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5E32-4368-4D40-ACEC-55701CEBB1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рок по окружающему миру</a:t>
            </a:r>
            <a:br>
              <a:rPr sz="1200"/>
            </a:b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«В пустыне Африки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B0F0-9D8B-41DF-8EFF-76D71E238E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План рассказа о верблюд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1. Внешний 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2. Повад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3. 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4. Польза,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1E78-C9C0-4297-8846-EF9C1593C2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7E09-7ACD-4D0E-8FDA-680712DB3D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В пустыне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FCE1-7E99-4347-967D-C7D96DEEF7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лан знакомства с пустыней Африки: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оря и океаны, омывающие Африк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годные услов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собенности растительного ми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обенности животного ми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Основные занятия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9784-152F-454A-9006-5B3A512168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Растительный мир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EB2C-C848-43A9-83DD-B8F7449637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Гран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8020-8B39-4166-8CF6-3F70CDFF3B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Животный мир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1386-BE2D-4012-8192-F4D09B7C58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Занятия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53D2-C8FD-474C-A75C-3B4BDC9ECC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6C1F-C690-48B0-BE96-E693A9C6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B514-E007-4886-A188-53C3173F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F3CD-4CD3-45A2-8C83-E7D4E846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9938-B1B7-48DB-884F-106564325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99A7-B5A7-4B03-8C0C-A69F373B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C18C-3B50-4D17-8954-16262009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EFE2-DC3B-4C0C-9FE9-47FDC4A4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3B3B-94BB-45F8-9C92-B1D62134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950C-8F59-42E2-8E8A-E9E7B417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4519-03AD-4677-9AE9-9C0F1E19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1464-E21A-448B-80B1-1CDBA8BF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B91F-17F5-4EC1-935E-CEDB0906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4523-5BE7-4CFE-9DA2-7506F9AC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6991-0609-4717-ACFD-B8DDCFD4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44CF-F592-4D7C-8B2B-AA8A7B07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6842-3852-4A78-B7E4-E52E6AEB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3D8D-5BA8-4A25-B85A-A64BDCB7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F261E-D78F-4E63-BF03-FB4FF9B2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3633E-6849-4B40-BC92-412BDDC0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0C1D8-864A-4D2A-95E3-D2E29223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3F4BE-9B11-4694-9589-3E6C7EBD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48A55-1714-48B6-B600-465DB6F0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0A6B-9731-4BA7-A562-D231C039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8B341-E8B7-47BF-8218-7FA32B24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2782B-B542-451D-9B3B-E10190F4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4EEDD-B4DA-4A0B-91A3-F2A12F75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4DEB8-4403-495D-B6A8-5F1195B4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D98DF-E8D2-4B83-AD63-28CDD5FE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ABCDC-D4E2-4AC0-A873-A0FF9AD2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815F9-71A9-469E-88C3-73E68F3D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A9E2E-D31A-40F1-BE99-F452F014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8FE7A-D85A-4E98-84C9-F1E89817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2AB18-7473-4463-8C25-A841E565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B5D-E078-4146-96BD-3AE1FB3C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FD3F2-5808-4CE9-BA4F-2FD96CCE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D5A8C-03CB-488D-ADDA-22D1E4E1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7FA0F-A8C0-45DD-89AC-F0EA57F1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8E383-5E54-43EB-B117-786A799A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322EF-5876-45FE-AB75-DD02CAC0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ECD53-39EE-4630-B49B-0EAA6805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84A57-A4D1-4290-B599-5DF51694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498E5-A1CB-4AFA-BAF3-629474EF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5330E-9F70-4261-B2F0-87B02D43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0030-DB81-47FC-811D-0A00ECF9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DA60-43C5-4D29-8C28-2EDEE6C0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950F-933F-498C-B5F3-87121798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F481-5A30-4BA9-9E34-15236ABB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D629-F2BE-424D-A466-101F2256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4DBE-4308-479F-9BD1-E1AFCCF31372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4877-7ACC-441F-B07D-F5CD8C0ACD9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E9B6-14C9-46C8-87A5-DBC78FE4901C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AADE-5C0F-4783-A837-A812AB57989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C07A-9B59-44B5-832B-0261E215C672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D1C1-01D4-43B0-8643-116F3EBD754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5E3C-EAA5-4CBA-9D04-1D72FA765A2C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29CD-32B3-4E82-8166-E2708914EC1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73120" y="701640"/>
            <a:ext cx="7851600" cy="111456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3" descr="81111_zhivotnye_afrika_dikaya_2560x1777_(www.GdeFon.ru).jpg"/>
          <p:cNvPicPr/>
          <p:nvPr/>
        </p:nvPicPr>
        <p:blipFill>
          <a:blip r:embed="rId2"/>
          <a:stretch/>
        </p:blipFill>
        <p:spPr>
          <a:xfrm>
            <a:off x="4572000" y="2928960"/>
            <a:ext cx="4572000" cy="317340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5" descr="africa.jpg"/>
          <p:cNvPicPr/>
          <p:nvPr/>
        </p:nvPicPr>
        <p:blipFill>
          <a:blip r:embed="rId3"/>
          <a:stretch/>
        </p:blipFill>
        <p:spPr>
          <a:xfrm>
            <a:off x="214200" y="2357280"/>
            <a:ext cx="4429080" cy="427536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3" descr="0_835c5_3b6f0893_orig.jpg"/>
          <p:cNvPicPr/>
          <p:nvPr/>
        </p:nvPicPr>
        <p:blipFill>
          <a:blip r:embed="rId1"/>
          <a:stretch/>
        </p:blipFill>
        <p:spPr>
          <a:xfrm>
            <a:off x="0" y="285840"/>
            <a:ext cx="9139320" cy="607212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4" descr="img_0731cd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10704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3" descr="ea8892f2c29e8f50fcd75f17edace027_580_0_0.jpg"/>
          <p:cNvPicPr/>
          <p:nvPr/>
        </p:nvPicPr>
        <p:blipFill>
          <a:blip r:embed="rId1"/>
          <a:stretch/>
        </p:blipFill>
        <p:spPr>
          <a:xfrm>
            <a:off x="0" y="142920"/>
            <a:ext cx="5524560" cy="36669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058759_367.jpg"/>
          <p:cNvPicPr/>
          <p:nvPr/>
        </p:nvPicPr>
        <p:blipFill>
          <a:blip r:embed="rId2"/>
          <a:stretch/>
        </p:blipFill>
        <p:spPr>
          <a:xfrm>
            <a:off x="3071880" y="2805120"/>
            <a:ext cx="6072120" cy="40528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3"/>
          <p:cNvSpPr/>
          <p:nvPr/>
        </p:nvSpPr>
        <p:spPr>
          <a:xfrm>
            <a:off x="142920" y="1000080"/>
            <a:ext cx="585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1. Внешний 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2. Пов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3.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4. Польза,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1524240" y="285840"/>
            <a:ext cx="681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План рассказа о верблюд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6" descr="camels-444-2.jpg"/>
          <p:cNvPicPr/>
          <p:nvPr/>
        </p:nvPicPr>
        <p:blipFill>
          <a:blip r:embed="rId1"/>
          <a:stretch/>
        </p:blipFill>
        <p:spPr>
          <a:xfrm>
            <a:off x="3571920" y="1500120"/>
            <a:ext cx="5429160" cy="40719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457200" y="1785960"/>
            <a:ext cx="7918560" cy="244476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4" descr="1-3-11-b.jpg"/>
          <p:cNvPicPr/>
          <p:nvPr/>
        </p:nvPicPr>
        <p:blipFill>
          <a:blip r:embed="rId1"/>
          <a:stretch/>
        </p:blipFill>
        <p:spPr>
          <a:xfrm>
            <a:off x="0" y="142920"/>
            <a:ext cx="9085320" cy="65008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3" descr="Африка-зака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4"/>
          <p:cNvSpPr/>
          <p:nvPr/>
        </p:nvSpPr>
        <p:spPr>
          <a:xfrm>
            <a:off x="1000080" y="5572080"/>
            <a:ext cx="750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onstantia"/>
              </a:rPr>
              <a:t>В пустыне Афри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-171360" y="871560"/>
            <a:ext cx="9315360" cy="43290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3"/>
          <p:cNvSpPr/>
          <p:nvPr/>
        </p:nvSpPr>
        <p:spPr>
          <a:xfrm>
            <a:off x="357120" y="28584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стительный мир Аф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4" descr="1283838316_01.jpg"/>
          <p:cNvPicPr/>
          <p:nvPr/>
        </p:nvPicPr>
        <p:blipFill>
          <a:blip r:embed="rId1"/>
          <a:stretch/>
        </p:blipFill>
        <p:spPr>
          <a:xfrm>
            <a:off x="285840" y="1143000"/>
            <a:ext cx="4286160" cy="42861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5" descr="f_007.jpg"/>
          <p:cNvPicPr/>
          <p:nvPr/>
        </p:nvPicPr>
        <p:blipFill>
          <a:blip r:embed="rId2"/>
          <a:stretch/>
        </p:blipFill>
        <p:spPr>
          <a:xfrm>
            <a:off x="5214960" y="1143000"/>
            <a:ext cx="3429000" cy="46846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7"/>
          <p:cNvSpPr/>
          <p:nvPr/>
        </p:nvSpPr>
        <p:spPr>
          <a:xfrm>
            <a:off x="714240" y="54291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Верблюжья колю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images.jpeg"/>
          <p:cNvPicPr/>
          <p:nvPr/>
        </p:nvPicPr>
        <p:blipFill>
          <a:blip r:embed="rId1"/>
          <a:stretch/>
        </p:blipFill>
        <p:spPr>
          <a:xfrm>
            <a:off x="428760" y="1357200"/>
            <a:ext cx="4857480" cy="36385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4" descr="medherb127.jpg"/>
          <p:cNvPicPr/>
          <p:nvPr/>
        </p:nvPicPr>
        <p:blipFill>
          <a:blip r:embed="rId2"/>
          <a:stretch/>
        </p:blipFill>
        <p:spPr>
          <a:xfrm>
            <a:off x="5786280" y="357120"/>
            <a:ext cx="2505240" cy="590544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428760" y="500076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Гран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1428840" y="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Животный мир Аф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4" descr="254039077.jpg"/>
          <p:cNvPicPr/>
          <p:nvPr/>
        </p:nvPicPr>
        <p:blipFill>
          <a:blip r:embed="rId1"/>
          <a:stretch/>
        </p:blipFill>
        <p:spPr>
          <a:xfrm>
            <a:off x="142920" y="1285920"/>
            <a:ext cx="4532400" cy="43578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" descr="skara01.jpg"/>
          <p:cNvPicPr/>
          <p:nvPr/>
        </p:nvPicPr>
        <p:blipFill>
          <a:blip r:embed="rId2"/>
          <a:stretch/>
        </p:blipFill>
        <p:spPr>
          <a:xfrm>
            <a:off x="4929120" y="1285920"/>
            <a:ext cx="3619440" cy="46530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3" descr="aa226728ff41t.jpg"/>
          <p:cNvPicPr/>
          <p:nvPr/>
        </p:nvPicPr>
        <p:blipFill>
          <a:blip r:embed="rId1"/>
          <a:stretch/>
        </p:blipFill>
        <p:spPr>
          <a:xfrm>
            <a:off x="142920" y="0"/>
            <a:ext cx="4357800" cy="32688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4" descr="kobra-rezba-po-derevu-eksklyuziv_34645314_3_F.jpg"/>
          <p:cNvPicPr/>
          <p:nvPr/>
        </p:nvPicPr>
        <p:blipFill>
          <a:blip r:embed="rId2"/>
          <a:stretch/>
        </p:blipFill>
        <p:spPr>
          <a:xfrm>
            <a:off x="5072040" y="857160"/>
            <a:ext cx="3965760" cy="52866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5" descr="1292184088_img-c4eb9.jpg"/>
          <p:cNvPicPr/>
          <p:nvPr/>
        </p:nvPicPr>
        <p:blipFill>
          <a:blip r:embed="rId3"/>
          <a:stretch/>
        </p:blipFill>
        <p:spPr>
          <a:xfrm>
            <a:off x="142920" y="2943360"/>
            <a:ext cx="4714920" cy="37717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3"/>
          <p:cNvSpPr/>
          <p:nvPr/>
        </p:nvSpPr>
        <p:spPr>
          <a:xfrm>
            <a:off x="857160" y="14292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Занятия насе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4" descr="b56319682e914de0777e811b965baad0.jpg"/>
          <p:cNvPicPr/>
          <p:nvPr/>
        </p:nvPicPr>
        <p:blipFill>
          <a:blip r:embed="rId1"/>
          <a:stretch/>
        </p:blipFill>
        <p:spPr>
          <a:xfrm>
            <a:off x="714240" y="1214280"/>
            <a:ext cx="7715520" cy="51325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7:36:39Z</dcterms:created>
  <dc:creator>User</dc:creator>
  <dc:description/>
  <dc:language>en-US</dc:language>
  <cp:lastModifiedBy>LEGION2</cp:lastModifiedBy>
  <dcterms:modified xsi:type="dcterms:W3CDTF">2015-04-24T07:40:34Z</dcterms:modified>
  <cp:revision>6</cp:revision>
  <dc:subject/>
  <dc:title>Слайд 1</dc:title>
</cp:coreProperties>
</file>