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1E39-D55F-4FC0-9B1C-E6D810AE60D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езентация к уроку «Окружающий мир» в 1 классе по теме: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Зима. Покой природы.»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имние меся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420A-45B4-454B-8848-E9A70134A69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й снег называют снегопа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A0A1-D5F1-4651-9451-89E04DBB3EF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C634-52C7-49D4-A144-8505543E087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F30D-1FEB-4562-8930-4DE88FF57EB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б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А иногда снег не идет из тучи, а намерзает прямо на веточках деревь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иней. Весь лес становиться сказочно бел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D3F3-EF04-4560-B516-A4C564F48CC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е в это время тоже краси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FB58-7950-4A89-8F4A-1F214FDCCA8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колыбель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тепло укутал ле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ый сказок и чуд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 скрыл березок кр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алмазные к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ятали под шапки л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графные стол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зеленый бархат 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убки белые на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яцов 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31F7-8868-4A53-95F7-1ADE1A850B2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и, ручейки, озера и пруды в декабре покрываются льд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он тоненький, слабый и по нему пока нельзя ход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 середине декабря, он обычно становиться крепч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доставать коньки. Ура, катаем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536B-8AB3-42AB-83CA-72F0E6C1436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только ляжет снег, сразу становиться светлее и радостнее, несмотря на такие короткие д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7FF-D8F7-4748-8E93-F4CAB07D371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декабрь это последний месяц г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месяце мы наряжаем ёлку к приходу Нового года и нового месяца - янва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DBE3-FDCA-4620-AD06-9B431CAEBBE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B685-D49F-4BF3-958E-21AF1E7EC81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име, как и в других временах года, три месяца. Знакомься: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самый старый, самый последний и старший из месяцев в году.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враль – последний месяц зим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еперь давай узнаем о них побол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AE64-63BF-465E-A67C-F79895CACD4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от наступил январь - это первый месяц год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торой, средний месяц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19CF-29A1-45D1-95E4-DFDD419A37C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984-1E37-49DB-B8D8-7182FE9813F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амый холодны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холодно бывает в ясную погоду, когда днём на небе светит солнышко, а ночью -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564-9FFA-4FB5-955D-1D8D8F804CC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акую погоду щечки и носы становятся красными и горят, как будто за них кто-то щеп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ороз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это его и прозвали Моро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набегут тучи и повалит снег становиться теп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ё наоборот! Всё не как летом! При солнышке – холодно, при тучах – теп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79FF-0B08-477E-AB92-9F7664B256B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ФЕ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Л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552A-0C9B-4B0A-9422-AECA5BEE4FF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D659-FB1A-4BB8-ABA8-5314C2A7978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оследний месяц зи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самый глубокий снег и самые большие сугро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а становиться мягче, теплее, чем в янва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05DB-4CC1-4B0D-BED2-734848257B2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хорошо в такую погоду играть в снеж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DC9-C887-4141-9369-D1235E7DB91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91F-DBAB-4A0A-AA0C-788B59C495B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в феврале часто дуют ветры. Они сдувают снег с земл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тят его, несут, ки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етер не сильный он не может высоко поднять снег - не выше коле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ветерок несет снег по земле, заворачивает его, закручив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ется кто-то белый бежит по земле, петляет. Это позем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806B-129B-404A-A494-F8776999CC5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EABA-D4A4-4E7C-AEDF-909A2DFB6A0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FF1F-3D30-431A-9446-0D4F874F4A6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ачинается Вьюг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ё много имен: Вьюга, Метель, Пурга, Снежная бур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уж это месяц – февра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 него в народе говоря: «Вьюги и метели на февраль налетел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692C-E27F-4A71-A60C-3597B3BB2A9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5798-9E27-4B43-AC60-927400DED9E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7B28-0094-49F5-B0E2-3629E946710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февраля солнышко становиться теплым. Скоро весна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рошо гулять в ясную погоду в феврал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уже не приносит холода, как январское солнце. Посмотри какое голубое небо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E930-E087-4FDE-9148-3CF92BD6740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том вернутся холода, замерзнут луж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ядет сырость из воздуха льдом на дорогах и дорожк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йте, гололедиц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FCA5-11E9-4D06-96DB-B21D6FEEAF0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начало зимы. Это первый снежный меся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A487-038C-4276-8BB3-CD141D27B0B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8327-B067-44A3-B3AC-9697592D025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н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ий с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снег выпадает в конце осени -  в ноябре и даже в октяб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обычно первый осенний снег т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декабрьский снег будет лежать долго - до вес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уются снегу люди, а особенно дети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58F-E23B-429A-BAC5-908E39FF305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612A-BB7A-49FD-A8C3-3C9104DBA36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аак Леви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есённый снегом пар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нег земле кормилице, что теплая шу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растения – тёплым одеялом укрывает он их до весны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животные – он прячет их домики и норки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заберутся туда жгучие мороз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задуют пронизывающие ветр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чкам, оставшимся зимовать с нами, становиться трудно искать себе ед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люди вешают для них специальные домики - кормуш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ют туда зернышки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чки и орешки. Вешают кусочки са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шайте птички! Угощайтесь белочк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1A27-17D5-48B1-BFD0-9E565B02634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ую погоду из туч идет разный сне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холодно и нет ветра падают и кружатся легкие и красивые снежин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1D80-CAE3-450B-A1B2-5FF8F04CA01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146-0445-4058-B752-F8501093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EE7-A7FD-4C0C-9427-FEB41421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5F9-A391-4CDB-95C2-16C8300A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548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20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548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20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982-7AAB-4AB1-987D-BD6D5AA7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B75-E760-4E04-88DF-FFDFDAC1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161-2A3B-423B-A61C-29D782B9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89B-2C91-49BE-9B65-9ED0CAD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79C-EA7A-470B-AB28-76A1B69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67B-3FA6-4AF9-97D1-8C7D3096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1FA-9C64-4180-9E22-C701876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79E-23C8-40F0-821B-49F3034D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F45-453B-4238-B4E5-0AB95A73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15B3-3C7B-4EDB-BA75-435B044DC5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зентация к уроку «Окружающий мир» в 1 классе по теме: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Зима. Покой природы.»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имние месяц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й снег называют снегопа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28600" y="6248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9" name="Picture 1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гопад дома lite"/>
          <p:cNvPicPr/>
          <p:nvPr/>
        </p:nvPicPr>
        <p:blipFill>
          <a:blip r:embed="rId2"/>
          <a:stretch/>
        </p:blipFill>
        <p:spPr>
          <a:xfrm>
            <a:off x="4116240" y="0"/>
            <a:ext cx="5027760" cy="594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3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5" descr="Снежная крупа lite"/>
          <p:cNvPicPr/>
          <p:nvPr/>
        </p:nvPicPr>
        <p:blipFill>
          <a:blip r:embed="rId2"/>
          <a:stretch/>
        </p:blipFill>
        <p:spPr>
          <a:xfrm>
            <a:off x="3362400" y="1522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ногда снег не идет из тучи, а намерзает прямо на веточках деревье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иней. Весь лес становиться сказочно белы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133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Грабарь Иней lite"/>
          <p:cNvPicPr/>
          <p:nvPr/>
        </p:nvPicPr>
        <p:blipFill>
          <a:blip r:embed="rId2"/>
          <a:stretch/>
        </p:blipFill>
        <p:spPr>
          <a:xfrm>
            <a:off x="2133720" y="353880"/>
            <a:ext cx="7010280" cy="53611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ороде в это время тоже красиво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5" descr="Иней в городе lite"/>
          <p:cNvPicPr/>
          <p:nvPr/>
        </p:nvPicPr>
        <p:blipFill>
          <a:blip r:embed="rId2"/>
          <a:stretch/>
        </p:blipFill>
        <p:spPr>
          <a:xfrm>
            <a:off x="2819520" y="38736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51811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выглядит иней, если посмотреть на него близко-близ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ом все белое и сине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 тонком кружеве тен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с укрыт пушистым инее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нул до первых вешних дн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снятся сны ему спок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тичьи песни на за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т безмолвно сосны стр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яжелом зимнем сереб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ребицк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9"/>
          <p:cNvSpPr/>
          <p:nvPr/>
        </p:nvSpPr>
        <p:spPr>
          <a:xfrm>
            <a:off x="228600" y="595944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ей часто бывает, когда на землю ложится туман. Туман очень похож на облака и тучи. Они все состоят из очень, очень маленьких капелек воды. Таких маленьких, что их не видно. Они могут висеть в воздухе и не падать. В облаке они сталкиваются, замерзают и получаются красивые снежин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тумане они налипают на холодные ветки деревьев, провода, крыши, стены и замерзают на них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19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5" descr="Кристаллы изморози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ки, ручейки, озера и пруды в декабре покрываю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он тоненький, слабый и по нему пока нельзя ходит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 середине декабря, он обычно становиться креп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доставать коньки. Ура, катаемся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3230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Коньки мишка lite"/>
          <p:cNvPicPr/>
          <p:nvPr/>
        </p:nvPicPr>
        <p:blipFill>
          <a:blip r:embed="rId2"/>
          <a:stretch/>
        </p:blipFill>
        <p:spPr>
          <a:xfrm>
            <a:off x="3973680" y="152280"/>
            <a:ext cx="4692600" cy="5410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снегопад, темно lite"/>
          <p:cNvPicPr/>
          <p:nvPr/>
        </p:nvPicPr>
        <p:blipFill>
          <a:blip r:embed="rId1"/>
          <a:srcRect l="2744" t="0" r="0" b="0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876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28600"/>
            <a:ext cx="358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6248520"/>
            <a:ext cx="518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 самом севере, в Арктике - вообще солнца не вид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зиму темно - полярная ночь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31" name="Picture 10" descr="декабрь2 lite"/>
          <p:cNvPicPr/>
          <p:nvPr/>
        </p:nvPicPr>
        <p:blipFill>
          <a:blip r:embed="rId2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57150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ак только ляжет снег, сразу становиться светлее и радостнее, несмотря на такие короткие дн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28240"/>
            <a:ext cx="3124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34" descr="декабрь2 lite"/>
          <p:cNvPicPr/>
          <p:nvPr/>
        </p:nvPicPr>
        <p:blipFill>
          <a:blip r:embed="rId1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36" descr="Первый снег lite"/>
          <p:cNvPicPr/>
          <p:nvPr/>
        </p:nvPicPr>
        <p:blipFill>
          <a:blip r:embed="rId2"/>
          <a:stretch/>
        </p:blipFill>
        <p:spPr>
          <a:xfrm>
            <a:off x="4343400" y="0"/>
            <a:ext cx="4761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Ёлка украшенная"/>
          <p:cNvPicPr/>
          <p:nvPr/>
        </p:nvPicPr>
        <p:blipFill>
          <a:blip r:embed="rId1"/>
          <a:stretch/>
        </p:blipFill>
        <p:spPr>
          <a:xfrm>
            <a:off x="2438280" y="1143000"/>
            <a:ext cx="6199200" cy="401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декабрь это последний месяц год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месяце мы наряжаем ёлку к приходу Нового года и нового месяца - январ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8600" y="60660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ют, что месяц декабрь и старый год заканчиваются ночью, когда наступает 12 часов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в эту последнюю ночь декабря многие взрослые и даже детишки не спя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стречают Новый год, гуляют, устраивают фейервер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42" name="Picture 8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Я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январь lite"/>
          <p:cNvPicPr/>
          <p:nvPr/>
        </p:nvPicPr>
        <p:blipFill>
          <a:blip r:embed="rId1"/>
          <a:stretch/>
        </p:blipFill>
        <p:spPr>
          <a:xfrm>
            <a:off x="3086280" y="182880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име, как и в других временах года, три месяца. Знакомься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самый старый, самый последний и старший из месяцев в году.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враль – последний месяц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еперь давай узнаем о них побольш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65"/>
          <p:cNvGrpSpPr/>
          <p:nvPr/>
        </p:nvGrpSpPr>
        <p:grpSpPr>
          <a:xfrm>
            <a:off x="304920" y="838080"/>
            <a:ext cx="2671560" cy="3843000"/>
            <a:chOff x="304920" y="838080"/>
            <a:chExt cx="2671560" cy="3843000"/>
          </a:xfrm>
        </p:grpSpPr>
        <p:pic>
          <p:nvPicPr>
            <p:cNvPr id="52" name="Picture 2063" descr="декабрь2 lite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2671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064"/>
            <p:cNvSpPr/>
            <p:nvPr/>
          </p:nvSpPr>
          <p:spPr>
            <a:xfrm>
              <a:off x="357840" y="4038480"/>
              <a:ext cx="23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ДЕ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КА</a:t>
              </a: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Б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4" name="Group 2069"/>
          <p:cNvGrpSpPr/>
          <p:nvPr/>
        </p:nvGrpSpPr>
        <p:grpSpPr>
          <a:xfrm>
            <a:off x="3502080" y="2279520"/>
            <a:ext cx="2136600" cy="2401560"/>
            <a:chOff x="3502080" y="2279520"/>
            <a:chExt cx="2136600" cy="2401560"/>
          </a:xfrm>
        </p:grpSpPr>
        <p:pic>
          <p:nvPicPr>
            <p:cNvPr id="55" name="Picture 2066" descr="январь lite"/>
            <p:cNvPicPr/>
            <p:nvPr/>
          </p:nvPicPr>
          <p:blipFill>
            <a:blip r:embed="rId2"/>
            <a:stretch/>
          </p:blipFill>
          <p:spPr>
            <a:xfrm>
              <a:off x="3733920" y="2279520"/>
              <a:ext cx="190476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067"/>
            <p:cNvSpPr/>
            <p:nvPr/>
          </p:nvSpPr>
          <p:spPr>
            <a:xfrm>
              <a:off x="3502080" y="4038480"/>
              <a:ext cx="21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Я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7" name="Group 2072"/>
          <p:cNvGrpSpPr/>
          <p:nvPr/>
        </p:nvGrpSpPr>
        <p:grpSpPr>
          <a:xfrm>
            <a:off x="6249600" y="1828800"/>
            <a:ext cx="2491200" cy="2852280"/>
            <a:chOff x="6249600" y="1828800"/>
            <a:chExt cx="2491200" cy="2852280"/>
          </a:xfrm>
        </p:grpSpPr>
        <p:pic>
          <p:nvPicPr>
            <p:cNvPr id="58" name="Picture 2070" descr="февраль lite"/>
            <p:cNvPicPr/>
            <p:nvPr/>
          </p:nvPicPr>
          <p:blipFill>
            <a:blip r:embed="rId3"/>
            <a:stretch/>
          </p:blipFill>
          <p:spPr>
            <a:xfrm>
              <a:off x="6316560" y="1828800"/>
              <a:ext cx="2120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2071"/>
            <p:cNvSpPr/>
            <p:nvPr/>
          </p:nvSpPr>
          <p:spPr>
            <a:xfrm>
              <a:off x="6249600" y="4038480"/>
              <a:ext cx="249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ФЕ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В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Л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Мороз lite"/>
          <p:cNvPicPr/>
          <p:nvPr/>
        </p:nvPicPr>
        <p:blipFill>
          <a:blip r:embed="rId1"/>
          <a:stretch/>
        </p:blipFill>
        <p:spPr>
          <a:xfrm>
            <a:off x="2590920" y="-9360"/>
            <a:ext cx="6553080" cy="5763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19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наступил январь - это первый месяц год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торой, средний месяц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538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40" descr="ночью зимой lite"/>
          <p:cNvPicPr/>
          <p:nvPr/>
        </p:nvPicPr>
        <p:blipFill>
          <a:blip r:embed="rId1"/>
          <a:stretch/>
        </p:blipFill>
        <p:spPr>
          <a:xfrm>
            <a:off x="3035160" y="0"/>
            <a:ext cx="6102360" cy="6553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амый холодны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 холодно бывает в ясную погоду, когда днём на небе светит солнышко, а ночью - лу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5"/>
          <p:cNvSpPr/>
          <p:nvPr/>
        </p:nvSpPr>
        <p:spPr>
          <a:xfrm>
            <a:off x="152280" y="2286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56" name="Picture 1039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5" descr="Девочка на улице lite"/>
          <p:cNvPicPr/>
          <p:nvPr/>
        </p:nvPicPr>
        <p:blipFill>
          <a:blip r:embed="rId1"/>
          <a:stretch/>
        </p:blipFill>
        <p:spPr>
          <a:xfrm>
            <a:off x="3159000" y="0"/>
            <a:ext cx="537552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кую погоду щечки и носы становятся красными и горят, как будто за них кто-то щеп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мороз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это его и прозвали Моро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нос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324480" y="76320"/>
            <a:ext cx="251460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04200" y="228600"/>
            <a:ext cx="253368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роз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ежал я за оград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Мороз стоит и ж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пошел со мною рядом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 на шаг не отста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дворе рубашки наш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ревке с ветром пляшу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бегу - Мороз за мною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белье напал Мороз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ой пылью ледяно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ватил его насквозь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хватил и жёстким сделал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белье заледенело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вь на снег - не упа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толкни - оно пойд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толкнул едва-едва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тыня пошла снач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рубашка зашаг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топырив рукава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портняжка Мор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ет щеки, режет нос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ринулся навстреч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кочил ко мне на плеч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- всадник ледяной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онко свищет за спиной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и мерзлые трещ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и по снегу скрипя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витко Лев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62" name="Picture 13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набегут тучи и повалит снег становиться тепле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ё наоборот! Всё не как летом! При солнышке – холодно, при тучах – тепл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6" descr="январь lite"/>
          <p:cNvPicPr/>
          <p:nvPr/>
        </p:nvPicPr>
        <p:blipFill>
          <a:blip r:embed="rId1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37" descr="Снеговики на коньках и лыжах lite"/>
          <p:cNvPicPr/>
          <p:nvPr/>
        </p:nvPicPr>
        <p:blipFill>
          <a:blip r:embed="rId2"/>
          <a:stretch/>
        </p:blipFill>
        <p:spPr>
          <a:xfrm>
            <a:off x="3429000" y="984240"/>
            <a:ext cx="5562720" cy="465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38" descr="синички lite"/>
          <p:cNvPicPr/>
          <p:nvPr/>
        </p:nvPicPr>
        <p:blipFill>
          <a:blip r:embed="rId3"/>
          <a:stretch/>
        </p:blipFill>
        <p:spPr>
          <a:xfrm>
            <a:off x="1905120" y="95400"/>
            <a:ext cx="320040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55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39" descr="Щенок lite"/>
          <p:cNvPicPr/>
          <p:nvPr/>
        </p:nvPicPr>
        <p:blipFill>
          <a:blip r:embed="rId4"/>
          <a:stretch/>
        </p:blipFill>
        <p:spPr>
          <a:xfrm>
            <a:off x="7010280" y="4349880"/>
            <a:ext cx="1905120" cy="1606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ФЕ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Л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февраль lite"/>
          <p:cNvPicPr/>
          <p:nvPr/>
        </p:nvPicPr>
        <p:blipFill>
          <a:blip r:embed="rId1"/>
          <a:stretch/>
        </p:blipFill>
        <p:spPr>
          <a:xfrm>
            <a:off x="2835360" y="1523880"/>
            <a:ext cx="297000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оследний месяц зим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еврале самый глубокий снег и самые большие сугроб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643104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нег копился в течении предыдущих зимних месяцев: в Декабре и Январе. Сам Февраль тоже добавил снежку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76" name="Picture 7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нежные сугробы lite"/>
          <p:cNvPicPr/>
          <p:nvPr/>
        </p:nvPicPr>
        <p:blipFill>
          <a:blip r:embed="rId2"/>
          <a:stretch/>
        </p:blipFill>
        <p:spPr>
          <a:xfrm>
            <a:off x="1409760" y="0"/>
            <a:ext cx="6324480" cy="5589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2" descr="Снеговик лепят 2 lite"/>
          <p:cNvPicPr/>
          <p:nvPr/>
        </p:nvPicPr>
        <p:blipFill>
          <a:blip r:embed="rId1"/>
          <a:stretch/>
        </p:blipFill>
        <p:spPr>
          <a:xfrm>
            <a:off x="2362320" y="4680"/>
            <a:ext cx="6781680" cy="5346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943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года становиться мягче, теплее, чем в янва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2" descr="Снежки 1 lite"/>
          <p:cNvPicPr/>
          <p:nvPr/>
        </p:nvPicPr>
        <p:blipFill>
          <a:blip r:embed="rId1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хорошо в такую погоду играть в снеж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февраль lite"/>
          <p:cNvPicPr/>
          <p:nvPr/>
        </p:nvPicPr>
        <p:blipFill>
          <a:blip r:embed="rId2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Снежки 2 lite"/>
          <p:cNvPicPr/>
          <p:nvPr/>
        </p:nvPicPr>
        <p:blipFill>
          <a:blip r:embed="rId3"/>
          <a:stretch/>
        </p:blipFill>
        <p:spPr>
          <a:xfrm>
            <a:off x="914400" y="2666880"/>
            <a:ext cx="2687760" cy="3276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Вьюга lite"/>
          <p:cNvPicPr/>
          <p:nvPr/>
        </p:nvPicPr>
        <p:blipFill>
          <a:blip r:embed="rId1"/>
          <a:stretch/>
        </p:blipFill>
        <p:spPr>
          <a:xfrm>
            <a:off x="2666880" y="685800"/>
            <a:ext cx="6019920" cy="528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в феврале часто дуют ветры. Они сдувают снег с земл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тят его, несут, кида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етер не сильный он не может высоко поднять снег - не выше коле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ветерок несет снег по земле, заворачивает его, закручив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ется кто-то белый бежит по земле, петляет. Это поземк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позёмка"/>
          <p:cNvPicPr/>
          <p:nvPr/>
        </p:nvPicPr>
        <p:blipFill>
          <a:blip r:embed="rId2"/>
          <a:stretch/>
        </p:blipFill>
        <p:spPr>
          <a:xfrm>
            <a:off x="2590920" y="1905120"/>
            <a:ext cx="6286320" cy="32684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ДЕ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декабрь2 lite"/>
          <p:cNvPicPr/>
          <p:nvPr/>
        </p:nvPicPr>
        <p:blipFill>
          <a:blip r:embed="rId1"/>
          <a:stretch/>
        </p:blipFill>
        <p:spPr>
          <a:xfrm>
            <a:off x="2743200" y="762120"/>
            <a:ext cx="346068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5562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начинается Вью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неё много имен: Вьюга, Метель, Пурга, Снежная буря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21333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2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Лыжи бегом lite"/>
          <p:cNvPicPr/>
          <p:nvPr/>
        </p:nvPicPr>
        <p:blipFill>
          <a:blip r:embed="rId2"/>
          <a:stretch/>
        </p:blipFill>
        <p:spPr>
          <a:xfrm>
            <a:off x="3276720" y="304920"/>
            <a:ext cx="5333760" cy="43686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уж это месяц – феврал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 него в народе говоря: «Вьюги и метели на февраль налетели.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286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054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57" descr="blizzardretouched"/>
          <p:cNvPicPr/>
          <p:nvPr/>
        </p:nvPicPr>
        <p:blipFill>
          <a:blip r:embed="rId2"/>
          <a:stretch/>
        </p:blipFill>
        <p:spPr>
          <a:xfrm>
            <a:off x="2133720" y="457200"/>
            <a:ext cx="7010280" cy="52657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Метель 2"/>
          <p:cNvPicPr/>
          <p:nvPr/>
        </p:nvPicPr>
        <p:blipFill>
          <a:blip r:embed="rId2"/>
          <a:stretch/>
        </p:blipFill>
        <p:spPr>
          <a:xfrm>
            <a:off x="5181480" y="1911240"/>
            <a:ext cx="3886200" cy="334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blizzard 5"/>
          <p:cNvPicPr/>
          <p:nvPr/>
        </p:nvPicPr>
        <p:blipFill>
          <a:blip r:embed="rId3"/>
          <a:stretch/>
        </p:blipFill>
        <p:spPr>
          <a:xfrm>
            <a:off x="152280" y="1909800"/>
            <a:ext cx="4876920" cy="3348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февраля солнышко становиться теплым. Скоро весна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 гулять в ясную погоду в февра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уже не приносит холода, как январское солнце. Посмотри какое голубое небо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февраль lite"/>
          <p:cNvPicPr/>
          <p:nvPr/>
        </p:nvPicPr>
        <p:blipFill>
          <a:blip r:embed="rId1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Грабарь Февральская лазурь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52280" y="6431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картину художник назвал «Февральская лазурь»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eodor Vasilyev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4146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гололедица lite"/>
          <p:cNvPicPr/>
          <p:nvPr/>
        </p:nvPicPr>
        <p:blipFill>
          <a:blip r:embed="rId1"/>
          <a:stretch/>
        </p:blipFill>
        <p:spPr>
          <a:xfrm>
            <a:off x="3124080" y="838080"/>
            <a:ext cx="4876920" cy="45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вернутся холода, замерзнут луж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ядет сырость из воздуха льдом на дорогах и дорожка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чайте, гололедица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319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5" descr="снегопад домик lite"/>
          <p:cNvPicPr/>
          <p:nvPr/>
        </p:nvPicPr>
        <p:blipFill>
          <a:blip r:embed="rId1"/>
          <a:stretch/>
        </p:blipFill>
        <p:spPr>
          <a:xfrm>
            <a:off x="4191120" y="0"/>
            <a:ext cx="44780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172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начало зимы. Это первый снежный месяц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2" descr="декабрь2 lite"/>
          <p:cNvPicPr/>
          <p:nvPr/>
        </p:nvPicPr>
        <p:blipFill>
          <a:blip r:embed="rId2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декабрь2 lite"/>
          <p:cNvPicPr/>
          <p:nvPr/>
        </p:nvPicPr>
        <p:blipFill>
          <a:blip r:embed="rId3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снег выпадает в конце осени -  в ноябре и даже в октяб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обычно первый осенний снег т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от декабрьский снег будет лежать долго - до вес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Ранний снег"/>
          <p:cNvPicPr/>
          <p:nvPr/>
        </p:nvPicPr>
        <p:blipFill>
          <a:blip r:embed="rId2"/>
          <a:stretch/>
        </p:blipFill>
        <p:spPr>
          <a:xfrm>
            <a:off x="762120" y="808200"/>
            <a:ext cx="7619760" cy="40575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снегопад lite"/>
          <p:cNvPicPr/>
          <p:nvPr/>
        </p:nvPicPr>
        <p:blipFill>
          <a:blip r:embed="rId1"/>
          <a:stretch/>
        </p:blipFill>
        <p:spPr>
          <a:xfrm>
            <a:off x="2971800" y="25560"/>
            <a:ext cx="61722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люди, а особенно детиш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200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растения – тёплым одеялом укрывает он их до весн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животные – он прячет их домики и нор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ерутся туда жгучие моро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задуют пронизывающие ветр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saac Levitan. Snowbound Garden."/>
          <p:cNvPicPr/>
          <p:nvPr/>
        </p:nvPicPr>
        <p:blipFill>
          <a:blip r:embed="rId2"/>
          <a:srcRect l="0" t="19829" r="0" b="0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Кормушка lite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524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чкам, оставшимся зимовать с нами, становиться трудно искать себе ед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 люди вешают для них специальные домики - кормуш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адывают туда зернышки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ечки и орешки. Вешают кусочки сал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шайте птички! Угощайтесь белочки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905120" y="0"/>
            <a:ext cx="2590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905120" y="152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22860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ой у нас обычай: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выпадет снежок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щатый домик птичий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сить на сучок.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 Пожарова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63244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любят такие лакомства синички и воробьи, но прилетают подкрепиться к кормушкам голуби, снегири, поползни, вороны и сой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89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ную погоду из туч идет разный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холодно и нет ветра падают и кружатся легкие и красивые снежинк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8380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жинки вьются и кружатся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рвутся в комнату мою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и летят, легки и ло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ослепительнее звезд,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будто в синие потё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ожащий перекинут мост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блестящий</a:t>
            </a:r>
            <a:endParaRPr b="1" lang="en-US" sz="10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лена Благинин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3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нежинки lite"/>
          <p:cNvPicPr/>
          <p:nvPr/>
        </p:nvPicPr>
        <p:blipFill>
          <a:blip r:embed="rId2"/>
          <a:stretch/>
        </p:blipFill>
        <p:spPr>
          <a:xfrm>
            <a:off x="3352680" y="1150920"/>
            <a:ext cx="5791320" cy="3328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6:12:20Z</dcterms:created>
  <dc:creator>Admin</dc:creator>
  <dc:description/>
  <dc:language>en-US</dc:language>
  <cp:lastModifiedBy>LEGION2</cp:lastModifiedBy>
  <dcterms:modified xsi:type="dcterms:W3CDTF">2015-04-24T07:47:12Z</dcterms:modified>
  <cp:revision>205</cp:revision>
  <dc:subject/>
  <dc:title>ЗИМНИЕ МЕСЯЦЫ</dc:title>
</cp:coreProperties>
</file>