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E538-64E6-469C-9151-2925574A3E8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Презентация к уроку «Окружающий мир» в 1 классе по теме: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Зима. Покой природы.»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Зимние меся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A2F3-26DF-4C5F-BDAB-F612DB39BD0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й снег называют снегопа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0711-0FA7-4A29-B430-267B38A7817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96A3-4101-46C0-B7F0-36707C3ACC9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7BE3-8DC5-4EBC-B78A-B1DF3BB92BE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б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А иногда снег не идет из тучи, а намерзает прямо на веточках деревье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иней. Весь лес становиться сказочно бел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C365-AF2D-489D-B079-D1248D7FDD6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е в это время тоже краси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BF6B-EBBE-4546-AC10-7E7BDA74CB2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колыбель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тепло укутал ле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ый сказок и чуде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 скрыл березок кр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алмазные к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ятали под шапки л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графные стол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зеленый бархат 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убки белые на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яцов 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7704-2126-4F12-9AD1-0624FC352DA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и, ручейки, озера и пруды в декабре покрываются льд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он тоненький, слабый и по нему пока нельзя ход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 середине декабря, он обычно становиться крепч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доставать коньки. Ура, катаем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3A89-D360-4C09-A89E-225CA415787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только ляжет снег, сразу становиться светлее и радостнее, несмотря на такие короткие д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529E-C268-48D9-A406-8F647082377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декабрь это последний месяц г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месяце мы наряжаем ёлку к приходу Нового года и нового месяца - январ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0D27-ACCA-4F0F-B0E2-211E9DBB2CB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18BF-64DA-4E9A-BF68-3F7564F29D0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име, как и в других временах года, три месяца. Знакомься: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самый старый, самый последний и старший из месяцев в году.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враль – последний месяц зим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еперь давай узнаем о них побольш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F5F7-C290-4D22-8A27-B6A20706501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от наступил январь - это первый месяц год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торой, средний месяц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EBB9-C936-42C9-850A-C1CDEF71ED5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3C3F-8A59-4847-8398-77E141164DE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амый холодны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холодно бывает в ясную погоду, когда днём на небе светит солнышко, а ночью -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4A6B-9F08-4716-8DF3-2111CD4254A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акую погоду щечки и носы становятся красными и горят, как будто за них кто-то щеп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ороз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это его и прозвали Моро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набегут тучи и повалит снег становиться теп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ё наоборот! Всё не как летом! При солнышке – холодно, при тучах – теп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53E4-6084-4775-8F19-B3565A222E9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ФЕ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Л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8C7D-53CE-48C3-B9C8-C7AE23D61F6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588F-3CA8-4329-AB07-31803629F01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оследний месяц зи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самый глубокий снег и самые большие сугро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а становиться мягче, теплее, чем в янва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522A-A795-4C75-921F-C2091260F49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хорошо в такую погоду играть в снеж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D4F9-AB24-47D7-8CA3-ACB861CC895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8A2-AAE5-441A-8D9A-0B6DE66FDCE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в феврале часто дуют ветры. Они сдувают снег с земл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тят его, несут, ки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етер не сильный он не может высоко поднять снег - не выше коле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ветерок несет снег по земле, заворачивает его, закручив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ется кто-то белый бежит по земле, петляет. Это поземк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2F69-7BE4-4243-90EC-2F05E3D1BD2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Б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AD7A-0AE8-4AA8-8366-B021B40D696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43A8-71A6-4AD0-BAD8-6CD359D2737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ачинается Вьюг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ё много имен: Вьюга, Метель, Пурга, Снежная бур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уж это месяц – февра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 него в народе говоря: «Вьюги и метели на февраль налетели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C703-9A98-42DA-A373-1E8EE4460D0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ABE4-D7CB-4976-B046-5565B58EE0C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8428-3E01-48A7-BB71-34DCA509093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февраля солнышко становиться теплым. Скоро весна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рошо гулять в ясную погоду в феврал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уже не приносит холода, как январское солнце. Посмотри какое голубое небо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3CD0-0031-435F-8D3B-470BCC8C79D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том вернутся холода, замерзнут луж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ядет сырость из воздуха льдом на дорогах и дорожк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йте, гололедиц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15DF-958A-4112-91EB-B0E594DC2FF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начало зимы. Это первый снежный меся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EDE5-9C1A-4710-9B30-D1BAC015A45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F788-3DE4-4CD8-A7C5-98A696AD0B9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н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ий с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снег выпадает в конце осени -  в ноябре и даже в октяб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обычно первый осенний снег т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декабрьский снег будет лежать долго - до вес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уются снегу люди, а особенно дети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572F-90AD-4DCF-BDC9-8FEBF9270E8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76B2-B228-427C-ACEB-448E12CC24B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аак Леви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есённый снегом пар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нег земле кормилице, что теплая шуб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растения – тёплым одеялом укрывает он их до весны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животные – он прячет их домики и норки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заберутся туда жгучие морозы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Не задуют пронизывающие ветры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чкам, оставшимся зимовать с нами, становиться трудно искать себе ед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люди вешают для них специальные домики - кормуш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ют туда зернышки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чки и орешки. Вешают кусочки са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шайте птички! Угощайтесь белочк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D10D-2256-43B6-B87C-B29BF0E302A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ую погоду из туч идет разный сне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холодно и нет ветра падают и кружатся легкие и красивые снежин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B7E5-6564-4F1D-BADA-81E6F6BDAEB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439-69A9-4189-BF86-623D68D7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25F-9DF1-4BC4-B444-11CE5515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DDE-8709-47A9-8306-A0F4B9DE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548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20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548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20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382-7CDC-457D-913F-88AF1C1F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500-9638-4D0D-A6C9-4E97AB44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BFC-BC4F-4053-A229-E5479E13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0BE-F11D-4E4F-A96F-432F0DA0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782-BBFE-4F14-B4B6-6179F1FD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B30-1F1F-4656-A77E-6B486D1C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1C4-9778-4CC6-BE02-4924BF2C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B4A-6BDF-4D17-AA64-9B0A9598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DE6-F8AD-4E57-B6EC-65240C41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F68F-CB8B-45AF-A8DE-6EB15D23E4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зентация к уроку «Окружающий мир» в 1 классе по теме: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«Зима. Покой природы.»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имние месяц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ьный снег называют снегопа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28600" y="62485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9" name="Picture 1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Снегопад дома lite"/>
          <p:cNvPicPr/>
          <p:nvPr/>
        </p:nvPicPr>
        <p:blipFill>
          <a:blip r:embed="rId2"/>
          <a:stretch/>
        </p:blipFill>
        <p:spPr>
          <a:xfrm>
            <a:off x="4116240" y="0"/>
            <a:ext cx="5027760" cy="594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3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5" descr="Снежная крупа lite"/>
          <p:cNvPicPr/>
          <p:nvPr/>
        </p:nvPicPr>
        <p:blipFill>
          <a:blip r:embed="rId2"/>
          <a:stretch/>
        </p:blipFill>
        <p:spPr>
          <a:xfrm>
            <a:off x="3362400" y="1522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ногда снег не идет из тучи, а намерзает прямо на веточках деревьев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иней. Весь лес становиться сказочно белы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133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Грабарь Иней lite"/>
          <p:cNvPicPr/>
          <p:nvPr/>
        </p:nvPicPr>
        <p:blipFill>
          <a:blip r:embed="rId2"/>
          <a:stretch/>
        </p:blipFill>
        <p:spPr>
          <a:xfrm>
            <a:off x="2133720" y="353880"/>
            <a:ext cx="7010280" cy="53611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ороде в это время тоже красиво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5" descr="Иней в городе lite"/>
          <p:cNvPicPr/>
          <p:nvPr/>
        </p:nvPicPr>
        <p:blipFill>
          <a:blip r:embed="rId2"/>
          <a:stretch/>
        </p:blipFill>
        <p:spPr>
          <a:xfrm>
            <a:off x="2819520" y="387360"/>
            <a:ext cx="632448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51811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 выглядит иней, если посмотреть на него близко-близ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гом все белое и сине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в тонком кружеве тен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лес укрыт пушистым инее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нул до первых вешних дн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снятся сны ему спок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тичьи песни на за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ят безмолвно сосны стр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яжелом зимнем сереб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кребицк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29"/>
          <p:cNvSpPr/>
          <p:nvPr/>
        </p:nvSpPr>
        <p:spPr>
          <a:xfrm>
            <a:off x="228600" y="595944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ей часто бывает, когда на землю ложится туман. Туман очень похож на облака и тучи. Они все состоят из очень, очень маленьких капелек воды. Таких маленьких, что их не видно. Они могут висеть в воздухе и не падать. В облаке они сталкиваются, замерзают и получаются красивые снежин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тумане они налипают на холодные ветки деревьев, провода, крыши, стены и замерзают на них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19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35" descr="Кристаллы изморози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562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ки, ручейки, озера и пруды в декабре покрываю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он тоненький, слабый и по нему пока нельзя ходит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 середине декабря, он обычно становиться креп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доставать коньки. Ура, катаемся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3230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Коньки мишка lite"/>
          <p:cNvPicPr/>
          <p:nvPr/>
        </p:nvPicPr>
        <p:blipFill>
          <a:blip r:embed="rId2"/>
          <a:stretch/>
        </p:blipFill>
        <p:spPr>
          <a:xfrm>
            <a:off x="3973680" y="152280"/>
            <a:ext cx="4692600" cy="5410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снегопад, темно lite"/>
          <p:cNvPicPr/>
          <p:nvPr/>
        </p:nvPicPr>
        <p:blipFill>
          <a:blip r:embed="rId1"/>
          <a:srcRect l="2744" t="0" r="0" b="0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4876560"/>
            <a:ext cx="5334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28600"/>
            <a:ext cx="3581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6248520"/>
            <a:ext cx="518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на самом севере, в Арктике - вообще солнца не вид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зиму темно - полярная ночь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31" name="Picture 10" descr="декабрь2 lite"/>
          <p:cNvPicPr/>
          <p:nvPr/>
        </p:nvPicPr>
        <p:blipFill>
          <a:blip r:embed="rId2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57150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ак только ляжет снег, сразу становиться светлее и радостнее, несмотря на такие короткие дн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28240"/>
            <a:ext cx="31240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34" descr="декабрь2 lite"/>
          <p:cNvPicPr/>
          <p:nvPr/>
        </p:nvPicPr>
        <p:blipFill>
          <a:blip r:embed="rId1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36" descr="Первый снег lite"/>
          <p:cNvPicPr/>
          <p:nvPr/>
        </p:nvPicPr>
        <p:blipFill>
          <a:blip r:embed="rId2"/>
          <a:stretch/>
        </p:blipFill>
        <p:spPr>
          <a:xfrm>
            <a:off x="4343400" y="0"/>
            <a:ext cx="4761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Ёлка украшенная"/>
          <p:cNvPicPr/>
          <p:nvPr/>
        </p:nvPicPr>
        <p:blipFill>
          <a:blip r:embed="rId1"/>
          <a:stretch/>
        </p:blipFill>
        <p:spPr>
          <a:xfrm>
            <a:off x="2438280" y="1143000"/>
            <a:ext cx="6199200" cy="4011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декабрь это последний месяц год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месяце мы наряжаем ёлку к приходу Нового года и нового месяца - январ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8600" y="606600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ют, что месяц декабрь и старый год заканчиваются ночью, когда наступает 12 часов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в эту последнюю ночь декабря многие взрослые и даже детишки не спя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стречают Новый год, гуляют, устраивают фейервер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42" name="Picture 8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Я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Н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январь lite"/>
          <p:cNvPicPr/>
          <p:nvPr/>
        </p:nvPicPr>
        <p:blipFill>
          <a:blip r:embed="rId1"/>
          <a:stretch/>
        </p:blipFill>
        <p:spPr>
          <a:xfrm>
            <a:off x="3086280" y="182880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181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зиме, как и в других временах года, три месяца. Знакомься: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б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самый старый, самый последний и старший из месяцев в году.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ва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враль – последний месяц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еперь давай узнаем о них побольш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065"/>
          <p:cNvGrpSpPr/>
          <p:nvPr/>
        </p:nvGrpSpPr>
        <p:grpSpPr>
          <a:xfrm>
            <a:off x="304920" y="838080"/>
            <a:ext cx="2671560" cy="3843000"/>
            <a:chOff x="304920" y="838080"/>
            <a:chExt cx="2671560" cy="3843000"/>
          </a:xfrm>
        </p:grpSpPr>
        <p:pic>
          <p:nvPicPr>
            <p:cNvPr id="52" name="Picture 2063" descr="декабрь2 lite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26715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064"/>
            <p:cNvSpPr/>
            <p:nvPr/>
          </p:nvSpPr>
          <p:spPr>
            <a:xfrm>
              <a:off x="357840" y="4038480"/>
              <a:ext cx="238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ДЕ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КА</a:t>
              </a: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Б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4" name="Group 2069"/>
          <p:cNvGrpSpPr/>
          <p:nvPr/>
        </p:nvGrpSpPr>
        <p:grpSpPr>
          <a:xfrm>
            <a:off x="3502080" y="2279520"/>
            <a:ext cx="2136600" cy="2401560"/>
            <a:chOff x="3502080" y="2279520"/>
            <a:chExt cx="2136600" cy="2401560"/>
          </a:xfrm>
        </p:grpSpPr>
        <p:pic>
          <p:nvPicPr>
            <p:cNvPr id="55" name="Picture 2066" descr="январь lite"/>
            <p:cNvPicPr/>
            <p:nvPr/>
          </p:nvPicPr>
          <p:blipFill>
            <a:blip r:embed="rId2"/>
            <a:stretch/>
          </p:blipFill>
          <p:spPr>
            <a:xfrm>
              <a:off x="3733920" y="2279520"/>
              <a:ext cx="190476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067"/>
            <p:cNvSpPr/>
            <p:nvPr/>
          </p:nvSpPr>
          <p:spPr>
            <a:xfrm>
              <a:off x="3502080" y="4038480"/>
              <a:ext cx="213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Я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Н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7" name="Group 2072"/>
          <p:cNvGrpSpPr/>
          <p:nvPr/>
        </p:nvGrpSpPr>
        <p:grpSpPr>
          <a:xfrm>
            <a:off x="6249600" y="1828800"/>
            <a:ext cx="2491200" cy="2852280"/>
            <a:chOff x="6249600" y="1828800"/>
            <a:chExt cx="2491200" cy="2852280"/>
          </a:xfrm>
        </p:grpSpPr>
        <p:pic>
          <p:nvPicPr>
            <p:cNvPr id="58" name="Picture 2070" descr="февраль lite"/>
            <p:cNvPicPr/>
            <p:nvPr/>
          </p:nvPicPr>
          <p:blipFill>
            <a:blip r:embed="rId3"/>
            <a:stretch/>
          </p:blipFill>
          <p:spPr>
            <a:xfrm>
              <a:off x="6316560" y="1828800"/>
              <a:ext cx="21204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2071"/>
            <p:cNvSpPr/>
            <p:nvPr/>
          </p:nvSpPr>
          <p:spPr>
            <a:xfrm>
              <a:off x="6249600" y="4038480"/>
              <a:ext cx="249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ФЕ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В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Л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Мороз lite"/>
          <p:cNvPicPr/>
          <p:nvPr/>
        </p:nvPicPr>
        <p:blipFill>
          <a:blip r:embed="rId1"/>
          <a:stretch/>
        </p:blipFill>
        <p:spPr>
          <a:xfrm>
            <a:off x="2590920" y="-9360"/>
            <a:ext cx="6553080" cy="57639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6019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наступил январь - это первый месяц года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торой, средний месяц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538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40" descr="ночью зимой lite"/>
          <p:cNvPicPr/>
          <p:nvPr/>
        </p:nvPicPr>
        <p:blipFill>
          <a:blip r:embed="rId1"/>
          <a:stretch/>
        </p:blipFill>
        <p:spPr>
          <a:xfrm>
            <a:off x="3035160" y="0"/>
            <a:ext cx="6102360" cy="6553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амый холодны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 холодно бывает в ясную погоду, когда днём на небе светит солнышко, а ночью - лун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733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5"/>
          <p:cNvSpPr/>
          <p:nvPr/>
        </p:nvSpPr>
        <p:spPr>
          <a:xfrm>
            <a:off x="152280" y="2286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56" name="Picture 1039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5" descr="Девочка на улице lite"/>
          <p:cNvPicPr/>
          <p:nvPr/>
        </p:nvPicPr>
        <p:blipFill>
          <a:blip r:embed="rId1"/>
          <a:stretch/>
        </p:blipFill>
        <p:spPr>
          <a:xfrm>
            <a:off x="3159000" y="0"/>
            <a:ext cx="5375520" cy="6324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9092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кую погоду щечки и носы становятся красными и горят, как будто за них кто-то щеп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мороз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это его и прозвали Моро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ый нос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324480" y="76320"/>
            <a:ext cx="251460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04200" y="228600"/>
            <a:ext cx="2533680" cy="64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роз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бежал я за оград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Мороз стоит и жд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пошел со мною рядом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 на шаг не отста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дворе рубашки наш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ревке с ветром пляшу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бегу - Мороз за мною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белье напал Мороз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трой пылью ледяно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ватил его насквозь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хватил и жёстким сделал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белье заледенело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вь на снег - не упад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толкни - оно пойд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толкнул едва-едва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стыня пошла снач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рубашка зашаг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топырив рукава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портняжка Моро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ет щеки, режет нос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ринулся навстреч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скочил ко мне на плеч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- всадник ледяной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онко свищет за спиной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и мерзлые трещ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ни по снегу скрипя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витко Лев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62" name="Picture 13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набегут тучи и повалит снег становиться тепле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ё наоборот! Всё не как летом! При солнышке – холодно, при тучах – тепл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36" descr="январь lite"/>
          <p:cNvPicPr/>
          <p:nvPr/>
        </p:nvPicPr>
        <p:blipFill>
          <a:blip r:embed="rId1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37" descr="Снеговики на коньках и лыжах lite"/>
          <p:cNvPicPr/>
          <p:nvPr/>
        </p:nvPicPr>
        <p:blipFill>
          <a:blip r:embed="rId2"/>
          <a:stretch/>
        </p:blipFill>
        <p:spPr>
          <a:xfrm>
            <a:off x="3429000" y="984240"/>
            <a:ext cx="5562720" cy="465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38" descr="синички lite"/>
          <p:cNvPicPr/>
          <p:nvPr/>
        </p:nvPicPr>
        <p:blipFill>
          <a:blip r:embed="rId3"/>
          <a:stretch/>
        </p:blipFill>
        <p:spPr>
          <a:xfrm>
            <a:off x="1905120" y="95400"/>
            <a:ext cx="320040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557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39" descr="Щенок lite"/>
          <p:cNvPicPr/>
          <p:nvPr/>
        </p:nvPicPr>
        <p:blipFill>
          <a:blip r:embed="rId4"/>
          <a:stretch/>
        </p:blipFill>
        <p:spPr>
          <a:xfrm>
            <a:off x="7010280" y="4349880"/>
            <a:ext cx="1905120" cy="1606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ФЕ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В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Л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февраль lite"/>
          <p:cNvPicPr/>
          <p:nvPr/>
        </p:nvPicPr>
        <p:blipFill>
          <a:blip r:embed="rId1"/>
          <a:stretch/>
        </p:blipFill>
        <p:spPr>
          <a:xfrm>
            <a:off x="2835360" y="1523880"/>
            <a:ext cx="297000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оследний месяц зим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еврале самый глубокий снег и самые большие сугроб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52280" y="643104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нег копился в течении предыдущих зимних месяцев: в Декабре и Январе. Сам Февраль тоже добавил снежку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76" name="Picture 7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нежные сугробы lite"/>
          <p:cNvPicPr/>
          <p:nvPr/>
        </p:nvPicPr>
        <p:blipFill>
          <a:blip r:embed="rId2"/>
          <a:stretch/>
        </p:blipFill>
        <p:spPr>
          <a:xfrm>
            <a:off x="1409760" y="0"/>
            <a:ext cx="6324480" cy="5589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2" descr="Снеговик лепят 2 lite"/>
          <p:cNvPicPr/>
          <p:nvPr/>
        </p:nvPicPr>
        <p:blipFill>
          <a:blip r:embed="rId1"/>
          <a:stretch/>
        </p:blipFill>
        <p:spPr>
          <a:xfrm>
            <a:off x="2362320" y="4680"/>
            <a:ext cx="6781680" cy="5346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943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года становиться мягче, теплее, чем в янва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76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2" descr="Снежки 1 lite"/>
          <p:cNvPicPr/>
          <p:nvPr/>
        </p:nvPicPr>
        <p:blipFill>
          <a:blip r:embed="rId1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хорошо в такую погоду играть в снежк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февраль lite"/>
          <p:cNvPicPr/>
          <p:nvPr/>
        </p:nvPicPr>
        <p:blipFill>
          <a:blip r:embed="rId2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Снежки 2 lite"/>
          <p:cNvPicPr/>
          <p:nvPr/>
        </p:nvPicPr>
        <p:blipFill>
          <a:blip r:embed="rId3"/>
          <a:stretch/>
        </p:blipFill>
        <p:spPr>
          <a:xfrm>
            <a:off x="914400" y="2666880"/>
            <a:ext cx="2687760" cy="3276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8" descr="Вьюга lite"/>
          <p:cNvPicPr/>
          <p:nvPr/>
        </p:nvPicPr>
        <p:blipFill>
          <a:blip r:embed="rId1"/>
          <a:stretch/>
        </p:blipFill>
        <p:spPr>
          <a:xfrm>
            <a:off x="2666880" y="685800"/>
            <a:ext cx="6019920" cy="528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в феврале часто дуют ветры. Они сдувают снег с земл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тят его, несут, кида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5791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етер не сильный он не может высоко поднять снег - не выше колен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ветерок несет снег по земле, заворачивает его, закручив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ется кто-то белый бежит по земле, петляет. Это поземк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позёмка"/>
          <p:cNvPicPr/>
          <p:nvPr/>
        </p:nvPicPr>
        <p:blipFill>
          <a:blip r:embed="rId2"/>
          <a:stretch/>
        </p:blipFill>
        <p:spPr>
          <a:xfrm>
            <a:off x="2590920" y="1905120"/>
            <a:ext cx="6286320" cy="32684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ДЕ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декабрь2 lite"/>
          <p:cNvPicPr/>
          <p:nvPr/>
        </p:nvPicPr>
        <p:blipFill>
          <a:blip r:embed="rId1"/>
          <a:stretch/>
        </p:blipFill>
        <p:spPr>
          <a:xfrm>
            <a:off x="2743200" y="762120"/>
            <a:ext cx="346068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7920" y="5562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начинается Вью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неё много имен: Вьюга, Метель, Пурга, Снежная буря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21333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2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Лыжи бегом lite"/>
          <p:cNvPicPr/>
          <p:nvPr/>
        </p:nvPicPr>
        <p:blipFill>
          <a:blip r:embed="rId2"/>
          <a:stretch/>
        </p:blipFill>
        <p:spPr>
          <a:xfrm>
            <a:off x="3276720" y="304920"/>
            <a:ext cx="5333760" cy="43686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уж это месяц – феврал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 него в народе говоря: «Вьюги и метели на февраль налетели.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286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054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57" descr="blizzardretouched"/>
          <p:cNvPicPr/>
          <p:nvPr/>
        </p:nvPicPr>
        <p:blipFill>
          <a:blip r:embed="rId2"/>
          <a:stretch/>
        </p:blipFill>
        <p:spPr>
          <a:xfrm>
            <a:off x="2133720" y="457200"/>
            <a:ext cx="7010280" cy="52657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5486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Метель 2"/>
          <p:cNvPicPr/>
          <p:nvPr/>
        </p:nvPicPr>
        <p:blipFill>
          <a:blip r:embed="rId2"/>
          <a:stretch/>
        </p:blipFill>
        <p:spPr>
          <a:xfrm>
            <a:off x="5181480" y="1911240"/>
            <a:ext cx="3886200" cy="334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blizzard 5"/>
          <p:cNvPicPr/>
          <p:nvPr/>
        </p:nvPicPr>
        <p:blipFill>
          <a:blip r:embed="rId3"/>
          <a:stretch/>
        </p:blipFill>
        <p:spPr>
          <a:xfrm>
            <a:off x="152280" y="1909800"/>
            <a:ext cx="4876920" cy="3348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502884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февраля солнышко становиться теплым. Скоро весна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ошо гулять в ясную погоду в февра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уже не приносит холода, как январское солнце. Посмотри какое голубое небо!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февраль lite"/>
          <p:cNvPicPr/>
          <p:nvPr/>
        </p:nvPicPr>
        <p:blipFill>
          <a:blip r:embed="rId1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Грабарь Февральская лазурь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52280" y="6431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картину художник назвал «Февральская лазурь»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Feodor Vasilyev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4146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гололедица lite"/>
          <p:cNvPicPr/>
          <p:nvPr/>
        </p:nvPicPr>
        <p:blipFill>
          <a:blip r:embed="rId1"/>
          <a:stretch/>
        </p:blipFill>
        <p:spPr>
          <a:xfrm>
            <a:off x="3124080" y="838080"/>
            <a:ext cx="4876920" cy="4548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том вернутся холода, замерзнут луж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ядет сырость из воздуха льдом на дорогах и дорожка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речайте, гололедица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319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5" descr="снегопад домик lite"/>
          <p:cNvPicPr/>
          <p:nvPr/>
        </p:nvPicPr>
        <p:blipFill>
          <a:blip r:embed="rId1"/>
          <a:stretch/>
        </p:blipFill>
        <p:spPr>
          <a:xfrm>
            <a:off x="4191120" y="0"/>
            <a:ext cx="44780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172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начало зимы. Это первый снежный месяц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2" descr="декабрь2 lite"/>
          <p:cNvPicPr/>
          <p:nvPr/>
        </p:nvPicPr>
        <p:blipFill>
          <a:blip r:embed="rId2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декабрь2 lite"/>
          <p:cNvPicPr/>
          <p:nvPr/>
        </p:nvPicPr>
        <p:blipFill>
          <a:blip r:embed="rId3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о снег выпадает в конце осени -  в ноябре и даже в октяб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обычно первый осенний снег т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от декабрьский снег будет лежать долго - до вес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Ранний снег"/>
          <p:cNvPicPr/>
          <p:nvPr/>
        </p:nvPicPr>
        <p:blipFill>
          <a:blip r:embed="rId2"/>
          <a:stretch/>
        </p:blipFill>
        <p:spPr>
          <a:xfrm>
            <a:off x="762120" y="808200"/>
            <a:ext cx="7619760" cy="40575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снегопад lite"/>
          <p:cNvPicPr/>
          <p:nvPr/>
        </p:nvPicPr>
        <p:blipFill>
          <a:blip r:embed="rId1"/>
          <a:stretch/>
        </p:blipFill>
        <p:spPr>
          <a:xfrm>
            <a:off x="2971800" y="25560"/>
            <a:ext cx="6172200" cy="5991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люди, а особенно детиш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200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растения – тёплым одеялом укрывает он их до весн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животные – он прячет их домики и нор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ерутся туда жгучие мороз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задуют пронизывающие ветр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saac Levitan. Snowbound Garden."/>
          <p:cNvPicPr/>
          <p:nvPr/>
        </p:nvPicPr>
        <p:blipFill>
          <a:blip r:embed="rId2"/>
          <a:srcRect l="0" t="19829" r="0" b="0"/>
          <a:stretch/>
        </p:blipFill>
        <p:spPr>
          <a:xfrm>
            <a:off x="0" y="0"/>
            <a:ext cx="9144000" cy="5497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Кормушка lite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524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чкам, оставшимся зимовать с нами, становиться трудно искать себе ед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этому люди вешают для них специальные домики - кормуш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ладывают туда зернышки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ечки и орешки. Вешают кусочки сал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шайте птички! Угощайтесь белочки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905120" y="0"/>
            <a:ext cx="2590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905120" y="152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" y="22860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ой у нас обычай: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выпадет снежок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щатый домик птичий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сить на сучок.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 Пожарова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8600" y="63244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любят такие лакомства синички и воробьи, но прилетают подкрепиться к кормушкам голуби, снегири, поползни, вороны и сой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89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разную погоду из туч идет разный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холодно и нет ветра падают и кружатся легкие и красивые снежинк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8380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жинки вьются и кружатся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рвутся в комнату мою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и летят, легки и ло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ослепительнее звезд,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будто в синие потё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ожащий перекинут мост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блестящий</a:t>
            </a:r>
            <a:endParaRPr b="1" lang="en-US" sz="10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лена Благинин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3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Снежинки lite"/>
          <p:cNvPicPr/>
          <p:nvPr/>
        </p:nvPicPr>
        <p:blipFill>
          <a:blip r:embed="rId2"/>
          <a:stretch/>
        </p:blipFill>
        <p:spPr>
          <a:xfrm>
            <a:off x="3352680" y="1150920"/>
            <a:ext cx="5791320" cy="3328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6:12:20Z</dcterms:created>
  <dc:creator>Admin</dc:creator>
  <dc:description/>
  <dc:language>en-US</dc:language>
  <cp:lastModifiedBy>LEGION2</cp:lastModifiedBy>
  <dcterms:modified xsi:type="dcterms:W3CDTF">2015-04-24T07:47:12Z</dcterms:modified>
  <cp:revision>205</cp:revision>
  <dc:subject/>
  <dc:title>ЗИМНИЕ МЕСЯЦЫ</dc:title>
</cp:coreProperties>
</file>