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51DA-ED59-4175-9610-5E43DDA47C8B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Презентация к уроку «Окружающий мир» в 1 классе по теме: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Зима. Покой природы.»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Зимние меся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4C2F-57F9-44CA-B523-AA56B89DF975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а улице не очень холодно, а снег пошел сильнее, гуще, то становиться еще теплее. Снежинки слипаются вместе в мягкие хлопья снег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й снег называют снегопа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негопа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наста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вдруг стемнел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т зажгли. Глядим в окн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ложится белый-белы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чего же так темно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5EEE-282A-4990-A32E-D3E75CF2550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гда дует ветер, из туч сыплется крупа - маленькие плотные комочки снега. Они очень похожи по форме и размеру на пшено или гречку, поэтому такой снег и прозвали - круп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CA0A-CA79-44E4-BCC5-22ECB4E6BCF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7CB2-978C-498C-80D2-36230032BF1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бар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ейА иногда снег не идет из тучи, а намерзает прямо на веточках деревье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иней. Весь лес становиться сказочно бел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ая берё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оим окн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акрылась снег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 сереб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ушистых вет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жною кайм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устились ки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ой бахром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стоит бере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нной ти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 горят снежин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олотом ог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заря, лени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ходя круг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ыпает ве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м серебр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5C32-4599-4378-A309-DD98D6E10EA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е в это время тоже краси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ще не скоро быть вес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 мазками смел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, точно в сказке иль во с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ам кроет бел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ет фонарь и провод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бор – как алебастровы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дряхлый столб, как никог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годня убран астрам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се меха – сплошной песец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шубы стали белые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 и зима, ну, сорванец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 как ты это сделал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ригор Вит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4B09-D5A6-4C98-A5E8-08C8C16BC37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и колыбель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тепло укутал ле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ный сказок и чуде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ей скрыл березок кр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алмазные кор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ятали под шапки л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графные стол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зеленый бархат 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убки белые на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яцов 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1FB1-B3C2-4C49-950B-95DC1365956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и, ручейки, озера и пруды в декабре покрываются льдо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ачале он тоненький, слабый и по нему пока нельзя ход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 середине декабря, он обычно становиться крепч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доставать коньки. Ура, катаем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кат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естят коньки, блестит кат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шистый снег искрит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нь коньки свои, друж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робуй прокати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кай тебя щипнет мороз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отри, не испугай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заморозит он до слез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му не поддавай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отступай, скользи впере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ти быстрее п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оз сердитый отста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тех, кто не бои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. Донник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абрь - это самый темный месяц. В это время самые длинные ночи и самые короткие дни. Солнышко встает поздно и прячется рано. Высоко не поднимается, так и ходит по краю неб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чь зимой -  как черный кот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- как серенькая мыш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(летом все на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чь - как серенькая мышь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нь – большой блестящий ко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. С. Соловье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723D-C98E-49DC-B1AB-90103ED5556C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ак только ляжет снег, сразу становиться светлее и радостнее, несмотря на такие короткие д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за окн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зу в доме посветлело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нег лежит ковр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первый, самый белы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. Трутн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F2FB-E802-4EE7-8C08-CBE56CA132E8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еще декабрь это последний месяц год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месяце мы наряжаем ёлку к приходу Нового года и нового месяца - январ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екабре, в декаб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еревья в сереб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у речку, словно в сказк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ночь вымостил мороз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новил коньки, салаз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лку из лесу приве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лка плакала снач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домашнего теп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ром плакать переста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ышала, ожи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ть дрожат ее игол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ветвях огни зажглись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о лесенке, по ел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гоньки взбегают ввы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аршак Самуи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D140-509E-42F4-A646-3A4BF436668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F99C-54E5-42CF-8133-526A884ABCD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име, как и в других временах года, три месяца. Знакомься: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самый старый, самый последний и старший из месяцев в году.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нвар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первый, самый младший месяц нового года. Видишь, он стоит с новогодней ёлочкой. Но в зиме он второй, средний месяц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враль – последний месяц зим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еперь давай узнаем о них побольш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3882-4646-4267-8B45-79F36747BA6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от наступил январь - это первый месяц год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второй, средний месяц зи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нвар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ваем календарь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ется январ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6605-26E1-41A3-83A6-B048479EAEF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BDD8-29C2-4DAF-9A0B-A87A3B55E5A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амый холодный месяц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холодно бывает в ясную погоду, когда днём на небе светит солнышко, а ночью - лу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лунного света искрится снеж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нварская ночь холод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ушистое облачко, словно в плато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талась в небе лу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одиноко плывет в небеса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й зябко в пустой вы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холода люди закрылись в дома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негде укрыться лун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1C01-B57E-42F5-87D1-903AFEF9D1C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акую погоду щечки и носы становятся красными и горят, как будто за них кто-то щеп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ороз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это его и прозвали Моро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ый 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гда набегут тучи и повалит снег становиться тепл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ё наоборот! Всё не как летом! При солнышке – холодно, при тучах – теп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лые стих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кружить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ложитьс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! Снег! Снег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ы снегу зверь и птиц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, конечно, человек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ы серые синич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морозе мёрзнут птич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ал снег упал мороз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шка снегом моет 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щенка на чёрной спинк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ют белые снежин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ергей Михал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E9CC-9F79-4C73-93D7-7425DC36873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ФЕ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66ccff"/>
                </a:solidFill>
                <a:latin typeface="Times New Roman"/>
              </a:rPr>
              <a:t>Л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EB70-A014-4E26-9E5D-B92B70C3B88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71B0-290F-44B2-895D-BE51BB39A5C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оследний месяц зи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еврале самый глубокий снег и самые большие сугро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а становиться мягче, теплее, чем в январ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того снег становиться липким. В такую погоду хорошо строить снежные крепости, лепить снеговиков и снежных ба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од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ы не ели, мы не пил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бу снежную лепил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 февральский слабый, слаб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ялся под ру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как раз для снежной баб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жен нам та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 работать было жарк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то нет зим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то взял февраль у мар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ёплый день взай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ыбаясь, как жив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арке, в тишин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ала баба снег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белом зипу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гния  Бар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0602-C16A-41A8-931A-99A812D6714B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хорошо в такую погоду играть в снеж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AFF4-6F39-44BB-866E-E44B0CDC22B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5D8C-B51E-4F5B-9EE8-2B837B5A0E22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еще в феврале часто дуют ветры. Они сдувают снег с земл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тят его, несут, кида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мнишь как поет месяц Февраль в сказке про 12 месяцев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ры, бури, ураг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йте что есть моч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хри, вьюги и бу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ыграйтесь к ноч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блаках трубите громк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йтесь над земл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бежит в полях позем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ою змеею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етер не сильный он не может высоко поднять снег - не выше колен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ой ветерок несет снег по земле, заворачивает его, закручив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ется кто-то белый бежит по земле, петляет. Это поземк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ют ветры в феврал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ют в трубах громк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мейкой вьется по земл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ёгкая позем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6535-F839-46F2-8F93-5AC4E165098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Б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Р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B60C-659B-4372-8B59-985E36F1B7B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7C85-B806-41B7-A7FF-3119E80EC80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однимется ветер посильнее, закрутит снег выше головы, ничего из-за него не видно. Ветер воет, толк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ачинается Вьюг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неё много имен: Вьюга, Метель, Пурга, Снежная бур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ыжн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ью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и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сем друг дру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знут ще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ег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он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пургу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быстр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ькают лыж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все 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ельник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возь кус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ерева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для лыж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е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домч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ьше все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витко Л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ой уж это месяц – февра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 него в народе говоря: «Вьюги и метели на февраль налетели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стели мете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ели сне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лила пос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озам о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о ме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ночь не до с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тром в окош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нули на са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гробы, в саду, как подушки, леж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теп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7C51-C92E-4CDB-BC19-6B1376FA6AC3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12D6-8BFB-48D0-B3D8-36F535842C0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на севере, где суровая зима, случаются сильные бури. В это время люди стараются не выходить из своих домов, так как во время бури можно потеряться и замерзнуть даже во дворе, рядом с домом: из-за снега ничего не видно, из-за ветра ничего не слышно. Холодно. Ветер насквозь продувает, колючий снег в лицо кид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я мглою небо кроет, вихри снежные крут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как зверь она завоет, то заплачет как дит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по кровле обветшалой вдруг соломой зашурш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как путник запоздалый друг в окошко постуч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лександр Пуш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9B7E-8FDC-4101-86E2-D069D889B24F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нце февраля солнышко становиться теплым. Скоро весна!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рошо гулять в ясную погоду в феврал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уже не приносит холода, как январское солнце. Посмотри какое голубое небо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0E1B-42BA-4510-8433-BCAE9580BA5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весна поторопится, забежит вперед. Принесет ветер теплый воздух из южных стран. От него снег тает. Лужи стоят на дорогах и тротуарах. На небе тучи. Моросит дождик. Пасмурная погода - пасмурное настроение. Плохо гулять в оттепель. За это её и не жалую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отом вернутся холода, замерзнут луж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ядет сырость из воздуха льдом на дорогах и дорожк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речайте, гололедиц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лолед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дется и не едетс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му что гололеди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за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лично падае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ж ник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радуется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28C1-249A-41D6-BF0A-786D9061462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абрь - это начало зимы. Это первый снежный меся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ый снег пушист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воздухе кружи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на землю тих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дает, лож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од утро снег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 забеле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 пелено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его одел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ый лес что шап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акрылся чуд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аснул под не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пко, непробудн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и дни кор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це светит м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ришли морозц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зима нас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. Сур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A2BD-7ECB-43DE-8818-9596A042BB2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07A2-B868-4C03-ACE0-08D46CAD300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ен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ий с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о снег выпадает в конце осени -  в ноябре и даже в октябр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обычно первый осенний снег та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от декабрьский снег будет лежать долго - до вес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уются снегу люди, а особенно дети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ма! глянь-ка из окошка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, вчера недаром кош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ывала но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язи нет, весь двор одел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ветлело, побелело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но, есть мороз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колючий, светло-си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ветвям развешен иней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ляди хоть ты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но кто-то тороват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жей, белой, пухлой ва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убрал кус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ж теперь не будет спор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салазки да и в гор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ело бежать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да, мама? Не откажешь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сама, наверно, скажеш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Ну, скорей гулять!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фанасий Ф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AEB9-9BDD-45A3-B3DD-31BB7B6E53E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AB33-1091-41E9-9640-D42A7D04B3F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аак Левит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есённый снегом пар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Снег земле кормилице, что теплая шуб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дуются снегу растения – тёплым одеялом укрывает он их до весны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дуются снегу животные – он прячет их домики и норки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е заберутся туда жгучие морозы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Не задуют пронизывающие ветры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о снег еще прячет и последние колоски с зернышками, желуди и орешки, рассыпанные по земле. Холодно и голодно зимой лесному народу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тичкам, оставшимся зимовать с нами, становиться трудно искать себе еду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люди вешают для них специальные домики - кормуш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ладывают туда зернышки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чки и орешки. Вешают кусочки са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шайте птички! Угощайтесь белочки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7D15-ABB4-43E9-9E13-420DBD97BA64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ег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ую погоду из туч идет разный снег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гда холодно и нет ветра падают и кружатся легкие и красивые снежин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они разные, у каждой свой узор. Если в это время выглянет солнышко, то заблестят снежинки маленькими звездочк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EC72-F11F-44E5-B717-5AF7B8CC326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DFC-3304-4672-A089-A5364A0D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21012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8EE-B633-4934-9BAA-3E8E8BF9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0676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8F0-E459-41A9-92D2-427EA650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548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2000" y="30456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548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2000" y="3210120"/>
            <a:ext cx="26251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805B-E850-4442-A03F-27C79B62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C99-CE63-4217-A87B-0B742DE2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D24-347C-4344-A912-4A757997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5E5-4C35-4C15-96F7-6B04D08C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DCE-D963-45BF-93F4-97717BC1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A76-9CDE-4382-A8AE-449110C6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50E-F9FB-4887-BFF7-5FC78DB4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06760" y="321012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78A-5F51-4ACA-8899-5DB48B04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06760" y="304560"/>
            <a:ext cx="39787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210120"/>
            <a:ext cx="81532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7BD-7C48-4271-BB39-DB38D0EE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EE99-15FD-4AE4-8638-70DD754794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езентация к уроку «Окружающий мир» в 1 классе по теме: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«Зима. Покой природы.»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имние месяц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на улице не очень холодно, а снег пошел сильнее, гуще, то становиться еще теплее. Снежинки слипаются вместе в мягкие хлопья снег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ьный снег называют снегопадо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негопа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наста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друг стемн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т зажгли. Глядим в ок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г ложится белый-белы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чего же так темно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28600" y="62485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99" name="Picture 15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Снегопад дома lite"/>
          <p:cNvPicPr/>
          <p:nvPr/>
        </p:nvPicPr>
        <p:blipFill>
          <a:blip r:embed="rId2"/>
          <a:stretch/>
        </p:blipFill>
        <p:spPr>
          <a:xfrm>
            <a:off x="4116240" y="0"/>
            <a:ext cx="5027760" cy="594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огда дует ветер, из туч сыплется крупа - маленькие плотные комочки снега. Они очень похожи по форме и размеру на пшено или гречку, поэтому такой снег и прозвали - круп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33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5" descr="Снежная крупа lite"/>
          <p:cNvPicPr/>
          <p:nvPr/>
        </p:nvPicPr>
        <p:blipFill>
          <a:blip r:embed="rId2"/>
          <a:stretch/>
        </p:blipFill>
        <p:spPr>
          <a:xfrm>
            <a:off x="3362400" y="152280"/>
            <a:ext cx="5553000" cy="5715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иногда снег не идет из тучи, а намерзает прямо на веточках деревьев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иней. Весь лес становиться сказочно белы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133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ая берё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 моим ок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акрылась снег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чно серебр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пушистых ветк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жною кайм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пустились ки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ой бахро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стоит бере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нной ти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 горят снежинк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золотом ог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заря, лени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ходя круг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сыпает вет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вым сереб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гей Есен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Грабарь Иней lite"/>
          <p:cNvPicPr/>
          <p:nvPr/>
        </p:nvPicPr>
        <p:blipFill>
          <a:blip r:embed="rId2"/>
          <a:stretch/>
        </p:blipFill>
        <p:spPr>
          <a:xfrm>
            <a:off x="2133720" y="353880"/>
            <a:ext cx="7010280" cy="53611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ороде в это время тоже красиво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ще не скоро быть вес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има мазками смелы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, точно в сказке иль во с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етам кроет белы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ветет фонарь и провода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бор – как алебастровый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дряхлый столб, как никогд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годня убран астрам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все меха – сплошной песе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шубы стали белые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 и зима, ну, сорванец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 как ты это сделал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Григор Вите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34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35" descr="Иней в городе lite"/>
          <p:cNvPicPr/>
          <p:nvPr/>
        </p:nvPicPr>
        <p:blipFill>
          <a:blip r:embed="rId2"/>
          <a:stretch/>
        </p:blipFill>
        <p:spPr>
          <a:xfrm>
            <a:off x="2819520" y="387360"/>
            <a:ext cx="6324480" cy="54864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51811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 выглядит иней, если посмотреть на него близко-близк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гом все белое и синее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в тонком кружеве тен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лес укрыт пушистым инее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нул до первых вешних дн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снятся сны ему спокой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тичьи песни на зар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ят безмолвно сосны строй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яжелом зимнем серебр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кребицки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29"/>
          <p:cNvSpPr/>
          <p:nvPr/>
        </p:nvSpPr>
        <p:spPr>
          <a:xfrm>
            <a:off x="228600" y="595944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ей часто бывает, когда на землю ложится туман. Туман очень похож на облака и тучи. Они все состоят из очень, очень маленьких капелек воды. Таких маленьких, что их не видно. Они могут висеть в воздухе и не падать. В облаке они сталкиваются, замерзают и получаются красивые снежин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тумане они налипают на холодные ветки деревьев, провода, крыши, стены и замерзают на них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19" name="Picture 1034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35" descr="Кристаллы изморози lite"/>
          <p:cNvPicPr/>
          <p:nvPr/>
        </p:nvPicPr>
        <p:blipFill>
          <a:blip r:embed="rId2"/>
          <a:stretch/>
        </p:blipFill>
        <p:spPr>
          <a:xfrm>
            <a:off x="5157720" y="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5562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ки, ручейки, озера и пруды в декабре покрываются льдом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ачале он тоненький, слабый и по нему пока нельзя ходит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к середине декабря, он обычно становиться крепч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доставать коньки. Ура, катаемся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3230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катк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естят коньки, блестит кат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шистый снег искрится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ень коньки свои, друж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пробуй прокатить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скай тебя щипнет мороз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мотри, не испугай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сть заморозит он до слез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му не поддавайс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отступай, скользи впере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ти быстрее птиц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оз сердитый отста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 тех, кто не боитс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. Донник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Коньки мишка lite"/>
          <p:cNvPicPr/>
          <p:nvPr/>
        </p:nvPicPr>
        <p:blipFill>
          <a:blip r:embed="rId2"/>
          <a:stretch/>
        </p:blipFill>
        <p:spPr>
          <a:xfrm>
            <a:off x="3973680" y="152280"/>
            <a:ext cx="4692600" cy="54104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1" descr="снегопад, темно lite"/>
          <p:cNvPicPr/>
          <p:nvPr/>
        </p:nvPicPr>
        <p:blipFill>
          <a:blip r:embed="rId1"/>
          <a:srcRect l="2744" t="0" r="0" b="0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4876560"/>
            <a:ext cx="5334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брь - это самый темный месяц. В это время самые длинные ночи и самые короткие дни. Солнышко встает поздно и прячется рано. Высоко не поднимается, так и ходит по краю неб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28600"/>
            <a:ext cx="3581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чь зимой -  как черный кот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- как серенькая мыш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ru-RU" sz="1400" spc="-1" strike="noStrike">
                <a:solidFill>
                  <a:srgbClr val="808080"/>
                </a:solidFill>
                <a:latin typeface="Times New Roman"/>
              </a:rPr>
              <a:t>(летом все наоборо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чь - как серенькая мышь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нь – большой блестящий ко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. С. Соловье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6248520"/>
            <a:ext cx="518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на самом севере, в Арктике - вообще солнца не видн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зиму темно - полярная ночь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31" name="Picture 10" descr="декабрь2 lite"/>
          <p:cNvPicPr/>
          <p:nvPr/>
        </p:nvPicPr>
        <p:blipFill>
          <a:blip r:embed="rId2"/>
          <a:stretch/>
        </p:blipFill>
        <p:spPr>
          <a:xfrm>
            <a:off x="0" y="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57150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как только ляжет снег, сразу становиться светлее и радостнее, несмотря на такие короткие дн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28240"/>
            <a:ext cx="31240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такое за окно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азу в доме посветлело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снег лежит ковро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ый первый, самый белый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. Трутне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034" descr="декабрь2 lite"/>
          <p:cNvPicPr/>
          <p:nvPr/>
        </p:nvPicPr>
        <p:blipFill>
          <a:blip r:embed="rId1"/>
          <a:stretch/>
        </p:blipFill>
        <p:spPr>
          <a:xfrm>
            <a:off x="0" y="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36" descr="Первый снег lite"/>
          <p:cNvPicPr/>
          <p:nvPr/>
        </p:nvPicPr>
        <p:blipFill>
          <a:blip r:embed="rId2"/>
          <a:stretch/>
        </p:blipFill>
        <p:spPr>
          <a:xfrm>
            <a:off x="4343400" y="0"/>
            <a:ext cx="4761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2" descr="Ёлка украшенная"/>
          <p:cNvPicPr/>
          <p:nvPr/>
        </p:nvPicPr>
        <p:blipFill>
          <a:blip r:embed="rId1"/>
          <a:stretch/>
        </p:blipFill>
        <p:spPr>
          <a:xfrm>
            <a:off x="2438280" y="1143000"/>
            <a:ext cx="6199200" cy="4011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54860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еще декабрь это последний месяц год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м месяце мы наряжаем ёлку к приходу Нового года и нового месяца - январ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кабр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екабре, в декаб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е деревья в сереб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шу речку, словно в сказк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ночь вымостил мороз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новил коньки, салаз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ку из лесу привез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ка плакала снач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домашнего теп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тром плакать переста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дышала, ожи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ь дрожат ее игол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ветвях огни зажглись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по лесенке, по ел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гоньки взбегают ввы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аршак Самуи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28600" y="6066000"/>
            <a:ext cx="84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ют, что месяц декабрь и старый год заканчиваются ночью, когда наступает 12 часов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в эту последнюю ночь декабря многие взрослые и даже детишки не спя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стречают Новый год, гуляют, устраивают фейерверки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42" name="Picture 8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Я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Н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Р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январь lite"/>
          <p:cNvPicPr/>
          <p:nvPr/>
        </p:nvPicPr>
        <p:blipFill>
          <a:blip r:embed="rId1"/>
          <a:stretch/>
        </p:blipFill>
        <p:spPr>
          <a:xfrm>
            <a:off x="3086280" y="182880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1814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зиме, как и в других временах года, три месяца. Знакомься: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б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н самый старый, самый последний и старший из месяцев в году.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нвар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н первый, самый младший месяц нового года. Видишь, он стоит с новогодней ёлочкой. Но в зиме он второй, средний месяц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враль – последний месяц зим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еперь давай узнаем о них побольш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065"/>
          <p:cNvGrpSpPr/>
          <p:nvPr/>
        </p:nvGrpSpPr>
        <p:grpSpPr>
          <a:xfrm>
            <a:off x="304920" y="838080"/>
            <a:ext cx="2671560" cy="3843000"/>
            <a:chOff x="304920" y="838080"/>
            <a:chExt cx="2671560" cy="3843000"/>
          </a:xfrm>
        </p:grpSpPr>
        <p:pic>
          <p:nvPicPr>
            <p:cNvPr id="52" name="Picture 2063" descr="декабрь2 lite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26715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064"/>
            <p:cNvSpPr/>
            <p:nvPr/>
          </p:nvSpPr>
          <p:spPr>
            <a:xfrm>
              <a:off x="357840" y="4038480"/>
              <a:ext cx="238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ДЕ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КА</a:t>
              </a: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Б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Р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54" name="Group 2069"/>
          <p:cNvGrpSpPr/>
          <p:nvPr/>
        </p:nvGrpSpPr>
        <p:grpSpPr>
          <a:xfrm>
            <a:off x="3502080" y="2279520"/>
            <a:ext cx="2136600" cy="2401560"/>
            <a:chOff x="3502080" y="2279520"/>
            <a:chExt cx="2136600" cy="2401560"/>
          </a:xfrm>
        </p:grpSpPr>
        <p:pic>
          <p:nvPicPr>
            <p:cNvPr id="55" name="Picture 2066" descr="январь lite"/>
            <p:cNvPicPr/>
            <p:nvPr/>
          </p:nvPicPr>
          <p:blipFill>
            <a:blip r:embed="rId2"/>
            <a:stretch/>
          </p:blipFill>
          <p:spPr>
            <a:xfrm>
              <a:off x="3733920" y="2279520"/>
              <a:ext cx="1904760" cy="17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2067"/>
            <p:cNvSpPr/>
            <p:nvPr/>
          </p:nvSpPr>
          <p:spPr>
            <a:xfrm>
              <a:off x="3502080" y="4038480"/>
              <a:ext cx="213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Arial"/>
                </a:rPr>
                <a:t>Я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Н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Р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grpSp>
        <p:nvGrpSpPr>
          <p:cNvPr id="57" name="Group 2072"/>
          <p:cNvGrpSpPr/>
          <p:nvPr/>
        </p:nvGrpSpPr>
        <p:grpSpPr>
          <a:xfrm>
            <a:off x="6249600" y="1828800"/>
            <a:ext cx="2491200" cy="2852280"/>
            <a:chOff x="6249600" y="1828800"/>
            <a:chExt cx="2491200" cy="2852280"/>
          </a:xfrm>
        </p:grpSpPr>
        <p:pic>
          <p:nvPicPr>
            <p:cNvPr id="58" name="Picture 2070" descr="февраль lite"/>
            <p:cNvPicPr/>
            <p:nvPr/>
          </p:nvPicPr>
          <p:blipFill>
            <a:blip r:embed="rId3"/>
            <a:stretch/>
          </p:blipFill>
          <p:spPr>
            <a:xfrm>
              <a:off x="6316560" y="1828800"/>
              <a:ext cx="21204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2071"/>
            <p:cNvSpPr/>
            <p:nvPr/>
          </p:nvSpPr>
          <p:spPr>
            <a:xfrm>
              <a:off x="6249600" y="4038480"/>
              <a:ext cx="249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Arial"/>
                </a:rPr>
                <a:t>ФЕ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В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ru-RU" sz="3600" spc="-1" strike="noStrike">
                  <a:solidFill>
                    <a:srgbClr val="66ccff"/>
                  </a:solidFill>
                  <a:latin typeface="Arial"/>
                </a:rPr>
                <a:t>Л</a:t>
              </a:r>
              <a:r>
                <a:rPr b="1" lang="en-US" sz="3600" spc="-1" strike="noStrike">
                  <a:solidFill>
                    <a:srgbClr val="66ccff"/>
                  </a:solidFill>
                  <a:latin typeface="Arial"/>
                </a:rPr>
                <a:t>Ь</a:t>
              </a:r>
              <a:endParaRPr b="1" lang="en-US" sz="3600" spc="-1" strike="noStrike">
                <a:solidFill>
                  <a:srgbClr val="3333cc"/>
                </a:solidFill>
                <a:latin typeface="Chicago"/>
              </a:endParaRPr>
            </a:p>
          </p:txBody>
        </p:sp>
      </p:grp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0" descr="Мороз lite"/>
          <p:cNvPicPr/>
          <p:nvPr/>
        </p:nvPicPr>
        <p:blipFill>
          <a:blip r:embed="rId1"/>
          <a:stretch/>
        </p:blipFill>
        <p:spPr>
          <a:xfrm>
            <a:off x="2590920" y="-9360"/>
            <a:ext cx="6553080" cy="57639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6019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от наступил январь - это первый месяц года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второй, средний месяц зим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5383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нвар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крываем календарь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инается январ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январе, в янва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о снегу на дво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- на крыше, на крылечк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лнце в небе голуб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ашем доме топят печ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небо дым идет столб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7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40" descr="ночью зимой lite"/>
          <p:cNvPicPr/>
          <p:nvPr/>
        </p:nvPicPr>
        <p:blipFill>
          <a:blip r:embed="rId1"/>
          <a:stretch/>
        </p:blipFill>
        <p:spPr>
          <a:xfrm>
            <a:off x="3035160" y="0"/>
            <a:ext cx="6102360" cy="6553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5866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амый холодный месяц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 холодно бывает в ясную погоду, когда днём на небе светит солнышко, а ночью - лун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733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лунного света искрится снежо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нварская ночь холод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ушистое облачко, словно в плато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уталась в небе лу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а одиноко плывет в небеса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й зябко в пустой вы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холода люди закрылись в домах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негде укрыться лун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5"/>
          <p:cNvSpPr/>
          <p:nvPr/>
        </p:nvSpPr>
        <p:spPr>
          <a:xfrm>
            <a:off x="152280" y="2286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56" name="Picture 1039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5" descr="Девочка на улице lite"/>
          <p:cNvPicPr/>
          <p:nvPr/>
        </p:nvPicPr>
        <p:blipFill>
          <a:blip r:embed="rId1"/>
          <a:stretch/>
        </p:blipFill>
        <p:spPr>
          <a:xfrm>
            <a:off x="3159000" y="0"/>
            <a:ext cx="5375520" cy="6324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90920" y="5943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кую погоду щечки и носы становятся красными и горят, как будто за них кто-то щеп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мороз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это его и прозвали Мороз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сный нос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324480" y="76320"/>
            <a:ext cx="251460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04200" y="228600"/>
            <a:ext cx="2533680" cy="64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роз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бежал я за оград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Мороз стоит и жд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пошел со мною рядом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и на шаг не отстае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 дворе рубашки наш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веревке с ветром пляшу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бегу - Мороз за мною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белье напал Мороз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трой пылью ледяно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хватил его насквозь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хватил и жёстким сделал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белье заледенело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вь на снег - не упаде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толкни - оно пойде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толкнул едва-едва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стыня пошла снач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рубашка зашагал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топырив рукава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портняжка Моро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лет щеки, режет нос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ер ринулся навстреч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н вскочил ко мне на плеч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ер - всадник ледяной –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вонко свищет за спиной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и мерзлые треща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ни по снегу скрипят.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Квитко Лев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62" name="Picture 13" descr="январь lite"/>
          <p:cNvPicPr/>
          <p:nvPr/>
        </p:nvPicPr>
        <p:blipFill>
          <a:blip r:embed="rId2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когда набегут тучи и повалит снег становиться тепле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ё наоборот! Всё не как летом! При солнышке – холодно, при тучах – тепл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36" descr="январь lite"/>
          <p:cNvPicPr/>
          <p:nvPr/>
        </p:nvPicPr>
        <p:blipFill>
          <a:blip r:embed="rId1"/>
          <a:stretch/>
        </p:blipFill>
        <p:spPr>
          <a:xfrm>
            <a:off x="8534520" y="6292800"/>
            <a:ext cx="609480" cy="565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37" descr="Снеговики на коньках и лыжах lite"/>
          <p:cNvPicPr/>
          <p:nvPr/>
        </p:nvPicPr>
        <p:blipFill>
          <a:blip r:embed="rId2"/>
          <a:stretch/>
        </p:blipFill>
        <p:spPr>
          <a:xfrm>
            <a:off x="3429000" y="984240"/>
            <a:ext cx="5562720" cy="465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38" descr="синички lite"/>
          <p:cNvPicPr/>
          <p:nvPr/>
        </p:nvPicPr>
        <p:blipFill>
          <a:blip r:embed="rId3"/>
          <a:stretch/>
        </p:blipFill>
        <p:spPr>
          <a:xfrm>
            <a:off x="1905120" y="95400"/>
            <a:ext cx="320040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557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елые стих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кружитьс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ложиться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! Снег! Снег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ды снегу зверь и птиц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, конечно, человек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ды серые синичк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морозе мёрзнут птичк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пал снег упал мороз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шка снегом моет но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 щенка на чёрной спинк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ют белые снежинк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ергей Михалк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039" descr="Щенок lite"/>
          <p:cNvPicPr/>
          <p:nvPr/>
        </p:nvPicPr>
        <p:blipFill>
          <a:blip r:embed="rId4"/>
          <a:stretch/>
        </p:blipFill>
        <p:spPr>
          <a:xfrm>
            <a:off x="7010280" y="4349880"/>
            <a:ext cx="1905120" cy="16063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ФЕ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В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8000" spc="-1" strike="noStrike">
                <a:solidFill>
                  <a:srgbClr val="66ccff"/>
                </a:solidFill>
                <a:latin typeface="Arial"/>
              </a:rPr>
              <a:t>Л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февраль lite"/>
          <p:cNvPicPr/>
          <p:nvPr/>
        </p:nvPicPr>
        <p:blipFill>
          <a:blip r:embed="rId1"/>
          <a:stretch/>
        </p:blipFill>
        <p:spPr>
          <a:xfrm>
            <a:off x="2835360" y="1523880"/>
            <a:ext cx="2970000" cy="32004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последний месяц зим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феврале самый глубокий снег и самые большие сугроб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52280" y="6431040"/>
            <a:ext cx="85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снег копился в течении предыдущих зимних месяцев: в Декабре и Январе. Сам Февраль тоже добавил снежку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176" name="Picture 7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нежные сугробы lite"/>
          <p:cNvPicPr/>
          <p:nvPr/>
        </p:nvPicPr>
        <p:blipFill>
          <a:blip r:embed="rId2"/>
          <a:stretch/>
        </p:blipFill>
        <p:spPr>
          <a:xfrm>
            <a:off x="1409760" y="0"/>
            <a:ext cx="6324480" cy="55897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2" descr="Снеговик лепят 2 lite"/>
          <p:cNvPicPr/>
          <p:nvPr/>
        </p:nvPicPr>
        <p:blipFill>
          <a:blip r:embed="rId1"/>
          <a:stretch/>
        </p:blipFill>
        <p:spPr>
          <a:xfrm>
            <a:off x="2362320" y="4680"/>
            <a:ext cx="6781680" cy="5346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943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года становиться мягче, теплее, чем в январ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того снег становиться липким. В такую погоду хорошо строить снежные крепости, лепить снеговиков и снежных баб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76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од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ы не ели, мы не пи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абу снежную лепил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г февральский слабый, слаб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ялся под ру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как раз для снежной баб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жен нам та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м работать было жарко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дто нет зимы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дто взял февраль у март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ёплый день взайм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лыбаясь, как жива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арке, в тиши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тала баба снегов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белом зипу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гния  Бар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1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2" descr="Снежки 1 lite"/>
          <p:cNvPicPr/>
          <p:nvPr/>
        </p:nvPicPr>
        <p:blipFill>
          <a:blip r:embed="rId1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акже хорошо в такую погоду играть в снежк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февраль lite"/>
          <p:cNvPicPr/>
          <p:nvPr/>
        </p:nvPicPr>
        <p:blipFill>
          <a:blip r:embed="rId2"/>
          <a:stretch/>
        </p:blipFill>
        <p:spPr>
          <a:xfrm>
            <a:off x="0" y="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Снежки 2 lite"/>
          <p:cNvPicPr/>
          <p:nvPr/>
        </p:nvPicPr>
        <p:blipFill>
          <a:blip r:embed="rId3"/>
          <a:stretch/>
        </p:blipFill>
        <p:spPr>
          <a:xfrm>
            <a:off x="914400" y="2666880"/>
            <a:ext cx="2687760" cy="32767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8" descr="Вьюга lite"/>
          <p:cNvPicPr/>
          <p:nvPr/>
        </p:nvPicPr>
        <p:blipFill>
          <a:blip r:embed="rId1"/>
          <a:stretch/>
        </p:blipFill>
        <p:spPr>
          <a:xfrm>
            <a:off x="2666880" y="685800"/>
            <a:ext cx="6019920" cy="52848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еще в феврале часто дуют ветры. Они сдувают снег с земл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утят его, несут, кидаю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шь как поет месяц Февраль в сказке про 12 месяце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тры, бури, урага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йте что есть моч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хри, вьюги и бура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ыграйтесь к ночи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облаках трубите громко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йтесь над землею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усть бежит в полях позем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лою змеею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7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57913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ветер не сильный он не может высоко поднять снег - не выше колен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ой ветерок несет снег по земле, заворачивает его, закручив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ется кто-то белый бежит по земле, петляет. Это поземк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евра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уют ветры в феврал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ют в трубах громк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мейкой вьется по земл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ёгкая позем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амуил Марша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6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позёмка"/>
          <p:cNvPicPr/>
          <p:nvPr/>
        </p:nvPicPr>
        <p:blipFill>
          <a:blip r:embed="rId2"/>
          <a:stretch/>
        </p:blipFill>
        <p:spPr>
          <a:xfrm>
            <a:off x="2590920" y="1905120"/>
            <a:ext cx="6286320" cy="326844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ДЕ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8000" spc="-1" strike="noStrike">
                <a:solidFill>
                  <a:srgbClr val="3333cc"/>
                </a:solidFill>
                <a:latin typeface="Arial"/>
              </a:rPr>
              <a:t>Б</a:t>
            </a:r>
            <a:r>
              <a:rPr b="1" lang="en-US" sz="8000" spc="-1" strike="noStrike">
                <a:solidFill>
                  <a:srgbClr val="66ccff"/>
                </a:solidFill>
                <a:latin typeface="Arial"/>
              </a:rPr>
              <a:t>РЬ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декабрь2 lite"/>
          <p:cNvPicPr/>
          <p:nvPr/>
        </p:nvPicPr>
        <p:blipFill>
          <a:blip r:embed="rId1"/>
          <a:stretch/>
        </p:blipFill>
        <p:spPr>
          <a:xfrm>
            <a:off x="2743200" y="762120"/>
            <a:ext cx="3460680" cy="4343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7920" y="556236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днимется ветер посильнее, закрутит снег выше головы, ничего из-за него не видно. Ветер воет, толк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начинается Вьюг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неё много имен: Вьюга, Метель, Пурга, Снежная буря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213336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ыж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ью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вид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сем друг друг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рзнут ще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бегу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гони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пургу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быстр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лькают лыж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все 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ж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ельник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возь куст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еревал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высот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для лыжн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е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домчи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ьше всех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витко Ле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2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Лыжи бегом lite"/>
          <p:cNvPicPr/>
          <p:nvPr/>
        </p:nvPicPr>
        <p:blipFill>
          <a:blip r:embed="rId2"/>
          <a:stretch/>
        </p:blipFill>
        <p:spPr>
          <a:xfrm>
            <a:off x="3276720" y="304920"/>
            <a:ext cx="5333760" cy="43686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ой уж это месяц – феврал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 него в народе говоря: «Вьюги и метели на февраль налетели.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2286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истели метел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тели сне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лила пос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ая пур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озам о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было ме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ю ночь не до с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утром в окош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глянули на са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гробы, в саду, как подушки, лежа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Степан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054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057" descr="blizzardretouched"/>
          <p:cNvPicPr/>
          <p:nvPr/>
        </p:nvPicPr>
        <p:blipFill>
          <a:blip r:embed="rId2"/>
          <a:stretch/>
        </p:blipFill>
        <p:spPr>
          <a:xfrm>
            <a:off x="2133720" y="457200"/>
            <a:ext cx="7010280" cy="526572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54860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на севере, где суровая зима, случаются сильные бури. В это время люди стараются не выходить из своих домов, так как во время бури можно потеряться и замерзнуть даже во дворе, рядом с домом: из-за снега ничего не видно, из-за ветра ничего не слышно. Холодно. Ветер насквозь продувает, колючий снег в лицо кидае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4647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я мглою небо кроет, вихри снежные крут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как зверь она завоет, то заплачет как дит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по кровле обветшалой вдруг соломой зашурши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 как путник запоздалый друг в окошко постуч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лександр Пушк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5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Метель 2"/>
          <p:cNvPicPr/>
          <p:nvPr/>
        </p:nvPicPr>
        <p:blipFill>
          <a:blip r:embed="rId2"/>
          <a:stretch/>
        </p:blipFill>
        <p:spPr>
          <a:xfrm>
            <a:off x="5181480" y="1911240"/>
            <a:ext cx="3886200" cy="3346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8" descr="blizzard 5"/>
          <p:cNvPicPr/>
          <p:nvPr/>
        </p:nvPicPr>
        <p:blipFill>
          <a:blip r:embed="rId3"/>
          <a:stretch/>
        </p:blipFill>
        <p:spPr>
          <a:xfrm>
            <a:off x="152280" y="1909800"/>
            <a:ext cx="4876920" cy="3348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502884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февраля солнышко становиться теплым. Скоро весна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рошо гулять в ясную погоду в феврал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а уже не приносит холода, как январское солнце. Посмотри какое голубое небо!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февраль lite"/>
          <p:cNvPicPr/>
          <p:nvPr/>
        </p:nvPicPr>
        <p:blipFill>
          <a:blip r:embed="rId1"/>
          <a:stretch/>
        </p:blipFill>
        <p:spPr>
          <a:xfrm>
            <a:off x="0" y="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Грабарь Февральская лазурь lite"/>
          <p:cNvPicPr/>
          <p:nvPr/>
        </p:nvPicPr>
        <p:blipFill>
          <a:blip r:embed="rId2"/>
          <a:stretch/>
        </p:blipFill>
        <p:spPr>
          <a:xfrm>
            <a:off x="5157720" y="0"/>
            <a:ext cx="398628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152280" y="64310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у картину художник назвал «Февральская лазурь»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5638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весна поторопится, забежит вперед. Принесет ветер теплый воздух из южных стран. От него снег тает. Лужи стоят на дорогах и тротуарах. На небе тучи. Моросит дождик. Пасмурная погода - пасмурное настроение. Плохо гулять в оттепель. За это её и не жалуют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февраль lite"/>
          <p:cNvPicPr/>
          <p:nvPr/>
        </p:nvPicPr>
        <p:blipFill>
          <a:blip r:embed="rId1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Feodor Vasilyev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441468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гололедица lite"/>
          <p:cNvPicPr/>
          <p:nvPr/>
        </p:nvPicPr>
        <p:blipFill>
          <a:blip r:embed="rId1"/>
          <a:stretch/>
        </p:blipFill>
        <p:spPr>
          <a:xfrm>
            <a:off x="3124080" y="838080"/>
            <a:ext cx="4876920" cy="45482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том вернутся холода, замерзнут луж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ядет сырость из воздуха льдом на дорогах и дорожках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речайте, гололедица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304560"/>
            <a:ext cx="2319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лоледи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идется и не едется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тому что гололеди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зат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лично падается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чему ж ник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 радуется?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алентин Берес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февраль lite"/>
          <p:cNvPicPr/>
          <p:nvPr/>
        </p:nvPicPr>
        <p:blipFill>
          <a:blip r:embed="rId2"/>
          <a:stretch/>
        </p:blipFill>
        <p:spPr>
          <a:xfrm>
            <a:off x="8507520" y="6172200"/>
            <a:ext cx="63648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5" descr="снегопад домик lite"/>
          <p:cNvPicPr/>
          <p:nvPr/>
        </p:nvPicPr>
        <p:blipFill>
          <a:blip r:embed="rId1"/>
          <a:stretch/>
        </p:blipFill>
        <p:spPr>
          <a:xfrm>
            <a:off x="4191120" y="0"/>
            <a:ext cx="447804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172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абрь - это начало зимы. Это первый снежный месяц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лый снег пушис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воздухе кружи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на землю тих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дает, ложи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од утро снег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 забеле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чно пелено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его од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мный лес что шапк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акрылся чуд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аснул под не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пко, непробудно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ли дни корот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нце светит ма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т пришли морозц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има наста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. Сур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2" descr="декабрь2 lite"/>
          <p:cNvPicPr/>
          <p:nvPr/>
        </p:nvPicPr>
        <p:blipFill>
          <a:blip r:embed="rId2"/>
          <a:stretch/>
        </p:blipFill>
        <p:spPr>
          <a:xfrm>
            <a:off x="8521560" y="609588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декабрь2 lite"/>
          <p:cNvPicPr/>
          <p:nvPr/>
        </p:nvPicPr>
        <p:blipFill>
          <a:blip r:embed="rId3"/>
          <a:stretch/>
        </p:blipFill>
        <p:spPr>
          <a:xfrm>
            <a:off x="8521560" y="609588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о снег выпадает в конце осени -  в ноябре и даже в октябр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обычно первый осенний снег тает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вот декабрьский снег будет лежать долго - до весн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Ранний снег"/>
          <p:cNvPicPr/>
          <p:nvPr/>
        </p:nvPicPr>
        <p:blipFill>
          <a:blip r:embed="rId2"/>
          <a:stretch/>
        </p:blipFill>
        <p:spPr>
          <a:xfrm>
            <a:off x="762120" y="808200"/>
            <a:ext cx="7619760" cy="40575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2" descr="снегопад lite"/>
          <p:cNvPicPr/>
          <p:nvPr/>
        </p:nvPicPr>
        <p:blipFill>
          <a:blip r:embed="rId1"/>
          <a:stretch/>
        </p:blipFill>
        <p:spPr>
          <a:xfrm>
            <a:off x="2971800" y="25560"/>
            <a:ext cx="6172200" cy="5991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60195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люди, а особенно детиш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304560"/>
            <a:ext cx="3200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ма! глянь-ка из окошка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ть, вчера недаром кош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мывала нос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язи нет, весь двор одело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ветлело, побелело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но, есть мороз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колючий, светло-си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етвям развешен иней 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гляди хоть ты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овно кто-то торова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жей, белой, пухлой ва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убрал кус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ж теперь не будет спор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салазки да и в гор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ело бежать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да, мама? Не откажешь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сама, наверно, скажеш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"Ну, скорей гулять!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Афанасий Ф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56386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растения – тёплым одеялом укрывает он их до весн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уются снегу животные – он прячет их домики и нор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ерутся туда жгучие мороз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задуют пронизывающие ветры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снег еще прячет и последние колоски с зернышками, желуди и орешки, рассыпанные по земле. Холодно и голодно зимой лесному нар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saac Levitan. Snowbound Garden."/>
          <p:cNvPicPr/>
          <p:nvPr/>
        </p:nvPicPr>
        <p:blipFill>
          <a:blip r:embed="rId2"/>
          <a:srcRect l="0" t="19829" r="0" b="0"/>
          <a:stretch/>
        </p:blipFill>
        <p:spPr>
          <a:xfrm>
            <a:off x="0" y="0"/>
            <a:ext cx="9144000" cy="54975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Кормушка lite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524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тичкам, оставшимся зимовать с нами, становиться трудно искать себе еду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этому люди вешают для них специальные домики - кормуш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ладывают туда зернышки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ечки и орешки. Вешают кусочки сал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шайте птички! Угощайтесь белочки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905120" y="0"/>
            <a:ext cx="2590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905120" y="15228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28600" y="228600"/>
            <a:ext cx="2133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ой у нас обычай: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ь выпадет снежок,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щатый домик птичий,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есить на сучок.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М Пожарова 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28600" y="6324480"/>
            <a:ext cx="89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любят такие лакомства синички и воробьи, но прилетают подкрепиться к кормушкам голуби, снегири, поползни, вороны и сойки.</a:t>
            </a:r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89" name="Picture 10" descr="декабрь2 lite"/>
          <p:cNvPicPr/>
          <p:nvPr/>
        </p:nvPicPr>
        <p:blipFill>
          <a:blip r:embed="rId2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334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разную погоду из туч идет разный снег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да холодно и нет ветра падают и кружатся легкие и красивые снежинки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они разные, у каждой свой узор. Если в это время выглянет солнышко, то заблестят снежинки маленькими звездочкам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" y="838080"/>
            <a:ext cx="32767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жинки вьются и кружатся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рвутся в комнату мою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и летят, легки и ломки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ослепительнее звезд,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будто в синие потёмки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рожащий перекинут мост.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     </a:t>
            </a:r>
            <a:r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блестящий</a:t>
            </a:r>
            <a:endParaRPr b="1" lang="en-US" sz="1000" spc="-1" strike="noStrike">
              <a:solidFill>
                <a:srgbClr val="3333cc"/>
              </a:solidFill>
              <a:latin typeface="Chicago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лена Благинина</a:t>
            </a:r>
            <a:endParaRPr b="1" lang="en-US" sz="1600" spc="-1" strike="noStrike">
              <a:solidFill>
                <a:srgbClr val="3333cc"/>
              </a:solidFill>
              <a:latin typeface="Chicago"/>
            </a:endParaRPr>
          </a:p>
        </p:txBody>
      </p:sp>
      <p:pic>
        <p:nvPicPr>
          <p:cNvPr id="93" name="Picture 8" descr="декабрь2 lite"/>
          <p:cNvPicPr/>
          <p:nvPr/>
        </p:nvPicPr>
        <p:blipFill>
          <a:blip r:embed="rId1"/>
          <a:stretch/>
        </p:blipFill>
        <p:spPr>
          <a:xfrm>
            <a:off x="8597880" y="6172200"/>
            <a:ext cx="54612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Снежинки lite"/>
          <p:cNvPicPr/>
          <p:nvPr/>
        </p:nvPicPr>
        <p:blipFill>
          <a:blip r:embed="rId2"/>
          <a:stretch/>
        </p:blipFill>
        <p:spPr>
          <a:xfrm>
            <a:off x="3352680" y="1150920"/>
            <a:ext cx="5791320" cy="3328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06:12:20Z</dcterms:created>
  <dc:creator>Admin</dc:creator>
  <dc:description/>
  <dc:language>en-US</dc:language>
  <cp:lastModifiedBy>LEGION2</cp:lastModifiedBy>
  <dcterms:modified xsi:type="dcterms:W3CDTF">2015-04-24T07:47:12Z</dcterms:modified>
  <cp:revision>205</cp:revision>
  <dc:subject/>
  <dc:title>ЗИМНИЕ МЕСЯЦЫ</dc:title>
</cp:coreProperties>
</file>