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4AA0-76C9-4535-BBB5-43D32B1EB0CC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Презентация к уроку «Окружающий мир» в 1 классе по теме: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«Зима. Покой природы.»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Зимние меся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C741-B4E9-495F-B712-51BBEFDD38FD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на улице не очень холодно, а снег пошел сильнее, гуще, то становиться еще теплее. Снежинки слипаются вместе в мягкие хлопья снег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льный снег называют снегопад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негопа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нь наста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вдруг стемнел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вет зажгли. Глядим в окн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 ложится белый-белы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чего же так темно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алентин Берест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2F27-0131-48E0-95BE-8BE25BD826F4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когда дует ветер, из туч сыплется крупа - маленькие плотные комочки снега. Они очень похожи по форме и размеру на пшено или гречку, поэтому такой снег и прозвали - круп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634D-1223-433E-ABB9-F5957C95C798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29C3-AEE2-4445-BFB0-8FFDD26E2EA0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бар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ейА иногда снег не идет из тучи, а намерзает прямо на веточках деревье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иней. Весь лес становиться сказочно белы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ерё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ая берё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 моим окн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акрылась снегом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чно сереб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пушистых ветк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жною кайм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устились ки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ой бахром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стоит бере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нной тишин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 горят снежин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золотом ог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заря, лени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ходя кругом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ыпает ве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м серебр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ергей Есени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E040-5EAF-4801-9EEA-58D6B9FFE5C9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городе в это время тоже красив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ще не скоро быть вес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има мазками смелы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, точно в сказке иль во сн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ветам кроет белы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ветет фонарь и провод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бор – как алебастровый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дряхлый столб, как никогд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годня убран астрами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все меха – сплошной песец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шубы стали белые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у и зима, ну, сорванец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у как ты это сделал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Григор Вите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41AD-040E-472B-883F-4D1D7D341730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ти колыбельн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 тепло укутал лес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ный сказок и чуде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ей скрыл березок кро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 алмазные коро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ятали под шапки лб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леграфные столб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зеленый бархат 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убки белые наде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яцов 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0B8F-2ED5-454C-BB7E-F24B5260F8A4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и, ручейки, озера и пруды в декабре покрываются льдом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ачале он тоненький, слабый и по нему пока нельзя ходить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к середине декабря, он обычно становиться крепч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но доставать коньки. Ура, катаемся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кат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лестят коньки, блестит каток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шистый снег искритс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день коньки свои, дружок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пробуй прокатить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скай тебя щипнет мороз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отри, не испугай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сть заморозит он до слез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му не поддавайся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отступай, скользи вперед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ти быстрее птиц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роз сердитый отста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тех, кто не боится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. Донник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абрь - это самый темный месяц. В это время самые длинные ночи и самые короткие дни. Солнышко встает поздно и прячется рано. Высоко не поднимается, так и ходит по краю неб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чь зимой -  как черный кот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нь - как серенькая мыш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(летом все на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чь - как серенькая мышь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нь – большой блестящий ко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. С. Соловье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E56B-E80B-4E91-AA51-1BE9F9B83EC3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как только ляжет снег, сразу становиться светлее и радостнее, несмотря на такие короткие д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такое за окном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азу в доме посветлело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нег лежит ковром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ый первый, самый белый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Е. Трутне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149C-F4C2-441F-920E-874A27328B40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еще декабрь это последний месяц год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этом месяце мы наряжаем ёлку к приходу Нового года и нового месяца - январ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екабр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декабре, в декаб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еревья в серебр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шу речку, словно в сказк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ночь вымостил мороз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новил коньки, салаз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лку из лесу приве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лка плакала снач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домашнего теп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тром плакать перестал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ышала, ожи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уть дрожат ее игол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ветвях огни зажглись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о лесенке, по ел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гоньки взбегают ввыс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аршак Самуи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1F8A-CCF1-4B28-8767-7ACD26AA826E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Я</a:t>
            </a:r>
            <a:r>
              <a:rPr b="0" lang="ru-RU" sz="1200" spc="-1" strike="noStrike">
                <a:solidFill>
                  <a:srgbClr val="66ccff"/>
                </a:solidFill>
                <a:latin typeface="Times New Roman"/>
              </a:rPr>
              <a:t>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1200" spc="-1" strike="noStrike">
                <a:solidFill>
                  <a:srgbClr val="66ccff"/>
                </a:solidFill>
                <a:latin typeface="Times New Roman"/>
              </a:rPr>
              <a:t>Р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E5BC-B41F-4799-8A3B-6C71F1323539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зиме, как и в других временах года, три месяца. Знакомься: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кабр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н самый старый, самый последний и старший из месяцев в году.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нвар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н первый, самый младший месяц нового года. Видишь, он стоит с новогодней ёлочкой. Но в зиме он второй, средний месяц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враль – последний месяц зим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теперь давай узнаем о них побольш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3416-40A5-454C-A6E4-5182878120C0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вот наступил январь - это первый месяц год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второй, средний месяц зи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Январ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рываем календарь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инается январ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январе, в янва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 снегу на двор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 - на крыше, на крылеч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це в небе голуб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нашем доме топят печ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небо дым идет столб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5C7B-357D-4AB7-81CB-0B1316029246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4110-40AD-49C2-B711-3A97DBF648DD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амый холодный месяц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 холодно бывает в ясную погоду, когда днём на небе светит солнышко, а ночью - лу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лунного света искрится снежок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нварская ночь холод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ушистое облачко, словно в платок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талась в небе лу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а одиноко плывет в небесах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й зябко в пустой вышин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холода люди закрылись в домах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негде укрыться лун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4573-E208-4B4B-B6FD-4FD5628E75CB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акую погоду щечки и носы становятся красными и горят, как будто за них кто-то щепа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мороз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это его и прозвали Моро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сный но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когда набегут тучи и повалит снег становиться тепле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ё наоборот! Всё не как летом! При солнышке – холодно, при тучах – тепл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елые стих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 кружитьс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 ложиться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! Снег! Снег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ды снегу зверь и птиц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, конечно, человек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ды серые синичк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морозе мёрзнут птич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ал снег упал мороз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шка снегом моет но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щенка на чёрной спинк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ют белые снежинк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ергей Михалк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2921-CD30-4846-883A-A75E92261057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ФЕ</a:t>
            </a:r>
            <a:r>
              <a:rPr b="0" lang="ru-RU" sz="1200" spc="-1" strike="noStrike">
                <a:solidFill>
                  <a:srgbClr val="66ccff"/>
                </a:solidFill>
                <a:latin typeface="Times New Roman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66ccff"/>
                </a:solidFill>
                <a:latin typeface="Times New Roman"/>
              </a:rPr>
              <a:t>Л</a:t>
            </a:r>
            <a:r>
              <a:rPr b="0" lang="en-US" sz="1200" spc="-1" strike="noStrike">
                <a:solidFill>
                  <a:srgbClr val="66ccff"/>
                </a:solidFill>
                <a:latin typeface="Times New Roman"/>
              </a:rPr>
              <a:t>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148E-9483-416D-959D-2B9AAD7EEF9E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8D77-B8E3-4961-8066-68406C64DB35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оследний месяц зим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феврале самый глубокий снег и самые большие сугроб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года становиться мягче, теплее, чем в январ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того снег становиться липким. В такую погоду хорошо строить снежные крепости, лепить снеговиков и снежных баб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 од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ы не ели, мы не пил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бу снежную лепил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 февральский слабый, слаб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ялся под рук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как раз для снежной баб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ужен нам так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м работать было жарко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то нет зимы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то взял февраль у мар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ёплый день взай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ыбаясь, как жива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арке, в тишин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тала баба снегов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белом зипу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гния  Бар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2232-028A-4027-999F-713D87212FB6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также хорошо в такую погоду играть в снежк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8CFC-61CE-4E85-B032-482AFB1A5FD5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B108-95A1-4609-B346-0DE340C2050B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еще в феврале часто дуют ветры. Они сдувают снег с земл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тят его, несут, кидаю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мнишь как поет месяц Февраль в сказке про 12 месяцев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тры, бури, ураган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уйте что есть мочи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хри, вьюги и буран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ыграйтесь к ночи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блаках трубите громко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йтесь над земле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сть бежит в полях позем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ою змеею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ветер не сильный он не может высоко поднять снег - не выше колен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ой ветерок несет снег по земле, заворачивает его, закручива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ется кто-то белый бежит по земле, петляет. Это поземк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еврал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уют ветры в феврале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ют в трубах громк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мейкой вьется по земл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ёгкая поземк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3656-AB06-45FA-9E54-B6BB282CE4D9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Д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А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Б</a:t>
            </a:r>
            <a:r>
              <a:rPr b="0" lang="en-US" sz="1200" spc="-1" strike="noStrike">
                <a:solidFill>
                  <a:srgbClr val="66ccff"/>
                </a:solidFill>
                <a:latin typeface="Times New Roman"/>
              </a:rPr>
              <a:t>Р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6C9A-AABB-4601-B7F0-38C192D68BA8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43A7-1DA9-4C2D-BC77-5B5E90786E13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однимется ветер посильнее, закрутит снег выше головы, ничего из-за него не видно. Ветер воет, толка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начинается Вьюг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неё много имен: Вьюга, Метель, Пурга, Снежная бур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ыжн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ью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вид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сем друг дру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знут ще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бегу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гони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пургу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быстр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ькают лыж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все ближ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ж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ж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ельник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возь куст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еревал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выс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 для лыж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е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то домчи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ньше всех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витко Ле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ой уж это месяц – февраль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 него в народе говоря: «Вьюги и метели на февраль налетели.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ольшая пур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истели метел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тели сне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лила пос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ая пур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озам он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было ме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ю ночь не до сн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утром в окошк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глянули на са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гробы, в саду, как подушки, лежа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Степа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E94D-4ABF-4F2D-8E0D-C56492A59DFA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443C-ABB3-4884-A200-1E3AA13F15E7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на севере, где суровая зима, случаются сильные бури. В это время люди стараются не выходить из своих домов, так как во время бури можно потеряться и замерзнуть даже во дворе, рядом с домом: из-за снега ничего не видно, из-за ветра ничего не слышно. Холодно. Ветер насквозь продувает, колючий снег в лицо кида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ря мглою небо кроет, вихри снежные крут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 как зверь она завоет, то заплачет как дит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 по кровле обветшалой вдруг соломой зашурши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 как путник запоздалый друг в окошко постуч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лександр Пушки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8EA3-18A5-4131-AFF0-4F2D646A297F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онце февраля солнышко становиться теплым. Скоро весна!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орошо гулять в ясную погоду в феврал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а уже не приносит холода, как январское солнце. Посмотри какое голубое небо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5A80-F957-4BF1-BC1D-8F10225A2780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гда весна поторопится, забежит вперед. Принесет ветер теплый воздух из южных стран. От него снег тает. Лужи стоят на дорогах и тротуарах. На небе тучи. Моросит дождик. Пасмурная погода - пасмурное настроение. Плохо гулять в оттепель. За это её и не жалую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отом вернутся холода, замерзнут луж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ядет сырость из воздуха льдом на дорогах и дорожка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тречайте, гололедица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лоледи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идется и не едется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ому что гололедиц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зат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лично падается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ж ник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радуется?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алентин Берес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60F0-E9D4-45AC-8C6A-ED56AFE237BF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абрь - это начало зимы. Это первый снежный месяц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ый снег пушист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воздухе кружи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на землю тих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дает, ложи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под утро снег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е забеле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чно пелено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его одел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ный лес что шап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акрылся чуд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заснул под не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епко, непробудно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ли дни кор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це светит ма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т пришли морозц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зима наст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. Сур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E8A2-4BF4-44BC-A0CB-AD75CBF78122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E790-0C1B-4019-931C-C417868D829F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ен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нний сне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о снег выпадает в конце осени -  в ноябре и даже в октябр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обычно первый осенний снег та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вот декабрьский снег будет лежать долго - до вес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дуются снегу люди, а особенно детиш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ма! глянь-ка из окошка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ть, вчера недаром кош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ывала нос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язи нет, весь двор одело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ветлело, побелело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но, есть мороз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колючий, светло-си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ветвям развешен иней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гляди хоть ты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вно кто-то тороват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ежей, белой, пухлой ват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убрал кус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ж теперь не будет спор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салазки да и в гор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село бежать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да, мама? Не откажешь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сама, наверно, скажеш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Ну, скорей гулять!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фанасий Ф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96F1-5DFE-426C-A4DF-5EF002BA1C00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30C8-7A0D-4284-A74F-D699645FAE0D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аак Левит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несённый снегом пар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Снег земле кормилице, что теплая шуб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адуются снегу растения – тёплым одеялом укрывает он их до весны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адуются снегу животные – он прячет их домики и норки.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е заберутся туда жгучие морозы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Не задуют пронизывающие ветры.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о снег еще прячет и последние колоски с зернышками, желуди и орешки, рассыпанные по земле. Холодно и голодно зимой лесному народу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тичкам, оставшимся зимовать с нами, становиться трудно искать себе еду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люди вешают для них специальные домики - кормуш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ладывают туда зернышки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ечки и орешки. Вешают кусочки сал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шайте птички! Угощайтесь белочки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BF01-E2EC-4F72-BD7D-13EFE66A2EA7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зную погоду из туч идет разный снег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гда холодно и нет ветра падают и кружатся легкие и красивые снежин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они разные, у каждой свой узор. Если в это время выглянет солнышко, то заблестят снежинки маленькими звездочк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B3F9-4954-49B5-BE13-3094B96E3AD0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EF08-FCEB-4091-BCFD-0F58FCBE1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8153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210120"/>
            <a:ext cx="8153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F5C8-29E3-4ED0-8C36-C81C5F24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0676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21012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06760" y="321012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B849-765D-4919-94B8-9A853762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5480" y="30456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42000" y="30456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21012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5480" y="321012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42000" y="321012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80A3-ED09-4922-9BF6-87CD371A0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AADF-1B20-4332-BCAD-CEBAF0AB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A123-8DFD-4A9E-BC41-002312D2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9787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06760" y="304560"/>
            <a:ext cx="39787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84BF-3B08-477F-8B7B-50056AC6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D89D-1785-4341-8998-18F01EA1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019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8148-A3AE-4EAA-9341-2FDC713F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06760" y="304560"/>
            <a:ext cx="39787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21012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2D64-02A0-4C9D-ACAD-7451D09E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9787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0676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06760" y="321012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66D8-A1BA-418E-9ECF-4C23A61F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0676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210120"/>
            <a:ext cx="8153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EC67-25B1-48F6-A4F0-8DA7716E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FA00-1CC7-4CD7-B874-B7C3018DD8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резентация к уроку «Окружающий мир» в 1 классе по теме: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«Зима. Покой природы.»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имние месяц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на улице не очень холодно, а снег пошел сильнее, гуще, то становиться еще теплее. Снежинки слипаются вместе в мягкие хлопья снег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льный снег называют снегопадом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304560"/>
            <a:ext cx="3809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негопа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нь наста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вдруг стемнел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ет зажгли. Глядим в окн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нег ложится белый-белы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чего же так темно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алентин Берест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228600" y="624852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99" name="Picture 15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Снегопад дома lite"/>
          <p:cNvPicPr/>
          <p:nvPr/>
        </p:nvPicPr>
        <p:blipFill>
          <a:blip r:embed="rId2"/>
          <a:stretch/>
        </p:blipFill>
        <p:spPr>
          <a:xfrm>
            <a:off x="4116240" y="0"/>
            <a:ext cx="5027760" cy="59436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60195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когда дует ветер, из туч сыплется крупа - маленькие плотные комочки снега. Они очень похожи по форме и размеру на пшено или гречку, поэтому такой снег и прозвали - крупа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33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35" descr="Снежная крупа lite"/>
          <p:cNvPicPr/>
          <p:nvPr/>
        </p:nvPicPr>
        <p:blipFill>
          <a:blip r:embed="rId2"/>
          <a:stretch/>
        </p:blipFill>
        <p:spPr>
          <a:xfrm>
            <a:off x="3362400" y="152280"/>
            <a:ext cx="5553000" cy="57150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иногда снег не идет из тучи, а намерзает прямо на веточках деревьев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иней. Весь лес становиться сказочно белым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304560"/>
            <a:ext cx="21337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ерё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елая берё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 моим окн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накрылась снегом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очно серебро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пушистых ветка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жною кайм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пустились кист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елой бахромо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стоит бере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сонной тишин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 горят снежинк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золотом огн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 заря, ленив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ходя кругом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сыпает вет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вым серебр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ергей Есени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0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Грабарь Иней lite"/>
          <p:cNvPicPr/>
          <p:nvPr/>
        </p:nvPicPr>
        <p:blipFill>
          <a:blip r:embed="rId2"/>
          <a:stretch/>
        </p:blipFill>
        <p:spPr>
          <a:xfrm>
            <a:off x="2133720" y="353880"/>
            <a:ext cx="7010280" cy="536112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городе в это время тоже красиво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ще не скоро быть весн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има мазками смелы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е, точно в сказке иль во сн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ветам кроет белым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ветет фонарь и провода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бор – как алебастровый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дряхлый столб, как никогд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егодня убран астрами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все меха – сплошной песец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е шубы стали белые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у и зима, ну, сорванец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у как ты это сделала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Григор Вите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034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35" descr="Иней в городе lite"/>
          <p:cNvPicPr/>
          <p:nvPr/>
        </p:nvPicPr>
        <p:blipFill>
          <a:blip r:embed="rId2"/>
          <a:stretch/>
        </p:blipFill>
        <p:spPr>
          <a:xfrm>
            <a:off x="2819520" y="387360"/>
            <a:ext cx="6324480" cy="54864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518112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т как выглядит иней, если посмотреть на него близко-близко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3045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им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угом все белое и синее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в тонком кружеве тене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 лес укрыт пушистым инеем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снул до первых вешних дней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снятся сны ему спокой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птичьи песни на зар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оят безмолвно сосны строй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тяжелом зимнем серебр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кребицкий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029"/>
          <p:cNvSpPr/>
          <p:nvPr/>
        </p:nvSpPr>
        <p:spPr>
          <a:xfrm>
            <a:off x="228600" y="5959440"/>
            <a:ext cx="838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ей часто бывает, когда на землю ложится туман. Туман очень похож на облака и тучи. Они все состоят из очень, очень маленьких капелек воды. Таких маленьких, что их не видно. Они могут висеть в воздухе и не падать. В облаке они сталкиваются, замерзают и получаются красивые снежин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в тумане они налипают на холодные ветки деревьев, провода, крыши, стены и замерзают на них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19" name="Picture 1034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35" descr="Кристаллы изморози lite"/>
          <p:cNvPicPr/>
          <p:nvPr/>
        </p:nvPicPr>
        <p:blipFill>
          <a:blip r:embed="rId2"/>
          <a:stretch/>
        </p:blipFill>
        <p:spPr>
          <a:xfrm>
            <a:off x="5157720" y="0"/>
            <a:ext cx="3986280" cy="59436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5562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ки, ручейки, озера и пруды в декабре покрываются льдом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начале он тоненький, слабый и по нему пока нельзя ходить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к середине декабря, он обычно становиться крепч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жно доставать коньки. Ура, катаемся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304560"/>
            <a:ext cx="3230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катк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лестят коньки, блестит каток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ушистый снег искрится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день коньки свои, дружок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пробуй прокатитьс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ускай тебя щипнет мороз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мотри, не испугайс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усть заморозит он до слез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му не поддавайся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отступай, скользи вперед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ети быстрее птиц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роз сердитый отста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 тех, кто не боится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. Доннико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8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Коньки мишка lite"/>
          <p:cNvPicPr/>
          <p:nvPr/>
        </p:nvPicPr>
        <p:blipFill>
          <a:blip r:embed="rId2"/>
          <a:stretch/>
        </p:blipFill>
        <p:spPr>
          <a:xfrm>
            <a:off x="3973680" y="152280"/>
            <a:ext cx="4692600" cy="541044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1" descr="снегопад, темно lite"/>
          <p:cNvPicPr/>
          <p:nvPr/>
        </p:nvPicPr>
        <p:blipFill>
          <a:blip r:embed="rId1"/>
          <a:srcRect l="2744" t="0" r="0" b="0"/>
          <a:stretch/>
        </p:blipFill>
        <p:spPr>
          <a:xfrm>
            <a:off x="5334120" y="0"/>
            <a:ext cx="380988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4876560"/>
            <a:ext cx="53341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кабрь - это самый темный месяц. В это время самые длинные ночи и самые короткие дни. Солнышко встает поздно и прячется рано. Высоко не поднимается, так и ходит по краю неба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28600"/>
            <a:ext cx="35812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чь зимой -  как черный кот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нь - как серенькая мыш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ru-RU" sz="1400" spc="-1" strike="noStrike">
                <a:solidFill>
                  <a:srgbClr val="808080"/>
                </a:solidFill>
                <a:latin typeface="Times New Roman"/>
              </a:rPr>
              <a:t>(летом все наоборот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чь - как серенькая мышь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нь – большой блестящий ко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. С. Соловье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52280" y="6248520"/>
            <a:ext cx="518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на самом севере, в Арктике - вообще солнца не видно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ю зиму темно - полярная ночь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31" name="Picture 10" descr="декабрь2 lite"/>
          <p:cNvPicPr/>
          <p:nvPr/>
        </p:nvPicPr>
        <p:blipFill>
          <a:blip r:embed="rId2"/>
          <a:stretch/>
        </p:blipFill>
        <p:spPr>
          <a:xfrm>
            <a:off x="0" y="0"/>
            <a:ext cx="546120" cy="6858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57150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как только ляжет снег, сразу становиться светлее и радостнее, несмотря на такие короткие дн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128240"/>
            <a:ext cx="312408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то такое за окном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разу в доме посветлело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о снег лежит ковром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мый первый, самый белый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Е. Трутне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034" descr="декабрь2 lite"/>
          <p:cNvPicPr/>
          <p:nvPr/>
        </p:nvPicPr>
        <p:blipFill>
          <a:blip r:embed="rId1"/>
          <a:stretch/>
        </p:blipFill>
        <p:spPr>
          <a:xfrm>
            <a:off x="0" y="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36" descr="Первый снег lite"/>
          <p:cNvPicPr/>
          <p:nvPr/>
        </p:nvPicPr>
        <p:blipFill>
          <a:blip r:embed="rId2"/>
          <a:stretch/>
        </p:blipFill>
        <p:spPr>
          <a:xfrm>
            <a:off x="4343400" y="0"/>
            <a:ext cx="4761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2" descr="Ёлка украшенная"/>
          <p:cNvPicPr/>
          <p:nvPr/>
        </p:nvPicPr>
        <p:blipFill>
          <a:blip r:embed="rId1"/>
          <a:stretch/>
        </p:blipFill>
        <p:spPr>
          <a:xfrm>
            <a:off x="2438280" y="1143000"/>
            <a:ext cx="6199200" cy="40114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54860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еще декабрь это последний месяц года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этом месяце мы наряжаем ёлку к приходу Нового года и нового месяца - января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228240"/>
            <a:ext cx="2667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кабр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декабре, в декабр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е деревья в серебр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шу речку, словно в сказк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 ночь вымостил мороз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новил коньки, салазк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лку из лесу привез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лка плакала снача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домашнего тепл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тром плакать перестал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дышала, ожил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уть дрожат ее иголк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ветвях огни зажглись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к по лесенке, по елк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гоньки взбегают ввыс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Маршак Самуил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28600" y="6066000"/>
            <a:ext cx="8458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читают, что месяц декабрь и старый год заканчиваются ночью, когда наступает 12 часов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 в эту последнюю ночь декабря многие взрослые и даже детишки не спя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встречают Новый год, гуляют, устраивают фейерверки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42" name="Picture 8" descr="декабрь2 lite"/>
          <p:cNvPicPr/>
          <p:nvPr/>
        </p:nvPicPr>
        <p:blipFill>
          <a:blip r:embed="rId2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5714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cc"/>
                </a:solidFill>
                <a:latin typeface="Arial"/>
              </a:rPr>
              <a:t>Я</a:t>
            </a:r>
            <a:r>
              <a:rPr b="1" lang="ru-RU" sz="8000" spc="-1" strike="noStrike">
                <a:solidFill>
                  <a:srgbClr val="66ccff"/>
                </a:solidFill>
                <a:latin typeface="Arial"/>
              </a:rPr>
              <a:t>Н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8000" spc="-1" strike="noStrike">
                <a:solidFill>
                  <a:srgbClr val="66ccff"/>
                </a:solidFill>
                <a:latin typeface="Arial"/>
              </a:rPr>
              <a:t>РЬ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январь lite"/>
          <p:cNvPicPr/>
          <p:nvPr/>
        </p:nvPicPr>
        <p:blipFill>
          <a:blip r:embed="rId1"/>
          <a:stretch/>
        </p:blipFill>
        <p:spPr>
          <a:xfrm>
            <a:off x="3086280" y="1828800"/>
            <a:ext cx="2971800" cy="274320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51814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зиме, как и в других временах года, три месяца. Знакомься:</a:t>
            </a:r>
            <a:br>
              <a:rPr sz="16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кабр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он самый старый, самый последний и старший из месяцев в году.</a:t>
            </a:r>
            <a:br>
              <a:rPr sz="16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нвар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он первый, самый младший месяц нового года. Видишь, он стоит с новогодней ёлочкой. Но в зиме он второй, средний месяц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евраль – последний месяц зимы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теперь давай узнаем о них побольш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065"/>
          <p:cNvGrpSpPr/>
          <p:nvPr/>
        </p:nvGrpSpPr>
        <p:grpSpPr>
          <a:xfrm>
            <a:off x="304920" y="838080"/>
            <a:ext cx="2671560" cy="3843000"/>
            <a:chOff x="304920" y="838080"/>
            <a:chExt cx="2671560" cy="3843000"/>
          </a:xfrm>
        </p:grpSpPr>
        <p:pic>
          <p:nvPicPr>
            <p:cNvPr id="52" name="Picture 2063" descr="декабрь2 lite"/>
            <p:cNvPicPr/>
            <p:nvPr/>
          </p:nvPicPr>
          <p:blipFill>
            <a:blip r:embed="rId1"/>
            <a:stretch/>
          </p:blipFill>
          <p:spPr>
            <a:xfrm>
              <a:off x="304920" y="838080"/>
              <a:ext cx="267156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2064"/>
            <p:cNvSpPr/>
            <p:nvPr/>
          </p:nvSpPr>
          <p:spPr>
            <a:xfrm>
              <a:off x="357840" y="4038480"/>
              <a:ext cx="238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Arial"/>
                </a:rPr>
                <a:t>ДЕ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КА</a:t>
              </a:r>
              <a:r>
                <a:rPr b="1" lang="en-US" sz="3600" spc="-1" strike="noStrike">
                  <a:solidFill>
                    <a:srgbClr val="3333cc"/>
                  </a:solidFill>
                  <a:latin typeface="Arial"/>
                </a:rPr>
                <a:t>Б</a:t>
              </a:r>
              <a:r>
                <a:rPr b="1" lang="en-US" sz="3600" spc="-1" strike="noStrike">
                  <a:solidFill>
                    <a:srgbClr val="66ccff"/>
                  </a:solidFill>
                  <a:latin typeface="Arial"/>
                </a:rPr>
                <a:t>РЬ</a:t>
              </a:r>
              <a:endParaRPr b="1" lang="en-US" sz="3600" spc="-1" strike="noStrike">
                <a:solidFill>
                  <a:srgbClr val="3333cc"/>
                </a:solidFill>
                <a:latin typeface="Chicago"/>
              </a:endParaRPr>
            </a:p>
          </p:txBody>
        </p:sp>
      </p:grpSp>
      <p:grpSp>
        <p:nvGrpSpPr>
          <p:cNvPr id="54" name="Group 2069"/>
          <p:cNvGrpSpPr/>
          <p:nvPr/>
        </p:nvGrpSpPr>
        <p:grpSpPr>
          <a:xfrm>
            <a:off x="3502080" y="2279520"/>
            <a:ext cx="2136600" cy="2401560"/>
            <a:chOff x="3502080" y="2279520"/>
            <a:chExt cx="2136600" cy="2401560"/>
          </a:xfrm>
        </p:grpSpPr>
        <p:pic>
          <p:nvPicPr>
            <p:cNvPr id="55" name="Picture 2066" descr="январь lite"/>
            <p:cNvPicPr/>
            <p:nvPr/>
          </p:nvPicPr>
          <p:blipFill>
            <a:blip r:embed="rId2"/>
            <a:stretch/>
          </p:blipFill>
          <p:spPr>
            <a:xfrm>
              <a:off x="3733920" y="2279520"/>
              <a:ext cx="1904760" cy="17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2067"/>
            <p:cNvSpPr/>
            <p:nvPr/>
          </p:nvSpPr>
          <p:spPr>
            <a:xfrm>
              <a:off x="3502080" y="4038480"/>
              <a:ext cx="213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333cc"/>
                  </a:solidFill>
                  <a:latin typeface="Arial"/>
                </a:rPr>
                <a:t>Я</a:t>
              </a:r>
              <a:r>
                <a:rPr b="1" lang="ru-RU" sz="3600" spc="-1" strike="noStrike">
                  <a:solidFill>
                    <a:srgbClr val="66ccff"/>
                  </a:solidFill>
                  <a:latin typeface="Arial"/>
                </a:rPr>
                <a:t>Н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1" lang="en-US" sz="3600" spc="-1" strike="noStrike">
                  <a:solidFill>
                    <a:srgbClr val="66ccff"/>
                  </a:solidFill>
                  <a:latin typeface="Arial"/>
                </a:rPr>
                <a:t>РЬ</a:t>
              </a:r>
              <a:endParaRPr b="1" lang="en-US" sz="3600" spc="-1" strike="noStrike">
                <a:solidFill>
                  <a:srgbClr val="3333cc"/>
                </a:solidFill>
                <a:latin typeface="Chicago"/>
              </a:endParaRPr>
            </a:p>
          </p:txBody>
        </p:sp>
      </p:grpSp>
      <p:grpSp>
        <p:nvGrpSpPr>
          <p:cNvPr id="57" name="Group 2072"/>
          <p:cNvGrpSpPr/>
          <p:nvPr/>
        </p:nvGrpSpPr>
        <p:grpSpPr>
          <a:xfrm>
            <a:off x="6249600" y="1828800"/>
            <a:ext cx="2491200" cy="2852280"/>
            <a:chOff x="6249600" y="1828800"/>
            <a:chExt cx="2491200" cy="2852280"/>
          </a:xfrm>
        </p:grpSpPr>
        <p:pic>
          <p:nvPicPr>
            <p:cNvPr id="58" name="Picture 2070" descr="февраль lite"/>
            <p:cNvPicPr/>
            <p:nvPr/>
          </p:nvPicPr>
          <p:blipFill>
            <a:blip r:embed="rId3"/>
            <a:stretch/>
          </p:blipFill>
          <p:spPr>
            <a:xfrm>
              <a:off x="6316560" y="1828800"/>
              <a:ext cx="21204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Rectangle 2071"/>
            <p:cNvSpPr/>
            <p:nvPr/>
          </p:nvSpPr>
          <p:spPr>
            <a:xfrm>
              <a:off x="6249600" y="4038480"/>
              <a:ext cx="249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333cc"/>
                  </a:solidFill>
                  <a:latin typeface="Arial"/>
                </a:rPr>
                <a:t>ФЕ</a:t>
              </a:r>
              <a:r>
                <a:rPr b="1" lang="ru-RU" sz="3600" spc="-1" strike="noStrike">
                  <a:solidFill>
                    <a:srgbClr val="66ccff"/>
                  </a:solidFill>
                  <a:latin typeface="Arial"/>
                </a:rPr>
                <a:t>В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1" lang="ru-RU" sz="3600" spc="-1" strike="noStrike">
                  <a:solidFill>
                    <a:srgbClr val="66ccff"/>
                  </a:solidFill>
                  <a:latin typeface="Arial"/>
                </a:rPr>
                <a:t>Л</a:t>
              </a:r>
              <a:r>
                <a:rPr b="1" lang="en-US" sz="3600" spc="-1" strike="noStrike">
                  <a:solidFill>
                    <a:srgbClr val="66ccff"/>
                  </a:solidFill>
                  <a:latin typeface="Arial"/>
                </a:rPr>
                <a:t>Ь</a:t>
              </a:r>
              <a:endParaRPr b="1" lang="en-US" sz="3600" spc="-1" strike="noStrike">
                <a:solidFill>
                  <a:srgbClr val="3333cc"/>
                </a:solidFill>
                <a:latin typeface="Chicago"/>
              </a:endParaRPr>
            </a:p>
          </p:txBody>
        </p:sp>
      </p:grp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0" descr="Мороз lite"/>
          <p:cNvPicPr/>
          <p:nvPr/>
        </p:nvPicPr>
        <p:blipFill>
          <a:blip r:embed="rId1"/>
          <a:stretch/>
        </p:blipFill>
        <p:spPr>
          <a:xfrm>
            <a:off x="2590920" y="-9360"/>
            <a:ext cx="6553080" cy="57639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6019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вот наступил январь - это первый месяц года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второй, средний месяц зим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304560"/>
            <a:ext cx="25383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Январ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крываем календарь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инается январ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январе, в январ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ного снегу на двор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 - на крыше, на крылечк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лнце в небе голубо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нашем доме топят печк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небо дым идет столбо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7" descr="январь lite"/>
          <p:cNvPicPr/>
          <p:nvPr/>
        </p:nvPicPr>
        <p:blipFill>
          <a:blip r:embed="rId2"/>
          <a:stretch/>
        </p:blipFill>
        <p:spPr>
          <a:xfrm>
            <a:off x="8534520" y="6292800"/>
            <a:ext cx="609480" cy="5652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040" descr="ночью зимой lite"/>
          <p:cNvPicPr/>
          <p:nvPr/>
        </p:nvPicPr>
        <p:blipFill>
          <a:blip r:embed="rId1"/>
          <a:stretch/>
        </p:blipFill>
        <p:spPr>
          <a:xfrm>
            <a:off x="3035160" y="0"/>
            <a:ext cx="6102360" cy="65530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5866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самый холодный месяц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енно холодно бывает в ясную погоду, когда днём на небе светит солнышко, а ночью - луна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733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лунного света искрится снежок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нварская ночь холодн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пушистое облачко, словно в платок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уталась в небе лун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на одиноко плывет в небесах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й зябко в пустой вышин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холода люди закрылись в домах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 негде укрыться луне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35"/>
          <p:cNvSpPr/>
          <p:nvPr/>
        </p:nvSpPr>
        <p:spPr>
          <a:xfrm>
            <a:off x="152280" y="228600"/>
            <a:ext cx="243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56" name="Picture 1039" descr="январь lite"/>
          <p:cNvPicPr/>
          <p:nvPr/>
        </p:nvPicPr>
        <p:blipFill>
          <a:blip r:embed="rId2"/>
          <a:stretch/>
        </p:blipFill>
        <p:spPr>
          <a:xfrm>
            <a:off x="8534520" y="6292800"/>
            <a:ext cx="609480" cy="5652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5" descr="Девочка на улице lite"/>
          <p:cNvPicPr/>
          <p:nvPr/>
        </p:nvPicPr>
        <p:blipFill>
          <a:blip r:embed="rId1"/>
          <a:stretch/>
        </p:blipFill>
        <p:spPr>
          <a:xfrm>
            <a:off x="3159000" y="0"/>
            <a:ext cx="5375520" cy="63244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90920" y="5943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акую погоду щечки и носы становятся красными и горят, как будто за них кто-то щепает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мороз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 это его и прозвали Мороз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асный нос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6324480" y="76320"/>
            <a:ext cx="2514600" cy="64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304200" y="228600"/>
            <a:ext cx="2533680" cy="64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роз 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бежал я за ограду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 Мороз стоит и жде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н пошел со мною рядом –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и на шаг не отстает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 дворе рубашки наш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веревке с ветром пляшут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 бегу - Мороз за мною!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белье напал Мороз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трой пылью ледяною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хватил его насквозь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хватил и жёстким сделал –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белье заледенело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авь на снег - не упадет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толкни - оно пойдет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 толкнул едва-едва –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стыня пошла сначал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рубашка зашагал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топырив рукава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 портняжка Мороз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лет щеки, режет нос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етер ринулся навстречу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н вскочил ко мне на плеч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етер - всадник ледяной –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вонко свищет за спиной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ли мерзлые треща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ни по снегу скрипят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Квитко Лев 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62" name="Picture 13" descr="январь lite"/>
          <p:cNvPicPr/>
          <p:nvPr/>
        </p:nvPicPr>
        <p:blipFill>
          <a:blip r:embed="rId2"/>
          <a:stretch/>
        </p:blipFill>
        <p:spPr>
          <a:xfrm>
            <a:off x="8534520" y="6292800"/>
            <a:ext cx="609480" cy="5652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когда набегут тучи и повалит снег становиться теплее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ё наоборот! Всё не как летом! При солнышке – холодно, при тучах – тепло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036" descr="январь lite"/>
          <p:cNvPicPr/>
          <p:nvPr/>
        </p:nvPicPr>
        <p:blipFill>
          <a:blip r:embed="rId1"/>
          <a:stretch/>
        </p:blipFill>
        <p:spPr>
          <a:xfrm>
            <a:off x="8534520" y="6292800"/>
            <a:ext cx="609480" cy="565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37" descr="Снеговики на коньках и лыжах lite"/>
          <p:cNvPicPr/>
          <p:nvPr/>
        </p:nvPicPr>
        <p:blipFill>
          <a:blip r:embed="rId2"/>
          <a:stretch/>
        </p:blipFill>
        <p:spPr>
          <a:xfrm>
            <a:off x="3429000" y="984240"/>
            <a:ext cx="5562720" cy="4654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38" descr="синички lite"/>
          <p:cNvPicPr/>
          <p:nvPr/>
        </p:nvPicPr>
        <p:blipFill>
          <a:blip r:embed="rId3"/>
          <a:stretch/>
        </p:blipFill>
        <p:spPr>
          <a:xfrm>
            <a:off x="1905120" y="95400"/>
            <a:ext cx="3200400" cy="15793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2557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елые стих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 кружиться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 ложиться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! Снег! Снег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ды снегу зверь и птиц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, конечно, человек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ды серые синички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морозе мёрзнут птичк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пал снег упал мороз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шка снегом моет нос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 щенка на чёрной спинк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ают белые снежинки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ергей Михалков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1039" descr="Щенок lite"/>
          <p:cNvPicPr/>
          <p:nvPr/>
        </p:nvPicPr>
        <p:blipFill>
          <a:blip r:embed="rId4"/>
          <a:stretch/>
        </p:blipFill>
        <p:spPr>
          <a:xfrm>
            <a:off x="7010280" y="4349880"/>
            <a:ext cx="1905120" cy="16063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5714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cc"/>
                </a:solidFill>
                <a:latin typeface="Arial"/>
              </a:rPr>
              <a:t>ФЕ</a:t>
            </a:r>
            <a:r>
              <a:rPr b="1" lang="ru-RU" sz="8000" spc="-1" strike="noStrike">
                <a:solidFill>
                  <a:srgbClr val="66ccff"/>
                </a:solidFill>
                <a:latin typeface="Arial"/>
              </a:rPr>
              <a:t>В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8000" spc="-1" strike="noStrike">
                <a:solidFill>
                  <a:srgbClr val="66ccff"/>
                </a:solidFill>
                <a:latin typeface="Arial"/>
              </a:rPr>
              <a:t>Л</a:t>
            </a:r>
            <a:r>
              <a:rPr b="1" lang="en-US" sz="8000" spc="-1" strike="noStrike">
                <a:solidFill>
                  <a:srgbClr val="66ccff"/>
                </a:solidFill>
                <a:latin typeface="Arial"/>
              </a:rPr>
              <a:t>Ь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февраль lite"/>
          <p:cNvPicPr/>
          <p:nvPr/>
        </p:nvPicPr>
        <p:blipFill>
          <a:blip r:embed="rId1"/>
          <a:stretch/>
        </p:blipFill>
        <p:spPr>
          <a:xfrm>
            <a:off x="2835360" y="1523880"/>
            <a:ext cx="2970000" cy="320040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57146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последний месяц зимы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феврале самый глубокий снег и самые большие сугроб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52280" y="6431040"/>
            <a:ext cx="85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т снег копился в течении предыдущих зимних месяцев: в Декабре и Январе. Сам Февраль тоже добавил снежку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76" name="Picture 7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нежные сугробы lite"/>
          <p:cNvPicPr/>
          <p:nvPr/>
        </p:nvPicPr>
        <p:blipFill>
          <a:blip r:embed="rId2"/>
          <a:stretch/>
        </p:blipFill>
        <p:spPr>
          <a:xfrm>
            <a:off x="1409760" y="0"/>
            <a:ext cx="6324480" cy="55897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2" descr="Снеговик лепят 2 lite"/>
          <p:cNvPicPr/>
          <p:nvPr/>
        </p:nvPicPr>
        <p:blipFill>
          <a:blip r:embed="rId1"/>
          <a:stretch/>
        </p:blipFill>
        <p:spPr>
          <a:xfrm>
            <a:off x="2362320" y="4680"/>
            <a:ext cx="6781680" cy="53467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59432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года становиться мягче, теплее, чем в январ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 того снег становиться липким. В такую погоду хорошо строить снежные крепости, лепить снеговиков и снежных баб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280" y="76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е од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ы не ели, мы не пили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абу снежную лепили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 февральский слабый, слаб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ялся под руко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 как раз для снежной баб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ужен нам тако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м работать было жарко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удто нет зимы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удто взял февраль у март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ёплый день взайм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лыбаясь, как живая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парке, в тишин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тала баба снегова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белом зипун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Агния  Бар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11" descr="февраль lite"/>
          <p:cNvPicPr/>
          <p:nvPr/>
        </p:nvPicPr>
        <p:blipFill>
          <a:blip r:embed="rId2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2" descr="Снежки 1 lite"/>
          <p:cNvPicPr/>
          <p:nvPr/>
        </p:nvPicPr>
        <p:blipFill>
          <a:blip r:embed="rId1"/>
          <a:stretch/>
        </p:blipFill>
        <p:spPr>
          <a:xfrm>
            <a:off x="3952800" y="0"/>
            <a:ext cx="51912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также хорошо в такую погоду играть в снежки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0" descr="февраль lite"/>
          <p:cNvPicPr/>
          <p:nvPr/>
        </p:nvPicPr>
        <p:blipFill>
          <a:blip r:embed="rId2"/>
          <a:stretch/>
        </p:blipFill>
        <p:spPr>
          <a:xfrm>
            <a:off x="0" y="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Снежки 2 lite"/>
          <p:cNvPicPr/>
          <p:nvPr/>
        </p:nvPicPr>
        <p:blipFill>
          <a:blip r:embed="rId3"/>
          <a:stretch/>
        </p:blipFill>
        <p:spPr>
          <a:xfrm>
            <a:off x="914400" y="2666880"/>
            <a:ext cx="2687760" cy="327672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8" descr="Вьюга lite"/>
          <p:cNvPicPr/>
          <p:nvPr/>
        </p:nvPicPr>
        <p:blipFill>
          <a:blip r:embed="rId1"/>
          <a:stretch/>
        </p:blipFill>
        <p:spPr>
          <a:xfrm>
            <a:off x="2666880" y="685800"/>
            <a:ext cx="6019920" cy="52848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еще в феврале часто дуют ветры. Они сдувают снег с земл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утят его, несут, кидают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нишь как поет месяц Февраль в сказке про 12 месяце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етры, бури, ураган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уйте что есть мочи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хри, вьюги и буран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ыграйтесь к ночи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облаках трубите громко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ейтесь над землею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усть бежит в полях позем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елою змеею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17" descr="февраль lite"/>
          <p:cNvPicPr/>
          <p:nvPr/>
        </p:nvPicPr>
        <p:blipFill>
          <a:blip r:embed="rId2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57913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ветер не сильный он не может высоко поднять снег - не выше колена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кой ветерок несет снег по земле, заворачивает его, закручивает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жется кто-то белый бежит по земле, петляет. Это поземка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еврал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уют ветры в феврале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ют в трубах громк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мейкой вьется по земл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ёгкая поземк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6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позёмка"/>
          <p:cNvPicPr/>
          <p:nvPr/>
        </p:nvPicPr>
        <p:blipFill>
          <a:blip r:embed="rId2"/>
          <a:stretch/>
        </p:blipFill>
        <p:spPr>
          <a:xfrm>
            <a:off x="2590920" y="1905120"/>
            <a:ext cx="6286320" cy="326844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5714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cc"/>
                </a:solidFill>
                <a:latin typeface="Arial"/>
              </a:rPr>
              <a:t>ДЕ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1" lang="en-US" sz="8000" spc="-1" strike="noStrike">
                <a:solidFill>
                  <a:srgbClr val="3333cc"/>
                </a:solidFill>
                <a:latin typeface="Arial"/>
              </a:rPr>
              <a:t>Б</a:t>
            </a:r>
            <a:r>
              <a:rPr b="1" lang="en-US" sz="8000" spc="-1" strike="noStrike">
                <a:solidFill>
                  <a:srgbClr val="66ccff"/>
                </a:solidFill>
                <a:latin typeface="Arial"/>
              </a:rPr>
              <a:t>РЬ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декабрь2 lite"/>
          <p:cNvPicPr/>
          <p:nvPr/>
        </p:nvPicPr>
        <p:blipFill>
          <a:blip r:embed="rId1"/>
          <a:stretch/>
        </p:blipFill>
        <p:spPr>
          <a:xfrm>
            <a:off x="2743200" y="762120"/>
            <a:ext cx="3460680" cy="43434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7920" y="556236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поднимется ветер посильнее, закрутит снег выше головы, ничего из-за него не видно. Ветер воет, толкает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начинается Вьюга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 неё много имен: Вьюга, Метель, Пурга, Снежная буря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1920"/>
            <a:ext cx="213336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ыж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ьюг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вида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всем друг друг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рзнут ще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бегу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гони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пургу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быстр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лькают лыж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ь все ближ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иж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иж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рез ельник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возь куст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перевал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высот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т для лыжни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мех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то домчитс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ньше всех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витко Ле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12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4" descr="Лыжи бегом lite"/>
          <p:cNvPicPr/>
          <p:nvPr/>
        </p:nvPicPr>
        <p:blipFill>
          <a:blip r:embed="rId2"/>
          <a:stretch/>
        </p:blipFill>
        <p:spPr>
          <a:xfrm>
            <a:off x="3276720" y="304920"/>
            <a:ext cx="5333760" cy="436860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кой уж это месяц – февраль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 него в народе говоря: «Вьюги и метели на февраль налетели.»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2286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ольшая пур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истели метел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тели снег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лила постел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ая пур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озам он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было метел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ю ночь не до сн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утром в окошк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зглянули на са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угробы, в саду, как подушки, лежа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 Степан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2054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057" descr="blizzardretouched"/>
          <p:cNvPicPr/>
          <p:nvPr/>
        </p:nvPicPr>
        <p:blipFill>
          <a:blip r:embed="rId2"/>
          <a:stretch/>
        </p:blipFill>
        <p:spPr>
          <a:xfrm>
            <a:off x="2133720" y="457200"/>
            <a:ext cx="7010280" cy="526572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280" y="54860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на севере, где суровая зима, случаются сильные бури. В это время люди стараются не выходить из своих домов, так как во время бури можно потеряться и замерзнуть даже во дворе, рядом с домом: из-за снега ничего не видно, из-за ветра ничего не слышно. Холодно. Ветер насквозь продувает, колючий снег в лицо кидает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304560"/>
            <a:ext cx="4647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ря мглою небо кроет, вихри снежные крут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 как зверь она завоет, то заплачет как дит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 по кровле обветшалой вдруг соломой зашурши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 как путник запоздалый друг в окошко постучи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лександр Пушки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15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6" descr="Метель 2"/>
          <p:cNvPicPr/>
          <p:nvPr/>
        </p:nvPicPr>
        <p:blipFill>
          <a:blip r:embed="rId2"/>
          <a:stretch/>
        </p:blipFill>
        <p:spPr>
          <a:xfrm>
            <a:off x="5181480" y="1911240"/>
            <a:ext cx="3886200" cy="3346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8" descr="blizzard 5"/>
          <p:cNvPicPr/>
          <p:nvPr/>
        </p:nvPicPr>
        <p:blipFill>
          <a:blip r:embed="rId3"/>
          <a:stretch/>
        </p:blipFill>
        <p:spPr>
          <a:xfrm>
            <a:off x="152280" y="1909800"/>
            <a:ext cx="4876920" cy="334800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280" y="502884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конце февраля солнышко становиться теплым. Скоро весна!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орошо гулять в ясную погоду в феврал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а уже не приносит холода, как январское солнце. Посмотри какое голубое небо!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февраль lite"/>
          <p:cNvPicPr/>
          <p:nvPr/>
        </p:nvPicPr>
        <p:blipFill>
          <a:blip r:embed="rId1"/>
          <a:stretch/>
        </p:blipFill>
        <p:spPr>
          <a:xfrm>
            <a:off x="0" y="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Грабарь Февральская лазурь lite"/>
          <p:cNvPicPr/>
          <p:nvPr/>
        </p:nvPicPr>
        <p:blipFill>
          <a:blip r:embed="rId2"/>
          <a:stretch/>
        </p:blipFill>
        <p:spPr>
          <a:xfrm>
            <a:off x="5157720" y="0"/>
            <a:ext cx="398628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7"/>
          <p:cNvSpPr/>
          <p:nvPr/>
        </p:nvSpPr>
        <p:spPr>
          <a:xfrm>
            <a:off x="152280" y="64310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у картину художник назвал «Февральская лазурь»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56386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огда весна поторопится, забежит вперед. Принесет ветер теплый воздух из южных стран. От него снег тает. Лужи стоят на дорогах и тротуарах. На небе тучи. Моросит дождик. Пасмурная погода - пасмурное настроение. Плохо гулять в оттепель. За это её и не жалуют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Feodor Vasilyev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441468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7" descr="гололедица lite"/>
          <p:cNvPicPr/>
          <p:nvPr/>
        </p:nvPicPr>
        <p:blipFill>
          <a:blip r:embed="rId1"/>
          <a:stretch/>
        </p:blipFill>
        <p:spPr>
          <a:xfrm>
            <a:off x="3124080" y="838080"/>
            <a:ext cx="4876920" cy="45482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потом вернутся холода, замерзнут луж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ядет сырость из воздуха льдом на дорогах и дорожках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тречайте, гололедица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240" y="304560"/>
            <a:ext cx="2319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ололедиц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 идется и не едется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тому что гололедиц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 зат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лично падается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чему ж ник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 радуется?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алентин Берест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6" descr="февраль lite"/>
          <p:cNvPicPr/>
          <p:nvPr/>
        </p:nvPicPr>
        <p:blipFill>
          <a:blip r:embed="rId2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5" descr="снегопад домик lite"/>
          <p:cNvPicPr/>
          <p:nvPr/>
        </p:nvPicPr>
        <p:blipFill>
          <a:blip r:embed="rId1"/>
          <a:stretch/>
        </p:blipFill>
        <p:spPr>
          <a:xfrm>
            <a:off x="4191120" y="0"/>
            <a:ext cx="4478040" cy="64008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1722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кабрь - это начало зимы. Это первый снежный месяц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51920"/>
            <a:ext cx="3429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лый снег пушист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воздухе кружитс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на землю тих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дает, ложитс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под утро снег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е забелел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чно пелено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его одел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мный лес что шапк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накрылся чудн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заснул под не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епко, непробудно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али дни корот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лнце светит мал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т пришли морозц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зима настал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И. Сурик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2" descr="декабрь2 lite"/>
          <p:cNvPicPr/>
          <p:nvPr/>
        </p:nvPicPr>
        <p:blipFill>
          <a:blip r:embed="rId2"/>
          <a:stretch/>
        </p:blipFill>
        <p:spPr>
          <a:xfrm>
            <a:off x="8521560" y="609588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декабрь2 lite"/>
          <p:cNvPicPr/>
          <p:nvPr/>
        </p:nvPicPr>
        <p:blipFill>
          <a:blip r:embed="rId3"/>
          <a:stretch/>
        </p:blipFill>
        <p:spPr>
          <a:xfrm>
            <a:off x="8521560" y="6095880"/>
            <a:ext cx="546120" cy="6858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о снег выпадает в конце осени -  в ноябре и даже в октябр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обычно первый осенний снег тает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вот декабрьский снег будет лежать долго - до весн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Ранний снег"/>
          <p:cNvPicPr/>
          <p:nvPr/>
        </p:nvPicPr>
        <p:blipFill>
          <a:blip r:embed="rId2"/>
          <a:stretch/>
        </p:blipFill>
        <p:spPr>
          <a:xfrm>
            <a:off x="762120" y="808200"/>
            <a:ext cx="7619760" cy="405756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2" descr="снегопад lite"/>
          <p:cNvPicPr/>
          <p:nvPr/>
        </p:nvPicPr>
        <p:blipFill>
          <a:blip r:embed="rId1"/>
          <a:stretch/>
        </p:blipFill>
        <p:spPr>
          <a:xfrm>
            <a:off x="2971800" y="25560"/>
            <a:ext cx="6172200" cy="5991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6019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дуются снегу люди, а особенно детишк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200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ма! глянь-ка из окошка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нать, вчера недаром кош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мывала нос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рязи нет, весь двор одело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ветлело, побелело 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идно, есть мороз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колючий, светло-си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ветвям развешен иней 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гляди хоть ты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ловно кто-то тороват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ежей, белой, пухлой ват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убрал куст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ж теперь не будет спору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 салазки да и в гор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ело бежать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авда, мама? Не откажешь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 сама, наверно, скажешь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"Ну, скорей гулять!"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Афанасий Ф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0" descr="декабрь2 lite"/>
          <p:cNvPicPr/>
          <p:nvPr/>
        </p:nvPicPr>
        <p:blipFill>
          <a:blip r:embed="rId2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56386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дуются снегу растения – тёплым одеялом укрывает он их до весны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дуются снегу животные – он прячет их домики и норк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заберутся туда жгучие мороз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е задуют пронизывающие ветры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снег еще прячет и последние колоски с зернышками, желуди и орешки, рассыпанные по земле. Холодно и голодно зимой лесному народу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Isaac Levitan. Snowbound Garden."/>
          <p:cNvPicPr/>
          <p:nvPr/>
        </p:nvPicPr>
        <p:blipFill>
          <a:blip r:embed="rId2"/>
          <a:srcRect l="0" t="19829" r="0" b="0"/>
          <a:stretch/>
        </p:blipFill>
        <p:spPr>
          <a:xfrm>
            <a:off x="0" y="0"/>
            <a:ext cx="9144000" cy="54975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1" descr="Кормушка lite"/>
          <p:cNvPicPr/>
          <p:nvPr/>
        </p:nvPicPr>
        <p:blipFill>
          <a:blip r:embed="rId1"/>
          <a:stretch/>
        </p:blipFill>
        <p:spPr>
          <a:xfrm>
            <a:off x="1905120" y="0"/>
            <a:ext cx="7238880" cy="52452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54100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тичкам, оставшимся зимовать с нами, становиться трудно искать себе еду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этому люди вешают для них специальные домики - кормушк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кладывают туда зернышки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мечки и орешки. Вешают кусочки сал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шайте птички! Угощайтесь белочки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905120" y="0"/>
            <a:ext cx="2590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1905120" y="152280"/>
            <a:ext cx="2133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228600" y="228600"/>
            <a:ext cx="2133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акой у нас обычай: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уть выпадет снежок,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щатый домик птичий,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весить на сучок. 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М Пожарова 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28600" y="6324480"/>
            <a:ext cx="891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 любят такие лакомства синички и воробьи, но прилетают подкрепиться к кормушкам голуби, снегири, поползни, вороны и сойки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89" name="Picture 10" descr="декабрь2 lite"/>
          <p:cNvPicPr/>
          <p:nvPr/>
        </p:nvPicPr>
        <p:blipFill>
          <a:blip r:embed="rId2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53341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нег: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разную погоду из туч идет разный снег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гда холодно и нет ветра падают и кружатся легкие и красивые снежинки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е они разные, у каждой свой узор. Если в это время выглянет солнышко, то заблестят снежинки маленькими звездочками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28600" y="838080"/>
            <a:ext cx="32767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нежинки вьются и кружатся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рвутся в комнату мою.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ни летят, легки и ломки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ослепительнее звезд,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будто в синие потёмки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рожащий перекинут мост.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     </a:t>
            </a:r>
            <a:r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блестящий</a:t>
            </a:r>
            <a:endParaRPr b="1" lang="en-US" sz="10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Елена Благинина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93" name="Picture 8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Снежинки lite"/>
          <p:cNvPicPr/>
          <p:nvPr/>
        </p:nvPicPr>
        <p:blipFill>
          <a:blip r:embed="rId2"/>
          <a:stretch/>
        </p:blipFill>
        <p:spPr>
          <a:xfrm>
            <a:off x="3352680" y="1150920"/>
            <a:ext cx="5791320" cy="33289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06:12:20Z</dcterms:created>
  <dc:creator>Admin</dc:creator>
  <dc:description/>
  <dc:language>en-US</dc:language>
  <cp:lastModifiedBy>LEGION2</cp:lastModifiedBy>
  <dcterms:modified xsi:type="dcterms:W3CDTF">2015-04-24T07:47:12Z</dcterms:modified>
  <cp:revision>205</cp:revision>
  <dc:subject/>
  <dc:title>ЗИМНИЕ МЕСЯЦЫ</dc:title>
</cp:coreProperties>
</file>