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BD23-28FC-41D6-A0ED-9DAB8EAF61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Ю. Быст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E9EB-8BF4-4F9A-B6F6-EC4C1E9D0E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7649-158A-43DF-BEB2-D11790E7B0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E66E-9A7E-42FA-B1E1-892148C89C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871-D2B4-45E5-8336-2AEDBE4681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3B7-76C8-4580-B935-75FAF8FAE6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503C-4AEC-4AE8-8604-55ED9991A9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A538-C56A-4080-AC97-D4BCC0FA16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90DF-672D-41D5-BC10-A8EB9802E5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8B13-E75B-4F39-9DFA-3E862105E8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747F-8527-46A8-B1C8-4CEBC22D63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3A9E-FEB0-4C72-8D5E-6530E6C0A7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8725-088C-4E7B-9088-03A8BB7C1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C3D4-C16F-4BCC-A75F-49BAF4FAA5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27A3-DAF0-44BE-9071-A0D724BC6F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A50-EC88-41B0-80DE-C1F4E877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432-5DF6-44B2-AC49-B5B61F74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EEE-99BD-4536-B789-20C26415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357-D7C8-4C2B-A93D-085008D0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4E3-5FBA-4885-94C1-A66126D3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D0E-A24A-418F-A2F3-8195618B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D67-2440-4A0D-A68C-D100F1AE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69A-FB67-4007-8063-6E67692F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38A-33B1-4498-8A10-CC523D95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548-DB37-4EE0-A459-E34B904C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1B7-3847-41B9-AD17-4CA5E9AE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4B2-0346-4D2B-9588-6A4AF1C8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C9E3-18B8-4131-B736-247EDD66E2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3406-7BA6-4CC4-AE2D-6F48D0669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Т. Ю. Быст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4:09:34Z</dcterms:created>
  <dc:creator>Admin</dc:creator>
  <dc:description/>
  <dc:language>en-US</dc:language>
  <cp:lastModifiedBy>LEGION</cp:lastModifiedBy>
  <dcterms:modified xsi:type="dcterms:W3CDTF">2014-11-11T07:58:43Z</dcterms:modified>
  <cp:revision>19</cp:revision>
  <dc:subject/>
  <dc:title>Национальные особенности русской философии</dc:title>
</cp:coreProperties>
</file>