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7F55-5CE3-47A9-8492-6F22E8CF3F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особенности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Ю. Быст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B270-037F-4243-926A-6251B41AB3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синтетичность мысли. Установка на преодоление спора в позициях; синтез научного, художественного, религиозного подходов; познание целого и участие всех познавательных способностей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BEEC-BDCB-4168-AC50-FD2D3BF164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трактовка человека преимущественно не как индивида, а как части целого. Проблемы индивидуализма, субъективности, «Я» – на втором плане. Чаще всего «Мы»-философия (С. Л. Франк). Тема соборности, единства (В. С. Соловьев, А. С. Хомяков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2494-BFF4-43DE-88AA-3E566A8D0B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рано – о месте человека, человечества и России во вселенной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сской мысли, который выражается в т.ч. через художественную и архитектурную практику (А. Скрябин, И. Леонидов). Сциентистское, научно техническое направление: К. Циолковский, В. Вернадск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64D0-519E-43B7-B312-5AAF3C4E01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сердца». Высокий эмоциональный накал. Мировоззренческий поступок. Исповед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044C-0ADA-4187-AFF3-ABD15A8C8F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заинтересованность в читателе, слушателе, открытость философского знания. Малые жанры, рецензии, статьи, открытые письма, философская публицистика. Использование периодических изданий. Отсюда – простота из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0A93-ED43-4E2A-A41A-73C769BF59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не принадлежим ни к одному из великих семейств человеческого рода, мы не принадлежим ни к Западу, ни к Востоку, и у нас нет традиций ни того, ни другого. Стоя как бы вне времени, мы не были затронуты всемирным воспитанием человеческого род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принадлежим к числу наций, которые как бы не входят в состав человечества, а существуют лишь для того, чтобы дать миру какой-нибудь важный ур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Я. Чаадаев «Философические письм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E3F0-4472-4AC7-9F20-3FE68A272A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я мало интересует продукт моего творчества, его совершенство. Меня интересовало выразить себя и крикнуть миру то, что мне открывает внутренний голос как истин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 А. Берд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йдите и разместите здесь цитату какого-либо русского философа, характеризующую, с вашей точки зрения, своеобразие русской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BCBE-5681-4388-B2AE-B1643865CF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развитие философской мысли в религиозном миросозерцании. Запад – наследники античности и средневековья, с готовой философской терминологией. В России 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– совместить ученичество и свободное собственное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31F4-C222-4424-B80D-313F247289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не столько гносеология, скольк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т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«Философия есть там, где есть искание единства духовной жизни на путях ее рационализации». В России познание признается лишь частью и функцией «нашего действования в мире». Его смысл, задачи и возможности определяются из общего отношения человека к миру. Русский онтологизм выражает не примат «реальности» над познанием, а включенность познания в наше отношение к миру, «действование» в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41A1-854B-4AF1-9AD5-907F916C67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социальная ориентированность русской мысли. Мысль в гуще жизни, пытается не только анализировать ее, но и влиять на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4A8C-3651-411A-8243-B8CCB3767E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тропоцентр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го философствования. Тема человека. Доминирование моральной установки. Внимание к социальной проблематике. В анализ действительности привносится оценочный момент. Отсюда невозможность разделять теоретическую и практическую сферу. (Т.Б.: например, осмысление иконописи как «умозрения в красках» у П. А. Флоренск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CD9E-CD1C-4F9E-AAF0-524F32191B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С. Соловьев: В человеке «вся тайна абсолютно становящегося». «В человеке природа перерастает саму себя и переходит (в сознании) в область бытия абсолютного» // Чтения о Богочеловеч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EE12-8F41-4444-8C33-839E47B737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А. Флоренский: «Ведь художник есть чистое простое око, взирающее на мир, чистое око человечества, которым оно созерцает реальность. И, изучая чистые линии реальности, художник показывает их нам, и тогда мы начинаем видеть их». «Цель художества – преодоление чувственной видимости, натуралистической коры случайного, и проявление устойчивого, неизменного, общеценного и общезначимого действительности» // Анализ пространственности в художественно-изобразительных произве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5F01-8238-4321-9946-C4BE1D449D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302-1055-48C0-B7A2-64190EAC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5A1-7A08-47AB-8336-994A91CB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5129-546D-4FF8-8AC1-FC0D7A7C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BBC-5ED8-458B-BBC0-7FEF5118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214-C2E8-495B-B974-2C3F9C47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B30-86B3-4374-A438-4ADA82B8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921A-7AA6-45F3-8BC8-88F622D7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18F-A700-44C5-936D-C3583E08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A3F-F709-4DE1-A3F6-37B5094F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F676-7F6C-4C22-A462-8268E984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025-6202-4B2E-9858-D7E156E4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7BB-9A76-453D-BE1D-AC405049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6147-6A58-4187-A8BD-D7E64AF2089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8D2C-7D6F-4CF7-8179-2F13D645A3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циональные особенности русской филосо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Т. Ю. Быстр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. В. Зеньковскому, синтетичность мысли. Установка на преодоление спора в позициях; синтез научного, художественного, религиозного подходов; познание целого и участие всех познавательных способностей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трактовка человека преимущественно не как индивида, а как части целого. Проблемы индивидуализма, субъективности, «Я» – на втором плане. Чаще всего «Мы»-философия (С. Л. Франк). Тема соборности, единства (В. С. Соловьев, А. С. Хомяков и др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чень рано – о месте человека, человечества и России во вселенной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усской мысли, который выражается в т.ч. через художественную и архитектурную практику (А. Скрябин, И. Леонидов). Сциентистское, научно техническое направление: К. Циолковский, В. Вернадски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Философия сердца». Высокий эмоциональный накал. Мировоззренческий поступок. Исповедаль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заинтересованность в читателе, слушателе, открытость философского знания. Малые жанры, рецензии, статьи, открытые письма, философская публицистика. Использование периодических изданий. Отсюда – простота из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Мы не принадлежим ни к одному из великих семейств человеческого рода, мы не принадлежим ни к Западу, ни к Востоку, и у нас нет традиций ни того, ни другого. Стоя как бы вне времени, мы не были затронуты всемирным воспитанием человеческого рода…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Мы принадлежим к числу наций, которые как бы не входят в состав человечества, а существуют лишь для того, чтобы дать миру какой-нибудь важный урок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. Я. Чаадаев «Философические письма»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Меня мало интересует продукт моего творчества, его совершенство. Меня интересовало выразить себя и крикнуть миру то, что мне открывает внутренний голос как истину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. А. Бердяе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Найдите и разместите здесь цитату какого-либо русского философа, характеризующую, с вашей точки зрения, своеобразие русской мыс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. В. Зеньковскому, д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ка развитие философской мысли в религиозном миросозерцании. Запад – наследники античности и средневековья, с готовой философской терминологией. В России 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. – совместить ученичество и свободное собственное творче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В. В. Зеньковскому, не столько гносеология, сколько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нтолог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«Философия есть там, где есть искание единства духовной жизни на путях ее рационализации». В России познание признается лишь частью и функцией «нашего действования в мире». Его смысл, задачи и возможности определяются из общего отношения человека к миру. Русский онтологизм выражает не примат «реальности» над познанием, а включенность познания в наше отношение к миру, «действование» в н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социальная ориентированность русской мысли. Мысль в гуще жизни, пытается не только анализировать ее, но и влиять на н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В. В. Зеньковскому,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нтропоцентризм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усского философствования. Тема человека. Доминирование моральной установки. Внимание к социальной проблематике. В анализ действительности привносится оценочный момент. Отсюда невозможность разделять теоретическую и практическую сферу. (Т.Б.: например, осмысление иконописи как «умозрения в красках» у П. А. Флоренского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. Соловьев: В человеке «вся тайна абсолютно становящегося». «В человеке природа перерастает саму себя и переходит (в сознании) в область бытия абсолютного» // Чтения о Богочеловече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. А. Флоренский: «Ведь художник есть чистое простое око, взирающее на мир, чистое око человечества, которым оно созерцает реальность. И, изучая чистые линии реальности, художник показывает их нам, и тогда мы начинаем видеть их». «Цель художества – преодоление чувственной видимости, натуралистической коры случайного, и проявление устойчивого, неизменного, общеценного и общезначимого действительности» // Анализ пространственности в художественно-изобразительных произведения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4:09:34Z</dcterms:created>
  <dc:creator>Admin</dc:creator>
  <dc:description/>
  <dc:language>en-US</dc:language>
  <cp:lastModifiedBy>LEGION</cp:lastModifiedBy>
  <dcterms:modified xsi:type="dcterms:W3CDTF">2014-11-11T07:58:43Z</dcterms:modified>
  <cp:revision>19</cp:revision>
  <dc:subject/>
  <dc:title>Национальные особенности русской философии</dc:title>
</cp:coreProperties>
</file>