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630D-3F16-4B48-BC05-EA2C9C96D4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Ю. Быст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E5F6-5732-4C92-8E7B-DD98DD5783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C0CB-2B51-4639-B0E5-44A39CE056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46D6-58FD-48E4-AD3E-ECAFB44274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6E0E-9C3C-4BFC-AD41-3EC8AE72B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467B-C12A-4AEF-86A0-A5C2334A6A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813E-6B4A-4E75-B579-1A61831980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959-B2EE-4953-AAF5-17C9BD3CA1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7F69-F892-4F85-9DB9-562590EA2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C22C-7221-4F2C-BE0C-AB85DDB784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5049-AC4D-43F7-8B0C-601622595C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D68-B5E9-4299-AFCA-05DE9CF845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E060-6CAC-45DA-83DB-80412774E0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210F-7D9B-4659-872D-26C7255921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2D5C-7F38-40D4-AE83-CE8B2BFF6A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3C7-2383-4FB4-8746-A214AF8F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6D7-D4F5-49CD-8EB8-EDD4BB36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9BB-1232-43EE-B84C-CF6CE6CF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4CE-1F39-41D4-868D-3F0B9AF2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FDD-F5DD-46D5-BD7D-4E91CE8C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D6C-769C-4AB9-8657-CA508708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B2D-E47F-48C0-BDF3-17B4465D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3A3-08D6-408A-A417-B4F91BE0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3DF-1CAB-4134-B7D9-BC5B30C6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EB5-DCFE-4AE0-9440-CFC85DD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6C4-E2EC-44B0-94E1-396F93B0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071-C410-4767-9175-FE0925FB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B3D6-EBDE-4EFE-A9EA-43D0C4FBC96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D758-0BBA-4D44-9A2A-786B44714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. Ю. Быст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4:09:34Z</dcterms:created>
  <dc:creator>Admin</dc:creator>
  <dc:description/>
  <dc:language>en-US</dc:language>
  <cp:lastModifiedBy>LEGION</cp:lastModifiedBy>
  <dcterms:modified xsi:type="dcterms:W3CDTF">2014-11-11T07:58:43Z</dcterms:modified>
  <cp:revision>19</cp:revision>
  <dc:subject/>
  <dc:title>Национальные особенности русской философии</dc:title>
</cp:coreProperties>
</file>