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1FED-F2D8-4222-AE63-2FBF52E42E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Ю. Быст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2A25-6AE3-4F67-901D-B643B6AC77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6507-28F9-4C6D-BFAD-C4A450068E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78AE-4289-44C9-B78C-05121EA256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6A76-0B6C-416D-BFFB-60F4ADDE0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5E22-66B2-4FA2-A9E3-6809D8395C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AE8C-5848-490B-9166-0C29F3087B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BA4E-2F84-485C-B34B-213365BF88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AF7D-2800-463E-AC8F-18569A4058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DAF5-757A-46D9-BB04-BA7D650B04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03DB-D48C-4B61-B6BE-5D14B141B5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581B-FD6A-4F92-B010-31F2C2187B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3BF3-960E-44E0-A5AB-81D78E61D6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178C-451A-4B15-BF32-7F119DEF15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DD51-8027-46C7-81BF-83ADCFC2CE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095-4DE6-4527-ABFB-4C8AC364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9FB-1201-494B-A14D-10C69078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107-2DC0-470F-894C-BF03D0D3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41BA-C380-460F-A1D7-695D6436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398-FAF6-4385-8EB1-06668BC8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2842-93FD-4D84-A8F5-F982D230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EC1-2FDA-4B97-A0AE-98D72054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811-618D-4DD1-990B-BAA454F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0C7F-978C-4EC8-A2B8-4794ADD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90D-A90E-41C2-9519-7C764AE7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8C5-C4FA-434D-8244-765D5E85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08CD-7494-426F-8F90-51E01B76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3844-A410-4F0F-B9A2-9578ECA60C1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C5E8-5CB1-4DBF-85A6-56B0713E0F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циональные особенности русской философ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Т. Ю. Быстр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синтетичность мысли. Установка на преодоление спора в позициях; синтез научного, художественного, религиозного подходов; познание целого и участие всех познавательных способностей 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трактовка человека преимущественно не как индивида, а как части целого. Проблемы индивидуализма, субъективности, «Я» – на втором плане. Чаще всего «Мы»-философия (С. Л. Франк). Тема соборности, единства (В. С. Соловьев, А. С. Хомяков и др.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чень рано – о месте человека, человечества и России во вселенной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усской мысли, который выражается в т.ч. через художественную и архитектурную практику (А. Скрябин, И. Леонидов). Сциентистское, научно техническое направление: К. Циолковский, В. Вернадски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Философия сердца». Высокий эмоциональный накал. Мировоззренческий поступок. Исповедаль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заинтересованность в читателе, слушателе, открытость философского знания. Малые жанры, рецензии, статьи, открытые письма, философская публицистика. Использование периодических изданий. Отсюда – простота из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не принадлежим ни к одному из великих семейств человеческого рода, мы не принадлежим ни к Западу, ни к Востоку, и у нас нет традиций ни того, ни другого. Стоя как бы вне времени, мы не были затронуты всемирным воспитанием человеческого рода…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Мы принадлежим к числу наций, которые как бы не входят в состав человечества, а существуют лишь для того, чтобы дать миру какой-нибудь важный урок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Я. Чаадаев «Философические письма»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Меня мало интересует продукт моего творчества, его совершенство. Меня интересовало выразить себя и крикнуть миру то, что мне открывает внутренний голос как истину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. А. Бердя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йдите и разместите здесь цитату какого-либо русского философа, характеризующую, с вашей точки зрения, своеобразие русской мыс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. В. Зеньковскому,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 развитие философской мысли в религиозном миросозерцании. Запад – наследники античности и средневековья, с готовой философской терминологией. В России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. – совместить ученичество и свободное собственное творч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не столько гносеология, скольк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нтолог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«Философия есть там, где есть искание единства духовной жизни на путях ее рационализации». В России познание признается лишь частью и функцией «нашего действования в мире». Его смысл, задачи и возможности определяются из общего отношения человека к миру. Русский онтологизм выражает не примат «реальности» над познанием, а включенность познания в наше отношение к миру, «действование» в н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Б. В. Емельянову, социальная ориентированность русской мысли. Мысль в гуще жизни, пытается не только анализировать ее, но и влиять на н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В. В. Зеньковскому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тропоцентризм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усского философствования. Тема человека. Доминирование моральной установки. Внимание к социальной проблематике. В анализ действительности привносится оценочный момент. Отсюда невозможность разделять теоретическую и практическую сферу. (Т.Б.: например, осмысление иконописи как «умозрения в красках» у П. А. Флоренског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 С. Соловьев: В человеке «вся тайна абсолютно становящегося». «В человеке природа перерастает саму себя и переходит (в сознании) в область бытия абсолютного» // Чтения о Богочеловеч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арактерные черты русской философии: антропоцентриз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. А. Флоренский: «Ведь художник есть чистое простое око, взирающее на мир, чистое око человечества, которым оно созерцает реальность. И, изучая чистые линии реальности, художник показывает их нам, и тогда мы начинаем видеть их». «Цель художества – преодоление чувственной видимости, натуралистической коры случайного, и проявление устойчивого, неизменного, общеценного и общезначимого действительности» // Анализ пространственности в художественно-изобразительных произведения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4:09:34Z</dcterms:created>
  <dc:creator>Admin</dc:creator>
  <dc:description/>
  <dc:language>en-US</dc:language>
  <cp:lastModifiedBy>LEGION</cp:lastModifiedBy>
  <dcterms:modified xsi:type="dcterms:W3CDTF">2014-11-11T07:58:43Z</dcterms:modified>
  <cp:revision>19</cp:revision>
  <dc:subject/>
  <dc:title>Национальные особенности русской философии</dc:title>
</cp:coreProperties>
</file>