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4.wmf" ContentType="image/x-wmf"/>
  <Override PartName="/ppt/media/image13.jpeg" ContentType="image/jpeg"/>
  <Override PartName="/ppt/media/image3.wmf" ContentType="image/x-wmf"/>
  <Override PartName="/ppt/media/chimes.wav" ContentType="audio/x-wav"/>
  <Override PartName="/ppt/media/image7.wmf" ContentType="image/x-wmf"/>
  <Override PartName="/ppt/media/image12.wmf" ContentType="image/x-wmf"/>
  <Override PartName="/ppt/media/laser.wav" ContentType="audio/x-wav"/>
  <Override PartName="/ppt/media/image1.wmf" ContentType="image/x-wmf"/>
  <Override PartName="/ppt/media/image2.jpeg" ContentType="image/jpeg"/>
  <Override PartName="/ppt/media/image4.wmf" ContentType="image/x-wmf"/>
  <Override PartName="/ppt/media/applause.wav" ContentType="audio/x-wav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942D-F125-4FAA-833A-EB7F194CEC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StoneSerif SBIN SmBd v.1"/>
              </a:rPr>
              <a:t>Организм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StoneSerif SAIN SmBd v.1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StoneSerif SAIN SmBd v.1"/>
              </a:rPr>
              <a:t>3</a:t>
            </a:r>
            <a:r>
              <a:rPr b="1" lang="ru-RU" sz="2000" spc="-1" strike="noStrike">
                <a:solidFill>
                  <a:srgbClr val="008000"/>
                </a:solidFill>
                <a:latin typeface="StoneSerif SAIN SmBd v.1"/>
              </a:rPr>
              <a:t>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toneSerif SBIN SmBd v.1"/>
              </a:rPr>
              <a:t>УМК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StoneSerif SBIN SmBd v.1"/>
              </a:rPr>
              <a:t>Школа России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35AB-4C32-4517-8E86-244AEBC4C76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Что ты делаешь для того, чтобы твои зубы были здоровы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каливания ем одновременно горячее и холод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щу зубы иголкой или другим острым предметом, если есть остатки пищи между зуб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щу зубы два раза в день – утром и вечером.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ызу орехи и конфеты, чтобы укрепить з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6B19-1BAD-4DA4-B252-12A3707FAFD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В какой строке указаны слова, описывающие здорового челове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улый, крепкий, неуклюжий, высо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улый, крепкий, неуклюжий, высо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батый, бледный, хилый, низ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йный, сильный, ловкий, ста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D22C-3EF8-4814-BC91-6200F2A9882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1. Какая наука изучает внешнее и внутреннее строение человека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таника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76E0-D0FB-4321-B74C-F564CA7D608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2. Зачем нужно знать свой организм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сохранять и укреплять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мыслить, говорить, труд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ло использовать свои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65AD-9B5D-4151-95E7-858EE9E97D9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ие части тела относятся к внешнему строени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а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ловищ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E6B1-FF02-4784-8D3E-F56F9FC33AC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4. Найди лишнюю пару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пищеварения – желуд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зрения – гл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кровообращения – сердц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слуха – язы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066A-64C4-4B7E-B1E0-A659FEF5CC2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Что придает форму телу, обеспечивает движение, защищает от повреждения?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ж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е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цы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ст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F321-48EB-4B76-8B18-A80CACF0503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6.С помощью какого органа дышит человек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у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0E7F-604F-4193-83C6-164B08A12F9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Какой орган называют главным отделением «внутренней кухн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у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B970-C583-4280-A335-3F44EE5D860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акой орган управляет работой всего организм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шеч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A3F4-413B-4E59-A6EB-CD13F4AFC7E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F68-0CFE-42B2-88DA-FBB04401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AB3-EE6C-4ADE-BC59-E36DEFB7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88EC-13F9-4575-999F-E7C399F6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452-3775-4C6E-A459-48E2A527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2043-052D-4100-BCD1-E656FD2C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D4CF-EFB7-4B9E-9E63-5BBA60B9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DEAB-B2DA-43F0-9AB9-289A5F8F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DFBD-7BD0-433C-B5A9-B3635134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094A-246D-455A-ADA3-824D94CB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AC2D-5642-44A1-BD72-59FFFA6C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E674-F541-493E-9C47-E35FE1C8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6B6-A504-4C38-89A9-4535B8E3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97D8-EE14-4DBA-8419-6C137C57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084B-C329-457E-B5F7-1F361C85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2646-2FD8-4C9A-8915-D3470C49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A22A-A58C-4396-8C2D-9348D6F2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FF23-9422-47ED-8EE9-4A154759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601-7C0E-448B-8B9B-47AC0650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275-A1E3-469F-BEAC-83E0BEB7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003-FB89-4CE1-8EF9-8ACF232B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08D-7315-4CEC-B993-F7FD899D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170-8F11-4352-8EA8-41221EB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535-B6F5-4FDF-B965-93A0598A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729-4B6D-4E12-AC79-D8059D4E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58B5-7D96-47C7-B2E2-E04A8B20FF3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1027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1028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1029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030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031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2011-A135-4549-A034-EB434CC6DA2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audio" Target="../media/applause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StoneSerif SBIN SmBd v.1"/>
              </a:rPr>
              <a:t>Организм человека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0" y="2971440"/>
            <a:ext cx="40132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StoneSerif SAIN SmBd v.1"/>
              </a:rPr>
              <a:t>Тес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StoneSerif SAIN SmBd v.1"/>
              </a:rPr>
              <a:t>3</a:t>
            </a:r>
            <a:r>
              <a:rPr b="1" lang="ru-RU" sz="4000" spc="-1" strike="noStrike">
                <a:solidFill>
                  <a:srgbClr val="008000"/>
                </a:solidFill>
                <a:latin typeface="StoneSerif SAIN SmBd v.1"/>
              </a:rPr>
              <a:t> класс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oneSerif SBIN SmBd v.1"/>
              </a:rPr>
              <a:t>УМК 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«</a:t>
            </a:r>
            <a:r>
              <a:rPr b="1" lang="ru-RU" sz="2400" spc="-1" strike="noStrike">
                <a:solidFill>
                  <a:srgbClr val="003366"/>
                </a:solidFill>
                <a:latin typeface="StoneSerif SBIN SmBd v.1"/>
              </a:rPr>
              <a:t>Школа России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724280" y="53341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читель: Климова Г.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9. Что ты делаешь для того, чтобы твои зубы были здоровыми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55640" y="2276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Для закаливания ем одновременно горячее и холодное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Picture 6" descr="MCj04280610000[1]"/>
          <p:cNvPicPr/>
          <p:nvPr/>
        </p:nvPicPr>
        <p:blipFill>
          <a:blip r:embed="rId1"/>
          <a:stretch/>
        </p:blipFill>
        <p:spPr>
          <a:xfrm>
            <a:off x="5148360" y="242100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826920" y="4941720"/>
            <a:ext cx="7848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ищу зубы два раза в день – утром и вечером.</a:t>
            </a:r>
            <a:br>
              <a:rPr sz="3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755640" y="3284640"/>
            <a:ext cx="7932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ищу зубы иголкой или другим острым предметом, если есть остатки пищи между зубами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826920" y="5805360"/>
            <a:ext cx="782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рызу орехи и конфеты, чтобы укрепить зубы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0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1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0. В какой строке указаны слова, описывающие здорового челове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утулый, крепкий, неуклюжий, высок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Picture 8" descr="MCj04336860000[1]"/>
          <p:cNvPicPr/>
          <p:nvPr/>
        </p:nvPicPr>
        <p:blipFill>
          <a:blip r:embed="rId1"/>
          <a:stretch/>
        </p:blipFill>
        <p:spPr>
          <a:xfrm>
            <a:off x="7667640" y="2492280"/>
            <a:ext cx="1182600" cy="17859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"/>
          <p:cNvSpPr/>
          <p:nvPr/>
        </p:nvSpPr>
        <p:spPr>
          <a:xfrm>
            <a:off x="755640" y="3357720"/>
            <a:ext cx="8066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орбатый, бледный, хилый, низк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826920" y="4437000"/>
            <a:ext cx="8066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тройный, сильный, ловкий, статны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13" descr="MCj04321050000[1]"/>
          <p:cNvPicPr/>
          <p:nvPr/>
        </p:nvPicPr>
        <p:blipFill>
          <a:blip r:embed="rId2"/>
          <a:stretch/>
        </p:blipFill>
        <p:spPr>
          <a:xfrm>
            <a:off x="3564000" y="5084640"/>
            <a:ext cx="1468440" cy="15843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6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Picture 20" descr="MCj04324590000[1]"/>
          <p:cNvPicPr/>
          <p:nvPr/>
        </p:nvPicPr>
        <p:blipFill>
          <a:blip r:embed="rId1"/>
          <a:stretch/>
        </p:blipFill>
        <p:spPr>
          <a:xfrm>
            <a:off x="971640" y="836640"/>
            <a:ext cx="1536480" cy="1812960"/>
          </a:xfrm>
          <a:prstGeom prst="rect">
            <a:avLst/>
          </a:prstGeom>
          <a:ln w="0">
            <a:noFill/>
          </a:ln>
        </p:spPr>
      </p:pic>
      <p:sp>
        <p:nvSpPr>
          <p:cNvPr id="178" name="WordArt 22"/>
          <p:cNvSpPr txBox="1"/>
          <p:nvPr/>
        </p:nvSpPr>
        <p:spPr>
          <a:xfrm>
            <a:off x="1547640" y="3170160"/>
            <a:ext cx="6985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" name="Picture 28" descr="MCj04324870000[1]"/>
          <p:cNvPicPr/>
          <p:nvPr/>
        </p:nvPicPr>
        <p:blipFill>
          <a:blip r:embed="rId4"/>
          <a:stretch/>
        </p:blipFill>
        <p:spPr>
          <a:xfrm>
            <a:off x="6516720" y="4724280"/>
            <a:ext cx="1847880" cy="19843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1. Какая наука изучает внешнее и внутреннее строение человека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отаник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18" descr="j0240719"/>
          <p:cNvPicPr/>
          <p:nvPr/>
        </p:nvPicPr>
        <p:blipFill>
          <a:blip r:embed="rId1"/>
          <a:stretch/>
        </p:blipFill>
        <p:spPr>
          <a:xfrm>
            <a:off x="6227640" y="2492280"/>
            <a:ext cx="2448000" cy="3889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9"/>
          <p:cNvSpPr/>
          <p:nvPr/>
        </p:nvSpPr>
        <p:spPr>
          <a:xfrm>
            <a:off x="816120" y="3446640"/>
            <a:ext cx="3770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Анатом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826920" y="4519440"/>
            <a:ext cx="37706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стор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816120" y="5603760"/>
            <a:ext cx="37702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оолог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805788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2. Зачем нужно знать свой организ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6592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сохранять и укреплять здоровь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MPj04020020000[1]"/>
          <p:cNvPicPr/>
          <p:nvPr/>
        </p:nvPicPr>
        <p:blipFill>
          <a:blip r:embed="rId1"/>
          <a:stretch/>
        </p:blipFill>
        <p:spPr>
          <a:xfrm>
            <a:off x="6659640" y="3357720"/>
            <a:ext cx="2292120" cy="3132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860400" y="3559320"/>
            <a:ext cx="66643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человек мог мыслить, говорить, трудитьс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26920" y="4797360"/>
            <a:ext cx="5965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умело использовать свои возмож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3. Какие части тела относятся к внешнему строению челове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оло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7" descr="j0186348"/>
          <p:cNvPicPr/>
          <p:nvPr/>
        </p:nvPicPr>
        <p:blipFill>
          <a:blip r:embed="rId1"/>
          <a:stretch/>
        </p:blipFill>
        <p:spPr>
          <a:xfrm>
            <a:off x="6000840" y="2708280"/>
            <a:ext cx="188424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8"/>
          <p:cNvSpPr/>
          <p:nvPr/>
        </p:nvSpPr>
        <p:spPr>
          <a:xfrm>
            <a:off x="793800" y="3139920"/>
            <a:ext cx="3770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е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793800" y="391968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ечен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771480" y="4710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Туловищ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771480" y="54896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неч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4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MCBD20082_0000[1]"/>
          <p:cNvPicPr/>
          <p:nvPr/>
        </p:nvPicPr>
        <p:blipFill>
          <a:blip r:embed="rId1"/>
          <a:stretch/>
        </p:blipFill>
        <p:spPr>
          <a:xfrm>
            <a:off x="5580000" y="4437000"/>
            <a:ext cx="1871640" cy="2249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99280" y="837000"/>
            <a:ext cx="778032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4. Найди лишнюю пару.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6541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пищеварения – желудок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55640" y="3068640"/>
            <a:ext cx="6541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зрения – глаз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755640" y="378936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кровообращения – сердце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755640" y="4437000"/>
            <a:ext cx="6541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слуха – язык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8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9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5. Что придает форму телу, обеспечивает движение, защищает от повреждения?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ж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7" descr="MCj04160000000[1]"/>
          <p:cNvPicPr/>
          <p:nvPr/>
        </p:nvPicPr>
        <p:blipFill>
          <a:blip r:embed="rId1"/>
          <a:stretch/>
        </p:blipFill>
        <p:spPr>
          <a:xfrm>
            <a:off x="5580000" y="2492280"/>
            <a:ext cx="2016360" cy="3600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816120" y="31291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ке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82640" y="3941640"/>
            <a:ext cx="3770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ышц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738360" y="4710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устав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3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4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4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6.С помощью какого органа дышит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з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804960" y="3162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782640" y="391968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793800" y="472140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Picture 10" descr="MCj04261700000[1]"/>
          <p:cNvPicPr/>
          <p:nvPr/>
        </p:nvPicPr>
        <p:blipFill>
          <a:blip r:embed="rId1"/>
          <a:stretch/>
        </p:blipFill>
        <p:spPr>
          <a:xfrm>
            <a:off x="5435640" y="2997360"/>
            <a:ext cx="2665440" cy="2398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2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7. Какой орган называют главным отделением «внутренней кухни»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8" descr="MCj04263320000[1]"/>
          <p:cNvPicPr/>
          <p:nvPr/>
        </p:nvPicPr>
        <p:blipFill>
          <a:blip r:embed="rId1"/>
          <a:stretch/>
        </p:blipFill>
        <p:spPr>
          <a:xfrm>
            <a:off x="5676840" y="2997360"/>
            <a:ext cx="1936800" cy="2025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"/>
          <p:cNvSpPr/>
          <p:nvPr/>
        </p:nvSpPr>
        <p:spPr>
          <a:xfrm>
            <a:off x="826920" y="3006720"/>
            <a:ext cx="3770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92000" y="3649680"/>
            <a:ext cx="3770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781200" y="4303800"/>
            <a:ext cx="37702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ч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7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8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8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9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8. Какой орган управляет работой всего организм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6" descr="MCj01978360000[1]"/>
          <p:cNvPicPr/>
          <p:nvPr/>
        </p:nvPicPr>
        <p:blipFill>
          <a:blip r:embed="rId1"/>
          <a:stretch/>
        </p:blipFill>
        <p:spPr>
          <a:xfrm>
            <a:off x="5683320" y="2852640"/>
            <a:ext cx="2560680" cy="2244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816120" y="31291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ишечни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70040" y="39085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з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70040" y="467676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1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6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1:53:49Z</dcterms:created>
  <dc:creator>buba</dc:creator>
  <dc:description/>
  <dc:language>en-US</dc:language>
  <cp:lastModifiedBy>LEGION2</cp:lastModifiedBy>
  <dcterms:modified xsi:type="dcterms:W3CDTF">2015-04-24T08:26:44Z</dcterms:modified>
  <cp:revision>18</cp:revision>
  <dc:subject/>
  <dc:title>Организм человека</dc:title>
</cp:coreProperties>
</file>