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1.wmf" ContentType="image/x-wmf"/>
  <Override PartName="/ppt/media/image6.wmf" ContentType="image/x-wmf"/>
  <Override PartName="/ppt/media/image14.wmf" ContentType="image/x-wmf"/>
  <Override PartName="/ppt/media/image13.jpeg" ContentType="image/jpeg"/>
  <Override PartName="/ppt/media/image3.wmf" ContentType="image/x-wmf"/>
  <Override PartName="/ppt/media/chimes.wav" ContentType="audio/x-wav"/>
  <Override PartName="/ppt/media/image7.wmf" ContentType="image/x-wmf"/>
  <Override PartName="/ppt/media/image12.wmf" ContentType="image/x-wmf"/>
  <Override PartName="/ppt/media/laser.wav" ContentType="audio/x-wav"/>
  <Override PartName="/ppt/media/image1.wmf" ContentType="image/x-wmf"/>
  <Override PartName="/ppt/media/image2.jpeg" ContentType="image/jpeg"/>
  <Override PartName="/ppt/media/image4.wmf" ContentType="image/x-wmf"/>
  <Override PartName="/ppt/media/applause.wav" ContentType="audio/x-wav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4F9C-6C2D-4D7C-B91C-2BF2F5B3326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00"/>
                </a:solidFill>
                <a:latin typeface="StoneSerif SBIN SmBd v.1"/>
              </a:rPr>
              <a:t>Организм челове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StoneSerif SAIN SmBd v.1"/>
              </a:rPr>
              <a:t>Те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StoneSerif SAIN SmBd v.1"/>
              </a:rPr>
              <a:t>3</a:t>
            </a:r>
            <a:r>
              <a:rPr b="1" lang="ru-RU" sz="2000" spc="-1" strike="noStrike">
                <a:solidFill>
                  <a:srgbClr val="008000"/>
                </a:solidFill>
                <a:latin typeface="StoneSerif SAIN SmBd v.1"/>
              </a:rPr>
              <a:t> клас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StoneSerif SBIN SmBd v.1"/>
              </a:rPr>
              <a:t>УМК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StoneSerif SBIN SmBd v.1"/>
              </a:rPr>
              <a:t>Школа России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09C7-88AE-475B-856D-1CB8921998F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Что ты делаешь для того, чтобы твои зубы были здоровым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закаливания ем одновременно горячее и холодно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щу зубы иголкой или другим острым предметом, если есть остатки пищи между зубам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щу зубы два раза в день – утром и вечером.</a:t>
            </a:r>
            <a:br>
              <a:rPr sz="12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ызу орехи и конфеты, чтобы укрепить зу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00F7-A38B-4F0A-90A3-DD1887C9BD7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В какой строке указаны слова, описывающие здорового человек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улый, крепкий, неуклюжий, высо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улый, крепкий, неуклюжий, высо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батый, бледный, хилый, низ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йный, сильный, ловкий, стат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4A3F-65C3-451C-A4E4-AA6F5C3A564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1. Какая наука изучает внешнее и внутреннее строение человека</a:t>
            </a:r>
            <a:r>
              <a:rPr b="0" lang="en-US" sz="1200" spc="-1" strike="noStrike">
                <a:solidFill>
                  <a:srgbClr val="008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таника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томия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оло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D28D-370C-4327-AA25-BD1062DEA46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2. Зачем нужно знать свой организм</a:t>
            </a:r>
            <a:r>
              <a:rPr b="0" lang="en-US" sz="1200" spc="-1" strike="noStrike">
                <a:solidFill>
                  <a:srgbClr val="008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сохранять и укреплять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человек мог мыслить, говорить, труд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умело использовать свои возмож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B024-A4D5-4E04-9097-39D76B8F54E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акие части тела относятся к внешнему строению человек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а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ч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ловище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E85E-B192-4863-9246-FB01278BB92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4. Найди лишнюю пару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 пищеварения – желудок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 зрения – глаз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 кровообращения – сердц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 слуха – язык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869D-D8A4-40DF-A290-5DD35008DB5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Что придает форму телу, обеспечивает движение, защищает от повреждения?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ж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е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цы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ста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EBE4-9D76-4B53-9E7F-32B0D664CAD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6.С помощью какого органа дышит человек</a:t>
            </a:r>
            <a:r>
              <a:rPr b="0" lang="en-US" sz="1200" spc="-1" strike="noStrike">
                <a:solidFill>
                  <a:srgbClr val="008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з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уд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ёг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6087-EB27-4E74-A0C9-28099D0BAE1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Какой орган называют главным отделением «внутренней кухни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ёгкие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уд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B8DA-73AC-4FC6-AB94-4A14D25B5D2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Какой орган управляет работой всего организм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шеч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з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ёг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36FE-AD4E-4348-BABD-D0CF7620C1F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6C4C-93D6-447C-91F6-97700E147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6BD8-A046-4B5C-8556-07DBADFA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B7B4-8E17-4824-9870-C8CAD9A31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31BA-0EAF-462C-AC33-A5574B616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D25A-40C9-4375-8B1D-C934A264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C8C9-8903-4C93-B566-784BD560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6C58-A2CD-4DCD-969B-DC61BA4D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671D-B140-4A60-8C83-D47E52B7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05F5-5D96-459F-A66B-794F2471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F6DA-0427-40F5-9232-A330BAE4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9174-F786-49BA-BB64-B501204B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12C7-C78B-4EFC-A191-2F2EDAFE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F87A-B01C-4D41-BFA8-5925A55E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3DB7-6061-4FF1-B7B2-2D1C60E8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9B34-EE20-414E-B380-DB6D882D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5C06-E539-4B52-9256-B71CDA166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1E73-16EF-4582-A446-3D9C8B0DD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A84C-55A4-47E3-9CC9-F8FD184E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7BE6-6B6D-41A7-8E6C-B826449D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40B5-AC54-489C-95C0-FD8908A8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237D-3493-47ED-9B94-2D50BB3A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B66C-C756-44D9-8E66-52006554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8C4F-60E2-4763-8E89-0C0469C9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3EAD-7D14-4D97-88F8-D813B0D2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5BE4-6E3B-4F2E-999D-6631C4B7F9F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026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1027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1028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1029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1030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1031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8CEB-72C5-4CFE-8CC5-D9A4FAE11A7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wmf"/><Relationship Id="rId5" Type="http://schemas.openxmlformats.org/officeDocument/2006/relationships/audio" Target="../media/applause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6600"/>
                </a:solidFill>
                <a:latin typeface="StoneSerif SBIN SmBd v.1"/>
              </a:rPr>
              <a:t>Организм человека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0" y="2971440"/>
            <a:ext cx="401328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StoneSerif SAIN SmBd v.1"/>
              </a:rPr>
              <a:t>Тест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StoneSerif SAIN SmBd v.1"/>
              </a:rPr>
              <a:t>3</a:t>
            </a:r>
            <a:r>
              <a:rPr b="1" lang="ru-RU" sz="4000" spc="-1" strike="noStrike">
                <a:solidFill>
                  <a:srgbClr val="008000"/>
                </a:solidFill>
                <a:latin typeface="StoneSerif SAIN SmBd v.1"/>
              </a:rPr>
              <a:t> класс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StoneSerif SBIN SmBd v.1"/>
              </a:rPr>
              <a:t>УМК </a:t>
            </a: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«</a:t>
            </a:r>
            <a:r>
              <a:rPr b="1" lang="ru-RU" sz="2400" spc="-1" strike="noStrike">
                <a:solidFill>
                  <a:srgbClr val="003366"/>
                </a:solidFill>
                <a:latin typeface="StoneSerif SBIN SmBd v.1"/>
              </a:rPr>
              <a:t>Школа России</a:t>
            </a:r>
            <a:r>
              <a:rPr b="1" lang="ru-RU" sz="2400" spc="-1" strike="noStrike">
                <a:solidFill>
                  <a:srgbClr val="003366"/>
                </a:solidFill>
                <a:latin typeface="Comic Sans MS"/>
              </a:rPr>
              <a:t>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724280" y="533412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Учитель: Климова Г.Н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9. Что ты делаешь для того, чтобы твои зубы были здоровыми?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755640" y="227664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Для закаливания ем одновременно горячее и холодное.</a:t>
            </a: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4" name="Picture 6" descr="MCj04280610000[1]"/>
          <p:cNvPicPr/>
          <p:nvPr/>
        </p:nvPicPr>
        <p:blipFill>
          <a:blip r:embed="rId1"/>
          <a:stretch/>
        </p:blipFill>
        <p:spPr>
          <a:xfrm>
            <a:off x="5148360" y="2421000"/>
            <a:ext cx="2736720" cy="20160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7"/>
          <p:cNvSpPr/>
          <p:nvPr/>
        </p:nvSpPr>
        <p:spPr>
          <a:xfrm>
            <a:off x="826920" y="4941720"/>
            <a:ext cx="78487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Чищу зубы два раза в день – утром и вечером.</a:t>
            </a:r>
            <a:br>
              <a:rPr sz="3200"/>
            </a:b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755640" y="3284640"/>
            <a:ext cx="7932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Чищу зубы иголкой или другим острым предметом, если есть остатки пищи между зубами.</a:t>
            </a: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826920" y="5805360"/>
            <a:ext cx="7829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Грызу орехи и конфеты, чтобы укрепить зубы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508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51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51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10. В какой строке указаны слова, описывающие здорового человека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утулый, крепкий, неуклюжий, высоки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1" name="Picture 8" descr="MCj04336860000[1]"/>
          <p:cNvPicPr/>
          <p:nvPr/>
        </p:nvPicPr>
        <p:blipFill>
          <a:blip r:embed="rId1"/>
          <a:stretch/>
        </p:blipFill>
        <p:spPr>
          <a:xfrm>
            <a:off x="7667640" y="2492280"/>
            <a:ext cx="1182600" cy="17859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0"/>
          <p:cNvSpPr/>
          <p:nvPr/>
        </p:nvSpPr>
        <p:spPr>
          <a:xfrm>
            <a:off x="755640" y="3357720"/>
            <a:ext cx="806616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Горбатый, бледный, хилый, низки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826920" y="4437000"/>
            <a:ext cx="806616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тройный, сильный, ловкий, статны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Picture 13" descr="MCj04321050000[1]"/>
          <p:cNvPicPr/>
          <p:nvPr/>
        </p:nvPicPr>
        <p:blipFill>
          <a:blip r:embed="rId2"/>
          <a:stretch/>
        </p:blipFill>
        <p:spPr>
          <a:xfrm>
            <a:off x="3564000" y="5084640"/>
            <a:ext cx="1468440" cy="158436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1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55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564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7" name="Picture 20" descr="MCj04324590000[1]"/>
          <p:cNvPicPr/>
          <p:nvPr/>
        </p:nvPicPr>
        <p:blipFill>
          <a:blip r:embed="rId1"/>
          <a:stretch/>
        </p:blipFill>
        <p:spPr>
          <a:xfrm>
            <a:off x="971640" y="836640"/>
            <a:ext cx="1536480" cy="1812960"/>
          </a:xfrm>
          <a:prstGeom prst="rect">
            <a:avLst/>
          </a:prstGeom>
          <a:ln w="0">
            <a:noFill/>
          </a:ln>
        </p:spPr>
      </p:pic>
      <p:sp>
        <p:nvSpPr>
          <p:cNvPr id="178" name="WordArt 22"/>
          <p:cNvSpPr txBox="1"/>
          <p:nvPr/>
        </p:nvSpPr>
        <p:spPr>
          <a:xfrm>
            <a:off x="1547640" y="3170160"/>
            <a:ext cx="6985080" cy="162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9" name="Picture 28" descr="MCj04324870000[1]"/>
          <p:cNvPicPr/>
          <p:nvPr/>
        </p:nvPicPr>
        <p:blipFill>
          <a:blip r:embed="rId4"/>
          <a:stretch/>
        </p:blipFill>
        <p:spPr>
          <a:xfrm>
            <a:off x="6516720" y="4724280"/>
            <a:ext cx="1847880" cy="19843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1. Какая наука изучает внешнее и внутреннее строение человека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9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Ботаник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18" descr="j0240719"/>
          <p:cNvPicPr/>
          <p:nvPr/>
        </p:nvPicPr>
        <p:blipFill>
          <a:blip r:embed="rId1"/>
          <a:stretch/>
        </p:blipFill>
        <p:spPr>
          <a:xfrm>
            <a:off x="6227640" y="2492280"/>
            <a:ext cx="2448000" cy="38894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9"/>
          <p:cNvSpPr/>
          <p:nvPr/>
        </p:nvSpPr>
        <p:spPr>
          <a:xfrm>
            <a:off x="816120" y="3446640"/>
            <a:ext cx="3770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Анатом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20"/>
          <p:cNvSpPr/>
          <p:nvPr/>
        </p:nvSpPr>
        <p:spPr>
          <a:xfrm>
            <a:off x="826920" y="4519440"/>
            <a:ext cx="377064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Истор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21"/>
          <p:cNvSpPr/>
          <p:nvPr/>
        </p:nvSpPr>
        <p:spPr>
          <a:xfrm>
            <a:off x="816120" y="5603760"/>
            <a:ext cx="377028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Зоолог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75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7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75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7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75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7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75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805788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2. Зачем нужно знать свой организм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965920" cy="85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Чтобы сохранять и укреплять здоровь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4" descr="MPj04020020000[1]"/>
          <p:cNvPicPr/>
          <p:nvPr/>
        </p:nvPicPr>
        <p:blipFill>
          <a:blip r:embed="rId1"/>
          <a:stretch/>
        </p:blipFill>
        <p:spPr>
          <a:xfrm>
            <a:off x="6659640" y="3357720"/>
            <a:ext cx="2292120" cy="3132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860400" y="3559320"/>
            <a:ext cx="66643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Чтобы человек мог мыслить, говорить, трудитьс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826920" y="4797360"/>
            <a:ext cx="59659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Чтобы умело использовать свои возможнос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9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3. Какие части тела относятся к внешнему строению человека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Голов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17" descr="j0186348"/>
          <p:cNvPicPr/>
          <p:nvPr/>
        </p:nvPicPr>
        <p:blipFill>
          <a:blip r:embed="rId1"/>
          <a:stretch/>
        </p:blipFill>
        <p:spPr>
          <a:xfrm>
            <a:off x="6000840" y="2708280"/>
            <a:ext cx="1884240" cy="33847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8"/>
          <p:cNvSpPr/>
          <p:nvPr/>
        </p:nvSpPr>
        <p:spPr>
          <a:xfrm>
            <a:off x="793800" y="3139920"/>
            <a:ext cx="37702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Ше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Rectangle 19"/>
          <p:cNvSpPr/>
          <p:nvPr/>
        </p:nvSpPr>
        <p:spPr>
          <a:xfrm>
            <a:off x="793800" y="391968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Печень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771480" y="471024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Туловищ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771480" y="548964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Конечнос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4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0" descr="MCBD20082_0000[1]"/>
          <p:cNvPicPr/>
          <p:nvPr/>
        </p:nvPicPr>
        <p:blipFill>
          <a:blip r:embed="rId1"/>
          <a:stretch/>
        </p:blipFill>
        <p:spPr>
          <a:xfrm>
            <a:off x="5580000" y="4437000"/>
            <a:ext cx="1871640" cy="2249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899280" y="837000"/>
            <a:ext cx="778032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4. Найди лишнюю пару.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55640" y="2349000"/>
            <a:ext cx="654192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рган пищеварения – желудок.</a:t>
            </a: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755640" y="3068640"/>
            <a:ext cx="6541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рган зрения – глаз.</a:t>
            </a: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755640" y="3789360"/>
            <a:ext cx="784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рган кровообращения – сердце.</a:t>
            </a: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755640" y="4437000"/>
            <a:ext cx="6541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Орган слуха – язык.</a:t>
            </a:r>
            <a:br>
              <a:rPr sz="3200"/>
            </a:b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84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89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94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5. Что придает форму телу, обеспечивает движение, защищает от повреждения?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Кож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Picture 7" descr="MCj04160000000[1]"/>
          <p:cNvPicPr/>
          <p:nvPr/>
        </p:nvPicPr>
        <p:blipFill>
          <a:blip r:embed="rId1"/>
          <a:stretch/>
        </p:blipFill>
        <p:spPr>
          <a:xfrm>
            <a:off x="5580000" y="2492280"/>
            <a:ext cx="2016360" cy="36007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8"/>
          <p:cNvSpPr/>
          <p:nvPr/>
        </p:nvSpPr>
        <p:spPr>
          <a:xfrm>
            <a:off x="816120" y="312912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келет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782640" y="3941640"/>
            <a:ext cx="37702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Мышц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738360" y="471024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устав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239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24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249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254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6.С помощью какого органа дышит человек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Мозг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804960" y="316224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Желудок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782640" y="391968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ердц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793800" y="472140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Лёгки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6" name="Picture 10" descr="MCj04261700000[1]"/>
          <p:cNvPicPr/>
          <p:nvPr/>
        </p:nvPicPr>
        <p:blipFill>
          <a:blip r:embed="rId1"/>
          <a:stretch/>
        </p:blipFill>
        <p:spPr>
          <a:xfrm>
            <a:off x="5435640" y="2997360"/>
            <a:ext cx="2665440" cy="239868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0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14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19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24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7. Какой орган называют главным отделением «внутренней кухни»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Лёгки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Picture 8" descr="MCj04263320000[1]"/>
          <p:cNvPicPr/>
          <p:nvPr/>
        </p:nvPicPr>
        <p:blipFill>
          <a:blip r:embed="rId1"/>
          <a:stretch/>
        </p:blipFill>
        <p:spPr>
          <a:xfrm>
            <a:off x="5676840" y="2997360"/>
            <a:ext cx="1936800" cy="20253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9"/>
          <p:cNvSpPr/>
          <p:nvPr/>
        </p:nvSpPr>
        <p:spPr>
          <a:xfrm>
            <a:off x="826920" y="3006720"/>
            <a:ext cx="37706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ердц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792000" y="3649680"/>
            <a:ext cx="37706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Желудок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781200" y="4303800"/>
            <a:ext cx="37702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Поч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76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8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8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39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8. Какой орган управляет работой всего организма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ердц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7" name="Picture 6" descr="MCj01978360000[1]"/>
          <p:cNvPicPr/>
          <p:nvPr/>
        </p:nvPicPr>
        <p:blipFill>
          <a:blip r:embed="rId1"/>
          <a:stretch/>
        </p:blipFill>
        <p:spPr>
          <a:xfrm>
            <a:off x="5683320" y="2852640"/>
            <a:ext cx="2560680" cy="22449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7"/>
          <p:cNvSpPr/>
          <p:nvPr/>
        </p:nvSpPr>
        <p:spPr>
          <a:xfrm>
            <a:off x="816120" y="312912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Кишечник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770040" y="390852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Мозг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770040" y="4676760"/>
            <a:ext cx="37702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Лёгкие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41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46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51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456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11:53:49Z</dcterms:created>
  <dc:creator>buba</dc:creator>
  <dc:description/>
  <dc:language>en-US</dc:language>
  <cp:lastModifiedBy>LEGION2</cp:lastModifiedBy>
  <dcterms:modified xsi:type="dcterms:W3CDTF">2015-04-24T08:26:44Z</dcterms:modified>
  <cp:revision>18</cp:revision>
  <dc:subject/>
  <dc:title>Организм человека</dc:title>
</cp:coreProperties>
</file>