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4.wmf" ContentType="image/x-wmf"/>
  <Override PartName="/ppt/media/image13.jpeg" ContentType="image/jpeg"/>
  <Override PartName="/ppt/media/image3.wmf" ContentType="image/x-wmf"/>
  <Override PartName="/ppt/media/chimes.wav" ContentType="audio/x-wav"/>
  <Override PartName="/ppt/media/image7.wmf" ContentType="image/x-wmf"/>
  <Override PartName="/ppt/media/image12.wmf" ContentType="image/x-wmf"/>
  <Override PartName="/ppt/media/laser.wav" ContentType="audio/x-wav"/>
  <Override PartName="/ppt/media/image1.wmf" ContentType="image/x-wmf"/>
  <Override PartName="/ppt/media/image2.jpeg" ContentType="image/jpeg"/>
  <Override PartName="/ppt/media/image4.wmf" ContentType="image/x-wmf"/>
  <Override PartName="/ppt/media/applause.wav" ContentType="audio/x-wav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67E4-4817-417A-966B-505049F3DEC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StoneSerif SBIN SmBd v.1"/>
              </a:rPr>
              <a:t>Организм челов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StoneSerif SAIN SmBd v.1"/>
              </a:rPr>
              <a:t>Т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StoneSerif SAIN SmBd v.1"/>
              </a:rPr>
              <a:t>3</a:t>
            </a:r>
            <a:r>
              <a:rPr b="1" lang="ru-RU" sz="2000" spc="-1" strike="noStrike">
                <a:solidFill>
                  <a:srgbClr val="008000"/>
                </a:solidFill>
                <a:latin typeface="StoneSerif SAIN SmBd v.1"/>
              </a:rPr>
              <a:t>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toneSerif SBIN SmBd v.1"/>
              </a:rPr>
              <a:t>УМК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StoneSerif SBIN SmBd v.1"/>
              </a:rPr>
              <a:t>Школа России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410C-3BE9-41D9-BE00-A116742D4CF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Что ты делаешь для того, чтобы твои зубы были здоровы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каливания ем одновременно горячее и холод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щу зубы иголкой или другим острым предметом, если есть остатки пищи между зуба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щу зубы два раза в день – утром и вечером.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ызу орехи и конфеты, чтобы укрепить зу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2304-AD4B-4E53-89BA-8427F150B1C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В какой строке указаны слова, описывающие здорового челове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улый, крепкий, неуклюжий, высо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улый, крепкий, неуклюжий, высо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батый, бледный, хилый, низ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йный, сильный, ловкий, ста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16F4-0AD4-4898-95FF-9BEE7A2EC76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1. Какая наука изучает внешнее и внутреннее строение человека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таника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томия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6702-6A76-46A4-9541-D3C67C88D57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2. Зачем нужно знать свой организм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сохранять и укреплять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мог мыслить, говорить, труд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умело использовать свои 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F78E-3026-46D8-9157-49C85EEBE69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ие части тела относятся к внешнему строению челове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а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ч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ловищ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6C42-7800-4DD1-8F52-D7CE08A3F69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4. Найди лишнюю пару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пищеварения – желудо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зрения – гла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кровообращения – сердц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слуха – язы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6F23-CEFC-4F0E-A6FB-C1BE993D126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Что придает форму телу, обеспечивает движение, защищает от повреждения?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ж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е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цы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ст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EC2F-24D0-473A-85C0-6BC8A2A8A6F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6.С помощью какого органа дышит человек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у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682A-7FD5-4DAF-859C-A70A0BFAF08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Какой орган называют главным отделением «внутренней кухни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у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28F9-DB30-4914-96FE-9C87DF030EA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Какой орган управляет работой всего организм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шеч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B1AF-12E9-41D6-A125-B3EA3FC1A6E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A04-563B-4F8E-98A5-E4FCB21A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7016-7769-44FA-B237-F3765E72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373F-B900-4CC2-BA5B-3BFD9325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A750-15CD-4019-8B00-5BF9E2CA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6D72-3154-4D14-9632-FE1D64A6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6ED1-2671-40F5-AB8B-FF936188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755D-6ABE-4834-A893-29D3B313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F5CD-2954-4B98-A25C-6E8C633A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7A94-AEBB-4DEE-AEF3-49EAB987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B4A2-1337-4A6E-8D88-942BC35E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97C9-EA18-4BAB-B6EA-B7B728DC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5FC-D1A1-45D4-99C9-326E217D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69A8-FCC8-48BE-B244-879F34C9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3ADE-43A1-4A32-A0F2-BB83F07F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C436-247D-4C42-9F29-5AC6A2FF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6AD4-3A45-4FD6-8278-64A610B1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DC0E-71F5-4702-A8BB-FB4597BF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83AD-E2D3-4EF4-9C05-80C5B9BF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0943-19E1-4D0A-83C4-0AE6FF7D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7B3-31D2-4735-AC90-04D85358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FADE-69D3-474E-BBD2-674D533E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C055-F116-4BE7-BA13-89EF74C5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90DE-507B-43A0-BEDD-847E97A4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C093-291D-4CCE-A2C5-5AFE525C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3876-B7E9-4EC2-A6C5-BE7D740009F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1027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1028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1029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1030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1031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EDD1-8E8B-492C-8EDE-B89AA7DB91A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audio" Target="../media/applause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StoneSerif SBIN SmBd v.1"/>
              </a:rPr>
              <a:t>Организм человека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0" y="2971440"/>
            <a:ext cx="40132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StoneSerif SAIN SmBd v.1"/>
              </a:rPr>
              <a:t>Тес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StoneSerif SAIN SmBd v.1"/>
              </a:rPr>
              <a:t>3</a:t>
            </a:r>
            <a:r>
              <a:rPr b="1" lang="ru-RU" sz="4000" spc="-1" strike="noStrike">
                <a:solidFill>
                  <a:srgbClr val="008000"/>
                </a:solidFill>
                <a:latin typeface="StoneSerif SAIN SmBd v.1"/>
              </a:rPr>
              <a:t> класс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StoneSerif SBIN SmBd v.1"/>
              </a:rPr>
              <a:t>УМК </a:t>
            </a: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«</a:t>
            </a:r>
            <a:r>
              <a:rPr b="1" lang="ru-RU" sz="2400" spc="-1" strike="noStrike">
                <a:solidFill>
                  <a:srgbClr val="003366"/>
                </a:solidFill>
                <a:latin typeface="StoneSerif SBIN SmBd v.1"/>
              </a:rPr>
              <a:t>Школа России</a:t>
            </a: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724280" y="53341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Учитель: Климова Г.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9. Что ты делаешь для того, чтобы твои зубы были здоровыми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55640" y="2276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Для закаливания ем одновременно горячее и холодное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Picture 6" descr="MCj04280610000[1]"/>
          <p:cNvPicPr/>
          <p:nvPr/>
        </p:nvPicPr>
        <p:blipFill>
          <a:blip r:embed="rId1"/>
          <a:stretch/>
        </p:blipFill>
        <p:spPr>
          <a:xfrm>
            <a:off x="5148360" y="2421000"/>
            <a:ext cx="2736720" cy="2016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826920" y="4941720"/>
            <a:ext cx="7848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ищу зубы два раза в день – утром и вечером.</a:t>
            </a:r>
            <a:br>
              <a:rPr sz="32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755640" y="3284640"/>
            <a:ext cx="7932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ищу зубы иголкой или другим острым предметом, если есть остатки пищи между зубами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826920" y="5805360"/>
            <a:ext cx="7829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рызу орехи и конфеты, чтобы укрепить зубы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0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1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0. В какой строке указаны слова, описывающие здорового челове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утулый, крепкий, неуклюжий, высок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Picture 8" descr="MCj04336860000[1]"/>
          <p:cNvPicPr/>
          <p:nvPr/>
        </p:nvPicPr>
        <p:blipFill>
          <a:blip r:embed="rId1"/>
          <a:stretch/>
        </p:blipFill>
        <p:spPr>
          <a:xfrm>
            <a:off x="7667640" y="2492280"/>
            <a:ext cx="1182600" cy="17859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0"/>
          <p:cNvSpPr/>
          <p:nvPr/>
        </p:nvSpPr>
        <p:spPr>
          <a:xfrm>
            <a:off x="755640" y="3357720"/>
            <a:ext cx="8066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орбатый, бледный, хилый, низк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826920" y="4437000"/>
            <a:ext cx="8066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тройный, сильный, ловкий, статны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13" descr="MCj04321050000[1]"/>
          <p:cNvPicPr/>
          <p:nvPr/>
        </p:nvPicPr>
        <p:blipFill>
          <a:blip r:embed="rId2"/>
          <a:stretch/>
        </p:blipFill>
        <p:spPr>
          <a:xfrm>
            <a:off x="3564000" y="5084640"/>
            <a:ext cx="1468440" cy="15843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5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6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7" name="Picture 20" descr="MCj04324590000[1]"/>
          <p:cNvPicPr/>
          <p:nvPr/>
        </p:nvPicPr>
        <p:blipFill>
          <a:blip r:embed="rId1"/>
          <a:stretch/>
        </p:blipFill>
        <p:spPr>
          <a:xfrm>
            <a:off x="971640" y="836640"/>
            <a:ext cx="1536480" cy="1812960"/>
          </a:xfrm>
          <a:prstGeom prst="rect">
            <a:avLst/>
          </a:prstGeom>
          <a:ln w="0">
            <a:noFill/>
          </a:ln>
        </p:spPr>
      </p:pic>
      <p:sp>
        <p:nvSpPr>
          <p:cNvPr id="178" name="WordArt 22"/>
          <p:cNvSpPr txBox="1"/>
          <p:nvPr/>
        </p:nvSpPr>
        <p:spPr>
          <a:xfrm>
            <a:off x="1547640" y="3170160"/>
            <a:ext cx="698508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9" name="Picture 28" descr="MCj04324870000[1]"/>
          <p:cNvPicPr/>
          <p:nvPr/>
        </p:nvPicPr>
        <p:blipFill>
          <a:blip r:embed="rId4"/>
          <a:stretch/>
        </p:blipFill>
        <p:spPr>
          <a:xfrm>
            <a:off x="6516720" y="4724280"/>
            <a:ext cx="1847880" cy="19843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1. Какая наука изучает внешнее и внутреннее строение человека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Ботаник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18" descr="j0240719"/>
          <p:cNvPicPr/>
          <p:nvPr/>
        </p:nvPicPr>
        <p:blipFill>
          <a:blip r:embed="rId1"/>
          <a:stretch/>
        </p:blipFill>
        <p:spPr>
          <a:xfrm>
            <a:off x="6227640" y="2492280"/>
            <a:ext cx="2448000" cy="38894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9"/>
          <p:cNvSpPr/>
          <p:nvPr/>
        </p:nvSpPr>
        <p:spPr>
          <a:xfrm>
            <a:off x="816120" y="3446640"/>
            <a:ext cx="3770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Анатом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826920" y="4519440"/>
            <a:ext cx="377064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Истор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816120" y="5603760"/>
            <a:ext cx="377028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Зоолог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805788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2. Зачем нужно знать свой организм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96592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сохранять и укреплять здоровь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MPj04020020000[1]"/>
          <p:cNvPicPr/>
          <p:nvPr/>
        </p:nvPicPr>
        <p:blipFill>
          <a:blip r:embed="rId1"/>
          <a:stretch/>
        </p:blipFill>
        <p:spPr>
          <a:xfrm>
            <a:off x="6659640" y="3357720"/>
            <a:ext cx="2292120" cy="3132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860400" y="3559320"/>
            <a:ext cx="66643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человек мог мыслить, говорить, трудитьс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826920" y="4797360"/>
            <a:ext cx="59659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умело использовать свои возмож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3. Какие части тела относятся к внешнему строению челове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оло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7" descr="j0186348"/>
          <p:cNvPicPr/>
          <p:nvPr/>
        </p:nvPicPr>
        <p:blipFill>
          <a:blip r:embed="rId1"/>
          <a:stretch/>
        </p:blipFill>
        <p:spPr>
          <a:xfrm>
            <a:off x="6000840" y="2708280"/>
            <a:ext cx="1884240" cy="3384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8"/>
          <p:cNvSpPr/>
          <p:nvPr/>
        </p:nvSpPr>
        <p:spPr>
          <a:xfrm>
            <a:off x="793800" y="3139920"/>
            <a:ext cx="37702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е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793800" y="391968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ечень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771480" y="4710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Туловищ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771480" y="54896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онеч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4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" descr="MCBD20082_0000[1]"/>
          <p:cNvPicPr/>
          <p:nvPr/>
        </p:nvPicPr>
        <p:blipFill>
          <a:blip r:embed="rId1"/>
          <a:stretch/>
        </p:blipFill>
        <p:spPr>
          <a:xfrm>
            <a:off x="5580000" y="4437000"/>
            <a:ext cx="1871640" cy="2249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99280" y="837000"/>
            <a:ext cx="778032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4. Найди лишнюю пару.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55640" y="2349000"/>
            <a:ext cx="65419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пищеварения – желудок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55640" y="3068640"/>
            <a:ext cx="6541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зрения – глаз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755640" y="3789360"/>
            <a:ext cx="784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кровообращения – сердце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755640" y="4437000"/>
            <a:ext cx="6541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слуха – язык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84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8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94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5. Что придает форму телу, обеспечивает движение, защищает от повреждения?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ож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7" descr="MCj04160000000[1]"/>
          <p:cNvPicPr/>
          <p:nvPr/>
        </p:nvPicPr>
        <p:blipFill>
          <a:blip r:embed="rId1"/>
          <a:stretch/>
        </p:blipFill>
        <p:spPr>
          <a:xfrm>
            <a:off x="5580000" y="2492280"/>
            <a:ext cx="2016360" cy="3600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816120" y="31291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кел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82640" y="3941640"/>
            <a:ext cx="37702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ышц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738360" y="4710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устав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3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4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4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5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6.С помощью какого органа дышит человек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оз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804960" y="3162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Желудо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782640" y="391968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793800" y="472140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Picture 10" descr="MCj04261700000[1]"/>
          <p:cNvPicPr/>
          <p:nvPr/>
        </p:nvPicPr>
        <p:blipFill>
          <a:blip r:embed="rId1"/>
          <a:stretch/>
        </p:blipFill>
        <p:spPr>
          <a:xfrm>
            <a:off x="5435640" y="2997360"/>
            <a:ext cx="2665440" cy="23986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0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24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7. Какой орган называют главным отделением «внутренней кухни»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8" descr="MCj04263320000[1]"/>
          <p:cNvPicPr/>
          <p:nvPr/>
        </p:nvPicPr>
        <p:blipFill>
          <a:blip r:embed="rId1"/>
          <a:stretch/>
        </p:blipFill>
        <p:spPr>
          <a:xfrm>
            <a:off x="5676840" y="2997360"/>
            <a:ext cx="1936800" cy="2025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9"/>
          <p:cNvSpPr/>
          <p:nvPr/>
        </p:nvSpPr>
        <p:spPr>
          <a:xfrm>
            <a:off x="826920" y="3006720"/>
            <a:ext cx="3770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792000" y="3649680"/>
            <a:ext cx="3770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Желудо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781200" y="4303800"/>
            <a:ext cx="37702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оч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76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8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8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9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8. Какой орган управляет работой всего организм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6" descr="MCj01978360000[1]"/>
          <p:cNvPicPr/>
          <p:nvPr/>
        </p:nvPicPr>
        <p:blipFill>
          <a:blip r:embed="rId1"/>
          <a:stretch/>
        </p:blipFill>
        <p:spPr>
          <a:xfrm>
            <a:off x="5683320" y="2852640"/>
            <a:ext cx="2560680" cy="2244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816120" y="31291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ишечни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70040" y="39085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оз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770040" y="467676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4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46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51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56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1:53:49Z</dcterms:created>
  <dc:creator>buba</dc:creator>
  <dc:description/>
  <dc:language>en-US</dc:language>
  <cp:lastModifiedBy>LEGION2</cp:lastModifiedBy>
  <dcterms:modified xsi:type="dcterms:W3CDTF">2015-04-24T08:26:44Z</dcterms:modified>
  <cp:revision>18</cp:revision>
  <dc:subject/>
  <dc:title>Организм человека</dc:title>
</cp:coreProperties>
</file>