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51F4-C28D-4CCD-A142-BADE3A0FAC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Профессии наших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Творческий проект учащихся 2 «б» класса МОУ СОШ №21 ЦПО г. Якут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B182-7A2C-40D4-AED5-668F1158F1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Презентация и обсуждение полученных результа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 классе был проведен классный час, на котором ребята представили результаты своей работы</a:t>
            </a: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После представления работ ребята делились впечатлениями, выражали свое мнение о полученных результат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Был собран альбом «Профессии наших родител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08AE-BE46-4DE5-88B1-7DE1687905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Узнавая профессии своих родителей, мы получаем первое впечатление о мире профессий и начинаем ориентироваться в данном социальном вопро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ажно знать профессии своих родителей, так как видя их отношение к работе, мы также будем относиться к своей будущей рабо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82B7-5849-49AD-BF75-2B7C111514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Визитка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Предметная область: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окружающ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Участники: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учащиеся 2 «б»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Тип проекта: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твор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Продукт: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альбом «Профессии наших родител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Продолжительность: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3 не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781A-C2E3-4288-807A-63102B74D9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Задачи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узнать у родителей об их профе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сделать экскурсию на место работы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подготовить сообщение по итогам экскур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оформить альбом «Профессии наших родител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78D1-BAD4-49C9-AE20-8759B997DB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Этапы работы над проект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Погружение в про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Организацион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Осуществление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Обработка и оформление  полученны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Презентация и обсуждение полученны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96E1-8821-4222-AA6B-1CC7B9DBC7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Погружение в про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На данном этапе было проведено анкетирование учащих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Ребятам было предложено ответить на два вопро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1. Знаешь ли ты, кем работают твои родите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2. В чем заключается работа твоих родител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05BA-B1E3-4D66-B34E-E907DEF08B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Результаты анкет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Анкетирование показало, что  60</a:t>
            </a:r>
            <a:r>
              <a:rPr b="1" lang="en-US" sz="1200" spc="-1" strike="noStrike">
                <a:solidFill>
                  <a:srgbClr val="800000"/>
                </a:solidFill>
                <a:latin typeface="Comic Sans MS"/>
              </a:rPr>
              <a:t>% </a:t>
            </a: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учащихся знают профессии своих родителей, но 80</a:t>
            </a:r>
            <a:r>
              <a:rPr b="1" lang="en-US" sz="1200" spc="-1" strike="noStrike">
                <a:solidFill>
                  <a:srgbClr val="800000"/>
                </a:solidFill>
                <a:latin typeface="Comic Sans MS"/>
              </a:rPr>
              <a:t>% </a:t>
            </a: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учащихся не знают, в чем заключается их работа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Таким образом, возникла необходимость решения данной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23D8-0F40-4E05-8008-BEADB58E95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Организацион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Для решения возникшей проблемы, совместно был разработан план мероприят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1. Сделать экскурсию на работу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2. Узнать (используя вопросник) у родителей, в чем заключается их раб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3. Оформить полученные 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A264-3AFF-4F7A-97CA-C3EB775EB8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Осуществление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На данном этапе ребята собирали данные, проводили интервью с родителями, делали экскурсии на место работы своих род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4EA6-F6D0-4BCE-BCCD-1BAEED25B5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Обработка и оформление полученны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На данном этапе ребята писали сочинения, готовили презентации, делали рисунки, подбирали сти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2391-14DC-48C2-8175-B810139A8A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84F8-1AF0-4365-A880-49CBB7CA4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6C1B-7146-4BBE-A361-65294168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458D-F2B2-4005-8F5D-9F231A78D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727A-25B2-4F51-89E5-7AC50648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6681-B6A8-4FD4-B047-9A3C21A7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136E-3462-4CF5-A307-F66EB8FC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4915-84F3-4425-A4BF-87238BCA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1A5F-28CF-465D-BBB2-9C033293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B5CD-7AB5-4C1E-8539-6A883FDE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E7CD-BED1-4EBF-85F9-E2C92598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921E-091D-498A-8260-5D0043DC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A103-5D20-41C9-A70E-5ADC41E1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D21A-7E00-4316-9E14-8B778513D6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Профессии наших родителе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5444640"/>
            <a:ext cx="806436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Творческий проект учащихся 2 «б» класса МОУ СОШ №21 ЦПО г. Якут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untitled"/>
          <p:cNvPicPr/>
          <p:nvPr/>
        </p:nvPicPr>
        <p:blipFill>
          <a:blip r:embed="rId1"/>
          <a:stretch/>
        </p:blipFill>
        <p:spPr>
          <a:xfrm>
            <a:off x="2928960" y="2857680"/>
            <a:ext cx="3327480" cy="216036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Презентация и обсуждение полученных результа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В классе был проведен классный час, на котором ребята представили результаты своей работы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сле представления работ ребята делились впечатлениями, выражали свое мнение о полученных результат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Был собран альбом «Профессии наших родител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Узнавая профессии своих родителей, мы получаем первое впечатление о мире профессий и начинаем ориентироваться в данном социальном вопрос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Важно знать профессии своих родителей, так как видя их отношение к работе, мы также будем относиться к своей будущей раб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Визитка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Предметная область: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Участники: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учащиеся 2 «б»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Тип проекта: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твор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Продукт: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альбом «Профессии наших родител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Продолжительность: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3 не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640" y="220464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Задачи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узнать у родителей об их профе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сделать экскурсию на место работы родите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дготовить сообщение по итогам экскур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оформить альбом «Профессии наших родител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539640" y="260280"/>
            <a:ext cx="8136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Цель проекта:</a:t>
            </a: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знакомиться </a:t>
            </a:r>
            <a:br>
              <a:rPr sz="3200"/>
            </a:b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с профессиями своих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Этапы работы над проекто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гружение в про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Организационны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Осуществление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Обработка и оформление  полученных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резентация и обсуждение полученных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Погружение в 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На данном этапе было проведено анкетирование учащих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Ребятам было предложено ответить на два вопро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1. Знаешь ли ты, кем работают твои родите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2. В чем заключается работа твоих родител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Результаты анкетир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4"/>
          <p:cNvGraphicFramePr/>
          <p:nvPr/>
        </p:nvGraphicFramePr>
        <p:xfrm>
          <a:off x="826920" y="765000"/>
          <a:ext cx="770580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765000"/>
                    <a:ext cx="77058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Rectangle 9"/>
          <p:cNvSpPr/>
          <p:nvPr/>
        </p:nvSpPr>
        <p:spPr>
          <a:xfrm>
            <a:off x="0" y="4581360"/>
            <a:ext cx="91440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Анкетирование показало, что  60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%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учащихся знают профессии своих родителей, но 80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%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учащихся не знают, в чем заключается их работа</a:t>
            </a: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Таким образом, возникла необходимость решения данной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рганизационны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Для решения возникшей проблемы, совместно был разработан план мероприят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1. Сделать экскурсию на работу родите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2. Узнать (используя вопросник) у родителей, в чем заключается их рабо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3. Оформить получен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существление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На данном этапе ребята собирали данные, проводили интервью с родителями, делали экскурсии на место работы своих родите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Изображение 011"/>
          <p:cNvPicPr/>
          <p:nvPr/>
        </p:nvPicPr>
        <p:blipFill>
          <a:blip r:embed="rId1"/>
          <a:stretch/>
        </p:blipFill>
        <p:spPr>
          <a:xfrm>
            <a:off x="684360" y="4005360"/>
            <a:ext cx="1944720" cy="244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Изображение 007"/>
          <p:cNvPicPr/>
          <p:nvPr/>
        </p:nvPicPr>
        <p:blipFill>
          <a:blip r:embed="rId2"/>
          <a:stretch/>
        </p:blipFill>
        <p:spPr>
          <a:xfrm>
            <a:off x="6443640" y="3860640"/>
            <a:ext cx="2089080" cy="2737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Изображение 001"/>
          <p:cNvPicPr/>
          <p:nvPr/>
        </p:nvPicPr>
        <p:blipFill>
          <a:blip r:embed="rId3"/>
          <a:stretch/>
        </p:blipFill>
        <p:spPr>
          <a:xfrm>
            <a:off x="3132000" y="4437000"/>
            <a:ext cx="2881440" cy="194328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бработка и оформление полученных результа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На данном этапе ребята писали сочинения, готовили презентации, делали рисунки, подбирали сти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Изображение 009"/>
          <p:cNvPicPr/>
          <p:nvPr/>
        </p:nvPicPr>
        <p:blipFill>
          <a:blip r:embed="rId1"/>
          <a:stretch/>
        </p:blipFill>
        <p:spPr>
          <a:xfrm>
            <a:off x="4356000" y="5300640"/>
            <a:ext cx="2016360" cy="1251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Изображение 006"/>
          <p:cNvPicPr/>
          <p:nvPr/>
        </p:nvPicPr>
        <p:blipFill>
          <a:blip r:embed="rId2"/>
          <a:stretch/>
        </p:blipFill>
        <p:spPr>
          <a:xfrm>
            <a:off x="6588000" y="3789360"/>
            <a:ext cx="2087640" cy="2730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Изображение 004"/>
          <p:cNvPicPr/>
          <p:nvPr/>
        </p:nvPicPr>
        <p:blipFill>
          <a:blip r:embed="rId3"/>
          <a:stretch/>
        </p:blipFill>
        <p:spPr>
          <a:xfrm>
            <a:off x="3564000" y="3789360"/>
            <a:ext cx="2016000" cy="12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Изображение 010"/>
          <p:cNvPicPr/>
          <p:nvPr/>
        </p:nvPicPr>
        <p:blipFill>
          <a:blip r:embed="rId4"/>
          <a:stretch/>
        </p:blipFill>
        <p:spPr>
          <a:xfrm>
            <a:off x="1619280" y="5373720"/>
            <a:ext cx="215892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Изображение"/>
          <p:cNvPicPr/>
          <p:nvPr/>
        </p:nvPicPr>
        <p:blipFill>
          <a:blip r:embed="rId5"/>
          <a:stretch/>
        </p:blipFill>
        <p:spPr>
          <a:xfrm>
            <a:off x="539640" y="3860640"/>
            <a:ext cx="2232000" cy="144000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4:36:38Z</dcterms:created>
  <dc:creator>User</dc:creator>
  <dc:description/>
  <dc:language>en-US</dc:language>
  <cp:lastModifiedBy>LEGION2</cp:lastModifiedBy>
  <dcterms:modified xsi:type="dcterms:W3CDTF">2015-04-24T08:35:22Z</dcterms:modified>
  <cp:revision>8</cp:revision>
  <dc:subject/>
  <dc:title>Профессии наших родителей</dc:title>
</cp:coreProperties>
</file>