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AC58-8F10-4360-9B4F-87A6FF3804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B774-FEC0-4FE8-BFE4-4EE71C4798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81A16-E356-4D2E-9EAC-DCCD1FEB06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AF4C-9CAF-4C7D-9D66-CD7755F02E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98A3-E1C3-4662-A531-E6DEB79260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72DCF-74EC-4CF7-BD1B-4FE3EEA436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4EDC-B45E-4B11-A8C6-E86B9386F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B654-C66C-47F2-84E0-32D3768F7FA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12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A7DC-0CA9-49C1-BE9B-39F57AC03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230C7-E1B8-4E25-8AC4-B8AAD92720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BBF2-0F6F-46AF-9409-32390E42F9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1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7B84-BE4E-42A7-88CF-0D8123FEB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287-6B1C-42F9-A9C4-31F62E5D7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2D39-5093-4602-9860-F5CAC0C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D8D8-6A10-47AB-A914-FA1EBDAD9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C7F1-312C-468C-A8F6-775ADDDAE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3694-8B52-45DE-8C00-48F797B38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2D90-4BFA-4297-AF36-E4CB13371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5B5F-6776-4798-8953-2B48DE8E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9549-4C9D-47C7-AB99-588CCED6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E7AB-877B-46EB-86D9-0035B4D2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F77D-B57D-453D-B156-D5F76975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F3C0-E90C-4989-8B42-381EF74B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742-3B19-4489-9F28-C9119F6B4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D7B3-DE44-4DEE-B408-D2D83E57CF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20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omic Sans MS"/>
              </a:rPr>
              <a:t>Профессии наших родителе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4000" y="5444640"/>
            <a:ext cx="806436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mic Sans MS"/>
              </a:rPr>
              <a:t>Творческий проект учащихся 2 «б» класса МОУ СОШ №21 ЦПО г. Якут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untitled"/>
          <p:cNvPicPr/>
          <p:nvPr/>
        </p:nvPicPr>
        <p:blipFill>
          <a:blip r:embed="rId1"/>
          <a:stretch/>
        </p:blipFill>
        <p:spPr>
          <a:xfrm>
            <a:off x="2928960" y="2857680"/>
            <a:ext cx="3327480" cy="216036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600200"/>
            <a:ext cx="82072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 классе был проведен классный час, на котором ребята представили результаты своей работы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сле представления работ ребята делились впечатлениями, выражали свое мнение о полученных результата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Был собран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ыво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вая профессии своих родителей, мы получаем первое впечатление о мире профессий и начинаем ориентироваться в данном социальном вопрос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Важно знать профессии своих родителей, так как видя их отношение к работе, мы также будем относиться к своей будуще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Визитка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едметная обла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окружающий ми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Участники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учащиеся 2 «б» кла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Тип проекта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твор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укт: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Продолжительность: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3 не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9640" y="2204640"/>
            <a:ext cx="822960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Задачи проек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узнать у родителей об их професси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делать экскурсию на место работы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дготовить сообщение по итогам экскур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формить альбом «Профессии наших родителе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539640" y="260280"/>
            <a:ext cx="8136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Цель проекта:</a:t>
            </a:r>
            <a:r>
              <a:rPr b="0" lang="ru-RU" sz="4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знакомиться </a:t>
            </a:r>
            <a:br>
              <a:rPr sz="3200"/>
            </a:b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с профессиями своих род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Этапы работы над проекто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огружение в проек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рганизационный эта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существление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Обработка и оформление 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8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Презентация и обсуждение полученных результа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Погружение в проек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было проведено анкетирование учащихс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Ребятам было предложено ответить на два вопро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Знаешь ли ты, кем работают твои родител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В чем заключается работа твоих родит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Результаты анкетиров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4"/>
          <p:cNvGraphicFramePr/>
          <p:nvPr/>
        </p:nvGraphicFramePr>
        <p:xfrm>
          <a:off x="826920" y="765000"/>
          <a:ext cx="7705800" cy="395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765000"/>
                    <a:ext cx="77058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Rectangle 9"/>
          <p:cNvSpPr/>
          <p:nvPr/>
        </p:nvSpPr>
        <p:spPr>
          <a:xfrm>
            <a:off x="0" y="4581360"/>
            <a:ext cx="9144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Анкетирование показало, что  6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знают профессии своих родителей, но 80</a:t>
            </a:r>
            <a:r>
              <a:rPr b="1" lang="en-US" sz="2400" spc="-1" strike="noStrike">
                <a:solidFill>
                  <a:srgbClr val="800000"/>
                </a:solidFill>
                <a:latin typeface="Comic Sans MS"/>
              </a:rPr>
              <a:t>% </a:t>
            </a: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учащихся не знают, в чем заключается их работа</a:t>
            </a:r>
            <a:r>
              <a:rPr b="0" lang="ru-RU" sz="2400" spc="-1" strike="noStrike">
                <a:solidFill>
                  <a:srgbClr val="8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Comic Sans MS"/>
              </a:rPr>
              <a:t>Таким образом, возникла необходимость решения данной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рганизационный эта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Для решения возникшей проблемы, совместно был разработан план мероприят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1. Сделать экскурсию на работу родителе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2. Узнать (используя вопросник) у родителей, в чем заключается их рабо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3. Оформить полученные результ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уществление деятельн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собирали данные, проводили интервью с родителями, делали экскурсии на место работы своих родителе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Изображение 011"/>
          <p:cNvPicPr/>
          <p:nvPr/>
        </p:nvPicPr>
        <p:blipFill>
          <a:blip r:embed="rId1"/>
          <a:stretch/>
        </p:blipFill>
        <p:spPr>
          <a:xfrm>
            <a:off x="684360" y="400536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Изображение 007"/>
          <p:cNvPicPr/>
          <p:nvPr/>
        </p:nvPicPr>
        <p:blipFill>
          <a:blip r:embed="rId2"/>
          <a:stretch/>
        </p:blipFill>
        <p:spPr>
          <a:xfrm>
            <a:off x="6443640" y="3860640"/>
            <a:ext cx="2089080" cy="2737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Изображение 001"/>
          <p:cNvPicPr/>
          <p:nvPr/>
        </p:nvPicPr>
        <p:blipFill>
          <a:blip r:embed="rId3"/>
          <a:stretch/>
        </p:blipFill>
        <p:spPr>
          <a:xfrm>
            <a:off x="3132000" y="4437000"/>
            <a:ext cx="2881440" cy="194328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274320"/>
            <a:ext cx="856908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бработка и оформление полученных результа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800000"/>
                </a:solidFill>
                <a:latin typeface="Comic Sans MS"/>
              </a:rPr>
              <a:t>На данном этапе ребята писали сочинения, готовили презентации, делали рисунки, подбирали сти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Изображение 009"/>
          <p:cNvPicPr/>
          <p:nvPr/>
        </p:nvPicPr>
        <p:blipFill>
          <a:blip r:embed="rId1"/>
          <a:stretch/>
        </p:blipFill>
        <p:spPr>
          <a:xfrm>
            <a:off x="4356000" y="5300640"/>
            <a:ext cx="2016360" cy="1251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Изображение 006"/>
          <p:cNvPicPr/>
          <p:nvPr/>
        </p:nvPicPr>
        <p:blipFill>
          <a:blip r:embed="rId2"/>
          <a:stretch/>
        </p:blipFill>
        <p:spPr>
          <a:xfrm>
            <a:off x="6588000" y="3789360"/>
            <a:ext cx="2087640" cy="2730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Изображение 004"/>
          <p:cNvPicPr/>
          <p:nvPr/>
        </p:nvPicPr>
        <p:blipFill>
          <a:blip r:embed="rId3"/>
          <a:stretch/>
        </p:blipFill>
        <p:spPr>
          <a:xfrm>
            <a:off x="3564000" y="3789360"/>
            <a:ext cx="2016000" cy="1295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Изображение 010"/>
          <p:cNvPicPr/>
          <p:nvPr/>
        </p:nvPicPr>
        <p:blipFill>
          <a:blip r:embed="rId4"/>
          <a:stretch/>
        </p:blipFill>
        <p:spPr>
          <a:xfrm>
            <a:off x="1619280" y="5373720"/>
            <a:ext cx="21589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Изображение"/>
          <p:cNvPicPr/>
          <p:nvPr/>
        </p:nvPicPr>
        <p:blipFill>
          <a:blip r:embed="rId5"/>
          <a:stretch/>
        </p:blipFill>
        <p:spPr>
          <a:xfrm>
            <a:off x="539640" y="3860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7T14:36:38Z</dcterms:created>
  <dc:creator>User</dc:creator>
  <dc:description/>
  <dc:language>en-US</dc:language>
  <cp:lastModifiedBy>LEGION2</cp:lastModifiedBy>
  <dcterms:modified xsi:type="dcterms:W3CDTF">2015-04-24T08:35:22Z</dcterms:modified>
  <cp:revision>8</cp:revision>
  <dc:subject/>
  <dc:title>Профессии наших родителей</dc:title>
</cp:coreProperties>
</file>