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2285-F422-440F-8C0B-E1C5BDE3AD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рофессии наших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ворческий проект учащихся 2 «б» класса МОУ СОШ №21 ЦПО г. Якут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47D4-E383-4E48-A9F8-DE6928A86D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 классе был проведен классный час, на котором ребята представили результаты своей работы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сле представления работ ребята делились впечатлениями, выражали свое мнение о полученных результа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Был собран 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A0C4-8BB4-4B59-9C59-B066AD5A12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Узнавая профессии своих родителей, мы получаем первое впечатление о мире профессий и начинаем ориентироваться в данном социальном вопр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ажно знать профессии своих родителей, так как видя их отношение к работе, мы также будем относиться к своей будуще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12B2-449A-49F7-B7D6-BC94237AC3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Визитка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едметная область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стники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учащиеся 2 «б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ип проекта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твор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одукт: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одолжительность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3 не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6E1C-C429-4A39-ACDA-B1BEB8FC9F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Задач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узнать у родителей об их профе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сделать экскурсию на место работы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дготовить сообщение по итогам экскур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формить 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694A-1734-45FD-9DFD-A2BD96B3C5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Этапы работы над проек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гружение в про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рганизацио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существлени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бработка и оформление 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1E53-C714-429B-8EB0-303B913868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Погружение в про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было проведено анкетирование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Ребятам было предложено ответить на два во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1. Знаешь ли ты, кем работают твои родит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2. В чем заключается работа твоих родите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2920-E0BB-46D2-BD96-C865DD4EF4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Результаты анке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Анкетирование показало, что  60</a:t>
            </a:r>
            <a:r>
              <a:rPr b="1" lang="en-US" sz="12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щихся знают профессии своих родителей, но 80</a:t>
            </a:r>
            <a:r>
              <a:rPr b="1" lang="en-US" sz="12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щихся не знают, в чем заключается их работа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аким образом, возникла необходимость решения да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7BF9-DD74-4889-9CB9-C41C6F3EDE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рганизацио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Для решения возникшей проблемы, совместно был разработан план мероприят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1. Сделать экскурсию на работу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2. Узнать (используя вопросник) у родителей, в чем заключается их раб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3. Оформить получен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75F8-D05F-46CA-BDAB-E318D6E3B0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существлени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ребята собирали данные, проводили интервью с родителями, делали экскурсии на место работы своих ро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AF1B-ED66-4B99-AE7D-38235D23AA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бработка и оформление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ребята писали сочинения, готовили презентации, делали рисунки, подбирали сти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44AB-37FE-40ED-A1B4-53C7AEEA90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CDB-168B-42E8-86E4-96F156FE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113D-9A4F-4582-8F90-86B14970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19C-15C1-4419-8F7F-16AF7F9D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DA46-65FA-4A4F-9942-465489D2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9E34-068D-4F35-B841-C0C89F34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1AC8-636D-4221-9D65-387D6BF8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08E3-EFAB-41A3-BAB5-D2D86AED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07AB-0FCC-4430-818D-11159EF5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A5DF-D265-4ADE-859A-94519087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9EE-92AE-4295-A817-340C42B2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8A8-E94E-4B83-8F5A-3A536FD0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0AA-1754-4063-BDB3-0179342A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A43D-5E55-48B0-A036-90A4CD8304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рофессии наших родител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5444640"/>
            <a:ext cx="80643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Творческий проект учащихся 2 «б» класса МОУ СОШ №21 ЦПО г. Якут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untitled"/>
          <p:cNvPicPr/>
          <p:nvPr/>
        </p:nvPicPr>
        <p:blipFill>
          <a:blip r:embed="rId1"/>
          <a:stretch/>
        </p:blipFill>
        <p:spPr>
          <a:xfrm>
            <a:off x="2928960" y="2857680"/>
            <a:ext cx="3327480" cy="2160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В классе был проведен классный час, на котором ребята представили результаты своей работы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сле представления работ ребята делились впечатлениями, выражали свое мнение о полученных результа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Был собран 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Узнавая профессии своих родителей, мы получаем первое впечатление о мире профессий и начинаем ориентироваться в данном социальном вопрос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Важно знать профессии своих родителей, так как видя их отношение к работе, мы также будем относиться к своей будуще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изитка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едметная область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Участники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учащиеся 2 «б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ип проекта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твор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одукт: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одолжительность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3 не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узнать у родителей об их профе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делать экскурсию на место работы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дготовить сообщение по итогам экскур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формить 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9640" y="260280"/>
            <a:ext cx="813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Цель проекта:</a:t>
            </a: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знакомиться 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 профессиями своих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Этапы работы над проект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гружение в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рганизацион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существление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бработка и оформление  получен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гружение в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было проведено анкетирование уча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Ребятам было предложено ответить на два вопро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1. Знаешь ли ты, кем работают твои родит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2. В чем заключается работа твоих родите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Результаты анкет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826920" y="765000"/>
          <a:ext cx="77058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765000"/>
                    <a:ext cx="77058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9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Анкетирование показало, что  60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чащихся знают профессии своих родителей, но 80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чащихся не знают, в чем заключается их работа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Таким образом, возникла необходимость решения данн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рганизацион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Для решения возникшей проблемы, совместно был разработан план мероприят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1. Сделать экскурсию на работу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2. Узнать (используя вопросник) у родителей, в чем заключается их раб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3. Оформить получен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существление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ребята собирали данные, проводили интервью с родителями, делали экскурсии на место работы своих роди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Изображение 011"/>
          <p:cNvPicPr/>
          <p:nvPr/>
        </p:nvPicPr>
        <p:blipFill>
          <a:blip r:embed="rId1"/>
          <a:stretch/>
        </p:blipFill>
        <p:spPr>
          <a:xfrm>
            <a:off x="684360" y="4005360"/>
            <a:ext cx="1944720" cy="24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Изображение 007"/>
          <p:cNvPicPr/>
          <p:nvPr/>
        </p:nvPicPr>
        <p:blipFill>
          <a:blip r:embed="rId2"/>
          <a:stretch/>
        </p:blipFill>
        <p:spPr>
          <a:xfrm>
            <a:off x="6443640" y="3860640"/>
            <a:ext cx="2089080" cy="273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Изображение 001"/>
          <p:cNvPicPr/>
          <p:nvPr/>
        </p:nvPicPr>
        <p:blipFill>
          <a:blip r:embed="rId3"/>
          <a:stretch/>
        </p:blipFill>
        <p:spPr>
          <a:xfrm>
            <a:off x="3132000" y="4437000"/>
            <a:ext cx="2881440" cy="19432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бработка и оформление полученных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ребята писали сочинения, готовили презентации, делали рисунки, подбирали сти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Изображение 009"/>
          <p:cNvPicPr/>
          <p:nvPr/>
        </p:nvPicPr>
        <p:blipFill>
          <a:blip r:embed="rId1"/>
          <a:stretch/>
        </p:blipFill>
        <p:spPr>
          <a:xfrm>
            <a:off x="4356000" y="5300640"/>
            <a:ext cx="2016360" cy="125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Изображение 006"/>
          <p:cNvPicPr/>
          <p:nvPr/>
        </p:nvPicPr>
        <p:blipFill>
          <a:blip r:embed="rId2"/>
          <a:stretch/>
        </p:blipFill>
        <p:spPr>
          <a:xfrm>
            <a:off x="6588000" y="3789360"/>
            <a:ext cx="2087640" cy="273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Изображение 004"/>
          <p:cNvPicPr/>
          <p:nvPr/>
        </p:nvPicPr>
        <p:blipFill>
          <a:blip r:embed="rId3"/>
          <a:stretch/>
        </p:blipFill>
        <p:spPr>
          <a:xfrm>
            <a:off x="3564000" y="3789360"/>
            <a:ext cx="2016000" cy="12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Изображение 010"/>
          <p:cNvPicPr/>
          <p:nvPr/>
        </p:nvPicPr>
        <p:blipFill>
          <a:blip r:embed="rId4"/>
          <a:stretch/>
        </p:blipFill>
        <p:spPr>
          <a:xfrm>
            <a:off x="1619280" y="5373720"/>
            <a:ext cx="215892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Изображение"/>
          <p:cNvPicPr/>
          <p:nvPr/>
        </p:nvPicPr>
        <p:blipFill>
          <a:blip r:embed="rId5"/>
          <a:stretch/>
        </p:blipFill>
        <p:spPr>
          <a:xfrm>
            <a:off x="539640" y="3860640"/>
            <a:ext cx="2232000" cy="1440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36:38Z</dcterms:created>
  <dc:creator>User</dc:creator>
  <dc:description/>
  <dc:language>en-US</dc:language>
  <cp:lastModifiedBy>LEGION2</cp:lastModifiedBy>
  <dcterms:modified xsi:type="dcterms:W3CDTF">2015-04-24T08:35:22Z</dcterms:modified>
  <cp:revision>8</cp:revision>
  <dc:subject/>
  <dc:title>Профессии наших родителей</dc:title>
</cp:coreProperties>
</file>