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4AE9-65F5-42E7-AEDD-237F62CBDC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8C0C-926F-419F-8B19-B3D301E376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3283-C16F-4EA4-B6B4-374691FEBA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65EF-3874-4F97-BB78-885348FD1F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35CF-C0E9-44BB-A562-DF7AC92D38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BFAA-98AB-46D2-B196-B0CC987A5B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54AA-6F3C-4493-9DB9-21758598D5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EF57-89F1-453D-8ACE-9410097768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C8B3-521D-47A7-9236-4B36327B55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4D95-D521-44F4-BA00-49C7DB60FA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53C5-D1F2-450C-99AB-41CD23BC09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3D28-0827-46DE-A271-6A96328C59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4B1-9874-4170-8CDA-8A43D65E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F4E-A9CB-4541-B2BF-76817B67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BC0A-015B-4AA6-A4D7-ED8B0A82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889-6743-4647-B0CE-EFBF5B05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783-D1DF-4D15-8C44-830D1233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E192-5465-4E77-9236-C42B960D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A3A-FAC0-4462-9249-2D081D46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C92-AF50-4EBC-995A-B09ED220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BD7-F9E7-4534-9542-22B6DE40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D9A-7CCB-4528-BD2F-01269452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470-08D9-49D6-99D1-BC872F63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106-7C3F-4C22-9A99-55E82D36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E2B4-556E-4591-A604-C589BB34D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5444640"/>
            <a:ext cx="80643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untitled"/>
          <p:cNvPicPr/>
          <p:nvPr/>
        </p:nvPicPr>
        <p:blipFill>
          <a:blip r:embed="rId1"/>
          <a:stretch/>
        </p:blipFill>
        <p:spPr>
          <a:xfrm>
            <a:off x="2928960" y="2857680"/>
            <a:ext cx="3327480" cy="2160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9640" y="260280"/>
            <a:ext cx="81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Цель проекта:</a:t>
            </a: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 профессиями своих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826920" y="765000"/>
          <a:ext cx="77058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65000"/>
                    <a:ext cx="77058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9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Изображение 011"/>
          <p:cNvPicPr/>
          <p:nvPr/>
        </p:nvPicPr>
        <p:blipFill>
          <a:blip r:embed="rId1"/>
          <a:stretch/>
        </p:blipFill>
        <p:spPr>
          <a:xfrm>
            <a:off x="684360" y="4005360"/>
            <a:ext cx="194472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Изображение 007"/>
          <p:cNvPicPr/>
          <p:nvPr/>
        </p:nvPicPr>
        <p:blipFill>
          <a:blip r:embed="rId2"/>
          <a:stretch/>
        </p:blipFill>
        <p:spPr>
          <a:xfrm>
            <a:off x="6443640" y="3860640"/>
            <a:ext cx="2089080" cy="273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Изображение 001"/>
          <p:cNvPicPr/>
          <p:nvPr/>
        </p:nvPicPr>
        <p:blipFill>
          <a:blip r:embed="rId3"/>
          <a:stretch/>
        </p:blipFill>
        <p:spPr>
          <a:xfrm>
            <a:off x="3132000" y="4437000"/>
            <a:ext cx="2881440" cy="19432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Изображение 009"/>
          <p:cNvPicPr/>
          <p:nvPr/>
        </p:nvPicPr>
        <p:blipFill>
          <a:blip r:embed="rId1"/>
          <a:stretch/>
        </p:blipFill>
        <p:spPr>
          <a:xfrm>
            <a:off x="4356000" y="5300640"/>
            <a:ext cx="2016360" cy="125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Изображение 006"/>
          <p:cNvPicPr/>
          <p:nvPr/>
        </p:nvPicPr>
        <p:blipFill>
          <a:blip r:embed="rId2"/>
          <a:stretch/>
        </p:blipFill>
        <p:spPr>
          <a:xfrm>
            <a:off x="6588000" y="3789360"/>
            <a:ext cx="2087640" cy="273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Изображение 004"/>
          <p:cNvPicPr/>
          <p:nvPr/>
        </p:nvPicPr>
        <p:blipFill>
          <a:blip r:embed="rId3"/>
          <a:stretch/>
        </p:blipFill>
        <p:spPr>
          <a:xfrm>
            <a:off x="3564000" y="3789360"/>
            <a:ext cx="2016000" cy="12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Изображение 010"/>
          <p:cNvPicPr/>
          <p:nvPr/>
        </p:nvPicPr>
        <p:blipFill>
          <a:blip r:embed="rId4"/>
          <a:stretch/>
        </p:blipFill>
        <p:spPr>
          <a:xfrm>
            <a:off x="1619280" y="5373720"/>
            <a:ext cx="215892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Изображение"/>
          <p:cNvPicPr/>
          <p:nvPr/>
        </p:nvPicPr>
        <p:blipFill>
          <a:blip r:embed="rId5"/>
          <a:stretch/>
        </p:blipFill>
        <p:spPr>
          <a:xfrm>
            <a:off x="539640" y="3860640"/>
            <a:ext cx="2232000" cy="1440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36:38Z</dcterms:created>
  <dc:creator>User</dc:creator>
  <dc:description/>
  <dc:language>en-US</dc:language>
  <cp:lastModifiedBy>LEGION2</cp:lastModifiedBy>
  <dcterms:modified xsi:type="dcterms:W3CDTF">2015-04-24T08:35:22Z</dcterms:modified>
  <cp:revision>8</cp:revision>
  <dc:subject/>
  <dc:title>Профессии наших родителей</dc:title>
</cp:coreProperties>
</file>