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8DBD-B244-431C-8CAF-626241215F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47F5-9A0D-46FE-999C-57D89F6721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DA9F-9DC7-4635-AA6A-5AAAAAEDEA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21C5-F797-4344-8BD8-064E557C4D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EB11-DDF1-42A7-940F-28888F184B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9D85-2583-4002-801A-F07D98F39E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AF0B-BBAA-4082-B02A-C5609099F3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5D18-D143-4B60-B6A1-1C802CECD9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A7C1-8FCA-46CA-BCCF-3288BF9B2C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419A-BEB4-4536-A7C9-181942191A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4237-2F46-475C-A8A7-FE5BA595F0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5F84-BE4D-4C9E-994D-05C584641C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4E5B-8F08-4B01-855C-093D4022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F1D-511A-47A4-A6FE-E9C1E92B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356-0D30-4A66-964C-A7512E48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AF0-3D7A-4203-8522-946024D4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8FF7-BD89-44DF-AAE9-E21E897C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B73-8D9B-4950-92A2-3409C988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436-6601-4E33-82F6-695F8388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463-EE62-4BD5-9A7A-B9053228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5D5-236A-48FD-92D5-FD85B299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2163-0272-49FA-95B6-BB7EAB2A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428-1787-463A-AD5F-4F3BBB83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2CE3-9FE2-4F82-90F4-9CC10ED0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47E7-0D0D-416E-B088-88BBAB832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5444640"/>
            <a:ext cx="80643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untitled"/>
          <p:cNvPicPr/>
          <p:nvPr/>
        </p:nvPicPr>
        <p:blipFill>
          <a:blip r:embed="rId1"/>
          <a:stretch/>
        </p:blipFill>
        <p:spPr>
          <a:xfrm>
            <a:off x="2928960" y="2857680"/>
            <a:ext cx="3327480" cy="2160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9640" y="260280"/>
            <a:ext cx="81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Цель проекта:</a:t>
            </a: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 профессиями своих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826920" y="765000"/>
          <a:ext cx="77058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65000"/>
                    <a:ext cx="77058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9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Изображение 011"/>
          <p:cNvPicPr/>
          <p:nvPr/>
        </p:nvPicPr>
        <p:blipFill>
          <a:blip r:embed="rId1"/>
          <a:stretch/>
        </p:blipFill>
        <p:spPr>
          <a:xfrm>
            <a:off x="684360" y="4005360"/>
            <a:ext cx="194472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Изображение 007"/>
          <p:cNvPicPr/>
          <p:nvPr/>
        </p:nvPicPr>
        <p:blipFill>
          <a:blip r:embed="rId2"/>
          <a:stretch/>
        </p:blipFill>
        <p:spPr>
          <a:xfrm>
            <a:off x="6443640" y="3860640"/>
            <a:ext cx="2089080" cy="273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Изображение 001"/>
          <p:cNvPicPr/>
          <p:nvPr/>
        </p:nvPicPr>
        <p:blipFill>
          <a:blip r:embed="rId3"/>
          <a:stretch/>
        </p:blipFill>
        <p:spPr>
          <a:xfrm>
            <a:off x="3132000" y="4437000"/>
            <a:ext cx="2881440" cy="19432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Изображение 009"/>
          <p:cNvPicPr/>
          <p:nvPr/>
        </p:nvPicPr>
        <p:blipFill>
          <a:blip r:embed="rId1"/>
          <a:stretch/>
        </p:blipFill>
        <p:spPr>
          <a:xfrm>
            <a:off x="4356000" y="5300640"/>
            <a:ext cx="2016360" cy="125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Изображение 006"/>
          <p:cNvPicPr/>
          <p:nvPr/>
        </p:nvPicPr>
        <p:blipFill>
          <a:blip r:embed="rId2"/>
          <a:stretch/>
        </p:blipFill>
        <p:spPr>
          <a:xfrm>
            <a:off x="6588000" y="3789360"/>
            <a:ext cx="2087640" cy="273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Изображение 004"/>
          <p:cNvPicPr/>
          <p:nvPr/>
        </p:nvPicPr>
        <p:blipFill>
          <a:blip r:embed="rId3"/>
          <a:stretch/>
        </p:blipFill>
        <p:spPr>
          <a:xfrm>
            <a:off x="3564000" y="3789360"/>
            <a:ext cx="2016000" cy="12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Изображение 010"/>
          <p:cNvPicPr/>
          <p:nvPr/>
        </p:nvPicPr>
        <p:blipFill>
          <a:blip r:embed="rId4"/>
          <a:stretch/>
        </p:blipFill>
        <p:spPr>
          <a:xfrm>
            <a:off x="1619280" y="5373720"/>
            <a:ext cx="215892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Изображение"/>
          <p:cNvPicPr/>
          <p:nvPr/>
        </p:nvPicPr>
        <p:blipFill>
          <a:blip r:embed="rId5"/>
          <a:stretch/>
        </p:blipFill>
        <p:spPr>
          <a:xfrm>
            <a:off x="539640" y="3860640"/>
            <a:ext cx="2232000" cy="1440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36:38Z</dcterms:created>
  <dc:creator>User</dc:creator>
  <dc:description/>
  <dc:language>en-US</dc:language>
  <cp:lastModifiedBy>LEGION2</cp:lastModifiedBy>
  <dcterms:modified xsi:type="dcterms:W3CDTF">2015-04-24T08:35:22Z</dcterms:modified>
  <cp:revision>8</cp:revision>
  <dc:subject/>
  <dc:title>Профессии наших родителей</dc:title>
</cp:coreProperties>
</file>