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9A65-436E-47E4-A48E-51B3D7C5D95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о учениц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класса А Грибановой Мари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0E2C-797C-40C6-8B6B-BE0200E354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сть – внутренний голос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сть — это внутренний голос человека, который предостерегает его от совершения дурных поступков. Если человек всё же поступает дурно, его мучают угрызения сове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CCF1-6C96-485F-A360-04660B5185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 древности философы и мудрецы размышляли об этом голосе: откуда он исходит и какова его природа? Выдвигались различные предположения и теории. Особые проблемы наличие этого голоса создавало философам и учёным «нового времени», которые видят в человеке существо только материальное и отрицают существование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BAE8-F9FC-49EA-B69F-BDF92DE491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и дарвинисты, которые утверждали, что совесть — лишнее чувство, от которого следует избав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ECD9-84AA-4962-81E9-F20FD2C82A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голоса совести — изначально добрая природа человека. Когда человек отклоняется от прямого пути, в глубине сердца он чувствует это и страдает, жалеет о том, что сделал неправильно. Это ощущение страдания и называется «муками сове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7D72-B0A5-4C59-88E2-20DC975D0D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974-8D06-439C-80B3-C192BFFB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DC3-023B-44A4-87EC-8F00730B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826-E8E1-4467-899D-179D86B1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82C-A740-445E-A7B9-F58BE1D3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BA4D-CF78-43AD-9CA2-00B3C0D3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7194-C406-4515-9DEB-0A6A4323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5C78-DB23-43CB-AF46-5A0A7A0B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D0A5-DB0C-4BFE-AAEE-8CB795C6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0046-2BA4-4ADC-BBA4-F0BC22DD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6B0D-9A24-4C4E-9D11-8101FB5D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55C1-A8F1-492E-AD9F-0C5DE705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C0A1-73EA-47E3-801B-E65611FD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323D-3ECE-427B-98B5-3FBB8A57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890B-C5AA-4150-A08B-D9196A21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AB49-D2B9-41ED-8F96-ABAD938A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C674-41D1-4B62-AC02-F8CC640B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7E56-6324-45B8-9606-7FCE8116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A19-646A-4593-9C7E-31961202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3F2-B0C6-4310-866E-CC2E9FF1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1F75-DC42-4796-9C0A-9C504D5A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C54B-FA9C-4DCF-8EA1-724BC8BA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3852-A35D-4F86-BA82-F734E719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F9A-DEE4-4CE7-9138-9876A573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C99B-1947-4FDA-A2F1-6B490BC5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7BE7-FA6F-42EB-9A80-F3C416B195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66DF-22EE-4DC9-81A8-72D8C45E06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Совесть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ено учениц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а А Грибановой Мари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весть – внутренний голос чело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весть — это внутренний голос человека, который предостерегает его от совершения дурных поступков. Если человек всё же поступает дурно, его мучают угрызения сове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2920" y="1700280"/>
            <a:ext cx="40388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Картинка 99 из 158740"/>
          <p:cNvPicPr/>
          <p:nvPr/>
        </p:nvPicPr>
        <p:blipFill>
          <a:blip r:embed="rId1"/>
          <a:stretch/>
        </p:blipFill>
        <p:spPr>
          <a:xfrm>
            <a:off x="5245200" y="2205000"/>
            <a:ext cx="2851200" cy="316872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щё в древности философы и мудрецы размышляли об этом голосе: откуда он исходит и какова его природа? Выдвигались различные предположения и теории. Особые проблемы наличие этого голоса создавало философам и учёным «нового времени», которые видят в человеке существо только материальное и отрицают существование душ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Картинка 140 из 158740"/>
          <p:cNvPicPr/>
          <p:nvPr/>
        </p:nvPicPr>
        <p:blipFill>
          <a:blip r:embed="rId1"/>
          <a:stretch/>
        </p:blipFill>
        <p:spPr>
          <a:xfrm>
            <a:off x="5292720" y="2565360"/>
            <a:ext cx="2521080" cy="25210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ыли дарвинисты, которые утверждали, что совесть — лишнее чувство, от которого следует избавить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Картинка 17 из 158743"/>
          <p:cNvPicPr/>
          <p:nvPr/>
        </p:nvPicPr>
        <p:blipFill>
          <a:blip r:embed="rId1"/>
          <a:stretch/>
        </p:blipFill>
        <p:spPr>
          <a:xfrm>
            <a:off x="5364000" y="1989000"/>
            <a:ext cx="2667240" cy="38102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точник голоса совести — изначально добрая природа человека. Когда человек отклоняется от прямого пути, в глубине сердца он чувствует это и страдает, жалеет о том, что сделал неправильно. Это ощущение страдания и называется «муками совест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2920" y="1700280"/>
            <a:ext cx="40388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Картинка 5 из 158743"/>
          <p:cNvPicPr/>
          <p:nvPr/>
        </p:nvPicPr>
        <p:blipFill>
          <a:blip r:embed="rId1"/>
          <a:stretch/>
        </p:blipFill>
        <p:spPr>
          <a:xfrm>
            <a:off x="4356000" y="2421000"/>
            <a:ext cx="4535640" cy="31986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70131563_1261500567"/>
          <p:cNvPicPr/>
          <p:nvPr/>
        </p:nvPicPr>
        <p:blipFill>
          <a:blip r:embed="rId1"/>
          <a:stretch/>
        </p:blipFill>
        <p:spPr>
          <a:xfrm>
            <a:off x="1403280" y="620640"/>
            <a:ext cx="6191280" cy="538632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3:03:15Z</dcterms:created>
  <dc:creator>лена</dc:creator>
  <dc:description/>
  <dc:language>en-US</dc:language>
  <cp:lastModifiedBy>LEGION2</cp:lastModifiedBy>
  <dcterms:modified xsi:type="dcterms:W3CDTF">2015-04-24T08:38:31Z</dcterms:modified>
  <cp:revision>5</cp:revision>
  <dc:subject/>
  <dc:title>Совесть </dc:title>
</cp:coreProperties>
</file>