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6AC5-86D7-4FD2-8800-3CA1CA365B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о учениц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а А Грибановой Мари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88BB-6186-4044-B8FF-1BC39A260B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– внутренний голос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8898-0AB0-4D72-A7D2-8BB0B953B6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A05-66C3-48B5-9188-EC1B845A40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83F7-7558-4097-BEF0-B618C1182F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9BB8-6224-4BB7-86F9-A543911DD5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B29-A042-4013-AA1B-3262896A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654-EE9E-4922-918E-8FE5D776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B6F-EFFD-4509-8063-930B0F46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A8E-3057-466B-9097-92EBF5E6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257-08DB-4320-807E-1E8A9B22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9FCD-6176-44B4-8E8E-72518E8C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FB08-EA73-408E-89A3-54BFA1BE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47C-206D-4D94-BA5D-DD447EA7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27AA-4FE8-434A-BE09-8D9692A5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4E43-E2E6-42D8-8FF9-4B3F45EC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A568-2871-401E-A120-8305A8C3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D92-87B5-4DFD-835A-60DAF76E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0C5F-2508-4322-93BF-C99EFC8C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F519-EBEB-4778-8FB7-D92913A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08F2-41D6-43A7-B517-C6918C69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412A-C043-453A-8C6C-AF73AF96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05C9-07E7-448B-AA30-ABD5424C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9B8-C2D7-4B91-98E8-86C2815A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285-322E-4527-9CE5-AA732FBD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98E-9956-449A-8099-52AF66B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AF1-7211-4770-ACAE-F28813CC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1B5-E70C-4FC9-A26F-4B0EBCA1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4B6-42FA-43D1-B061-994BAB6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7A5-B716-408C-A4E1-C3D6BFA3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C4B7-B87E-41D2-86A1-AEEF6B400E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45F5-E1DE-405F-A448-E4347AA872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овесть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о учениц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а А Грибановой Мар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сть – внутренний голос чело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Картинка 99 из 158740"/>
          <p:cNvPicPr/>
          <p:nvPr/>
        </p:nvPicPr>
        <p:blipFill>
          <a:blip r:embed="rId1"/>
          <a:stretch/>
        </p:blipFill>
        <p:spPr>
          <a:xfrm>
            <a:off x="5245200" y="2205000"/>
            <a:ext cx="2851200" cy="31687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Картинка 140 из 158740"/>
          <p:cNvPicPr/>
          <p:nvPr/>
        </p:nvPicPr>
        <p:blipFill>
          <a:blip r:embed="rId1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Картинка 17 из 158743"/>
          <p:cNvPicPr/>
          <p:nvPr/>
        </p:nvPicPr>
        <p:blipFill>
          <a:blip r:embed="rId1"/>
          <a:stretch/>
        </p:blipFill>
        <p:spPr>
          <a:xfrm>
            <a:off x="5364000" y="198900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Картинка 5 из 158743"/>
          <p:cNvPicPr/>
          <p:nvPr/>
        </p:nvPicPr>
        <p:blipFill>
          <a:blip r:embed="rId1"/>
          <a:stretch/>
        </p:blipFill>
        <p:spPr>
          <a:xfrm>
            <a:off x="4356000" y="2421000"/>
            <a:ext cx="4535640" cy="31986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70131563_1261500567"/>
          <p:cNvPicPr/>
          <p:nvPr/>
        </p:nvPicPr>
        <p:blipFill>
          <a:blip r:embed="rId1"/>
          <a:stretch/>
        </p:blipFill>
        <p:spPr>
          <a:xfrm>
            <a:off x="1403280" y="620640"/>
            <a:ext cx="6191280" cy="53863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03:15Z</dcterms:created>
  <dc:creator>лена</dc:creator>
  <dc:description/>
  <dc:language>en-US</dc:language>
  <cp:lastModifiedBy>LEGION2</cp:lastModifiedBy>
  <dcterms:modified xsi:type="dcterms:W3CDTF">2015-04-24T08:38:31Z</dcterms:modified>
  <cp:revision>5</cp:revision>
  <dc:subject/>
  <dc:title>Совесть </dc:title>
</cp:coreProperties>
</file>