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8EAA-E63E-4EFE-9CD0-B3C414EB88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о учениц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а А Грибановой Мари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2A28-92BB-40E5-859C-0AFE7FA536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– внутренний голос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B8C-C352-4792-BDAC-33DE392C89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9567-425C-47A0-A321-7AAAE5D55F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AEF3-516F-4F18-BEDE-F4FC6876E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C145-2471-4915-AF17-3155CDD45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7AA-6E75-4E98-90DB-208B165E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0AF-4423-402C-A207-A7286C0A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C3F-DD10-4406-82ED-B018B84C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98B-A7D7-4848-A357-2CEB0835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C242-3ED2-42DD-9E12-CF29B100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1B3E-937F-4175-A176-A495E284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3C36-DCD9-43BF-8A6C-15B16859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A631-6A97-4EC1-897E-2E53D121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166E-0375-4DBF-B92D-A9A4F50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696D-C5AF-495E-B332-07361B58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5D6E-1B08-4A0E-8BAB-B4FB443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11B-0805-49BA-BFB1-421CBBCF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F785-C3B4-4208-AAC9-92CDE5A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887E-5311-459A-AF16-FD8D0A3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5DB2-3ABD-4127-A24E-3839858B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27EE-CF54-459E-8E45-7D5E7E41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9C47-D240-47B8-B6AF-4559ACAB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CAC-69B6-46E4-9F26-090E3CEC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B38-452B-46E7-A5E8-32C7ACC2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BC2-B42F-4F20-B0D6-D00DE1FF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547-07E3-4E89-AC44-F35625B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7F7-8FD6-4FC7-9A13-9E24E9E5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4B0-3E3F-42B4-A2A5-92298B35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7CB-6B80-4072-86B8-A9F9B19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BEB0-DA29-481C-85EF-C529AAE7E8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C719-B7DA-4A2D-94DB-EFB10F539F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овесть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учен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а А Грибановой Мар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сть – внутренний голос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Картинка 99 из 158740"/>
          <p:cNvPicPr/>
          <p:nvPr/>
        </p:nvPicPr>
        <p:blipFill>
          <a:blip r:embed="rId1"/>
          <a:stretch/>
        </p:blipFill>
        <p:spPr>
          <a:xfrm>
            <a:off x="5245200" y="2205000"/>
            <a:ext cx="2851200" cy="31687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Картинка 140 из 158740"/>
          <p:cNvPicPr/>
          <p:nvPr/>
        </p:nvPicPr>
        <p:blipFill>
          <a:blip r:embed="rId1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Картинка 17 из 158743"/>
          <p:cNvPicPr/>
          <p:nvPr/>
        </p:nvPicPr>
        <p:blipFill>
          <a:blip r:embed="rId1"/>
          <a:stretch/>
        </p:blipFill>
        <p:spPr>
          <a:xfrm>
            <a:off x="5364000" y="198900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Картинка 5 из 158743"/>
          <p:cNvPicPr/>
          <p:nvPr/>
        </p:nvPicPr>
        <p:blipFill>
          <a:blip r:embed="rId1"/>
          <a:stretch/>
        </p:blipFill>
        <p:spPr>
          <a:xfrm>
            <a:off x="4356000" y="2421000"/>
            <a:ext cx="4535640" cy="31986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70131563_1261500567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53863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03:15Z</dcterms:created>
  <dc:creator>лена</dc:creator>
  <dc:description/>
  <dc:language>en-US</dc:language>
  <cp:lastModifiedBy>LEGION2</cp:lastModifiedBy>
  <dcterms:modified xsi:type="dcterms:W3CDTF">2015-04-24T08:38:31Z</dcterms:modified>
  <cp:revision>5</cp:revision>
  <dc:subject/>
  <dc:title>Совесть </dc:title>
</cp:coreProperties>
</file>