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B0A5-2D99-4087-9871-481A3E89D3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о учениц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ласса А Грибановой Мари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D915-A333-4013-9B41-13D55CF715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– внутренний голос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— это внутренний голос человека, который предостерегает его от совершения дурных поступков. Если человек всё же поступает дурно, его мучают угрызения сове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D697-D7C6-402B-9CA7-7653F6B07B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 древности философы и мудрецы размышляли об этом голосе: откуда он исходит и какова его природа? Выдвигались различные предположения и теории. Особые проблемы наличие этого голоса создавало философам и учёным «нового времени», которые видят в человеке существо только материальное и отрицают существован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9934-8706-4BBF-88DD-44AB7C7927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и дарвинисты, которые утверждали, что совесть — лишнее чувство, от которого следует изба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CED0-F65F-485A-9AEF-9D575266D0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голоса совести — изначально добрая природа человека. Когда человек отклоняется от прямого пути, в глубине сердца он чувствует это и страдает, жалеет о том, что сделал неправильно. Это ощущение страдания и называется «муками сове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FF9A-DC5C-45F4-944A-B3FAB78735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3221-06D3-4623-BF7D-DBDB25CA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71D-D343-4687-A9AE-0F671AA7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CFD-AF70-42EA-AD18-3CD4AA9F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FEED-E394-4325-AA43-F87FE072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9326-5495-4303-AC03-00369A3B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76DC-29D9-4AD9-A393-0211138C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C522-61D1-4901-A042-D90A416C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01B6-DAF3-49A7-872D-B60FB327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4D99-0553-4440-8D4B-3C633C1C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7013-91C2-47F7-A154-45358592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A905-75FE-462B-AB1C-EFC0AF5F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616-F1EC-42C2-BF81-C3FBD902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50AF-C92E-4EB3-9218-1F7BF01C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BDE8-7500-4A7F-8F08-DB1A7CC7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18D2-94BA-4365-9A77-E37ECAB7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68BF-FB49-4579-9F3F-66E7E26B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7CB2-551D-4F56-8BA4-5EE4CE6C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EC8-7E48-4589-92DD-5CEAF408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FD7-1C0C-4951-8A8F-EA0B9C1D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497-84FD-4CCD-9E39-1675ECF3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F1F-C45A-4238-B567-2B8E6836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110-7078-4B39-AF49-B7101575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648-B63C-4F01-87D7-927D63C3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B5F-3A4F-4E7B-8105-26028015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E809-1202-4751-8D6F-AC9D53BA27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743B-FD73-4BAA-9F9D-58B782B984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Совесть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ено учениц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а А Грибановой Мари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есть – внутренний голос чело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есть — это внутренний голос человека, который предостерегает его от совершения дурных поступков. Если человек всё же поступает дурно, его мучают угрызения сове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2920" y="1700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Картинка 99 из 158740"/>
          <p:cNvPicPr/>
          <p:nvPr/>
        </p:nvPicPr>
        <p:blipFill>
          <a:blip r:embed="rId1"/>
          <a:stretch/>
        </p:blipFill>
        <p:spPr>
          <a:xfrm>
            <a:off x="5245200" y="2205000"/>
            <a:ext cx="2851200" cy="31687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щё в древности философы и мудрецы размышляли об этом голосе: откуда он исходит и какова его природа? Выдвигались различные предположения и теории. Особые проблемы наличие этого голоса создавало философам и учёным «нового времени», которые видят в человеке существо только материальное и отрицают существование душ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Картинка 140 из 158740"/>
          <p:cNvPicPr/>
          <p:nvPr/>
        </p:nvPicPr>
        <p:blipFill>
          <a:blip r:embed="rId1"/>
          <a:stretch/>
        </p:blipFill>
        <p:spPr>
          <a:xfrm>
            <a:off x="5292720" y="256536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ыли дарвинисты, которые утверждали, что совесть — лишнее чувство, от которого следует избавить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Картинка 17 из 158743"/>
          <p:cNvPicPr/>
          <p:nvPr/>
        </p:nvPicPr>
        <p:blipFill>
          <a:blip r:embed="rId1"/>
          <a:stretch/>
        </p:blipFill>
        <p:spPr>
          <a:xfrm>
            <a:off x="5364000" y="1989000"/>
            <a:ext cx="2667240" cy="38102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точник голоса совести — изначально добрая природа человека. Когда человек отклоняется от прямого пути, в глубине сердца он чувствует это и страдает, жалеет о том, что сделал неправильно. Это ощущение страдания и называется «муками совест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2920" y="1700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Картинка 5 из 158743"/>
          <p:cNvPicPr/>
          <p:nvPr/>
        </p:nvPicPr>
        <p:blipFill>
          <a:blip r:embed="rId1"/>
          <a:stretch/>
        </p:blipFill>
        <p:spPr>
          <a:xfrm>
            <a:off x="4356000" y="2421000"/>
            <a:ext cx="4535640" cy="31986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70131563_1261500567"/>
          <p:cNvPicPr/>
          <p:nvPr/>
        </p:nvPicPr>
        <p:blipFill>
          <a:blip r:embed="rId1"/>
          <a:stretch/>
        </p:blipFill>
        <p:spPr>
          <a:xfrm>
            <a:off x="1403280" y="620640"/>
            <a:ext cx="6191280" cy="53863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3:03:15Z</dcterms:created>
  <dc:creator>лена</dc:creator>
  <dc:description/>
  <dc:language>en-US</dc:language>
  <cp:lastModifiedBy>LEGION2</cp:lastModifiedBy>
  <dcterms:modified xsi:type="dcterms:W3CDTF">2015-04-24T08:38:31Z</dcterms:modified>
  <cp:revision>5</cp:revision>
  <dc:subject/>
  <dc:title>Совесть </dc:title>
</cp:coreProperties>
</file>