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9A30-54D1-4A7C-AC4D-9F0911DCF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7676-9D39-4BFC-91F2-CD2469E59E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3BF3-4DF1-4465-A547-0DE31A321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Фамилии, образованные под влиянием традиций и культур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9B35-3C30-48D4-9632-576DC6E13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4F5F-3896-47F3-BC9C-0C9D560C1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B997-0E20-4602-B181-A543F36A4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D434-922B-4996-A572-F896AD45E7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9D25-105C-4F13-92FA-92DFFD20C6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1B78-558E-4373-A7FF-6D70E094E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1015-A425-43E7-898B-EA245F954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9205-8717-497C-B4DC-F5660C9137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615B-4078-4BD7-BC84-FB44359ED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4733-AE2D-4636-81A8-85DD3ED8B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AE66-038F-4B02-ADE0-99B3C6A42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C2EF-1387-4865-B3C4-C681455844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44A3-6491-462D-8526-202E5BD7C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4712-2C8A-492F-82CB-AA34C894E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14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2599-E748-4A91-9B8B-A9B9FB9678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1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6934-4A5D-41DD-ABD6-C7D89623B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11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5AC8-A9C7-4688-9EC4-9AAA0EF5A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3A56-1086-4FAE-AE75-47FAC6B693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012A-B883-4D15-8D49-7B261BF12D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95E-0B66-47B7-B3A5-1F3FE7BD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91D-BB58-4A3E-8ED8-62149C2E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20D-8B1A-4EC8-B82D-EB0959E8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2C05-A578-4FF0-BF52-C04D32ED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759-7AD4-400F-8CEE-FD1199A4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24C-76B7-4F17-A203-E56217A1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7F2-E7BB-472B-BD40-E9E78895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645-525D-4F85-A730-4D87BB6C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2EF-D15B-4F0C-A72D-CDE85AEF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852-23FE-42EC-AD28-A822D22A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C6C-7D5A-453E-8E97-0A229860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442-B93F-4FBD-AF5D-68D5F286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BB2F-2E35-4309-A392-DDF713CE8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00360" y="3885840"/>
            <a:ext cx="43923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РОЕК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для заставки"/>
          <p:cNvPicPr/>
          <p:nvPr/>
        </p:nvPicPr>
        <p:blipFill>
          <a:blip r:embed="rId2"/>
          <a:stretch/>
        </p:blipFill>
        <p:spPr>
          <a:xfrm>
            <a:off x="0" y="3970440"/>
            <a:ext cx="3849840" cy="2887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0" y="0"/>
            <a:ext cx="9144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1268280"/>
            <a:ext cx="9144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поп"/>
          <p:cNvPicPr/>
          <p:nvPr/>
        </p:nvPicPr>
        <p:blipFill>
          <a:blip r:embed="rId2"/>
          <a:stretch/>
        </p:blipFill>
        <p:spPr>
          <a:xfrm>
            <a:off x="1908000" y="3716280"/>
            <a:ext cx="4319640" cy="25210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традиций и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заяц"/>
          <p:cNvPicPr/>
          <p:nvPr/>
        </p:nvPicPr>
        <p:blipFill>
          <a:blip r:embed="rId2"/>
          <a:stretch/>
        </p:blipFill>
        <p:spPr>
          <a:xfrm>
            <a:off x="468360" y="2781360"/>
            <a:ext cx="3120840" cy="277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дуб"/>
          <p:cNvPicPr/>
          <p:nvPr/>
        </p:nvPicPr>
        <p:blipFill>
          <a:blip r:embed="rId3"/>
          <a:stretch/>
        </p:blipFill>
        <p:spPr>
          <a:xfrm>
            <a:off x="4427640" y="2781360"/>
            <a:ext cx="3743280" cy="2665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гончар 1"/>
          <p:cNvPicPr/>
          <p:nvPr/>
        </p:nvPicPr>
        <p:blipFill>
          <a:blip r:embed="rId2"/>
          <a:stretch/>
        </p:blipFill>
        <p:spPr>
          <a:xfrm>
            <a:off x="0" y="2276640"/>
            <a:ext cx="3095640" cy="458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сапожник"/>
          <p:cNvPicPr/>
          <p:nvPr/>
        </p:nvPicPr>
        <p:blipFill>
          <a:blip r:embed="rId3"/>
          <a:stretch/>
        </p:blipFill>
        <p:spPr>
          <a:xfrm>
            <a:off x="3708360" y="1052640"/>
            <a:ext cx="5195880" cy="3889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россия"/>
          <p:cNvPicPr/>
          <p:nvPr/>
        </p:nvPicPr>
        <p:blipFill>
          <a:blip r:embed="rId2"/>
          <a:stretch/>
        </p:blipFill>
        <p:spPr>
          <a:xfrm>
            <a:off x="755640" y="1700280"/>
            <a:ext cx="7524720" cy="4448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0" y="0"/>
            <a:ext cx="914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пасха"/>
          <p:cNvPicPr/>
          <p:nvPr/>
        </p:nvPicPr>
        <p:blipFill>
          <a:blip r:embed="rId2"/>
          <a:stretch/>
        </p:blipFill>
        <p:spPr>
          <a:xfrm>
            <a:off x="1979640" y="198900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 u="sng">
                <a:solidFill>
                  <a:srgbClr val="99cc00"/>
                </a:solidFill>
                <a:uFillTx/>
                <a:latin typeface="Arial"/>
              </a:rPr>
              <a:t>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3564000" y="2276640"/>
            <a:ext cx="2303280" cy="72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564000" y="2781360"/>
            <a:ext cx="2303280" cy="7920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6156360" y="2852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К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6156360" y="1628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5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6"/>
          <p:cNvSpPr/>
          <p:nvPr/>
        </p:nvSpPr>
        <p:spPr>
          <a:xfrm flipH="1">
            <a:off x="6227640" y="1700280"/>
            <a:ext cx="115272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7"/>
          <p:cNvSpPr/>
          <p:nvPr/>
        </p:nvSpPr>
        <p:spPr>
          <a:xfrm flipH="1">
            <a:off x="6155640" y="285264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179280" y="5157720"/>
            <a:ext cx="9144000" cy="60984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НЕ ПОДТВЕРДИЛАСЬ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556000" y="1700280"/>
            <a:ext cx="4392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0"/>
          <p:cNvSpPr/>
          <p:nvPr/>
        </p:nvSpPr>
        <p:spPr>
          <a:xfrm flipH="1">
            <a:off x="3923640" y="1773360"/>
            <a:ext cx="1584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179280" y="2997360"/>
            <a:ext cx="8820360" cy="2303280"/>
          </a:xfrm>
          <a:prstGeom prst="upArrowCallout">
            <a:avLst>
              <a:gd name="adj1" fmla="val -72094"/>
              <a:gd name="adj2" fmla="val 95737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2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Гора Хорев"/>
          <p:cNvPicPr/>
          <p:nvPr/>
        </p:nvPicPr>
        <p:blipFill>
          <a:blip r:embed="rId2"/>
          <a:stretch/>
        </p:blipFill>
        <p:spPr>
          <a:xfrm>
            <a:off x="1332000" y="2276640"/>
            <a:ext cx="3348000" cy="43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Карта с горой Хорев"/>
          <p:cNvPicPr/>
          <p:nvPr/>
        </p:nvPicPr>
        <p:blipFill>
          <a:blip r:embed="rId3"/>
          <a:stretch/>
        </p:blipFill>
        <p:spPr>
          <a:xfrm>
            <a:off x="179280" y="981000"/>
            <a:ext cx="1524240" cy="2152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5651640" y="1557360"/>
            <a:ext cx="3097080" cy="48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V="1">
            <a:off x="3708360" y="2491920"/>
            <a:ext cx="2303640" cy="730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6156360" y="198900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10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1"/>
          <p:cNvSpPr/>
          <p:nvPr/>
        </p:nvSpPr>
        <p:spPr>
          <a:xfrm flipH="1">
            <a:off x="6516000" y="2060640"/>
            <a:ext cx="1152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324000" y="624852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ПОДТВЕРДИЛАСЬ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ярмарка"/>
          <p:cNvPicPr/>
          <p:nvPr/>
        </p:nvPicPr>
        <p:blipFill>
          <a:blip r:embed="rId2"/>
          <a:stretch/>
        </p:blipFill>
        <p:spPr>
          <a:xfrm>
            <a:off x="2700360" y="3213000"/>
            <a:ext cx="4176720" cy="288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0" y="1125360"/>
            <a:ext cx="9144000" cy="5732640"/>
          </a:xfrm>
          <a:custGeom>
            <a:avLst/>
            <a:gdLst>
              <a:gd name="textAreaLeft" fmla="*/ 2087280 w 9144000"/>
              <a:gd name="textAreaRight" fmla="*/ 7056720 w 9144000"/>
              <a:gd name="textAreaTop" fmla="*/ 1308600 h 5732640"/>
              <a:gd name="textAreaBottom" fmla="*/ 4424040 h 573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0" y="333360"/>
            <a:ext cx="914400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aptop"/>
          <p:cNvSpPr/>
          <p:nvPr/>
        </p:nvSpPr>
        <p:spPr>
          <a:xfrm>
            <a:off x="1332000" y="1557360"/>
            <a:ext cx="6480000" cy="4896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для заставки 1"/>
          <p:cNvPicPr/>
          <p:nvPr/>
        </p:nvPicPr>
        <p:blipFill>
          <a:blip r:embed="rId2"/>
          <a:stretch/>
        </p:blipFill>
        <p:spPr>
          <a:xfrm>
            <a:off x="684360" y="333360"/>
            <a:ext cx="8208720" cy="6254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-39672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ВНИМАНИ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333360"/>
            <a:ext cx="914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зверек"/>
          <p:cNvPicPr/>
          <p:nvPr/>
        </p:nvPicPr>
        <p:blipFill>
          <a:blip r:embed="rId2"/>
          <a:stretch/>
        </p:blipFill>
        <p:spPr>
          <a:xfrm>
            <a:off x="7020000" y="3213000"/>
            <a:ext cx="1047600" cy="1314720"/>
          </a:xfrm>
          <a:prstGeom prst="rect">
            <a:avLst/>
          </a:prstGeom>
          <a:ln w="0">
            <a:noFill/>
          </a:ln>
        </p:spPr>
      </p:pic>
      <p:sp>
        <p:nvSpPr>
          <p:cNvPr id="60" name="Line 10"/>
          <p:cNvSpPr/>
          <p:nvPr/>
        </p:nvSpPr>
        <p:spPr>
          <a:xfrm flipH="1">
            <a:off x="262728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3500280"/>
            <a:ext cx="259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780000" y="3500280"/>
            <a:ext cx="143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09548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9"/>
          <p:cNvSpPr/>
          <p:nvPr/>
        </p:nvSpPr>
        <p:spPr>
          <a:xfrm flipH="1">
            <a:off x="1113840" y="3429000"/>
            <a:ext cx="455400" cy="22860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rc 20"/>
          <p:cNvSpPr/>
          <p:nvPr/>
        </p:nvSpPr>
        <p:spPr>
          <a:xfrm flipH="1">
            <a:off x="3995640" y="3357720"/>
            <a:ext cx="433440" cy="228600"/>
          </a:xfrm>
          <a:custGeom>
            <a:avLst/>
            <a:gdLst/>
            <a:ahLst/>
            <a:rect l="l" t="t" r="r" b="b"/>
            <a:pathLst>
              <a:path fill="none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</a:path>
              <a:path stroke="0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  <a:lnTo>
                  <a:pt x="21071" y="21600"/>
                </a:lnTo>
                <a:lnTo>
                  <a:pt x="-1" y="1684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169236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190800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 flipV="1">
            <a:off x="450072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471636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5"/>
          <p:cNvSpPr/>
          <p:nvPr/>
        </p:nvSpPr>
        <p:spPr>
          <a:xfrm flipH="1">
            <a:off x="5363640" y="3860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148428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1484280"/>
            <a:ext cx="9144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римляне"/>
          <p:cNvPicPr/>
          <p:nvPr/>
        </p:nvPicPr>
        <p:blipFill>
          <a:blip r:embed="rId2"/>
          <a:stretch/>
        </p:blipFill>
        <p:spPr>
          <a:xfrm>
            <a:off x="3059280" y="3429000"/>
            <a:ext cx="295272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14842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211640" y="4149720"/>
            <a:ext cx="216000" cy="142920"/>
          </a:xfrm>
          <a:custGeom>
            <a:avLst/>
            <a:gdLst>
              <a:gd name="textAreaLeft" fmla="*/ 0 w 216000"/>
              <a:gd name="textAreaRight" fmla="*/ 61200 w 216000"/>
              <a:gd name="textAreaTop" fmla="*/ 5508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европа"/>
          <p:cNvPicPr/>
          <p:nvPr/>
        </p:nvPicPr>
        <p:blipFill>
          <a:blip r:embed="rId2"/>
          <a:stretch/>
        </p:blipFill>
        <p:spPr>
          <a:xfrm>
            <a:off x="1258920" y="3284640"/>
            <a:ext cx="6553080" cy="3573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1"/>
          <p:cNvSpPr/>
          <p:nvPr/>
        </p:nvSpPr>
        <p:spPr>
          <a:xfrm>
            <a:off x="3995640" y="5445000"/>
            <a:ext cx="1152720" cy="719280"/>
          </a:xfrm>
          <a:custGeom>
            <a:avLst/>
            <a:gdLst>
              <a:gd name="textAreaLeft" fmla="*/ 0 w 1152720"/>
              <a:gd name="textAreaRight" fmla="*/ 326160 w 115272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5076720" y="4797360"/>
            <a:ext cx="1943280" cy="719280"/>
          </a:xfrm>
          <a:custGeom>
            <a:avLst/>
            <a:gdLst>
              <a:gd name="textAreaLeft" fmla="*/ 0 w 1943280"/>
              <a:gd name="textAreaRight" fmla="*/ 549720 w 194328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0"/>
            <a:ext cx="91440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411336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30- е годы 20 века – у каждого человека есть фами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22766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270828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8 век – появление паспор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16000" y="292428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33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толпа"/>
          <p:cNvPicPr/>
          <p:nvPr/>
        </p:nvPicPr>
        <p:blipFill>
          <a:blip r:embed="rId2"/>
          <a:stretch/>
        </p:blipFill>
        <p:spPr>
          <a:xfrm>
            <a:off x="0" y="0"/>
            <a:ext cx="3171960" cy="4286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3132000" y="0"/>
            <a:ext cx="5904000" cy="1197000"/>
          </a:xfrm>
          <a:prstGeom prst="downArrowCallout">
            <a:avLst>
              <a:gd name="adj1" fmla="val 123320"/>
              <a:gd name="adj2" fmla="val 1233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132000" y="5943600"/>
            <a:ext cx="601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3132000" y="2276640"/>
            <a:ext cx="6012000" cy="1296720"/>
          </a:xfrm>
          <a:prstGeom prst="downArrowCallout">
            <a:avLst>
              <a:gd name="adj1" fmla="val 115918"/>
              <a:gd name="adj2" fmla="val 1159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132000" y="3573360"/>
            <a:ext cx="6012000" cy="1150920"/>
          </a:xfrm>
          <a:prstGeom prst="downArrowCallout">
            <a:avLst>
              <a:gd name="adj1" fmla="val 130603"/>
              <a:gd name="adj2" fmla="val 130591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132000" y="4724280"/>
            <a:ext cx="6012000" cy="1225800"/>
          </a:xfrm>
          <a:prstGeom prst="downArrowCallout">
            <a:avLst>
              <a:gd name="adj1" fmla="val 122625"/>
              <a:gd name="adj2" fmla="val 122614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3132000" y="1197000"/>
            <a:ext cx="6012000" cy="1079640"/>
          </a:xfrm>
          <a:prstGeom prst="downArrowCallout">
            <a:avLst>
              <a:gd name="adj1" fmla="val 139226"/>
              <a:gd name="adj2" fmla="val 13921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7308720" y="1196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V="1">
            <a:off x="7667640" y="234936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7667640" y="3644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 flipV="1">
            <a:off x="7308720" y="472428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7093080" y="6021360"/>
            <a:ext cx="1458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745164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7812000" y="2349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7812000" y="3645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7451640" y="472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7236000" y="6021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141300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россия"/>
          <p:cNvPicPr/>
          <p:nvPr/>
        </p:nvPicPr>
        <p:blipFill>
          <a:blip r:embed="rId2"/>
          <a:stretch/>
        </p:blipFill>
        <p:spPr>
          <a:xfrm>
            <a:off x="324000" y="2421000"/>
            <a:ext cx="8569080" cy="42480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539640" y="0"/>
            <a:ext cx="8353440" cy="1413000"/>
          </a:xfrm>
          <a:prstGeom prst="downArrowCallout">
            <a:avLst>
              <a:gd name="adj1" fmla="val -125780"/>
              <a:gd name="adj2" fmla="val 14779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24000" y="2421000"/>
            <a:ext cx="2663640" cy="609480"/>
          </a:xfrm>
          <a:prstGeom prst="wedgeRectCallout">
            <a:avLst>
              <a:gd name="adj1" fmla="val -47856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ЧЕЙ СЫ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042920" y="335772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400536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а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3132000" y="3213000"/>
            <a:ext cx="1871640" cy="60984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а 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4:17:27Z</dcterms:created>
  <dc:creator>User</dc:creator>
  <dc:description/>
  <dc:language>en-US</dc:language>
  <cp:lastModifiedBy>LEGION2</cp:lastModifiedBy>
  <dcterms:modified xsi:type="dcterms:W3CDTF">2015-04-24T08:57:34Z</dcterms:modified>
  <cp:revision>30</cp:revision>
  <dc:subject/>
  <dc:title>«Как появились фамилии?»</dc:title>
</cp:coreProperties>
</file>