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8ED2-2EBF-439B-8A54-FA039E377C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«Как появились фамилии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Ученика 3 – Б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СОШ №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г. Нижневартов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Хорева Влади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Руководите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Карапетян Светлана Никола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DFED-9C9A-474B-B540-61B2D96A0C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По мнению учёных, русские фамилии можно разделить на 5 основных гру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религии, по именам святых, указанных в Библии – самой главной книге христи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Пётр - Петров, Николай - Николае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904B-E60F-4317-AB3F-9C889AE429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Фамилии, образованные под влиянием традиций и культур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«мирское имя». Это прозвища и слова – обере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Дуб – Дубинин, Заяц – Зайце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FE98-4E58-4435-80CE-00C1BEFDEC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Фамилии, образованные от профессии. Отсюда Гончаровы,  Сапожниковы, Кузнецовы и Ткачё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B0F2-FE74-4BBF-A9AA-2327EA7927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4. Фамилии, образованные от названия местности, откуда были родом предки (основой таких фамилий становились разные географические названия - городов, деревень, рек, озер): Мещеряков,  Новгородцев, Москвитин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E14A-6C67-44AD-A330-A224BC8999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5. Фамилии, которые себе взяли высшие служители церкви. Так появились Рождественские (в честь Рождества), Троицк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(в честь святой Троицы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DD9C-628B-42BA-AB7E-8A8E1205A3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78D9-E372-48D0-B47B-612EC495F7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НОВАЯ  ГИПОТЕЗА:</a:t>
            </a:r>
            <a:r>
              <a:rPr b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8000"/>
                </a:solidFill>
                <a:uFillTx/>
                <a:latin typeface="Arial"/>
              </a:rPr>
              <a:t>ХОР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Фамилия «Хорев» вся входит в корень сло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которое может быть взято из другого языка</a:t>
            </a:r>
            <a:r>
              <a:rPr b="1" lang="ru-RU" sz="1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5F49-C481-4499-B904-278422EF71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Возможное слово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сточник м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фамилии Хорев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это втор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 более древ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название свящ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для христиан г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Синай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Гора находи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в Израиле.</a:t>
            </a:r>
            <a:r>
              <a:rPr b="0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7C68-3E7E-4332-9207-9A836FFACA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313E-F240-4A44-B9C1-D8DD1EFB57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РЕЗУЛЬТА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Израиля всегда были торгов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ьми и путешественн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10 век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ни торговали с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роп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зией, Инд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это время уже прошло Крещ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и князем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миром Святославич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ские люди не знали географию, но знали Библию и гору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Хор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Чьи вы будете?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шественник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уча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гордостью ответ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«Хоревы мы будем»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корей все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едения торговли, кто -  то из путешествен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орговцев долго не уезжал на свою родин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потом так и остался на Рус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DD72-B89F-45E5-ACBF-3631A435B4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Цел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становить, как и почему появилась фамилия «Хоре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когда и почему появились фамилии, какие факторы повлияли на этот процес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какие правила русского языка использовались при образовании фамил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 как на процесс образования фамилий повлияли культура, религия и территория проживания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46EC-93CF-4566-B7D7-93E31A5D55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ЕРСПЕКТИ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ЧУ ЗНАТЬ, КАК ПОЯВИЛИС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B554-F6EE-4010-87E6-0A4EC09998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2289-007E-49BE-BCFC-D3EA38ABB6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EF6B-DDA7-4FF3-BA30-00C69209B7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ГИПОТЕЗ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амилия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ев» произошла от слова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ёк»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ая часть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–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АНТРОПОНИ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«антропо–» – «человек» + «онима–» – «имя»</a:t>
            </a:r>
            <a:r>
              <a:rPr b="0" lang="ru-RU" sz="1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9152-3FC9-4B5E-8459-A77A0BAC5E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Слово «фамилия» – латинского происхождения. У древних римлян оно относилось не к супругам и детям, а только к рабам. </a:t>
            </a:r>
            <a:r>
              <a:rPr b="1" lang="ru-RU" sz="1400" spc="-1" strike="noStrike" u="sng">
                <a:solidFill>
                  <a:srgbClr val="009900"/>
                </a:solidFill>
                <a:uFillTx/>
                <a:latin typeface="Arial"/>
              </a:rPr>
              <a:t>«Familia»</a:t>
            </a: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 – это принадлежащие одному человеку раб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08FD-8631-4AB2-BC58-7268B1B781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00"/>
                </a:solidFill>
                <a:uFillTx/>
                <a:latin typeface="Arial"/>
              </a:rPr>
              <a:t>«наследственное семейное именование, прибавляемое к личному имени»</a:t>
            </a:r>
            <a:r>
              <a:rPr b="0" lang="ru-RU" sz="1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6736-8CC7-4A64-BD49-1B86184E7F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ПОЯВЛЕНИЕ ФАМИЛИЙ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до 13 века – прозвища, ремесло, отчество, дед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0" lang="ru-RU" sz="1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990099"/>
                </a:solidFill>
                <a:uFillTx/>
                <a:latin typeface="Arial"/>
              </a:rPr>
              <a:t>13 век – первые фамилии в Великом Новгороде</a:t>
            </a:r>
            <a:r>
              <a:rPr b="0" lang="ru-RU" sz="11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99"/>
                </a:solidFill>
                <a:uFillTx/>
                <a:latin typeface="Arial"/>
              </a:rPr>
              <a:t>19 век – массовое появление фамил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7FF7-421F-4E97-9FA8-8B9D4B8B36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Чей? Чьи вы буд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Михаи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Михай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99cc00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й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99cc00"/>
                </a:solidFill>
                <a:uFillTx/>
                <a:latin typeface="Arial"/>
              </a:rPr>
              <a:t>ть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Зая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ц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За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а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2C28-FB62-44A0-8E1D-CE9C1C02EB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ДИАЛ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3300"/>
                </a:solidFill>
                <a:uFillTx/>
                <a:latin typeface="Arial"/>
              </a:rPr>
              <a:t>это разновидность языка, которая употребляется как средство общения между людьми, связанными между собой одной территор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E37F-2F22-433E-AC13-3DC99612E4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DF3-2EEA-4DE0-9ECC-691385FA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ECA-2638-40BE-B02F-9AFAF99C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AB52-235A-44B0-843F-C0479758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B87-A210-4C05-8D53-C5F5C7EA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CC3-E7DE-4E0C-87BF-45F0D61E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542-9AD8-4D51-8103-E6E4F1DB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C19E-9025-4E9C-80B1-3CA331DF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D5E9-5BD8-4346-A91F-AA062634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AFDE-0357-4364-BED6-111EE9DB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910-4B5B-4D4F-BF6A-426D42B3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9707-6FC4-4E8F-AE01-3B61B74E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BF92-1966-43A0-8235-155CED79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02B6-D056-4A8B-89E9-8921662C1E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Как появились фамилии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00360" y="3885840"/>
            <a:ext cx="43923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Ученика 3 – 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МСОШ № 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г. Нижневарт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орева Влади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Карапетян Светла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33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ПРОЕК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для заставки"/>
          <p:cNvPicPr/>
          <p:nvPr/>
        </p:nvPicPr>
        <p:blipFill>
          <a:blip r:embed="rId2"/>
          <a:stretch/>
        </p:blipFill>
        <p:spPr>
          <a:xfrm>
            <a:off x="0" y="3970440"/>
            <a:ext cx="3849840" cy="28875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0" y="0"/>
            <a:ext cx="914400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По мнению учёных, русские фамилии можно разделить на 5 основных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1268280"/>
            <a:ext cx="91440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религии, по именам святых, указанных в Библии – самой главной книге христи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Пётр - Петров, Николай - Николае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поп"/>
          <p:cNvPicPr/>
          <p:nvPr/>
        </p:nvPicPr>
        <p:blipFill>
          <a:blip r:embed="rId2"/>
          <a:stretch/>
        </p:blipFill>
        <p:spPr>
          <a:xfrm>
            <a:off x="1908000" y="3716280"/>
            <a:ext cx="4319640" cy="25210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0" y="0"/>
            <a:ext cx="9144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традиций и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мирское имя». Это прозвища и слова – обере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Дуб – Дубинин, Заяц – Зайц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заяц"/>
          <p:cNvPicPr/>
          <p:nvPr/>
        </p:nvPicPr>
        <p:blipFill>
          <a:blip r:embed="rId2"/>
          <a:stretch/>
        </p:blipFill>
        <p:spPr>
          <a:xfrm>
            <a:off x="468360" y="2781360"/>
            <a:ext cx="3120840" cy="277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дуб"/>
          <p:cNvPicPr/>
          <p:nvPr/>
        </p:nvPicPr>
        <p:blipFill>
          <a:blip r:embed="rId3"/>
          <a:stretch/>
        </p:blipFill>
        <p:spPr>
          <a:xfrm>
            <a:off x="4427640" y="2781360"/>
            <a:ext cx="3743280" cy="2665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3. Фамилии, образованные от профессии. Отсюда Гончаровы,  Сапожниковы, Кузнецовы и Ткачё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гончар 1"/>
          <p:cNvPicPr/>
          <p:nvPr/>
        </p:nvPicPr>
        <p:blipFill>
          <a:blip r:embed="rId2"/>
          <a:stretch/>
        </p:blipFill>
        <p:spPr>
          <a:xfrm>
            <a:off x="0" y="2276640"/>
            <a:ext cx="3095640" cy="4581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сапожник"/>
          <p:cNvPicPr/>
          <p:nvPr/>
        </p:nvPicPr>
        <p:blipFill>
          <a:blip r:embed="rId3"/>
          <a:stretch/>
        </p:blipFill>
        <p:spPr>
          <a:xfrm>
            <a:off x="3708360" y="1052640"/>
            <a:ext cx="5195880" cy="3889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4. Фамилии, образованные от названия местности, откуда были родом предки (основой таких фамилий становились разные географические названия - городов, деревень, рек, озер): Мещеряков,  Новгородцев, Москвити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россия"/>
          <p:cNvPicPr/>
          <p:nvPr/>
        </p:nvPicPr>
        <p:blipFill>
          <a:blip r:embed="rId2"/>
          <a:stretch/>
        </p:blipFill>
        <p:spPr>
          <a:xfrm>
            <a:off x="755640" y="1700280"/>
            <a:ext cx="7524720" cy="4448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0" y="0"/>
            <a:ext cx="91440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5. Фамилии, которые себе взяли высшие служители церкви. Так появились Рождественские (в честь Рождества), Троиц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в честь святой Троицы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пасха"/>
          <p:cNvPicPr/>
          <p:nvPr/>
        </p:nvPicPr>
        <p:blipFill>
          <a:blip r:embed="rId2"/>
          <a:stretch/>
        </p:blipFill>
        <p:spPr>
          <a:xfrm>
            <a:off x="1979640" y="1989000"/>
            <a:ext cx="5184720" cy="3600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6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1258920" y="1916280"/>
            <a:ext cx="2376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</a:t>
            </a:r>
            <a:r>
              <a:rPr b="1" lang="ru-RU" sz="3600" spc="-1" strike="noStrike" u="sng">
                <a:solidFill>
                  <a:srgbClr val="99cc00"/>
                </a:solidFill>
                <a:uFillTx/>
                <a:latin typeface="Arial"/>
              </a:rPr>
              <a:t>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3564000" y="2276640"/>
            <a:ext cx="2303280" cy="727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564000" y="2781360"/>
            <a:ext cx="2303280" cy="79200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908000" y="1268280"/>
            <a:ext cx="5257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6156360" y="285264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ЬКО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6156360" y="162864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ЬЕ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5"/>
          <p:cNvSpPr/>
          <p:nvPr/>
        </p:nvSpPr>
        <p:spPr>
          <a:xfrm flipH="1">
            <a:off x="1834560" y="198900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16"/>
          <p:cNvSpPr/>
          <p:nvPr/>
        </p:nvSpPr>
        <p:spPr>
          <a:xfrm flipH="1">
            <a:off x="6227640" y="1700280"/>
            <a:ext cx="115272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17"/>
          <p:cNvSpPr/>
          <p:nvPr/>
        </p:nvSpPr>
        <p:spPr>
          <a:xfrm flipH="1">
            <a:off x="6155640" y="285264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8"/>
          <p:cNvSpPr/>
          <p:nvPr/>
        </p:nvSpPr>
        <p:spPr>
          <a:xfrm>
            <a:off x="179280" y="5157720"/>
            <a:ext cx="9144000" cy="60984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!!! ГИПОТЕЗА НЕ ПОДТВЕРДИЛАСЬ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НОВАЯ  ГИПОТЕЗ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556000" y="1700280"/>
            <a:ext cx="4392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ХОР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10"/>
          <p:cNvSpPr/>
          <p:nvPr/>
        </p:nvSpPr>
        <p:spPr>
          <a:xfrm flipH="1">
            <a:off x="3923640" y="1773360"/>
            <a:ext cx="158436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4"/>
          <p:cNvSpPr/>
          <p:nvPr/>
        </p:nvSpPr>
        <p:spPr>
          <a:xfrm>
            <a:off x="179280" y="2997360"/>
            <a:ext cx="8820360" cy="2303280"/>
          </a:xfrm>
          <a:prstGeom prst="upArrowCallout">
            <a:avLst>
              <a:gd name="adj1" fmla="val -72094"/>
              <a:gd name="adj2" fmla="val 95737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ff"/>
                </a:solidFill>
                <a:uFillTx/>
                <a:latin typeface="Arial"/>
              </a:rPr>
              <a:t>Фамилия «Хорев» вся входит в корень сло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ff"/>
                </a:solidFill>
                <a:uFillTx/>
                <a:latin typeface="Arial"/>
              </a:rPr>
              <a:t>которое может быть взято из другого языка</a:t>
            </a:r>
            <a:r>
              <a:rPr b="1" lang="ru-RU" sz="28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РОВЕРКА  ГИПОТЕ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Гора Хорев"/>
          <p:cNvPicPr/>
          <p:nvPr/>
        </p:nvPicPr>
        <p:blipFill>
          <a:blip r:embed="rId2"/>
          <a:stretch/>
        </p:blipFill>
        <p:spPr>
          <a:xfrm>
            <a:off x="1332000" y="2276640"/>
            <a:ext cx="3348000" cy="439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Карта с горой Хорев"/>
          <p:cNvPicPr/>
          <p:nvPr/>
        </p:nvPicPr>
        <p:blipFill>
          <a:blip r:embed="rId3"/>
          <a:stretch/>
        </p:blipFill>
        <p:spPr>
          <a:xfrm>
            <a:off x="179280" y="981000"/>
            <a:ext cx="1524240" cy="21528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5651640" y="1557360"/>
            <a:ext cx="3097080" cy="48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озможное слов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сточник м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фамилии Хоре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это втор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 более древ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звание свящ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ля христиан г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Синай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ора наход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Израиле.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1258920" y="1916280"/>
            <a:ext cx="2376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V="1">
            <a:off x="3708360" y="2491920"/>
            <a:ext cx="2303640" cy="7308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1908000" y="1268280"/>
            <a:ext cx="5257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6156360" y="198900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Е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rc 10"/>
          <p:cNvSpPr/>
          <p:nvPr/>
        </p:nvSpPr>
        <p:spPr>
          <a:xfrm flipH="1">
            <a:off x="1834560" y="198900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11"/>
          <p:cNvSpPr/>
          <p:nvPr/>
        </p:nvSpPr>
        <p:spPr>
          <a:xfrm flipH="1">
            <a:off x="6516000" y="2060640"/>
            <a:ext cx="115236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324000" y="624852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!!! ГИПОТЕЗА ПОДТВЕРДИЛАСЬ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5" descr="ярмарка"/>
          <p:cNvPicPr/>
          <p:nvPr/>
        </p:nvPicPr>
        <p:blipFill>
          <a:blip r:embed="rId2"/>
          <a:stretch/>
        </p:blipFill>
        <p:spPr>
          <a:xfrm>
            <a:off x="2700360" y="3213000"/>
            <a:ext cx="4176720" cy="28800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0" y="1125360"/>
            <a:ext cx="9144000" cy="5732640"/>
          </a:xfrm>
          <a:custGeom>
            <a:avLst/>
            <a:gdLst>
              <a:gd name="textAreaLeft" fmla="*/ 2087280 w 9144000"/>
              <a:gd name="textAreaRight" fmla="*/ 7056720 w 9144000"/>
              <a:gd name="textAreaTop" fmla="*/ 1308600 h 5732640"/>
              <a:gd name="textAreaBottom" fmla="*/ 4424040 h 573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тели Израиля всегда были торгов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ьми и путешествен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10 ве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и торговали 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вроп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зией, Инд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это время уже прошло Кре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и князем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миром Святославич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ие люди не знали географию, но знали Библию и гору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Хор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Чьи вы будете?»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ешественник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ч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гордостью 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«Хоревы мы будем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корей все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едения торговли, кто -  то из путешествен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орговцев долго не уезжал на свою род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том так и остался на Ру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0" y="333360"/>
            <a:ext cx="914400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Цель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становить, как и почему появилась фамилия «Хоре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когда и почему появились фамилии, какие факторы повлияли на этот проце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какие правила русского языка использовались при образовании фамил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 как на процесс образования фамилий повлияли культура, религия и территория прожива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ЕРСПЕКТИ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aptop"/>
          <p:cNvSpPr/>
          <p:nvPr/>
        </p:nvSpPr>
        <p:spPr>
          <a:xfrm>
            <a:off x="1332000" y="1557360"/>
            <a:ext cx="6480000" cy="48960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ЧУ ЗНАТЬ, КАК ПОЯВИЛИС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для заставки 1"/>
          <p:cNvPicPr/>
          <p:nvPr/>
        </p:nvPicPr>
        <p:blipFill>
          <a:blip r:embed="rId2"/>
          <a:stretch/>
        </p:blipFill>
        <p:spPr>
          <a:xfrm>
            <a:off x="684360" y="333360"/>
            <a:ext cx="8208720" cy="62546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-39672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СПАС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ВНИМАНИЕ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333360"/>
            <a:ext cx="9144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ГИПОТЕЗ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милия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в» произошла от слова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ёк»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ая часть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зверек"/>
          <p:cNvPicPr/>
          <p:nvPr/>
        </p:nvPicPr>
        <p:blipFill>
          <a:blip r:embed="rId2"/>
          <a:stretch/>
        </p:blipFill>
        <p:spPr>
          <a:xfrm>
            <a:off x="7020000" y="3213000"/>
            <a:ext cx="1047600" cy="1314720"/>
          </a:xfrm>
          <a:prstGeom prst="rect">
            <a:avLst/>
          </a:prstGeom>
          <a:ln w="0">
            <a:noFill/>
          </a:ln>
        </p:spPr>
      </p:pic>
      <p:sp>
        <p:nvSpPr>
          <p:cNvPr id="60" name="Line 10"/>
          <p:cNvSpPr/>
          <p:nvPr/>
        </p:nvSpPr>
        <p:spPr>
          <a:xfrm flipH="1">
            <a:off x="262728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50560" y="3500280"/>
            <a:ext cx="2592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Хор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780000" y="3500280"/>
            <a:ext cx="1439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хор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109548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c 19"/>
          <p:cNvSpPr/>
          <p:nvPr/>
        </p:nvSpPr>
        <p:spPr>
          <a:xfrm flipH="1">
            <a:off x="1113840" y="3429000"/>
            <a:ext cx="455400" cy="22860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rc 20"/>
          <p:cNvSpPr/>
          <p:nvPr/>
        </p:nvSpPr>
        <p:spPr>
          <a:xfrm flipH="1">
            <a:off x="3995640" y="3357720"/>
            <a:ext cx="433440" cy="228600"/>
          </a:xfrm>
          <a:custGeom>
            <a:avLst/>
            <a:gdLst/>
            <a:ahLst/>
            <a:rect l="l" t="t" r="r" b="b"/>
            <a:pathLst>
              <a:path fill="none" w="42671" h="21600">
                <a:moveTo>
                  <a:pt x="-1" y="16848"/>
                </a:moveTo>
                <a:cubicBezTo>
                  <a:pt x="2221" y="6997"/>
                  <a:pt x="10972" y="-1"/>
                  <a:pt x="21071" y="0"/>
                </a:cubicBezTo>
                <a:cubicBezTo>
                  <a:pt x="33000" y="0"/>
                  <a:pt x="42671" y="9670"/>
                  <a:pt x="42671" y="21600"/>
                </a:cubicBezTo>
              </a:path>
              <a:path stroke="0" w="42671" h="21600">
                <a:moveTo>
                  <a:pt x="-1" y="16848"/>
                </a:moveTo>
                <a:cubicBezTo>
                  <a:pt x="2221" y="6997"/>
                  <a:pt x="10972" y="-1"/>
                  <a:pt x="21071" y="0"/>
                </a:cubicBezTo>
                <a:cubicBezTo>
                  <a:pt x="33000" y="0"/>
                  <a:pt x="42671" y="9670"/>
                  <a:pt x="42671" y="21600"/>
                </a:cubicBezTo>
                <a:lnTo>
                  <a:pt x="21071" y="21600"/>
                </a:lnTo>
                <a:lnTo>
                  <a:pt x="-1" y="1684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1"/>
          <p:cNvSpPr/>
          <p:nvPr/>
        </p:nvSpPr>
        <p:spPr>
          <a:xfrm flipV="1">
            <a:off x="1692360" y="328464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1908000" y="328464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3"/>
          <p:cNvSpPr/>
          <p:nvPr/>
        </p:nvSpPr>
        <p:spPr>
          <a:xfrm flipV="1">
            <a:off x="4500720" y="314172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4716360" y="314172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5"/>
          <p:cNvSpPr/>
          <p:nvPr/>
        </p:nvSpPr>
        <p:spPr>
          <a:xfrm flipH="1">
            <a:off x="5363640" y="3860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0" y="1484280"/>
            <a:ext cx="91440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«антропо–» – «человек» + «онима–» – «имя»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АНТРОПОНИ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0" y="1484280"/>
            <a:ext cx="91440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Слово «фамилия» – латинского происхождения. У древних римлян оно относилось не к супругам и детям, а только к рабам.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Arial"/>
              </a:rPr>
              <a:t>«Familia»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– это принадлежащие одному человеку раб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римляне"/>
          <p:cNvPicPr/>
          <p:nvPr/>
        </p:nvPicPr>
        <p:blipFill>
          <a:blip r:embed="rId2"/>
          <a:stretch/>
        </p:blipFill>
        <p:spPr>
          <a:xfrm>
            <a:off x="3059280" y="3429000"/>
            <a:ext cx="2952720" cy="2664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0" y="148428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900"/>
                </a:solidFill>
                <a:uFillTx/>
                <a:latin typeface="Arial"/>
              </a:rPr>
              <a:t>«наследственное семейное именование, прибавляемое к личному имени»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4211640" y="4149720"/>
            <a:ext cx="216000" cy="142920"/>
          </a:xfrm>
          <a:custGeom>
            <a:avLst/>
            <a:gdLst>
              <a:gd name="textAreaLeft" fmla="*/ 0 w 216000"/>
              <a:gd name="textAreaRight" fmla="*/ 61200 w 216000"/>
              <a:gd name="textAreaTop" fmla="*/ 5508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европа"/>
          <p:cNvPicPr/>
          <p:nvPr/>
        </p:nvPicPr>
        <p:blipFill>
          <a:blip r:embed="rId2"/>
          <a:stretch/>
        </p:blipFill>
        <p:spPr>
          <a:xfrm>
            <a:off x="1258920" y="3284640"/>
            <a:ext cx="6553080" cy="3573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1"/>
          <p:cNvSpPr/>
          <p:nvPr/>
        </p:nvSpPr>
        <p:spPr>
          <a:xfrm>
            <a:off x="3995640" y="5445000"/>
            <a:ext cx="1152720" cy="719280"/>
          </a:xfrm>
          <a:custGeom>
            <a:avLst/>
            <a:gdLst>
              <a:gd name="textAreaLeft" fmla="*/ 0 w 1152720"/>
              <a:gd name="textAreaRight" fmla="*/ 326160 w 1152720"/>
              <a:gd name="textAreaTop" fmla="*/ 2768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5076720" y="4797360"/>
            <a:ext cx="1943280" cy="719280"/>
          </a:xfrm>
          <a:custGeom>
            <a:avLst/>
            <a:gdLst>
              <a:gd name="textAreaLeft" fmla="*/ 0 w 1943280"/>
              <a:gd name="textAreaRight" fmla="*/ 549720 w 1943280"/>
              <a:gd name="textAreaTop" fmla="*/ 2768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0" y="0"/>
            <a:ext cx="91440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ОЯВЛЕНИЕ ФАМИЛИЙ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до 13 века – прозвища, ремесло, отчество, дед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4113360"/>
            <a:ext cx="9144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30- е годы 20 века – у каждого человека есть фами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227664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3 век – первые фамилии в Великом Новгород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270828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8 век – появление паспор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16000" y="2924280"/>
            <a:ext cx="9144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9 век – массовое появление фамил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0" y="33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толпа"/>
          <p:cNvPicPr/>
          <p:nvPr/>
        </p:nvPicPr>
        <p:blipFill>
          <a:blip r:embed="rId2"/>
          <a:stretch/>
        </p:blipFill>
        <p:spPr>
          <a:xfrm>
            <a:off x="0" y="0"/>
            <a:ext cx="3171960" cy="42861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"/>
          <p:cNvSpPr/>
          <p:nvPr/>
        </p:nvSpPr>
        <p:spPr>
          <a:xfrm>
            <a:off x="3132000" y="0"/>
            <a:ext cx="5904000" cy="1197000"/>
          </a:xfrm>
          <a:prstGeom prst="downArrowCallout">
            <a:avLst>
              <a:gd name="adj1" fmla="val 123320"/>
              <a:gd name="adj2" fmla="val 123308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Чей? 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132000" y="5943600"/>
            <a:ext cx="6012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Зая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ц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Зай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3132000" y="2276640"/>
            <a:ext cx="6012000" cy="1296720"/>
          </a:xfrm>
          <a:prstGeom prst="downArrowCallout">
            <a:avLst>
              <a:gd name="adj1" fmla="val 115918"/>
              <a:gd name="adj2" fmla="val 115908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Михаи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Михай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132000" y="3573360"/>
            <a:ext cx="6012000" cy="1150920"/>
          </a:xfrm>
          <a:prstGeom prst="downArrowCallout">
            <a:avLst>
              <a:gd name="adj1" fmla="val 130603"/>
              <a:gd name="adj2" fmla="val 130591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й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ть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3132000" y="4724280"/>
            <a:ext cx="6012000" cy="1225800"/>
          </a:xfrm>
          <a:prstGeom prst="downArrowCallout">
            <a:avLst>
              <a:gd name="adj1" fmla="val 122625"/>
              <a:gd name="adj2" fmla="val 122614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а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3132000" y="1197000"/>
            <a:ext cx="6012000" cy="1079640"/>
          </a:xfrm>
          <a:prstGeom prst="downArrowCallout">
            <a:avLst>
              <a:gd name="adj1" fmla="val 139226"/>
              <a:gd name="adj2" fmla="val 13921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 flipV="1">
            <a:off x="7308720" y="1196640"/>
            <a:ext cx="1461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 flipV="1">
            <a:off x="7667640" y="2349360"/>
            <a:ext cx="14616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 flipV="1">
            <a:off x="7667640" y="3644640"/>
            <a:ext cx="1461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 flipV="1">
            <a:off x="7308720" y="4724280"/>
            <a:ext cx="14616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V="1">
            <a:off x="7093080" y="6021360"/>
            <a:ext cx="14580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745164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7812000" y="2349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7812000" y="364500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7451640" y="4724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7236000" y="6021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0" y="1413000"/>
            <a:ext cx="9144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это разновидность языка, которая употребляется как средство общения между людьми, связанными между собой одной территор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россия"/>
          <p:cNvPicPr/>
          <p:nvPr/>
        </p:nvPicPr>
        <p:blipFill>
          <a:blip r:embed="rId2"/>
          <a:stretch/>
        </p:blipFill>
        <p:spPr>
          <a:xfrm>
            <a:off x="324000" y="2421000"/>
            <a:ext cx="8569080" cy="42480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4"/>
          <p:cNvSpPr/>
          <p:nvPr/>
        </p:nvSpPr>
        <p:spPr>
          <a:xfrm>
            <a:off x="539640" y="0"/>
            <a:ext cx="8353440" cy="1413000"/>
          </a:xfrm>
          <a:prstGeom prst="downArrowCallout">
            <a:avLst>
              <a:gd name="adj1" fmla="val -125780"/>
              <a:gd name="adj2" fmla="val 147796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ДИАЛ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24000" y="2421000"/>
            <a:ext cx="2663640" cy="609480"/>
          </a:xfrm>
          <a:prstGeom prst="wedgeRectCallout">
            <a:avLst>
              <a:gd name="adj1" fmla="val -47856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ЧЕЙ СЫ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1042920" y="3357720"/>
            <a:ext cx="1871640" cy="60948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ов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 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4005360"/>
            <a:ext cx="1871640" cy="60948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а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 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3132000" y="3213000"/>
            <a:ext cx="1871640" cy="60984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ова 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4:17:27Z</dcterms:created>
  <dc:creator>User</dc:creator>
  <dc:description/>
  <dc:language>en-US</dc:language>
  <cp:lastModifiedBy>LEGION2</cp:lastModifiedBy>
  <dcterms:modified xsi:type="dcterms:W3CDTF">2015-04-24T08:57:34Z</dcterms:modified>
  <cp:revision>30</cp:revision>
  <dc:subject/>
  <dc:title>«Как появились фамилии?»</dc:title>
</cp:coreProperties>
</file>