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4E63-392D-4E85-BF1F-495B0F269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9F3-5121-4834-B469-8675D6C39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E10C-FC41-4D0C-A157-6A451DCF8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Фамилии, образованные под влиянием традиций и культур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985-F1B2-40F6-9821-8C1A0BA77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78DB-0C98-4E9B-A248-CD0789331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6FC9-5462-4051-85C3-2F1F83D479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F512-1238-4461-BDA5-895B45A425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753F-A876-48F9-9766-9EA24E70E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4D81-F135-4858-AB7B-2FB57C548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902B-9C3B-4C2B-B7D1-A8FC99E19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E14-0F1A-4362-A821-47FA8B58B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1A2C-229D-41A3-A724-A282F1E3D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B5C5-C25C-4D83-A001-D29D060311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215C-4DE2-4D43-BE72-8CCF0BA19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4209-A46D-4C97-9C64-402C028DE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10B6-6F47-4768-B407-21C5A43D2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4884-E4A0-4FCF-872F-6B33D8CB8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14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7E60-23EC-4591-AAD0-6532D0C99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1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B0CB-C971-427B-93DC-CC3210BBC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11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291-7CEB-495F-8B80-F28B36D3B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479D-8146-4499-8DC7-274A57A2B7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7256-6A4A-4632-8CDC-A281F4A204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E6B-9B0D-4B55-922E-DB89EE15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808-782C-42B4-BF22-4C302600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F74-025F-4C30-AD5C-FA9D1401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8AF-6BC1-4DE9-93FA-791A1665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BD9-08DF-4F45-853F-EF657694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9D8-5D5F-49A3-AC21-F773EE60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C80-8017-4487-94FF-30C15880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870-126D-4AAF-BA10-2C1DC25F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EBB-51B1-44B0-A7CC-C1EA523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8AF-CCA8-4CC0-AE2F-18CC931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4AD-CC67-4127-80C3-CB7EF85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DFF-6A58-4C84-869D-A9536DFD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82A9-5CEB-417E-A238-79D6DD9F4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00360" y="3885840"/>
            <a:ext cx="43923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РОЕ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для заставки"/>
          <p:cNvPicPr/>
          <p:nvPr/>
        </p:nvPicPr>
        <p:blipFill>
          <a:blip r:embed="rId2"/>
          <a:stretch/>
        </p:blipFill>
        <p:spPr>
          <a:xfrm>
            <a:off x="0" y="397044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0"/>
            <a:ext cx="9144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1268280"/>
            <a:ext cx="91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поп"/>
          <p:cNvPicPr/>
          <p:nvPr/>
        </p:nvPicPr>
        <p:blipFill>
          <a:blip r:embed="rId2"/>
          <a:stretch/>
        </p:blipFill>
        <p:spPr>
          <a:xfrm>
            <a:off x="1908000" y="3716280"/>
            <a:ext cx="4319640" cy="25210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традиций и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заяц"/>
          <p:cNvPicPr/>
          <p:nvPr/>
        </p:nvPicPr>
        <p:blipFill>
          <a:blip r:embed="rId2"/>
          <a:stretch/>
        </p:blipFill>
        <p:spPr>
          <a:xfrm>
            <a:off x="468360" y="2781360"/>
            <a:ext cx="3120840" cy="27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дуб"/>
          <p:cNvPicPr/>
          <p:nvPr/>
        </p:nvPicPr>
        <p:blipFill>
          <a:blip r:embed="rId3"/>
          <a:stretch/>
        </p:blipFill>
        <p:spPr>
          <a:xfrm>
            <a:off x="4427640" y="278136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гончар 1"/>
          <p:cNvPicPr/>
          <p:nvPr/>
        </p:nvPicPr>
        <p:blipFill>
          <a:blip r:embed="rId2"/>
          <a:stretch/>
        </p:blipFill>
        <p:spPr>
          <a:xfrm>
            <a:off x="0" y="2276640"/>
            <a:ext cx="3095640" cy="45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сапожник"/>
          <p:cNvPicPr/>
          <p:nvPr/>
        </p:nvPicPr>
        <p:blipFill>
          <a:blip r:embed="rId3"/>
          <a:stretch/>
        </p:blipFill>
        <p:spPr>
          <a:xfrm>
            <a:off x="3708360" y="1052640"/>
            <a:ext cx="5195880" cy="3889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россия"/>
          <p:cNvPicPr/>
          <p:nvPr/>
        </p:nvPicPr>
        <p:blipFill>
          <a:blip r:embed="rId2"/>
          <a:stretch/>
        </p:blipFill>
        <p:spPr>
          <a:xfrm>
            <a:off x="755640" y="1700280"/>
            <a:ext cx="7524720" cy="4448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пасха"/>
          <p:cNvPicPr/>
          <p:nvPr/>
        </p:nvPicPr>
        <p:blipFill>
          <a:blip r:embed="rId2"/>
          <a:stretch/>
        </p:blipFill>
        <p:spPr>
          <a:xfrm>
            <a:off x="1979640" y="198900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3564000" y="2276640"/>
            <a:ext cx="2303280" cy="7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64000" y="2781360"/>
            <a:ext cx="2303280" cy="7920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6156360" y="2852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К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6156360" y="1628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5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6"/>
          <p:cNvSpPr/>
          <p:nvPr/>
        </p:nvSpPr>
        <p:spPr>
          <a:xfrm flipH="1">
            <a:off x="6227640" y="1700280"/>
            <a:ext cx="115272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7"/>
          <p:cNvSpPr/>
          <p:nvPr/>
        </p:nvSpPr>
        <p:spPr>
          <a:xfrm flipH="1">
            <a:off x="6155640" y="285264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179280" y="5157720"/>
            <a:ext cx="9144000" cy="60984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НЕ ПОДТВЕРДИЛАСЬ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556000" y="1700280"/>
            <a:ext cx="4392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0"/>
          <p:cNvSpPr/>
          <p:nvPr/>
        </p:nvSpPr>
        <p:spPr>
          <a:xfrm flipH="1">
            <a:off x="3923640" y="1773360"/>
            <a:ext cx="1584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179280" y="2997360"/>
            <a:ext cx="8820360" cy="2303280"/>
          </a:xfrm>
          <a:prstGeom prst="upArrowCallout">
            <a:avLst>
              <a:gd name="adj1" fmla="val -72094"/>
              <a:gd name="adj2" fmla="val 95737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Гора Хорев"/>
          <p:cNvPicPr/>
          <p:nvPr/>
        </p:nvPicPr>
        <p:blipFill>
          <a:blip r:embed="rId2"/>
          <a:stretch/>
        </p:blipFill>
        <p:spPr>
          <a:xfrm>
            <a:off x="1332000" y="2276640"/>
            <a:ext cx="3348000" cy="43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а с горой Хорев"/>
          <p:cNvPicPr/>
          <p:nvPr/>
        </p:nvPicPr>
        <p:blipFill>
          <a:blip r:embed="rId3"/>
          <a:stretch/>
        </p:blipFill>
        <p:spPr>
          <a:xfrm>
            <a:off x="179280" y="981000"/>
            <a:ext cx="1524240" cy="2152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51640" y="1557360"/>
            <a:ext cx="309708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V="1">
            <a:off x="3708360" y="2491920"/>
            <a:ext cx="2303640" cy="73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6156360" y="198900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10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1"/>
          <p:cNvSpPr/>
          <p:nvPr/>
        </p:nvSpPr>
        <p:spPr>
          <a:xfrm flipH="1">
            <a:off x="6516000" y="2060640"/>
            <a:ext cx="1152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324000" y="624852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ПОДТВЕРДИЛАС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ярмарка"/>
          <p:cNvPicPr/>
          <p:nvPr/>
        </p:nvPicPr>
        <p:blipFill>
          <a:blip r:embed="rId2"/>
          <a:stretch/>
        </p:blipFill>
        <p:spPr>
          <a:xfrm>
            <a:off x="2700360" y="321300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08600 h 5732640"/>
              <a:gd name="textAreaBottom" fmla="*/ 442404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0" y="33336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aptop"/>
          <p:cNvSpPr/>
          <p:nvPr/>
        </p:nvSpPr>
        <p:spPr>
          <a:xfrm>
            <a:off x="1332000" y="1557360"/>
            <a:ext cx="6480000" cy="489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для заставки 1"/>
          <p:cNvPicPr/>
          <p:nvPr/>
        </p:nvPicPr>
        <p:blipFill>
          <a:blip r:embed="rId2"/>
          <a:stretch/>
        </p:blipFill>
        <p:spPr>
          <a:xfrm>
            <a:off x="684360" y="333360"/>
            <a:ext cx="8208720" cy="6254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9672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33336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зверек"/>
          <p:cNvPicPr/>
          <p:nvPr/>
        </p:nvPicPr>
        <p:blipFill>
          <a:blip r:embed="rId2"/>
          <a:stretch/>
        </p:blipFill>
        <p:spPr>
          <a:xfrm>
            <a:off x="7020000" y="3213000"/>
            <a:ext cx="1047600" cy="1314720"/>
          </a:xfrm>
          <a:prstGeom prst="rect">
            <a:avLst/>
          </a:prstGeom>
          <a:ln w="0">
            <a:noFill/>
          </a:ln>
        </p:spPr>
      </p:pic>
      <p:sp>
        <p:nvSpPr>
          <p:cNvPr id="60" name="Line 10"/>
          <p:cNvSpPr/>
          <p:nvPr/>
        </p:nvSpPr>
        <p:spPr>
          <a:xfrm flipH="1">
            <a:off x="2627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259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780000" y="3500280"/>
            <a:ext cx="143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09548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9"/>
          <p:cNvSpPr/>
          <p:nvPr/>
        </p:nvSpPr>
        <p:spPr>
          <a:xfrm flipH="1">
            <a:off x="1113840" y="3429000"/>
            <a:ext cx="455400" cy="22860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20"/>
          <p:cNvSpPr/>
          <p:nvPr/>
        </p:nvSpPr>
        <p:spPr>
          <a:xfrm flipH="1">
            <a:off x="3995640" y="3357720"/>
            <a:ext cx="433440" cy="228600"/>
          </a:xfrm>
          <a:custGeom>
            <a:avLst/>
            <a:gdLst/>
            <a:ahLst/>
            <a:rect l="l" t="t" r="r" b="b"/>
            <a:pathLst>
              <a:path fill="none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</a:path>
              <a:path stroke="0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  <a:lnTo>
                  <a:pt x="21071" y="21600"/>
                </a:lnTo>
                <a:lnTo>
                  <a:pt x="-1" y="1684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169236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90800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 flipV="1">
            <a:off x="450072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71636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5363640" y="3860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48428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1484280"/>
            <a:ext cx="914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римляне"/>
          <p:cNvPicPr/>
          <p:nvPr/>
        </p:nvPicPr>
        <p:blipFill>
          <a:blip r:embed="rId2"/>
          <a:stretch/>
        </p:blipFill>
        <p:spPr>
          <a:xfrm>
            <a:off x="3059280" y="342900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1484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211640" y="4149720"/>
            <a:ext cx="216000" cy="142920"/>
          </a:xfrm>
          <a:custGeom>
            <a:avLst/>
            <a:gdLst>
              <a:gd name="textAreaLeft" fmla="*/ 0 w 216000"/>
              <a:gd name="textAreaRight" fmla="*/ 61200 w 216000"/>
              <a:gd name="textAreaTop" fmla="*/ 5508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европа"/>
          <p:cNvPicPr/>
          <p:nvPr/>
        </p:nvPicPr>
        <p:blipFill>
          <a:blip r:embed="rId2"/>
          <a:stretch/>
        </p:blipFill>
        <p:spPr>
          <a:xfrm>
            <a:off x="1258920" y="3284640"/>
            <a:ext cx="6553080" cy="3573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3995640" y="5445000"/>
            <a:ext cx="1152720" cy="719280"/>
          </a:xfrm>
          <a:custGeom>
            <a:avLst/>
            <a:gdLst>
              <a:gd name="textAreaLeft" fmla="*/ 0 w 1152720"/>
              <a:gd name="textAreaRight" fmla="*/ 326160 w 115272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5076720" y="4797360"/>
            <a:ext cx="1943280" cy="719280"/>
          </a:xfrm>
          <a:custGeom>
            <a:avLst/>
            <a:gdLst>
              <a:gd name="textAreaLeft" fmla="*/ 0 w 1943280"/>
              <a:gd name="textAreaRight" fmla="*/ 549720 w 194328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0"/>
            <a:ext cx="91440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11336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30- е годы 20 века – у каждого человека есть фами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7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27082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8 век – появление пасп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00" y="292428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олпа"/>
          <p:cNvPicPr/>
          <p:nvPr/>
        </p:nvPicPr>
        <p:blipFill>
          <a:blip r:embed="rId2"/>
          <a:stretch/>
        </p:blipFill>
        <p:spPr>
          <a:xfrm>
            <a:off x="0" y="0"/>
            <a:ext cx="31719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3132000" y="0"/>
            <a:ext cx="5904000" cy="1197000"/>
          </a:xfrm>
          <a:prstGeom prst="downArrowCallout">
            <a:avLst>
              <a:gd name="adj1" fmla="val 123320"/>
              <a:gd name="adj2" fmla="val 1233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132000" y="5943600"/>
            <a:ext cx="601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132000" y="2276640"/>
            <a:ext cx="6012000" cy="1296720"/>
          </a:xfrm>
          <a:prstGeom prst="downArrowCallout">
            <a:avLst>
              <a:gd name="adj1" fmla="val 115918"/>
              <a:gd name="adj2" fmla="val 1159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132000" y="3573360"/>
            <a:ext cx="6012000" cy="1150920"/>
          </a:xfrm>
          <a:prstGeom prst="downArrowCallout">
            <a:avLst>
              <a:gd name="adj1" fmla="val 130603"/>
              <a:gd name="adj2" fmla="val 13059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132000" y="4724280"/>
            <a:ext cx="6012000" cy="1225800"/>
          </a:xfrm>
          <a:prstGeom prst="downArrowCallout">
            <a:avLst>
              <a:gd name="adj1" fmla="val 122625"/>
              <a:gd name="adj2" fmla="val 12261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3132000" y="1197000"/>
            <a:ext cx="6012000" cy="1079640"/>
          </a:xfrm>
          <a:prstGeom prst="downArrowCallout">
            <a:avLst>
              <a:gd name="adj1" fmla="val 139226"/>
              <a:gd name="adj2" fmla="val 13921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7308720" y="1196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667640" y="234936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7667640" y="3644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7308720" y="472428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7093080" y="6021360"/>
            <a:ext cx="1458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745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1200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7812000" y="3645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7451640" y="472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7236000" y="602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1413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россия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539640" y="0"/>
            <a:ext cx="8353440" cy="1413000"/>
          </a:xfrm>
          <a:prstGeom prst="downArrowCallout">
            <a:avLst>
              <a:gd name="adj1" fmla="val -125780"/>
              <a:gd name="adj2" fmla="val 14779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24000" y="2421000"/>
            <a:ext cx="2663640" cy="609480"/>
          </a:xfrm>
          <a:prstGeom prst="wedgeRectCallout">
            <a:avLst>
              <a:gd name="adj1" fmla="val -4785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ЧЕЙ СЫ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42920" y="335772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4005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а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3132000" y="3213000"/>
            <a:ext cx="1871640" cy="60984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а 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17:27Z</dcterms:created>
  <dc:creator>User</dc:creator>
  <dc:description/>
  <dc:language>en-US</dc:language>
  <cp:lastModifiedBy>LEGION2</cp:lastModifiedBy>
  <dcterms:modified xsi:type="dcterms:W3CDTF">2015-04-24T08:57:34Z</dcterms:modified>
  <cp:revision>30</cp:revision>
  <dc:subject/>
  <dc:title>«Как появились фамилии?»</dc:title>
</cp:coreProperties>
</file>