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F05B-FFA7-4C25-9249-7B3E0B4FAC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«Красная книг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ий мир» 2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B4F7-B30E-4B6B-A849-36DC049975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ров подкармливали зимой, следи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ни не болели, тщательно ох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ли, особенно молодняк. Зубров спас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прошло около 8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ой является чрезмерная добы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, охота, разрушение мест о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C274-40CA-4072-A2EF-DF3D223B5A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елый журав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тер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тица семейства ж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линых. Масса т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6-8 кг, выс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-1,4 метра. Сте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чис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, находя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рани исчез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E328-99F8-4BB1-90D1-AF1A6A7615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863C-F5ED-46C6-A746-280B32A904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епард и ягу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ходятся на грани исчез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AE2D-9442-432D-A6F8-CEFDC6300D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абочка адмир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аска пестр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тает на лес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шках, в садах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ах. Гусеницы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листьях крапив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полоха, культу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м не вре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баб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4D04-6A2E-4C96-A6BD-254DCF5D4A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Женьш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 с китайского «кор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, человек-кор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тение широко и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ется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доро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48F6-2D09-41C2-A236-EFBB351C2F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паль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вропейс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цветок в Удмур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ют италма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к назван куп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ей за то, что расте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лажных мест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т воду, люби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– берега р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отистые луга.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жалостно рвут э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, купальница с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м растением,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есена в Красную кни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756B-1C90-470E-9EA2-16B58F0696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ая книга» - это не совсем обы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а. Цвет переплёта у этой книг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. Что символизирует кра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? Это сигнал тревоги, опасности, п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преждения. Он, как красный цвет св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фора, предупреждает: «Остор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случиться бед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079F-55FE-42B7-B478-02F0665ECA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от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ое, красиво цветущее водное или околоводное раст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FA70-A5D6-4B6C-BC5D-CC9C1C7C7A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ниге перечислены животны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которые могут безвозврат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уть. И, если мы не защитим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ия и животных, попавших в Крас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у, они погибнут. Спасение их невоз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без специальных мер: запр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ы, охраны в заповедниках, заботы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ёныш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2E94-59E7-48AB-963A-145EB7CAA9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юл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ём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или 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и. Длина их тела о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 метров, масса от 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 до 5 тонн. Тюлени п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ют в приполяр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ах. В России оби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9 видов настоя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7B90-1E73-4BE6-ACCF-7C066B91BF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 питаются р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, моллюсками, 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бразными. Числе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ть тюлений сок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ается и не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ходятся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B7F9-2730-4A09-A90E-B7446D96CF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л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и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арнокопы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копитающих 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шадей. У кулана 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шо развиты зр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х, обоняние. Ще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ок фотоаппарата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ышат на рассто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 60 метров. Кул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чаливы и редко к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т. Стада куланов п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ся сейчас только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ведниках Туркм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. Сейчас кулана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яют в нов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0DDD-73FF-42C2-B0F7-6010D10594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Зуб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ились в 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 Белоруссии. В н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ле 20 века лю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истре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 зубров. Оста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звери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 в зоопарках, - 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ук. Надо было сроч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пасать зубров.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тили в запов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 – Беловежс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4DA0-D3DA-4264-9D17-A5FC239A7B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B82-23B9-4886-BAC0-0FE752D1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F01-C994-48B1-AD9A-7D700BEC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3BE-292D-443F-AF33-95791485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602-09AA-413A-9044-7835FE4E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86772-9F0D-4FEA-91BF-5DA58AEA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98BA2-1526-447C-89BE-4731C279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4EA66-43BB-4A5D-B2F5-2BFE2334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A180F-A60D-4FD0-8F43-240D27EF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10F41-F468-4164-B926-A1044C08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CD0A9-339D-4134-8F17-E50E4DC7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2742D-D5D3-46D6-9921-7CD8B93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85D-BC8C-4D1D-88BF-640C56E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333AA-CC0C-4786-854A-119B226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C5784-250F-4F94-88ED-CED86824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603DC-69E8-446B-ABD1-5FF07DCB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6D077-63DB-4107-9DD9-4AD7E594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CF8F8-DA46-493C-95F5-FB46AB36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236-50FE-4CBD-8A46-7F788122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095-8307-4725-BC79-32116BDC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73D-9368-4AAD-BCD9-57D1989A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E88-AC40-49C3-BFD4-A44ED82A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078-437D-473F-86AE-6349EE60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4C5-5F7B-424F-BCCE-454CBDC0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A55-A951-4878-B97A-5EC8EB7D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B1AF-E681-4CA8-ADF3-0350203960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69C1-D4BD-4BCD-B04A-79B83B9EBE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«Красная книга»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кружающий мир» 2 кла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бров подкармливали зимой, следи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ни не болели, тщательно охра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яли, особенно молодняк. Зубров спас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едь прошло около 80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розой является чрезмерная добы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ых, охота, разрушение мест об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Белый журав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стер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семейства ж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линых. Масса те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ло 6-8 кг, высо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-1,4 метра. Сте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сится к чис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ов, находя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грани исчезнов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6360" cy="46814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32360" cy="511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888000" cy="52578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79800" cy="489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5076720" y="188928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032000" cy="468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743640" cy="46083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Гепард и ягуар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находятся на грани исчезнове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527640" cy="407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745080" cy="3816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716000" y="907560"/>
            <a:ext cx="3970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абочка адмир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раска пест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итает на лес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ушках, в садах,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ках. Гусеницы жив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истьях крапив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тополоха, культур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тениям не вред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енность баб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щ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214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45352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Женьш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 перев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 с китайского «кор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и, человек-корен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растение широко 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уется в медиц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источ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репления здоров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левает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338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"/>
          <p:cNvPicPr/>
          <p:nvPr/>
        </p:nvPicPr>
        <p:blipFill>
          <a:blip r:embed="rId2"/>
          <a:stretch/>
        </p:blipFill>
        <p:spPr>
          <a:xfrm>
            <a:off x="6048360" y="3618000"/>
            <a:ext cx="3095640" cy="3240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пальниц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европей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цветок в Удмур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италма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ок назван купа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цей за то, что растет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влажных мест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ит воду, люб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а – берега ре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отистые луга. Лю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жалостно рвут э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ы, купальница с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дким растением, 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есена в Красную кн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1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3384360" cy="3024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ая книга» - это не совсем обыч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а. Цвет переплёта у этой книги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ый. Что символизирует крас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? Это сигнал тревоги, опасности, пр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реждения. Он, как красный цвет св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фора, предупреждает: «Осторожн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случиться беда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3529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от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кое, красиво цветущее водное или околоводное раст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1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166920" cy="25923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4000" cy="489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672000" cy="43657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й книге перечислены животны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, которые могут безвозврат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чезнуть. И, если мы не защитим ра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ия и животных, попавших в Крас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у, они погибнут. Спасение их невоз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без специальных мер: запр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оты, охраны в заповедниках, заботы 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ёныш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00720" y="404280"/>
            <a:ext cx="4186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юл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льшинстве своём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ые или сред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ери. Длина их тела о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6 метров, масса от 2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 до 5 тонн. Тюлени п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ают в приполяр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тах. В России оби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т 9 видов настоя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ю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4262400" cy="5041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юлени питаются ры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й, моллюсками, 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бразными. Числе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сть тюлений сок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ается и некотор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находятся п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ра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895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859280" y="620280"/>
            <a:ext cx="3827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ла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арнокопы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екопитающих р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шадей. У кулана х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шо развиты зр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х, обоняние. Щел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ок фотоаппарата 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ышат на рассто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 60 метров. Кул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чаливы и редко к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т. Стада куланов п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тся сейчас только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ведниках Туркм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. Сейчас кулана ра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яют в новые ме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21440" cy="5327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468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74508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3800" cy="475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96072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уб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одились в л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х Белоруссии. В 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ле 20 века люд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и истреб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 зубров. Ост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 звери, кото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 в зоопарках, -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тук. Надо было сроч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спасать зубров. 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тили в заповед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 – Беловежск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щ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2:43:32Z</dcterms:created>
  <dc:creator>USER</dc:creator>
  <dc:description/>
  <dc:language>en-US</dc:language>
  <cp:lastModifiedBy>LEGION2</cp:lastModifiedBy>
  <dcterms:modified xsi:type="dcterms:W3CDTF">2015-04-24T09:19:06Z</dcterms:modified>
  <cp:revision>11</cp:revision>
  <dc:subject/>
  <dc:title>«Красная книга»</dc:title>
</cp:coreProperties>
</file>