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BD3C-51AF-45A2-88B3-93C2DF1CC1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«Красная книг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ий мир» 2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296F-ED01-43C5-BA80-1A2FA95EC9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ров подкармливали зимой, следи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ни не болели, тщательно ох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ли, особенно молодняк. Зубров спас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прошло около 8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ой является чрезмерная добы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, охота, разрушение мест о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B556-4A72-4F57-B697-EBB66E123F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елый журав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тер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тица семейства ж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линых. Масса т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6-8 кг, выс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-1,4 метра. Сте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чис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, находя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рани исчез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49B0-B56D-4AAC-ABA5-929D98ED02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CBD9-7891-4758-9C86-9E0B5BEBD2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епард и ягу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ходятся на грани исчез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3D21-108E-423A-B8B5-38730CB3D9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абочка адмир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аска пестр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тает на лес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шках, в садах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ках. Гусеницы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листьях крапив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полоха, культу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м не вре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баб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03DA-294B-44A9-A664-74D62DC777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Женьш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 с китайского «кор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, человек-кор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тение широко и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ется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ист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доро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325C-D4BB-4C72-90AC-3176D58C52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паль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вропейс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цветок в Удмур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ют италма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к назван куп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ей за то, что расте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лажных мест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т воду, люби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– берега р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отистые луга.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жалостно рвут э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, купальница с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м растением,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есена в Красную кни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DF1A-5719-4E6F-A7DE-BC63CC6469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ая книга» - это не совсем обы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а. Цвет переплёта у этой книг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. Что символизирует кра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? Это сигнал тревоги, опасности, п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преждения. Он, как красный цвет св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фора, предупреждает: «Остор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случиться бед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EC50-F913-4ECD-8AFA-D579E95E60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от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ое, красиво цветущее водное или околоводное раст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B6B0-DC68-488C-9A18-DC45D28A7C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ниге перечислены животны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которые могут безвозврат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уть. И, если мы не защитим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ия и животных, попавших в Крас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у, они погибнут. Спасение их невоз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без специальных мер: запр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ы, охраны в заповедниках, заботы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ёныш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8ECF-ADC0-4055-A268-873060794B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юл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ём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или 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и. Длина их тела о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 метров, масса от 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 до 5 тонн. Тюлени п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ют в приполяр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ах. В России оби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9 видов настоя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CC13-BCBD-42A6-B9B2-22E457FD85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 питаются р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, моллюсками, 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бразными. Числе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ть тюлений сок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ается и некотор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ходятся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B513-D8AE-44C1-A923-ADD98983F8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ла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и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арнокопы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копитающих 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шадей. У кулана 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шо развиты зр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х, обоняние. Ще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ок фотоаппарата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ышат на рассто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 60 метров. Кул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чаливы и редко к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т. Стада куланов п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ся сейчас только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ведниках Туркм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. Сейчас кулана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яют в нов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2654-4504-4E3F-A125-96F2F6A5CE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Зуб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ились в 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 Белоруссии. В н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ле 20 века лю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истре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 зубров. Оста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звери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 в зоопарках, - 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ук. Надо было сроч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пасать зубров.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тили в запов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 – Беловежс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8EDA-FD3D-4DC6-82C2-0311314165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C3E-6525-4DFF-9426-EBFA0C13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049-D5E2-45F7-9C2C-451B1E4A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6BB-3741-4F3C-97AE-03EA4EFB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BCE-514B-49B3-9EDE-C97F1399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4AD2B-7A00-49E6-BBD9-5C34CA0E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E4A42-87BB-49E2-A26F-705EBAE8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C2949-4CA7-4EE2-A03C-484660C3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8D2F2-013C-483D-BE09-79DADFA5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A147A-383B-4618-9F54-D3E353F3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D49BE-C0A4-4189-A125-1201FE95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F6104-31DB-4F4F-90A4-DCF80F2D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A57-AF4C-4429-8BD3-148B69C0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B475E-E1D2-412A-BC75-49041BC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A0745-196B-4257-918D-685C059A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03BE3-4A4C-4FD2-A803-15671369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ED41E-3FDB-424E-99D3-0DBE848F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B0F41-8236-4F3A-9596-09CFFF73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D61-7226-43E3-A32C-96A5F0F7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D74-8186-43D1-A07E-C9C557F3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0A1-AF12-4A39-8635-AB37C31D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317-F53F-49D7-9C96-F2BFB1DF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A1D-4F4F-4536-B2A5-FF8A2303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13F-88DD-4628-A25C-9F18A9AB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480-B739-4442-A6FF-96FE2605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112A-5D91-40C5-A19E-D2E4B1FDCD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93D1-86BA-47E6-BED4-7552FB15B7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«Красная книга»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кружающий мир» 2 кла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убров подкармливали зимой, следи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ни не болели, тщательно охра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яли, особенно молодняк. Зубров спас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ведь прошло около 80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розой является чрезмерная добы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ых, охота, разрушение мест об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Белый журав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стер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семейства ж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линых. Масса те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ло 6-8 кг, высо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-1,4 метра. Сте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сится к чис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ов, находя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грани исчезнов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16360" cy="46814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32360" cy="511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888000" cy="52578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79800" cy="489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5076720" y="188928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032000" cy="468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743640" cy="46083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Гепард и ягуар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находятся на грани исчезнове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527640" cy="407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745080" cy="3816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716000" y="907560"/>
            <a:ext cx="3970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Бабочка адмир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раска пест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итает на лес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ушках, в садах,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ках. Гусеницы жив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истьях крапив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тополоха, культур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тениям не вред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сленность баб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кращ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32144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45352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Женьш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в перев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 с китайского «кор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и, человек-корен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растение широко 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уется в медиц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источ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репления здоров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левает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338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"/>
          <p:cNvPicPr/>
          <p:nvPr/>
        </p:nvPicPr>
        <p:blipFill>
          <a:blip r:embed="rId2"/>
          <a:stretch/>
        </p:blipFill>
        <p:spPr>
          <a:xfrm>
            <a:off x="6048360" y="3618000"/>
            <a:ext cx="3095640" cy="3240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45600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пальниц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европейс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цветок в Удмур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италма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ок назван купал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цей за то, что растет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влажных мест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ит воду, люби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а – берега ре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отистые луга. Лю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жалостно рвут э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ы, купальница с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дким растением, 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есена в Красную кни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1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3384360" cy="3024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ая книга» - это не совсем обыч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а. Цвет переплёта у этой книги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ый. Что символизирует крас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? Это сигнал тревоги, опасности, пр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реждения. Он, как красный цвет св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фора, предупреждает: «Осторожно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случиться беда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3529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от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дкое, красиво цветущее водное или околоводное раст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1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166920" cy="25923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4000" cy="489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672000" cy="43657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этой книге перечислены животные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, которые могут безвозврат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чезнуть. И, если мы не защитим ра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ния и животных, попавших в Красну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у, они погибнут. Спасение их невоз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без специальных мер: запр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оты, охраны в заповедниках, заботы 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ёныш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00720" y="404280"/>
            <a:ext cx="4186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Тюл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ольшинстве своём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пные или сред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ери. Длина их тела от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6 метров, масса от 2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 до 5 тонн. Тюлени п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ают в приполяр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тах. В России оби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т 9 видов настоящ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ю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4262400" cy="5041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юлени питаются ры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й, моллюсками, 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бразными. Числе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сть тюлений сок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щается и некотор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ы находятся п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хра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895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859280" y="620280"/>
            <a:ext cx="3827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ла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арнокопы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екопитающих р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шадей. У кулана х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шо развиты зр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х, обоняние. Щел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ок фотоаппарата 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ышат на рассто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 60 метров. Кул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чаливы и редко к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т. Стада куланов п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тся сейчас только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ведниках Туркм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. Сейчас кулана ра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ляют в новые ме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21440" cy="5327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468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745080" cy="5472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3800" cy="475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3960720" cy="4176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Зуб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одились в л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х Белоруссии. В н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ле 20 века люд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чески истреб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 зубров. Ост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ько звери, котор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 в зоопарках, - 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тук. Надо было сроч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спасать зубров. 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тили в заповед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 – Беловежск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щ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2:43:32Z</dcterms:created>
  <dc:creator>USER</dc:creator>
  <dc:description/>
  <dc:language>en-US</dc:language>
  <cp:lastModifiedBy>LEGION2</cp:lastModifiedBy>
  <dcterms:modified xsi:type="dcterms:W3CDTF">2015-04-24T09:19:06Z</dcterms:modified>
  <cp:revision>11</cp:revision>
  <dc:subject/>
  <dc:title>«Красная книга»</dc:title>
</cp:coreProperties>
</file>