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6300-CC12-4D0C-8E40-8D2DBBC8A9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«Красная книг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ий мир» 2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CB1E-D578-457B-8778-126C30A2C4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ров подкармливали зимой, следи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ни не болели, тщательно ох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ли, особенно молодняк. Зубров спас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прошло около 8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ой является чрезмерная добы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, охота, разрушение мест о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C288-BC3F-4C17-BF1C-D3DAE018F8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елый журав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тер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тица семейства ж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линых. Масса т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6-8 кг, выс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-1,4 метра. Сте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чис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, находя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рани исчез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7C8F-B907-4875-8313-1FA4566692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EAAF-DFF7-4885-BCB6-1DE6AAA01B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епард и ягу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ходятся на грани исчез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B1F1-8505-4EF7-80CF-273B9D461A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абочка адмир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аска пестр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тает на лес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шках, в садах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ках. Гусеницы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листьях крапив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полоха, культу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м не вре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баб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FCEC-947A-468B-AD2E-F782F29422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Женьш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 с китайского «кор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, человек-кор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тение широко и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ется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ист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доро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33E4-9588-43B6-BD1F-2D38679497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паль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вропейс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цветок в Удмур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ют италма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к назван куп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ей за то, что расте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лажных мест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т воду, люби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– берега р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отистые луга.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жалостно рвут э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, купальница с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м растением,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есена в Красную кни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F97C-6A46-404B-BA73-17234BDA14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ая книга» - это не совсем обы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а. Цвет переплёта у этой книг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. Что символизирует кра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? Это сигнал тревоги, опасности, п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преждения. Он, как красный цвет св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фора, предупреждает: «Остор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случиться бед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8101-2E0A-46FD-AA38-3C9A5886D2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от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ое, красиво цветущее водное или околоводное раст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39DC-F2FD-40B1-A27C-B7F7800B37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ниге перечислены животны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которые могут безвозврат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уть. И, если мы не защитим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ия и животных, попавших в Крас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у, они погибнут. Спасение их невоз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без специальных мер: запр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ы, охраны в заповедниках, заботы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ёныш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9E47-D2B5-4C76-8689-A9D116586B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юл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ём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или 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и. Длина их тела о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 метров, масса от 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 до 5 тонн. Тюлени п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ют в приполяр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ах. В России оби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9 видов настоя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FE2C-0047-4EAE-A5DC-7D3E765337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 питаются р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, моллюсками, 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бразными. Числе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ть тюлений сок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ается и некотор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ходятся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0437-BD9F-4249-912D-12D192172A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ла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и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арнокопы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копитающих 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шадей. У кулана 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шо развиты зр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х, обоняние. Ще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ок фотоаппарата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ышат на рассто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 60 метров. Кул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чаливы и редко к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т. Стада куланов п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ся сейчас только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ведниках Туркм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. Сейчас кулана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яют в нов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199C-AA51-40F7-AE09-8767113335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Зуб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ились в 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 Белоруссии. В н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ле 20 века лю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истре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 зубров. Оста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звери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 в зоопарках, - 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ук. Надо было сроч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пасать зубров.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тили в запов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 – Беловежс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C71B-A1ED-4934-BA51-D5F289CB3E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726-0F6E-4E3B-AC55-1E59A6EC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EB4-5C28-4A08-87C2-8F5F123F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183-D30B-4841-B56B-05195D54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D3A-ECF3-48AD-A8A0-25CC2FDA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B2A33-481F-41B9-85C1-CE9A9C51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2A2AE-0C30-463E-948E-3A4F220E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150BC-FDC2-4582-9C72-6485ACFD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392BB-9A3A-4882-A4B0-3219EA48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2B7A6-1B7C-4276-8E07-18C87449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A1A47-A7E3-47EA-9831-7A81A40A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46BA7-D7CE-4274-9648-6C808F28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B96-CD2B-467F-BE9D-7D57C518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95C8F-384E-464A-AFA2-9BF16A70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1A426-DF91-4C68-9514-CAD35DA7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35F60-5743-44A9-A249-4B9EAA8C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32CCB-CAE5-4862-9083-695D98D8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76E96-8560-4BD8-B175-7B935644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2F2-E7B2-46C7-93C5-FE3550EC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EEB-1CFF-41D6-997A-DA303D5E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3AE-1FC0-4253-B8DB-2A605F50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39C-EFAB-4173-972A-1E26E43C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89D-D6E7-4B77-AF85-B59B2510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138-6CF5-44AC-A781-8C875897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EBF-4C73-4311-90C0-48310EFF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07C6-5CC6-422B-A114-6AE64098E3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1C38-73CA-495A-83B3-1BFD37FF13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«Красная книга»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кружающий мир» 2 кла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убров подкармливали зимой, следи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ни не болели, тщательно охра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яли, особенно молодняк. Зубров спас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ведь прошло около 80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розой является чрезмерная добы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ых, охота, разрушение мест об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Белый журав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стер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семейства ж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линых. Масса те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ло 6-8 кг, высо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-1,4 метра. Сте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сится к чис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ов, находя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грани исчезнов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16360" cy="46814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32360" cy="511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888000" cy="52578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79800" cy="489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5076720" y="188928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032000" cy="468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743640" cy="46083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Гепард и ягуар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находятся на грани исчезнове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527640" cy="407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745080" cy="3816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716000" y="907560"/>
            <a:ext cx="3970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Бабочка адмир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раска пест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итает на лес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ушках, в садах,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ках. Гусеницы жив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истьях крапив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тополоха, культур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тениям не вред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сленность баб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кращ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32144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45352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Женьш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в перев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 с китайского «кор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и, человек-корен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растение широко 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уется в медиц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источ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репления здоров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левает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338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"/>
          <p:cNvPicPr/>
          <p:nvPr/>
        </p:nvPicPr>
        <p:blipFill>
          <a:blip r:embed="rId2"/>
          <a:stretch/>
        </p:blipFill>
        <p:spPr>
          <a:xfrm>
            <a:off x="6048360" y="3618000"/>
            <a:ext cx="3095640" cy="3240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45600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пальниц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европейс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цветок в Удмур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италма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ок назван купал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цей за то, что растет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влажных мест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ит воду, люби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а – берега ре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отистые луга. Лю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жалостно рвут э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ы, купальница с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дким растением, 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есена в Красную кни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1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3384360" cy="3024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ая книга» - это не совсем обыч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а. Цвет переплёта у этой книги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ый. Что символизирует крас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? Это сигнал тревоги, опасности, пр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реждения. Он, как красный цвет св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фора, предупреждает: «Осторожно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случиться беда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3529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от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дкое, красиво цветущее водное или околоводное раст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1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166920" cy="25923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4000" cy="489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672000" cy="43657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этой книге перечислены животные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, которые могут безвозврат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чезнуть. И, если мы не защитим ра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ния и животных, попавших в Красну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у, они погибнут. Спасение их невоз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без специальных мер: запр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оты, охраны в заповедниках, заботы 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ёныш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00720" y="404280"/>
            <a:ext cx="4186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Тюл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ольшинстве своём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пные или сред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ери. Длина их тела от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6 метров, масса от 2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 до 5 тонн. Тюлени п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ают в приполяр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тах. В России оби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т 9 видов настоящ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ю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4262400" cy="5041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юлени питаются ры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й, моллюсками, 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бразными. Числе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сть тюлений сок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щается и некотор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ы находятся п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хра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895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859280" y="620280"/>
            <a:ext cx="3827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ла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арнокопы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екопитающих р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шадей. У кулана х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шо развиты зр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х, обоняние. Щел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ок фотоаппарата 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ышат на рассто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 60 метров. Кул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чаливы и редко к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т. Стада куланов п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тся сейчас только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ведниках Туркм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. Сейчас кулана ра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ляют в новые ме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21440" cy="5327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468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745080" cy="5472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3800" cy="475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3960720" cy="4176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Зуб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одились в л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х Белоруссии. В н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ле 20 века люд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чески истреб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 зубров. Ост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ько звери, котор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 в зоопарках, - 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тук. Надо было сроч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спасать зубров. 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тили в заповед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 – Беловежск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щ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2:43:32Z</dcterms:created>
  <dc:creator>USER</dc:creator>
  <dc:description/>
  <dc:language>en-US</dc:language>
  <cp:lastModifiedBy>LEGION2</cp:lastModifiedBy>
  <dcterms:modified xsi:type="dcterms:W3CDTF">2015-04-24T09:19:06Z</dcterms:modified>
  <cp:revision>11</cp:revision>
  <dc:subject/>
  <dc:title>«Красная книга»</dc:title>
</cp:coreProperties>
</file>