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D42C-4F01-4A2A-8D0A-A3CE6044AB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рода Черноморского побережья Кав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5B19-F0A2-4255-82BE-6681899BA4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Красная кни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32C3-4BA3-40DC-A756-2A87AB32CE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Экологические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чные воды и различный мусор попадают в море и загрязняют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2A3F-A688-4B68-BD52-60AE5C8B4B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Человек у мо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ега Чёрного моря – это место, куда приезжают для отдыха и лечения многие тысячи людей. Здесь расположен красивейший город – курорт Сочи. В нём построены многочисленные санатории, дома отдыха, пансион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 из главных достопримечательностей города Сочи – Дендрарий. Это красивый парк, где собраны растения со вс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BA2B-60CB-4F5A-9FAD-0243E69A39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года на черноморском побережье Кавказа очень тёплая. Здесь умеренно жаркое лето. Зима здесь тёплая благодаря морю и горам. Море за лето нагревается, а зимой отдаёт своё тепло воздуху. Горы не пропускают сюда холодных северных ве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чвы Черноморского побережья Кавказа плодородны, а растительность богата</a:t>
            </a:r>
            <a:r>
              <a:rPr b="1" lang="ru-RU" sz="10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83BF-F879-4789-8C88-150D2D2ED9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Растения Черноморского побережья Кав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лесах на склонах гор растут широколиственные деревья – дуб, бук, каштан настоящ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0730-DD71-4727-BF5F-0A7F057A58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арках и на городских улицах растут красивые растения, привезённые из разных тёплых стран: кипарисы, магнолии, пальмы. Эти растения остаются круглый год зелё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F1B3-DF4F-4CCC-B171-CCA2979383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адах зреют грецкие орехи, инжир, абрикосы, перс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B8EA-28BB-4AEA-94AE-B0CC4B24A8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Животный мир Черноморского побережья Кавказа очень разнообразен</a:t>
            </a:r>
            <a:r>
              <a:rPr b="1" lang="ru-RU" sz="1100" spc="-1" strike="noStrike">
                <a:solidFill>
                  <a:srgbClr val="00b050"/>
                </a:solidFill>
                <a:latin typeface="Calibri"/>
              </a:rPr>
              <a:t>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лека слышны стрекотание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икад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итаются соком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74F3-E655-48EC-A0BE-71AE3709EF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зеленых листь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чется хищ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гомол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жид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у – мух и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ко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ий крупный ж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вказская жужел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ется ули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6603-B278-4D21-96BA-EF13EC92BE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П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берегу моря живут чайки, бакланы, которые кормятся ры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92B6-EAF9-42FF-ABDE-F0C6EC5F32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Морские обит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д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рские иг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рской конё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льф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C73F-DC4E-4772-B6A0-2ED1E10413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9C2-4CFB-495E-9A00-2A14A916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AD4E-6F2C-40B8-BE42-6EF43A17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AF4-84D4-449B-8B32-891A061A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F7A4-286B-4B25-97ED-E6C6A3CA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BCDC-30F6-4A43-8749-0395E8DA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149-ED55-4C00-B708-FC4B030D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B323-BA4C-4B35-8870-1A26FB4A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4FF-E430-404B-8016-592602D7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5C6F-C29E-41BE-B3E4-64B7DDB7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12CC-93F0-4A52-BAE2-7FB01726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F95-E44E-4AAB-AEA8-BA68AC00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E53-E5EF-4766-AF2D-C1609124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4D50-8906-4581-BE44-34E471E6A2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ирода Черноморского побережья Кавка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892080" y="5268960"/>
            <a:ext cx="64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лотников Данила  4 «А»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Красная кни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609480" y="3352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с яго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809880" y="3352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л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1905120" y="5791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уже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6781680" y="3429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ш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562720" y="5791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а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1328760" y="4114800"/>
            <a:ext cx="22525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2248200" cy="15238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"/>
          <p:cNvPicPr/>
          <p:nvPr/>
        </p:nvPicPr>
        <p:blipFill>
          <a:blip r:embed="rId3"/>
          <a:stretch/>
        </p:blipFill>
        <p:spPr>
          <a:xfrm>
            <a:off x="3429000" y="1752480"/>
            <a:ext cx="2133720" cy="1447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"/>
          <p:cNvPicPr/>
          <p:nvPr/>
        </p:nvPicPr>
        <p:blipFill>
          <a:blip r:embed="rId4"/>
          <a:stretch/>
        </p:blipFill>
        <p:spPr>
          <a:xfrm>
            <a:off x="6286680" y="1752480"/>
            <a:ext cx="2095200" cy="1447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"/>
          <p:cNvPicPr/>
          <p:nvPr/>
        </p:nvPicPr>
        <p:blipFill>
          <a:blip r:embed="rId5"/>
          <a:stretch/>
        </p:blipFill>
        <p:spPr>
          <a:xfrm>
            <a:off x="419040" y="1752480"/>
            <a:ext cx="2438640" cy="1471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Экологические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очные воды и различный мусор попадают в море и загрязняют е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3520" y="2819520"/>
            <a:ext cx="8229600" cy="22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юди, приезжающие сюда              отдыхать, не всегда относятся к природе бережн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Человек у мо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рега Чёрного моря – это место, куда приезжают для отдыха и лечения многие тысячи людей. Здесь расположен красивейший город – курорт Сочи. В нём построены многочисленные санатории, дома отдыха, пансион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 из главных достопримечательностей города Сочи – Дендрарий. Это красивый парк, где собраны растения со все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C:\Users\Оксана\Desktop\Рисунок3.jpg"/>
          <p:cNvPicPr/>
          <p:nvPr/>
        </p:nvPicPr>
        <p:blipFill>
          <a:blip r:embed="rId1"/>
          <a:stretch/>
        </p:blipFill>
        <p:spPr>
          <a:xfrm>
            <a:off x="1371600" y="4038480"/>
            <a:ext cx="6113520" cy="24242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2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52280" y="1676520"/>
            <a:ext cx="8143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огода на черноморском побережье Кавказа очень тёплая. Здесь умеренно жаркое лето. Зима здесь тёплая благодаря морю и горам. Море за лето нагревается, а зимой отдаёт своё тепло воздуху. Горы не пропускают сюда холодных северных в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очвы Черноморского побережья Кавказа плодородны, а растительность богата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Растения Черноморского побережья Кавк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66640" y="556272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есах на склонах гор растут широколиственные деревья – дуб, бук, каштан настоящ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963720" y="4870440"/>
            <a:ext cx="18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ш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7097760" y="4834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6573960" y="1906560"/>
            <a:ext cx="2417760" cy="29275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2"/>
          <a:stretch/>
        </p:blipFill>
        <p:spPr>
          <a:xfrm>
            <a:off x="3333600" y="1857240"/>
            <a:ext cx="2914920" cy="29768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"/>
          <p:cNvPicPr/>
          <p:nvPr/>
        </p:nvPicPr>
        <p:blipFill>
          <a:blip r:embed="rId3"/>
          <a:stretch/>
        </p:blipFill>
        <p:spPr>
          <a:xfrm>
            <a:off x="297000" y="1857240"/>
            <a:ext cx="2759040" cy="297684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4493160" y="491652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арках и на городских улицах растут красивые растения, привезённые из разных тёплых стран: кипарисы, магнолии, пальмы. Эти растения остаются круглый год зелё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42960" y="5867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па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81280" y="5867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гно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858000" y="5867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ль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3429000" y="2279520"/>
            <a:ext cx="2666880" cy="33688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380880" y="2270160"/>
            <a:ext cx="2819520" cy="3308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"/>
          <p:cNvPicPr/>
          <p:nvPr/>
        </p:nvPicPr>
        <p:blipFill>
          <a:blip r:embed="rId3"/>
          <a:stretch/>
        </p:blipFill>
        <p:spPr>
          <a:xfrm>
            <a:off x="6248520" y="2279520"/>
            <a:ext cx="2743200" cy="33688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адах зреют грецкие орехи, инжир, абрикосы, перс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048120" cy="2743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714960" y="48769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рик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5" descr=""/>
          <p:cNvPicPr/>
          <p:nvPr/>
        </p:nvPicPr>
        <p:blipFill>
          <a:blip r:embed="rId2"/>
          <a:stretch/>
        </p:blipFill>
        <p:spPr>
          <a:xfrm>
            <a:off x="3429000" y="1905120"/>
            <a:ext cx="2676600" cy="274320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4348080" y="48769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ж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7" descr=""/>
          <p:cNvPicPr/>
          <p:nvPr/>
        </p:nvPicPr>
        <p:blipFill>
          <a:blip r:embed="rId3"/>
          <a:stretch/>
        </p:blipFill>
        <p:spPr>
          <a:xfrm>
            <a:off x="6248520" y="1905120"/>
            <a:ext cx="2682720" cy="2743200"/>
          </a:xfrm>
          <a:prstGeom prst="rect">
            <a:avLst/>
          </a:prstGeom>
          <a:ln w="0">
            <a:noFill/>
          </a:ln>
        </p:spPr>
      </p:pic>
      <p:sp>
        <p:nvSpPr>
          <p:cNvPr id="77" name="TextBox 8"/>
          <p:cNvSpPr/>
          <p:nvPr/>
        </p:nvSpPr>
        <p:spPr>
          <a:xfrm>
            <a:off x="7398360" y="4876920"/>
            <a:ext cx="14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Животный мир Черноморского побережья Кавказа очень разнообразен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далека слышны стрекотани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икад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питаются соком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Users\Оксана\Desktop\Рисунок7.jpg"/>
          <p:cNvPicPr/>
          <p:nvPr/>
        </p:nvPicPr>
        <p:blipFill>
          <a:blip r:embed="rId1"/>
          <a:stretch/>
        </p:blipFill>
        <p:spPr>
          <a:xfrm>
            <a:off x="2414520" y="3213000"/>
            <a:ext cx="4403880" cy="27194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23800" y="3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и зеленых листь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чется хищ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гомол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жид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ычу – мух и друг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кий крупный ж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вказская жужел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ется ули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5486400" y="53352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2828880" cy="2509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ерегу моря живут чайки, бакланы, которые кормятся ры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257480" y="5592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к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6095880" y="5791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й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3048120" cy="27352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200400" cy="2718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Морские обит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7010280" y="63054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ьф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4143240" y="518796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811080" y="6305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ские иг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1193760" y="3429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у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6400800" y="34290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ской конё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6534000" y="4343400"/>
            <a:ext cx="1955880" cy="1962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"/>
          <p:cNvPicPr/>
          <p:nvPr/>
        </p:nvPicPr>
        <p:blipFill>
          <a:blip r:embed="rId2"/>
          <a:stretch/>
        </p:blipFill>
        <p:spPr>
          <a:xfrm>
            <a:off x="851040" y="1447920"/>
            <a:ext cx="1904760" cy="1935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"/>
          <p:cNvPicPr/>
          <p:nvPr/>
        </p:nvPicPr>
        <p:blipFill>
          <a:blip r:embed="rId3"/>
          <a:stretch/>
        </p:blipFill>
        <p:spPr>
          <a:xfrm>
            <a:off x="3838680" y="2971800"/>
            <a:ext cx="1904760" cy="20750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"/>
          <p:cNvPicPr/>
          <p:nvPr/>
        </p:nvPicPr>
        <p:blipFill>
          <a:blip r:embed="rId4"/>
          <a:stretch/>
        </p:blipFill>
        <p:spPr>
          <a:xfrm>
            <a:off x="851040" y="434340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"/>
          <p:cNvPicPr/>
          <p:nvPr/>
        </p:nvPicPr>
        <p:blipFill>
          <a:blip r:embed="rId5"/>
          <a:stretch/>
        </p:blipFill>
        <p:spPr>
          <a:xfrm>
            <a:off x="6534000" y="1447920"/>
            <a:ext cx="1955880" cy="1981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la</dc:creator>
  <dc:description/>
  <dc:language>en-US</dc:language>
  <cp:lastModifiedBy>LEGION2</cp:lastModifiedBy>
  <dcterms:modified xsi:type="dcterms:W3CDTF">2015-04-24T09:21:1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