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FF7B-F27E-450F-B3E7-AD3995156D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рода Черноморского побережья Кав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611B-DB41-4C2B-94A2-9731EDDD0A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Красная кни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7A48-0778-40A3-A398-9155690E48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Экологические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чные воды и различный мусор попадают в море и загрязняют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F0CA-0734-4E7E-AA83-8CFFC51CC4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50"/>
                </a:solidFill>
                <a:latin typeface="Calibri"/>
              </a:rPr>
              <a:t>Человек у мо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рега Чёрного моря – это место, куда приезжают для отдыха и лечения многие тысячи людей. Здесь расположен красивейший город – курорт Сочи. В нём построены многочисленные санатории, дома отдыха, пансион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на из главных достопримечательностей города Сочи – Дендрарий. Это красивый парк, где собраны растения со все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3C31-DD48-48FE-ACA0-5718E91D34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года на черноморском побережье Кавказа очень тёплая. Здесь умеренно жаркое лето. Зима здесь тёплая благодаря морю и горам. Море за лето нагревается, а зимой отдаёт своё тепло воздуху. Горы не пропускают сюда холодных северных вет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чвы Черноморского побережья Кавказа плодородны, а растительность богата</a:t>
            </a:r>
            <a:r>
              <a:rPr b="1" lang="ru-RU" sz="1000" spc="-1" strike="noStrike">
                <a:solidFill>
                  <a:srgbClr val="ffc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435A-23E4-433C-A96A-BB69F05623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Растения Черноморского побережья Кав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лесах на склонах гор растут широколиственные деревья – дуб, бук, каштан настоящ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F243-3663-44FA-8366-FD51C25ACC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арках и на городских улицах растут красивые растения, привезённые из разных тёплых стран: кипарисы, магнолии, пальмы. Эти растения остаются круглый год зелён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0876-A3C1-41E7-8AAA-26EFA97298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адах зреют грецкие орехи, инжир, абрикосы, перс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8C18-4BBB-43E9-92BC-D722A645D0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Животный мир Черноморского побережья Кавказа очень разнообразен</a:t>
            </a:r>
            <a:r>
              <a:rPr b="1" lang="ru-RU" sz="1100" spc="-1" strike="noStrike">
                <a:solidFill>
                  <a:srgbClr val="00b050"/>
                </a:solidFill>
                <a:latin typeface="Calibri"/>
              </a:rPr>
              <a:t>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алека слышны стрекотание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икад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питаются соком раст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D1F5-5041-49CA-A7A9-49AAE8168A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зеленых листье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чется хищ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гомол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жид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ычу – мух и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еком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кий крупный жу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вказская жужели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ется улит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4E30-3B1D-4B44-BAED-D64B0D782B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П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берегу моря живут чайки, бакланы, которые кормятся рыб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4108-A2B6-4628-BAB3-88FB9D57CD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Морские обит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ду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рские иг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а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рской конё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льф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4751-4089-4CC3-B10B-0318501D9C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5BA8-C4B7-4A0B-8C31-2151B9442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7908-1FF5-494A-9926-22411D1F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75EF-9598-45CD-A394-812C0D5A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1383-3580-4DF7-ACEF-333EF19B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6703-6499-4A57-B7C8-08CF4116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53B0-9C03-4A85-960D-EE25DA8B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4BF1-4A45-420E-900B-7674D89B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B637-F087-4CCD-B513-7F1FE21D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479A-D677-4872-BAF2-B6CAA89A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B8C1-61B5-4152-8CF0-763FF3A7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FCD6-7891-4EAD-AC03-99DB1657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DE6E-7001-4794-A2AA-A447FD2B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E872-8B45-4001-B7DF-DEBF8318F5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рирода Черноморского побережья Кавказ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892080" y="5268960"/>
            <a:ext cx="644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лотников Данила  4 «А»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Красная кни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609480" y="3352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с ягод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3809880" y="3352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ли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1905120" y="57913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уже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6781680" y="3429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ш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5562720" y="57913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фа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1" descr=""/>
          <p:cNvPicPr/>
          <p:nvPr/>
        </p:nvPicPr>
        <p:blipFill>
          <a:blip r:embed="rId1"/>
          <a:stretch/>
        </p:blipFill>
        <p:spPr>
          <a:xfrm>
            <a:off x="1328760" y="4114800"/>
            <a:ext cx="22525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2" descr=""/>
          <p:cNvPicPr/>
          <p:nvPr/>
        </p:nvPicPr>
        <p:blipFill>
          <a:blip r:embed="rId2"/>
          <a:stretch/>
        </p:blipFill>
        <p:spPr>
          <a:xfrm>
            <a:off x="5181480" y="4114800"/>
            <a:ext cx="2248200" cy="15238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3" descr=""/>
          <p:cNvPicPr/>
          <p:nvPr/>
        </p:nvPicPr>
        <p:blipFill>
          <a:blip r:embed="rId3"/>
          <a:stretch/>
        </p:blipFill>
        <p:spPr>
          <a:xfrm>
            <a:off x="3429000" y="1752480"/>
            <a:ext cx="2133720" cy="14479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"/>
          <p:cNvPicPr/>
          <p:nvPr/>
        </p:nvPicPr>
        <p:blipFill>
          <a:blip r:embed="rId4"/>
          <a:stretch/>
        </p:blipFill>
        <p:spPr>
          <a:xfrm>
            <a:off x="6286680" y="1752480"/>
            <a:ext cx="2095200" cy="14479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"/>
          <p:cNvPicPr/>
          <p:nvPr/>
        </p:nvPicPr>
        <p:blipFill>
          <a:blip r:embed="rId5"/>
          <a:stretch/>
        </p:blipFill>
        <p:spPr>
          <a:xfrm>
            <a:off x="419040" y="1752480"/>
            <a:ext cx="2438640" cy="14716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Экологические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очные воды и различный мусор попадают в море и загрязняют е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33520" y="2819520"/>
            <a:ext cx="8229600" cy="22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юди, приезжающие сюда              отдыхать, не всегда относятся к природе бережн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Человек у мо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рега Чёрного моря – это место, куда приезжают для отдыха и лечения многие тысячи людей. Здесь расположен красивейший город – курорт Сочи. В нём построены многочисленные санатории, дома отдыха, пансион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а из главных достопримечательностей города Сочи – Дендрарий. Это красивый парк, где собраны растения со всего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C:\Users\Оксана\Desktop\Рисунок3.jpg"/>
          <p:cNvPicPr/>
          <p:nvPr/>
        </p:nvPicPr>
        <p:blipFill>
          <a:blip r:embed="rId1"/>
          <a:stretch/>
        </p:blipFill>
        <p:spPr>
          <a:xfrm>
            <a:off x="1371600" y="4038480"/>
            <a:ext cx="6113520" cy="242424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50"/>
                            </p:stCondLst>
                            <p:childTnLst>
                              <p:par>
                                <p:cTn id="2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152280" y="1676520"/>
            <a:ext cx="8143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огода на черноморском побережье Кавказа очень тёплая. Здесь умеренно жаркое лето. Зима здесь тёплая благодаря морю и горам. Море за лето нагревается, а зимой отдаёт своё тепло воздуху. Горы не пропускают сюда холодных северных вет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очвы Черноморского побережья Кавказа плодородны, а растительность богата</a:t>
            </a: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Растения Черноморского побережья Кавка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66640" y="5562720"/>
            <a:ext cx="784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есах на склонах гор растут широколиственные деревья – дуб, бук, каштан настоящ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963720" y="4870440"/>
            <a:ext cx="18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ш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7097760" y="4834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у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6573960" y="1906560"/>
            <a:ext cx="2417760" cy="29275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"/>
          <p:cNvPicPr/>
          <p:nvPr/>
        </p:nvPicPr>
        <p:blipFill>
          <a:blip r:embed="rId2"/>
          <a:stretch/>
        </p:blipFill>
        <p:spPr>
          <a:xfrm>
            <a:off x="3333600" y="1857240"/>
            <a:ext cx="2914920" cy="29768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"/>
          <p:cNvPicPr/>
          <p:nvPr/>
        </p:nvPicPr>
        <p:blipFill>
          <a:blip r:embed="rId3"/>
          <a:stretch/>
        </p:blipFill>
        <p:spPr>
          <a:xfrm>
            <a:off x="297000" y="1857240"/>
            <a:ext cx="2759040" cy="297684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4493160" y="4916520"/>
            <a:ext cx="7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09480" y="533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арках и на городских улицах растут красивые растения, привезённые из разных тёплых стран: кипарисы, магнолии, пальмы. Эти растения остаются круглый год зелён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642960" y="5867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пар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581280" y="58672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гно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6858000" y="5867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ль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3429000" y="2279520"/>
            <a:ext cx="2666880" cy="33688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"/>
          <p:cNvPicPr/>
          <p:nvPr/>
        </p:nvPicPr>
        <p:blipFill>
          <a:blip r:embed="rId2"/>
          <a:stretch/>
        </p:blipFill>
        <p:spPr>
          <a:xfrm>
            <a:off x="380880" y="2270160"/>
            <a:ext cx="2819520" cy="33084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" descr=""/>
          <p:cNvPicPr/>
          <p:nvPr/>
        </p:nvPicPr>
        <p:blipFill>
          <a:blip r:embed="rId3"/>
          <a:stretch/>
        </p:blipFill>
        <p:spPr>
          <a:xfrm>
            <a:off x="6248520" y="2279520"/>
            <a:ext cx="2743200" cy="33688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адах зреют грецкие орехи, инжир, абрикосы, перси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3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3048120" cy="274320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714960" y="487692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брик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5" descr=""/>
          <p:cNvPicPr/>
          <p:nvPr/>
        </p:nvPicPr>
        <p:blipFill>
          <a:blip r:embed="rId2"/>
          <a:stretch/>
        </p:blipFill>
        <p:spPr>
          <a:xfrm>
            <a:off x="3429000" y="1905120"/>
            <a:ext cx="2676600" cy="2743200"/>
          </a:xfrm>
          <a:prstGeom prst="rect">
            <a:avLst/>
          </a:prstGeom>
          <a:ln w="0">
            <a:noFill/>
          </a:ln>
        </p:spPr>
      </p:pic>
      <p:sp>
        <p:nvSpPr>
          <p:cNvPr id="75" name="TextBox 6"/>
          <p:cNvSpPr/>
          <p:nvPr/>
        </p:nvSpPr>
        <p:spPr>
          <a:xfrm>
            <a:off x="4348080" y="487692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ж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7" descr=""/>
          <p:cNvPicPr/>
          <p:nvPr/>
        </p:nvPicPr>
        <p:blipFill>
          <a:blip r:embed="rId3"/>
          <a:stretch/>
        </p:blipFill>
        <p:spPr>
          <a:xfrm>
            <a:off x="6248520" y="1905120"/>
            <a:ext cx="2682720" cy="2743200"/>
          </a:xfrm>
          <a:prstGeom prst="rect">
            <a:avLst/>
          </a:prstGeom>
          <a:ln w="0">
            <a:noFill/>
          </a:ln>
        </p:spPr>
      </p:pic>
      <p:sp>
        <p:nvSpPr>
          <p:cNvPr id="77" name="TextBox 8"/>
          <p:cNvSpPr/>
          <p:nvPr/>
        </p:nvSpPr>
        <p:spPr>
          <a:xfrm>
            <a:off x="7398360" y="4876920"/>
            <a:ext cx="14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с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Животный мир Черноморского побережья Кавказа очень разнообразен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далека слышны стрекотание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икад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питаются соком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:\Users\Оксана\Desktop\Рисунок7.jpg"/>
          <p:cNvPicPr/>
          <p:nvPr/>
        </p:nvPicPr>
        <p:blipFill>
          <a:blip r:embed="rId1"/>
          <a:stretch/>
        </p:blipFill>
        <p:spPr>
          <a:xfrm>
            <a:off x="2414520" y="3213000"/>
            <a:ext cx="4403880" cy="27194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23800" y="3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и зеленых листье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чется хищ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гомол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жид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ычу – мух и друг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еко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дкий крупный жу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вказская жужели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тается улит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3" descr=""/>
          <p:cNvPicPr/>
          <p:nvPr/>
        </p:nvPicPr>
        <p:blipFill>
          <a:blip r:embed="rId1"/>
          <a:stretch/>
        </p:blipFill>
        <p:spPr>
          <a:xfrm>
            <a:off x="5486400" y="53352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"/>
          <p:cNvPicPr/>
          <p:nvPr/>
        </p:nvPicPr>
        <p:blipFill>
          <a:blip r:embed="rId2"/>
          <a:stretch/>
        </p:blipFill>
        <p:spPr>
          <a:xfrm>
            <a:off x="4876920" y="3581280"/>
            <a:ext cx="2828880" cy="25099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т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берегу моря живут чайки, бакланы, которые кормятся ры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257480" y="55926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кл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6095880" y="57913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ай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3048120" cy="27352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" descr=""/>
          <p:cNvPicPr/>
          <p:nvPr/>
        </p:nvPicPr>
        <p:blipFill>
          <a:blip r:embed="rId2"/>
          <a:stretch/>
        </p:blipFill>
        <p:spPr>
          <a:xfrm>
            <a:off x="5257800" y="2666880"/>
            <a:ext cx="3200400" cy="27180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Морские обит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7010280" y="63054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льф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4143240" y="518796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811080" y="63054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рские иг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1193760" y="34290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ду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6400800" y="34290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рской конё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" descr=""/>
          <p:cNvPicPr/>
          <p:nvPr/>
        </p:nvPicPr>
        <p:blipFill>
          <a:blip r:embed="rId1"/>
          <a:stretch/>
        </p:blipFill>
        <p:spPr>
          <a:xfrm>
            <a:off x="6534000" y="4343400"/>
            <a:ext cx="1955880" cy="1962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3" descr=""/>
          <p:cNvPicPr/>
          <p:nvPr/>
        </p:nvPicPr>
        <p:blipFill>
          <a:blip r:embed="rId2"/>
          <a:stretch/>
        </p:blipFill>
        <p:spPr>
          <a:xfrm>
            <a:off x="851040" y="1447920"/>
            <a:ext cx="1904760" cy="1935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"/>
          <p:cNvPicPr/>
          <p:nvPr/>
        </p:nvPicPr>
        <p:blipFill>
          <a:blip r:embed="rId3"/>
          <a:stretch/>
        </p:blipFill>
        <p:spPr>
          <a:xfrm>
            <a:off x="3838680" y="2971800"/>
            <a:ext cx="1904760" cy="20750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5" descr=""/>
          <p:cNvPicPr/>
          <p:nvPr/>
        </p:nvPicPr>
        <p:blipFill>
          <a:blip r:embed="rId4"/>
          <a:stretch/>
        </p:blipFill>
        <p:spPr>
          <a:xfrm>
            <a:off x="851040" y="4343400"/>
            <a:ext cx="1904760" cy="18288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6" descr=""/>
          <p:cNvPicPr/>
          <p:nvPr/>
        </p:nvPicPr>
        <p:blipFill>
          <a:blip r:embed="rId5"/>
          <a:stretch/>
        </p:blipFill>
        <p:spPr>
          <a:xfrm>
            <a:off x="6534000" y="1447920"/>
            <a:ext cx="1955880" cy="19810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ila</dc:creator>
  <dc:description/>
  <dc:language>en-US</dc:language>
  <cp:lastModifiedBy>LEGION2</cp:lastModifiedBy>
  <dcterms:modified xsi:type="dcterms:W3CDTF">2015-04-24T09:21:18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