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61B-2B3E-4FAE-A6A8-561FE7D667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«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E788-F964-48A8-A410-D17FF4B56F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дед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баб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пап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мам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т и вся 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F1AB-BD36-4144-8FF3-AEEB41C629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еп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лыб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б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люб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003A-62E9-424D-B85A-0FF3B02B3E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ножницами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бращайтесь с нож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остор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ать кончиками -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единкой – можно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Если нужно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ать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колечки от себ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 спокойно повер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, за кончики держи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жницы ему вер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огда   выполнишь рабо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т  же  ножницы     зак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  до  острых  краеш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 коснулся  кто  друг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084B-109D-480C-B258-BF9103424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Этапы вып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резать и приклеить  ст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нения работы</a:t>
            </a: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клеить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клеить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8C95-6944-419C-BCC0-A72BF245D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егодня наш урок, друз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 удивительных семь «Я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то они мне подскаж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му вы определит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EDF2-233D-49DA-A996-11393E30F6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C436-2462-4AAF-950B-80125350B6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E33-83D4-422C-8E22-FD35138FF4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7CB1-D3F1-4A46-B9D8-267C5A5DAC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EE83-B23C-44FD-BD3E-F183DF9F02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0D87-85CE-474C-98FA-B8715E1EB3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38DA-D880-41F8-BFC6-6E1E9436A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DAC8-BF52-4643-8415-7F17A4BA18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73E-3E0F-4566-B4BA-FE4C7777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3A6-F849-4712-B2CD-8F26EF5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6D6-FD89-4D70-BA05-80269BEA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DDE-E3C4-4D48-A613-E2FFC1C2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5AE-F744-406E-8420-A844E69F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5CE-9DCE-441E-87B9-2EC1DA71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041-7F0D-4BD6-9CA7-B9B4E9C3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05E-B35F-428E-B45F-07C85DB9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55F-FBEF-4BCF-8DF3-04DE5F5E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F30-D0CA-462B-B9B9-EB564D1F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19D-4207-42A2-B0C0-7DAA8311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FE0-7556-447D-B255-3D28E74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4D37-09D6-427A-AA32-2A877D98D2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9AA7-9F06-41E4-BDA3-41C6D4474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0" y="141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кружающе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76360" y="2697120"/>
            <a:ext cx="59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Дерево «Моя 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95640" y="4653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143080" y="2602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Дерево «Моя сем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 rot="21145800">
            <a:off x="434880" y="185436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 rot="262200">
            <a:off x="468000" y="2997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 rot="21322800">
            <a:off x="324000" y="42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 rot="461400">
            <a:off x="323640" y="54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 rot="609000">
            <a:off x="7013160" y="16268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л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rot="20991000">
            <a:off x="6804000" y="27079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 rot="206400">
            <a:off x="6803640" y="38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 rot="21300000">
            <a:off x="6876720" y="49309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11-11-22 15-21-35_0063"/>
          <p:cNvPicPr/>
          <p:nvPr/>
        </p:nvPicPr>
        <p:blipFill>
          <a:blip r:embed="rId1"/>
          <a:stretch/>
        </p:blipFill>
        <p:spPr>
          <a:xfrm rot="21105600">
            <a:off x="2383920" y="1306080"/>
            <a:ext cx="212580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Scan-120115-0005.jpg"/>
          <p:cNvPicPr/>
          <p:nvPr/>
        </p:nvPicPr>
        <p:blipFill>
          <a:blip r:embed="rId2"/>
          <a:stretch/>
        </p:blipFill>
        <p:spPr>
          <a:xfrm rot="949200">
            <a:off x="3686040" y="3670200"/>
            <a:ext cx="2149560" cy="271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Scan-120115-0014.jpg"/>
          <p:cNvPicPr/>
          <p:nvPr/>
        </p:nvPicPr>
        <p:blipFill>
          <a:blip r:embed="rId3"/>
          <a:stretch/>
        </p:blipFill>
        <p:spPr>
          <a:xfrm rot="642600">
            <a:off x="5000760" y="1357200"/>
            <a:ext cx="1838160" cy="235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32000" y="450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5280" y="1341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ращайтесь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остор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ть кончиками -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единкой – 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76720" y="3141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ли нужно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друг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колечки от себ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покойно повер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за кончики держ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ему вер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4508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гда   выполнишь раб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 же  ножницы     зак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 до  острых  крае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коснулся  кто  друг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исунок2"/>
          <p:cNvPicPr/>
          <p:nvPr/>
        </p:nvPicPr>
        <p:blipFill>
          <a:blip r:embed="rId1"/>
          <a:stretch/>
        </p:blipFill>
        <p:spPr>
          <a:xfrm>
            <a:off x="4427640" y="1268280"/>
            <a:ext cx="16272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Рисунок1"/>
          <p:cNvPicPr/>
          <p:nvPr/>
        </p:nvPicPr>
        <p:blipFill>
          <a:blip r:embed="rId2"/>
          <a:stretch/>
        </p:blipFill>
        <p:spPr>
          <a:xfrm>
            <a:off x="6588000" y="1268280"/>
            <a:ext cx="1597320" cy="143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Рисунок3"/>
          <p:cNvPicPr/>
          <p:nvPr/>
        </p:nvPicPr>
        <p:blipFill>
          <a:blip r:embed="rId3"/>
          <a:stretch/>
        </p:blipFill>
        <p:spPr>
          <a:xfrm>
            <a:off x="971640" y="2997360"/>
            <a:ext cx="2846160" cy="12366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571680" y="486900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ть и приклеить 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08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300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леить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28840" y="549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апы выполн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Scan-120115-0003.jpg"/>
          <p:cNvPicPr/>
          <p:nvPr/>
        </p:nvPicPr>
        <p:blipFill>
          <a:blip r:embed="rId1"/>
          <a:stretch/>
        </p:blipFill>
        <p:spPr>
          <a:xfrm>
            <a:off x="714240" y="1785960"/>
            <a:ext cx="196056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Scan-120115-0004.jpg"/>
          <p:cNvPicPr/>
          <p:nvPr/>
        </p:nvPicPr>
        <p:blipFill>
          <a:blip r:embed="rId2"/>
          <a:stretch/>
        </p:blipFill>
        <p:spPr>
          <a:xfrm>
            <a:off x="3357720" y="1785960"/>
            <a:ext cx="2077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Scan-120115-0005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195640" y="2205000"/>
            <a:ext cx="482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Рисунок3.jpg"/>
          <p:cNvPicPr/>
          <p:nvPr/>
        </p:nvPicPr>
        <p:blipFill>
          <a:blip r:embed="rId1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1571760" y="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4240" y="62866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абота 1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Рисунок5.jpg"/>
          <p:cNvPicPr/>
          <p:nvPr/>
        </p:nvPicPr>
        <p:blipFill>
          <a:blip r:embed="rId2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Рисунок1.png"/>
          <p:cNvPicPr/>
          <p:nvPr/>
        </p:nvPicPr>
        <p:blipFill>
          <a:blip r:embed="rId3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Рисунок2.jpg"/>
          <p:cNvPicPr/>
          <p:nvPr/>
        </p:nvPicPr>
        <p:blipFill>
          <a:blip r:embed="rId4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Рисунок3.jpg"/>
          <p:cNvPicPr/>
          <p:nvPr/>
        </p:nvPicPr>
        <p:blipFill>
          <a:blip r:embed="rId5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Scan-120115-0006.jpg"/>
          <p:cNvPicPr/>
          <p:nvPr/>
        </p:nvPicPr>
        <p:blipFill>
          <a:blip r:embed="rId6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унок1.jpg"/>
          <p:cNvPicPr/>
          <p:nvPr/>
        </p:nvPicPr>
        <p:blipFill>
          <a:blip r:embed="rId7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Scan-120115-0007.jpg"/>
          <p:cNvPicPr/>
          <p:nvPr/>
        </p:nvPicPr>
        <p:blipFill>
          <a:blip r:embed="rId8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2209680"/>
            <a:ext cx="1328760" cy="50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071800" y="221472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357720" y="221472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429080" y="221472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вал 2"/>
          <p:cNvSpPr/>
          <p:nvPr/>
        </p:nvSpPr>
        <p:spPr>
          <a:xfrm>
            <a:off x="3286080" y="2428920"/>
            <a:ext cx="24289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 rot="4275600">
            <a:off x="2563920" y="1155240"/>
            <a:ext cx="2195640" cy="500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1325400">
            <a:off x="484200" y="2117520"/>
            <a:ext cx="3000240" cy="50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 rot="20793000">
            <a:off x="5803920" y="2555640"/>
            <a:ext cx="30002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 rot="20431800">
            <a:off x="795240" y="4128840"/>
            <a:ext cx="25718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 rot="1141200">
            <a:off x="5575320" y="4233600"/>
            <a:ext cx="3286080" cy="573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 rot="18412200">
            <a:off x="1765800" y="5332680"/>
            <a:ext cx="26686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 rot="18300000">
            <a:off x="4603680" y="967680"/>
            <a:ext cx="29494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 rot="3573000">
            <a:off x="4259160" y="5400720"/>
            <a:ext cx="2549520" cy="67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LEGION2</cp:lastModifiedBy>
  <dcterms:modified xsi:type="dcterms:W3CDTF">2015-04-24T09:36:09Z</dcterms:modified>
  <cp:revision>66</cp:revision>
  <dc:subject/>
  <dc:title>Слайд 1</dc:title>
</cp:coreProperties>
</file>