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9842-DDDC-41CB-A661-285EDDE699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Моя сем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«Дерево «Моя семь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401D-0F86-48F2-8220-188FEC8F50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Физмину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дедуш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бабуш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пап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мам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от и вся моя сем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CD77-2131-4484-A38A-D25B2F5876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Дерево «Моя семь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теп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ува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з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улыб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по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обр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любо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B857-ECD7-49D4-A693-89E04FF4EA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ика безопасности при работе с ножницами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бращайтесь с ножн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ень осторож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ать кончиками - нельз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рединкой – можно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Если нужно инстру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дать друг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 колечки от себ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ы спокойно поверн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, за кончики держис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жницы ему верн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Когда   выполнишь работ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ут  же  ножницы     закр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б  до  острых  краеш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 коснулся  кто  друго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39FE-4F29-41E8-A670-802680AB93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Этапы выпо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ырезать и приклеить  ств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нения работы</a:t>
            </a:r>
            <a:r>
              <a:rPr b="0" i="1" lang="en-US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иклеить ли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иклеить фотограф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D5B8-B652-470E-9CA1-B10B34C408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Calibri"/>
              </a:rPr>
              <a:t>Моя 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егодня наш урок, друзь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о удивительных семь «Я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то они мне подскажи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ему вы определит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9F8B-5229-47D0-B12E-1445BE5F00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Calibri"/>
              </a:rPr>
              <a:t>Моя 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5315-7E62-4667-925B-CBAC26E58D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Calibri"/>
              </a:rPr>
              <a:t>Семь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Что обозначает это сло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EE15-17A0-482A-9DDA-B2706A697B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Calibri"/>
              </a:rPr>
              <a:t>СЕМЬ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Очень люблю, когда все собир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Белой скатертью стол накрывается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Бабушка с мамой, папа и 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Мы называемся вместе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9709-A5D4-4A9D-9736-E9D674AAFC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жел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все были здоровы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Желаю счастья,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 мы все вместе жи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родители не ссорил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мы всей семьёй поехали отдых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Желаю, чтобы моя семья всегда была счастлива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моя семья была всегда друж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Я бы хотел маленькую сестрё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FE25-48C2-44FA-9047-983830F0D1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Семья – это счастье, любовь и удач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Семья – это летом поездки на  дач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BF77-F82B-4945-880B-80739ED9B5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Семья – это труд, друг о друге забо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Семья – это много домашней работы.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D46E-4424-4501-A976-5D9A39B5F1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mic Sans MS"/>
              </a:rPr>
              <a:t>Семья – это важн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mic Sans MS"/>
              </a:rPr>
              <a:t>Семья – это сложн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Но счастливо жить одному невозмож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7A19-29E6-41F3-8AA6-F802ACA138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9DDD-7CE1-47FC-B033-8FBEAA20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13BC-B259-40C9-ABD1-E497EBF3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7974-34BB-4D50-AF73-B651ADEB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A94C-D930-42BF-8167-6B5ADA0A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D0D6-5576-44A0-BA8D-90BBDA7E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AF67-BC83-44E8-ACF1-04677D90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4239-07B0-49B7-93BD-9BCA4DB7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0469-9C6B-4F21-9A7E-57409A87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CACA-413A-43A4-AB3C-40A0B901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1B16-7F29-4850-B01E-E481D230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1999-B340-4847-9D41-C1B312C0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9A85-4C6C-424F-A80C-9174378A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81FB-EAB8-4FAF-A6F5-787E2C55D5D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2B1D-C40C-42CA-99FE-34CEC08766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Скругленный прямоугольник 6"/>
          <p:cNvGrpSpPr/>
          <p:nvPr/>
        </p:nvGrpSpPr>
        <p:grpSpPr>
          <a:xfrm>
            <a:off x="115920" y="158760"/>
            <a:ext cx="8912160" cy="6595920"/>
            <a:chOff x="115920" y="158760"/>
            <a:chExt cx="8912160" cy="6595920"/>
          </a:xfrm>
        </p:grpSpPr>
        <p:pic>
          <p:nvPicPr>
            <p:cNvPr id="6" name="Скругленный 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115920" y="158760"/>
              <a:ext cx="8912160" cy="65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495360" y="504720"/>
              <a:ext cx="8153280" cy="58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8640" y="6596280"/>
            <a:ext cx="162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Рисунок 8" descr="ромашка оранжевая отрисованная--.png"/>
          <p:cNvPicPr/>
          <p:nvPr/>
        </p:nvPicPr>
        <p:blipFill>
          <a:blip r:embed="rId3"/>
          <a:stretch/>
        </p:blipFill>
        <p:spPr>
          <a:xfrm>
            <a:off x="7812000" y="5229360"/>
            <a:ext cx="916200" cy="122076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D:\Лидия\шаблоны\для работы\Хорошее настроение\а.gif"/>
          <p:cNvPicPr/>
          <p:nvPr/>
        </p:nvPicPr>
        <p:blipFill>
          <a:blip r:embed="rId4"/>
          <a:stretch/>
        </p:blipFill>
        <p:spPr>
          <a:xfrm>
            <a:off x="395280" y="404640"/>
            <a:ext cx="1135080" cy="92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286000" y="1413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Ур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окружающего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в 1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476360" y="2697120"/>
            <a:ext cx="59752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Моя сем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«Дерево «Моя сем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95640" y="465300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2143080" y="1844640"/>
            <a:ext cx="64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дедуш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бабуш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пап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ма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Вот и вся моя сем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700360" y="69228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66"/>
                </a:solidFill>
                <a:latin typeface="Arial"/>
              </a:rPr>
              <a:t>Физминут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357120" y="3000240"/>
            <a:ext cx="3071880" cy="32734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2143080" y="260280"/>
            <a:ext cx="585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Дерево «Моя семь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 rot="21145800">
            <a:off x="434880" y="1854360"/>
            <a:ext cx="183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теп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 rot="262200">
            <a:off x="468000" y="299736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вер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 rot="21322800">
            <a:off x="324000" y="429228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 rot="461400">
            <a:off x="323640" y="5445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з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 rot="609000">
            <a:off x="7013160" y="16268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улы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 rot="20991000">
            <a:off x="6804000" y="270792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по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 rot="206400">
            <a:off x="6803640" y="386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доб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 rot="21300000">
            <a:off x="6876720" y="4930920"/>
            <a:ext cx="17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2011-11-22 15-21-35_0063"/>
          <p:cNvPicPr/>
          <p:nvPr/>
        </p:nvPicPr>
        <p:blipFill>
          <a:blip r:embed="rId1"/>
          <a:stretch/>
        </p:blipFill>
        <p:spPr>
          <a:xfrm rot="21105600">
            <a:off x="2383920" y="1306080"/>
            <a:ext cx="2125800" cy="25243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2" descr="Scan-120115-0005.jpg"/>
          <p:cNvPicPr/>
          <p:nvPr/>
        </p:nvPicPr>
        <p:blipFill>
          <a:blip r:embed="rId2"/>
          <a:stretch/>
        </p:blipFill>
        <p:spPr>
          <a:xfrm rot="949200">
            <a:off x="3686040" y="3670200"/>
            <a:ext cx="2149560" cy="27147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2" descr="Scan-120115-0014.jpg"/>
          <p:cNvPicPr/>
          <p:nvPr/>
        </p:nvPicPr>
        <p:blipFill>
          <a:blip r:embed="rId3"/>
          <a:stretch/>
        </p:blipFill>
        <p:spPr>
          <a:xfrm rot="642600">
            <a:off x="5000760" y="1357200"/>
            <a:ext cx="1838160" cy="23576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332000" y="45072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хника безопасности при работе с ножн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95280" y="134136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Обращайтесь с ножниц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ень остор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ать кончиками - нельз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единкой – 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076720" y="3141720"/>
            <a:ext cx="359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Если нужно инстру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ть друг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колечки от себ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 спокойно поверн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, за кончики держис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жницы ему вер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4508640"/>
            <a:ext cx="43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огда   выполнишь рабо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т  же  ножницы     закр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  до  острых  краеш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 коснулся  кто  друг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Рисунок2"/>
          <p:cNvPicPr/>
          <p:nvPr/>
        </p:nvPicPr>
        <p:blipFill>
          <a:blip r:embed="rId1"/>
          <a:stretch/>
        </p:blipFill>
        <p:spPr>
          <a:xfrm>
            <a:off x="4427640" y="1268280"/>
            <a:ext cx="1627200" cy="143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Рисунок1"/>
          <p:cNvPicPr/>
          <p:nvPr/>
        </p:nvPicPr>
        <p:blipFill>
          <a:blip r:embed="rId2"/>
          <a:stretch/>
        </p:blipFill>
        <p:spPr>
          <a:xfrm>
            <a:off x="6588000" y="1268280"/>
            <a:ext cx="1597320" cy="1438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Рисунок3"/>
          <p:cNvPicPr/>
          <p:nvPr/>
        </p:nvPicPr>
        <p:blipFill>
          <a:blip r:embed="rId3"/>
          <a:stretch/>
        </p:blipFill>
        <p:spPr>
          <a:xfrm>
            <a:off x="971640" y="2997360"/>
            <a:ext cx="2846160" cy="12366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6"/>
          <p:cNvSpPr/>
          <p:nvPr/>
        </p:nvSpPr>
        <p:spPr>
          <a:xfrm>
            <a:off x="571680" y="4869000"/>
            <a:ext cx="22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Вырезать и приклеить  ст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708360" y="4869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риклеить ли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6300720" y="4869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риклеить фотограф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428840" y="54936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66"/>
                </a:solidFill>
                <a:latin typeface="Arial"/>
              </a:rPr>
              <a:t>Этапы выполнения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9" descr="Scan-120115-0003.jpg"/>
          <p:cNvPicPr/>
          <p:nvPr/>
        </p:nvPicPr>
        <p:blipFill>
          <a:blip r:embed="rId1"/>
          <a:stretch/>
        </p:blipFill>
        <p:spPr>
          <a:xfrm>
            <a:off x="714240" y="1785960"/>
            <a:ext cx="1960560" cy="27860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0" descr="Scan-120115-0004.jpg"/>
          <p:cNvPicPr/>
          <p:nvPr/>
        </p:nvPicPr>
        <p:blipFill>
          <a:blip r:embed="rId2"/>
          <a:stretch/>
        </p:blipFill>
        <p:spPr>
          <a:xfrm>
            <a:off x="3357720" y="1785960"/>
            <a:ext cx="2077920" cy="27860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1" descr="Scan-120115-0005.jpg"/>
          <p:cNvPicPr/>
          <p:nvPr/>
        </p:nvPicPr>
        <p:blipFill>
          <a:blip r:embed="rId3"/>
          <a:stretch/>
        </p:blipFill>
        <p:spPr>
          <a:xfrm>
            <a:off x="6143760" y="1857240"/>
            <a:ext cx="2000160" cy="27147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2195640" y="2205000"/>
            <a:ext cx="4824360" cy="14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работу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304920" y="1370520"/>
            <a:ext cx="624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Сегодня наш урок,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Про удивительных семь «Я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Кто они мне подскажи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Тему вы определ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04920" y="434340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66"/>
                </a:solidFill>
                <a:latin typeface="Verdana"/>
              </a:rPr>
              <a:t>Семь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071960" y="2743200"/>
            <a:ext cx="378612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66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ff9900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fcf600"/>
                </a:solidFill>
                <a:latin typeface="Monotype Corsiva"/>
              </a:rPr>
              <a:t>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ff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3399ff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0000ff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6600cc"/>
                </a:solidFill>
                <a:latin typeface="Monotype Corsiva"/>
              </a:rPr>
              <a:t>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66"/>
                </a:solidFill>
                <a:latin typeface="Calibri"/>
              </a:rPr>
              <a:t>Моя семь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Рисунок3.jpg"/>
          <p:cNvPicPr/>
          <p:nvPr/>
        </p:nvPicPr>
        <p:blipFill>
          <a:blip r:embed="rId1"/>
          <a:stretch/>
        </p:blipFill>
        <p:spPr>
          <a:xfrm rot="303000">
            <a:off x="3292200" y="928800"/>
            <a:ext cx="3309840" cy="190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"/>
          <p:cNvSpPr/>
          <p:nvPr/>
        </p:nvSpPr>
        <p:spPr>
          <a:xfrm>
            <a:off x="1571760" y="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Arial"/>
              </a:rPr>
              <a:t>Моя семь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714240" y="628668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Работа 1 групп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8" descr="Рисунок5.jpg"/>
          <p:cNvPicPr/>
          <p:nvPr/>
        </p:nvPicPr>
        <p:blipFill>
          <a:blip r:embed="rId2"/>
          <a:stretch/>
        </p:blipFill>
        <p:spPr>
          <a:xfrm>
            <a:off x="2786040" y="2857680"/>
            <a:ext cx="2757600" cy="17668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9" descr="Рисунок1.png"/>
          <p:cNvPicPr/>
          <p:nvPr/>
        </p:nvPicPr>
        <p:blipFill>
          <a:blip r:embed="rId3"/>
          <a:stretch/>
        </p:blipFill>
        <p:spPr>
          <a:xfrm rot="517200">
            <a:off x="6324120" y="1725480"/>
            <a:ext cx="2181240" cy="16336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0" descr="Рисунок2.jpg"/>
          <p:cNvPicPr/>
          <p:nvPr/>
        </p:nvPicPr>
        <p:blipFill>
          <a:blip r:embed="rId4"/>
          <a:stretch/>
        </p:blipFill>
        <p:spPr>
          <a:xfrm>
            <a:off x="3643200" y="4643280"/>
            <a:ext cx="2571840" cy="17859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1" descr="Рисунок3.jpg"/>
          <p:cNvPicPr/>
          <p:nvPr/>
        </p:nvPicPr>
        <p:blipFill>
          <a:blip r:embed="rId5"/>
          <a:stretch/>
        </p:blipFill>
        <p:spPr>
          <a:xfrm rot="21118200">
            <a:off x="326520" y="2877840"/>
            <a:ext cx="2462400" cy="17953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2" descr="Scan-120115-0006.jpg"/>
          <p:cNvPicPr/>
          <p:nvPr/>
        </p:nvPicPr>
        <p:blipFill>
          <a:blip r:embed="rId6"/>
          <a:stretch/>
        </p:blipFill>
        <p:spPr>
          <a:xfrm rot="21150600">
            <a:off x="520560" y="1179000"/>
            <a:ext cx="2868840" cy="16146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3" descr="Рисунок1.jpg"/>
          <p:cNvPicPr/>
          <p:nvPr/>
        </p:nvPicPr>
        <p:blipFill>
          <a:blip r:embed="rId7"/>
          <a:stretch/>
        </p:blipFill>
        <p:spPr>
          <a:xfrm rot="21417600">
            <a:off x="755280" y="4718160"/>
            <a:ext cx="2847960" cy="16444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4" descr="Scan-120115-0007.jpg"/>
          <p:cNvPicPr/>
          <p:nvPr/>
        </p:nvPicPr>
        <p:blipFill>
          <a:blip r:embed="rId8"/>
          <a:stretch/>
        </p:blipFill>
        <p:spPr>
          <a:xfrm rot="413400">
            <a:off x="6071760" y="214200"/>
            <a:ext cx="2463840" cy="15400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5" descr="Рисунок6.jpg"/>
          <p:cNvPicPr/>
          <p:nvPr/>
        </p:nvPicPr>
        <p:blipFill>
          <a:blip r:embed="rId9"/>
          <a:stretch/>
        </p:blipFill>
        <p:spPr>
          <a:xfrm rot="667800">
            <a:off x="5346360" y="3173400"/>
            <a:ext cx="3438360" cy="17017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6" descr="Рисунок7.jpg"/>
          <p:cNvPicPr/>
          <p:nvPr/>
        </p:nvPicPr>
        <p:blipFill>
          <a:blip r:embed="rId10"/>
          <a:stretch/>
        </p:blipFill>
        <p:spPr>
          <a:xfrm rot="357000">
            <a:off x="5994000" y="4900320"/>
            <a:ext cx="2273400" cy="1530360"/>
          </a:xfrm>
          <a:prstGeom prst="rect">
            <a:avLst/>
          </a:prstGeom>
          <a:ln w="0">
            <a:noFill/>
          </a:ln>
        </p:spPr>
      </p:pic>
      <p:sp>
        <p:nvSpPr>
          <p:cNvPr id="75" name="TextBox 17"/>
          <p:cNvSpPr/>
          <p:nvPr/>
        </p:nvSpPr>
        <p:spPr>
          <a:xfrm rot="21137400">
            <a:off x="713880" y="237312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66"/>
                </a:solidFill>
                <a:latin typeface="Arial"/>
              </a:rPr>
              <a:t>Наша семья д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8"/>
          <p:cNvSpPr/>
          <p:nvPr/>
        </p:nvSpPr>
        <p:spPr>
          <a:xfrm rot="544800">
            <a:off x="5498640" y="4465800"/>
            <a:ext cx="30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8000"/>
                </a:solidFill>
                <a:latin typeface="Arial"/>
              </a:rPr>
              <a:t>Наша семья счастлив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66"/>
                </a:solidFill>
                <a:latin typeface="Calibri"/>
              </a:rPr>
              <a:t>Семь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70060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обозначает это слов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8" descr="семья0001"/>
          <p:cNvPicPr/>
          <p:nvPr/>
        </p:nvPicPr>
        <p:blipFill>
          <a:blip r:embed="rId1"/>
          <a:stretch/>
        </p:blipFill>
        <p:spPr>
          <a:xfrm>
            <a:off x="1428840" y="1357200"/>
            <a:ext cx="6551640" cy="418320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81" name="Text Box 9"/>
          <p:cNvSpPr/>
          <p:nvPr/>
        </p:nvSpPr>
        <p:spPr>
          <a:xfrm>
            <a:off x="324000" y="5530680"/>
            <a:ext cx="8480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Группа родственников, живущих вместе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Словарь С.И.Ожег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70106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Очень люблю, когда все собираю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Белой скатертью стол накрывается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Бабушка с мамой, папа и 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Мы называемся вместе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7" descr="stol"/>
          <p:cNvPicPr/>
          <p:nvPr/>
        </p:nvPicPr>
        <p:blipFill>
          <a:blip r:embed="rId1"/>
          <a:stretch/>
        </p:blipFill>
        <p:spPr>
          <a:xfrm>
            <a:off x="1295280" y="2971800"/>
            <a:ext cx="5629320" cy="3787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5257800" y="2209680"/>
            <a:ext cx="2286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50021"/>
                </a:solidFill>
                <a:latin typeface="Calibri"/>
              </a:rPr>
              <a:t>СЕМЬ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8"/>
          <p:cNvSpPr/>
          <p:nvPr/>
        </p:nvSpPr>
        <p:spPr>
          <a:xfrm>
            <a:off x="457200" y="2209680"/>
            <a:ext cx="1328760" cy="504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"/>
          <p:cNvSpPr/>
          <p:nvPr/>
        </p:nvSpPr>
        <p:spPr>
          <a:xfrm>
            <a:off x="2071800" y="2214720"/>
            <a:ext cx="114300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"/>
          <p:cNvSpPr/>
          <p:nvPr/>
        </p:nvSpPr>
        <p:spPr>
          <a:xfrm>
            <a:off x="3357720" y="2214720"/>
            <a:ext cx="64296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4429080" y="2214720"/>
            <a:ext cx="21420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Овал 2"/>
          <p:cNvSpPr/>
          <p:nvPr/>
        </p:nvSpPr>
        <p:spPr>
          <a:xfrm>
            <a:off x="3286080" y="2428920"/>
            <a:ext cx="2428920" cy="2143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ожел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ем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 rot="4275600">
            <a:off x="2563920" y="1155240"/>
            <a:ext cx="2195640" cy="500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Желаю счастья,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 rot="1325400">
            <a:off x="484200" y="2117520"/>
            <a:ext cx="3000240" cy="5014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все были здоро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 rot="20793000">
            <a:off x="5803920" y="2555640"/>
            <a:ext cx="300024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родители не ссори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7"/>
          <p:cNvSpPr/>
          <p:nvPr/>
        </p:nvSpPr>
        <p:spPr>
          <a:xfrm rot="20431800">
            <a:off x="795240" y="4128840"/>
            <a:ext cx="257184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Я бы хотел маленькую сестрё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9"/>
          <p:cNvSpPr/>
          <p:nvPr/>
        </p:nvSpPr>
        <p:spPr>
          <a:xfrm rot="1141200">
            <a:off x="5575320" y="4233600"/>
            <a:ext cx="3286080" cy="5731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мы всей семьёй поехали отдых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1"/>
          <p:cNvSpPr/>
          <p:nvPr/>
        </p:nvSpPr>
        <p:spPr>
          <a:xfrm rot="18412200">
            <a:off x="1765800" y="5332680"/>
            <a:ext cx="2668680" cy="5716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моя семья была всегда друж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2"/>
          <p:cNvSpPr/>
          <p:nvPr/>
        </p:nvSpPr>
        <p:spPr>
          <a:xfrm rot="18300000">
            <a:off x="4603680" y="967680"/>
            <a:ext cx="2949480" cy="5716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 мы все вместе жи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3"/>
          <p:cNvSpPr/>
          <p:nvPr/>
        </p:nvSpPr>
        <p:spPr>
          <a:xfrm rot="3573000">
            <a:off x="4259160" y="5400720"/>
            <a:ext cx="2549520" cy="6732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Желаю, чтобы моя семья всегда была счастлива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97600" y="5457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праздник, семейные дат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Подарки, покупки, приятные тра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5418000"/>
            <a:ext cx="8280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счастье, любовь и удач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летом поездки на  дач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8" descr="45"/>
          <p:cNvPicPr/>
          <p:nvPr/>
        </p:nvPicPr>
        <p:blipFill>
          <a:blip r:embed="rId1"/>
          <a:stretch/>
        </p:blipFill>
        <p:spPr>
          <a:xfrm>
            <a:off x="1547640" y="404640"/>
            <a:ext cx="6481800" cy="4862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45"/>
          <p:cNvPicPr/>
          <p:nvPr/>
        </p:nvPicPr>
        <p:blipFill>
          <a:blip r:embed="rId2"/>
          <a:stretch/>
        </p:blipFill>
        <p:spPr>
          <a:xfrm>
            <a:off x="1258920" y="404640"/>
            <a:ext cx="6624720" cy="49690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08000" y="5373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Рождение детей, первый шаг, первый леп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Мечты о хорошем, волнение и треп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45"/>
          <p:cNvPicPr/>
          <p:nvPr/>
        </p:nvPicPr>
        <p:blipFill>
          <a:blip r:embed="rId1"/>
          <a:stretch/>
        </p:blipFill>
        <p:spPr>
          <a:xfrm>
            <a:off x="1332000" y="404640"/>
            <a:ext cx="6624720" cy="49690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650880" y="5373720"/>
            <a:ext cx="787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труд, друг о друге забо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много домашней работы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45"/>
          <p:cNvPicPr/>
          <p:nvPr/>
        </p:nvPicPr>
        <p:blipFill>
          <a:blip r:embed="rId2"/>
          <a:stretch/>
        </p:blipFill>
        <p:spPr>
          <a:xfrm>
            <a:off x="1258920" y="404640"/>
            <a:ext cx="6626160" cy="49705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мья – это важ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мья – это слож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Но счастливо жить одному невозможн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45"/>
          <p:cNvPicPr/>
          <p:nvPr/>
        </p:nvPicPr>
        <p:blipFill>
          <a:blip r:embed="rId1"/>
          <a:stretch/>
        </p:blipFill>
        <p:spPr>
          <a:xfrm>
            <a:off x="1619280" y="404640"/>
            <a:ext cx="5905440" cy="4429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16:12:48Z</dcterms:created>
  <dc:creator>User</dc:creator>
  <dc:description/>
  <dc:language>en-US</dc:language>
  <cp:lastModifiedBy>LEGION2</cp:lastModifiedBy>
  <dcterms:modified xsi:type="dcterms:W3CDTF">2015-04-24T09:36:09Z</dcterms:modified>
  <cp:revision>66</cp:revision>
  <dc:subject/>
  <dc:title>Слайд 1</dc:title>
</cp:coreProperties>
</file>