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3.jpeg" ContentType="image/jpeg"/>
  <Override PartName="/ppt/media/image21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19C4-293A-4F62-939A-A86EC73070A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slide" Target="../slides/slide26.xml"/><Relationship Id="rId11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BF81-C4A0-4051-952D-8A2058D9F8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по ёлкам ловко ска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взлетает на ду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то в дупле орехи пряч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ушит на зиму гриб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9CB5-90C0-4F90-A425-0F1825B862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D726-2358-4C62-A6AD-50FCBF2252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841E-BD7A-4E25-83AF-37039B19B0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679F-A193-487D-9C7E-9DB69E0A4F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неба падают снежин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к на сказочной карти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ем их ловить рук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потом покажем ма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F0D3-0432-4792-B5BE-2219BDFA4C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вокруг лежат сугр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негом замело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е завязнуть в поле чтоб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м выше н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(Потягиваем руки в стороны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ходьба на ме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колени высоко поднимае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EA9-DC83-49C4-AECF-80F856F482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ех зверей она хитр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Шубка рыжа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ышный хвост - её кра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 зовут её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B941-89A6-421A-8053-BC617B5388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1A0E-D1BF-43D8-A003-92BE76592E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060E-B827-4A6A-B8C6-1FE044A930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C33D-16BA-4B5D-AC4C-F99C636CE89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Хорошо говори звук "С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E882-1EC9-47BE-AA31-9503CD5B11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2F3C-FC58-43D1-93B3-6A28C42150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41B9-1E4D-4354-8D22-1956EDD779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5ECD-4BF7-482B-A00C-6DC9333EC8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8FC1-EA59-4709-B984-07BC8A1EF7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18E4-8D24-4910-9DE2-647E1CCAD1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 ресурсы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 Олень в ле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имний лес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ц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ведь в берлог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су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animal.ru/wp-content/uploads/2011/05/belka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lara.gorod.tomsk.ru/posts-files/72/582/i/q49GXeZgzjc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лка http://img-fotki.yandex.ru/get/4115/102205733.4f/0_9941b_43e121c9_X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йцы http://sarafanradio-kursk.ru/files/images/news/2013/12/05/38_2511722685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сь http://oxothik.ru/userimages/0_c2c4_dd2315a5_X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бан http://mypets.kiev.ua/sites/default/files/admin/45_16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http://www.zooclub.ru/attach/wild/154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с мышкой http://img-fotki.yandex.ru/get/4411/128578942.0/0_73c55_748f30e3_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са охотится http://belorechie.net/uploads/posts/2011-12/1324908405_ohota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img0.liveinternet.ru/images/attach/b/0/19572/19572862_15135032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 http://www.fullhdoboi.ru/_ph/3/160331745.jpg?1414255348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я волков https://lh3.googleusercontent.com/-g-xDxm13ipA/Uc8BEKqLMpI/AAAAAAAAD-Q/3p5fnMat0_0/s400/003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 http://900igr.net/datai/priroda/4-Zima-v-stikhakh.files/0009-018-A-lisa-i-seryj-volk-te-v-okhote-znajut-tolk.gif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загадка http://ic.pics.livejournal.com/sviridenkov/12934488/278613/278613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и-отгадка http://ic.pics.livejournal.com/sviridenkov/12934488/280777/280777_original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ени в лесу http://s011.radikal.ru/i315/1112/dc/2c5cb48e4597t.jpg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кормка животных https://gov39.ru/images/news4/podkormka.jp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2B63-D6D4-4094-BD47-488441BBAC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Жизнь зверей зимой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3CB3-500C-4800-9A3C-B55CD059B2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514B-DC9A-412F-80DE-66DF72689E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- сер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F9B6-4F1C-41DE-845A-893A329C11E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B629-6CA1-4919-9BB2-95E1A0FDC1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66E0-7401-43DF-A64F-DA82C23E15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8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по лесу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Зимой в берлоге отдых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9D45-FDB8-469C-ABD4-87813EA319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A5CC-F911-48EA-9E2B-C3244A7484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7E4-D557-4938-8799-584B5A7C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4FB-1C03-40C7-9AAD-0B14D3BA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A29-D0B5-41A2-9151-EE1DB98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1C9-72C2-42C2-A2BA-9EE55FCD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5C1-84DC-44A0-9D2A-672EB92A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656-EA50-45B3-9BEF-50149F18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7F6-1F7D-41E6-86C0-BD2F17E6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BBF-2B88-4100-94CD-03D4A17C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8D0-B9DF-455F-8F36-6A319130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AE81-0E63-4123-86CD-D36EB71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781-E267-4F95-9817-555AF236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CCFC-AF0B-4AE1-BA4A-454146FC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9457-B6BA-497F-90C6-0CD337C633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tki.yandex.ru/users/bordersong/view/49929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895/199203331.e5/0_b1880_990c0059_L" TargetMode="External"/><Relationship Id="rId2" Type="http://schemas.openxmlformats.org/officeDocument/2006/relationships/hyperlink" Target="http://img01.chitalnya.ru/upload2/321/86067992681637.jpg" TargetMode="External"/><Relationship Id="rId3" Type="http://schemas.openxmlformats.org/officeDocument/2006/relationships/hyperlink" Target="http://oxothik.ru/userimages/image/articles/hare.jpg" TargetMode="External"/><Relationship Id="rId4" Type="http://schemas.openxmlformats.org/officeDocument/2006/relationships/hyperlink" Target="http://content.foto.mail.ru/mail/ritari99/_answers/i-1668.jpg" TargetMode="External"/><Relationship Id="rId5" Type="http://schemas.openxmlformats.org/officeDocument/2006/relationships/hyperlink" Target="http://hunter.com.ua/i/cat/1201.jpg.pagespeed.ce.I88TJPpxCn.jpg" TargetMode="External"/><Relationship Id="rId6" Type="http://schemas.openxmlformats.org/officeDocument/2006/relationships/hyperlink" Target="http://survinat.ru/wp-content/uploads/2010/02/zayac3-300x228.jpg" TargetMode="External"/><Relationship Id="rId7" Type="http://schemas.openxmlformats.org/officeDocument/2006/relationships/hyperlink" Target="http://ohotn.ru/wp-content/uploads/2011/05/berloga.jpg" TargetMode="External"/><Relationship Id="rId8" Type="http://schemas.openxmlformats.org/officeDocument/2006/relationships/hyperlink" Target="http://chernomorskoe.info/forum/download/file.php?id=9960" TargetMode="External"/><Relationship Id="rId9" Type="http://schemas.openxmlformats.org/officeDocument/2006/relationships/hyperlink" Target="http://img0.liveinternet.ru/images/attach/c/5/85/828/85828872_1300949242_2ddd78f4f0b3.jpg" TargetMode="External"/><Relationship Id="rId10" Type="http://schemas.openxmlformats.org/officeDocument/2006/relationships/hyperlink" Target="http://ianimal.ru/wp-content/uploads/2011/05/belka16.jpg" TargetMode="External"/><Relationship Id="rId11" Type="http://schemas.openxmlformats.org/officeDocument/2006/relationships/hyperlink" Target="http://lara.gorod.tomsk.ru/posts-files/72/582/i/q49GXeZgzjc.jpg" TargetMode="External"/><Relationship Id="rId12" Type="http://schemas.openxmlformats.org/officeDocument/2006/relationships/hyperlink" Target="http://img-fotki.yandex.ru/get/4115/102205733.4f/0_9941b_43e121c9_XXL.jpg" TargetMode="External"/><Relationship Id="rId13" Type="http://schemas.openxmlformats.org/officeDocument/2006/relationships/hyperlink" Target="http://sarafanradio-kursk.ru/files/images/news/2013/12/05/38_2511722685.jpg" TargetMode="External"/><Relationship Id="rId14" Type="http://schemas.openxmlformats.org/officeDocument/2006/relationships/hyperlink" Target="http://oxothik.ru/userimages/0_c2c4_dd2315a5_XL.jpg" TargetMode="External"/><Relationship Id="rId15" Type="http://schemas.openxmlformats.org/officeDocument/2006/relationships/hyperlink" Target="http://mypets.kiev.ua/sites/default/files/admin/45_16.jpg" TargetMode="External"/><Relationship Id="rId16" Type="http://schemas.openxmlformats.org/officeDocument/2006/relationships/hyperlink" Target="http://www.zooclub.ru/attach/wild/154.jpg" TargetMode="External"/><Relationship Id="rId17" Type="http://schemas.openxmlformats.org/officeDocument/2006/relationships/hyperlink" Target="http://img-fotki.yandex.ru/get/4411/128578942.0/0_73c55_748f30e3_L" TargetMode="External"/><Relationship Id="rId18" Type="http://schemas.openxmlformats.org/officeDocument/2006/relationships/hyperlink" Target="http://belorechie.net/uploads/posts/2011-12/1324908405_ohota.jpg" TargetMode="External"/><Relationship Id="rId19" Type="http://schemas.openxmlformats.org/officeDocument/2006/relationships/hyperlink" Target="http://img0.liveinternet.ru/images/attach/b/0/19572/19572862_15135032.jpg" TargetMode="External"/><Relationship Id="rId20" Type="http://schemas.openxmlformats.org/officeDocument/2006/relationships/hyperlink" Target="http://www.fullhdoboi.ru/_ph/3/160331745.jpg?1414255348" TargetMode="External"/><Relationship Id="rId21" Type="http://schemas.openxmlformats.org/officeDocument/2006/relationships/hyperlink" Target="https://lh3.googleusercontent.com/-g-xDxm13ipA/Uc8BEKqLMpI/AAAAAAAAD-Q/3p5fnMat0_0/s400/003.jpg" TargetMode="External"/><Relationship Id="rId22" Type="http://schemas.openxmlformats.org/officeDocument/2006/relationships/hyperlink" Target="http://900igr.net/datai/priroda/4-Zima-v-stikhakh.files/0009-018-A-lisa-i-seryj-volk-te-v-okhote-znajut-tolk.gif" TargetMode="External"/><Relationship Id="rId23" Type="http://schemas.openxmlformats.org/officeDocument/2006/relationships/hyperlink" Target="http://ic.pics.livejournal.com/sviridenkov/12934488/278613/278613_original.jpg" TargetMode="External"/><Relationship Id="rId24" Type="http://schemas.openxmlformats.org/officeDocument/2006/relationships/hyperlink" Target="http://ic.pics.livejournal.com/sviridenkov/12934488/280777/280777_original.jpg" TargetMode="External"/><Relationship Id="rId25" Type="http://schemas.openxmlformats.org/officeDocument/2006/relationships/hyperlink" Target="http://s011.radikal.ru/i315/1112/dc/2c5cb48e4597t.jpg" TargetMode="External"/><Relationship Id="rId26" Type="http://schemas.openxmlformats.org/officeDocument/2006/relationships/hyperlink" Target="https://gov39.ru/images/news4/podkormka.jpg" TargetMode="Externa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76360" y="907920"/>
            <a:ext cx="6192720" cy="155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076720" y="5516640"/>
            <a:ext cx="42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дгото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У ЯО Рыбинской СКОШИ №2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узнецова О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по ёлкам ловко скачет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взлетает на ду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то в дупле орехи пряч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шит на зиму грибы?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914840" y="4941720"/>
            <a:ext cx="16866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tretch/>
        </p:blipFill>
        <p:spPr>
          <a:xfrm>
            <a:off x="4140360" y="414972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71600" y="158760"/>
            <a:ext cx="849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Белка отыскивает свои запасы, ест семена из шише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476280"/>
            <a:ext cx="727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бел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948120" cy="3159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4211640" y="1844640"/>
            <a:ext cx="4681440" cy="3113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2700360" y="4221000"/>
            <a:ext cx="3332160" cy="2498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йцы и лоси питаются молодыми ветками и кор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3" descr="http://img-fotki.yandex.ru/get/23/bordersong.2/0_c2c4_dd2315a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276640"/>
            <a:ext cx="4176720" cy="3668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644720" cy="3097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1" name="Rectangle 2"/>
          <p:cNvSpPr/>
          <p:nvPr/>
        </p:nvSpPr>
        <p:spPr>
          <a:xfrm>
            <a:off x="539640" y="47628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айцы и лос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920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баны выкапывают из-под снега корни растен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33360"/>
            <a:ext cx="7920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ем питаются зимой кабаны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434200" cy="4075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>
            <a:off x="1619280" y="1989000"/>
            <a:ext cx="561960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Физминутка</a:t>
            </a:r>
            <a:endParaRPr b="1" lang="en-US" sz="80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7308720" y="40464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7380360" y="501336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5"/>
          <a:stretch/>
        </p:blipFill>
        <p:spPr>
          <a:xfrm>
            <a:off x="3995640" y="836640"/>
            <a:ext cx="1204920" cy="136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6"/>
          <a:stretch/>
        </p:blipFill>
        <p:spPr>
          <a:xfrm>
            <a:off x="262728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7"/>
          <a:stretch/>
        </p:blipFill>
        <p:spPr>
          <a:xfrm>
            <a:off x="5292720" y="3500280"/>
            <a:ext cx="1204920" cy="136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1204920" cy="1360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неба падают снежинк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на сказочной картинк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ем их ловить руками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потом покажем маме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198160" y="4124160"/>
            <a:ext cx="467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днимаем руки над головой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делаем хватательные движ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словно ловим снежинки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042920" y="1268280"/>
            <a:ext cx="71532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вокруг лежат сугр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негом замело дор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завязнуть в поле чтобы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нимаем выше ноги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96712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18320" y="4124160"/>
            <a:ext cx="417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Потягиваем руки в стороны,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ходьба на мест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ahoma"/>
              </a:rPr>
              <a:t>колени высоко поднимаем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971640" y="1557360"/>
            <a:ext cx="71532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сех зверей она хитрей, 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убка рыжая на не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ышный хвост - её краса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зовут её ..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15560" y="4941720"/>
            <a:ext cx="1413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3708360" y="4221000"/>
            <a:ext cx="2691000" cy="20178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11280" y="260280"/>
            <a:ext cx="822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иса ходит по лесу, ищет мышей, зайце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af9cbda36c3cc3711bb06da28891ce9b"/>
          <p:cNvPicPr/>
          <p:nvPr/>
        </p:nvPicPr>
        <p:blipFill>
          <a:blip r:embed="rId1"/>
          <a:stretch/>
        </p:blipFill>
        <p:spPr>
          <a:xfrm>
            <a:off x="4356000" y="1916280"/>
            <a:ext cx="4419720" cy="3314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611280" y="333360"/>
            <a:ext cx="82296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лис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043160" cy="269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3210120" cy="2381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39640" y="333360"/>
            <a:ext cx="8229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олки зимой охотятся стаями и нападают на лося, каба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x_c3dc13c5"/>
          <p:cNvPicPr/>
          <p:nvPr/>
        </p:nvPicPr>
        <p:blipFill>
          <a:blip r:embed="rId1"/>
          <a:stretch/>
        </p:blipFill>
        <p:spPr>
          <a:xfrm>
            <a:off x="609480" y="2133720"/>
            <a:ext cx="4457880" cy="3343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7" name="Picture 2" descr="Картинка 5 из 10556"/>
          <p:cNvPicPr/>
          <p:nvPr/>
        </p:nvPicPr>
        <p:blipFill>
          <a:blip r:embed="rId2"/>
          <a:stretch/>
        </p:blipFill>
        <p:spPr>
          <a:xfrm>
            <a:off x="5292720" y="2205000"/>
            <a:ext cx="3659040" cy="2745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429000" cy="2143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Rectangle 2"/>
          <p:cNvSpPr/>
          <p:nvPr/>
        </p:nvSpPr>
        <p:spPr>
          <a:xfrm>
            <a:off x="826920" y="333360"/>
            <a:ext cx="77058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охотятся зимой волк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красивые Анимашки, анимационные картинки Волки бесплатно без регистрации без смс, анимированные картинки Волки"/>
          <p:cNvPicPr/>
          <p:nvPr/>
        </p:nvPicPr>
        <p:blipFill>
          <a:blip r:embed="rId1"/>
          <a:stretch/>
        </p:blipFill>
        <p:spPr>
          <a:xfrm>
            <a:off x="1908000" y="1413000"/>
            <a:ext cx="5088240" cy="5162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39640" y="8100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95280" y="368280"/>
            <a:ext cx="813744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дравствуйте! Узнали меня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 в лесу не од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5640" y="399600"/>
            <a:ext cx="64803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1476360" y="620640"/>
            <a:ext cx="57610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Хорошо говори звук "С"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2205000"/>
            <a:ext cx="7272360" cy="28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                  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а          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 –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            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ы́скивает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е́лка оты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ивает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и́ запа́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ы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97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332840" cy="5267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981000" y="404640"/>
            <a:ext cx="67672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осчитайте, сколько нас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66120" cy="505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огда выпадает много снега, зверям трудно добывать корм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23080" cy="484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Лесники и охотники подкармливают живот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08360" cy="3058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66" name="Picture 6" descr="A207"/>
          <p:cNvPicPr/>
          <p:nvPr/>
        </p:nvPicPr>
        <p:blipFill>
          <a:blip r:embed="rId2"/>
          <a:stretch/>
        </p:blipFill>
        <p:spPr>
          <a:xfrm>
            <a:off x="4427640" y="3213000"/>
            <a:ext cx="4284720" cy="3213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67" name="Rectangle 7"/>
          <p:cNvSpPr/>
          <p:nvPr/>
        </p:nvSpPr>
        <p:spPr>
          <a:xfrm>
            <a:off x="1258920" y="260280"/>
            <a:ext cx="662472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 лесники помогают животны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мы делали на уроке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Объект 1"/>
          <p:cNvSpPr/>
          <p:nvPr/>
        </p:nvSpPr>
        <p:spPr>
          <a:xfrm>
            <a:off x="539640" y="1700280"/>
            <a:ext cx="8064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Что интересного и нового вы узнали на сегодняшнем урок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39640" y="3290040"/>
            <a:ext cx="80647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аким был урок: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нтерес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увлекательны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тру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куч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тересны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Documents and Settings\user\Мои документы\Мои рисунки\sn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971640" y="1916280"/>
            <a:ext cx="7219800" cy="23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пасибо за урок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лодцы!</a:t>
            </a:r>
            <a:endParaRPr b="1" lang="en-US" sz="72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Интернет- ресурсы</a:t>
            </a:r>
            <a:br>
              <a:rPr sz="18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Фон Олень в лесу</a:t>
            </a:r>
            <a:r>
              <a:rPr b="0" lang="ru-RU" sz="18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http://img-fotki.yandex.ru/get/9895/199203331.e5/0_b1880_990c0059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имний лес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img01.chitalnya.ru/upload2/321/86067992681637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http://oxothik.ru/userimages/image/articles/hare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http://content.foto.mail.ru/mail/ritari99/_answers/i-166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http://hunter.com.ua/i/cat/1201.jpg.pagespeed.ce.I88TJPpxCn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яц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http://survinat.ru/wp-content/uploads/2010/02/zayac3-300x228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Медведь в берлог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http://ohotn.ru/wp-content/uploads/2011/05/berlog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арсу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http://chernomorskoe.info/forum/download/file.php?id=9960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Ёжи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9"/>
              </a:rPr>
              <a:t>http://img0.liveinternet.ru/images/attach/c/5/85/828/85828872_1300949242_2ddd78f4f0b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0"/>
              </a:rPr>
              <a:t>http://ianimal.ru/wp-content/uploads/2011/05/belka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1"/>
              </a:rPr>
              <a:t>http://lara.gorod.tomsk.ru/posts-files/72/582/i/q49GXeZgzjc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Бел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2"/>
              </a:rPr>
              <a:t>http://img-fotki.yandex.ru/get/4115/102205733.4f/0_9941b_43e121c9_X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Зайцы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3"/>
              </a:rPr>
              <a:t>http://sarafanradio-kursk.ru/files/images/news/2013/12/05/38_2511722685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ос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4"/>
              </a:rPr>
              <a:t>http://oxothik.ru/userimages/0_c2c4_dd2315a5_X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Кабан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5"/>
              </a:rPr>
              <a:t>http://mypets.kiev.ua/sites/default/files/admin/45_16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6"/>
              </a:rPr>
              <a:t>http://www.zooclub.ru/attach/wild/154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с мышкой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7"/>
              </a:rPr>
              <a:t>http://img-fotki.yandex.ru/get/4411/128578942.0/0_73c55_748f30e3_L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Лиса охотится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8"/>
              </a:rPr>
              <a:t>http://belorechie.net/uploads/posts/2011-12/1324908405_ohota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19"/>
              </a:rPr>
              <a:t>http://img0.liveinternet.ru/images/attach/b/0/19572/19572862_15135032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0"/>
              </a:rPr>
              <a:t>http://www.fullhdoboi.ru/_ph/3/160331745.jpg?1414255348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Стая волков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1"/>
              </a:rPr>
              <a:t>https://lh3.googleusercontent.com/-g-xDxm13ipA/Uc8BEKqLMpI/AAAAAAAAD-Q/3p5fnMat0_0/s400/003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2"/>
              </a:rPr>
              <a:t>http://900igr.net/datai/priroda/4-Zima-v-stikhakh.files/0009-018-A-lisa-i-seryj-volk-te-v-okhote-znajut-tolk.gif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за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3"/>
              </a:rPr>
              <a:t>http://ic.pics.livejournal.com/sviridenkov/12934488/278613/278613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Волки-отгадка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4"/>
              </a:rPr>
              <a:t>http://ic.pics.livejournal.com/sviridenkov/12934488/280777/280777_original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Олени в лесу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5"/>
              </a:rPr>
              <a:t>http://s011.radikal.ru/i315/1112/dc/2c5cb48e4597t.jpg</a:t>
            </a:r>
            <a:br>
              <a:rPr sz="1400"/>
            </a:br>
            <a:r>
              <a:rPr b="0" lang="ru-RU" sz="1400" spc="-1" strike="noStrike">
                <a:solidFill>
                  <a:srgbClr val="e5ffff"/>
                </a:solidFill>
                <a:latin typeface="Times New Roman"/>
              </a:rPr>
              <a:t>Подкормка животных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imes New Roman"/>
                <a:hlinkClick r:id="rId26"/>
              </a:rPr>
              <a:t>https://gov39.ru/images/news4/podkormka.jpg</a:t>
            </a:r>
            <a:br>
              <a:rPr sz="1400"/>
            </a:br>
            <a:endParaRPr b="0" lang="en-US" sz="1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красивые Анимашки, анимационные картинки Животные бесплатно без регистрации без смс, анимированные картинки Живот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2205000"/>
            <a:ext cx="734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читайте текст на странице 83-84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1620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00000" y="76932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1692360" y="981000"/>
            <a:ext cx="5753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Жизнь зверей зимой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wallpaper_8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540720" y="260280"/>
            <a:ext cx="81147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нег укрывает зимой леса, поля, луг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етер наметает большие сугро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олодно, морозно в ле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404720" y="476280"/>
            <a:ext cx="5854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ая погода зимой в лес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2484360" y="2060640"/>
            <a:ext cx="4000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- серый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- белый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2850120" y="4653000"/>
            <a:ext cx="138924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f_18229904"/>
          <p:cNvPicPr/>
          <p:nvPr/>
        </p:nvPicPr>
        <p:blipFill>
          <a:blip r:embed="rId1"/>
          <a:stretch/>
        </p:blipFill>
        <p:spPr>
          <a:xfrm>
            <a:off x="4572000" y="4005360"/>
            <a:ext cx="2176560" cy="1998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%D1%84%D0%BE%D1%82%D0%BE"/>
          <p:cNvPicPr/>
          <p:nvPr/>
        </p:nvPicPr>
        <p:blipFill>
          <a:blip r:embed="rId1"/>
          <a:stretch/>
        </p:blipFill>
        <p:spPr>
          <a:xfrm>
            <a:off x="4427640" y="2492280"/>
            <a:ext cx="4419360" cy="3446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4" name="Picture 5" descr="i?id=111478410-15-72&amp;n=21"/>
          <p:cNvPicPr/>
          <p:nvPr/>
        </p:nvPicPr>
        <p:blipFill>
          <a:blip r:embed="rId2"/>
          <a:stretch/>
        </p:blipFill>
        <p:spPr>
          <a:xfrm>
            <a:off x="539640" y="3860640"/>
            <a:ext cx="3657600" cy="255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258920" y="2060640"/>
            <a:ext cx="2247840" cy="2266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яц делает в снегу глубокие ямки и залегает в ни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42920" y="333360"/>
            <a:ext cx="698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ет зимой заяц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f_18229904"/>
          <p:cNvPicPr/>
          <p:nvPr/>
        </p:nvPicPr>
        <p:blipFill>
          <a:blip r:embed="rId1"/>
          <a:stretch/>
        </p:blipFill>
        <p:spPr>
          <a:xfrm>
            <a:off x="4788000" y="2205000"/>
            <a:ext cx="4048200" cy="371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0" name="Rectangle 2"/>
          <p:cNvSpPr/>
          <p:nvPr/>
        </p:nvSpPr>
        <p:spPr>
          <a:xfrm>
            <a:off x="468360" y="333360"/>
            <a:ext cx="8229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имняя шерсть у зайца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густая и тёпла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68360" y="549360"/>
            <a:ext cx="822960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акая шерсть у зайца зим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189320" cy="31845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399600"/>
            <a:ext cx="468180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2268360" y="620640"/>
            <a:ext cx="4267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Отгадай загадку</a:t>
            </a:r>
            <a:endParaRPr b="1" lang="en-US" sz="4400" spc="1" strike="noStrike">
              <a:ln w="255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971640" y="2205000"/>
            <a:ext cx="715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по лесу гуляет,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ой в берлоге отдыхает.</a:t>
            </a:r>
            <a:endParaRPr b="1" lang="en-US" sz="4400" spc="1" strike="noStrike">
              <a:ln w="255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01360" y="4508640"/>
            <a:ext cx="24346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114800" cy="2855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260280"/>
            <a:ext cx="822960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пят в берлогах и норах медведи, барсуки, ежи, мыш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539640" y="404640"/>
            <a:ext cx="822960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Что делают зимой медведи, барсуки, ежи, мыш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330800" cy="3004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3" name="Picture 16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70440" cy="2977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94" name="Picture 17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3002040" cy="2462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12:42:49Z</dcterms:created>
  <dc:creator>Кузнецова О.В.</dc:creator>
  <dc:description/>
  <dc:language>en-US</dc:language>
  <cp:lastModifiedBy>LEGION2</cp:lastModifiedBy>
  <dcterms:modified xsi:type="dcterms:W3CDTF">2015-04-24T10:30:58Z</dcterms:modified>
  <cp:revision>17</cp:revision>
  <dc:subject/>
  <dc:title>Жизнь зверей зимой</dc:title>
</cp:coreProperties>
</file>