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3.jpeg" ContentType="image/jpeg"/>
  <Override PartName="/ppt/media/image21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F908-A015-424D-9CB7-5D2B5E33741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slide" Target="../slides/slide26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EE05-ACC2-4DE1-9CE8-7CD68F6ADC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по ёлкам ловко ска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взлетает на ду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в дупле орехи пряч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ушит на зиму гри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EBFE-0299-444A-8E90-388622571E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1A30-2960-44D4-B779-2EBD8D580C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73E0-8F6A-4091-93E8-CDFE6FD250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E320-8E2C-4DAB-BF4A-A86243D39C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неба падают снежин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ак на сказочной карти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ем их ловить рук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потом покажем ма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FE66-8A7F-4B33-97DE-667CA35872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вокруг лежат сугр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негом замело 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е завязнуть в поле чт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м выше н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(Потягиваем руки в сторо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ходьба на ме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колени высоко поднимае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5E4B-C0E5-4D4B-AC01-312E896FBB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ех зверей она хитр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Шубка рыжа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ышный хвост - её кра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зовут её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4435-AB54-4BAE-8E62-73580C09075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9574-E36F-4A4C-9100-4FBA1449D18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6DB3-D98B-49E0-9F23-676FB62E91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0398-0241-42CC-B882-E17C960EF1B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Хорошо говори звук "С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56A0-AFD1-4840-A01A-8DFA808B04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DBFC-E023-4201-A8BD-55EC3BECD54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CFCB-A96A-40AF-A7FD-0E1DB0FE4EF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11DD-BEAA-4A77-BDD9-E1437B15174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3934-C4FA-40D4-9275-878C48A257A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9342-82F9-49BA-81A6-4C775D2B17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рнет- ресурсы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 Олень в лес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ний лес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ведь в берлог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су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Ёжи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animal.ru/wp-content/uploads/2011/05/belka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lara.gorod.tomsk.ru/posts-files/72/582/i/q49GXeZgzjc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mg-fotki.yandex.ru/get/4115/102205733.4f/0_9941b_43e121c9_X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йцы http://sarafanradio-kursk.ru/files/images/news/2013/12/05/38_2511722685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сь http://oxothik.ru/userimages/0_c2c4_dd2315a5_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бан http://mypets.kiev.ua/sites/default/files/admin/45_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http://www.zooclub.ru/attach/wild/154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с мышкой http://img-fotki.yandex.ru/get/4411/128578942.0/0_73c55_748f30e3_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охотится http://belorechie.net/uploads/posts/2011-12/1324908405_ohot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img0.liveinternet.ru/images/attach/b/0/19572/19572862_15135032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 http://www.fullhdoboi.ru/_ph/3/160331745.jpg?1414255348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я волков https://lh3.googleusercontent.com/-g-xDxm13ipA/Uc8BEKqLMpI/AAAAAAAAD-Q/3p5fnMat0_0/s400/00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900igr.net/datai/priroda/4-Zima-v-stikhakh.files/0009-018-A-lisa-i-seryj-volk-te-v-okhote-znajut-tolk.gif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загадка http://ic.pics.livejournal.com/sviridenkov/12934488/278613/278613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отгадка http://ic.pics.livejournal.com/sviridenkov/12934488/280777/280777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ени в лесу http://s011.radikal.ru/i315/1112/dc/2c5cb48e4597t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кормка животных https://gov39.ru/images/news4/podkormka.jp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9ACC-56CA-40F9-96C6-2D46BC4D71E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8F49-FB3B-45BC-A46F-DE013D8B4D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D593-D34D-4898-B516-576F9EA889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- сер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- бе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AD0D-C254-4C30-9EA5-9D8AB937182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F057-03B7-4749-9DFC-F8B8F121A9A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4883-A2E8-498B-8815-A5A74E8BF7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по лесу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в берлоге отдых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D060-ABC9-465A-95D6-55FFAE1446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D2F2-9E36-42BC-BEFE-08B0BBDECA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FBD-060C-420E-901F-C71F6C18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E9F-B9C4-4B10-80FD-B49B23E8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8CC-1152-44DB-BF69-B04343FE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75F-9DA4-4422-9F05-7FAC0BCA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F2B-CF6C-4DFD-9152-E0393840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80F-E16C-4713-8D65-74600068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803-AB68-48C3-AB18-6BA7DF64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E01-6B2B-4EB8-B8E4-747687B6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EAE-6D09-415B-AA99-CBDC56A1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45A-DAEC-403A-8F8C-6B95D8A9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9F9-6F30-490D-BB9D-5A1DE0F5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F76-20F0-4DD4-A2C0-89759A19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34E8-72CE-409A-B814-232D58E2CE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tki.yandex.ru/users/bordersong/view/49929/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hyperlink" Target="http://ianimal.ru/wp-content/uploads/2011/05/belka16.jpg" TargetMode="External"/><Relationship Id="rId11" Type="http://schemas.openxmlformats.org/officeDocument/2006/relationships/hyperlink" Target="http://lara.gorod.tomsk.ru/posts-files/72/582/i/q49GXeZgzjc.jpg" TargetMode="External"/><Relationship Id="rId12" Type="http://schemas.openxmlformats.org/officeDocument/2006/relationships/hyperlink" Target="http://img-fotki.yandex.ru/get/4115/102205733.4f/0_9941b_43e121c9_XXL.jpg" TargetMode="External"/><Relationship Id="rId13" Type="http://schemas.openxmlformats.org/officeDocument/2006/relationships/hyperlink" Target="http://sarafanradio-kursk.ru/files/images/news/2013/12/05/38_2511722685.jpg" TargetMode="External"/><Relationship Id="rId14" Type="http://schemas.openxmlformats.org/officeDocument/2006/relationships/hyperlink" Target="http://oxothik.ru/userimages/0_c2c4_dd2315a5_XL.jpg" TargetMode="External"/><Relationship Id="rId15" Type="http://schemas.openxmlformats.org/officeDocument/2006/relationships/hyperlink" Target="http://mypets.kiev.ua/sites/default/files/admin/45_16.jpg" TargetMode="External"/><Relationship Id="rId16" Type="http://schemas.openxmlformats.org/officeDocument/2006/relationships/hyperlink" Target="http://www.zooclub.ru/attach/wild/154.jpg" TargetMode="External"/><Relationship Id="rId17" Type="http://schemas.openxmlformats.org/officeDocument/2006/relationships/hyperlink" Target="http://img-fotki.yandex.ru/get/4411/128578942.0/0_73c55_748f30e3_L" TargetMode="External"/><Relationship Id="rId18" Type="http://schemas.openxmlformats.org/officeDocument/2006/relationships/hyperlink" Target="http://belorechie.net/uploads/posts/2011-12/1324908405_ohota.jpg" TargetMode="External"/><Relationship Id="rId19" Type="http://schemas.openxmlformats.org/officeDocument/2006/relationships/hyperlink" Target="http://img0.liveinternet.ru/images/attach/b/0/19572/19572862_15135032.jpg" TargetMode="External"/><Relationship Id="rId20" Type="http://schemas.openxmlformats.org/officeDocument/2006/relationships/hyperlink" Target="http://www.fullhdoboi.ru/_ph/3/160331745.jpg?1414255348" TargetMode="External"/><Relationship Id="rId21" Type="http://schemas.openxmlformats.org/officeDocument/2006/relationships/hyperlink" Target="https://lh3.googleusercontent.com/-g-xDxm13ipA/Uc8BEKqLMpI/AAAAAAAAD-Q/3p5fnMat0_0/s400/003.jpg" TargetMode="External"/><Relationship Id="rId22" Type="http://schemas.openxmlformats.org/officeDocument/2006/relationships/hyperlink" Target="http://900igr.net/datai/priroda/4-Zima-v-stikhakh.files/0009-018-A-lisa-i-seryj-volk-te-v-okhote-znajut-tolk.gif" TargetMode="External"/><Relationship Id="rId23" Type="http://schemas.openxmlformats.org/officeDocument/2006/relationships/hyperlink" Target="http://ic.pics.livejournal.com/sviridenkov/12934488/278613/278613_original.jpg" TargetMode="External"/><Relationship Id="rId24" Type="http://schemas.openxmlformats.org/officeDocument/2006/relationships/hyperlink" Target="http://ic.pics.livejournal.com/sviridenkov/12934488/280777/280777_original.jpg" TargetMode="External"/><Relationship Id="rId25" Type="http://schemas.openxmlformats.org/officeDocument/2006/relationships/hyperlink" Target="http://s011.radikal.ru/i315/1112/dc/2c5cb48e4597t.jpg" TargetMode="External"/><Relationship Id="rId26" Type="http://schemas.openxmlformats.org/officeDocument/2006/relationships/hyperlink" Target="https://gov39.ru/images/news4/podkormka.jpg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476360" y="907920"/>
            <a:ext cx="6192720" cy="155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рок природовед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3 клас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076720" y="5516640"/>
            <a:ext cx="42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Подготови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учитель начальных класс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ГОУ ЯО Рыбинской СКОШИ №2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Кузнецова О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по ёлкам ловко скачет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взлетает на ду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в дупле орехи пряч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шит на зиму гри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914840" y="4941720"/>
            <a:ext cx="1686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4140360" y="414972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71600" y="158760"/>
            <a:ext cx="8496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 отыскивает свои запасы, ест семена из шише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971640" y="476280"/>
            <a:ext cx="7272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948120" cy="3159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681440" cy="3113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6" name="Picture 12" descr=""/>
          <p:cNvPicPr/>
          <p:nvPr/>
        </p:nvPicPr>
        <p:blipFill>
          <a:blip r:embed="rId3"/>
          <a:stretch/>
        </p:blipFill>
        <p:spPr>
          <a:xfrm>
            <a:off x="2700360" y="422100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6836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http://img-fotki.yandex.ru/get/23/bordersong.2/0_c2c4_dd2315a5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276640"/>
            <a:ext cx="4176720" cy="3668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4644720" cy="3097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1" name="Rectangle 2"/>
          <p:cNvSpPr/>
          <p:nvPr/>
        </p:nvSpPr>
        <p:spPr>
          <a:xfrm>
            <a:off x="539640" y="47628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20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55640" y="333360"/>
            <a:ext cx="7920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имой кабан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434200" cy="4075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619280" y="1989000"/>
            <a:ext cx="561960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Физминутка</a:t>
            </a:r>
            <a:endParaRPr b="1" lang="en-US" sz="80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9528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7308720" y="40464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738036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5"/>
          <a:stretch/>
        </p:blipFill>
        <p:spPr>
          <a:xfrm>
            <a:off x="3995640" y="83664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6"/>
          <a:stretch/>
        </p:blipFill>
        <p:spPr>
          <a:xfrm>
            <a:off x="262728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7"/>
          <a:stretch/>
        </p:blipFill>
        <p:spPr>
          <a:xfrm>
            <a:off x="529272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8"/>
          <a:stretch/>
        </p:blipFill>
        <p:spPr>
          <a:xfrm>
            <a:off x="3924360" y="4581360"/>
            <a:ext cx="1204920" cy="13608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3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неба падают снежинк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на сказочной картинк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ем их ловить рукам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потом покажем мам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198160" y="4124160"/>
            <a:ext cx="467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днимаем руки над головой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делаем хватательные движ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словно ловим снежинки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вокруг лежат сугр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негом замело дор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завязнуть в поле чт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нимаем выше н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96712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18320" y="4124160"/>
            <a:ext cx="417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тягиваем руки в стороны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ходьба на мест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колени высоко поднимаем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сех зверей она хитрей, 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убка рыжая на не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ышный хвост - её краса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зовут её ..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915560" y="4941720"/>
            <a:ext cx="14137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3708360" y="4221000"/>
            <a:ext cx="2691000" cy="2017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1128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 ходит по лесу, ищет мышей, зайце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4356000" y="1916280"/>
            <a:ext cx="4419720" cy="3314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1" name="Rectangle 2"/>
          <p:cNvSpPr/>
          <p:nvPr/>
        </p:nvSpPr>
        <p:spPr>
          <a:xfrm>
            <a:off x="611280" y="33336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043160" cy="2690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3210120" cy="2381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39640" y="333360"/>
            <a:ext cx="8229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олки зимой охотятся стаями и нападают на лося, каба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x_c3dc13c5"/>
          <p:cNvPicPr/>
          <p:nvPr/>
        </p:nvPicPr>
        <p:blipFill>
          <a:blip r:embed="rId1"/>
          <a:stretch/>
        </p:blipFill>
        <p:spPr>
          <a:xfrm>
            <a:off x="609480" y="2133720"/>
            <a:ext cx="4457880" cy="3343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7" name="Picture 2" descr="Картинка 5 из 10556"/>
          <p:cNvPicPr/>
          <p:nvPr/>
        </p:nvPicPr>
        <p:blipFill>
          <a:blip r:embed="rId2"/>
          <a:stretch/>
        </p:blipFill>
        <p:spPr>
          <a:xfrm>
            <a:off x="5292720" y="2205000"/>
            <a:ext cx="3659040" cy="2745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132000" y="4581360"/>
            <a:ext cx="3429000" cy="2143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9" name="Rectangle 2"/>
          <p:cNvSpPr/>
          <p:nvPr/>
        </p:nvSpPr>
        <p:spPr>
          <a:xfrm>
            <a:off x="826920" y="333360"/>
            <a:ext cx="77058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красивые Анимашки, анимационные картинки Волки бесплатно без регистрации без смс, анимированные картинки Волки"/>
          <p:cNvPicPr/>
          <p:nvPr/>
        </p:nvPicPr>
        <p:blipFill>
          <a:blip r:embed="rId1"/>
          <a:stretch/>
        </p:blipFill>
        <p:spPr>
          <a:xfrm>
            <a:off x="1908000" y="1413000"/>
            <a:ext cx="5088240" cy="5162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39640" y="8100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368280"/>
            <a:ext cx="813744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5640" y="399600"/>
            <a:ext cx="648036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1476360" y="620640"/>
            <a:ext cx="57610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Хорошо говори звук "С"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55640" y="2205000"/>
            <a:ext cx="7272360" cy="289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197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32840" cy="5267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981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666120" cy="5052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2" name="Picture 17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23080" cy="4840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608360" cy="3058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66" name="Picture 6" descr="A207"/>
          <p:cNvPicPr/>
          <p:nvPr/>
        </p:nvPicPr>
        <p:blipFill>
          <a:blip r:embed="rId2"/>
          <a:stretch/>
        </p:blipFill>
        <p:spPr>
          <a:xfrm>
            <a:off x="4427640" y="3213000"/>
            <a:ext cx="4284720" cy="3213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7" name="Rectangle 7"/>
          <p:cNvSpPr/>
          <p:nvPr/>
        </p:nvSpPr>
        <p:spPr>
          <a:xfrm>
            <a:off x="1258920" y="260280"/>
            <a:ext cx="662472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Объект 1"/>
          <p:cNvSpPr/>
          <p:nvPr/>
        </p:nvSpPr>
        <p:spPr>
          <a:xfrm>
            <a:off x="539640" y="1700280"/>
            <a:ext cx="8064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39640" y="3290040"/>
            <a:ext cx="80647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:\Documents and Settings\user\Мои документы\Мои рисунки\sn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8"/>
          <p:cNvSpPr txBox="1"/>
          <p:nvPr/>
        </p:nvSpPr>
        <p:spPr>
          <a:xfrm>
            <a:off x="971640" y="1916280"/>
            <a:ext cx="7219800" cy="23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пасибо за урок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олодцы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Интернет- ресурсы</a:t>
            </a:r>
            <a:br>
              <a:rPr sz="18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Фон Олень в лесу</a:t>
            </a: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имний лес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Медведь в берлоге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арсу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Ёжи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http://ianimal.ru/wp-content/uploads/2011/05/belka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http://lara.gorod.tomsk.ru/posts-files/72/582/i/q49GXeZgzjc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http://img-fotki.yandex.ru/get/4115/102205733.4f/0_9941b_43e121c9_X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йцы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http://sarafanradio-kursk.ru/files/images/news/2013/12/05/38_2511722685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ось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http://oxothik.ru/userimages/0_c2c4_dd2315a5_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Кабан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http://mypets.kiev.ua/sites/default/files/admin/45_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http://www.zooclub.ru/attach/wild/154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с мышкой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http://img-fotki.yandex.ru/get/4411/128578942.0/0_73c55_748f30e3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охотится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http://belorechie.net/uploads/posts/2011-12/1324908405_ohot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http://img0.liveinternet.ru/images/attach/b/0/19572/19572862_15135032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http://www.fullhdoboi.ru/_ph/3/160331745.jpg?1414255348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Стая волков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https://lh3.googleusercontent.com/-g-xDxm13ipA/Uc8BEKqLMpI/AAAAAAAAD-Q/3p5fnMat0_0/s400/00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http://900igr.net/datai/priroda/4-Zima-v-stikhakh.files/0009-018-A-lisa-i-seryj-volk-te-v-okhote-znajut-tolk.gif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за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http://ic.pics.livejournal.com/sviridenkov/12934488/278613/278613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от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http://ic.pics.livejournal.com/sviridenkov/12934488/280777/280777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Олени в лесу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http://s011.radikal.ru/i315/1112/dc/2c5cb48e4597t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Подкормка животных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https://gov39.ru/images/news4/podkormka.jpg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826920" y="2205000"/>
            <a:ext cx="7345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61620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900000" y="769320"/>
            <a:ext cx="7058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wallpaper_8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4" name="Text Box 7"/>
          <p:cNvSpPr/>
          <p:nvPr/>
        </p:nvSpPr>
        <p:spPr>
          <a:xfrm>
            <a:off x="540720" y="260280"/>
            <a:ext cx="81147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04720" y="476280"/>
            <a:ext cx="585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484360" y="2060640"/>
            <a:ext cx="40006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- серый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- белы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850120" y="4653000"/>
            <a:ext cx="138924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f_18229904"/>
          <p:cNvPicPr/>
          <p:nvPr/>
        </p:nvPicPr>
        <p:blipFill>
          <a:blip r:embed="rId1"/>
          <a:stretch/>
        </p:blipFill>
        <p:spPr>
          <a:xfrm>
            <a:off x="4572000" y="4005360"/>
            <a:ext cx="2176560" cy="1998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%D1%84%D0%BE%D1%82%D0%BE"/>
          <p:cNvPicPr/>
          <p:nvPr/>
        </p:nvPicPr>
        <p:blipFill>
          <a:blip r:embed="rId1"/>
          <a:stretch/>
        </p:blipFill>
        <p:spPr>
          <a:xfrm>
            <a:off x="4427640" y="2492280"/>
            <a:ext cx="4419360" cy="3446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4" name="Picture 5" descr="i?id=111478410-15-72&amp;n=21"/>
          <p:cNvPicPr/>
          <p:nvPr/>
        </p:nvPicPr>
        <p:blipFill>
          <a:blip r:embed="rId2"/>
          <a:stretch/>
        </p:blipFill>
        <p:spPr>
          <a:xfrm>
            <a:off x="539640" y="3860640"/>
            <a:ext cx="3657600" cy="2552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258920" y="2060640"/>
            <a:ext cx="2247840" cy="2266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6" name="Rectangle 2"/>
          <p:cNvSpPr/>
          <p:nvPr/>
        </p:nvSpPr>
        <p:spPr>
          <a:xfrm>
            <a:off x="468360" y="1890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42920" y="333360"/>
            <a:ext cx="698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f_18229904"/>
          <p:cNvPicPr/>
          <p:nvPr/>
        </p:nvPicPr>
        <p:blipFill>
          <a:blip r:embed="rId1"/>
          <a:stretch/>
        </p:blipFill>
        <p:spPr>
          <a:xfrm>
            <a:off x="4788000" y="2205000"/>
            <a:ext cx="4048200" cy="3718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0" name="Rectangle 2"/>
          <p:cNvSpPr/>
          <p:nvPr/>
        </p:nvSpPr>
        <p:spPr>
          <a:xfrm>
            <a:off x="468360" y="333360"/>
            <a:ext cx="8229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имняя шерсть у зайца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густая и тёпла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68360" y="549360"/>
            <a:ext cx="822960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4189320" cy="31845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971640" y="2205000"/>
            <a:ext cx="715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по лесу гуля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в берлоге отдыхает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701360" y="4508640"/>
            <a:ext cx="24346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Медвед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4356000" y="3573360"/>
            <a:ext cx="4114800" cy="2855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3964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пят в берлогах и норах медведи, барсуки, ежи, мыш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539640" y="404640"/>
            <a:ext cx="82296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1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330800" cy="3004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3" name="Picture 16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70440" cy="2977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4" name="Picture 17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3002040" cy="2462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2:42:49Z</dcterms:created>
  <dc:creator>Кузнецова О.В.</dc:creator>
  <dc:description/>
  <dc:language>en-US</dc:language>
  <cp:lastModifiedBy>LEGION2</cp:lastModifiedBy>
  <dcterms:modified xsi:type="dcterms:W3CDTF">2015-04-24T10:30:58Z</dcterms:modified>
  <cp:revision>17</cp:revision>
  <dc:subject/>
  <dc:title>Жизнь зверей зимой</dc:title>
</cp:coreProperties>
</file>