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815B-1773-4368-A308-7876CC64C28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slide" Target="../slides/slide26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EC5B-8F40-4E78-9DDA-6A9BA02732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по ёлкам ловко ска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взлетает на ду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в дупле орехи пряч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ушит на зиму гри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9358-B3A6-4396-82A9-C07863121D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30F5-C456-4AE6-A9D1-F97DC26138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923-211F-4126-B6DE-CFCE52AD07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32DF-11B6-4C66-8237-9F1BED21EC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неба падают снежин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к на сказочной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ем их ловить рук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потом покажем ма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FD5C-D3B2-45E5-8FD2-478A78A124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вокруг лежат сугр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негом замело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е завязнуть в поле чт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м выше н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(Потягиваем руки в сторо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ходьба на ме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колени высоко поднима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9F26-3B3D-4EE4-B156-5EE8C3A715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ех зверей она хитр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Шубка рыжа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ышный хвост - её кра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зовут её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9A1F-861E-4A0E-B22D-77C21A2067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278F-DD39-4AEA-BFEE-7E479F727A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BC7D-120B-41B2-BE38-1C7BD3DD4F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6721-B69A-44A1-BE87-2BF83304D2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Хорошо говори звук "С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E340-9809-4D90-A214-577C43F623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C62-070F-443F-8F38-3E971889F2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6B95-6A03-45C9-8568-B5F929DC76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935B-80F7-479A-B494-340514EF9E5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8F76-0B1F-4FA8-93C1-F851F38B76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ED85-823E-40BD-8AB2-A8969702BB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 ресурсы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 Олень в ле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ний лес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ведь в берлог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су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animal.ru/wp-content/uploads/2011/05/belka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lara.gorod.tomsk.ru/posts-files/72/582/i/q49GXeZgzjc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mg-fotki.yandex.ru/get/4115/102205733.4f/0_9941b_43e121c9_X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йцы http://sarafanradio-kursk.ru/files/images/news/2013/12/05/38_2511722685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сь http://oxothik.ru/userimages/0_c2c4_dd2315a5_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бан http://mypets.kiev.ua/sites/default/files/admin/45_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http://www.zooclub.ru/attach/wild/154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с мышкой http://img-fotki.yandex.ru/get/4411/128578942.0/0_73c55_748f30e3_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охотится http://belorechie.net/uploads/posts/2011-12/1324908405_ohot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img0.liveinternet.ru/images/attach/b/0/19572/19572862_15135032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 http://www.fullhdoboi.ru/_ph/3/160331745.jpg?1414255348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я волков https://lh3.googleusercontent.com/-g-xDxm13ipA/Uc8BEKqLMpI/AAAAAAAAD-Q/3p5fnMat0_0/s400/00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900igr.net/datai/priroda/4-Zima-v-stikhakh.files/0009-018-A-lisa-i-seryj-volk-te-v-okhote-znajut-tolk.gif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загадка http://ic.pics.livejournal.com/sviridenkov/12934488/278613/278613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отгадка http://ic.pics.livejournal.com/sviridenkov/12934488/280777/280777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ени в лесу http://s011.radikal.ru/i315/1112/dc/2c5cb48e4597t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кормка животных https://gov39.ru/images/news4/podkormka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5F48-0F5E-416D-A433-21BF8D7446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8B2C-AFB9-43B7-922B-3E93FC71E3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D9C8-C011-4523-AC28-2F65E1C130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- сер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4C61-6D0F-4B3B-8001-5B3BD4E3EF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B678-CA89-43FC-A635-B688179599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0EE7-C6ED-4DEE-92F0-B89C18678F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по лесу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в берлоге отдых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3B3E-99F0-4405-9494-132A1FC495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7C4-1B73-44DD-92B6-398F4A8D3C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51E-98DB-487E-BE77-35E0914A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4CE-F3AE-49C1-A64D-C200B4DD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BBF-5492-4A9C-B750-3F310F63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C7D-40D8-4E9B-BD8F-2CD084B5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479-91EA-4A7F-8885-FDBFE305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026-33B3-434E-A478-EE58C46C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5FB-503D-4C65-AC89-9804DFD9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CD2-ADBF-4A49-AF27-D7CF83EF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EA6-9B61-4113-950B-05DF6B0C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7E5-B505-4801-A048-43C2BAB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E5C-6BA9-4945-BA9B-7371C32C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64C-F5CE-4847-AFBE-60BF872E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354E-B930-45D1-AEA3-34C37CB532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bordersong/view/49929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hyperlink" Target="http://ianimal.ru/wp-content/uploads/2011/05/belka16.jpg" TargetMode="External"/><Relationship Id="rId11" Type="http://schemas.openxmlformats.org/officeDocument/2006/relationships/hyperlink" Target="http://lara.gorod.tomsk.ru/posts-files/72/582/i/q49GXeZgzjc.jpg" TargetMode="External"/><Relationship Id="rId12" Type="http://schemas.openxmlformats.org/officeDocument/2006/relationships/hyperlink" Target="http://img-fotki.yandex.ru/get/4115/102205733.4f/0_9941b_43e121c9_XXL.jpg" TargetMode="External"/><Relationship Id="rId13" Type="http://schemas.openxmlformats.org/officeDocument/2006/relationships/hyperlink" Target="http://sarafanradio-kursk.ru/files/images/news/2013/12/05/38_2511722685.jpg" TargetMode="External"/><Relationship Id="rId14" Type="http://schemas.openxmlformats.org/officeDocument/2006/relationships/hyperlink" Target="http://oxothik.ru/userimages/0_c2c4_dd2315a5_XL.jpg" TargetMode="External"/><Relationship Id="rId15" Type="http://schemas.openxmlformats.org/officeDocument/2006/relationships/hyperlink" Target="http://mypets.kiev.ua/sites/default/files/admin/45_16.jpg" TargetMode="External"/><Relationship Id="rId16" Type="http://schemas.openxmlformats.org/officeDocument/2006/relationships/hyperlink" Target="http://www.zooclub.ru/attach/wild/154.jpg" TargetMode="External"/><Relationship Id="rId17" Type="http://schemas.openxmlformats.org/officeDocument/2006/relationships/hyperlink" Target="http://img-fotki.yandex.ru/get/4411/128578942.0/0_73c55_748f30e3_L" TargetMode="External"/><Relationship Id="rId18" Type="http://schemas.openxmlformats.org/officeDocument/2006/relationships/hyperlink" Target="http://belorechie.net/uploads/posts/2011-12/1324908405_ohota.jpg" TargetMode="External"/><Relationship Id="rId19" Type="http://schemas.openxmlformats.org/officeDocument/2006/relationships/hyperlink" Target="http://img0.liveinternet.ru/images/attach/b/0/19572/19572862_15135032.jpg" TargetMode="External"/><Relationship Id="rId20" Type="http://schemas.openxmlformats.org/officeDocument/2006/relationships/hyperlink" Target="http://www.fullhdoboi.ru/_ph/3/160331745.jpg?1414255348" TargetMode="External"/><Relationship Id="rId21" Type="http://schemas.openxmlformats.org/officeDocument/2006/relationships/hyperlink" Target="https://lh3.googleusercontent.com/-g-xDxm13ipA/Uc8BEKqLMpI/AAAAAAAAD-Q/3p5fnMat0_0/s400/003.jpg" TargetMode="External"/><Relationship Id="rId22" Type="http://schemas.openxmlformats.org/officeDocument/2006/relationships/hyperlink" Target="http://900igr.net/datai/priroda/4-Zima-v-stikhakh.files/0009-018-A-lisa-i-seryj-volk-te-v-okhote-znajut-tolk.gif" TargetMode="External"/><Relationship Id="rId23" Type="http://schemas.openxmlformats.org/officeDocument/2006/relationships/hyperlink" Target="http://ic.pics.livejournal.com/sviridenkov/12934488/278613/278613_original.jpg" TargetMode="External"/><Relationship Id="rId24" Type="http://schemas.openxmlformats.org/officeDocument/2006/relationships/hyperlink" Target="http://ic.pics.livejournal.com/sviridenkov/12934488/280777/280777_original.jpg" TargetMode="External"/><Relationship Id="rId25" Type="http://schemas.openxmlformats.org/officeDocument/2006/relationships/hyperlink" Target="http://s011.radikal.ru/i315/1112/dc/2c5cb48e4597t.jpg" TargetMode="External"/><Relationship Id="rId26" Type="http://schemas.openxmlformats.org/officeDocument/2006/relationships/hyperlink" Target="https://gov39.ru/images/news4/podkormka.jpg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76360" y="907920"/>
            <a:ext cx="6192720" cy="155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76720" y="5516640"/>
            <a:ext cx="42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ГОУ ЯО Рыбинской СКОШИ №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узнецова О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по ёлкам ловко скачет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злетает на ду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в дупле орехи пряч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шит на зиму гри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14840" y="4941720"/>
            <a:ext cx="1686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4140360" y="414972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71600" y="158760"/>
            <a:ext cx="849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 отыскивает свои запасы, ест семена из шише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476280"/>
            <a:ext cx="727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948120" cy="3159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81440" cy="311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http://img-fotki.yandex.ru/get/23/bordersong.2/0_c2c4_dd2315a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76640"/>
            <a:ext cx="4176720" cy="3668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644720" cy="3097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539640" y="47628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33360"/>
            <a:ext cx="792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имой каб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34200" cy="4075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619280" y="1989000"/>
            <a:ext cx="56196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Физминутка</a:t>
            </a:r>
            <a:endParaRPr b="1" lang="en-US" sz="80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7308720" y="40464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738036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3995640" y="83664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262728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7"/>
          <a:stretch/>
        </p:blipFill>
        <p:spPr>
          <a:xfrm>
            <a:off x="529272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8"/>
          <a:stretch/>
        </p:blipFill>
        <p:spPr>
          <a:xfrm>
            <a:off x="3924360" y="4581360"/>
            <a:ext cx="1204920" cy="1360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неба падают снежинк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на сказочной картинк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ем их ловить рукам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потом покажем мам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8160" y="4124160"/>
            <a:ext cx="467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днимаем руки над головой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делаем хватательные движ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словно ловим снежинки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вокруг лежат сугр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ом замело дор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завязнуть в поле чт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нимаем выше н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96712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18320" y="4124160"/>
            <a:ext cx="417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тягиваем руки в стороны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ходьба на мест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колени высоко поднимаем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ех зверей она хитрей, 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убка рыжая на не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ышный хвост - её краса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зовут её ..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15560" y="4941720"/>
            <a:ext cx="1413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3708360" y="4221000"/>
            <a:ext cx="2691000" cy="20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 ходит по лесу, ищет мышей, зайце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4356000" y="1916280"/>
            <a:ext cx="4419720" cy="331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611280" y="33336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43160" cy="269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321012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9640" y="33336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лки зимой охотятся стаями и нападают на лося, каба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x_c3dc13c5"/>
          <p:cNvPicPr/>
          <p:nvPr/>
        </p:nvPicPr>
        <p:blipFill>
          <a:blip r:embed="rId1"/>
          <a:stretch/>
        </p:blipFill>
        <p:spPr>
          <a:xfrm>
            <a:off x="609480" y="2133720"/>
            <a:ext cx="4457880" cy="33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7" name="Picture 2" descr="Картинка 5 из 10556"/>
          <p:cNvPicPr/>
          <p:nvPr/>
        </p:nvPicPr>
        <p:blipFill>
          <a:blip r:embed="rId2"/>
          <a:stretch/>
        </p:blipFill>
        <p:spPr>
          <a:xfrm>
            <a:off x="5292720" y="2205000"/>
            <a:ext cx="3659040" cy="2745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3429000" cy="2143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Rectangle 2"/>
          <p:cNvSpPr/>
          <p:nvPr/>
        </p:nvSpPr>
        <p:spPr>
          <a:xfrm>
            <a:off x="826920" y="333360"/>
            <a:ext cx="77058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красивые Анимашки, анимационные картинки Волки бесплатно без регистрации без смс, анимированные картинки Волки"/>
          <p:cNvPicPr/>
          <p:nvPr/>
        </p:nvPicPr>
        <p:blipFill>
          <a:blip r:embed="rId1"/>
          <a:stretch/>
        </p:blipFill>
        <p:spPr>
          <a:xfrm>
            <a:off x="1908000" y="1413000"/>
            <a:ext cx="5088240" cy="5162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39640" y="8100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368280"/>
            <a:ext cx="81374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399600"/>
            <a:ext cx="648036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476360" y="620640"/>
            <a:ext cx="5761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орошо говори звук "С"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2205000"/>
            <a:ext cx="7272360" cy="28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97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32840" cy="5267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981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66120" cy="505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23080" cy="484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08360" cy="3058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6" name="Picture 6" descr="A207"/>
          <p:cNvPicPr/>
          <p:nvPr/>
        </p:nvPicPr>
        <p:blipFill>
          <a:blip r:embed="rId2"/>
          <a:stretch/>
        </p:blipFill>
        <p:spPr>
          <a:xfrm>
            <a:off x="4427640" y="3213000"/>
            <a:ext cx="4284720" cy="3213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7" name="Rectangle 7"/>
          <p:cNvSpPr/>
          <p:nvPr/>
        </p:nvSpPr>
        <p:spPr>
          <a:xfrm>
            <a:off x="1258920" y="260280"/>
            <a:ext cx="6624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Объект 1"/>
          <p:cNvSpPr/>
          <p:nvPr/>
        </p:nvSpPr>
        <p:spPr>
          <a:xfrm>
            <a:off x="539640" y="1700280"/>
            <a:ext cx="8064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9640" y="3290040"/>
            <a:ext cx="8064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user\Мои документы\Мои рисунки\sn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8"/>
          <p:cNvSpPr txBox="1"/>
          <p:nvPr/>
        </p:nvSpPr>
        <p:spPr>
          <a:xfrm>
            <a:off x="971640" y="1916280"/>
            <a:ext cx="721980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пасибо за урок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лодцы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Интернет- ресурсы</a:t>
            </a:r>
            <a:br>
              <a:rPr sz="18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Фон Олень в лесу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имний лес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Медведь в берлоге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арсу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Ёжи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http://ianimal.ru/wp-content/uploads/2011/05/belka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http://lara.gorod.tomsk.ru/posts-files/72/582/i/q49GXeZgzjc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http://img-fotki.yandex.ru/get/4115/102205733.4f/0_9941b_43e121c9_X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йцы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http://sarafanradio-kursk.ru/files/images/news/2013/12/05/38_2511722685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ось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http://oxothik.ru/userimages/0_c2c4_dd2315a5_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Кабан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http://mypets.kiev.ua/sites/default/files/admin/45_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http://www.zooclub.ru/attach/wild/154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с мышкой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http://img-fotki.yandex.ru/get/4411/128578942.0/0_73c55_748f30e3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охотится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http://belorechie.net/uploads/posts/2011-12/1324908405_ohot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http://img0.liveinternet.ru/images/attach/b/0/19572/19572862_15135032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http://www.fullhdoboi.ru/_ph/3/160331745.jpg?1414255348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Стая волков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https://lh3.googleusercontent.com/-g-xDxm13ipA/Uc8BEKqLMpI/AAAAAAAAD-Q/3p5fnMat0_0/s400/00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http://900igr.net/datai/priroda/4-Zima-v-stikhakh.files/0009-018-A-lisa-i-seryj-volk-te-v-okhote-znajut-tolk.gif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за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http://ic.pics.livejournal.com/sviridenkov/12934488/278613/278613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от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http://ic.pics.livejournal.com/sviridenkov/12934488/280777/280777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Олени в лесу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http://s011.radikal.ru/i315/1112/dc/2c5cb48e4597t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Подкормка животных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https://gov39.ru/images/news4/podkormka.jpg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826920" y="2205000"/>
            <a:ext cx="734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1620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00000" y="76932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wallpaper_8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540720" y="260280"/>
            <a:ext cx="81147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4720" y="476280"/>
            <a:ext cx="585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484360" y="2060640"/>
            <a:ext cx="4000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- серый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- белы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850120" y="4653000"/>
            <a:ext cx="13892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f_18229904"/>
          <p:cNvPicPr/>
          <p:nvPr/>
        </p:nvPicPr>
        <p:blipFill>
          <a:blip r:embed="rId1"/>
          <a:stretch/>
        </p:blipFill>
        <p:spPr>
          <a:xfrm>
            <a:off x="4572000" y="4005360"/>
            <a:ext cx="217656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%D1%84%D0%BE%D1%82%D0%BE"/>
          <p:cNvPicPr/>
          <p:nvPr/>
        </p:nvPicPr>
        <p:blipFill>
          <a:blip r:embed="rId1"/>
          <a:stretch/>
        </p:blipFill>
        <p:spPr>
          <a:xfrm>
            <a:off x="4427640" y="2492280"/>
            <a:ext cx="4419360" cy="344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4" name="Picture 5" descr="i?id=111478410-15-72&amp;n=21"/>
          <p:cNvPicPr/>
          <p:nvPr/>
        </p:nvPicPr>
        <p:blipFill>
          <a:blip r:embed="rId2"/>
          <a:stretch/>
        </p:blipFill>
        <p:spPr>
          <a:xfrm>
            <a:off x="539640" y="3860640"/>
            <a:ext cx="3657600" cy="255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2247840" cy="2266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42920" y="333360"/>
            <a:ext cx="69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f_18229904"/>
          <p:cNvPicPr/>
          <p:nvPr/>
        </p:nvPicPr>
        <p:blipFill>
          <a:blip r:embed="rId1"/>
          <a:stretch/>
        </p:blipFill>
        <p:spPr>
          <a:xfrm>
            <a:off x="4788000" y="2205000"/>
            <a:ext cx="4048200" cy="3718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0" name="Rectangle 2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имняя шерсть у зайца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устая и тёпл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8360" y="549360"/>
            <a:ext cx="822960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189320" cy="318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71640" y="2205000"/>
            <a:ext cx="715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по лесу гуля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в берлоге отдыхает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01360" y="4508640"/>
            <a:ext cx="24346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114800" cy="2855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пят в берлогах и норах медведи, барсуки, ежи, мыш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39640" y="404640"/>
            <a:ext cx="82296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330800" cy="3004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70440" cy="297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3002040" cy="2462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42:49Z</dcterms:created>
  <dc:creator>Кузнецова О.В.</dc:creator>
  <dc:description/>
  <dc:language>en-US</dc:language>
  <cp:lastModifiedBy>LEGION2</cp:lastModifiedBy>
  <dcterms:modified xsi:type="dcterms:W3CDTF">2015-04-24T10:30:58Z</dcterms:modified>
  <cp:revision>17</cp:revision>
  <dc:subject/>
  <dc:title>Жизнь зверей зимой</dc:title>
</cp:coreProperties>
</file>