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camera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29.png" ContentType="image/png"/>
  <Override PartName="/ppt/media/image31.png" ContentType="image/png"/>
  <Override PartName="/ppt/media/Whoosh.wav" ContentType="audio/x-wav"/>
  <Override PartName="/ppt/media/image42.png" ContentType="image/png"/>
  <Override PartName="/ppt/media/image4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9A30-1630-4E7F-B255-72BA12124F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3F26-D84E-4E3A-993F-DB153CFA243C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F0B5-BD94-442B-B063-BF71FA6677C6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ED7D-C36B-4743-A567-A6DA7DF78D46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9233-69D8-4DB7-987A-C8EDAA4731E8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7F38-C803-42EC-813B-802480482C90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8D60-F54F-4AF5-B191-24F4212CB386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40F7-568E-49FA-8A62-AF7C7F393EAE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12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A3C7-6F3E-4D2C-8FDC-2061DA0A0CB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2518-4BAB-401A-9A6D-B5A32F3AC128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7B42-A574-4344-8629-0831BB26EBD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3801-CBA8-481B-AF78-87FC3543FAC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ая 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2830-3FB3-40EE-AC13-9E88FA3FA2AC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4E1A-064C-443C-AF34-8FE2DF0EA37D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3F3D-C47F-4602-B8DD-9C1B19BAE1C5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спом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4D91-AF97-499F-BDBA-C1F50E756B27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то «лишний»</a:t>
            </a:r>
            <a:r>
              <a:rPr b="1" lang="en-US" sz="12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4436-0668-4931-B3C3-4C6AE4C10A0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справь ошиб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E49F-D0AB-47D1-8824-A8955F8284EE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C7B4-B757-4ECC-AE58-1C52CC068C4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ACB1-B695-4693-B01E-88A630F7017C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ие насекомые б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2BAC-8CAC-4478-B28C-67AD4CD6F469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4B9E-6FBE-4405-8F18-DBD9BD0AF7D4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9598-FACF-44BE-BC03-CC96EEF19BA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CB65-DAAD-47FF-A76A-6E62CEA99635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C1DA-88A4-4389-BB8D-764A15D1448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D8E-1851-4995-8630-155A2F03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790-A217-4337-9A5D-4971B8EC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0C2E-2926-4FD1-ABA5-821FEEF5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FC5-1151-44A7-AFA5-B90F1313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0B9-3DE7-4CC0-A07A-E1ADBA3F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C64-43EE-44CB-9851-9BBE738F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E2B-A15B-4213-B67A-70174368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BA5-3128-4E15-A9C9-41454188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E0F-85D1-433E-B384-C5D91D46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860-6A19-4697-87FF-478D65E9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073-BFA7-42DE-AB29-D54F1603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B57-43E0-4527-9B46-EDCA0532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AB0F-2112-4021-89B3-1B118B35FB4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971640" y="368280"/>
            <a:ext cx="72054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0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1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Окружающий мир</a:t>
            </a:r>
            <a:br>
              <a:rPr sz="7000"/>
            </a:br>
            <a:br>
              <a:rPr sz="7000"/>
            </a:b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Насекомые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2232000" y="1033560"/>
          <a:ext cx="5029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33560"/>
                    <a:ext cx="5029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носорог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2373480" y="982800"/>
            <a:ext cx="4397040" cy="4892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68400" y="367920"/>
            <a:ext cx="720576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6760" y="-359280"/>
            <a:ext cx="7205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узнечик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1150920" y="1268280"/>
          <a:ext cx="708660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268280"/>
                    <a:ext cx="708660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7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9880" y="-349560"/>
            <a:ext cx="72039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1"/>
          <a:stretch/>
        </p:blipFill>
        <p:spPr>
          <a:xfrm>
            <a:off x="1357200" y="1270080"/>
            <a:ext cx="6429600" cy="4316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5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2382840" y="993600"/>
            <a:ext cx="4290840" cy="4775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2"/>
          <p:cNvGraphicFramePr/>
          <p:nvPr/>
        </p:nvGraphicFramePr>
        <p:xfrm>
          <a:off x="2050920" y="1268280"/>
          <a:ext cx="579132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579132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3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13"/>
          <p:cNvGraphicFramePr/>
          <p:nvPr/>
        </p:nvGraphicFramePr>
        <p:xfrm>
          <a:off x="1562040" y="907920"/>
          <a:ext cx="6019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907920"/>
                    <a:ext cx="6019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16"/>
          <p:cNvSpPr/>
          <p:nvPr/>
        </p:nvSpPr>
        <p:spPr>
          <a:xfrm>
            <a:off x="304920" y="48006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3276720" y="57150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6781680" y="472428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6781680" y="579132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Line 21"/>
          <p:cNvSpPr/>
          <p:nvPr/>
        </p:nvSpPr>
        <p:spPr>
          <a:xfrm flipV="1">
            <a:off x="4572000" y="1989000"/>
            <a:ext cx="2438280" cy="411480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 flipH="1" flipV="1">
            <a:off x="3132000" y="4149720"/>
            <a:ext cx="1440000" cy="20145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1511280" y="2168640"/>
            <a:ext cx="3060720" cy="293688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 flipH="1" flipV="1">
            <a:off x="4572000" y="2529000"/>
            <a:ext cx="3060720" cy="25207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 flipV="1">
            <a:off x="2362320" y="3789360"/>
            <a:ext cx="2209680" cy="22161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Line 26"/>
          <p:cNvSpPr/>
          <p:nvPr/>
        </p:nvSpPr>
        <p:spPr>
          <a:xfrm flipH="1" flipV="1">
            <a:off x="5472000" y="1088640"/>
            <a:ext cx="1440000" cy="47703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Line 27"/>
          <p:cNvSpPr/>
          <p:nvPr/>
        </p:nvSpPr>
        <p:spPr>
          <a:xfrm flipH="1" flipV="1">
            <a:off x="3851280" y="1088640"/>
            <a:ext cx="3006720" cy="49309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380880" y="571500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04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7920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5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48920"/>
            <a:ext cx="720432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a50021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73560" y="2773440"/>
            <a:ext cx="344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585720" y="1336680"/>
          <a:ext cx="480708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1336680"/>
                    <a:ext cx="480708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6"/>
          <p:cNvGraphicFramePr/>
          <p:nvPr/>
        </p:nvGraphicFramePr>
        <p:xfrm>
          <a:off x="1509840" y="1407960"/>
          <a:ext cx="6064200" cy="35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407960"/>
                    <a:ext cx="606420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1449360" y="5673600"/>
            <a:ext cx="668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5"/>
          <p:cNvGraphicFramePr/>
          <p:nvPr/>
        </p:nvGraphicFramePr>
        <p:xfrm>
          <a:off x="2262240" y="1236600"/>
          <a:ext cx="4846680" cy="40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2240" y="1236600"/>
                    <a:ext cx="48466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92000" y="549000"/>
            <a:ext cx="7205760" cy="23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40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Живая природа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ff0000"/>
                </a:solidFill>
                <a:latin typeface="Times New Roman"/>
              </a:rPr>
              <a:t>растения</a:t>
            </a:r>
            <a:endParaRPr b="0" lang="en-US" sz="7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Rectangle 1028"/>
          <p:cNvSpPr/>
          <p:nvPr/>
        </p:nvSpPr>
        <p:spPr>
          <a:xfrm>
            <a:off x="4572000" y="54936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9900cc"/>
                </a:solidFill>
                <a:latin typeface="Times New Roman"/>
              </a:rPr>
              <a:t>животные</a:t>
            </a:r>
            <a:r>
              <a:rPr b="0" lang="ru-RU" sz="75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Rectangle 1029"/>
          <p:cNvSpPr/>
          <p:nvPr/>
        </p:nvSpPr>
        <p:spPr>
          <a:xfrm>
            <a:off x="228600" y="48690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ff0066"/>
                </a:solidFill>
                <a:latin typeface="Times New Roman"/>
              </a:rPr>
              <a:t>бактерии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Rectangle 1030"/>
          <p:cNvSpPr/>
          <p:nvPr/>
        </p:nvSpPr>
        <p:spPr>
          <a:xfrm>
            <a:off x="5292720" y="48690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006600"/>
                </a:solidFill>
                <a:latin typeface="Times New Roman"/>
              </a:rPr>
              <a:t>грибы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Line 1036"/>
          <p:cNvSpPr/>
          <p:nvPr/>
        </p:nvSpPr>
        <p:spPr>
          <a:xfrm flipH="1" flipV="1">
            <a:off x="2743200" y="1989000"/>
            <a:ext cx="18288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Line 1037"/>
          <p:cNvSpPr/>
          <p:nvPr/>
        </p:nvSpPr>
        <p:spPr>
          <a:xfrm flipV="1">
            <a:off x="4572000" y="1989000"/>
            <a:ext cx="16002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Line 1038"/>
          <p:cNvSpPr/>
          <p:nvPr/>
        </p:nvSpPr>
        <p:spPr>
          <a:xfrm>
            <a:off x="4572000" y="3789360"/>
            <a:ext cx="205740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Line 1039"/>
          <p:cNvSpPr/>
          <p:nvPr/>
        </p:nvSpPr>
        <p:spPr>
          <a:xfrm flipH="1">
            <a:off x="2590560" y="3789360"/>
            <a:ext cx="198108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1" name="Picture 1041" descr=""/>
          <p:cNvPicPr/>
          <p:nvPr/>
        </p:nvPicPr>
        <p:blipFill>
          <a:blip r:embed="rId2"/>
          <a:stretch/>
        </p:blipFill>
        <p:spPr>
          <a:xfrm>
            <a:off x="5111640" y="189000"/>
            <a:ext cx="3600720" cy="26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42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425680" cy="27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43" descr=""/>
          <p:cNvPicPr/>
          <p:nvPr/>
        </p:nvPicPr>
        <p:blipFill>
          <a:blip r:embed="rId4"/>
          <a:stretch/>
        </p:blipFill>
        <p:spPr>
          <a:xfrm>
            <a:off x="792000" y="3968640"/>
            <a:ext cx="3421080" cy="2552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2509920" y="824040"/>
          <a:ext cx="3828960" cy="47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824040"/>
                    <a:ext cx="3828960" cy="47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 rot="852600">
            <a:off x="3076560" y="728280"/>
            <a:ext cx="2989440" cy="2111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0" y="2333520"/>
            <a:ext cx="3451320" cy="2291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 rot="492600">
            <a:off x="3024360" y="432108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4"/>
          <a:stretch/>
        </p:blipFill>
        <p:spPr>
          <a:xfrm>
            <a:off x="6192720" y="2349360"/>
            <a:ext cx="2675160" cy="2519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5"/>
          <a:stretch/>
        </p:blipFill>
        <p:spPr>
          <a:xfrm rot="1174200">
            <a:off x="3806640" y="2521080"/>
            <a:ext cx="2046240" cy="20635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7"/>
          <p:cNvGraphicFramePr/>
          <p:nvPr/>
        </p:nvGraphicFramePr>
        <p:xfrm>
          <a:off x="806400" y="1274760"/>
          <a:ext cx="37656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274760"/>
                    <a:ext cx="37656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572000" y="1362240"/>
          <a:ext cx="3665520" cy="498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62240"/>
                    <a:ext cx="366552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4130640" y="2579760"/>
          <a:ext cx="952560" cy="12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0640" y="2579760"/>
                    <a:ext cx="95256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5"/>
          <p:cNvGraphicFramePr/>
          <p:nvPr/>
        </p:nvGraphicFramePr>
        <p:xfrm>
          <a:off x="4165560" y="3654360"/>
          <a:ext cx="849240" cy="288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65560" y="3654360"/>
                    <a:ext cx="8492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8"/>
          <p:cNvGraphicFramePr/>
          <p:nvPr/>
        </p:nvGraphicFramePr>
        <p:xfrm>
          <a:off x="4259160" y="2165400"/>
          <a:ext cx="69552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59160" y="2165400"/>
                    <a:ext cx="6955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9"/>
          <p:cNvGraphicFramePr/>
          <p:nvPr/>
        </p:nvGraphicFramePr>
        <p:xfrm>
          <a:off x="4572000" y="1449360"/>
          <a:ext cx="847800" cy="71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1449360"/>
                    <a:ext cx="8478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11"/>
          <p:cNvGraphicFramePr/>
          <p:nvPr/>
        </p:nvGraphicFramePr>
        <p:xfrm>
          <a:off x="3924360" y="1533600"/>
          <a:ext cx="647640" cy="71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4360" y="1533600"/>
                    <a:ext cx="647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3"/>
          <p:cNvGraphicFramePr/>
          <p:nvPr/>
        </p:nvGraphicFramePr>
        <p:xfrm>
          <a:off x="3222720" y="2743200"/>
          <a:ext cx="2762280" cy="202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22720" y="2743200"/>
                    <a:ext cx="276228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14"/>
          <p:cNvSpPr/>
          <p:nvPr/>
        </p:nvSpPr>
        <p:spPr>
          <a:xfrm>
            <a:off x="880920" y="368280"/>
            <a:ext cx="73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800080"/>
                </a:solidFill>
                <a:latin typeface="Arial"/>
              </a:rPr>
              <a:t>вспомним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Кто «лишний»</a:t>
            </a:r>
            <a:r>
              <a:rPr b="1" lang="en-US" sz="41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6" name="Object 9"/>
          <p:cNvGraphicFramePr/>
          <p:nvPr/>
        </p:nvGraphicFramePr>
        <p:xfrm>
          <a:off x="3311640" y="728640"/>
          <a:ext cx="194292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1640" y="728640"/>
                    <a:ext cx="194292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11" descr=""/>
          <p:cNvPicPr/>
          <p:nvPr/>
        </p:nvPicPr>
        <p:blipFill>
          <a:blip r:embed="rId3"/>
          <a:stretch/>
        </p:blipFill>
        <p:spPr>
          <a:xfrm>
            <a:off x="6372360" y="907920"/>
            <a:ext cx="2066760" cy="180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4"/>
          <a:stretch/>
        </p:blipFill>
        <p:spPr>
          <a:xfrm>
            <a:off x="611280" y="907920"/>
            <a:ext cx="2066760" cy="162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5"/>
          <a:stretch/>
        </p:blipFill>
        <p:spPr>
          <a:xfrm>
            <a:off x="3686040" y="2708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/>
          <p:cNvPicPr/>
          <p:nvPr/>
        </p:nvPicPr>
        <p:blipFill>
          <a:blip r:embed="rId6"/>
          <a:stretch/>
        </p:blipFill>
        <p:spPr>
          <a:xfrm>
            <a:off x="6551640" y="4329000"/>
            <a:ext cx="177156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Object 7"/>
          <p:cNvGraphicFramePr/>
          <p:nvPr/>
        </p:nvGraphicFramePr>
        <p:xfrm>
          <a:off x="3492360" y="4869000"/>
          <a:ext cx="2159280" cy="150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4869000"/>
                    <a:ext cx="2159280" cy="15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18"/>
          <p:cNvSpPr/>
          <p:nvPr/>
        </p:nvSpPr>
        <p:spPr>
          <a:xfrm>
            <a:off x="43164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2951280" y="907920"/>
            <a:ext cx="54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619272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3132000" y="270828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71640" y="540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3851280" y="558972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7993080" y="378936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9"/>
          <a:stretch/>
        </p:blipFill>
        <p:spPr>
          <a:xfrm>
            <a:off x="792000" y="4329000"/>
            <a:ext cx="1800360" cy="206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11841E-006 L 0.31493 -0.25555 E">
                                      <p:cBhvr>
                                        <p:cTn id="61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Исправь ошибку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rcRect l="8293" t="0" r="7272" b="0"/>
          <a:stretch/>
        </p:blipFill>
        <p:spPr>
          <a:xfrm rot="852600">
            <a:off x="431280" y="2373120"/>
            <a:ext cx="2524320" cy="2111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rcRect l="10442" t="0" r="11324" b="0"/>
          <a:stretch/>
        </p:blipFill>
        <p:spPr>
          <a:xfrm>
            <a:off x="3492360" y="1138320"/>
            <a:ext cx="2700360" cy="229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 rot="492600">
            <a:off x="6213600" y="230652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4"/>
          <a:stretch/>
        </p:blipFill>
        <p:spPr>
          <a:xfrm>
            <a:off x="3492360" y="4338720"/>
            <a:ext cx="2675160" cy="2519280"/>
          </a:xfrm>
          <a:prstGeom prst="rect">
            <a:avLst/>
          </a:prstGeom>
          <a:ln w="0">
            <a:noFill/>
          </a:ln>
        </p:spPr>
      </p:pic>
      <p:cxnSp>
        <p:nvCxnSpPr>
          <p:cNvPr id="238" name="AutoShape 12"/>
          <p:cNvCxnSpPr>
            <a:stCxn id="234" idx="0"/>
          </p:cNvCxnSpPr>
          <p:nvPr/>
        </p:nvCxnSpPr>
        <p:spPr>
          <a:xfrm flipH="1" flipV="1" rot="5400000">
            <a:off x="2386440" y="1373760"/>
            <a:ext cx="597600" cy="146592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9" name="AutoShape 13"/>
          <p:cNvCxnSpPr>
            <a:endCxn id="236" idx="0"/>
          </p:cNvCxnSpPr>
          <p:nvPr/>
        </p:nvCxnSpPr>
        <p:spPr>
          <a:xfrm>
            <a:off x="6372360" y="1449360"/>
            <a:ext cx="1465920" cy="86904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AutoShape 14"/>
          <p:cNvCxnSpPr>
            <a:stCxn id="236" idx="2"/>
            <a:endCxn id="237" idx="3"/>
          </p:cNvCxnSpPr>
          <p:nvPr/>
        </p:nvCxnSpPr>
        <p:spPr>
          <a:xfrm rot="5400000">
            <a:off x="6311520" y="4392720"/>
            <a:ext cx="1062720" cy="135108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1" name="AutoShape 15"/>
          <p:cNvCxnSpPr>
            <a:endCxn id="234" idx="2"/>
          </p:cNvCxnSpPr>
          <p:nvPr/>
        </p:nvCxnSpPr>
        <p:spPr>
          <a:xfrm rot="10800000">
            <a:off x="1432800" y="4450680"/>
            <a:ext cx="1880280" cy="95796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3469E-006 L 0.31476 -0.23613 E">
                                      <p:cBhvr>
                                        <p:cTn id="63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34135E-006 L 0.32622 -0.31591 E">
                                      <p:cBhvr>
                                        <p:cTn id="63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9 0.00024 L -0.32517 0.31522 E">
                                      <p:cBhvr>
                                        <p:cTn id="636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51 0.06915 L -0.40364 0.21948 E">
                                      <p:cBhvr>
                                        <p:cTn id="63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0099"/>
                </a:solidFill>
                <a:latin typeface="Times New Roman"/>
              </a:rPr>
              <a:t>животн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85800" y="609480"/>
            <a:ext cx="3352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шерстью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5111640" y="549360"/>
            <a:ext cx="3353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перьями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457200" y="4114800"/>
            <a:ext cx="3886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Тело покрыто скользкой чешуёй.</a:t>
            </a: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Text Box 35"/>
          <p:cNvSpPr/>
          <p:nvPr/>
        </p:nvSpPr>
        <p:spPr>
          <a:xfrm rot="16200000">
            <a:off x="628560" y="2545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0" name="Picture 40" descr=""/>
          <p:cNvPicPr/>
          <p:nvPr/>
        </p:nvPicPr>
        <p:blipFill>
          <a:blip r:embed="rId1"/>
          <a:stretch/>
        </p:blipFill>
        <p:spPr>
          <a:xfrm rot="20725800">
            <a:off x="1150920" y="367920"/>
            <a:ext cx="3029040" cy="306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7" descr=""/>
          <p:cNvPicPr/>
          <p:nvPr/>
        </p:nvPicPr>
        <p:blipFill>
          <a:blip r:embed="rId2"/>
          <a:stretch/>
        </p:blipFill>
        <p:spPr>
          <a:xfrm>
            <a:off x="4392720" y="189000"/>
            <a:ext cx="3960720" cy="271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8" descr=""/>
          <p:cNvPicPr/>
          <p:nvPr/>
        </p:nvPicPr>
        <p:blipFill>
          <a:blip r:embed="rId3"/>
          <a:stretch/>
        </p:blipFill>
        <p:spPr>
          <a:xfrm>
            <a:off x="1150920" y="3968640"/>
            <a:ext cx="3421080" cy="20685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1"/>
          <p:cNvSpPr txBox="1"/>
          <p:nvPr/>
        </p:nvSpPr>
        <p:spPr>
          <a:xfrm rot="5400000">
            <a:off x="-82944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ВЕ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4" name="WordArt 52"/>
          <p:cNvSpPr txBox="1"/>
          <p:nvPr/>
        </p:nvSpPr>
        <p:spPr>
          <a:xfrm rot="5400000">
            <a:off x="691272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Т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5" name="WordArt 53"/>
          <p:cNvSpPr txBox="1"/>
          <p:nvPr/>
        </p:nvSpPr>
        <p:spPr>
          <a:xfrm rot="5400000">
            <a:off x="-829440" y="468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Ы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6" name="Text Box 56"/>
          <p:cNvSpPr/>
          <p:nvPr/>
        </p:nvSpPr>
        <p:spPr>
          <a:xfrm>
            <a:off x="6012000" y="3968640"/>
            <a:ext cx="180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0000"/>
                </a:solidFill>
                <a:latin typeface="Tunga"/>
                <a:ea typeface="Tunga"/>
              </a:rPr>
              <a:t>?</a:t>
            </a:r>
            <a:endParaRPr b="0" lang="en-US" sz="2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Text Box 62"/>
          <p:cNvSpPr/>
          <p:nvPr/>
        </p:nvSpPr>
        <p:spPr>
          <a:xfrm>
            <a:off x="4392720" y="3789360"/>
            <a:ext cx="3894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Шесть лапок, есть 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WordArt 63"/>
          <p:cNvSpPr txBox="1"/>
          <p:nvPr/>
        </p:nvSpPr>
        <p:spPr>
          <a:xfrm>
            <a:off x="5111640" y="4508640"/>
            <a:ext cx="360072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9" name="WordArt 64"/>
          <p:cNvSpPr txBox="1"/>
          <p:nvPr/>
        </p:nvSpPr>
        <p:spPr>
          <a:xfrm rot="5400000">
            <a:off x="6913080" y="4508280"/>
            <a:ext cx="3060720" cy="90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0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"/>
          <p:cNvPicPr/>
          <p:nvPr/>
        </p:nvPicPr>
        <p:blipFill>
          <a:blip r:embed="rId1"/>
          <a:stretch/>
        </p:blipFill>
        <p:spPr>
          <a:xfrm>
            <a:off x="250920" y="368280"/>
            <a:ext cx="3149640" cy="26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189000"/>
            <a:ext cx="8353440" cy="5887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 rot="18424800">
            <a:off x="3733560" y="3366000"/>
            <a:ext cx="4284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00"/>
                </a:solidFill>
                <a:latin typeface="Arial"/>
              </a:rPr>
              <a:t>Энциклопедия</a:t>
            </a:r>
            <a:r>
              <a:rPr b="0" lang="ru-RU" sz="33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31640" y="1267920"/>
            <a:ext cx="63327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imes New Roman"/>
              </a:rPr>
              <a:t>насеком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431640" y="3100320"/>
            <a:ext cx="9417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31640" y="3968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31640" y="5589720"/>
            <a:ext cx="846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31640" y="4869000"/>
            <a:ext cx="900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73 0.22039 L -0.11424 -0.30528 E">
                                      <p:cBhvr>
                                        <p:cTn id="18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1 0.05551 L -0.28056 -0.39084 E">
                                      <p:cBhvr>
                                        <p:cTn id="18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2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" name="Picture 17" descr="e001"/>
          <p:cNvPicPr/>
          <p:nvPr/>
        </p:nvPicPr>
        <p:blipFill>
          <a:blip r:embed="rId1"/>
          <a:stretch/>
        </p:blipFill>
        <p:spPr>
          <a:xfrm>
            <a:off x="1150920" y="907920"/>
            <a:ext cx="7543800" cy="4632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7" name="Object 7"/>
          <p:cNvGraphicFramePr/>
          <p:nvPr/>
        </p:nvGraphicFramePr>
        <p:xfrm>
          <a:off x="2232000" y="728640"/>
          <a:ext cx="548640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728640"/>
                    <a:ext cx="548640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3" name="Object 8"/>
          <p:cNvGraphicFramePr/>
          <p:nvPr/>
        </p:nvGraphicFramePr>
        <p:xfrm>
          <a:off x="2209680" y="1066680"/>
          <a:ext cx="487692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066680"/>
                    <a:ext cx="48769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51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9" name="Picture 6" descr="e003"/>
          <p:cNvPicPr/>
          <p:nvPr/>
        </p:nvPicPr>
        <p:blipFill>
          <a:blip r:embed="rId1"/>
          <a:stretch/>
        </p:blipFill>
        <p:spPr>
          <a:xfrm>
            <a:off x="1692360" y="1089000"/>
            <a:ext cx="6781680" cy="4108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2232000" y="1089000"/>
          <a:ext cx="5815080" cy="46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89000"/>
                    <a:ext cx="581508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11"/>
          <p:cNvSpPr/>
          <p:nvPr/>
        </p:nvSpPr>
        <p:spPr>
          <a:xfrm>
            <a:off x="279072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5-04-24T11:28:04Z</dcterms:modified>
  <cp:revision>12</cp:revision>
  <dc:subject/>
  <dc:title>Окружающий мир  1 класс</dc:title>
</cp:coreProperties>
</file>