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Whoosh.wav" ContentType="audio/x-wav"/>
  <Override PartName="/ppt/media/image42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BBEA-6ECD-4E36-8E2C-9FBB0FC94D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8541-C911-4C1D-AFC5-B5B40F8E651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9F65-860E-4643-9606-4CEC4D03217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26C3-1AB1-433F-8945-800986B0199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E582-C769-43DB-9A42-375D041A56B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254C-80B7-43B2-94A3-293943F0395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AFA2-8C94-45B9-840B-2CB629B4AC9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649B-88B6-4C3B-82BA-778AD1D29FB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1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C11D-D85C-410B-ABFC-446AADC71BB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594A-A43F-4033-B908-51F351A6BDB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AECD-F4BA-4890-BEBC-A3B1569E15E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CDA-19BE-4ECB-8DFE-C20B06B972F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я 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A4E3-F22C-4C2A-9888-04BC7FDE8CD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FF49-EE1A-4C83-86F5-DC67A0D84FD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8E70-F809-484D-8171-F0EF2341046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спом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6EB0-ECD5-466B-9C2F-851301392CF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то «лишний»</a:t>
            </a:r>
            <a:r>
              <a:rPr b="1" lang="en-US" sz="12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8668-EE3C-4CD4-BC21-0C442F82EB9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равь ошиб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18AB-ABCA-4028-8402-19901905779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0CB8-2782-4D37-8C8F-9229F31AFB0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CD4-C2F6-44F8-97D1-EC46E168A72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ие насекомые б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8A7C-C417-4743-B1AA-F4FC33BC855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A352-591A-451C-84D9-48BA1F0CAB3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0C16-C1CC-4A30-9866-0C1BABFAD30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1F2F-31F0-457A-902C-729EF98D390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38AB-47DC-4BCB-BA57-7DA092F15A3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3EF-94B9-4367-96D3-9C2AE7C8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B77-FA02-4881-98E2-E03B79D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A02-4657-4B73-A818-C672ACAA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A04-8006-4E62-91D0-0F29E87F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AF6-3E7C-49FC-9470-899F4A43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BF1-5E2F-467C-BC40-63B5792E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B9A-2293-4B6D-BDBE-7E8CA5A7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605-E450-47DC-8A75-1224D429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E24-7970-437A-A1D6-EB0E1B28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56C-10D7-4953-9620-6876F4E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1DB-697F-436A-9EBC-3740AAC7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DFD-C803-4B59-AEA1-36753B3C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EEA2-3ADE-4EAC-8505-592D8E5B9D7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368280"/>
            <a:ext cx="7205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Окружающий мир</a:t>
            </a:r>
            <a:br>
              <a:rPr sz="7000"/>
            </a:br>
            <a:br>
              <a:rPr sz="7000"/>
            </a:b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Насекомые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232000" y="1033560"/>
          <a:ext cx="5029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33560"/>
                    <a:ext cx="5029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носорог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373480" y="982800"/>
            <a:ext cx="4397040" cy="489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8400" y="367920"/>
            <a:ext cx="720576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6760" y="-359280"/>
            <a:ext cx="7205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узнечик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50920" y="1268280"/>
          <a:ext cx="708660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268280"/>
                    <a:ext cx="70866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9880" y="-349560"/>
            <a:ext cx="7203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1357200" y="1270080"/>
            <a:ext cx="6429600" cy="43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2382840" y="993600"/>
            <a:ext cx="4290840" cy="4775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2050920" y="1268280"/>
          <a:ext cx="579132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7913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3"/>
          <p:cNvGraphicFramePr/>
          <p:nvPr/>
        </p:nvGraphicFramePr>
        <p:xfrm>
          <a:off x="1562040" y="907920"/>
          <a:ext cx="6019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907920"/>
                    <a:ext cx="6019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6"/>
          <p:cNvSpPr/>
          <p:nvPr/>
        </p:nvSpPr>
        <p:spPr>
          <a:xfrm>
            <a:off x="304920" y="48006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276720" y="57150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781680" y="472428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781680" y="579132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4572000" y="1989000"/>
            <a:ext cx="2438280" cy="4114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132000" y="4149720"/>
            <a:ext cx="1440000" cy="20145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1511280" y="2168640"/>
            <a:ext cx="3060720" cy="2936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4572000" y="2529000"/>
            <a:ext cx="3060720" cy="2520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 flipV="1">
            <a:off x="2362320" y="3789360"/>
            <a:ext cx="2209680" cy="22161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5472000" y="1088640"/>
            <a:ext cx="1440000" cy="4770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 flipV="1">
            <a:off x="3851280" y="1088640"/>
            <a:ext cx="3006720" cy="49309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380880" y="571500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7920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5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48920"/>
            <a:ext cx="72043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73560" y="2773440"/>
            <a:ext cx="34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585720" y="1336680"/>
          <a:ext cx="4807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336680"/>
                    <a:ext cx="4807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6"/>
          <p:cNvGraphicFramePr/>
          <p:nvPr/>
        </p:nvGraphicFramePr>
        <p:xfrm>
          <a:off x="1509840" y="1407960"/>
          <a:ext cx="606420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07960"/>
                    <a:ext cx="606420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449360" y="567360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2262240" y="1236600"/>
          <a:ext cx="484668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1236600"/>
                    <a:ext cx="48466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205760" cy="23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0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Живая природа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растения</a:t>
            </a:r>
            <a:endParaRPr b="0" lang="en-US" sz="7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Rectangle 1028"/>
          <p:cNvSpPr/>
          <p:nvPr/>
        </p:nvSpPr>
        <p:spPr>
          <a:xfrm>
            <a:off x="4572000" y="54936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9900cc"/>
                </a:solidFill>
                <a:latin typeface="Times New Roman"/>
              </a:rPr>
              <a:t>животные</a:t>
            </a:r>
            <a:r>
              <a:rPr b="0" lang="ru-RU" sz="75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228600" y="4869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ff0066"/>
                </a:solidFill>
                <a:latin typeface="Times New Roman"/>
              </a:rPr>
              <a:t>бактерии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529272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006600"/>
                </a:solidFill>
                <a:latin typeface="Times New Roman"/>
              </a:rPr>
              <a:t>грибы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Line 1036"/>
          <p:cNvSpPr/>
          <p:nvPr/>
        </p:nvSpPr>
        <p:spPr>
          <a:xfrm flipH="1" flipV="1">
            <a:off x="2743200" y="1989000"/>
            <a:ext cx="18288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Line 1037"/>
          <p:cNvSpPr/>
          <p:nvPr/>
        </p:nvSpPr>
        <p:spPr>
          <a:xfrm flipV="1">
            <a:off x="4572000" y="1989000"/>
            <a:ext cx="16002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Line 1038"/>
          <p:cNvSpPr/>
          <p:nvPr/>
        </p:nvSpPr>
        <p:spPr>
          <a:xfrm>
            <a:off x="4572000" y="3789360"/>
            <a:ext cx="205740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Line 1039"/>
          <p:cNvSpPr/>
          <p:nvPr/>
        </p:nvSpPr>
        <p:spPr>
          <a:xfrm flipH="1">
            <a:off x="2590560" y="3789360"/>
            <a:ext cx="198108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1041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2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256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3" descr=""/>
          <p:cNvPicPr/>
          <p:nvPr/>
        </p:nvPicPr>
        <p:blipFill>
          <a:blip r:embed="rId4"/>
          <a:stretch/>
        </p:blipFill>
        <p:spPr>
          <a:xfrm>
            <a:off x="792000" y="3968640"/>
            <a:ext cx="342108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2509920" y="824040"/>
          <a:ext cx="382896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824040"/>
                    <a:ext cx="38289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 rot="852600">
            <a:off x="3076560" y="728280"/>
            <a:ext cx="2989440" cy="211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0" y="2333520"/>
            <a:ext cx="3451320" cy="229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 rot="492600">
            <a:off x="3024360" y="432108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192720" y="2349360"/>
            <a:ext cx="26751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 rot="1174200">
            <a:off x="3806640" y="2521080"/>
            <a:ext cx="2046240" cy="20635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7"/>
          <p:cNvGraphicFramePr/>
          <p:nvPr/>
        </p:nvGraphicFramePr>
        <p:xfrm>
          <a:off x="806400" y="1274760"/>
          <a:ext cx="37656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74760"/>
                    <a:ext cx="37656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572000" y="1362240"/>
          <a:ext cx="3665520" cy="49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62240"/>
                    <a:ext cx="3665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4130640" y="2579760"/>
          <a:ext cx="95256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0640" y="2579760"/>
                    <a:ext cx="952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4165560" y="3654360"/>
          <a:ext cx="849240" cy="288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5560" y="3654360"/>
                    <a:ext cx="849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8"/>
          <p:cNvGraphicFramePr/>
          <p:nvPr/>
        </p:nvGraphicFramePr>
        <p:xfrm>
          <a:off x="4259160" y="2165400"/>
          <a:ext cx="6955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9160" y="2165400"/>
                    <a:ext cx="695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9"/>
          <p:cNvGraphicFramePr/>
          <p:nvPr/>
        </p:nvGraphicFramePr>
        <p:xfrm>
          <a:off x="4572000" y="1449360"/>
          <a:ext cx="84780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449360"/>
                    <a:ext cx="8478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924360" y="1533600"/>
          <a:ext cx="64764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533600"/>
                    <a:ext cx="647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222720" y="2743200"/>
          <a:ext cx="2762280" cy="20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2720" y="2743200"/>
                    <a:ext cx="2762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4"/>
          <p:cNvSpPr/>
          <p:nvPr/>
        </p:nvSpPr>
        <p:spPr>
          <a:xfrm>
            <a:off x="880920" y="36828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80"/>
                </a:solidFill>
                <a:latin typeface="Arial"/>
              </a:rPr>
              <a:t>вспомним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Кто «лишний»</a:t>
            </a:r>
            <a:r>
              <a:rPr b="1" lang="en-US" sz="41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3311640" y="728640"/>
          <a:ext cx="194292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728640"/>
                    <a:ext cx="19429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06676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66760" cy="16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5"/>
          <a:stretch/>
        </p:blipFill>
        <p:spPr>
          <a:xfrm>
            <a:off x="368604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6"/>
          <a:stretch/>
        </p:blipFill>
        <p:spPr>
          <a:xfrm>
            <a:off x="6551640" y="4329000"/>
            <a:ext cx="177156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7"/>
          <p:cNvGraphicFramePr/>
          <p:nvPr/>
        </p:nvGraphicFramePr>
        <p:xfrm>
          <a:off x="3492360" y="4869000"/>
          <a:ext cx="2159280" cy="15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869000"/>
                    <a:ext cx="215928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8"/>
          <p:cNvSpPr/>
          <p:nvPr/>
        </p:nvSpPr>
        <p:spPr>
          <a:xfrm>
            <a:off x="43164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951280" y="90792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19272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132000" y="27082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540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851280" y="558972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993080" y="3789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9"/>
          <a:stretch/>
        </p:blipFill>
        <p:spPr>
          <a:xfrm>
            <a:off x="792000" y="4329000"/>
            <a:ext cx="1800360" cy="206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1841E-006 L 0.31493 -0.25555 E">
                                      <p:cBhvr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Исправь ошибку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8293" t="0" r="7272" b="0"/>
          <a:stretch/>
        </p:blipFill>
        <p:spPr>
          <a:xfrm rot="852600">
            <a:off x="431280" y="2373120"/>
            <a:ext cx="2524320" cy="211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rcRect l="10442" t="0" r="11324" b="0"/>
          <a:stretch/>
        </p:blipFill>
        <p:spPr>
          <a:xfrm>
            <a:off x="3492360" y="1138320"/>
            <a:ext cx="27003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492600">
            <a:off x="6213600" y="230652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3492360" y="4338720"/>
            <a:ext cx="26751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12"/>
          <p:cNvCxnSpPr>
            <a:stCxn id="234" idx="0"/>
          </p:cNvCxnSpPr>
          <p:nvPr/>
        </p:nvCxnSpPr>
        <p:spPr>
          <a:xfrm flipH="1" flipV="1" rot="5400000">
            <a:off x="2386440" y="1373760"/>
            <a:ext cx="597600" cy="146592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AutoShape 13"/>
          <p:cNvCxnSpPr>
            <a:endCxn id="236" idx="0"/>
          </p:cNvCxnSpPr>
          <p:nvPr/>
        </p:nvCxnSpPr>
        <p:spPr>
          <a:xfrm>
            <a:off x="6372360" y="1449360"/>
            <a:ext cx="1465920" cy="86904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AutoShape 14"/>
          <p:cNvCxnSpPr>
            <a:stCxn id="236" idx="2"/>
            <a:endCxn id="237" idx="3"/>
          </p:cNvCxnSpPr>
          <p:nvPr/>
        </p:nvCxnSpPr>
        <p:spPr>
          <a:xfrm rot="5400000">
            <a:off x="6311520" y="4392720"/>
            <a:ext cx="1062720" cy="135108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AutoShape 15"/>
          <p:cNvCxnSpPr>
            <a:endCxn id="234" idx="2"/>
          </p:cNvCxnSpPr>
          <p:nvPr/>
        </p:nvCxnSpPr>
        <p:spPr>
          <a:xfrm rot="10800000">
            <a:off x="1432800" y="4450680"/>
            <a:ext cx="1880280" cy="95796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3469E-006 L 0.31476 -0.23613 E">
                                      <p:cBhvr>
                                        <p:cTn id="63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4135E-006 L 0.32622 -0.31591 E">
                                      <p:cBhvr>
                                        <p:cTn id="6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9 0.00024 L -0.32517 0.31522 E">
                                      <p:cBhvr>
                                        <p:cTn id="63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0.06915 L -0.40364 0.21948 E">
                                      <p:cBhvr>
                                        <p:cTn id="6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Times New Roman"/>
              </a:rPr>
              <a:t>животн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85800" y="609480"/>
            <a:ext cx="3352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шерстью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11640" y="549360"/>
            <a:ext cx="335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перьями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57200" y="4114800"/>
            <a:ext cx="3886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Тело покрыто скользкой чешуёй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 rot="16200000">
            <a:off x="628560" y="254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40" descr=""/>
          <p:cNvPicPr/>
          <p:nvPr/>
        </p:nvPicPr>
        <p:blipFill>
          <a:blip r:embed="rId1"/>
          <a:stretch/>
        </p:blipFill>
        <p:spPr>
          <a:xfrm rot="20725800">
            <a:off x="1150920" y="367920"/>
            <a:ext cx="3029040" cy="30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7" descr=""/>
          <p:cNvPicPr/>
          <p:nvPr/>
        </p:nvPicPr>
        <p:blipFill>
          <a:blip r:embed="rId2"/>
          <a:stretch/>
        </p:blipFill>
        <p:spPr>
          <a:xfrm>
            <a:off x="4392720" y="189000"/>
            <a:ext cx="3960720" cy="27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"/>
          <a:stretch/>
        </p:blipFill>
        <p:spPr>
          <a:xfrm>
            <a:off x="1150920" y="3968640"/>
            <a:ext cx="34210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1"/>
          <p:cNvSpPr txBox="1"/>
          <p:nvPr/>
        </p:nvSpPr>
        <p:spPr>
          <a:xfrm rot="5400000">
            <a:off x="-82944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В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4" name="WordArt 52"/>
          <p:cNvSpPr txBox="1"/>
          <p:nvPr/>
        </p:nvSpPr>
        <p:spPr>
          <a:xfrm rot="5400000">
            <a:off x="691272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53"/>
          <p:cNvSpPr txBox="1"/>
          <p:nvPr/>
        </p:nvSpPr>
        <p:spPr>
          <a:xfrm rot="5400000">
            <a:off x="-829440" y="468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6012000" y="3968640"/>
            <a:ext cx="180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Tunga"/>
                <a:ea typeface="Tunga"/>
              </a:rPr>
              <a:t>?</a:t>
            </a:r>
            <a:endParaRPr b="0" lang="en-US" sz="2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392720" y="3789360"/>
            <a:ext cx="389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Шесть лапок, есть 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5111640" y="4508640"/>
            <a:ext cx="360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 rot="5400000">
            <a:off x="6913080" y="4508280"/>
            <a:ext cx="3060720" cy="90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3149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89000"/>
            <a:ext cx="8353440" cy="588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 rot="18424800">
            <a:off x="3733560" y="3366000"/>
            <a:ext cx="4284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Arial"/>
              </a:rPr>
              <a:t>Энциклопедия</a:t>
            </a:r>
            <a:r>
              <a:rPr b="0" lang="ru-RU" sz="3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1640" y="1267920"/>
            <a:ext cx="6332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насеком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1640" y="3100320"/>
            <a:ext cx="941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31640" y="396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31640" y="5589720"/>
            <a:ext cx="846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31640" y="4869000"/>
            <a:ext cx="900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22039 L -0.11424 -0.30528 E">
                                      <p:cBhvr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5551 L -0.28056 -0.39084 E">
                                      <p:cBhvr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17" descr="e001"/>
          <p:cNvPicPr/>
          <p:nvPr/>
        </p:nvPicPr>
        <p:blipFill>
          <a:blip r:embed="rId1"/>
          <a:stretch/>
        </p:blipFill>
        <p:spPr>
          <a:xfrm>
            <a:off x="1150920" y="907920"/>
            <a:ext cx="7543800" cy="463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232000" y="728640"/>
          <a:ext cx="548640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728640"/>
                    <a:ext cx="5486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2209680" y="1066680"/>
          <a:ext cx="4876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4876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6" descr="e003"/>
          <p:cNvPicPr/>
          <p:nvPr/>
        </p:nvPicPr>
        <p:blipFill>
          <a:blip r:embed="rId1"/>
          <a:stretch/>
        </p:blipFill>
        <p:spPr>
          <a:xfrm>
            <a:off x="1692360" y="1089000"/>
            <a:ext cx="6781680" cy="4108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2232000" y="1089000"/>
          <a:ext cx="5815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89000"/>
                    <a:ext cx="5815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1"/>
          <p:cNvSpPr/>
          <p:nvPr/>
        </p:nvSpPr>
        <p:spPr>
          <a:xfrm>
            <a:off x="279072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5-04-24T11:28:04Z</dcterms:modified>
  <cp:revision>12</cp:revision>
  <dc:subject/>
  <dc:title>Окружающий мир  1 класс</dc:title>
</cp:coreProperties>
</file>