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camera.wav" ContentType="audio/x-wav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29.png" ContentType="image/png"/>
  <Override PartName="/ppt/media/image31.png" ContentType="image/png"/>
  <Override PartName="/ppt/media/Whoosh.wav" ContentType="audio/x-wav"/>
  <Override PartName="/ppt/media/image42.png" ContentType="image/png"/>
  <Override PartName="/ppt/media/image4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594D-FC92-454F-9DEB-C27E836C07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8B63-7D16-40E0-B7C1-2373DB8702F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BC12-BB6D-4782-9B9C-C71EF782F8A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8D5B-DA54-4FD7-A4D5-7A141C87AAB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B4BB-81EE-4743-A70F-1AE3B919E1D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4014-FAC8-42E0-A8A6-6CCEFCAF02FD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9088-2FC4-4CAE-8235-EAA900BE53F7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74BD-9B46-4D90-9C82-61D37036D7B8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12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E139-C171-46F6-8E71-87913D617A56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C8E7-6FDB-40CD-855A-37727F123E8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1D2A-8E9B-46E3-87EA-E07DC21AE9B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F76E-2AF7-4C3D-A7EB-00D945BDE5EE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вая 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3B3FC-C8AF-44A9-B8DE-82BF4502A87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82FC-910E-4D3A-B981-CAD93182C094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евращение бабо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5249-0465-4477-9D33-FECBFE256B20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спом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402A-2526-4B95-A711-47C7F2A633E2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то «лишний»</a:t>
            </a:r>
            <a:r>
              <a:rPr b="1" lang="en-US" sz="12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FD31-6563-405D-AE91-61A1F04E9A1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справь ошиб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7A22-75C5-4322-A7D0-FB8533EC9B8E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C50C-BDD3-4D9C-A647-A0B93A1B998A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насеком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A85D-6A97-407A-AC37-7BE3B4B28731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ие насекомые бы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7699-854F-4E18-A645-78ECBD9C8124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D304-3125-4B70-B366-01D57CDE2AD9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E2BF-8B35-4C57-B283-224963D2352C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9153-5ECF-4327-AAF2-2D84D3895C43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E9EC-01EE-4580-9A23-8BB1E2855DFB}" type="slidenum">
              <a:rPr b="0" lang="uk-UA" sz="12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3BC-0326-4AAA-B3D5-0AB2AA0FA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7D80-D9DA-40C1-9687-F84EA44A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02A9-7218-4ABC-AC0D-EC4C493D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F11-A612-4179-AD13-C92F2A85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91EA-3D92-4F7B-81C4-F02437BA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4EB-B30F-4500-8F75-FAA89E48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A16-2920-4DB8-B588-27C1093B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3964-5195-4DE1-91C0-0F82B9D9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25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405-4556-4280-B8C0-47E7EEA8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134-3764-47D2-8BB7-ECAD1590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849-36C6-42A5-9DF2-33B91605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0DF-CF8B-49E1-A15D-C5862761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4912-E068-4A12-9A84-A761D73C37C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971640" y="368280"/>
            <a:ext cx="72054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20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1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Окружающий мир</a:t>
            </a:r>
            <a:br>
              <a:rPr sz="7000"/>
            </a:br>
            <a:br>
              <a:rPr sz="7000"/>
            </a:br>
            <a:r>
              <a:rPr b="0" lang="ru-RU" sz="7000" spc="-1" strike="noStrike">
                <a:solidFill>
                  <a:srgbClr val="004c2b"/>
                </a:solidFill>
                <a:latin typeface="Times New Roman"/>
              </a:rPr>
              <a:t>Насекомые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олень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2232000" y="1033560"/>
          <a:ext cx="502920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33560"/>
                    <a:ext cx="502920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носорог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1"/>
          <a:stretch/>
        </p:blipFill>
        <p:spPr>
          <a:xfrm>
            <a:off x="2373480" y="982800"/>
            <a:ext cx="4397040" cy="4892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68400" y="367920"/>
            <a:ext cx="720576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96760" y="-359280"/>
            <a:ext cx="7205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узнечик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1150920" y="1268280"/>
          <a:ext cx="7086600" cy="430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1268280"/>
                    <a:ext cx="7086600" cy="43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7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29880" y="-349560"/>
            <a:ext cx="72039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Пчела 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1357200" y="1270080"/>
            <a:ext cx="6429600" cy="43164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5"/>
          <p:cNvSpPr/>
          <p:nvPr/>
        </p:nvSpPr>
        <p:spPr>
          <a:xfrm>
            <a:off x="6858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Жук-плавунец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3" name="Picture 10" descr=""/>
          <p:cNvPicPr/>
          <p:nvPr/>
        </p:nvPicPr>
        <p:blipFill>
          <a:blip r:embed="rId1"/>
          <a:stretch/>
        </p:blipFill>
        <p:spPr>
          <a:xfrm>
            <a:off x="2382840" y="993600"/>
            <a:ext cx="4290840" cy="4775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Object 2"/>
          <p:cNvGraphicFramePr/>
          <p:nvPr/>
        </p:nvGraphicFramePr>
        <p:xfrm>
          <a:off x="2050920" y="1268280"/>
          <a:ext cx="579132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268280"/>
                    <a:ext cx="579132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3"/>
          <p:cNvSpPr/>
          <p:nvPr/>
        </p:nvSpPr>
        <p:spPr>
          <a:xfrm>
            <a:off x="68580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981080" y="5715000"/>
            <a:ext cx="5105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Стрекоз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13"/>
          <p:cNvGraphicFramePr/>
          <p:nvPr/>
        </p:nvGraphicFramePr>
        <p:xfrm>
          <a:off x="1562040" y="907920"/>
          <a:ext cx="6019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907920"/>
                    <a:ext cx="6019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16"/>
          <p:cNvSpPr/>
          <p:nvPr/>
        </p:nvSpPr>
        <p:spPr>
          <a:xfrm>
            <a:off x="304920" y="48006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олова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3276720" y="5715000"/>
            <a:ext cx="2666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6781680" y="472428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Грудь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6781680" y="579132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Усики 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Line 21"/>
          <p:cNvSpPr/>
          <p:nvPr/>
        </p:nvSpPr>
        <p:spPr>
          <a:xfrm flipV="1">
            <a:off x="4572000" y="1989000"/>
            <a:ext cx="2438280" cy="411480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Line 22"/>
          <p:cNvSpPr/>
          <p:nvPr/>
        </p:nvSpPr>
        <p:spPr>
          <a:xfrm flipH="1" flipV="1">
            <a:off x="3132000" y="4149720"/>
            <a:ext cx="1440000" cy="20145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Line 23"/>
          <p:cNvSpPr/>
          <p:nvPr/>
        </p:nvSpPr>
        <p:spPr>
          <a:xfrm flipV="1">
            <a:off x="1511280" y="2168640"/>
            <a:ext cx="3060720" cy="293688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Line 24"/>
          <p:cNvSpPr/>
          <p:nvPr/>
        </p:nvSpPr>
        <p:spPr>
          <a:xfrm flipH="1" flipV="1">
            <a:off x="4572000" y="2529000"/>
            <a:ext cx="3060720" cy="25207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Line 25"/>
          <p:cNvSpPr/>
          <p:nvPr/>
        </p:nvSpPr>
        <p:spPr>
          <a:xfrm flipV="1">
            <a:off x="2362320" y="3789360"/>
            <a:ext cx="2209680" cy="22161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Line 26"/>
          <p:cNvSpPr/>
          <p:nvPr/>
        </p:nvSpPr>
        <p:spPr>
          <a:xfrm flipH="1" flipV="1">
            <a:off x="5472000" y="1088640"/>
            <a:ext cx="1440000" cy="477036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Line 27"/>
          <p:cNvSpPr/>
          <p:nvPr/>
        </p:nvSpPr>
        <p:spPr>
          <a:xfrm flipH="1" flipV="1">
            <a:off x="3851280" y="1088640"/>
            <a:ext cx="3006720" cy="4930920"/>
          </a:xfrm>
          <a:prstGeom prst="line">
            <a:avLst/>
          </a:prstGeom>
          <a:ln w="63360">
            <a:solidFill>
              <a:srgbClr val="ff33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Text Box 28"/>
          <p:cNvSpPr/>
          <p:nvPr/>
        </p:nvSpPr>
        <p:spPr>
          <a:xfrm>
            <a:off x="380880" y="5715000"/>
            <a:ext cx="266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рюшк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04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792000" y="368280"/>
            <a:ext cx="77724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Части</a:t>
            </a:r>
            <a:r>
              <a:rPr b="0" lang="ru-RU" sz="5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ru-RU" sz="5000" spc="-1" strike="noStrike">
                <a:solidFill>
                  <a:srgbClr val="00ff00"/>
                </a:solidFill>
                <a:latin typeface="Times New Roman"/>
              </a:rPr>
              <a:t>насекомого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920" y="448920"/>
            <a:ext cx="720432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a50021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173560" y="2773440"/>
            <a:ext cx="344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ЯЙЦО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585720" y="1336680"/>
          <a:ext cx="4807080" cy="50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1336680"/>
                    <a:ext cx="4807080" cy="50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6"/>
          <p:cNvGraphicFramePr/>
          <p:nvPr/>
        </p:nvGraphicFramePr>
        <p:xfrm>
          <a:off x="1509840" y="1407960"/>
          <a:ext cx="6064200" cy="35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9840" y="1407960"/>
                    <a:ext cx="6064200" cy="35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1449360" y="5673600"/>
            <a:ext cx="668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ГУСЕНИЦ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Object 5"/>
          <p:cNvGraphicFramePr/>
          <p:nvPr/>
        </p:nvGraphicFramePr>
        <p:xfrm>
          <a:off x="2262240" y="1236600"/>
          <a:ext cx="4846680" cy="402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2240" y="1236600"/>
                    <a:ext cx="4846680" cy="40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92000" y="549000"/>
            <a:ext cx="7205760" cy="23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КУКОЛ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40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270036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06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Живая природа</a:t>
            </a:r>
            <a:endParaRPr b="0" lang="en-US" sz="7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420372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ff0000"/>
                </a:solidFill>
                <a:latin typeface="Times New Roman"/>
              </a:rPr>
              <a:t>растения</a:t>
            </a:r>
            <a:endParaRPr b="0" lang="en-US" sz="75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Rectangle 1028"/>
          <p:cNvSpPr/>
          <p:nvPr/>
        </p:nvSpPr>
        <p:spPr>
          <a:xfrm>
            <a:off x="4572000" y="549360"/>
            <a:ext cx="4876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9900cc"/>
                </a:solidFill>
                <a:latin typeface="Times New Roman"/>
              </a:rPr>
              <a:t>животные</a:t>
            </a:r>
            <a:r>
              <a:rPr b="0" lang="ru-RU" sz="75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Rectangle 1029"/>
          <p:cNvSpPr/>
          <p:nvPr/>
        </p:nvSpPr>
        <p:spPr>
          <a:xfrm>
            <a:off x="228600" y="4869000"/>
            <a:ext cx="434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ff0066"/>
                </a:solidFill>
                <a:latin typeface="Times New Roman"/>
              </a:rPr>
              <a:t>бактерии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Rectangle 1030"/>
          <p:cNvSpPr/>
          <p:nvPr/>
        </p:nvSpPr>
        <p:spPr>
          <a:xfrm>
            <a:off x="5292720" y="48690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5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7500" spc="-1" strike="noStrike">
                <a:solidFill>
                  <a:srgbClr val="006600"/>
                </a:solidFill>
                <a:latin typeface="Times New Roman"/>
              </a:rPr>
              <a:t>грибы</a:t>
            </a:r>
            <a:endParaRPr b="0" lang="en-US" sz="7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Line 1036"/>
          <p:cNvSpPr/>
          <p:nvPr/>
        </p:nvSpPr>
        <p:spPr>
          <a:xfrm flipH="1" flipV="1">
            <a:off x="2743200" y="1989000"/>
            <a:ext cx="18288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Line 1037"/>
          <p:cNvSpPr/>
          <p:nvPr/>
        </p:nvSpPr>
        <p:spPr>
          <a:xfrm flipV="1">
            <a:off x="4572000" y="1989000"/>
            <a:ext cx="1600200" cy="106704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Line 1038"/>
          <p:cNvSpPr/>
          <p:nvPr/>
        </p:nvSpPr>
        <p:spPr>
          <a:xfrm>
            <a:off x="4572000" y="3789360"/>
            <a:ext cx="205740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Line 1039"/>
          <p:cNvSpPr/>
          <p:nvPr/>
        </p:nvSpPr>
        <p:spPr>
          <a:xfrm flipH="1">
            <a:off x="2590560" y="3789360"/>
            <a:ext cx="1981080" cy="914400"/>
          </a:xfrm>
          <a:prstGeom prst="line">
            <a:avLst/>
          </a:prstGeom>
          <a:ln w="507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1" name="Picture 1041" descr=""/>
          <p:cNvPicPr/>
          <p:nvPr/>
        </p:nvPicPr>
        <p:blipFill>
          <a:blip r:embed="rId2"/>
          <a:stretch/>
        </p:blipFill>
        <p:spPr>
          <a:xfrm>
            <a:off x="5111640" y="189000"/>
            <a:ext cx="3600720" cy="268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42" descr=""/>
          <p:cNvPicPr/>
          <p:nvPr/>
        </p:nvPicPr>
        <p:blipFill>
          <a:blip r:embed="rId3"/>
          <a:stretch/>
        </p:blipFill>
        <p:spPr>
          <a:xfrm>
            <a:off x="5651640" y="3789360"/>
            <a:ext cx="2425680" cy="2700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43" descr=""/>
          <p:cNvPicPr/>
          <p:nvPr/>
        </p:nvPicPr>
        <p:blipFill>
          <a:blip r:embed="rId4"/>
          <a:stretch/>
        </p:blipFill>
        <p:spPr>
          <a:xfrm>
            <a:off x="792000" y="3968640"/>
            <a:ext cx="3421080" cy="2552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28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8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5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2509920" y="824040"/>
          <a:ext cx="3828960" cy="47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920" y="824040"/>
                    <a:ext cx="382896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7"/>
          <p:cNvSpPr/>
          <p:nvPr/>
        </p:nvSpPr>
        <p:spPr>
          <a:xfrm>
            <a:off x="1263600" y="5232240"/>
            <a:ext cx="665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БАБОЧКА</a:t>
            </a:r>
            <a:r>
              <a:rPr b="0" lang="ru-RU" sz="8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Превращение бабочки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 rot="852600">
            <a:off x="3076560" y="728280"/>
            <a:ext cx="2989440" cy="2111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0" y="2333520"/>
            <a:ext cx="3451320" cy="2291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3"/>
          <a:stretch/>
        </p:blipFill>
        <p:spPr>
          <a:xfrm rot="492600">
            <a:off x="3024360" y="432108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4"/>
          <a:stretch/>
        </p:blipFill>
        <p:spPr>
          <a:xfrm>
            <a:off x="6192720" y="2349360"/>
            <a:ext cx="2675160" cy="2519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5"/>
          <a:stretch/>
        </p:blipFill>
        <p:spPr>
          <a:xfrm rot="1174200">
            <a:off x="3806640" y="2521080"/>
            <a:ext cx="2046240" cy="206352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5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7"/>
          <p:cNvGraphicFramePr/>
          <p:nvPr/>
        </p:nvGraphicFramePr>
        <p:xfrm>
          <a:off x="806400" y="1274760"/>
          <a:ext cx="3765600" cy="51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1274760"/>
                    <a:ext cx="37656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572000" y="1362240"/>
          <a:ext cx="3665520" cy="498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362240"/>
                    <a:ext cx="366552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4130640" y="2579760"/>
          <a:ext cx="952560" cy="120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30640" y="2579760"/>
                    <a:ext cx="952560" cy="12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5"/>
          <p:cNvGraphicFramePr/>
          <p:nvPr/>
        </p:nvGraphicFramePr>
        <p:xfrm>
          <a:off x="4165560" y="3654360"/>
          <a:ext cx="849240" cy="2884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65560" y="3654360"/>
                    <a:ext cx="84924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8"/>
          <p:cNvGraphicFramePr/>
          <p:nvPr/>
        </p:nvGraphicFramePr>
        <p:xfrm>
          <a:off x="4259160" y="2165400"/>
          <a:ext cx="69552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59160" y="2165400"/>
                    <a:ext cx="6955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9"/>
          <p:cNvGraphicFramePr/>
          <p:nvPr/>
        </p:nvGraphicFramePr>
        <p:xfrm>
          <a:off x="4572000" y="1449360"/>
          <a:ext cx="847800" cy="714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8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1449360"/>
                    <a:ext cx="8478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1"/>
          <p:cNvGraphicFramePr/>
          <p:nvPr/>
        </p:nvGraphicFramePr>
        <p:xfrm>
          <a:off x="3924360" y="1533600"/>
          <a:ext cx="647640" cy="714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0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1533600"/>
                    <a:ext cx="647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3222720" y="2743200"/>
          <a:ext cx="2762280" cy="202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22720" y="2743200"/>
                    <a:ext cx="276228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4"/>
          <p:cNvSpPr/>
          <p:nvPr/>
        </p:nvSpPr>
        <p:spPr>
          <a:xfrm>
            <a:off x="880920" y="368280"/>
            <a:ext cx="7380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800080"/>
                </a:solidFill>
                <a:latin typeface="Arial"/>
              </a:rPr>
              <a:t>вспомним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Кто «лишний»</a:t>
            </a:r>
            <a:r>
              <a:rPr b="1" lang="en-US" sz="4100" spc="-1" strike="noStrike">
                <a:solidFill>
                  <a:srgbClr val="800080"/>
                </a:solidFill>
                <a:latin typeface="Tunga"/>
                <a:ea typeface="Tunga"/>
              </a:rPr>
              <a:t>?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6" name="Object 9"/>
          <p:cNvGraphicFramePr/>
          <p:nvPr/>
        </p:nvGraphicFramePr>
        <p:xfrm>
          <a:off x="3311640" y="728640"/>
          <a:ext cx="194292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1640" y="728640"/>
                    <a:ext cx="194292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8" name="Picture 11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2066760" cy="1800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2" descr=""/>
          <p:cNvPicPr/>
          <p:nvPr/>
        </p:nvPicPr>
        <p:blipFill>
          <a:blip r:embed="rId4"/>
          <a:stretch/>
        </p:blipFill>
        <p:spPr>
          <a:xfrm>
            <a:off x="611280" y="907920"/>
            <a:ext cx="2066760" cy="162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3" descr=""/>
          <p:cNvPicPr/>
          <p:nvPr/>
        </p:nvPicPr>
        <p:blipFill>
          <a:blip r:embed="rId5"/>
          <a:stretch/>
        </p:blipFill>
        <p:spPr>
          <a:xfrm>
            <a:off x="3686040" y="2708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"/>
          <p:cNvPicPr/>
          <p:nvPr/>
        </p:nvPicPr>
        <p:blipFill>
          <a:blip r:embed="rId6"/>
          <a:stretch/>
        </p:blipFill>
        <p:spPr>
          <a:xfrm>
            <a:off x="6551640" y="4329000"/>
            <a:ext cx="1771560" cy="197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7"/>
          <p:cNvGraphicFramePr/>
          <p:nvPr/>
        </p:nvGraphicFramePr>
        <p:xfrm>
          <a:off x="3492360" y="4869000"/>
          <a:ext cx="2159280" cy="1506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4869000"/>
                    <a:ext cx="2159280" cy="15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18"/>
          <p:cNvSpPr/>
          <p:nvPr/>
        </p:nvSpPr>
        <p:spPr>
          <a:xfrm>
            <a:off x="43164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2951280" y="907920"/>
            <a:ext cx="54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6192720" y="216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3132000" y="270828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2771640" y="540864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3851280" y="558972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Text Box 25"/>
          <p:cNvSpPr/>
          <p:nvPr/>
        </p:nvSpPr>
        <p:spPr>
          <a:xfrm>
            <a:off x="7993080" y="3789360"/>
            <a:ext cx="54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1" name="Picture 15" descr=""/>
          <p:cNvPicPr/>
          <p:nvPr/>
        </p:nvPicPr>
        <p:blipFill>
          <a:blip r:embed="rId9"/>
          <a:stretch/>
        </p:blipFill>
        <p:spPr>
          <a:xfrm>
            <a:off x="792000" y="4329000"/>
            <a:ext cx="1800360" cy="206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11841E-006 L 0.31493 -0.25555 E">
                                      <p:cBhvr>
                                        <p:cTn id="610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2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2440" y="2444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800080"/>
                </a:solidFill>
                <a:latin typeface="Times New Roman"/>
              </a:rPr>
              <a:t>Исправь ошибку</a:t>
            </a:r>
            <a:endParaRPr b="0" lang="en-US" sz="41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rcRect l="8293" t="0" r="7272" b="0"/>
          <a:stretch/>
        </p:blipFill>
        <p:spPr>
          <a:xfrm rot="852600">
            <a:off x="431280" y="2373120"/>
            <a:ext cx="2524320" cy="21110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rcRect l="10442" t="0" r="11324" b="0"/>
          <a:stretch/>
        </p:blipFill>
        <p:spPr>
          <a:xfrm>
            <a:off x="3492360" y="1138320"/>
            <a:ext cx="2700360" cy="2290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3"/>
          <a:stretch/>
        </p:blipFill>
        <p:spPr>
          <a:xfrm rot="492600">
            <a:off x="6213600" y="2306520"/>
            <a:ext cx="2930400" cy="2243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4"/>
          <a:stretch/>
        </p:blipFill>
        <p:spPr>
          <a:xfrm>
            <a:off x="3492360" y="4338720"/>
            <a:ext cx="2675160" cy="2519280"/>
          </a:xfrm>
          <a:prstGeom prst="rect">
            <a:avLst/>
          </a:prstGeom>
          <a:ln w="0">
            <a:noFill/>
          </a:ln>
        </p:spPr>
      </p:pic>
      <p:cxnSp>
        <p:nvCxnSpPr>
          <p:cNvPr id="238" name="AutoShape 12"/>
          <p:cNvCxnSpPr>
            <a:stCxn id="234" idx="0"/>
          </p:cNvCxnSpPr>
          <p:nvPr/>
        </p:nvCxnSpPr>
        <p:spPr>
          <a:xfrm flipH="1" flipV="1" rot="5400000">
            <a:off x="2386440" y="1373760"/>
            <a:ext cx="597600" cy="146592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9" name="AutoShape 13"/>
          <p:cNvCxnSpPr>
            <a:endCxn id="236" idx="0"/>
          </p:cNvCxnSpPr>
          <p:nvPr/>
        </p:nvCxnSpPr>
        <p:spPr>
          <a:xfrm>
            <a:off x="6372360" y="1449360"/>
            <a:ext cx="1465920" cy="86904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0" name="AutoShape 14"/>
          <p:cNvCxnSpPr>
            <a:stCxn id="236" idx="2"/>
            <a:endCxn id="237" idx="3"/>
          </p:cNvCxnSpPr>
          <p:nvPr/>
        </p:nvCxnSpPr>
        <p:spPr>
          <a:xfrm rot="5400000">
            <a:off x="6311520" y="4392720"/>
            <a:ext cx="1062720" cy="135108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1" name="AutoShape 15"/>
          <p:cNvCxnSpPr>
            <a:endCxn id="234" idx="2"/>
          </p:cNvCxnSpPr>
          <p:nvPr/>
        </p:nvCxnSpPr>
        <p:spPr>
          <a:xfrm rot="10800000">
            <a:off x="1432800" y="4450680"/>
            <a:ext cx="1880280" cy="957960"/>
          </a:xfrm>
          <a:prstGeom prst="bentConnector2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3469E-006 L 0.31476 -0.23613 E">
                                      <p:cBhvr>
                                        <p:cTn id="632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34135E-006 L 0.32622 -0.31591 E">
                                      <p:cBhvr>
                                        <p:cTn id="63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59 0.00024 L -0.32517 0.31522 E">
                                      <p:cBhvr>
                                        <p:cTn id="636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51 0.06915 L -0.40364 0.21948 E">
                                      <p:cBhvr>
                                        <p:cTn id="63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990099"/>
                </a:solidFill>
                <a:latin typeface="Times New Roman"/>
              </a:rPr>
              <a:t>животн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685800" y="609480"/>
            <a:ext cx="3352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шерстью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5111640" y="549360"/>
            <a:ext cx="3353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Тело покрыто перьями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457200" y="4114800"/>
            <a:ext cx="3886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Times New Roman"/>
              </a:rPr>
              <a:t>Тело покрыто скользкой чешуёй.</a:t>
            </a:r>
            <a:endParaRPr b="0" lang="en-US" sz="45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Text Box 35"/>
          <p:cNvSpPr/>
          <p:nvPr/>
        </p:nvSpPr>
        <p:spPr>
          <a:xfrm rot="16200000">
            <a:off x="628560" y="2545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0" name="Picture 40" descr=""/>
          <p:cNvPicPr/>
          <p:nvPr/>
        </p:nvPicPr>
        <p:blipFill>
          <a:blip r:embed="rId1"/>
          <a:stretch/>
        </p:blipFill>
        <p:spPr>
          <a:xfrm rot="20725800">
            <a:off x="1150920" y="367920"/>
            <a:ext cx="3029040" cy="306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7" descr=""/>
          <p:cNvPicPr/>
          <p:nvPr/>
        </p:nvPicPr>
        <p:blipFill>
          <a:blip r:embed="rId2"/>
          <a:stretch/>
        </p:blipFill>
        <p:spPr>
          <a:xfrm>
            <a:off x="4392720" y="189000"/>
            <a:ext cx="3960720" cy="271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8" descr=""/>
          <p:cNvPicPr/>
          <p:nvPr/>
        </p:nvPicPr>
        <p:blipFill>
          <a:blip r:embed="rId3"/>
          <a:stretch/>
        </p:blipFill>
        <p:spPr>
          <a:xfrm>
            <a:off x="1150920" y="3968640"/>
            <a:ext cx="3421080" cy="2068560"/>
          </a:xfrm>
          <a:prstGeom prst="rect">
            <a:avLst/>
          </a:prstGeom>
          <a:ln w="0">
            <a:noFill/>
          </a:ln>
        </p:spPr>
      </p:pic>
      <p:sp>
        <p:nvSpPr>
          <p:cNvPr id="73" name="WordArt 51"/>
          <p:cNvSpPr txBox="1"/>
          <p:nvPr/>
        </p:nvSpPr>
        <p:spPr>
          <a:xfrm rot="5400000">
            <a:off x="-82944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ВЕР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4" name="WordArt 52"/>
          <p:cNvSpPr txBox="1"/>
          <p:nvPr/>
        </p:nvSpPr>
        <p:spPr>
          <a:xfrm rot="5400000">
            <a:off x="6912720" y="144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ТИЦ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5" name="WordArt 53"/>
          <p:cNvSpPr txBox="1"/>
          <p:nvPr/>
        </p:nvSpPr>
        <p:spPr>
          <a:xfrm rot="5400000">
            <a:off x="-829440" y="4688640"/>
            <a:ext cx="288144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РЫБ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76" name="Text Box 56"/>
          <p:cNvSpPr/>
          <p:nvPr/>
        </p:nvSpPr>
        <p:spPr>
          <a:xfrm>
            <a:off x="6012000" y="3968640"/>
            <a:ext cx="1800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0000"/>
                </a:solidFill>
                <a:latin typeface="Tunga"/>
                <a:ea typeface="Tunga"/>
              </a:rPr>
              <a:t>?</a:t>
            </a:r>
            <a:endParaRPr b="0" lang="en-US" sz="2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Text Box 62"/>
          <p:cNvSpPr/>
          <p:nvPr/>
        </p:nvSpPr>
        <p:spPr>
          <a:xfrm>
            <a:off x="4392720" y="3789360"/>
            <a:ext cx="3894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</a:rPr>
              <a:t>Шесть лапок, есть крылья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WordArt 63"/>
          <p:cNvSpPr txBox="1"/>
          <p:nvPr/>
        </p:nvSpPr>
        <p:spPr>
          <a:xfrm>
            <a:off x="5111640" y="4508640"/>
            <a:ext cx="3600720" cy="90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79" name="WordArt 64"/>
          <p:cNvSpPr txBox="1"/>
          <p:nvPr/>
        </p:nvSpPr>
        <p:spPr>
          <a:xfrm rot="5400000">
            <a:off x="6913080" y="4508280"/>
            <a:ext cx="3060720" cy="90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24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0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1" descr=""/>
          <p:cNvPicPr/>
          <p:nvPr/>
        </p:nvPicPr>
        <p:blipFill>
          <a:blip r:embed="rId1"/>
          <a:stretch/>
        </p:blipFill>
        <p:spPr>
          <a:xfrm>
            <a:off x="250920" y="368280"/>
            <a:ext cx="3149640" cy="2685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189000"/>
            <a:ext cx="8353440" cy="5887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0"/>
          <p:cNvSpPr/>
          <p:nvPr/>
        </p:nvSpPr>
        <p:spPr>
          <a:xfrm rot="18424800">
            <a:off x="3733560" y="3366000"/>
            <a:ext cx="4284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ffff00"/>
                </a:solidFill>
                <a:latin typeface="Arial"/>
              </a:rPr>
              <a:t>Энциклопедия</a:t>
            </a:r>
            <a:r>
              <a:rPr b="0" lang="ru-RU" sz="33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31640" y="1267920"/>
            <a:ext cx="63327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00"/>
                </a:solidFill>
                <a:latin typeface="Times New Roman"/>
              </a:rPr>
              <a:t>насекомые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431640" y="3100320"/>
            <a:ext cx="9417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0000"/>
                </a:solidFill>
                <a:latin typeface="Wingdings"/>
                <a:ea typeface="Wingdings"/>
              </a:rPr>
              <a:t></a:t>
            </a:r>
            <a:r>
              <a:rPr b="1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700" spc="-1" strike="noStrike">
                <a:solidFill>
                  <a:srgbClr val="ff0000"/>
                </a:solidFill>
                <a:latin typeface="Times New Roman"/>
              </a:rPr>
              <a:t>Почему насекомые так называются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31640" y="3968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Какие насекомые бывают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431640" y="5589720"/>
            <a:ext cx="846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8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800080"/>
                </a:solidFill>
                <a:latin typeface="Times New Roman"/>
              </a:rPr>
              <a:t>Как на свет появляются бабочки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31640" y="4869000"/>
            <a:ext cx="9001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ff00"/>
                </a:solidFill>
                <a:latin typeface="Wingdings"/>
                <a:ea typeface="Wingdings"/>
              </a:rPr>
              <a:t></a:t>
            </a:r>
            <a:r>
              <a:rPr b="0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3700" spc="-1" strike="noStrike">
                <a:solidFill>
                  <a:srgbClr val="00ff00"/>
                </a:solidFill>
                <a:latin typeface="Times New Roman"/>
              </a:rPr>
              <a:t>Из каких частей состоит насекомое?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73 0.22039 L -0.11424 -0.30528 E">
                                      <p:cBhvr>
                                        <p:cTn id="186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01 0.05551 L -0.28056 -0.39084 E">
                                      <p:cBhvr>
                                        <p:cTn id="188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3000" y="2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2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99"/>
                </a:solidFill>
                <a:latin typeface="Times New Roman"/>
              </a:rPr>
              <a:t>Бабочка-крапив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2" name="Picture 17" descr="e001"/>
          <p:cNvPicPr/>
          <p:nvPr/>
        </p:nvPicPr>
        <p:blipFill>
          <a:blip r:embed="rId1"/>
          <a:stretch/>
        </p:blipFill>
        <p:spPr>
          <a:xfrm>
            <a:off x="1150920" y="907920"/>
            <a:ext cx="7543800" cy="4632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5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абочка-капустниц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9548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97" name="Object 7"/>
          <p:cNvGraphicFramePr/>
          <p:nvPr/>
        </p:nvGraphicFramePr>
        <p:xfrm>
          <a:off x="2232000" y="728640"/>
          <a:ext cx="5486400" cy="49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728640"/>
                    <a:ext cx="5486400" cy="49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Водомер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3" name="Object 8"/>
          <p:cNvGraphicFramePr/>
          <p:nvPr/>
        </p:nvGraphicFramePr>
        <p:xfrm>
          <a:off x="2209680" y="1066680"/>
          <a:ext cx="487692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066680"/>
                    <a:ext cx="487692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51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1905120" y="579132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143000" y="5638680"/>
            <a:ext cx="6781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Муравей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9" name="Picture 6" descr="e003"/>
          <p:cNvPicPr/>
          <p:nvPr/>
        </p:nvPicPr>
        <p:blipFill>
          <a:blip r:embed="rId1"/>
          <a:stretch/>
        </p:blipFill>
        <p:spPr>
          <a:xfrm>
            <a:off x="1692360" y="1089000"/>
            <a:ext cx="6781680" cy="4108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96760" y="39024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1523880" y="5791320"/>
            <a:ext cx="6248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Times New Roman"/>
              </a:rPr>
              <a:t>Божья коровка</a:t>
            </a:r>
            <a:endParaRPr b="0" lang="en-US" sz="50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13" name="Object 9"/>
          <p:cNvGraphicFramePr/>
          <p:nvPr/>
        </p:nvGraphicFramePr>
        <p:xfrm>
          <a:off x="2232000" y="1089000"/>
          <a:ext cx="5815080" cy="46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1089000"/>
                    <a:ext cx="581508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11"/>
          <p:cNvSpPr/>
          <p:nvPr/>
        </p:nvSpPr>
        <p:spPr>
          <a:xfrm>
            <a:off x="2790720" y="594360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68400" y="549000"/>
            <a:ext cx="7205760" cy="25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Какие насекомые бываю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5-04-24T11:28:04Z</dcterms:modified>
  <cp:revision>12</cp:revision>
  <dc:subject/>
  <dc:title>Окружающий мир  1 класс</dc:title>
</cp:coreProperties>
</file>