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C97C-3333-44D2-9BC7-D3A55C93CDE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Голубева Лариса Анатольев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учитель начальных клас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МОУ «Гимназия № 85, г. Ом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B244-D417-46B5-8FCA-6AB773DFCE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Arial Black"/>
              </a:rPr>
              <a:t>Значение грибов в жизни растений, животных и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6607-9DC8-4EF1-96E1-58DB296F23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Arial Black"/>
              </a:rPr>
              <a:t>Строение гри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76C8-BFE6-43F5-8640-AE4BA8A017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Arial Black"/>
              </a:rPr>
              <a:t>Плесень - что эт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0E71-D002-443A-BF8A-63A2AF6FE0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Отгадайте загад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н в шляпке дремлет шоколад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а ножке белой, аккуратн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Солидной - крепкий как дуб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Хорош сей гриб для сушки, впрок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от гриб, похожий на воронк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Листвой укрылся прелой тонк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о знают дети наизусть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ред ними хрупкий белый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Днём у солнечного п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одилась грибов родн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чень дружные ребят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азывают их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3F8B-0ED6-4D7A-BBCD-18972EA794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504d"/>
                </a:solidFill>
                <a:latin typeface="Arial Black"/>
              </a:rPr>
              <a:t>Как правильно собирать гриб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 Black"/>
              </a:rPr>
              <a:t>Собирай только те грибы, которые хорошо знаеш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 Black"/>
              </a:rPr>
              <a:t>Не собирай старые и червивые гриб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 Black"/>
              </a:rPr>
              <a:t>Не собирай грибы возле шоссейных дорог и  в городских пар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 Black"/>
              </a:rPr>
              <a:t>Не вырывай грибы с комом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 Black"/>
              </a:rPr>
              <a:t>Не срывай съедобные грибы, если не хочешь их вз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 Black"/>
              </a:rPr>
              <a:t>Не откладывай на следующий день обработку свежих гриб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4EC6-A875-4B39-9E97-2F8B3B5824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 Black"/>
              </a:rPr>
              <a:t>Всякий гриб в руки берут, да не всякий гриб в кузов кладут</a:t>
            </a:r>
            <a:r>
              <a:rPr b="1" lang="en-US" sz="1200" spc="-1" strike="noStrike">
                <a:solidFill>
                  <a:srgbClr val="0000ff"/>
                </a:solidFill>
                <a:latin typeface="Arial Black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400" spc="-1" strike="noStrike">
                <a:solidFill>
                  <a:srgbClr val="c0504d"/>
                </a:solidFill>
                <a:latin typeface="Arial Black"/>
              </a:rPr>
              <a:t>Соберите съедобные грибы </a:t>
            </a:r>
            <a:br>
              <a:rPr sz="1400"/>
            </a:br>
            <a:r>
              <a:rPr b="1" lang="ru-RU" sz="1400" spc="-1" strike="noStrike">
                <a:solidFill>
                  <a:srgbClr val="c0504d"/>
                </a:solidFill>
                <a:latin typeface="Arial Black"/>
              </a:rPr>
              <a:t>в корзин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6EA3-454B-43E4-9872-B07BE791E5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Arial Black"/>
              </a:rPr>
              <a:t>Узнайте гриб по описанию</a:t>
            </a:r>
            <a:r>
              <a:rPr b="0" lang="en-US" sz="1200" spc="-1" strike="noStrike">
                <a:solidFill>
                  <a:srgbClr val="c0504d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У этих грибов шляпки самого разного цвета: и синие, и жёлтые, и фиолетовые. А название - од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Шляпки этих грибов похожи на опавшие осенние листья дерева, под которым они чаще встреча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B9AA-B325-4698-B7F1-63F8AC8451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рочитайте начало поговорки и подберите подходящее оконч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Arial Black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Arial Black"/>
              </a:rPr>
              <a:t>Не поклонясь до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Arial Black"/>
              </a:rPr>
              <a:t>Мухомор</a:t>
            </a:r>
            <a:r>
              <a:rPr b="1" lang="ru-RU" sz="1000" spc="-1" strike="noStrike">
                <a:solidFill>
                  <a:srgbClr val="1f497d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Arial Black"/>
              </a:rPr>
              <a:t>красе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олезай в куз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C9A4-8426-4AE4-900E-48B1ED6B3B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4DB6-BFD4-4094-9D51-61C74BE3B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6BF2-8381-4FE9-AC73-D2F841C1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A24D-CEDF-4C55-BF08-3F465B33F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90F0-119D-469E-9457-B0DD0BB86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B77A1-95A3-4A24-AD62-63551EDDD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3C851-D9D5-4E8F-BB29-9C13D8D2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9858-7BE7-4628-8370-CD7BEC1D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547D-DB60-42DE-8EE6-FBC18E08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76F9-FC52-4A00-AF06-DA1DD278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4827-8855-4336-A464-0E8144A7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B6A4-1229-4614-BCB7-32A75D01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6183-852E-4404-AD2C-A848F396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4F9A-5267-4DA5-9700-A98F4900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8F16-22CF-4798-9E14-5FAC6A10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3AD2D-7454-40A5-BFB6-7FABD03B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47B6A-D88A-4512-8A80-E7C51AE11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B4CA6-B7DB-441D-8964-F4D8EC112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02FA-69CB-4404-ACE5-413EF708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B6D1-E91F-4A8B-96BA-EF497FB5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AD48-047C-4184-881D-B9A41790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4CB0-60A0-4BDF-93F3-405B97A7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14C3-4C01-401E-BCB4-40C16E46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13D1-9273-451F-AADE-CF22EF0D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1C31-183D-46C7-BB39-036ED391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36E1-AB96-422E-BF94-07B582AD8E4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CA79-2B3A-4318-ABA9-D65E5281B4D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9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Голубева Лариса Анатольев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учитель начальных клас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МОУ «Гимназия № 85, г. Ом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2">
            <a:hlinkClick r:id="" action="ppaction://hlinkshowjump?jump=nextslide"/>
          </p:cNvPr>
          <p:cNvSpPr/>
          <p:nvPr/>
        </p:nvSpPr>
        <p:spPr>
          <a:xfrm>
            <a:off x="8028000" y="6237360"/>
            <a:ext cx="504720" cy="287280"/>
          </a:xfrm>
          <a:custGeom>
            <a:avLst/>
            <a:gdLst>
              <a:gd name="textAreaLeft" fmla="*/ 18360 w 504720"/>
              <a:gd name="textAreaRight" fmla="*/ 486360 w 504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28" h="21600">
                <a:moveTo>
                  <a:pt x="0" y="0"/>
                </a:moveTo>
                <a:lnTo>
                  <a:pt x="37928" y="0"/>
                </a:lnTo>
                <a:lnTo>
                  <a:pt x="37928" y="21600"/>
                </a:lnTo>
                <a:lnTo>
                  <a:pt x="0" y="21600"/>
                </a:lnTo>
                <a:close/>
              </a:path>
              <a:path fill="lightenLess" w="37928" h="21600">
                <a:moveTo>
                  <a:pt x="0" y="0"/>
                </a:moveTo>
                <a:lnTo>
                  <a:pt x="37928" y="0"/>
                </a:lnTo>
                <a:lnTo>
                  <a:pt x="36528" y="1400"/>
                </a:lnTo>
                <a:lnTo>
                  <a:pt x="1400" y="1400"/>
                </a:lnTo>
                <a:close/>
              </a:path>
              <a:path fill="darken" w="37928" h="21600">
                <a:moveTo>
                  <a:pt x="37928" y="0"/>
                </a:moveTo>
                <a:lnTo>
                  <a:pt x="37928" y="21600"/>
                </a:lnTo>
                <a:lnTo>
                  <a:pt x="36528" y="20200"/>
                </a:lnTo>
                <a:lnTo>
                  <a:pt x="36528" y="1400"/>
                </a:lnTo>
                <a:close/>
              </a:path>
              <a:path fill="darkenLess" w="37928" h="21600">
                <a:moveTo>
                  <a:pt x="37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28" y="20200"/>
                </a:lnTo>
                <a:close/>
              </a:path>
              <a:path fill="lighten" w="37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28" h="21600">
                <a:moveTo>
                  <a:pt x="11958" y="3794"/>
                </a:moveTo>
                <a:lnTo>
                  <a:pt x="25971" y="10800"/>
                </a:lnTo>
                <a:lnTo>
                  <a:pt x="11958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14"/>
          <p:cNvSpPr txBox="1"/>
          <p:nvPr/>
        </p:nvSpPr>
        <p:spPr>
          <a:xfrm>
            <a:off x="3276720" y="1557360"/>
            <a:ext cx="38876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Гриб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5"/>
          <p:cNvSpPr/>
          <p:nvPr/>
        </p:nvSpPr>
        <p:spPr>
          <a:xfrm>
            <a:off x="879480" y="423720"/>
            <a:ext cx="765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755640" y="549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Значение грибов в жизни растений, животных 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7">
            <a:hlinkClick r:id="" action="ppaction://hlinkshowjump?jump=previousslide"/>
          </p:cNvPr>
          <p:cNvSpPr/>
          <p:nvPr/>
        </p:nvSpPr>
        <p:spPr>
          <a:xfrm>
            <a:off x="1476360" y="6165720"/>
            <a:ext cx="574560" cy="358920"/>
          </a:xfrm>
          <a:custGeom>
            <a:avLst/>
            <a:gdLst>
              <a:gd name="textAreaLeft" fmla="*/ 23040 w 574560"/>
              <a:gd name="textAreaRight" fmla="*/ 551520 w 574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4564" h="21600">
                <a:moveTo>
                  <a:pt x="0" y="0"/>
                </a:moveTo>
                <a:lnTo>
                  <a:pt x="34564" y="0"/>
                </a:lnTo>
                <a:lnTo>
                  <a:pt x="34564" y="21600"/>
                </a:lnTo>
                <a:lnTo>
                  <a:pt x="0" y="21600"/>
                </a:lnTo>
                <a:close/>
              </a:path>
              <a:path fill="lightenLess" w="34564" h="21600">
                <a:moveTo>
                  <a:pt x="0" y="0"/>
                </a:moveTo>
                <a:lnTo>
                  <a:pt x="34564" y="0"/>
                </a:lnTo>
                <a:lnTo>
                  <a:pt x="33164" y="1400"/>
                </a:lnTo>
                <a:lnTo>
                  <a:pt x="1400" y="1400"/>
                </a:lnTo>
                <a:close/>
              </a:path>
              <a:path fill="darken" w="34564" h="21600">
                <a:moveTo>
                  <a:pt x="34564" y="0"/>
                </a:moveTo>
                <a:lnTo>
                  <a:pt x="34564" y="21600"/>
                </a:lnTo>
                <a:lnTo>
                  <a:pt x="33164" y="20200"/>
                </a:lnTo>
                <a:lnTo>
                  <a:pt x="33164" y="1400"/>
                </a:lnTo>
                <a:close/>
              </a:path>
              <a:path fill="darkenLess" w="34564" h="21600">
                <a:moveTo>
                  <a:pt x="34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4" y="20200"/>
                </a:lnTo>
                <a:close/>
              </a:path>
              <a:path fill="lighten" w="34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4" h="21600">
                <a:moveTo>
                  <a:pt x="10276" y="10800"/>
                </a:moveTo>
                <a:lnTo>
                  <a:pt x="24289" y="3794"/>
                </a:lnTo>
                <a:lnTo>
                  <a:pt x="24289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8">
            <a:hlinkClick r:id="" action="ppaction://hlinkshowjump?jump=firstslide"/>
          </p:cNvPr>
          <p:cNvSpPr/>
          <p:nvPr/>
        </p:nvSpPr>
        <p:spPr>
          <a:xfrm>
            <a:off x="8172360" y="6165720"/>
            <a:ext cx="646200" cy="358920"/>
          </a:xfrm>
          <a:custGeom>
            <a:avLst/>
            <a:gdLst>
              <a:gd name="textAreaLeft" fmla="*/ 23040 w 646200"/>
              <a:gd name="textAreaRight" fmla="*/ 623160 w 6462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8871" h="21600">
                <a:moveTo>
                  <a:pt x="0" y="0"/>
                </a:moveTo>
                <a:lnTo>
                  <a:pt x="38871" y="0"/>
                </a:lnTo>
                <a:lnTo>
                  <a:pt x="38871" y="21600"/>
                </a:lnTo>
                <a:lnTo>
                  <a:pt x="0" y="21600"/>
                </a:lnTo>
                <a:close/>
              </a:path>
              <a:path fill="lightenLess" w="38871" h="21600">
                <a:moveTo>
                  <a:pt x="0" y="0"/>
                </a:moveTo>
                <a:lnTo>
                  <a:pt x="38871" y="0"/>
                </a:lnTo>
                <a:lnTo>
                  <a:pt x="37471" y="1400"/>
                </a:lnTo>
                <a:lnTo>
                  <a:pt x="1400" y="1400"/>
                </a:lnTo>
                <a:close/>
              </a:path>
              <a:path fill="darken" w="38871" h="21600">
                <a:moveTo>
                  <a:pt x="38871" y="0"/>
                </a:moveTo>
                <a:lnTo>
                  <a:pt x="38871" y="21600"/>
                </a:lnTo>
                <a:lnTo>
                  <a:pt x="37471" y="20200"/>
                </a:lnTo>
                <a:lnTo>
                  <a:pt x="37471" y="1400"/>
                </a:lnTo>
                <a:close/>
              </a:path>
              <a:path fill="darkenLess" w="38871" h="21600">
                <a:moveTo>
                  <a:pt x="388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1" y="20200"/>
                </a:lnTo>
                <a:close/>
              </a:path>
              <a:path fill="lighten" w="388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1" h="21600">
                <a:moveTo>
                  <a:pt x="15937" y="10800"/>
                </a:moveTo>
                <a:lnTo>
                  <a:pt x="26442" y="3794"/>
                </a:lnTo>
                <a:lnTo>
                  <a:pt x="26442" y="17806"/>
                </a:lnTo>
                <a:close/>
              </a:path>
              <a:path fill="darken" w="38871" h="21600">
                <a:moveTo>
                  <a:pt x="12429" y="3794"/>
                </a:moveTo>
                <a:lnTo>
                  <a:pt x="14092" y="3794"/>
                </a:lnTo>
                <a:lnTo>
                  <a:pt x="14092" y="17806"/>
                </a:lnTo>
                <a:lnTo>
                  <a:pt x="12429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ролик 2 №227-944-165.wmv" descr=""/>
          <p:cNvPicPr/>
          <p:nvPr/>
        </p:nvPicPr>
        <p:blipFill>
          <a:blip r:embed="rId1"/>
          <a:stretch/>
        </p:blipFill>
        <p:spPr>
          <a:xfrm>
            <a:off x="2124000" y="141300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298" name="1_2.wmv" descr=""/>
          <p:cNvPicPr/>
          <p:nvPr/>
        </p:nvPicPr>
        <p:blipFill>
          <a:blip r:embed="rId2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29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2" dur="183532" fill="hold"/>
                                        <p:tgtEl>
                                          <p:spTgt spid="2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404" nodeType="clickEffect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7" dur="1" fill="hold"/>
                                        <p:tgtEl>
                                          <p:spTgt spid="2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олик1 № 227-944-165.wmv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7650360" cy="57387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22"/>
          <p:cNvSpPr/>
          <p:nvPr/>
        </p:nvSpPr>
        <p:spPr>
          <a:xfrm>
            <a:off x="6372360" y="6308640"/>
            <a:ext cx="27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31">
            <a:hlinkClick r:id="" action="ppaction://hlinkshowjump?jump=nextslide"/>
          </p:cNvPr>
          <p:cNvSpPr/>
          <p:nvPr/>
        </p:nvSpPr>
        <p:spPr>
          <a:xfrm>
            <a:off x="8244000" y="6308640"/>
            <a:ext cx="395280" cy="360360"/>
          </a:xfrm>
          <a:custGeom>
            <a:avLst/>
            <a:gdLst>
              <a:gd name="textAreaLeft" fmla="*/ 23040 w 395280"/>
              <a:gd name="textAreaRight" fmla="*/ 372240 w 395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3691" h="21600">
                <a:moveTo>
                  <a:pt x="0" y="0"/>
                </a:moveTo>
                <a:lnTo>
                  <a:pt x="23691" y="0"/>
                </a:lnTo>
                <a:lnTo>
                  <a:pt x="23691" y="21600"/>
                </a:lnTo>
                <a:lnTo>
                  <a:pt x="0" y="21600"/>
                </a:lnTo>
                <a:close/>
              </a:path>
              <a:path fill="lightenLess" w="23691" h="21600">
                <a:moveTo>
                  <a:pt x="0" y="0"/>
                </a:moveTo>
                <a:lnTo>
                  <a:pt x="23691" y="0"/>
                </a:lnTo>
                <a:lnTo>
                  <a:pt x="22291" y="1400"/>
                </a:lnTo>
                <a:lnTo>
                  <a:pt x="1400" y="1400"/>
                </a:lnTo>
                <a:close/>
              </a:path>
              <a:path fill="darken" w="23691" h="21600">
                <a:moveTo>
                  <a:pt x="23691" y="0"/>
                </a:moveTo>
                <a:lnTo>
                  <a:pt x="23691" y="21600"/>
                </a:lnTo>
                <a:lnTo>
                  <a:pt x="22291" y="20200"/>
                </a:lnTo>
                <a:lnTo>
                  <a:pt x="22291" y="1400"/>
                </a:lnTo>
                <a:close/>
              </a:path>
              <a:path fill="darkenLess" w="23691" h="21600">
                <a:moveTo>
                  <a:pt x="236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91" y="20200"/>
                </a:lnTo>
                <a:close/>
              </a:path>
              <a:path fill="lighten" w="236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91" h="21600">
                <a:moveTo>
                  <a:pt x="4839" y="3794"/>
                </a:moveTo>
                <a:lnTo>
                  <a:pt x="18852" y="10800"/>
                </a:lnTo>
                <a:lnTo>
                  <a:pt x="4839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3">
            <a:hlinkClick r:id="" action="ppaction://hlinkshowjump?jump=previousslide"/>
          </p:cNvPr>
          <p:cNvSpPr/>
          <p:nvPr/>
        </p:nvSpPr>
        <p:spPr>
          <a:xfrm>
            <a:off x="1403280" y="6308640"/>
            <a:ext cx="432000" cy="33336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7984" h="21600">
                <a:moveTo>
                  <a:pt x="0" y="0"/>
                </a:moveTo>
                <a:lnTo>
                  <a:pt x="27984" y="0"/>
                </a:lnTo>
                <a:lnTo>
                  <a:pt x="27984" y="21600"/>
                </a:lnTo>
                <a:lnTo>
                  <a:pt x="0" y="21600"/>
                </a:lnTo>
                <a:close/>
              </a:path>
              <a:path fill="lightenLess" w="27984" h="21600">
                <a:moveTo>
                  <a:pt x="0" y="0"/>
                </a:moveTo>
                <a:lnTo>
                  <a:pt x="27984" y="0"/>
                </a:lnTo>
                <a:lnTo>
                  <a:pt x="26584" y="1400"/>
                </a:lnTo>
                <a:lnTo>
                  <a:pt x="1400" y="1400"/>
                </a:lnTo>
                <a:close/>
              </a:path>
              <a:path fill="darken" w="27984" h="21600">
                <a:moveTo>
                  <a:pt x="27984" y="0"/>
                </a:moveTo>
                <a:lnTo>
                  <a:pt x="27984" y="21600"/>
                </a:lnTo>
                <a:lnTo>
                  <a:pt x="26584" y="20200"/>
                </a:lnTo>
                <a:lnTo>
                  <a:pt x="26584" y="1400"/>
                </a:lnTo>
                <a:close/>
              </a:path>
              <a:path fill="darkenLess" w="27984" h="21600">
                <a:moveTo>
                  <a:pt x="279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84" y="20200"/>
                </a:lnTo>
                <a:close/>
              </a:path>
              <a:path fill="lighten" w="279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84" h="21600">
                <a:moveTo>
                  <a:pt x="6986" y="10800"/>
                </a:moveTo>
                <a:lnTo>
                  <a:pt x="20999" y="3794"/>
                </a:lnTo>
                <a:lnTo>
                  <a:pt x="20999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1_1.wmv" descr=""/>
          <p:cNvPicPr/>
          <p:nvPr/>
        </p:nvPicPr>
        <p:blipFill>
          <a:blip r:embed="rId2"/>
          <a:stretch/>
        </p:blipFill>
        <p:spPr>
          <a:xfrm>
            <a:off x="5321160" y="3941640"/>
            <a:ext cx="2919600" cy="218916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5032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0" descr=""/>
          <p:cNvPicPr/>
          <p:nvPr/>
        </p:nvPicPr>
        <p:blipFill>
          <a:blip r:embed="rId1"/>
          <a:stretch/>
        </p:blipFill>
        <p:spPr>
          <a:xfrm>
            <a:off x="684360" y="4581360"/>
            <a:ext cx="2879640" cy="15145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19280" y="25992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Arial Black"/>
              </a:rPr>
              <a:t>Строение гриб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8" name="Picture 4" descr="016-10"/>
          <p:cNvPicPr/>
          <p:nvPr/>
        </p:nvPicPr>
        <p:blipFill>
          <a:blip r:embed="rId2"/>
          <a:stretch/>
        </p:blipFill>
        <p:spPr>
          <a:xfrm>
            <a:off x="755640" y="1341360"/>
            <a:ext cx="2773440" cy="3600360"/>
          </a:xfrm>
          <a:prstGeom prst="rect">
            <a:avLst/>
          </a:prstGeom>
          <a:ln w="0">
            <a:noFill/>
          </a:ln>
        </p:spPr>
      </p:pic>
      <p:sp>
        <p:nvSpPr>
          <p:cNvPr id="119" name="Line 8"/>
          <p:cNvSpPr/>
          <p:nvPr/>
        </p:nvSpPr>
        <p:spPr>
          <a:xfrm flipH="1">
            <a:off x="2843280" y="2276640"/>
            <a:ext cx="1944720" cy="71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7288200" y="1217520"/>
            <a:ext cx="146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2"/>
          <p:cNvSpPr/>
          <p:nvPr/>
        </p:nvSpPr>
        <p:spPr>
          <a:xfrm flipH="1">
            <a:off x="2340000" y="3716280"/>
            <a:ext cx="2448000" cy="289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4"/>
          <p:cNvSpPr/>
          <p:nvPr/>
        </p:nvSpPr>
        <p:spPr>
          <a:xfrm>
            <a:off x="5796000" y="1700280"/>
            <a:ext cx="287280" cy="2879640"/>
          </a:xfrm>
          <a:custGeom>
            <a:avLst/>
            <a:gdLst>
              <a:gd name="textAreaLeft" fmla="*/ 0 w 287280"/>
              <a:gd name="textAreaRight" fmla="*/ 201600 w 287280"/>
              <a:gd name="textAreaTop" fmla="*/ 119880 h 2879640"/>
              <a:gd name="textAreaBottom" fmla="*/ 2759760 h 28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3851280" y="1628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 Black"/>
              </a:rPr>
              <a:t>шляп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3780000" y="310824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 Black"/>
              </a:rPr>
              <a:t>пенё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6300720" y="2637000"/>
            <a:ext cx="26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 Black"/>
              </a:rPr>
              <a:t>плодовое</a:t>
            </a:r>
            <a:r>
              <a:rPr b="0" lang="ru-RU" sz="3600" spc="-1" strike="noStrike">
                <a:solidFill>
                  <a:srgbClr val="b2b2b2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990033"/>
                </a:solidFill>
                <a:latin typeface="Arial Black"/>
              </a:rPr>
              <a:t>те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9"/>
          <p:cNvSpPr/>
          <p:nvPr/>
        </p:nvSpPr>
        <p:spPr>
          <a:xfrm flipH="1" flipV="1">
            <a:off x="2843280" y="5084640"/>
            <a:ext cx="2233440" cy="649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0"/>
          <p:cNvSpPr/>
          <p:nvPr/>
        </p:nvSpPr>
        <p:spPr>
          <a:xfrm>
            <a:off x="3492360" y="573408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 Black"/>
              </a:rPr>
              <a:t>грибн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1">
            <a:hlinkClick r:id="" action="ppaction://hlinkshowjump?jump=nextslide"/>
          </p:cNvPr>
          <p:cNvSpPr/>
          <p:nvPr/>
        </p:nvSpPr>
        <p:spPr>
          <a:xfrm>
            <a:off x="8101080" y="6093000"/>
            <a:ext cx="792000" cy="43164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18" h="21600">
                <a:moveTo>
                  <a:pt x="0" y="0"/>
                </a:moveTo>
                <a:lnTo>
                  <a:pt x="39618" y="0"/>
                </a:lnTo>
                <a:lnTo>
                  <a:pt x="39618" y="21600"/>
                </a:lnTo>
                <a:lnTo>
                  <a:pt x="0" y="21600"/>
                </a:lnTo>
                <a:close/>
              </a:path>
              <a:path fill="lightenLess" w="39618" h="21600">
                <a:moveTo>
                  <a:pt x="0" y="0"/>
                </a:moveTo>
                <a:lnTo>
                  <a:pt x="39618" y="0"/>
                </a:lnTo>
                <a:lnTo>
                  <a:pt x="38218" y="1400"/>
                </a:lnTo>
                <a:lnTo>
                  <a:pt x="1400" y="1400"/>
                </a:lnTo>
                <a:close/>
              </a:path>
              <a:path fill="darken" w="39618" h="21600">
                <a:moveTo>
                  <a:pt x="39618" y="0"/>
                </a:moveTo>
                <a:lnTo>
                  <a:pt x="39618" y="21600"/>
                </a:lnTo>
                <a:lnTo>
                  <a:pt x="38218" y="20200"/>
                </a:lnTo>
                <a:lnTo>
                  <a:pt x="38218" y="1400"/>
                </a:lnTo>
                <a:close/>
              </a:path>
              <a:path fill="darkenLess" w="39618" h="21600">
                <a:moveTo>
                  <a:pt x="39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8" y="20200"/>
                </a:lnTo>
                <a:close/>
              </a:path>
              <a:path fill="lighten" w="39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8" h="21600">
                <a:moveTo>
                  <a:pt x="12803" y="3794"/>
                </a:moveTo>
                <a:lnTo>
                  <a:pt x="26815" y="10800"/>
                </a:lnTo>
                <a:lnTo>
                  <a:pt x="12803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52"/>
          <p:cNvSpPr/>
          <p:nvPr/>
        </p:nvSpPr>
        <p:spPr>
          <a:xfrm>
            <a:off x="3851280" y="1700280"/>
            <a:ext cx="2089080" cy="5763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53"/>
          <p:cNvSpPr/>
          <p:nvPr/>
        </p:nvSpPr>
        <p:spPr>
          <a:xfrm>
            <a:off x="3780000" y="3068640"/>
            <a:ext cx="1871640" cy="6476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54"/>
          <p:cNvSpPr/>
          <p:nvPr/>
        </p:nvSpPr>
        <p:spPr>
          <a:xfrm>
            <a:off x="3492360" y="5805360"/>
            <a:ext cx="2735280" cy="6480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55"/>
          <p:cNvSpPr/>
          <p:nvPr/>
        </p:nvSpPr>
        <p:spPr>
          <a:xfrm>
            <a:off x="6156360" y="2565360"/>
            <a:ext cx="2808360" cy="13683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56">
            <a:hlinkClick r:id="" action="ppaction://hlinkshowjump?jump=previousslide"/>
          </p:cNvPr>
          <p:cNvSpPr/>
          <p:nvPr/>
        </p:nvSpPr>
        <p:spPr>
          <a:xfrm>
            <a:off x="324000" y="6165720"/>
            <a:ext cx="792000" cy="43200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85" h="21600">
                <a:moveTo>
                  <a:pt x="0" y="0"/>
                </a:moveTo>
                <a:lnTo>
                  <a:pt x="39585" y="0"/>
                </a:lnTo>
                <a:lnTo>
                  <a:pt x="39585" y="21600"/>
                </a:lnTo>
                <a:lnTo>
                  <a:pt x="0" y="21600"/>
                </a:lnTo>
                <a:close/>
              </a:path>
              <a:path fill="lightenLess" w="39585" h="21600">
                <a:moveTo>
                  <a:pt x="0" y="0"/>
                </a:moveTo>
                <a:lnTo>
                  <a:pt x="39585" y="0"/>
                </a:lnTo>
                <a:lnTo>
                  <a:pt x="38185" y="1400"/>
                </a:lnTo>
                <a:lnTo>
                  <a:pt x="1400" y="1400"/>
                </a:lnTo>
                <a:close/>
              </a:path>
              <a:path fill="darken" w="39585" h="21600">
                <a:moveTo>
                  <a:pt x="39585" y="0"/>
                </a:moveTo>
                <a:lnTo>
                  <a:pt x="39585" y="21600"/>
                </a:lnTo>
                <a:lnTo>
                  <a:pt x="38185" y="20200"/>
                </a:lnTo>
                <a:lnTo>
                  <a:pt x="38185" y="1400"/>
                </a:lnTo>
                <a:close/>
              </a:path>
              <a:path fill="darkenLess" w="39585" h="21600">
                <a:moveTo>
                  <a:pt x="39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5" y="20200"/>
                </a:lnTo>
                <a:close/>
              </a:path>
              <a:path fill="lighten" w="39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5" h="21600">
                <a:moveTo>
                  <a:pt x="12786" y="10800"/>
                </a:moveTo>
                <a:lnTo>
                  <a:pt x="26799" y="3794"/>
                </a:lnTo>
                <a:lnTo>
                  <a:pt x="26799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" dur="3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3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" dur="3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3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плесень"/>
          <p:cNvPicPr/>
          <p:nvPr/>
        </p:nvPicPr>
        <p:blipFill>
          <a:blip r:embed="rId1"/>
          <a:stretch/>
        </p:blipFill>
        <p:spPr>
          <a:xfrm>
            <a:off x="900000" y="2133720"/>
            <a:ext cx="7848720" cy="3508200"/>
          </a:xfrm>
          <a:prstGeom prst="rect">
            <a:avLst/>
          </a:prstGeom>
          <a:ln w="0">
            <a:noFill/>
          </a:ln>
        </p:spPr>
      </p:pic>
      <p:pic>
        <p:nvPicPr>
          <p:cNvPr id="136" name="Запи3627.WAV" descr=""/>
          <p:cNvPicPr/>
          <p:nvPr/>
        </p:nvPicPr>
        <p:blipFill>
          <a:blip r:embed="rId2"/>
          <a:stretch/>
        </p:blipFill>
        <p:spPr>
          <a:xfrm>
            <a:off x="6948360" y="59500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9">
            <a:hlinkClick r:id="" action="ppaction://hlinkshowjump?jump=nextslide"/>
          </p:cNvPr>
          <p:cNvSpPr/>
          <p:nvPr/>
        </p:nvSpPr>
        <p:spPr>
          <a:xfrm>
            <a:off x="8244000" y="6093000"/>
            <a:ext cx="649080" cy="360360"/>
          </a:xfrm>
          <a:custGeom>
            <a:avLst/>
            <a:gdLst>
              <a:gd name="textAreaLeft" fmla="*/ 23040 w 649080"/>
              <a:gd name="textAreaRight" fmla="*/ 626040 w 649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89" h="21600">
                <a:moveTo>
                  <a:pt x="0" y="0"/>
                </a:moveTo>
                <a:lnTo>
                  <a:pt x="38889" y="0"/>
                </a:lnTo>
                <a:lnTo>
                  <a:pt x="38889" y="21600"/>
                </a:lnTo>
                <a:lnTo>
                  <a:pt x="0" y="21600"/>
                </a:lnTo>
                <a:close/>
              </a:path>
              <a:path fill="lightenLess" w="38889" h="21600">
                <a:moveTo>
                  <a:pt x="0" y="0"/>
                </a:moveTo>
                <a:lnTo>
                  <a:pt x="38889" y="0"/>
                </a:lnTo>
                <a:lnTo>
                  <a:pt x="37489" y="1400"/>
                </a:lnTo>
                <a:lnTo>
                  <a:pt x="1400" y="1400"/>
                </a:lnTo>
                <a:close/>
              </a:path>
              <a:path fill="darken" w="38889" h="21600">
                <a:moveTo>
                  <a:pt x="38889" y="0"/>
                </a:moveTo>
                <a:lnTo>
                  <a:pt x="38889" y="21600"/>
                </a:lnTo>
                <a:lnTo>
                  <a:pt x="37489" y="20200"/>
                </a:lnTo>
                <a:lnTo>
                  <a:pt x="37489" y="1400"/>
                </a:lnTo>
                <a:close/>
              </a:path>
              <a:path fill="darkenLess" w="38889" h="21600">
                <a:moveTo>
                  <a:pt x="38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9" y="20200"/>
                </a:lnTo>
                <a:close/>
              </a:path>
              <a:path fill="lighten" w="38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89" h="21600">
                <a:moveTo>
                  <a:pt x="12438" y="3794"/>
                </a:moveTo>
                <a:lnTo>
                  <a:pt x="26451" y="10800"/>
                </a:lnTo>
                <a:lnTo>
                  <a:pt x="12438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1116000" y="54936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Плесень - что эт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900000" y="2133720"/>
            <a:ext cx="3024360" cy="3527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3">
            <a:hlinkClick r:id="" action="ppaction://hlinkshowjump?jump=firstslide"/>
          </p:cNvPr>
          <p:cNvSpPr/>
          <p:nvPr/>
        </p:nvSpPr>
        <p:spPr>
          <a:xfrm>
            <a:off x="2195640" y="609300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10800"/>
                </a:moveTo>
                <a:lnTo>
                  <a:pt x="30730" y="3794"/>
                </a:lnTo>
                <a:lnTo>
                  <a:pt x="3073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43000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9">
                                  <p:stCondLst>
                                    <p:cond delay="1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9" descr="груздь"/>
          <p:cNvPicPr/>
          <p:nvPr/>
        </p:nvPicPr>
        <p:blipFill>
          <a:blip r:embed="rId1"/>
          <a:stretch/>
        </p:blipFill>
        <p:spPr>
          <a:xfrm>
            <a:off x="2700360" y="3141720"/>
            <a:ext cx="1655640" cy="16160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2"/>
          <p:cNvSpPr/>
          <p:nvPr/>
        </p:nvSpPr>
        <p:spPr>
          <a:xfrm>
            <a:off x="4572000" y="191628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 Black"/>
              </a:rPr>
              <a:t>боров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900000" y="37162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 Black"/>
              </a:rPr>
              <a:t>груз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6804000" y="53737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 Black"/>
              </a:rPr>
              <a:t>опя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61832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Times New Roman"/>
              </a:rPr>
              <a:t>Отгадайте загадк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900000" y="1844640"/>
            <a:ext cx="431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755640" y="1413000"/>
            <a:ext cx="4321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н в шляпке дремлет шоколад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а ножке белой, аккуратн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олидной - крепкий как дуб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Хорош сей гриб для сушки, впр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4572000" y="3141720"/>
            <a:ext cx="4535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Вот гриб, похожий на воронк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Листвой укрылся прелой тонк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о знают дети наизусть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ред ними хрупкий белый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755640" y="4869000"/>
            <a:ext cx="33829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Днём у солнечного п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Родилась грибов родня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чень дружные ребя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азывают их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2" descr=""/>
          <p:cNvPicPr/>
          <p:nvPr/>
        </p:nvPicPr>
        <p:blipFill>
          <a:blip r:embed="rId2"/>
          <a:stretch/>
        </p:blipFill>
        <p:spPr>
          <a:xfrm>
            <a:off x="6732720" y="1413000"/>
            <a:ext cx="2016000" cy="1512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3" descr=""/>
          <p:cNvPicPr/>
          <p:nvPr/>
        </p:nvPicPr>
        <p:blipFill>
          <a:blip r:embed="rId3"/>
          <a:stretch/>
        </p:blipFill>
        <p:spPr>
          <a:xfrm>
            <a:off x="4067280" y="4941720"/>
            <a:ext cx="2476440" cy="168624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24">
            <a:hlinkClick r:id="" action="ppaction://hlinkshowjump?jump=nextslide"/>
          </p:cNvPr>
          <p:cNvSpPr/>
          <p:nvPr/>
        </p:nvSpPr>
        <p:spPr>
          <a:xfrm>
            <a:off x="8172360" y="6165720"/>
            <a:ext cx="720720" cy="43200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6024" h="21600">
                <a:moveTo>
                  <a:pt x="0" y="0"/>
                </a:moveTo>
                <a:lnTo>
                  <a:pt x="36024" y="0"/>
                </a:lnTo>
                <a:lnTo>
                  <a:pt x="36024" y="21600"/>
                </a:lnTo>
                <a:lnTo>
                  <a:pt x="0" y="21600"/>
                </a:lnTo>
                <a:close/>
              </a:path>
              <a:path fill="lightenLess" w="36024" h="21600">
                <a:moveTo>
                  <a:pt x="0" y="0"/>
                </a:moveTo>
                <a:lnTo>
                  <a:pt x="36024" y="0"/>
                </a:lnTo>
                <a:lnTo>
                  <a:pt x="34624" y="1400"/>
                </a:lnTo>
                <a:lnTo>
                  <a:pt x="1400" y="1400"/>
                </a:lnTo>
                <a:close/>
              </a:path>
              <a:path fill="darken" w="36024" h="21600">
                <a:moveTo>
                  <a:pt x="36024" y="0"/>
                </a:moveTo>
                <a:lnTo>
                  <a:pt x="36024" y="21600"/>
                </a:lnTo>
                <a:lnTo>
                  <a:pt x="34624" y="20200"/>
                </a:lnTo>
                <a:lnTo>
                  <a:pt x="34624" y="1400"/>
                </a:lnTo>
                <a:close/>
              </a:path>
              <a:path fill="darkenLess" w="36024" h="21600">
                <a:moveTo>
                  <a:pt x="36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24" y="20200"/>
                </a:lnTo>
                <a:close/>
              </a:path>
              <a:path fill="lighten" w="36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24" h="21600">
                <a:moveTo>
                  <a:pt x="11006" y="3794"/>
                </a:moveTo>
                <a:lnTo>
                  <a:pt x="25018" y="10800"/>
                </a:lnTo>
                <a:lnTo>
                  <a:pt x="1100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40"/>
          <p:cNvGrpSpPr/>
          <p:nvPr/>
        </p:nvGrpSpPr>
        <p:grpSpPr>
          <a:xfrm>
            <a:off x="4572000" y="1916280"/>
            <a:ext cx="1944720" cy="1223280"/>
            <a:chOff x="4572000" y="1916280"/>
            <a:chExt cx="1944720" cy="1223280"/>
          </a:xfrm>
        </p:grpSpPr>
        <p:sp>
          <p:nvSpPr>
            <p:cNvPr id="155" name="Oval 41"/>
            <p:cNvSpPr/>
            <p:nvPr/>
          </p:nvSpPr>
          <p:spPr>
            <a:xfrm>
              <a:off x="4572000" y="1916280"/>
              <a:ext cx="1944720" cy="5504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42"/>
            <p:cNvSpPr/>
            <p:nvPr/>
          </p:nvSpPr>
          <p:spPr>
            <a:xfrm>
              <a:off x="5292720" y="2466720"/>
              <a:ext cx="503280" cy="6728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43"/>
          <p:cNvGrpSpPr/>
          <p:nvPr/>
        </p:nvGrpSpPr>
        <p:grpSpPr>
          <a:xfrm>
            <a:off x="826920" y="3645000"/>
            <a:ext cx="1657080" cy="1152360"/>
            <a:chOff x="826920" y="3645000"/>
            <a:chExt cx="1657080" cy="1152360"/>
          </a:xfrm>
        </p:grpSpPr>
        <p:sp>
          <p:nvSpPr>
            <p:cNvPr id="158" name="Oval 44"/>
            <p:cNvSpPr/>
            <p:nvPr/>
          </p:nvSpPr>
          <p:spPr>
            <a:xfrm>
              <a:off x="826920" y="3645000"/>
              <a:ext cx="1657080" cy="6476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45"/>
            <p:cNvSpPr/>
            <p:nvPr/>
          </p:nvSpPr>
          <p:spPr>
            <a:xfrm>
              <a:off x="1402920" y="4292640"/>
              <a:ext cx="505080" cy="50472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46"/>
          <p:cNvGrpSpPr/>
          <p:nvPr/>
        </p:nvGrpSpPr>
        <p:grpSpPr>
          <a:xfrm>
            <a:off x="6732720" y="5445000"/>
            <a:ext cx="1439640" cy="1008360"/>
            <a:chOff x="6732720" y="5445000"/>
            <a:chExt cx="1439640" cy="1008360"/>
          </a:xfrm>
        </p:grpSpPr>
        <p:sp>
          <p:nvSpPr>
            <p:cNvPr id="161" name="Oval 47"/>
            <p:cNvSpPr/>
            <p:nvPr/>
          </p:nvSpPr>
          <p:spPr>
            <a:xfrm>
              <a:off x="6732720" y="5445000"/>
              <a:ext cx="1439640" cy="43200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48"/>
            <p:cNvSpPr/>
            <p:nvPr/>
          </p:nvSpPr>
          <p:spPr>
            <a:xfrm>
              <a:off x="7237440" y="5877000"/>
              <a:ext cx="432000" cy="57636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AutoShape 49">
            <a:hlinkClick r:id="" action="ppaction://hlinkshowjump?jump=previousslide"/>
          </p:cNvPr>
          <p:cNvSpPr/>
          <p:nvPr/>
        </p:nvSpPr>
        <p:spPr>
          <a:xfrm>
            <a:off x="3059280" y="6237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10800"/>
                </a:moveTo>
                <a:lnTo>
                  <a:pt x="26235" y="3794"/>
                </a:lnTo>
                <a:lnTo>
                  <a:pt x="26235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604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904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284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5840"/>
                            </p:stCondLst>
                            <p:childTnLst>
                              <p:par>
                                <p:cTn id="1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86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1600"/>
                            </p:stCondLst>
                            <p:childTnLst>
                              <p:par>
                                <p:cTn id="1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2100"/>
                            </p:stCondLst>
                            <p:childTnLst>
                              <p:par>
                                <p:cTn id="12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7100"/>
                            </p:stCondLst>
                            <p:childTnLst>
                              <p:par>
                                <p:cTn id="1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" dur="5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91760" y="333000"/>
            <a:ext cx="775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Как правильно собирать грибы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 Black"/>
              </a:rPr>
              <a:t>Собирай только те грибы, которые хорошо знае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 Black"/>
              </a:rPr>
              <a:t>Не собирай старые и червивые гри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 Black"/>
              </a:rPr>
              <a:t>Не собирай грибы возле шоссейных дорог и  в городских пар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 Black"/>
              </a:rPr>
              <a:t>Не вырывай грибы с комом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 Black"/>
              </a:rPr>
              <a:t>Не срывай съедобные грибы, если не хочешь их взя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 Black"/>
              </a:rPr>
              <a:t>Не откладывай на следующий день обработку свежих гриб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5">
            <a:hlinkClick r:id="" action="ppaction://hlinkshowjump?jump=nextslide"/>
          </p:cNvPr>
          <p:cNvSpPr/>
          <p:nvPr/>
        </p:nvSpPr>
        <p:spPr>
          <a:xfrm>
            <a:off x="5076720" y="602136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3794"/>
                </a:moveTo>
                <a:lnTo>
                  <a:pt x="32875" y="10800"/>
                </a:lnTo>
                <a:lnTo>
                  <a:pt x="18862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6877080" y="4653000"/>
            <a:ext cx="2087640" cy="2087640"/>
          </a:xfrm>
          <a:prstGeom prst="rect">
            <a:avLst/>
          </a:prstGeom>
          <a:ln w="0">
            <a:noFill/>
          </a:ln>
        </p:spPr>
      </p:pic>
      <p:sp>
        <p:nvSpPr>
          <p:cNvPr id="169" name="AutoShape 7">
            <a:hlinkClick r:id="" action="ppaction://hlinkshowjump?jump=previousslide"/>
          </p:cNvPr>
          <p:cNvSpPr/>
          <p:nvPr/>
        </p:nvSpPr>
        <p:spPr>
          <a:xfrm>
            <a:off x="1763640" y="5950080"/>
            <a:ext cx="863640" cy="3585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51996" h="21600">
                <a:moveTo>
                  <a:pt x="0" y="0"/>
                </a:moveTo>
                <a:lnTo>
                  <a:pt x="51996" y="0"/>
                </a:lnTo>
                <a:lnTo>
                  <a:pt x="51996" y="21600"/>
                </a:lnTo>
                <a:lnTo>
                  <a:pt x="0" y="21600"/>
                </a:lnTo>
                <a:close/>
              </a:path>
              <a:path fill="lightenLess" w="51996" h="21600">
                <a:moveTo>
                  <a:pt x="0" y="0"/>
                </a:moveTo>
                <a:lnTo>
                  <a:pt x="51996" y="0"/>
                </a:lnTo>
                <a:lnTo>
                  <a:pt x="50596" y="1400"/>
                </a:lnTo>
                <a:lnTo>
                  <a:pt x="1400" y="1400"/>
                </a:lnTo>
                <a:close/>
              </a:path>
              <a:path fill="darken" w="51996" h="21600">
                <a:moveTo>
                  <a:pt x="51996" y="0"/>
                </a:moveTo>
                <a:lnTo>
                  <a:pt x="51996" y="21600"/>
                </a:lnTo>
                <a:lnTo>
                  <a:pt x="50596" y="20200"/>
                </a:lnTo>
                <a:lnTo>
                  <a:pt x="50596" y="1400"/>
                </a:lnTo>
                <a:close/>
              </a:path>
              <a:path fill="darkenLess" w="51996" h="21600">
                <a:moveTo>
                  <a:pt x="519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96" y="20200"/>
                </a:lnTo>
                <a:close/>
              </a:path>
              <a:path fill="lighten" w="519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96" h="21600">
                <a:moveTo>
                  <a:pt x="18992" y="10800"/>
                </a:moveTo>
                <a:lnTo>
                  <a:pt x="33004" y="3794"/>
                </a:lnTo>
                <a:lnTo>
                  <a:pt x="3300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971640" y="2205000"/>
            <a:ext cx="777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 Black"/>
              </a:rPr>
              <a:t>В руки возьмем по корзинке,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Arial Black"/>
              </a:rPr>
              <a:t>В лес за грибами пойдем.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Arial Black"/>
              </a:rPr>
              <a:t>Пахнут пеньки и тропинки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Arial Black"/>
              </a:rPr>
              <a:t>Вкусным осенним грибк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8" nodeType="afterEffect" fill="hold" presetClass="exit" presetID="55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5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3" descr=""/>
          <p:cNvPicPr/>
          <p:nvPr/>
        </p:nvPicPr>
        <p:blipFill>
          <a:blip r:embed="rId1"/>
          <a:stretch/>
        </p:blipFill>
        <p:spPr>
          <a:xfrm>
            <a:off x="4067280" y="2060640"/>
            <a:ext cx="3238560" cy="34113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000" y="27756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 Black"/>
              </a:rPr>
              <a:t>Всякий гриб в руки берут, да не всякий гриб в кузов кладут</a:t>
            </a:r>
            <a:r>
              <a:rPr b="1" lang="en-US" sz="1800" spc="-1" strike="noStrike">
                <a:solidFill>
                  <a:srgbClr val="990033"/>
                </a:solidFill>
                <a:latin typeface="Arial Black"/>
              </a:rPr>
              <a:t>.</a:t>
            </a:r>
            <a:r>
              <a:rPr b="1" lang="ru-RU" sz="2000" spc="-1" strike="noStrike">
                <a:solidFill>
                  <a:srgbClr val="330033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Соберите съедобные грибы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в корзину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74" name="Picture 8" descr=""/>
          <p:cNvPicPr/>
          <p:nvPr/>
        </p:nvPicPr>
        <p:blipFill>
          <a:blip r:embed="rId2"/>
          <a:stretch/>
        </p:blipFill>
        <p:spPr>
          <a:xfrm rot="20885400">
            <a:off x="826920" y="1413000"/>
            <a:ext cx="1873440" cy="1368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rygik-nastoyaschiy2"/>
          <p:cNvPicPr/>
          <p:nvPr/>
        </p:nvPicPr>
        <p:blipFill>
          <a:blip r:embed="rId3"/>
          <a:stretch/>
        </p:blipFill>
        <p:spPr>
          <a:xfrm>
            <a:off x="7093080" y="907920"/>
            <a:ext cx="1755720" cy="1311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maslenok-obyknovennyi1"/>
          <p:cNvPicPr/>
          <p:nvPr/>
        </p:nvPicPr>
        <p:blipFill>
          <a:blip r:embed="rId4"/>
          <a:stretch/>
        </p:blipFill>
        <p:spPr>
          <a:xfrm>
            <a:off x="755640" y="3068640"/>
            <a:ext cx="1728720" cy="12906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openok-osenniy2"/>
          <p:cNvPicPr/>
          <p:nvPr/>
        </p:nvPicPr>
        <p:blipFill>
          <a:blip r:embed="rId5"/>
          <a:stretch/>
        </p:blipFill>
        <p:spPr>
          <a:xfrm rot="625200">
            <a:off x="7092720" y="2492280"/>
            <a:ext cx="1827000" cy="1243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подосиновик"/>
          <p:cNvPicPr/>
          <p:nvPr/>
        </p:nvPicPr>
        <p:blipFill>
          <a:blip r:embed="rId6"/>
          <a:stretch/>
        </p:blipFill>
        <p:spPr>
          <a:xfrm rot="1455000">
            <a:off x="2484000" y="5013360"/>
            <a:ext cx="1656000" cy="1325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" descr="подберезовик"/>
          <p:cNvPicPr/>
          <p:nvPr/>
        </p:nvPicPr>
        <p:blipFill>
          <a:blip r:embed="rId7"/>
          <a:stretch/>
        </p:blipFill>
        <p:spPr>
          <a:xfrm>
            <a:off x="2844720" y="1484280"/>
            <a:ext cx="1727280" cy="1386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blednaya-poganka2"/>
          <p:cNvPicPr/>
          <p:nvPr/>
        </p:nvPicPr>
        <p:blipFill>
          <a:blip r:embed="rId8"/>
          <a:stretch/>
        </p:blipFill>
        <p:spPr>
          <a:xfrm>
            <a:off x="7164360" y="4005360"/>
            <a:ext cx="1631880" cy="1230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5" descr="muhomor-vonuchii1"/>
          <p:cNvPicPr/>
          <p:nvPr/>
        </p:nvPicPr>
        <p:blipFill>
          <a:blip r:embed="rId9"/>
          <a:stretch/>
        </p:blipFill>
        <p:spPr>
          <a:xfrm rot="21244200">
            <a:off x="539280" y="4941720"/>
            <a:ext cx="1312920" cy="1656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6" descr="syroegka-sedobnaya1"/>
          <p:cNvPicPr/>
          <p:nvPr/>
        </p:nvPicPr>
        <p:blipFill>
          <a:blip r:embed="rId10"/>
          <a:stretch/>
        </p:blipFill>
        <p:spPr>
          <a:xfrm rot="20628600">
            <a:off x="2556000" y="3428640"/>
            <a:ext cx="1670040" cy="1149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7" descr="click?url=http%3A%2F%2Fnloov"/>
          <p:cNvPicPr/>
          <p:nvPr/>
        </p:nvPicPr>
        <p:blipFill>
          <a:blip r:embed="rId11"/>
          <a:stretch/>
        </p:blipFill>
        <p:spPr>
          <a:xfrm rot="20885400">
            <a:off x="7236000" y="5516640"/>
            <a:ext cx="1512720" cy="113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8" descr="lisichka-nastoyaschaya1"/>
          <p:cNvPicPr/>
          <p:nvPr/>
        </p:nvPicPr>
        <p:blipFill>
          <a:blip r:embed="rId12"/>
          <a:stretch/>
        </p:blipFill>
        <p:spPr>
          <a:xfrm>
            <a:off x="4859280" y="5445000"/>
            <a:ext cx="1582920" cy="120492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19">
            <a:hlinkClick r:id="" action="ppaction://hlinkshowjump?jump=nextslide"/>
          </p:cNvPr>
          <p:cNvSpPr/>
          <p:nvPr/>
        </p:nvSpPr>
        <p:spPr>
          <a:xfrm>
            <a:off x="3997440" y="6308640"/>
            <a:ext cx="574560" cy="360360"/>
          </a:xfrm>
          <a:custGeom>
            <a:avLst/>
            <a:gdLst>
              <a:gd name="textAreaLeft" fmla="*/ 23040 w 574560"/>
              <a:gd name="textAreaRight" fmla="*/ 551520 w 574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426" h="21600">
                <a:moveTo>
                  <a:pt x="0" y="0"/>
                </a:moveTo>
                <a:lnTo>
                  <a:pt x="34426" y="0"/>
                </a:lnTo>
                <a:lnTo>
                  <a:pt x="34426" y="21600"/>
                </a:lnTo>
                <a:lnTo>
                  <a:pt x="0" y="21600"/>
                </a:lnTo>
                <a:close/>
              </a:path>
              <a:path fill="lightenLess" w="34426" h="21600">
                <a:moveTo>
                  <a:pt x="0" y="0"/>
                </a:moveTo>
                <a:lnTo>
                  <a:pt x="34426" y="0"/>
                </a:lnTo>
                <a:lnTo>
                  <a:pt x="33026" y="1400"/>
                </a:lnTo>
                <a:lnTo>
                  <a:pt x="1400" y="1400"/>
                </a:lnTo>
                <a:close/>
              </a:path>
              <a:path fill="darken" w="34426" h="21600">
                <a:moveTo>
                  <a:pt x="34426" y="0"/>
                </a:moveTo>
                <a:lnTo>
                  <a:pt x="34426" y="21600"/>
                </a:lnTo>
                <a:lnTo>
                  <a:pt x="33026" y="20200"/>
                </a:lnTo>
                <a:lnTo>
                  <a:pt x="33026" y="1400"/>
                </a:lnTo>
                <a:close/>
              </a:path>
              <a:path fill="darkenLess" w="34426" h="21600">
                <a:moveTo>
                  <a:pt x="344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26" y="20200"/>
                </a:lnTo>
                <a:close/>
              </a:path>
              <a:path fill="lighten" w="344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26" h="21600">
                <a:moveTo>
                  <a:pt x="10207" y="3794"/>
                </a:moveTo>
                <a:lnTo>
                  <a:pt x="24220" y="10800"/>
                </a:lnTo>
                <a:lnTo>
                  <a:pt x="1020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20">
            <a:hlinkClick r:id="" action="ppaction://hlinkshowjump?jump=previousslide"/>
          </p:cNvPr>
          <p:cNvSpPr/>
          <p:nvPr/>
        </p:nvSpPr>
        <p:spPr>
          <a:xfrm>
            <a:off x="2268360" y="6308640"/>
            <a:ext cx="648000" cy="287280"/>
          </a:xfrm>
          <a:custGeom>
            <a:avLst/>
            <a:gdLst>
              <a:gd name="textAreaLeft" fmla="*/ 18360 w 648000"/>
              <a:gd name="textAreaRight" fmla="*/ 629640 w 648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8688" h="21600">
                <a:moveTo>
                  <a:pt x="0" y="0"/>
                </a:moveTo>
                <a:lnTo>
                  <a:pt x="48688" y="0"/>
                </a:lnTo>
                <a:lnTo>
                  <a:pt x="48688" y="21600"/>
                </a:lnTo>
                <a:lnTo>
                  <a:pt x="0" y="21600"/>
                </a:lnTo>
                <a:close/>
              </a:path>
              <a:path fill="lightenLess" w="48688" h="21600">
                <a:moveTo>
                  <a:pt x="0" y="0"/>
                </a:moveTo>
                <a:lnTo>
                  <a:pt x="48688" y="0"/>
                </a:lnTo>
                <a:lnTo>
                  <a:pt x="47288" y="1400"/>
                </a:lnTo>
                <a:lnTo>
                  <a:pt x="1400" y="1400"/>
                </a:lnTo>
                <a:close/>
              </a:path>
              <a:path fill="darken" w="48688" h="21600">
                <a:moveTo>
                  <a:pt x="48688" y="0"/>
                </a:moveTo>
                <a:lnTo>
                  <a:pt x="48688" y="21600"/>
                </a:lnTo>
                <a:lnTo>
                  <a:pt x="47288" y="20200"/>
                </a:lnTo>
                <a:lnTo>
                  <a:pt x="47288" y="1400"/>
                </a:lnTo>
                <a:close/>
              </a:path>
              <a:path fill="darkenLess" w="48688" h="21600">
                <a:moveTo>
                  <a:pt x="48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88" y="20200"/>
                </a:lnTo>
                <a:close/>
              </a:path>
              <a:path fill="lighten" w="48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88" h="21600">
                <a:moveTo>
                  <a:pt x="17337" y="10800"/>
                </a:moveTo>
                <a:lnTo>
                  <a:pt x="31350" y="3794"/>
                </a:lnTo>
                <a:lnTo>
                  <a:pt x="3135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212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778E-017 -5.49133E-006 C -0.01354 0.00438 -0.02778 0.00855 -0.03646 0.02519 C -0.05364 0.05826 -0.03819 0.03606 -0.05399 0.0571 C -0.0618 0.08554 -0.07066 0.11537 -0.08246 0.14149 C -0.08507 0.15282 -0.08767 0.16184 -0.08889 0.17317 C -0.09149 0.19814 -0.08854 0.18496 -0.09201 0.1986 C -0.09323 0.21941 -0.09288 0.243 -0.1 0.26196 C -0.10295 0.28161 -0.1059 0.30219 -0.11423 0.31907 C -0.11857 0.33664 -0.1125 0.31583 -0.1191 0.3297 C -0.12101 0.33386 -0.12066 0.34034 -0.12066 0.33178 E">
                                      <p:cBhvr>
                                        <p:cTn id="215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217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6.35838E-007 C 0.01285 0.01619 0.02708 0.03122 0.04132 0.0444 C 0.05503 0.05711 0.06614 0.07029 0.08107 0.08023 C 0.0908 0.08671 0.10052 0.09596 0.11111 0.09943 C 0.12691 0.10474 0.14253 0.10613 0.15885 0.10775 C 0.16042 0.10983 0.16163 0.11237 0.16354 0.11422 C 0.16545 0.11607 0.16823 0.11607 0.16996 0.11839 C 0.17118 0.12 0.17083 0.12255 0.17153 0.12463 C 0.17239 0.12694 0.17361 0.12902 0.17465 0.1311 C 0.17083 0.15168 0.17587 0.17156 0.17153 0.19237 C 0.16163 0.17596 0.1658 0.17919 0.16667 0.19654 C 0.16701 0.20208 0.16667 0.20786 0.16667 0.21341 E">
                                      <p:cBhvr>
                                        <p:cTn id="220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22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77457E-006 C 0.01389 -0.00624 0.02604 -0.01826 0.04115 -0.02104 C 0.0559 -0.02381 0.06875 -0.02589 0.08403 -0.02728 C 0.10312 -0.02543 0.12205 -0.02289 0.14115 -0.02104 C 0.15451 -0.01526 0.16476 -0.00624 0.17621 0.0044 C 0.17934 0.00717 0.18559 0.01272 0.18559 0.01272 C 0.18785 0.01873 0.20486 0.04925 0.18889 0.02752 C 0.16337 0.03584 0.18246 0.02659 0.18246 0.10798 E">
                                      <p:cBhvr>
                                        <p:cTn id="225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227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8.67052E-007 C 0.00521 0.00671 0.00695 0.01364 0.01112 0.02104 C 0.02327 0.04208 0.01962 0.03677 0.02865 0.04856 C 0.03594 0.06844 0.05035 0.08047 0.06355 0.09295 C 0.08212 0.11029 0.09914 0.13133 0.12223 0.13734 C 0.13664 0.14867 0.15348 0.15075 0.1698 0.15422 C 0.20921 0.16278 0.23438 0.16578 0.27778 0.16694 C 0.30955 0.16786 0.34133 0.16833 0.3731 0.16902 C 0.3816 0.17272 0.38924 0.17318 0.39688 0.17966 C 0.39827 0.18937 0.40226 0.19584 0.40001 0.20509 C 0.40521 0.21873 0.40139 0.23376 0.40643 0.24717 E">
                                      <p:cBhvr>
                                        <p:cTn id="230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32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2.89017E-006 C 0.00452 0.00416 0.00626 0.00763 0.01268 0.00208 C 0.01407 0.00093 0.01338 -0.00231 0.01424 -0.00416 C 0.01598 -0.00809 0.01806 -0.01156 0.02049 -0.0148 C 0.02744 -0.02381 0.03594 -0.02821 0.04445 -0.03376 C 0.05105 -0.043 0.06216 -0.04578 0.07136 -0.04855 C 0.07605 -0.04994 0.08091 -0.05156 0.0856 -0.05295 C 0.08768 -0.05364 0.09202 -0.05503 0.09202 -0.05503 C 0.10053 -0.06081 0.10799 -0.06335 0.11737 -0.06543 C 0.12518 -0.06913 0.13299 -0.07029 0.14115 -0.07191 C 0.17344 -0.07121 0.20574 -0.07098 0.23803 -0.06982 C 0.25608 -0.06913 0.27535 -0.06104 0.29358 -0.05919 C 0.30296 -0.05295 0.31042 -0.04763 0.32049 -0.04439 C 0.32258 -0.04231 0.32692 -0.04162 0.32692 -0.03815 C 0.32692 -0.0363 0.31615 -0.04624 0.31581 -0.04647 C 0.31789 -0.04717 0.32015 -0.04948 0.32223 -0.04855 C 0.32588 -0.04717 0.3316 -0.04023 0.3316 -0.04023 C 0.33386 -0.0356 0.33733 -0.03214 0.33959 -0.02751 C 0.34115 -0.02428 0.34098 -0.01988 0.34272 -0.01688 C 0.34532 -0.01202 0.35035 -0.0104 0.35383 -0.00624 C 0.3632 0.00509 0.36147 0.00255 0.36667 0.01272 C 0.36928 0.02312 0.37483 0.02359 0.37935 0.03168 C 0.38351 0.03908 0.38577 0.04879 0.39046 0.05503 C 0.39098 0.05711 0.39202 0.05919 0.39202 0.06127 C 0.39202 0.06428 0.39011 0.06682 0.39046 0.06983 C 0.39081 0.07283 0.39254 0.07538 0.39358 0.07815 C 0.3941 0.08162 0.39463 0.08532 0.39515 0.08879 C 0.39567 0.09364 0.39671 0.10359 0.39671 0.10359 E">
                                      <p:cBhvr>
                                        <p:cTn id="235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237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69942E-006 C 0.00573 -0.00254 0.00903 -0.00416 0.01424 -0.00647 C 0.0158 -0.00716 0.0191 -0.00855 0.0191 -0.00855 C 0.02205 -0.01109 0.02587 -0.01202 0.02865 -0.01479 C 0.04774 -0.03399 0.02708 -0.01942 0.04288 -0.02959 C 0.04514 -0.03907 0.05122 -0.0467 0.05556 -0.05503 C 0.05712 -0.05826 0.05747 -0.06219 0.05868 -0.06566 C 0.05955 -0.06797 0.06094 -0.06982 0.06198 -0.0719 C 0.06702 -0.09318 0.07726 -0.10936 0.08889 -0.12485 C 0.09566 -0.14705 0.10243 -0.14959 0.1158 -0.15861 C 0.1191 -0.1704 0.11493 -0.16046 0.12535 -0.16925 C 0.13524 -0.1778 0.14358 -0.1889 0.15399 -0.19676 C 0.16059 -0.20162 0.16823 -0.20393 0.17465 -0.20925 C 0.18785 -0.22034 0.17309 -0.21225 0.19045 -0.21988 C 0.19358 -0.22127 0.2 -0.22404 0.2 -0.22404 C 0.2092 -0.22196 0.21771 -0.21826 0.22691 -0.21572 C 0.22934 -0.21248 0.23924 -0.19838 0.23177 -0.21364 C 0.23177 -0.21364 0.2349 -0.21225 0.23646 -0.21156 C 0.24254 -0.20601 0.23993 -0.20901 0.24445 -0.203 E">
                                      <p:cBhvr>
                                        <p:cTn id="240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242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2948E-006 C -0.00156 -0.03168 -0.00347 -0.03468 -0.00799 -0.06127 C -0.00035 -0.07144 -0.00399 -0.09295 0.00156 -0.10775 C 0.00451 -0.11538 0.01424 -0.12694 0.01424 -0.12694 C 0.01684 -0.13595 0.02135 -0.14058 0.02535 -0.14798 C 0.03368 -0.16347 0.02257 -0.15029 0.0349 -0.16277 C 0.03976 -0.17318 0.04653 -0.18428 0.05556 -0.18821 C 0.06684 -0.21295 0.07552 -0.23168 0.09531 -0.24532 C 0.10538 -0.26312 0.11806 -0.26913 0.13177 -0.28116 C 0.13368 -0.28277 0.13507 -0.28532 0.13646 -0.28763 C 0.13872 -0.29156 0.14288 -0.30012 0.14288 -0.30012 C 0.14514 -0.30913 0.14444 -0.30428 0.14444 -0.31491 E">
                                      <p:cBhvr>
                                        <p:cTn id="245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247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5.20231E-007 C -0.00504 0.02035 -0.00695 0.02659 -0.02223 0.03815 C -0.02431 0.03977 -0.02639 0.04116 -0.02865 0.04231 C -0.03177 0.04393 -0.0382 0.04647 -0.0382 0.04647 C -0.06268 0.04532 -0.08507 0.04463 -0.10799 0.03399 C -0.12309 0.02705 -0.09393 0.03884 -0.12865 0.02752 C -0.13282 0.02613 -0.14132 0.02335 -0.14132 0.02335 C -0.15191 0.02405 -0.1625 0.02428 -0.17309 0.02543 C -0.17986 0.02613 -0.1915 0.04162 -0.19688 0.04647 C -0.19983 0.04925 -0.20539 0.05457 -0.20799 0.05711 C -0.21077 0.05965 -0.21754 0.06127 -0.21754 0.06127 C -0.22344 0.0696 -0.23455 0.07121 -0.24289 0.07399 C -0.24653 0.07746 -0.24931 0.08046 -0.254 0.08046 E">
                                      <p:cBhvr>
                                        <p:cTn id="250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252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257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27"/>
          <p:cNvGrpSpPr/>
          <p:nvPr/>
        </p:nvGrpSpPr>
        <p:grpSpPr>
          <a:xfrm>
            <a:off x="250920" y="4437000"/>
            <a:ext cx="8642160" cy="720720"/>
            <a:chOff x="250920" y="4437000"/>
            <a:chExt cx="8642160" cy="720720"/>
          </a:xfrm>
        </p:grpSpPr>
        <p:sp>
          <p:nvSpPr>
            <p:cNvPr id="189" name="Rectangle 228"/>
            <p:cNvSpPr/>
            <p:nvPr/>
          </p:nvSpPr>
          <p:spPr>
            <a:xfrm>
              <a:off x="169236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229"/>
            <p:cNvSpPr/>
            <p:nvPr/>
          </p:nvSpPr>
          <p:spPr>
            <a:xfrm>
              <a:off x="241128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230"/>
            <p:cNvSpPr/>
            <p:nvPr/>
          </p:nvSpPr>
          <p:spPr>
            <a:xfrm>
              <a:off x="97164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31"/>
            <p:cNvSpPr/>
            <p:nvPr/>
          </p:nvSpPr>
          <p:spPr>
            <a:xfrm>
              <a:off x="25092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32"/>
            <p:cNvSpPr/>
            <p:nvPr/>
          </p:nvSpPr>
          <p:spPr>
            <a:xfrm>
              <a:off x="817236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233"/>
            <p:cNvSpPr/>
            <p:nvPr/>
          </p:nvSpPr>
          <p:spPr>
            <a:xfrm>
              <a:off x="313200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34"/>
            <p:cNvSpPr/>
            <p:nvPr/>
          </p:nvSpPr>
          <p:spPr>
            <a:xfrm>
              <a:off x="457200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235"/>
            <p:cNvSpPr/>
            <p:nvPr/>
          </p:nvSpPr>
          <p:spPr>
            <a:xfrm>
              <a:off x="385128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236"/>
            <p:cNvSpPr/>
            <p:nvPr/>
          </p:nvSpPr>
          <p:spPr>
            <a:xfrm>
              <a:off x="529272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237"/>
            <p:cNvSpPr/>
            <p:nvPr/>
          </p:nvSpPr>
          <p:spPr>
            <a:xfrm>
              <a:off x="601200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38"/>
            <p:cNvSpPr/>
            <p:nvPr/>
          </p:nvSpPr>
          <p:spPr>
            <a:xfrm>
              <a:off x="673272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239"/>
            <p:cNvSpPr/>
            <p:nvPr/>
          </p:nvSpPr>
          <p:spPr>
            <a:xfrm>
              <a:off x="745164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240"/>
          <p:cNvGrpSpPr/>
          <p:nvPr/>
        </p:nvGrpSpPr>
        <p:grpSpPr>
          <a:xfrm>
            <a:off x="250920" y="4437000"/>
            <a:ext cx="8642160" cy="720720"/>
            <a:chOff x="250920" y="4437000"/>
            <a:chExt cx="8642160" cy="720720"/>
          </a:xfrm>
        </p:grpSpPr>
        <p:sp>
          <p:nvSpPr>
            <p:cNvPr id="202" name="Rectangle 241"/>
            <p:cNvSpPr/>
            <p:nvPr/>
          </p:nvSpPr>
          <p:spPr>
            <a:xfrm>
              <a:off x="169236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242"/>
            <p:cNvSpPr/>
            <p:nvPr/>
          </p:nvSpPr>
          <p:spPr>
            <a:xfrm>
              <a:off x="241128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243"/>
            <p:cNvSpPr/>
            <p:nvPr/>
          </p:nvSpPr>
          <p:spPr>
            <a:xfrm>
              <a:off x="97164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244"/>
            <p:cNvSpPr/>
            <p:nvPr/>
          </p:nvSpPr>
          <p:spPr>
            <a:xfrm>
              <a:off x="25092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245"/>
            <p:cNvSpPr/>
            <p:nvPr/>
          </p:nvSpPr>
          <p:spPr>
            <a:xfrm>
              <a:off x="817236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246"/>
            <p:cNvSpPr/>
            <p:nvPr/>
          </p:nvSpPr>
          <p:spPr>
            <a:xfrm>
              <a:off x="313200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47"/>
            <p:cNvSpPr/>
            <p:nvPr/>
          </p:nvSpPr>
          <p:spPr>
            <a:xfrm>
              <a:off x="457200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248"/>
            <p:cNvSpPr/>
            <p:nvPr/>
          </p:nvSpPr>
          <p:spPr>
            <a:xfrm>
              <a:off x="385128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249"/>
            <p:cNvSpPr/>
            <p:nvPr/>
          </p:nvSpPr>
          <p:spPr>
            <a:xfrm>
              <a:off x="529272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250"/>
            <p:cNvSpPr/>
            <p:nvPr/>
          </p:nvSpPr>
          <p:spPr>
            <a:xfrm>
              <a:off x="601200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251"/>
            <p:cNvSpPr/>
            <p:nvPr/>
          </p:nvSpPr>
          <p:spPr>
            <a:xfrm>
              <a:off x="673272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252"/>
            <p:cNvSpPr/>
            <p:nvPr/>
          </p:nvSpPr>
          <p:spPr>
            <a:xfrm>
              <a:off x="745164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 Box 80"/>
          <p:cNvSpPr/>
          <p:nvPr/>
        </p:nvSpPr>
        <p:spPr>
          <a:xfrm>
            <a:off x="1187280" y="1916280"/>
            <a:ext cx="6769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Этот гриб можно встретить не только под берёзой. Но чаще всего он растёт именно под этим дере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3"/>
          <p:cNvSpPr/>
          <p:nvPr/>
        </p:nvSpPr>
        <p:spPr>
          <a:xfrm>
            <a:off x="1042920" y="1628640"/>
            <a:ext cx="70581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Шляпки этих грибов похожи на опавшие осенние листья дерева, под которым они чаще встреча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213"/>
          <p:cNvGrpSpPr/>
          <p:nvPr/>
        </p:nvGrpSpPr>
        <p:grpSpPr>
          <a:xfrm>
            <a:off x="250920" y="3429000"/>
            <a:ext cx="8642160" cy="720720"/>
            <a:chOff x="250920" y="3429000"/>
            <a:chExt cx="8642160" cy="720720"/>
          </a:xfrm>
        </p:grpSpPr>
        <p:sp>
          <p:nvSpPr>
            <p:cNvPr id="217" name="Rectangle 200"/>
            <p:cNvSpPr/>
            <p:nvPr/>
          </p:nvSpPr>
          <p:spPr>
            <a:xfrm>
              <a:off x="169236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201"/>
            <p:cNvSpPr/>
            <p:nvPr/>
          </p:nvSpPr>
          <p:spPr>
            <a:xfrm>
              <a:off x="241128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202"/>
            <p:cNvSpPr/>
            <p:nvPr/>
          </p:nvSpPr>
          <p:spPr>
            <a:xfrm>
              <a:off x="97164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Arial Black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203"/>
            <p:cNvSpPr/>
            <p:nvPr/>
          </p:nvSpPr>
          <p:spPr>
            <a:xfrm>
              <a:off x="25092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Arial Black"/>
                </a:rPr>
                <a:t>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05"/>
            <p:cNvSpPr/>
            <p:nvPr/>
          </p:nvSpPr>
          <p:spPr>
            <a:xfrm>
              <a:off x="817236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06"/>
            <p:cNvSpPr/>
            <p:nvPr/>
          </p:nvSpPr>
          <p:spPr>
            <a:xfrm>
              <a:off x="313200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07"/>
            <p:cNvSpPr/>
            <p:nvPr/>
          </p:nvSpPr>
          <p:spPr>
            <a:xfrm>
              <a:off x="457200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08"/>
            <p:cNvSpPr/>
            <p:nvPr/>
          </p:nvSpPr>
          <p:spPr>
            <a:xfrm>
              <a:off x="385128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209"/>
            <p:cNvSpPr/>
            <p:nvPr/>
          </p:nvSpPr>
          <p:spPr>
            <a:xfrm>
              <a:off x="529272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210"/>
            <p:cNvSpPr/>
            <p:nvPr/>
          </p:nvSpPr>
          <p:spPr>
            <a:xfrm>
              <a:off x="601200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211"/>
            <p:cNvSpPr/>
            <p:nvPr/>
          </p:nvSpPr>
          <p:spPr>
            <a:xfrm>
              <a:off x="673272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212"/>
            <p:cNvSpPr/>
            <p:nvPr/>
          </p:nvSpPr>
          <p:spPr>
            <a:xfrm>
              <a:off x="745164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214"/>
          <p:cNvGrpSpPr/>
          <p:nvPr/>
        </p:nvGrpSpPr>
        <p:grpSpPr>
          <a:xfrm>
            <a:off x="250920" y="3429000"/>
            <a:ext cx="8642160" cy="720720"/>
            <a:chOff x="250920" y="3429000"/>
            <a:chExt cx="8642160" cy="720720"/>
          </a:xfrm>
        </p:grpSpPr>
        <p:sp>
          <p:nvSpPr>
            <p:cNvPr id="230" name="Rectangle 215"/>
            <p:cNvSpPr/>
            <p:nvPr/>
          </p:nvSpPr>
          <p:spPr>
            <a:xfrm>
              <a:off x="169236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216"/>
            <p:cNvSpPr/>
            <p:nvPr/>
          </p:nvSpPr>
          <p:spPr>
            <a:xfrm>
              <a:off x="241128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17"/>
            <p:cNvSpPr/>
            <p:nvPr/>
          </p:nvSpPr>
          <p:spPr>
            <a:xfrm>
              <a:off x="97164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218"/>
            <p:cNvSpPr/>
            <p:nvPr/>
          </p:nvSpPr>
          <p:spPr>
            <a:xfrm>
              <a:off x="25092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19"/>
            <p:cNvSpPr/>
            <p:nvPr/>
          </p:nvSpPr>
          <p:spPr>
            <a:xfrm>
              <a:off x="817236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220"/>
            <p:cNvSpPr/>
            <p:nvPr/>
          </p:nvSpPr>
          <p:spPr>
            <a:xfrm>
              <a:off x="313200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21"/>
            <p:cNvSpPr/>
            <p:nvPr/>
          </p:nvSpPr>
          <p:spPr>
            <a:xfrm>
              <a:off x="457200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22"/>
            <p:cNvSpPr/>
            <p:nvPr/>
          </p:nvSpPr>
          <p:spPr>
            <a:xfrm>
              <a:off x="385128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223"/>
            <p:cNvSpPr/>
            <p:nvPr/>
          </p:nvSpPr>
          <p:spPr>
            <a:xfrm>
              <a:off x="529272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24"/>
            <p:cNvSpPr/>
            <p:nvPr/>
          </p:nvSpPr>
          <p:spPr>
            <a:xfrm>
              <a:off x="601200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25"/>
            <p:cNvSpPr/>
            <p:nvPr/>
          </p:nvSpPr>
          <p:spPr>
            <a:xfrm>
              <a:off x="673272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26"/>
            <p:cNvSpPr/>
            <p:nvPr/>
          </p:nvSpPr>
          <p:spPr>
            <a:xfrm>
              <a:off x="745164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AutoShape 253">
            <a:hlinkClick r:id="" action="ppaction://hlinkshowjump?jump=nextslide"/>
          </p:cNvPr>
          <p:cNvSpPr/>
          <p:nvPr/>
        </p:nvSpPr>
        <p:spPr>
          <a:xfrm>
            <a:off x="8028000" y="609300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254">
            <a:hlinkClick r:id="" action="ppaction://hlinkshowjump?jump=previousslide"/>
          </p:cNvPr>
          <p:cNvSpPr/>
          <p:nvPr/>
        </p:nvSpPr>
        <p:spPr>
          <a:xfrm>
            <a:off x="684360" y="59500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10800"/>
                </a:moveTo>
                <a:lnTo>
                  <a:pt x="26408" y="3794"/>
                </a:lnTo>
                <a:lnTo>
                  <a:pt x="26408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87"/>
          <p:cNvSpPr/>
          <p:nvPr/>
        </p:nvSpPr>
        <p:spPr>
          <a:xfrm>
            <a:off x="1690560" y="620640"/>
            <a:ext cx="662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Узнайте гриб по опис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29"/>
          <p:cNvSpPr/>
          <p:nvPr/>
        </p:nvSpPr>
        <p:spPr>
          <a:xfrm>
            <a:off x="1116000" y="1484280"/>
            <a:ext cx="633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У этих грибов шляпки самого разного цвета: и синие, и жёлтые, и фиолетовые. А название - од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332"/>
          <p:cNvGrpSpPr/>
          <p:nvPr/>
        </p:nvGrpSpPr>
        <p:grpSpPr>
          <a:xfrm>
            <a:off x="1979640" y="5445000"/>
            <a:ext cx="5689440" cy="720720"/>
            <a:chOff x="1979640" y="5445000"/>
            <a:chExt cx="5689440" cy="720720"/>
          </a:xfrm>
        </p:grpSpPr>
        <p:grpSp>
          <p:nvGrpSpPr>
            <p:cNvPr id="247" name="Group 304"/>
            <p:cNvGrpSpPr/>
            <p:nvPr/>
          </p:nvGrpSpPr>
          <p:grpSpPr>
            <a:xfrm>
              <a:off x="1979640" y="5445000"/>
              <a:ext cx="5689080" cy="720720"/>
              <a:chOff x="1979640" y="5445000"/>
              <a:chExt cx="5689080" cy="720720"/>
            </a:xfrm>
          </p:grpSpPr>
          <p:sp>
            <p:nvSpPr>
              <p:cNvPr id="248" name="Rectangle 288"/>
              <p:cNvSpPr/>
              <p:nvPr/>
            </p:nvSpPr>
            <p:spPr>
              <a:xfrm>
                <a:off x="197964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с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Rectangle 297"/>
              <p:cNvSpPr/>
              <p:nvPr/>
            </p:nvSpPr>
            <p:spPr>
              <a:xfrm>
                <a:off x="694836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и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298"/>
              <p:cNvSpPr/>
              <p:nvPr/>
            </p:nvSpPr>
            <p:spPr>
              <a:xfrm>
                <a:off x="270000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ы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299"/>
              <p:cNvSpPr/>
              <p:nvPr/>
            </p:nvSpPr>
            <p:spPr>
              <a:xfrm>
                <a:off x="341928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р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300"/>
              <p:cNvSpPr/>
              <p:nvPr/>
            </p:nvSpPr>
            <p:spPr>
              <a:xfrm>
                <a:off x="406692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о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301"/>
              <p:cNvSpPr/>
              <p:nvPr/>
            </p:nvSpPr>
            <p:spPr>
              <a:xfrm>
                <a:off x="478764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е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Rectangle 302"/>
              <p:cNvSpPr/>
              <p:nvPr/>
            </p:nvSpPr>
            <p:spPr>
              <a:xfrm>
                <a:off x="550836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303"/>
              <p:cNvSpPr/>
              <p:nvPr/>
            </p:nvSpPr>
            <p:spPr>
              <a:xfrm>
                <a:off x="622764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к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Rectangle 306"/>
            <p:cNvSpPr/>
            <p:nvPr/>
          </p:nvSpPr>
          <p:spPr>
            <a:xfrm>
              <a:off x="1979640" y="5445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307"/>
            <p:cNvSpPr/>
            <p:nvPr/>
          </p:nvSpPr>
          <p:spPr>
            <a:xfrm>
              <a:off x="6948360" y="5445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308"/>
            <p:cNvSpPr/>
            <p:nvPr/>
          </p:nvSpPr>
          <p:spPr>
            <a:xfrm>
              <a:off x="2700360" y="5445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309"/>
            <p:cNvSpPr/>
            <p:nvPr/>
          </p:nvSpPr>
          <p:spPr>
            <a:xfrm>
              <a:off x="3419280" y="5445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310"/>
            <p:cNvSpPr/>
            <p:nvPr/>
          </p:nvSpPr>
          <p:spPr>
            <a:xfrm>
              <a:off x="4066920" y="5445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311"/>
            <p:cNvSpPr/>
            <p:nvPr/>
          </p:nvSpPr>
          <p:spPr>
            <a:xfrm>
              <a:off x="4787640" y="5445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312"/>
            <p:cNvSpPr/>
            <p:nvPr/>
          </p:nvSpPr>
          <p:spPr>
            <a:xfrm>
              <a:off x="5508360" y="5445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313"/>
            <p:cNvSpPr/>
            <p:nvPr/>
          </p:nvSpPr>
          <p:spPr>
            <a:xfrm>
              <a:off x="6227640" y="5445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33"/>
          <p:cNvGrpSpPr/>
          <p:nvPr/>
        </p:nvGrpSpPr>
        <p:grpSpPr>
          <a:xfrm>
            <a:off x="1979640" y="5445000"/>
            <a:ext cx="5689440" cy="720720"/>
            <a:chOff x="1979640" y="5445000"/>
            <a:chExt cx="5689440" cy="720720"/>
          </a:xfrm>
        </p:grpSpPr>
        <p:grpSp>
          <p:nvGrpSpPr>
            <p:cNvPr id="265" name="Group 334"/>
            <p:cNvGrpSpPr/>
            <p:nvPr/>
          </p:nvGrpSpPr>
          <p:grpSpPr>
            <a:xfrm>
              <a:off x="1979640" y="5445000"/>
              <a:ext cx="5689080" cy="720720"/>
              <a:chOff x="1979640" y="5445000"/>
              <a:chExt cx="5689080" cy="720720"/>
            </a:xfrm>
          </p:grpSpPr>
          <p:sp>
            <p:nvSpPr>
              <p:cNvPr id="266" name="Rectangle 335"/>
              <p:cNvSpPr/>
              <p:nvPr/>
            </p:nvSpPr>
            <p:spPr>
              <a:xfrm>
                <a:off x="197964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с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336"/>
              <p:cNvSpPr/>
              <p:nvPr/>
            </p:nvSpPr>
            <p:spPr>
              <a:xfrm>
                <a:off x="694836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и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Rectangle 337"/>
              <p:cNvSpPr/>
              <p:nvPr/>
            </p:nvSpPr>
            <p:spPr>
              <a:xfrm>
                <a:off x="270000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ы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Rectangle 338"/>
              <p:cNvSpPr/>
              <p:nvPr/>
            </p:nvSpPr>
            <p:spPr>
              <a:xfrm>
                <a:off x="341928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р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Rectangle 339"/>
              <p:cNvSpPr/>
              <p:nvPr/>
            </p:nvSpPr>
            <p:spPr>
              <a:xfrm>
                <a:off x="406692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о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Rectangle 340"/>
              <p:cNvSpPr/>
              <p:nvPr/>
            </p:nvSpPr>
            <p:spPr>
              <a:xfrm>
                <a:off x="478764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е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341"/>
              <p:cNvSpPr/>
              <p:nvPr/>
            </p:nvSpPr>
            <p:spPr>
              <a:xfrm>
                <a:off x="550836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342"/>
              <p:cNvSpPr/>
              <p:nvPr/>
            </p:nvSpPr>
            <p:spPr>
              <a:xfrm>
                <a:off x="622764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к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Rectangle 343"/>
            <p:cNvSpPr/>
            <p:nvPr/>
          </p:nvSpPr>
          <p:spPr>
            <a:xfrm>
              <a:off x="1979640" y="5445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344"/>
            <p:cNvSpPr/>
            <p:nvPr/>
          </p:nvSpPr>
          <p:spPr>
            <a:xfrm>
              <a:off x="6948360" y="5445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345"/>
            <p:cNvSpPr/>
            <p:nvPr/>
          </p:nvSpPr>
          <p:spPr>
            <a:xfrm>
              <a:off x="2700360" y="5445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346"/>
            <p:cNvSpPr/>
            <p:nvPr/>
          </p:nvSpPr>
          <p:spPr>
            <a:xfrm>
              <a:off x="3419280" y="5445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347"/>
            <p:cNvSpPr/>
            <p:nvPr/>
          </p:nvSpPr>
          <p:spPr>
            <a:xfrm>
              <a:off x="4066920" y="5445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348"/>
            <p:cNvSpPr/>
            <p:nvPr/>
          </p:nvSpPr>
          <p:spPr>
            <a:xfrm>
              <a:off x="4787640" y="5445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349"/>
            <p:cNvSpPr/>
            <p:nvPr/>
          </p:nvSpPr>
          <p:spPr>
            <a:xfrm>
              <a:off x="5508360" y="5445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350"/>
            <p:cNvSpPr/>
            <p:nvPr/>
          </p:nvSpPr>
          <p:spPr>
            <a:xfrm>
              <a:off x="6227640" y="5445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75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9" nodeType="afterEffect" fill="hold" presetClass="exit" presetID="55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2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85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29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95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99" nodeType="after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303" nodeType="after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9" dur="2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55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3" dur="1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Times New Roman"/>
              </a:rPr>
              <a:t>Прочитайте начало поговорки и подберите подходящее окончание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4032360" cy="5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 Black"/>
              </a:rPr>
              <a:t>  </a:t>
            </a:r>
            <a:r>
              <a:rPr b="0" lang="ru-RU" sz="2800" spc="-1" strike="noStrike">
                <a:solidFill>
                  <a:srgbClr val="330033"/>
                </a:solidFill>
                <a:latin typeface="Arial Black"/>
              </a:rPr>
              <a:t>Не поклонясь до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9">
            <a:hlinkClick r:id="" action="ppaction://hlinkshowjump?jump=nextslide"/>
          </p:cNvPr>
          <p:cNvSpPr/>
          <p:nvPr/>
        </p:nvSpPr>
        <p:spPr>
          <a:xfrm>
            <a:off x="817236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2"/>
          <p:cNvSpPr/>
          <p:nvPr/>
        </p:nvSpPr>
        <p:spPr>
          <a:xfrm>
            <a:off x="5364000" y="3429000"/>
            <a:ext cx="3383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полезай в ку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5"/>
          <p:cNvSpPr/>
          <p:nvPr/>
        </p:nvSpPr>
        <p:spPr>
          <a:xfrm>
            <a:off x="5292720" y="2060640"/>
            <a:ext cx="331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да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для здоровья опас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5435640" y="4797360"/>
            <a:ext cx="32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и гриб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не подниме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7"/>
          <p:cNvSpPr/>
          <p:nvPr/>
        </p:nvSpPr>
        <p:spPr>
          <a:xfrm>
            <a:off x="611280" y="3789360"/>
            <a:ext cx="4248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 Black"/>
              </a:rPr>
              <a:t>Назвался груздём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8"/>
          <p:cNvSpPr/>
          <p:nvPr/>
        </p:nvSpPr>
        <p:spPr>
          <a:xfrm>
            <a:off x="826920" y="3213000"/>
            <a:ext cx="37450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 Black"/>
              </a:rPr>
              <a:t>Мухомор</a:t>
            </a:r>
            <a:r>
              <a:rPr b="1" lang="ru-RU" sz="2000" spc="-1" strike="noStrike">
                <a:solidFill>
                  <a:srgbClr val="330033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330033"/>
                </a:solidFill>
                <a:latin typeface="Arial Black"/>
              </a:rPr>
              <a:t>красе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9">
            <a:hlinkClick r:id="" action="ppaction://hlinkshowjump?jump=previousslide"/>
          </p:cNvPr>
          <p:cNvSpPr/>
          <p:nvPr/>
        </p:nvSpPr>
        <p:spPr>
          <a:xfrm>
            <a:off x="3492360" y="6165720"/>
            <a:ext cx="574920" cy="432000"/>
          </a:xfrm>
          <a:custGeom>
            <a:avLst/>
            <a:gdLst>
              <a:gd name="textAreaLeft" fmla="*/ 27720 w 574920"/>
              <a:gd name="textAreaRight" fmla="*/ 547200 w 574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40" h="21600">
                <a:moveTo>
                  <a:pt x="0" y="0"/>
                </a:moveTo>
                <a:lnTo>
                  <a:pt x="28740" y="0"/>
                </a:lnTo>
                <a:lnTo>
                  <a:pt x="28740" y="21600"/>
                </a:lnTo>
                <a:lnTo>
                  <a:pt x="0" y="21600"/>
                </a:lnTo>
                <a:close/>
              </a:path>
              <a:path fill="lightenLess" w="28740" h="21600">
                <a:moveTo>
                  <a:pt x="0" y="0"/>
                </a:moveTo>
                <a:lnTo>
                  <a:pt x="28740" y="0"/>
                </a:lnTo>
                <a:lnTo>
                  <a:pt x="27340" y="1400"/>
                </a:lnTo>
                <a:lnTo>
                  <a:pt x="1400" y="1400"/>
                </a:lnTo>
                <a:close/>
              </a:path>
              <a:path fill="darken" w="28740" h="21600">
                <a:moveTo>
                  <a:pt x="28740" y="0"/>
                </a:moveTo>
                <a:lnTo>
                  <a:pt x="28740" y="21600"/>
                </a:lnTo>
                <a:lnTo>
                  <a:pt x="27340" y="20200"/>
                </a:lnTo>
                <a:lnTo>
                  <a:pt x="27340" y="1400"/>
                </a:lnTo>
                <a:close/>
              </a:path>
              <a:path fill="darkenLess" w="28740" h="21600">
                <a:moveTo>
                  <a:pt x="287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40" y="20200"/>
                </a:lnTo>
                <a:close/>
              </a:path>
              <a:path fill="lighten" w="287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40" h="21600">
                <a:moveTo>
                  <a:pt x="7364" y="10800"/>
                </a:moveTo>
                <a:lnTo>
                  <a:pt x="21377" y="3794"/>
                </a:lnTo>
                <a:lnTo>
                  <a:pt x="2137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3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5573 -0.00879 C 0.05903 0.00485 0.06979 0.00901 0.07795 0.01664 C 0.08663 0.02474 0.09357 0.03329 0.10173 0.04208 C 0.10868 0.06589 0.09982 0.03907 0.11128 0.06312 C 0.11788 0.07722 0.12153 0.09572 0.12396 0.1119 C 0.12343 0.13225 0.12482 0.15306 0.12239 0.17318 C 0.12153 0.17965 0.11718 0.18451 0.11441 0.19006 C 0.11337 0.19214 0.11128 0.1963 0.11128 0.19653 C 0.10937 0.20948 0.10538 0.21225 0.10173 0.22381 C 0.0993 0.23144 0.09896 0.23792 0.09531 0.24508 C 0.09166 0.26451 0.09583 0.25873 0.0875 0.26612 C 0.0842 0.28439 0.07014 0.30427 0.05729 0.3126 C 0.04583 0.32855 0.06007 0.31029 0.04618 0.32323 C 0.03576 0.33295 0.04705 0.32716 0.03663 0.33156 C 0.03212 0.33803 0.02482 0.34127 0.01927 0.34636 C 0.00121 0.36231 0.01892 0.35375 0.00642 0.35907 C 0.0059 0.36115 0.00451 0.36323 0.00486 0.36555 C 0.0059 0.37271 0.0092 0.37179 0.01284 0.37387 C 0.01823 0.37711 0.02378 0.38011 0.02864 0.38451 C 0.03125 0.38381 0.03663 0.38243 0.03663 0.38266 E">
                                      <p:cBhvr>
                                        <p:cTn id="388" dur="20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521 -0.00069 0.01111 0.00116 0.0158 -0.00208 C 0.01754 -0.00324 0.01233 -0.00601 0.01268 -0.00855 C 0.01302 -0.01156 0.01563 -0.01295 0.01736 -0.0148 C 0.02222 -0.02011 0.02483 -0.02243 0.02847 -0.02959 C 0.02657 -0.05433 0.02657 -0.08994 0.0158 -0.11214 C 0.01198 -0.13225 0.00504 -0.13826 -0.0033 -0.15422 C -0.00382 -0.1563 -0.00416 -0.15861 -0.00486 -0.16069 C -0.00573 -0.163 -0.0085 -0.16462 -0.00798 -0.16694 C -0.00764 -0.16902 -0.00486 -0.16855 -0.0033 -0.16902 C 0.00139 -0.17017 0.00625 -0.17063 0.01111 -0.17133 C 0.00556 -0.17826 0.00764 -0.17526 0.01268 -0.17133 C 0.01893 -0.16647 0.01771 -0.1674 0.02379 -0.16485 C 0.02882 -0.16023 0.03038 -0.16069 0.02691 -0.16069 E">
                                      <p:cBhvr>
                                        <p:cTn id="392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13767 0.11654 C -0.11944 0.11469 -0.10243 0.11284 -0.08455 0.10821 C -0.07552 0.10174 -0.06979 0.09804 -0.06198 0.09018 C -0.05382 0.08162 -0.05087 0.06914 -0.04288 0.06035 C -0.04045 0.05041 -0.03489 0.04347 -0.0316 0.03422 C -0.02743 0.02243 -0.03316 0.03261 -0.02673 0.02266 C -0.02274 0.00671 -0.02708 0.01226 -0.01701 0.00463 C -0.0118 -0.00346 -0.00885 -0.01294 -0.00104 -0.01849 C 0.00226 -0.02867 0.00365 -0.02705 0.01198 -0.03167 E">
                                      <p:cBhvr>
                                        <p:cTn id="396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09:47:55Z</dcterms:created>
  <dc:creator>user</dc:creator>
  <dc:description/>
  <dc:language>en-US</dc:language>
  <cp:lastModifiedBy>LEGION2</cp:lastModifiedBy>
  <dcterms:modified xsi:type="dcterms:W3CDTF">2015-04-24T11:29:55Z</dcterms:modified>
  <cp:revision>70</cp:revision>
  <dc:subject/>
  <dc:title>Грибы</dc:title>
</cp:coreProperties>
</file>