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BE29-1E1D-4591-9681-EA1BB81493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slide" Target="../slides/slide16.xml"/><Relationship Id="rId5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5E3D-BA80-4C5D-B015-74A3C744A8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6674-4332-4464-A5FE-A670D5F710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9C9D-F005-403C-82C6-4E8EE616C1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E05A-6CA4-4106-BB9B-3960721EFD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E264-C2FC-4870-9794-EBCCFBC927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74C7-7664-463E-973D-576FBF2DF2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41B1-4A1E-4EAC-807D-1DDE8D59E1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hinorias.livejournal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irota.ru/forum/view.php?subj=47964&amp;order=desc&amp;fullview=&amp;pg=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kartinki/geografija/Prirodnaja-zona-Tundra/062-Zolotaja-osen-krasiva-v-tundre.html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fotografii/geografija/Prirodnaja-zona-Tundra/035-Osnovnuju-massu-tsvetkovykh-rastenij-tundry-predstavljajut-kustarniki.htm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6DAB-971B-4E58-A861-1B617E0764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0C78-19EC-4FD9-85B2-75EF03528E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3B4D-4977-46FB-A1AB-92BF7F1931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F95F-CEA8-41FF-8947-440E4291FE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6BB9-DAD2-45DB-A1C3-FB531A1C4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5BCD-8C7F-4CB5-8AB3-4376A0710A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37BC-0FF8-4E93-8D9E-32546267E1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E896-BD7A-41C5-B0AE-3FC51DBC59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EAD-D933-47D1-BC56-E38E9BF7D3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CAE-5708-4CD0-89D0-11CA5511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F58-3F54-4DEA-8A40-A1838451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832-4128-4688-97B0-7A2710B3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414-8E94-4F02-BE28-1A535864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42B-72D6-448B-B4F5-2878ED7A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BDF-BF0D-4B1A-AD21-AA076200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25F-DD7D-47DC-9B01-DA240166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D65-66E6-4D81-B4CC-A0508815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12C-11ED-41B3-8DC6-142412CD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C58-26AA-4B24-86D3-2C00B54F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299-C7DE-432D-B4F4-D76DFCA0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88B-7BA2-4C08-AE73-FD99E4DE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047C-FCE5-431E-B34B-2DAA059246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3E28-D26F-40BA-A96F-D399F3AC9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tyumen.rfn.ru/p/m_12731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hyperlink" Target="http://hinorias.livejournal.com/" TargetMode="External"/><Relationship Id="rId5" Type="http://schemas.openxmlformats.org/officeDocument/2006/relationships/hyperlink" Target="http://www.cirota.ru/forum/view.php?subj=47964&amp;order=desc&amp;fullview=&amp;pg=176" TargetMode="External"/><Relationship Id="rId6" Type="http://schemas.openxmlformats.org/officeDocument/2006/relationships/hyperlink" Target="http://900igr.net/kartinki/geografija/Prirodnaja-zona-Tundra/062-Zolotaja-osen-krasiva-v-tundre.html" TargetMode="External"/><Relationship Id="rId7" Type="http://schemas.openxmlformats.org/officeDocument/2006/relationships/hyperlink" Target="http://900igr.net/fotografii/geografija/Prirodnaja-zona-Tundra/035-Osnovnuju-massu-tsvetkovykh-rastenij-tundry-predstavljajut-kustarniki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82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680" y="14292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Подозё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428840" y="5572080"/>
            <a:ext cx="6072120" cy="916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Щавелё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2960" y="1214280"/>
            <a:ext cx="8001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Картинка 8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214280" y="714240"/>
            <a:ext cx="7286760" cy="1373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тундрау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36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2424953"/>
          <p:cNvPicPr/>
          <p:nvPr/>
        </p:nvPicPr>
        <p:blipFill>
          <a:blip r:embed="rId2"/>
          <a:stretch/>
        </p:blipFill>
        <p:spPr>
          <a:xfrm>
            <a:off x="4071960" y="2946240"/>
            <a:ext cx="4738680" cy="35546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28584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Картинка 4 из 96060"/>
          <p:cNvPicPr/>
          <p:nvPr/>
        </p:nvPicPr>
        <p:blipFill>
          <a:blip r:embed="rId1"/>
          <a:stretch/>
        </p:blipFill>
        <p:spPr>
          <a:xfrm>
            <a:off x="0" y="785880"/>
            <a:ext cx="5438880" cy="407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100_18"/>
          <p:cNvPicPr/>
          <p:nvPr/>
        </p:nvPicPr>
        <p:blipFill>
          <a:blip r:embed="rId2"/>
          <a:stretch/>
        </p:blipFill>
        <p:spPr>
          <a:xfrm>
            <a:off x="4572000" y="2857680"/>
            <a:ext cx="4173480" cy="37144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49120" y="214200"/>
            <a:ext cx="85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lentaregion.ru/wp-content/uploads/2011/11/z2.jpg"/>
          <p:cNvPicPr/>
          <p:nvPr/>
        </p:nvPicPr>
        <p:blipFill>
          <a:blip r:embed="rId1"/>
          <a:stretch/>
        </p:blipFill>
        <p:spPr>
          <a:xfrm>
            <a:off x="285840" y="785880"/>
            <a:ext cx="4214880" cy="324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tyumen.rfn.ru/p/m_1273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4920" y="22147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Картинка 9 из 135401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Схема 4" descr=""/>
          <p:cNvPicPr/>
          <p:nvPr/>
        </p:nvPicPr>
        <p:blipFill>
          <a:blip r:embed="rId2"/>
          <a:stretch/>
        </p:blipFill>
        <p:spPr>
          <a:xfrm>
            <a:off x="500040" y="347760"/>
            <a:ext cx="8004240" cy="57974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Картинка 2 из 468"/>
          <p:cNvPicPr/>
          <p:nvPr/>
        </p:nvPicPr>
        <p:blipFill>
          <a:blip r:embed="rId1"/>
          <a:stretch/>
        </p:blipFill>
        <p:spPr>
          <a:xfrm>
            <a:off x="4000680" y="1071720"/>
            <a:ext cx="4214520" cy="281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Картинка 0 из 6545"/>
          <p:cNvPicPr/>
          <p:nvPr/>
        </p:nvPicPr>
        <p:blipFill>
          <a:blip r:embed="rId2"/>
          <a:stretch/>
        </p:blipFill>
        <p:spPr>
          <a:xfrm>
            <a:off x="857160" y="1214280"/>
            <a:ext cx="2643120" cy="28576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500040" y="142920"/>
            <a:ext cx="7858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14200" y="3714840"/>
            <a:ext cx="22147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5929200" y="3571920"/>
            <a:ext cx="2738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овый леб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Картинка 2 из 1023"/>
          <p:cNvPicPr/>
          <p:nvPr/>
        </p:nvPicPr>
        <p:blipFill>
          <a:blip r:embed="rId3"/>
          <a:stretch/>
        </p:blipFill>
        <p:spPr>
          <a:xfrm>
            <a:off x="1071720" y="4286160"/>
            <a:ext cx="2928960" cy="2301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14200" y="6286680"/>
            <a:ext cx="307188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зобая каз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Картинка 2 из 7949"/>
          <p:cNvPicPr/>
          <p:nvPr/>
        </p:nvPicPr>
        <p:blipFill>
          <a:blip r:embed="rId4"/>
          <a:stretch/>
        </p:blipFill>
        <p:spPr>
          <a:xfrm>
            <a:off x="4572000" y="4071960"/>
            <a:ext cx="3214800" cy="2529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6858000" y="6286680"/>
            <a:ext cx="1757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ч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hinorias.livejournal.com/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cirota.ru/forum/view.php?subj=47964&amp;order=desc&amp;fullview=&amp;pg=17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900igr.net/kartinki/geografija/Prirodnaja-zona-Tundra/062-Zolotaja-osen-krasiva-v-tundre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900igr.net/fotografii/geografija/Prirodnaja-zona-Tundra/035-Osnovnuju-massu-tsvetkovykh-rastenij-tundry-predstavljajut-kustarniki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0" descr="зона тундры.jpg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601640" y="214200"/>
            <a:ext cx="52149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764388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5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6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8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1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2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3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5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6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8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9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2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4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5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6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8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9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1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2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4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5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6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7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9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0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1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2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3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5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6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7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8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9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1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2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3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4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5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6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7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8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9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0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2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3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4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5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7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8"/>
          <p:cNvSpPr/>
          <p:nvPr/>
        </p:nvSpPr>
        <p:spPr>
          <a:xfrm>
            <a:off x="7643880" y="6091200"/>
            <a:ext cx="64296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0" descr=""/>
          <p:cNvPicPr/>
          <p:nvPr/>
        </p:nvPicPr>
        <p:blipFill>
          <a:blip r:embed="rId2"/>
          <a:stretch/>
        </p:blipFill>
        <p:spPr>
          <a:xfrm>
            <a:off x="244440" y="1547640"/>
            <a:ext cx="4516560" cy="3945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31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_d0f9_68358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285840" y="3571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Картинка 5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285840" y="285840"/>
            <a:ext cx="8572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85840" y="2858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Картинка 3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785880" y="2071800"/>
            <a:ext cx="7786800" cy="1068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8" descr="0001-001-Tundra.jpg"/>
          <p:cNvPicPr/>
          <p:nvPr/>
        </p:nvPicPr>
        <p:blipFill>
          <a:blip r:embed="rId1"/>
          <a:stretch/>
        </p:blipFill>
        <p:spPr>
          <a:xfrm>
            <a:off x="0" y="0"/>
            <a:ext cx="9291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428760" y="1143000"/>
            <a:ext cx="814392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19160" y="2071800"/>
            <a:ext cx="3095640" cy="226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6072120" y="20178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214200" y="4670280"/>
            <a:ext cx="3000600" cy="204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5"/>
          <a:stretch/>
        </p:blipFill>
        <p:spPr>
          <a:xfrm>
            <a:off x="6072120" y="4533840"/>
            <a:ext cx="3071880" cy="20923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4"/>
          <p:cNvSpPr/>
          <p:nvPr/>
        </p:nvSpPr>
        <p:spPr>
          <a:xfrm>
            <a:off x="285840" y="2214720"/>
            <a:ext cx="25718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 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5"/>
          <p:cNvSpPr/>
          <p:nvPr/>
        </p:nvSpPr>
        <p:spPr>
          <a:xfrm>
            <a:off x="6286680" y="2071800"/>
            <a:ext cx="25714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берё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857160" y="4714920"/>
            <a:ext cx="17146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6786720" y="4643280"/>
            <a:ext cx="178596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ягель"/>
          <p:cNvPicPr/>
          <p:nvPr/>
        </p:nvPicPr>
        <p:blipFill>
          <a:blip r:embed="rId6"/>
          <a:stretch/>
        </p:blipFill>
        <p:spPr>
          <a:xfrm>
            <a:off x="3643200" y="2071800"/>
            <a:ext cx="1857600" cy="21193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9"/>
          <p:cNvSpPr/>
          <p:nvPr/>
        </p:nvSpPr>
        <p:spPr>
          <a:xfrm>
            <a:off x="3929040" y="3643200"/>
            <a:ext cx="12146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лишай"/>
          <p:cNvPicPr/>
          <p:nvPr/>
        </p:nvPicPr>
        <p:blipFill>
          <a:blip r:embed="rId7"/>
          <a:stretch/>
        </p:blipFill>
        <p:spPr>
          <a:xfrm>
            <a:off x="3500280" y="4357800"/>
            <a:ext cx="2286000" cy="23875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1"/>
          <p:cNvSpPr/>
          <p:nvPr/>
        </p:nvSpPr>
        <p:spPr>
          <a:xfrm>
            <a:off x="3857760" y="6143760"/>
            <a:ext cx="157140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Картинка 6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785880" y="2071800"/>
            <a:ext cx="7786800" cy="1556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fac09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928800" y="1071720"/>
            <a:ext cx="71434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4" descr="северный олень.jpg"/>
          <p:cNvPicPr/>
          <p:nvPr/>
        </p:nvPicPr>
        <p:blipFill>
          <a:blip r:embed="rId1"/>
          <a:stretch/>
        </p:blipFill>
        <p:spPr>
          <a:xfrm>
            <a:off x="214200" y="1928880"/>
            <a:ext cx="2524320" cy="2000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чудо лемминг.jpg"/>
          <p:cNvPicPr/>
          <p:nvPr/>
        </p:nvPicPr>
        <p:blipFill>
          <a:blip r:embed="rId2"/>
          <a:stretch/>
        </p:blipFill>
        <p:spPr>
          <a:xfrm>
            <a:off x="3286080" y="207180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3643200" y="35719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9" descr="0060-078-Pesets.jpg"/>
          <p:cNvPicPr/>
          <p:nvPr/>
        </p:nvPicPr>
        <p:blipFill>
          <a:blip r:embed="rId3"/>
          <a:stretch/>
        </p:blipFill>
        <p:spPr>
          <a:xfrm>
            <a:off x="6215040" y="2071800"/>
            <a:ext cx="2714760" cy="17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857160" y="37861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7572240" y="3429000"/>
            <a:ext cx="1319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4" descr="0056-073-Belaja-sova.jpg"/>
          <p:cNvPicPr/>
          <p:nvPr/>
        </p:nvPicPr>
        <p:blipFill>
          <a:blip r:embed="rId4"/>
          <a:stretch/>
        </p:blipFill>
        <p:spPr>
          <a:xfrm>
            <a:off x="571680" y="4143240"/>
            <a:ext cx="1643040" cy="2524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гагарка-2.jpg"/>
          <p:cNvPicPr/>
          <p:nvPr/>
        </p:nvPicPr>
        <p:blipFill>
          <a:blip r:embed="rId5"/>
          <a:stretch/>
        </p:blipFill>
        <p:spPr>
          <a:xfrm>
            <a:off x="3643200" y="4286160"/>
            <a:ext cx="2095560" cy="19288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6" descr="кур.jpg"/>
          <p:cNvPicPr/>
          <p:nvPr/>
        </p:nvPicPr>
        <p:blipFill>
          <a:blip r:embed="rId6"/>
          <a:stretch/>
        </p:blipFill>
        <p:spPr>
          <a:xfrm>
            <a:off x="6357960" y="4071960"/>
            <a:ext cx="2119320" cy="2482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1"/>
          <p:cNvSpPr/>
          <p:nvPr/>
        </p:nvSpPr>
        <p:spPr>
          <a:xfrm>
            <a:off x="857160" y="628668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ая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3857760" y="6286680"/>
            <a:ext cx="1571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га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6786720" y="6215040"/>
            <a:ext cx="21430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куроп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11:05Z</dcterms:created>
  <dc:creator>user</dc:creator>
  <dc:description/>
  <dc:language>en-US</dc:language>
  <cp:lastModifiedBy>LEGION2</cp:lastModifiedBy>
  <dcterms:modified xsi:type="dcterms:W3CDTF">2015-04-24T11:51:00Z</dcterms:modified>
  <cp:revision>29</cp:revision>
  <dc:subject/>
  <dc:title>Слайд 1</dc:title>
</cp:coreProperties>
</file>