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E920-42A8-45D1-9D37-024BB27CFD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slide" Target="../slides/slide16.xml"/><Relationship Id="rId5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295E-810D-4531-85F1-FEF9293368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9C0F-811A-445D-A848-80066E6C7E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FE37-46E0-4B7A-88B0-A265F046A9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927C-F77F-47C9-9463-5A29C1F5FE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6923-C335-4F9D-B5DB-4C8CABBD09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7850-329E-493F-A528-0AAEAECB2F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9B76-697A-4D85-8C0D-F5B661A934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hinorias.livejournal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irota.ru/forum/view.php?subj=47964&amp;order=desc&amp;fullview=&amp;pg=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kartinki/geografija/Prirodnaja-zona-Tundra/062-Zolotaja-osen-krasiva-v-tundre.html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900igr.net/fotografii/geografija/Prirodnaja-zona-Tundra/035-Osnovnuju-massu-tsvetkovykh-rastenij-tundry-predstavljajut-kustarniki.htm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3DA0-0AA5-4227-9E76-2B704B4B9E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1A14-B709-44A0-92C1-F02D8F9A00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AF43-A78A-4E16-9DDE-4684B56137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F9D6-8427-4E9A-A4F6-EB6D0AED66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FA3C-B556-4CE6-9D93-0D8068EC43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10BC-73AC-4C4E-A2E3-67406D6E0C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2E38-B0A6-4DE8-AE92-C577B6CBB7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5E37-FB6B-4F51-B583-4533ABD6B4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769E-FABD-4D67-9F95-52433CCC0E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483-57CE-4208-9548-F4874E1F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0DA-DA3F-4C2E-8DC6-1D39E9C9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25F-FE67-4E43-91F5-4A885F14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75E-3B28-4F71-9FE3-E53BB7C3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7EF-1A35-4489-98B7-5EF024DB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57A-FDDC-405F-8A72-C1828CED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628-46BC-4409-B454-C674DE50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5AD-7CA8-468B-B622-70DAF64D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FDE-B7A4-4AF9-8109-F325F981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A75-2BB0-4BCD-862F-69F58C06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4D5-120F-479A-83B7-89FAE50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6A4-3933-42AC-B2B8-3C4AED16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565E-9B85-4B9D-8649-E827D50CCCF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4AA6-791E-409C-9D39-019C3B6B7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tyumen.rfn.ru/p/m_12731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litforums.ru/historypages/1319867440.html" TargetMode="External"/><Relationship Id="rId2" Type="http://schemas.openxmlformats.org/officeDocument/2006/relationships/hyperlink" Target="http://sibforum.mybb3.ru/viewtopic.php?p=212547" TargetMode="External"/><Relationship Id="rId3" Type="http://schemas.openxmlformats.org/officeDocument/2006/relationships/hyperlink" Target="http://www.duke.edu/web/nicholas/bio217/rsf4%20awc7/f_flora.html" TargetMode="External"/><Relationship Id="rId4" Type="http://schemas.openxmlformats.org/officeDocument/2006/relationships/hyperlink" Target="http://hinorias.livejournal.com/" TargetMode="External"/><Relationship Id="rId5" Type="http://schemas.openxmlformats.org/officeDocument/2006/relationships/hyperlink" Target="http://www.cirota.ru/forum/view.php?subj=47964&amp;order=desc&amp;fullview=&amp;pg=176" TargetMode="External"/><Relationship Id="rId6" Type="http://schemas.openxmlformats.org/officeDocument/2006/relationships/hyperlink" Target="http://900igr.net/kartinki/geografija/Prirodnaja-zona-Tundra/062-Zolotaja-osen-krasiva-v-tundre.html" TargetMode="External"/><Relationship Id="rId7" Type="http://schemas.openxmlformats.org/officeDocument/2006/relationships/hyperlink" Target="http://900igr.net/fotografii/geografija/Prirodnaja-zona-Tundra/035-Osnovnuju-massu-tsvetkovykh-rastenij-tundry-predstavljajut-kustarniki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82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680" y="14292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Подозёр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428840" y="5572080"/>
            <a:ext cx="6072120" cy="916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Щавелё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2960" y="1214280"/>
            <a:ext cx="8001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3300"/>
                </a:solidFill>
                <a:latin typeface="Book Antiqua"/>
              </a:rPr>
              <a:t>ТУНДР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Картинка 8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214280" y="714240"/>
            <a:ext cx="7286760" cy="1373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нятия населения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проблем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природы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тундрау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36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2424953"/>
          <p:cNvPicPr/>
          <p:nvPr/>
        </p:nvPicPr>
        <p:blipFill>
          <a:blip r:embed="rId2"/>
          <a:stretch/>
        </p:blipFill>
        <p:spPr>
          <a:xfrm>
            <a:off x="4071960" y="2946240"/>
            <a:ext cx="4738680" cy="35546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28584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 населения  в тундре  невелика:  меньш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еловека на 1 кв. км. Здесь живут ханты, манси, эскимосы, якуты, чукч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Картинка 4 из 96060"/>
          <p:cNvPicPr/>
          <p:nvPr/>
        </p:nvPicPr>
        <p:blipFill>
          <a:blip r:embed="rId1"/>
          <a:stretch/>
        </p:blipFill>
        <p:spPr>
          <a:xfrm>
            <a:off x="0" y="785880"/>
            <a:ext cx="5438880" cy="4071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100_18"/>
          <p:cNvPicPr/>
          <p:nvPr/>
        </p:nvPicPr>
        <p:blipFill>
          <a:blip r:embed="rId2"/>
          <a:stretch/>
        </p:blipFill>
        <p:spPr>
          <a:xfrm>
            <a:off x="4572000" y="2857680"/>
            <a:ext cx="4173480" cy="3714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занятие населения тундры – олен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49120" y="214200"/>
            <a:ext cx="85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ся добыча полезных ископаемых – нефти и г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lentaregion.ru/wp-content/uploads/2011/11/z2.jpg"/>
          <p:cNvPicPr/>
          <p:nvPr/>
        </p:nvPicPr>
        <p:blipFill>
          <a:blip r:embed="rId1"/>
          <a:stretch/>
        </p:blipFill>
        <p:spPr>
          <a:xfrm>
            <a:off x="285840" y="785880"/>
            <a:ext cx="4214880" cy="324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tyumen.rfn.ru/p/m_1273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4920" y="22147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Картинка 9 из 135401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Схема 4" descr=""/>
          <p:cNvPicPr/>
          <p:nvPr/>
        </p:nvPicPr>
        <p:blipFill>
          <a:blip r:embed="rId2"/>
          <a:stretch/>
        </p:blipFill>
        <p:spPr>
          <a:xfrm>
            <a:off x="500040" y="347760"/>
            <a:ext cx="8004240" cy="57974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Картинка 2 из 468"/>
          <p:cNvPicPr/>
          <p:nvPr/>
        </p:nvPicPr>
        <p:blipFill>
          <a:blip r:embed="rId1"/>
          <a:stretch/>
        </p:blipFill>
        <p:spPr>
          <a:xfrm>
            <a:off x="4000680" y="1071720"/>
            <a:ext cx="4214520" cy="281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Картинка 0 из 6545"/>
          <p:cNvPicPr/>
          <p:nvPr/>
        </p:nvPicPr>
        <p:blipFill>
          <a:blip r:embed="rId2"/>
          <a:stretch/>
        </p:blipFill>
        <p:spPr>
          <a:xfrm>
            <a:off x="857160" y="1214280"/>
            <a:ext cx="2643120" cy="28576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500040" y="142920"/>
            <a:ext cx="7858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богатства тундры взяты под ох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запове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14200" y="3714840"/>
            <a:ext cx="22147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5929200" y="3571920"/>
            <a:ext cx="2738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овый леб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Картинка 2 из 1023"/>
          <p:cNvPicPr/>
          <p:nvPr/>
        </p:nvPicPr>
        <p:blipFill>
          <a:blip r:embed="rId3"/>
          <a:stretch/>
        </p:blipFill>
        <p:spPr>
          <a:xfrm>
            <a:off x="1071720" y="4286160"/>
            <a:ext cx="2928960" cy="2301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14200" y="6286680"/>
            <a:ext cx="307188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зобая каз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Картинка 2 из 7949"/>
          <p:cNvPicPr/>
          <p:nvPr/>
        </p:nvPicPr>
        <p:blipFill>
          <a:blip r:embed="rId4"/>
          <a:stretch/>
        </p:blipFill>
        <p:spPr>
          <a:xfrm>
            <a:off x="4572000" y="4071960"/>
            <a:ext cx="3214800" cy="2529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6858000" y="6286680"/>
            <a:ext cx="17575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ч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olitforums.ru/historypages/1319867440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bforum.mybb3.ru/viewtopic.php?p=212547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duke.edu/web/nicholas/bio217/rsf4 awc7/f_flora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hinorias.livejournal.com/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cirota.ru/forum/view.php?subj=47964&amp;order=desc&amp;fullview=&amp;pg=17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900igr.net/kartinki/geografija/Prirodnaja-zona-Tundra/062-Zolotaja-osen-krasiva-v-tundre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900igr.net/fotografii/geografija/Prirodnaja-zona-Tundra/035-Osnovnuju-massu-tsvetkovykh-rastenij-tundry-predstavljajut-kustarniki.htm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0" descr="зона тундры.jpg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1601640" y="214200"/>
            <a:ext cx="52149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바탕"/>
                <a:ea typeface="바탕"/>
              </a:rPr>
              <a:t>ОТГАДАЙ 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764388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5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6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8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2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3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5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6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9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2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4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5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6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8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9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1"/>
          <p:cNvSpPr/>
          <p:nvPr/>
        </p:nvSpPr>
        <p:spPr>
          <a:xfrm>
            <a:off x="700092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2"/>
          <p:cNvSpPr/>
          <p:nvPr/>
        </p:nvSpPr>
        <p:spPr>
          <a:xfrm>
            <a:off x="635796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3"/>
          <p:cNvSpPr/>
          <p:nvPr/>
        </p:nvSpPr>
        <p:spPr>
          <a:xfrm>
            <a:off x="571500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4"/>
          <p:cNvSpPr/>
          <p:nvPr/>
        </p:nvSpPr>
        <p:spPr>
          <a:xfrm>
            <a:off x="50720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5"/>
          <p:cNvSpPr/>
          <p:nvPr/>
        </p:nvSpPr>
        <p:spPr>
          <a:xfrm>
            <a:off x="82868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6"/>
          <p:cNvSpPr/>
          <p:nvPr/>
        </p:nvSpPr>
        <p:spPr>
          <a:xfrm>
            <a:off x="764388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7"/>
          <p:cNvSpPr/>
          <p:nvPr/>
        </p:nvSpPr>
        <p:spPr>
          <a:xfrm>
            <a:off x="700092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8"/>
          <p:cNvSpPr/>
          <p:nvPr/>
        </p:nvSpPr>
        <p:spPr>
          <a:xfrm>
            <a:off x="635796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9"/>
          <p:cNvSpPr/>
          <p:nvPr/>
        </p:nvSpPr>
        <p:spPr>
          <a:xfrm>
            <a:off x="571500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0"/>
          <p:cNvSpPr/>
          <p:nvPr/>
        </p:nvSpPr>
        <p:spPr>
          <a:xfrm>
            <a:off x="5072040" y="3519360"/>
            <a:ext cx="642960" cy="642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1"/>
          <p:cNvSpPr/>
          <p:nvPr/>
        </p:nvSpPr>
        <p:spPr>
          <a:xfrm>
            <a:off x="82868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2"/>
          <p:cNvSpPr/>
          <p:nvPr/>
        </p:nvSpPr>
        <p:spPr>
          <a:xfrm>
            <a:off x="764388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3"/>
          <p:cNvSpPr/>
          <p:nvPr/>
        </p:nvSpPr>
        <p:spPr>
          <a:xfrm>
            <a:off x="764388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4"/>
          <p:cNvSpPr/>
          <p:nvPr/>
        </p:nvSpPr>
        <p:spPr>
          <a:xfrm>
            <a:off x="700092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5"/>
          <p:cNvSpPr/>
          <p:nvPr/>
        </p:nvSpPr>
        <p:spPr>
          <a:xfrm>
            <a:off x="764388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6"/>
          <p:cNvSpPr/>
          <p:nvPr/>
        </p:nvSpPr>
        <p:spPr>
          <a:xfrm>
            <a:off x="7643880" y="9478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7"/>
          <p:cNvSpPr/>
          <p:nvPr/>
        </p:nvSpPr>
        <p:spPr>
          <a:xfrm>
            <a:off x="571500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8"/>
          <p:cNvSpPr/>
          <p:nvPr/>
        </p:nvSpPr>
        <p:spPr>
          <a:xfrm>
            <a:off x="700092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59"/>
          <p:cNvSpPr/>
          <p:nvPr/>
        </p:nvSpPr>
        <p:spPr>
          <a:xfrm>
            <a:off x="635796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0"/>
          <p:cNvSpPr/>
          <p:nvPr/>
        </p:nvSpPr>
        <p:spPr>
          <a:xfrm>
            <a:off x="635796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1"/>
          <p:cNvSpPr/>
          <p:nvPr/>
        </p:nvSpPr>
        <p:spPr>
          <a:xfrm>
            <a:off x="635796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2"/>
          <p:cNvSpPr/>
          <p:nvPr/>
        </p:nvSpPr>
        <p:spPr>
          <a:xfrm>
            <a:off x="5072040" y="287640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3"/>
          <p:cNvSpPr/>
          <p:nvPr/>
        </p:nvSpPr>
        <p:spPr>
          <a:xfrm>
            <a:off x="5072040" y="22334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4"/>
          <p:cNvSpPr/>
          <p:nvPr/>
        </p:nvSpPr>
        <p:spPr>
          <a:xfrm>
            <a:off x="5072040" y="1590840"/>
            <a:ext cx="64296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5"/>
          <p:cNvSpPr/>
          <p:nvPr/>
        </p:nvSpPr>
        <p:spPr>
          <a:xfrm>
            <a:off x="82868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6"/>
          <p:cNvSpPr/>
          <p:nvPr/>
        </p:nvSpPr>
        <p:spPr>
          <a:xfrm>
            <a:off x="764388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7"/>
          <p:cNvSpPr/>
          <p:nvPr/>
        </p:nvSpPr>
        <p:spPr>
          <a:xfrm>
            <a:off x="82868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8"/>
          <p:cNvSpPr/>
          <p:nvPr/>
        </p:nvSpPr>
        <p:spPr>
          <a:xfrm>
            <a:off x="764388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9"/>
          <p:cNvSpPr/>
          <p:nvPr/>
        </p:nvSpPr>
        <p:spPr>
          <a:xfrm>
            <a:off x="6357960" y="60199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0"/>
          <p:cNvSpPr/>
          <p:nvPr/>
        </p:nvSpPr>
        <p:spPr>
          <a:xfrm>
            <a:off x="635796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1"/>
          <p:cNvSpPr/>
          <p:nvPr/>
        </p:nvSpPr>
        <p:spPr>
          <a:xfrm>
            <a:off x="571500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72"/>
          <p:cNvSpPr/>
          <p:nvPr/>
        </p:nvSpPr>
        <p:spPr>
          <a:xfrm>
            <a:off x="5072040" y="544824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3"/>
          <p:cNvSpPr/>
          <p:nvPr/>
        </p:nvSpPr>
        <p:spPr>
          <a:xfrm>
            <a:off x="635796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4"/>
          <p:cNvSpPr/>
          <p:nvPr/>
        </p:nvSpPr>
        <p:spPr>
          <a:xfrm>
            <a:off x="571500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5"/>
          <p:cNvSpPr/>
          <p:nvPr/>
        </p:nvSpPr>
        <p:spPr>
          <a:xfrm>
            <a:off x="5072040" y="480528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6"/>
          <p:cNvSpPr/>
          <p:nvPr/>
        </p:nvSpPr>
        <p:spPr>
          <a:xfrm>
            <a:off x="828684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7"/>
          <p:cNvSpPr/>
          <p:nvPr/>
        </p:nvSpPr>
        <p:spPr>
          <a:xfrm>
            <a:off x="7643880" y="4162320"/>
            <a:ext cx="642960" cy="642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8"/>
          <p:cNvSpPr/>
          <p:nvPr/>
        </p:nvSpPr>
        <p:spPr>
          <a:xfrm>
            <a:off x="7643880" y="6091200"/>
            <a:ext cx="642960" cy="571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0" descr=""/>
          <p:cNvPicPr/>
          <p:nvPr/>
        </p:nvPicPr>
        <p:blipFill>
          <a:blip r:embed="rId2"/>
          <a:stretch/>
        </p:blipFill>
        <p:spPr>
          <a:xfrm>
            <a:off x="244440" y="1547640"/>
            <a:ext cx="4516560" cy="3945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31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_d0f9_68358efa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285840" y="3571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Д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янулась с запада на восток почти по всему побережью северных морей. В переводе с финского языка означает «бесплодная» или «враждебн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Картинка 5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285840" y="285840"/>
            <a:ext cx="8572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85840" y="2858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ов климат тундры: круглый год дуют сильные ветры, а зимой свирепствует пурга. Ветер разбивает снежинки на мелкие иголочки и так уплотняет снежный покров, что по нему можно ходить, не проваливаясь. А под снегом – замёрзшая земля. Даже летом она оттаивает только на 10-50см, а ниже сохраняется вечная мерз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Картинка 3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785880" y="2071800"/>
            <a:ext cx="7786800" cy="1068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растения растут 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стения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8" descr="0001-001-Tundra.jpg"/>
          <p:cNvPicPr/>
          <p:nvPr/>
        </p:nvPicPr>
        <p:blipFill>
          <a:blip r:embed="rId1"/>
          <a:stretch/>
        </p:blipFill>
        <p:spPr>
          <a:xfrm>
            <a:off x="0" y="0"/>
            <a:ext cx="9291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바탕"/>
                <a:ea typeface="바탕"/>
              </a:rPr>
              <a:t>РАСТИТЕЛЬ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28760" y="1143000"/>
            <a:ext cx="814392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низкорослые, стелющиеся, почти у всех небольшие кор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лкие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19160" y="2071800"/>
            <a:ext cx="3095640" cy="22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6072120" y="20178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214200" y="4670280"/>
            <a:ext cx="3000600" cy="204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5"/>
          <a:stretch/>
        </p:blipFill>
        <p:spPr>
          <a:xfrm>
            <a:off x="6072120" y="4533840"/>
            <a:ext cx="3071880" cy="20923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4"/>
          <p:cNvSpPr/>
          <p:nvPr/>
        </p:nvSpPr>
        <p:spPr>
          <a:xfrm>
            <a:off x="285840" y="2214720"/>
            <a:ext cx="25718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 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5"/>
          <p:cNvSpPr/>
          <p:nvPr/>
        </p:nvSpPr>
        <p:spPr>
          <a:xfrm>
            <a:off x="6286680" y="2071800"/>
            <a:ext cx="25714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овая  берё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857160" y="4714920"/>
            <a:ext cx="171468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6786720" y="4643280"/>
            <a:ext cx="178596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ягель"/>
          <p:cNvPicPr/>
          <p:nvPr/>
        </p:nvPicPr>
        <p:blipFill>
          <a:blip r:embed="rId6"/>
          <a:stretch/>
        </p:blipFill>
        <p:spPr>
          <a:xfrm>
            <a:off x="3643200" y="2071800"/>
            <a:ext cx="1857600" cy="21193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9"/>
          <p:cNvSpPr/>
          <p:nvPr/>
        </p:nvSpPr>
        <p:spPr>
          <a:xfrm>
            <a:off x="3929040" y="3643200"/>
            <a:ext cx="12146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лишай"/>
          <p:cNvPicPr/>
          <p:nvPr/>
        </p:nvPicPr>
        <p:blipFill>
          <a:blip r:embed="rId7"/>
          <a:stretch/>
        </p:blipFill>
        <p:spPr>
          <a:xfrm>
            <a:off x="3500280" y="4357800"/>
            <a:ext cx="2286000" cy="23875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1"/>
          <p:cNvSpPr/>
          <p:nvPr/>
        </p:nvSpPr>
        <p:spPr>
          <a:xfrm>
            <a:off x="3857760" y="6143760"/>
            <a:ext cx="157140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Картинка 6 из 96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785880" y="2071800"/>
            <a:ext cx="7786800" cy="1556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и птицы об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унд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ни приспособились к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714240" y="214200"/>
            <a:ext cx="7572600" cy="642600"/>
          </a:xfrm>
          <a:prstGeom prst="rect">
            <a:avLst/>
          </a:prstGeom>
          <a:solidFill>
            <a:srgbClr val="fac09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ЖИВОТНЫЙ МИР ТУНД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928800" y="1071720"/>
            <a:ext cx="71434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 густое оперение и защитная белая окрас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верей – густой мех, толстый подкожный слой ж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4" descr="северный олень.jpg"/>
          <p:cNvPicPr/>
          <p:nvPr/>
        </p:nvPicPr>
        <p:blipFill>
          <a:blip r:embed="rId1"/>
          <a:stretch/>
        </p:blipFill>
        <p:spPr>
          <a:xfrm>
            <a:off x="214200" y="1928880"/>
            <a:ext cx="2524320" cy="2000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чудо лемминг.jpg"/>
          <p:cNvPicPr/>
          <p:nvPr/>
        </p:nvPicPr>
        <p:blipFill>
          <a:blip r:embed="rId2"/>
          <a:stretch/>
        </p:blipFill>
        <p:spPr>
          <a:xfrm>
            <a:off x="3286080" y="207180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3643200" y="35719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9" descr="0060-078-Pesets.jpg"/>
          <p:cNvPicPr/>
          <p:nvPr/>
        </p:nvPicPr>
        <p:blipFill>
          <a:blip r:embed="rId3"/>
          <a:stretch/>
        </p:blipFill>
        <p:spPr>
          <a:xfrm>
            <a:off x="6215040" y="2071800"/>
            <a:ext cx="2714760" cy="17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857160" y="378612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7572240" y="3429000"/>
            <a:ext cx="1319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4" descr="0056-073-Belaja-sova.jpg"/>
          <p:cNvPicPr/>
          <p:nvPr/>
        </p:nvPicPr>
        <p:blipFill>
          <a:blip r:embed="rId4"/>
          <a:stretch/>
        </p:blipFill>
        <p:spPr>
          <a:xfrm>
            <a:off x="571680" y="4143240"/>
            <a:ext cx="1643040" cy="2524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гагарка-2.jpg"/>
          <p:cNvPicPr/>
          <p:nvPr/>
        </p:nvPicPr>
        <p:blipFill>
          <a:blip r:embed="rId5"/>
          <a:stretch/>
        </p:blipFill>
        <p:spPr>
          <a:xfrm>
            <a:off x="3643200" y="4286160"/>
            <a:ext cx="2095560" cy="19288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6" descr="кур.jpg"/>
          <p:cNvPicPr/>
          <p:nvPr/>
        </p:nvPicPr>
        <p:blipFill>
          <a:blip r:embed="rId6"/>
          <a:stretch/>
        </p:blipFill>
        <p:spPr>
          <a:xfrm>
            <a:off x="6357960" y="4071960"/>
            <a:ext cx="2119320" cy="2482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1"/>
          <p:cNvSpPr/>
          <p:nvPr/>
        </p:nvSpPr>
        <p:spPr>
          <a:xfrm>
            <a:off x="857160" y="6286680"/>
            <a:ext cx="214308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ая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3857760" y="6286680"/>
            <a:ext cx="1571400" cy="398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га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6786720" y="6215040"/>
            <a:ext cx="214308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кур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11:05Z</dcterms:created>
  <dc:creator>user</dc:creator>
  <dc:description/>
  <dc:language>en-US</dc:language>
  <cp:lastModifiedBy>LEGION2</cp:lastModifiedBy>
  <dcterms:modified xsi:type="dcterms:W3CDTF">2015-04-24T11:51:00Z</dcterms:modified>
  <cp:revision>29</cp:revision>
  <dc:subject/>
  <dc:title>Слайд 1</dc:title>
</cp:coreProperties>
</file>