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EBBD-5330-45BF-8EEF-33D2ACF7B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slide" Target="../slides/slide16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B38-AD48-4A81-AC08-218EA62A7D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924D-F332-445F-92C4-1D4810206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1DB-486A-4D63-AA39-243A1E3DB4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BF11-5231-470C-8355-0908061BD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852E-2775-4881-AF0D-A527D33B44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E25-0AD0-4968-B83A-8A6770945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E0F6-2FE1-4114-863A-25C6B52E72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hinorias.livejournal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rota.ru/forum/view.php?subj=47964&amp;order=desc&amp;fullview=&amp;pg=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kartinki/geografija/Prirodnaja-zona-Tundra/062-Zolotaja-osen-krasiva-v-tundre.htm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fotografii/geografija/Prirodnaja-zona-Tundra/035-Osnovnuju-massu-tsvetkovykh-rastenij-tundry-predstavljajut-kustarniki.htm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8E1-86AB-4FC3-9AFC-BF3312949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BD38-72DB-46D9-AF0B-568FA59CCC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3DDA-4490-473F-819A-FB8A9CA8C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AB94-F869-4662-B746-9267A70B80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DDEE-D877-4EB2-AC1A-C905A607F6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C04-821F-41AB-8A98-FB2F0F139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51AE-4E0F-4F61-8B72-876FDE3B89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8204-EEC5-4D84-AE97-427F32878F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C6C-E138-465E-B4A2-66F81D14E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49D-C590-43AF-B1CF-77CAE134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994-6CC9-4B29-BFD4-4CC9DF0E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E81-41D3-47A6-952F-1F40B220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C71-F8DB-451D-ABB2-5185B8A6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3D0-C4E3-4A31-83F1-6F5F98E5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AB4-96F8-4CDB-9F51-CC2BE150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22E-9EAC-443E-9325-6644B972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579-3146-4A59-BB5E-6C41DDE9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776-8E90-4D50-944A-2ACD02F6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330-D0A5-429A-8D8E-39778F9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E5E-DCC7-442E-9AA7-53BC5E6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871-0555-4885-8DAD-542F33C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E38-4610-4132-B265-0FBEC6A55D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A8B-26AA-4099-BA34-9A8EEEBED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tyumen.rfn.ru/p/m_12731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hyperlink" Target="http://hinorias.livejournal.com/" TargetMode="External"/><Relationship Id="rId5" Type="http://schemas.openxmlformats.org/officeDocument/2006/relationships/hyperlink" Target="http://www.cirota.ru/forum/view.php?subj=47964&amp;order=desc&amp;fullview=&amp;pg=176" TargetMode="External"/><Relationship Id="rId6" Type="http://schemas.openxmlformats.org/officeDocument/2006/relationships/hyperlink" Target="http://900igr.net/kartinki/geografija/Prirodnaja-zona-Tundra/062-Zolotaja-osen-krasiva-v-tundre.html" TargetMode="External"/><Relationship Id="rId7" Type="http://schemas.openxmlformats.org/officeDocument/2006/relationships/hyperlink" Target="http://900igr.net/fotografii/geografija/Prirodnaja-zona-Tundra/035-Osnovnuju-massu-tsvetkovykh-rastenij-tundry-predstavljajut-kustarniki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82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4292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428840" y="5572080"/>
            <a:ext cx="6072120" cy="916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2960" y="1214280"/>
            <a:ext cx="8001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8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214280" y="714240"/>
            <a:ext cx="7286760" cy="1373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тундрау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36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2424953"/>
          <p:cNvPicPr/>
          <p:nvPr/>
        </p:nvPicPr>
        <p:blipFill>
          <a:blip r:embed="rId2"/>
          <a:stretch/>
        </p:blipFill>
        <p:spPr>
          <a:xfrm>
            <a:off x="4071960" y="2946240"/>
            <a:ext cx="4738680" cy="3554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8584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Картинка 4 из 96060"/>
          <p:cNvPicPr/>
          <p:nvPr/>
        </p:nvPicPr>
        <p:blipFill>
          <a:blip r:embed="rId1"/>
          <a:stretch/>
        </p:blipFill>
        <p:spPr>
          <a:xfrm>
            <a:off x="0" y="785880"/>
            <a:ext cx="5438880" cy="407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100_18"/>
          <p:cNvPicPr/>
          <p:nvPr/>
        </p:nvPicPr>
        <p:blipFill>
          <a:blip r:embed="rId2"/>
          <a:stretch/>
        </p:blipFill>
        <p:spPr>
          <a:xfrm>
            <a:off x="4572000" y="2857680"/>
            <a:ext cx="4173480" cy="3714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49120" y="21420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lentaregion.ru/wp-content/uploads/2011/11/z2.jpg"/>
          <p:cNvPicPr/>
          <p:nvPr/>
        </p:nvPicPr>
        <p:blipFill>
          <a:blip r:embed="rId1"/>
          <a:stretch/>
        </p:blipFill>
        <p:spPr>
          <a:xfrm>
            <a:off x="285840" y="785880"/>
            <a:ext cx="4214880" cy="32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yumen.rfn.ru/p/m_1273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2214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Картинка 9 из 135401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4" descr=""/>
          <p:cNvPicPr/>
          <p:nvPr/>
        </p:nvPicPr>
        <p:blipFill>
          <a:blip r:embed="rId2"/>
          <a:stretch/>
        </p:blipFill>
        <p:spPr>
          <a:xfrm>
            <a:off x="500040" y="34776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Картинка 2 из 468"/>
          <p:cNvPicPr/>
          <p:nvPr/>
        </p:nvPicPr>
        <p:blipFill>
          <a:blip r:embed="rId1"/>
          <a:stretch/>
        </p:blipFill>
        <p:spPr>
          <a:xfrm>
            <a:off x="4000680" y="1071720"/>
            <a:ext cx="42145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Картинка 0 из 6545"/>
          <p:cNvPicPr/>
          <p:nvPr/>
        </p:nvPicPr>
        <p:blipFill>
          <a:blip r:embed="rId2"/>
          <a:stretch/>
        </p:blipFill>
        <p:spPr>
          <a:xfrm>
            <a:off x="857160" y="121428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14200" y="3714840"/>
            <a:ext cx="2214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5929200" y="3571920"/>
            <a:ext cx="2738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овый леб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Картинка 2 из 1023"/>
          <p:cNvPicPr/>
          <p:nvPr/>
        </p:nvPicPr>
        <p:blipFill>
          <a:blip r:embed="rId3"/>
          <a:stretch/>
        </p:blipFill>
        <p:spPr>
          <a:xfrm>
            <a:off x="1071720" y="4286160"/>
            <a:ext cx="2928960" cy="2301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14200" y="6286680"/>
            <a:ext cx="30718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зобая каз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Картинка 2 из 7949"/>
          <p:cNvPicPr/>
          <p:nvPr/>
        </p:nvPicPr>
        <p:blipFill>
          <a:blip r:embed="rId4"/>
          <a:stretch/>
        </p:blipFill>
        <p:spPr>
          <a:xfrm>
            <a:off x="4572000" y="4071960"/>
            <a:ext cx="3214800" cy="252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858000" y="6286680"/>
            <a:ext cx="1757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norias.livejournal.com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irota.ru/forum/view.php?subj=47964&amp;order=desc&amp;fullview=&amp;pg=17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900igr.net/kartinki/geografija/Prirodnaja-zona-Tundra/062-Zolotaja-osen-krasiva-v-tundre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900igr.net/fotografii/geografija/Prirodnaja-zona-Tundra/035-Osnovnuju-massu-tsvetkovykh-rastenij-tundry-predstavljajut-kustarniki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0" descr="зона тундры.jpg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601640" y="214200"/>
            <a:ext cx="52149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764388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5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3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5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6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9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2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8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9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1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2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4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5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6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7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9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0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2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5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6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7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8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9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1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2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3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4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5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6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7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8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9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0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2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3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4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5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7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8"/>
          <p:cNvSpPr/>
          <p:nvPr/>
        </p:nvSpPr>
        <p:spPr>
          <a:xfrm>
            <a:off x="7643880" y="6091200"/>
            <a:ext cx="64296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0" descr=""/>
          <p:cNvPicPr/>
          <p:nvPr/>
        </p:nvPicPr>
        <p:blipFill>
          <a:blip r:embed="rId2"/>
          <a:stretch/>
        </p:blipFill>
        <p:spPr>
          <a:xfrm>
            <a:off x="244440" y="1547640"/>
            <a:ext cx="4516560" cy="3945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31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_d0f9_68358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8584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Картинка 5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85840" y="285840"/>
            <a:ext cx="857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85840" y="28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а 3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785880" y="2071800"/>
            <a:ext cx="7786800" cy="1068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8" descr="0001-001-Tundra.jpg"/>
          <p:cNvPicPr/>
          <p:nvPr/>
        </p:nvPicPr>
        <p:blipFill>
          <a:blip r:embed="rId1"/>
          <a:stretch/>
        </p:blipFill>
        <p:spPr>
          <a:xfrm>
            <a:off x="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28760" y="1143000"/>
            <a:ext cx="81439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19160" y="2071800"/>
            <a:ext cx="3095640" cy="22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072120" y="20178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214200" y="4670280"/>
            <a:ext cx="3000600" cy="204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6072120" y="4533840"/>
            <a:ext cx="3071880" cy="2092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4"/>
          <p:cNvSpPr/>
          <p:nvPr/>
        </p:nvSpPr>
        <p:spPr>
          <a:xfrm>
            <a:off x="285840" y="2214720"/>
            <a:ext cx="25718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 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6286680" y="2071800"/>
            <a:ext cx="25714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берё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857160" y="4714920"/>
            <a:ext cx="17146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786720" y="4643280"/>
            <a:ext cx="17859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ягель"/>
          <p:cNvPicPr/>
          <p:nvPr/>
        </p:nvPicPr>
        <p:blipFill>
          <a:blip r:embed="rId6"/>
          <a:stretch/>
        </p:blipFill>
        <p:spPr>
          <a:xfrm>
            <a:off x="3643200" y="2071800"/>
            <a:ext cx="1857600" cy="2119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9"/>
          <p:cNvSpPr/>
          <p:nvPr/>
        </p:nvSpPr>
        <p:spPr>
          <a:xfrm>
            <a:off x="3929040" y="3643200"/>
            <a:ext cx="1214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лишай"/>
          <p:cNvPicPr/>
          <p:nvPr/>
        </p:nvPicPr>
        <p:blipFill>
          <a:blip r:embed="rId7"/>
          <a:stretch/>
        </p:blipFill>
        <p:spPr>
          <a:xfrm>
            <a:off x="3500280" y="4357800"/>
            <a:ext cx="2286000" cy="2387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1"/>
          <p:cNvSpPr/>
          <p:nvPr/>
        </p:nvSpPr>
        <p:spPr>
          <a:xfrm>
            <a:off x="3857760" y="6143760"/>
            <a:ext cx="15714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Картинка 6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785880" y="2071800"/>
            <a:ext cx="7786800" cy="1556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fac0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928800" y="1071720"/>
            <a:ext cx="71434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северный олень.jpg"/>
          <p:cNvPicPr/>
          <p:nvPr/>
        </p:nvPicPr>
        <p:blipFill>
          <a:blip r:embed="rId1"/>
          <a:stretch/>
        </p:blipFill>
        <p:spPr>
          <a:xfrm>
            <a:off x="214200" y="1928880"/>
            <a:ext cx="252432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чудо лемминг.jpg"/>
          <p:cNvPicPr/>
          <p:nvPr/>
        </p:nvPicPr>
        <p:blipFill>
          <a:blip r:embed="rId2"/>
          <a:stretch/>
        </p:blipFill>
        <p:spPr>
          <a:xfrm>
            <a:off x="3286080" y="20718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3643200" y="35719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0060-078-Pesets.jpg"/>
          <p:cNvPicPr/>
          <p:nvPr/>
        </p:nvPicPr>
        <p:blipFill>
          <a:blip r:embed="rId3"/>
          <a:stretch/>
        </p:blipFill>
        <p:spPr>
          <a:xfrm>
            <a:off x="6215040" y="2071800"/>
            <a:ext cx="2714760" cy="17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857160" y="37861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72240" y="3429000"/>
            <a:ext cx="1319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4" descr="0056-073-Belaja-sova.jpg"/>
          <p:cNvPicPr/>
          <p:nvPr/>
        </p:nvPicPr>
        <p:blipFill>
          <a:blip r:embed="rId4"/>
          <a:stretch/>
        </p:blipFill>
        <p:spPr>
          <a:xfrm>
            <a:off x="571680" y="4143240"/>
            <a:ext cx="1643040" cy="2524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гагарка-2.jpg"/>
          <p:cNvPicPr/>
          <p:nvPr/>
        </p:nvPicPr>
        <p:blipFill>
          <a:blip r:embed="rId5"/>
          <a:stretch/>
        </p:blipFill>
        <p:spPr>
          <a:xfrm>
            <a:off x="3643200" y="4286160"/>
            <a:ext cx="209556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кур.jpg"/>
          <p:cNvPicPr/>
          <p:nvPr/>
        </p:nvPicPr>
        <p:blipFill>
          <a:blip r:embed="rId6"/>
          <a:stretch/>
        </p:blipFill>
        <p:spPr>
          <a:xfrm>
            <a:off x="6357960" y="4071960"/>
            <a:ext cx="2119320" cy="2482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857160" y="628668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3857760" y="6286680"/>
            <a:ext cx="1571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6786720" y="6215040"/>
            <a:ext cx="21430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кур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11:05Z</dcterms:created>
  <dc:creator>user</dc:creator>
  <dc:description/>
  <dc:language>en-US</dc:language>
  <cp:lastModifiedBy>LEGION2</cp:lastModifiedBy>
  <dcterms:modified xsi:type="dcterms:W3CDTF">2015-04-24T11:51:00Z</dcterms:modified>
  <cp:revision>29</cp:revision>
  <dc:subject/>
  <dc:title>Слайд 1</dc:title>
</cp:coreProperties>
</file>