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1982-DB74-4C9B-A5D7-695652416B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slide" Target="../slides/slide16.xml"/><Relationship Id="rId5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7C14-50BA-4562-BD0F-57EA519C6A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C701-C056-408E-8969-DEB7C869E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4C55-D007-4752-A720-8A8AA9E965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79DA-88BD-49D3-A0AF-83EA160617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7121-333C-406F-AC25-5A5AA17D5D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DAF-7D98-48B4-BCD2-F2901C32B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52CD-AD53-44BA-8483-228B8835DD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hinorias.livejournal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irota.ru/forum/view.php?subj=47964&amp;order=desc&amp;fullview=&amp;pg=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kartinki/geografija/Prirodnaja-zona-Tundra/062-Zolotaja-osen-krasiva-v-tundre.htm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fotografii/geografija/Prirodnaja-zona-Tundra/035-Osnovnuju-massu-tsvetkovykh-rastenij-tundry-predstavljajut-kustarniki.htm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DD76-D334-4A46-938B-6AD2E3461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48AC-C6E7-4B96-81F7-E2FCB208E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DB94-B1A0-48C7-ABDF-94EC32EB8C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EAC6-07F7-4158-8796-7B9D4B3F1F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BCF0-729B-4386-80D4-7D300DD0E9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0E25-548C-4055-8422-FBA7AE1784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91CD-A9B0-435B-A10F-793B730D70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4360-45B7-4842-9B2A-3881C75F60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7D55-B537-49AB-BAAD-FE095A4288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345-4CBA-455A-B89B-6F9F05A3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D1C-C6C2-42F5-B528-E5A9EE0D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0DF-A9F6-49EB-98AA-1E261F3B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01E-D0F8-46C4-AD61-DC1CA398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495-8C1A-4111-B6A4-BDA1351F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A4C-0619-4C07-83D8-7D0A8B3E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C70-7AAC-495E-9361-E21B4D3A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5D9-B806-438F-9997-52AE23EE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CCC-1EA9-4D4E-BE5B-9A227558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909-48EB-4510-AC8D-C99E7F2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1F3-8143-421F-80E3-F0D6BCF5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2AF-0A80-4BD3-ABC1-B35BE19B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4A52-976A-4C71-94F3-FB1501F3AC3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8573-5220-4A7B-AD26-C80835F44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tyumen.rfn.ru/p/m_12731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hyperlink" Target="http://hinorias.livejournal.com/" TargetMode="External"/><Relationship Id="rId5" Type="http://schemas.openxmlformats.org/officeDocument/2006/relationships/hyperlink" Target="http://www.cirota.ru/forum/view.php?subj=47964&amp;order=desc&amp;fullview=&amp;pg=176" TargetMode="External"/><Relationship Id="rId6" Type="http://schemas.openxmlformats.org/officeDocument/2006/relationships/hyperlink" Target="http://900igr.net/kartinki/geografija/Prirodnaja-zona-Tundra/062-Zolotaja-osen-krasiva-v-tundre.html" TargetMode="External"/><Relationship Id="rId7" Type="http://schemas.openxmlformats.org/officeDocument/2006/relationships/hyperlink" Target="http://900igr.net/fotografii/geografija/Prirodnaja-zona-Tundra/035-Osnovnuju-massu-tsvetkovykh-rastenij-tundry-predstavljajut-kustarniki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82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14292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428840" y="5572080"/>
            <a:ext cx="6072120" cy="916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2960" y="1214280"/>
            <a:ext cx="8001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Картинка 8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214280" y="714240"/>
            <a:ext cx="7286760" cy="1373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тундрау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36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2424953"/>
          <p:cNvPicPr/>
          <p:nvPr/>
        </p:nvPicPr>
        <p:blipFill>
          <a:blip r:embed="rId2"/>
          <a:stretch/>
        </p:blipFill>
        <p:spPr>
          <a:xfrm>
            <a:off x="4071960" y="2946240"/>
            <a:ext cx="4738680" cy="3554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28584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Картинка 4 из 96060"/>
          <p:cNvPicPr/>
          <p:nvPr/>
        </p:nvPicPr>
        <p:blipFill>
          <a:blip r:embed="rId1"/>
          <a:stretch/>
        </p:blipFill>
        <p:spPr>
          <a:xfrm>
            <a:off x="0" y="785880"/>
            <a:ext cx="5438880" cy="407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100_18"/>
          <p:cNvPicPr/>
          <p:nvPr/>
        </p:nvPicPr>
        <p:blipFill>
          <a:blip r:embed="rId2"/>
          <a:stretch/>
        </p:blipFill>
        <p:spPr>
          <a:xfrm>
            <a:off x="4572000" y="2857680"/>
            <a:ext cx="4173480" cy="3714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49120" y="21420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lentaregion.ru/wp-content/uploads/2011/11/z2.jpg"/>
          <p:cNvPicPr/>
          <p:nvPr/>
        </p:nvPicPr>
        <p:blipFill>
          <a:blip r:embed="rId1"/>
          <a:stretch/>
        </p:blipFill>
        <p:spPr>
          <a:xfrm>
            <a:off x="285840" y="785880"/>
            <a:ext cx="4214880" cy="324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tyumen.rfn.ru/p/m_1273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4920" y="2214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Картинка 9 из 135401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Схема 4" descr=""/>
          <p:cNvPicPr/>
          <p:nvPr/>
        </p:nvPicPr>
        <p:blipFill>
          <a:blip r:embed="rId2"/>
          <a:stretch/>
        </p:blipFill>
        <p:spPr>
          <a:xfrm>
            <a:off x="500040" y="34776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Картинка 2 из 468"/>
          <p:cNvPicPr/>
          <p:nvPr/>
        </p:nvPicPr>
        <p:blipFill>
          <a:blip r:embed="rId1"/>
          <a:stretch/>
        </p:blipFill>
        <p:spPr>
          <a:xfrm>
            <a:off x="4000680" y="1071720"/>
            <a:ext cx="4214520" cy="281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Картинка 0 из 6545"/>
          <p:cNvPicPr/>
          <p:nvPr/>
        </p:nvPicPr>
        <p:blipFill>
          <a:blip r:embed="rId2"/>
          <a:stretch/>
        </p:blipFill>
        <p:spPr>
          <a:xfrm>
            <a:off x="857160" y="1214280"/>
            <a:ext cx="2643120" cy="28576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500040" y="142920"/>
            <a:ext cx="7858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14200" y="3714840"/>
            <a:ext cx="22147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5929200" y="3571920"/>
            <a:ext cx="2738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овый леб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Картинка 2 из 1023"/>
          <p:cNvPicPr/>
          <p:nvPr/>
        </p:nvPicPr>
        <p:blipFill>
          <a:blip r:embed="rId3"/>
          <a:stretch/>
        </p:blipFill>
        <p:spPr>
          <a:xfrm>
            <a:off x="1071720" y="4286160"/>
            <a:ext cx="2928960" cy="2301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14200" y="6286680"/>
            <a:ext cx="307188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зобая каз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Картинка 2 из 7949"/>
          <p:cNvPicPr/>
          <p:nvPr/>
        </p:nvPicPr>
        <p:blipFill>
          <a:blip r:embed="rId4"/>
          <a:stretch/>
        </p:blipFill>
        <p:spPr>
          <a:xfrm>
            <a:off x="4572000" y="4071960"/>
            <a:ext cx="3214800" cy="2529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6858000" y="6286680"/>
            <a:ext cx="1757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inorias.livejournal.com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irota.ru/forum/view.php?subj=47964&amp;order=desc&amp;fullview=&amp;pg=17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900igr.net/kartinki/geografija/Prirodnaja-zona-Tundra/062-Zolotaja-osen-krasiva-v-tundre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900igr.net/fotografii/geografija/Prirodnaja-zona-Tundra/035-Osnovnuju-massu-tsvetkovykh-rastenij-tundry-predstavljajut-kustarniki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0" descr="зона тундры.jpg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601640" y="214200"/>
            <a:ext cx="52149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764388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5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2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3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5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6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9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2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5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6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8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9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1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2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4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5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6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7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9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0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2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3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5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6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7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8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9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1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2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3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4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5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6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7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8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9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0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2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3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4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5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7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8"/>
          <p:cNvSpPr/>
          <p:nvPr/>
        </p:nvSpPr>
        <p:spPr>
          <a:xfrm>
            <a:off x="7643880" y="6091200"/>
            <a:ext cx="64296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0" descr=""/>
          <p:cNvPicPr/>
          <p:nvPr/>
        </p:nvPicPr>
        <p:blipFill>
          <a:blip r:embed="rId2"/>
          <a:stretch/>
        </p:blipFill>
        <p:spPr>
          <a:xfrm>
            <a:off x="244440" y="1547640"/>
            <a:ext cx="4516560" cy="3945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31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_d0f9_68358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8584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Картинка 5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85840" y="285840"/>
            <a:ext cx="857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85840" y="285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а 3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785880" y="2071800"/>
            <a:ext cx="7786800" cy="1068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8" descr="0001-001-Tundra.jpg"/>
          <p:cNvPicPr/>
          <p:nvPr/>
        </p:nvPicPr>
        <p:blipFill>
          <a:blip r:embed="rId1"/>
          <a:stretch/>
        </p:blipFill>
        <p:spPr>
          <a:xfrm>
            <a:off x="0" y="0"/>
            <a:ext cx="9291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28760" y="1143000"/>
            <a:ext cx="814392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19160" y="2071800"/>
            <a:ext cx="3095640" cy="22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072120" y="20178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214200" y="4670280"/>
            <a:ext cx="3000600" cy="204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6072120" y="4533840"/>
            <a:ext cx="3071880" cy="2092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4"/>
          <p:cNvSpPr/>
          <p:nvPr/>
        </p:nvSpPr>
        <p:spPr>
          <a:xfrm>
            <a:off x="285840" y="2214720"/>
            <a:ext cx="25718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 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6286680" y="2071800"/>
            <a:ext cx="25714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берё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857160" y="4714920"/>
            <a:ext cx="17146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6786720" y="4643280"/>
            <a:ext cx="178596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ягель"/>
          <p:cNvPicPr/>
          <p:nvPr/>
        </p:nvPicPr>
        <p:blipFill>
          <a:blip r:embed="rId6"/>
          <a:stretch/>
        </p:blipFill>
        <p:spPr>
          <a:xfrm>
            <a:off x="3643200" y="2071800"/>
            <a:ext cx="1857600" cy="2119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9"/>
          <p:cNvSpPr/>
          <p:nvPr/>
        </p:nvSpPr>
        <p:spPr>
          <a:xfrm>
            <a:off x="3929040" y="3643200"/>
            <a:ext cx="12146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лишай"/>
          <p:cNvPicPr/>
          <p:nvPr/>
        </p:nvPicPr>
        <p:blipFill>
          <a:blip r:embed="rId7"/>
          <a:stretch/>
        </p:blipFill>
        <p:spPr>
          <a:xfrm>
            <a:off x="3500280" y="4357800"/>
            <a:ext cx="2286000" cy="2387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1"/>
          <p:cNvSpPr/>
          <p:nvPr/>
        </p:nvSpPr>
        <p:spPr>
          <a:xfrm>
            <a:off x="3857760" y="6143760"/>
            <a:ext cx="157140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Картинка 6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785880" y="2071800"/>
            <a:ext cx="7786800" cy="1556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fac09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928800" y="1071720"/>
            <a:ext cx="71434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северный олень.jpg"/>
          <p:cNvPicPr/>
          <p:nvPr/>
        </p:nvPicPr>
        <p:blipFill>
          <a:blip r:embed="rId1"/>
          <a:stretch/>
        </p:blipFill>
        <p:spPr>
          <a:xfrm>
            <a:off x="214200" y="1928880"/>
            <a:ext cx="252432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чудо лемминг.jpg"/>
          <p:cNvPicPr/>
          <p:nvPr/>
        </p:nvPicPr>
        <p:blipFill>
          <a:blip r:embed="rId2"/>
          <a:stretch/>
        </p:blipFill>
        <p:spPr>
          <a:xfrm>
            <a:off x="3286080" y="207180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3643200" y="35719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0060-078-Pesets.jpg"/>
          <p:cNvPicPr/>
          <p:nvPr/>
        </p:nvPicPr>
        <p:blipFill>
          <a:blip r:embed="rId3"/>
          <a:stretch/>
        </p:blipFill>
        <p:spPr>
          <a:xfrm>
            <a:off x="6215040" y="2071800"/>
            <a:ext cx="2714760" cy="17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857160" y="37861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72240" y="3429000"/>
            <a:ext cx="1319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4" descr="0056-073-Belaja-sova.jpg"/>
          <p:cNvPicPr/>
          <p:nvPr/>
        </p:nvPicPr>
        <p:blipFill>
          <a:blip r:embed="rId4"/>
          <a:stretch/>
        </p:blipFill>
        <p:spPr>
          <a:xfrm>
            <a:off x="571680" y="4143240"/>
            <a:ext cx="1643040" cy="2524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гагарка-2.jpg"/>
          <p:cNvPicPr/>
          <p:nvPr/>
        </p:nvPicPr>
        <p:blipFill>
          <a:blip r:embed="rId5"/>
          <a:stretch/>
        </p:blipFill>
        <p:spPr>
          <a:xfrm>
            <a:off x="3643200" y="4286160"/>
            <a:ext cx="209556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кур.jpg"/>
          <p:cNvPicPr/>
          <p:nvPr/>
        </p:nvPicPr>
        <p:blipFill>
          <a:blip r:embed="rId6"/>
          <a:stretch/>
        </p:blipFill>
        <p:spPr>
          <a:xfrm>
            <a:off x="6357960" y="4071960"/>
            <a:ext cx="2119320" cy="2482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857160" y="628668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3857760" y="6286680"/>
            <a:ext cx="1571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6786720" y="6215040"/>
            <a:ext cx="21430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кур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11:05Z</dcterms:created>
  <dc:creator>user</dc:creator>
  <dc:description/>
  <dc:language>en-US</dc:language>
  <cp:lastModifiedBy>LEGION2</cp:lastModifiedBy>
  <dcterms:modified xsi:type="dcterms:W3CDTF">2015-04-24T11:51:00Z</dcterms:modified>
  <cp:revision>29</cp:revision>
  <dc:subject/>
  <dc:title>Слайд 1</dc:title>
</cp:coreProperties>
</file>