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B029B-65A9-43B0-82E7-F40E945B6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" Target="../slides/slide20.xml"/><Relationship Id="rId1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92535C-5CC7-4AB8-864E-8C693FE7C03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41841-63DB-4CB7-A615-6717C3FDF0A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031F2-EC2B-43E2-802A-DAD3ADC1C90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032184-3215-4216-8E06-D9F57E41DDA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2D707A-D374-48C1-805C-DE36AFC1F55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крытой …             , большое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D341DA-E992-4FBE-B6F7-A09438E2458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B4435-6B7F-4609-8896-7E558972F2A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9EE2F-75B7-411A-9DC2-C8E0EABF6AB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1CBA22-D5F7-4C5D-9AAA-20FFC58DB95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 ВРАНГ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зовую чайку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вцеб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лые гу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0B9F6-2B7D-49A6-BE0C-B62E04EBE3F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FB2F6A-457D-4D9C-B944-C6691EFDED4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мое большое озеро в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неж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спий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Река, впадающая в Каспийское мор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Река, соединяющая озеро Байкал с Северным Ледовитым океано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4. Самая длинная река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В список Всемирного наследия внес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Какие озёра в народе называют «Онего-батюшко и Ладога-матушк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льское и Каспийское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адожское и Онежско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32814C-F949-42A6-99B5-FB6BBC9454F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khabphoto.ru/gallery.php?gallery_id=334&amp;mode=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angel-killmysoulkillme.net/2012/02/15-20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900igr.net/kartinki/geografija/Bezmolvnaja-Arktika/062-Problemy-Arktiki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rsnews.net/index.phtml?show=article&amp;id=7303&amp;lang=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ota.ru/wallpapers/get/id/1007/resolution/320x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good-fon.ru/gdefon/allwallpapers/full/257113-newwallpap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russian-travels.ru/foto2/shyrotka/g_3.php?numbe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http://900igr.net/fotografii/geografija/Bezmolvnaja-Arktika/049-Zapovednik-Ostrov-Vrangelj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http://my-sedovo.narod.ru/RPUAC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http://travel.ria.ru/photo/20101217/222973526_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5B4DB9-3B20-42BD-995D-A29EF1A2B39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5DFA51-858B-41DD-B599-DF426C6F4ED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94F86-0462-46BB-86AF-840F1DC166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4C6E34-DECB-46E5-92D3-AFC93D04169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F16B1F-E9A7-4E1F-9DF4-21B585DD4AD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Е С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27630-2B2C-41C1-8EBE-687E86CB04C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291534-0B05-4477-A54E-A648BB5319D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2247F-B176-4979-BADE-8F70FE48B1E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7CC-9A3F-42D0-9AAA-BDB5D864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B50-F9CC-4B0A-AE99-36B6FB0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93A-B870-49BE-ABF0-28224060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81F-C13D-4530-8B9F-2A290624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96A-A154-41BB-9E8B-20F944B7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A7BB-3320-428C-B7CD-86D661F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C2C-BAFE-4654-9AE8-62AAE07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D0C0-77EB-435C-9EA0-13A892D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783C-C285-4C08-8910-CB961484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9D1D-84A4-4CA9-A889-A9BA4908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165-748B-440B-BB92-6BBC2CB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DCD-7F25-4FF0-BBFF-B71E79EC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069-1089-4522-B6B5-8A320540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C037-707D-4631-8738-0331816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D921-30D9-473A-BDAE-250FA1D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6B7-9C47-4B3B-BFFC-782F74A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FED7-3FF8-4F37-A021-D7617B9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98E-5DCD-455F-85FE-77FD7CAA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E4D-7B45-4FA3-8208-794DC461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ACD-064E-4CCA-9139-90D1A1FE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187-B770-42C9-B8D9-2D72DD89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08E-650F-49FA-AEEB-B836B25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95-44C0-4A3C-9443-2961F90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B21-4081-4638-A808-C00471F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3AD403-E005-44C1-BBBF-9716452FA3A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19A43-C0CB-4EFF-9F19-C9EE2A2031B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.kinopoisk.ru/im/kadr/5/7/7/kinopoisk.ru-Arctic-Tale-57752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 из 103413"/>
          <p:cNvPicPr/>
          <p:nvPr/>
        </p:nvPicPr>
        <p:blipFill>
          <a:blip r:embed="rId1"/>
          <a:stretch/>
        </p:blipFill>
        <p:spPr>
          <a:xfrm>
            <a:off x="0" y="0"/>
            <a:ext cx="916092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57280" y="142920"/>
            <a:ext cx="4071600" cy="3639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4929120"/>
            <a:ext cx="6071760" cy="9126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42960" y="1643040"/>
            <a:ext cx="8000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2 из 155823"/>
          <p:cNvPicPr/>
          <p:nvPr/>
        </p:nvPicPr>
        <p:blipFill>
          <a:blip r:embed="rId1"/>
          <a:stretch/>
        </p:blipFill>
        <p:spPr>
          <a:xfrm>
            <a:off x="1928880" y="571320"/>
            <a:ext cx="5398200" cy="35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Картинка 14 из 103413"/>
          <p:cNvPicPr/>
          <p:nvPr/>
        </p:nvPicPr>
        <p:blipFill>
          <a:blip r:embed="rId2"/>
          <a:stretch/>
        </p:blipFill>
        <p:spPr>
          <a:xfrm>
            <a:off x="214200" y="3714840"/>
            <a:ext cx="38574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42920" y="142920"/>
            <a:ext cx="87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а 53 из 246"/>
          <p:cNvPicPr/>
          <p:nvPr/>
        </p:nvPicPr>
        <p:blipFill>
          <a:blip r:embed="rId3"/>
          <a:stretch/>
        </p:blipFill>
        <p:spPr>
          <a:xfrm>
            <a:off x="4605480" y="3786120"/>
            <a:ext cx="4310640" cy="281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20 из 2954"/>
          <p:cNvPicPr/>
          <p:nvPr/>
        </p:nvPicPr>
        <p:blipFill>
          <a:blip r:embed="rId1"/>
          <a:stretch/>
        </p:blipFill>
        <p:spPr>
          <a:xfrm>
            <a:off x="214200" y="1285920"/>
            <a:ext cx="5071680" cy="380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инка 6 из 2954"/>
          <p:cNvPicPr/>
          <p:nvPr/>
        </p:nvPicPr>
        <p:blipFill>
          <a:blip r:embed="rId2"/>
          <a:stretch/>
        </p:blipFill>
        <p:spPr>
          <a:xfrm>
            <a:off x="3857760" y="3286080"/>
            <a:ext cx="507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142920"/>
            <a:ext cx="8857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dekatop.com/wp-content/uploads/2011/04/animal_07.jpg"/>
          <p:cNvPicPr/>
          <p:nvPr/>
        </p:nvPicPr>
        <p:blipFill>
          <a:blip r:embed="rId1"/>
          <a:stretch/>
        </p:blipFill>
        <p:spPr>
          <a:xfrm>
            <a:off x="785880" y="1000080"/>
            <a:ext cx="727164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285840"/>
            <a:ext cx="850068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14200" y="1285920"/>
            <a:ext cx="8643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077520" y="1214280"/>
            <a:ext cx="918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506920" y="1714320"/>
            <a:ext cx="1043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20920" y="1714320"/>
            <a:ext cx="1019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362920" y="2214720"/>
            <a:ext cx="937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435840" y="2571840"/>
            <a:ext cx="1069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ч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9400" y="2571840"/>
            <a:ext cx="11138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кай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293880" y="2571840"/>
            <a:ext cx="13287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гаг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297160" y="3071880"/>
            <a:ext cx="1744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от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364560" y="3500280"/>
            <a:ext cx="12538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у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2120" y="3857760"/>
            <a:ext cx="1324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10880" y="3857760"/>
            <a:ext cx="17431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35640" y="4214880"/>
            <a:ext cx="1197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508120" y="4214880"/>
            <a:ext cx="1307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7365960" y="4286160"/>
            <a:ext cx="14292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едв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935960" y="4714920"/>
            <a:ext cx="11840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ел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79600" y="5143680"/>
            <a:ext cx="1520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шир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38040" y="5715000"/>
            <a:ext cx="47700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ередвигаться по льду и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285840"/>
            <a:ext cx="8500680" cy="82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7120" y="178596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й …             , большое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429160" y="178596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кам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43120" y="2286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286760" y="2214720"/>
            <a:ext cx="13568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929720" y="2786040"/>
            <a:ext cx="9284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85880" y="3286080"/>
            <a:ext cx="28573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полярные м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286000" y="392904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4572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071880" y="4786200"/>
            <a:ext cx="14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42920" y="214200"/>
            <a:ext cx="878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Картинка 4 из 3567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32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Картинка 48 из 3566"/>
          <p:cNvPicPr/>
          <p:nvPr/>
        </p:nvPicPr>
        <p:blipFill>
          <a:blip r:embed="rId2"/>
          <a:stretch/>
        </p:blipFill>
        <p:spPr>
          <a:xfrm>
            <a:off x="3786120" y="2857320"/>
            <a:ext cx="5076360" cy="38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0"/>
            <a:ext cx="6143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14200" y="142920"/>
            <a:ext cx="8643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Картинка 3 из 370"/>
          <p:cNvPicPr/>
          <p:nvPr/>
        </p:nvPicPr>
        <p:blipFill>
          <a:blip r:embed="rId1"/>
          <a:stretch/>
        </p:blipFill>
        <p:spPr>
          <a:xfrm>
            <a:off x="1214280" y="1214280"/>
            <a:ext cx="6500520" cy="542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42920" y="0"/>
            <a:ext cx="5357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14200" y="5857920"/>
            <a:ext cx="8715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Картинка 1 из 2850"/>
          <p:cNvPicPr/>
          <p:nvPr/>
        </p:nvPicPr>
        <p:blipFill>
          <a:blip r:embed="rId1"/>
          <a:stretch/>
        </p:blipFill>
        <p:spPr>
          <a:xfrm>
            <a:off x="214200" y="285840"/>
            <a:ext cx="8643600" cy="54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5 из 246"/>
          <p:cNvPicPr/>
          <p:nvPr/>
        </p:nvPicPr>
        <p:blipFill>
          <a:blip r:embed="rId1"/>
          <a:stretch/>
        </p:blipFill>
        <p:spPr>
          <a:xfrm>
            <a:off x="214200" y="1214280"/>
            <a:ext cx="7566840" cy="4500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14200" y="214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285920" y="6215040"/>
            <a:ext cx="285732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СТРОВ ВРАН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3714840"/>
            <a:ext cx="3500280" cy="28328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Организован в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1976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розовую чайку. 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овцебык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белые гуси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000160" y="285840"/>
            <a:ext cx="521460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8573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8573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8573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28573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28573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28573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4"/>
          <p:cNvSpPr/>
          <p:nvPr/>
        </p:nvSpPr>
        <p:spPr>
          <a:xfrm>
            <a:off x="28573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3" name="Прямоугольник 23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4" name="Прямоугольник 24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5" name="Прямоугольник 25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6" name="Прямоугольник 26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9" name="Прямоугольник 29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0" name="Прямоугольник 30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1" name="Прямоугольник 31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9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00" name="Прямоугольник 40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2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3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4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5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7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9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0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1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2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3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4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5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6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8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9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0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1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2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3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4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5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8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9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0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29" name="Прямоугольник 71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00120" y="214200"/>
            <a:ext cx="642924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785880"/>
            <a:ext cx="4714560" cy="58503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Самое большое озеро в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не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. Река, впадающая в Каспийское мо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3. Река, соединяющая озеро Байкал с Северным Ледовитым океано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4. Самая длинная река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. В список Всемирного наследия внес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ел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785880"/>
            <a:ext cx="3857400" cy="1461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6. Какие озёра в народе называют «Онего-батюшко и Ладога-матуш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ральское и Каспийское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адожское и Онежско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857920" y="3214800"/>
            <a:ext cx="2499840" cy="3075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habphoto.ru/gallery.php?gallery_id=334&amp;mode=jou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ngel-killmysoulkillme.net/2012/02/15-2009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kartinki/geografija/Bezmolvnaja-Arktika/062-Problemy-Arktiki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snews.net/index.phtml?show=article&amp;id=7303&amp;lang=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ota.ru/wallpapers/get/id/1007/resolution/320x4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od-fon.ru/gdefon/allwallpapers/full/257113-newwallpap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ussian-travels.ru/foto2/shyrotka/g_3.php?number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fotografii/geografija/Bezmolvnaja-Arktika/049-Zapovednik-Ostrov-Vrangelja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edovo.narod.ru/RPUACOM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travel.ria.ru/photo/20101217/222973526_2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а 18 из 103413"/>
          <p:cNvPicPr/>
          <p:nvPr/>
        </p:nvPicPr>
        <p:blipFill>
          <a:blip r:embed="rId1"/>
          <a:stretch/>
        </p:blipFill>
        <p:spPr>
          <a:xfrm>
            <a:off x="0" y="0"/>
            <a:ext cx="93006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357120"/>
            <a:ext cx="835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0 из 1034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3571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20 из 103413"/>
          <p:cNvPicPr/>
          <p:nvPr/>
        </p:nvPicPr>
        <p:blipFill>
          <a:blip r:embed="rId1"/>
          <a:stretch/>
        </p:blipFill>
        <p:spPr>
          <a:xfrm>
            <a:off x="0" y="0"/>
            <a:ext cx="4571640" cy="68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786200" y="428760"/>
            <a:ext cx="4000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571840" y="857160"/>
            <a:ext cx="4643280" cy="30157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Что за чудо-чуд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агорелись неб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Ой, горит-пылает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ад сверкающими ль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Кто зажёг огонь чуде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олотой костёр небес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икого за тучей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Это с неба льётся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5929200"/>
            <a:ext cx="378576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ЕВЕР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Картинка 2 из 27750"/>
          <p:cNvPicPr/>
          <p:nvPr/>
        </p:nvPicPr>
        <p:blipFill>
          <a:blip r:embed="rId1"/>
          <a:stretch/>
        </p:blipFill>
        <p:spPr>
          <a:xfrm>
            <a:off x="142920" y="142920"/>
            <a:ext cx="871848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25 из 10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3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4200" y="47862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514368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а 8 из 114602"/>
          <p:cNvPicPr/>
          <p:nvPr/>
        </p:nvPicPr>
        <p:blipFill>
          <a:blip r:embed="rId1"/>
          <a:stretch/>
        </p:blipFill>
        <p:spPr>
          <a:xfrm>
            <a:off x="285840" y="285840"/>
            <a:ext cx="8447040" cy="47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1272</Words>
  <Paragraphs>269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31:12Z</dcterms:created>
  <dc:creator>user</dc:creator>
  <dc:description/>
  <dc:language>en-US</dc:language>
  <cp:lastModifiedBy>LEGION2</cp:lastModifiedBy>
  <dcterms:modified xsi:type="dcterms:W3CDTF">2015-04-28T07:17:0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