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CE924-9F03-435F-8E43-30AC58223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" Target="../slides/slide20.xml"/><Relationship Id="rId1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99B9C-0012-4A4A-A67B-EF0A32C1AB6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7F2473-5292-4FB7-9D26-A488CB34D04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2DCE3-06EE-4884-9890-881181F4323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BCA2FD-9ED0-44CC-8DC4-E410156B071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7C0423-B78A-4D3D-BB17-42A3A753611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крытой …             , большое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57314-BAC1-45E3-9703-050DC38547B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A770AB-E2AA-4B73-BA45-F8779692468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C97FF8-E5F2-40D2-9C8F-6343EE345F8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B6162E-20F0-46BA-A246-54DC5E2A44E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 ВРАНГ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зовую чайку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вцеб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лые гу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E77A98-12C5-4A1E-BCA6-4D759F34DA7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AF0681-848A-4A75-9DEA-681B6634204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мое большое озеро в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неж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спий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Река, впадающая в Каспийское мор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Река, соединяющая озеро Байкал с Северным Ледовитым океано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4. Самая длинная река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В список Всемирного наследия внес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Какие озёра в народе называют «Онего-батюшко и Ладога-матушк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льское и Каспийское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адожское и Онежско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C8FE0E-DA44-4BC8-9AFE-39E7EE122AD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khabphoto.ru/gallery.php?gallery_id=334&amp;mode=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angel-killmysoulkillme.net/2012/02/15-20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900igr.net/kartinki/geografija/Bezmolvnaja-Arktika/062-Problemy-Arktiki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rsnews.net/index.phtml?show=article&amp;id=7303&amp;lang=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ota.ru/wallpapers/get/id/1007/resolution/320x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good-fon.ru/gdefon/allwallpapers/full/257113-newwallpap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russian-travels.ru/foto2/shyrotka/g_3.php?numbe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http://900igr.net/fotografii/geografija/Bezmolvnaja-Arktika/049-Zapovednik-Ostrov-Vrangelj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http://my-sedovo.narod.ru/RPUAC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http://travel.ria.ru/photo/20101217/222973526_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361556-A6B9-41AC-9203-76A6A9AF7F2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13DCB2-F45C-468F-B471-0849091F0C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8D8EAB-651C-4ADB-AE25-3EA88C71DF6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65650-9F61-4E53-A917-F61F3485EFA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DC260A-A083-4A01-9CEF-CC056298754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Е С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954E60-2A85-4946-8E35-9F6E1DC849B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6AC72E-F0BD-406D-AEEB-FC81B5AAF9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8A2671-38B3-4F42-B4BA-58410CA06DA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701-BD1F-4A04-A10F-8468754B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124-449A-4AF6-8EB1-669DF270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AA4-5445-4A3A-8D0C-6C480C22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087-B783-477A-A92D-A024104A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9F4-D3D9-4987-B9BE-D4BA542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596-65B5-42BD-88C5-FF8FF37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6FB-56B5-4165-8AB4-94A9193E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6B4-0000-497E-88F4-4D49590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762-F83E-4AB4-B6A8-5BA0243B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0BE5-1E4F-4799-AAC8-008003A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BC2-D64B-4DEF-8D6B-EC7CDB4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852-658E-4E94-B70B-10399DD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0F4A-7BE2-449A-A743-C3D10C7A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D4B4-2AFA-4C0F-8A1F-1B12439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A2E-643B-41BD-AFBB-2009F9F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4E6-C2AE-4DF7-A6D0-20C2B0C2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FF77-0B35-4CEA-884B-6EE3284B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CCD-0C93-4CE0-A43D-56616BA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D0B-3C78-4E2A-A94F-17A7AE08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A5E-497D-4077-AC4D-9ECDF1B0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F35-A390-493E-9B07-2F9C60E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E37-D8BF-48D2-8118-7B9983B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6FA-7E38-449A-9869-B6E44C0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8B6-140E-4C1C-8D64-6BE4110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74B1B-0B5C-45BF-BB87-67EA28CE0F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78C35F-88CD-4062-A387-21B9BC42E16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.kinopoisk.ru/im/kadr/5/7/7/kinopoisk.ru-Arctic-Tale-57752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 из 103413"/>
          <p:cNvPicPr/>
          <p:nvPr/>
        </p:nvPicPr>
        <p:blipFill>
          <a:blip r:embed="rId1"/>
          <a:stretch/>
        </p:blipFill>
        <p:spPr>
          <a:xfrm>
            <a:off x="0" y="0"/>
            <a:ext cx="916092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57280" y="142920"/>
            <a:ext cx="4071600" cy="3639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4929120"/>
            <a:ext cx="6071760" cy="9126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42960" y="1643040"/>
            <a:ext cx="8000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2 из 155823"/>
          <p:cNvPicPr/>
          <p:nvPr/>
        </p:nvPicPr>
        <p:blipFill>
          <a:blip r:embed="rId1"/>
          <a:stretch/>
        </p:blipFill>
        <p:spPr>
          <a:xfrm>
            <a:off x="1928880" y="571320"/>
            <a:ext cx="5398200" cy="35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Картинка 14 из 103413"/>
          <p:cNvPicPr/>
          <p:nvPr/>
        </p:nvPicPr>
        <p:blipFill>
          <a:blip r:embed="rId2"/>
          <a:stretch/>
        </p:blipFill>
        <p:spPr>
          <a:xfrm>
            <a:off x="214200" y="3714840"/>
            <a:ext cx="38574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42920" y="142920"/>
            <a:ext cx="87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а 53 из 246"/>
          <p:cNvPicPr/>
          <p:nvPr/>
        </p:nvPicPr>
        <p:blipFill>
          <a:blip r:embed="rId3"/>
          <a:stretch/>
        </p:blipFill>
        <p:spPr>
          <a:xfrm>
            <a:off x="4605480" y="3786120"/>
            <a:ext cx="4310640" cy="281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20 из 2954"/>
          <p:cNvPicPr/>
          <p:nvPr/>
        </p:nvPicPr>
        <p:blipFill>
          <a:blip r:embed="rId1"/>
          <a:stretch/>
        </p:blipFill>
        <p:spPr>
          <a:xfrm>
            <a:off x="214200" y="1285920"/>
            <a:ext cx="5071680" cy="380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инка 6 из 2954"/>
          <p:cNvPicPr/>
          <p:nvPr/>
        </p:nvPicPr>
        <p:blipFill>
          <a:blip r:embed="rId2"/>
          <a:stretch/>
        </p:blipFill>
        <p:spPr>
          <a:xfrm>
            <a:off x="3857760" y="3286080"/>
            <a:ext cx="507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142920"/>
            <a:ext cx="8857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dekatop.com/wp-content/uploads/2011/04/animal_07.jpg"/>
          <p:cNvPicPr/>
          <p:nvPr/>
        </p:nvPicPr>
        <p:blipFill>
          <a:blip r:embed="rId1"/>
          <a:stretch/>
        </p:blipFill>
        <p:spPr>
          <a:xfrm>
            <a:off x="785880" y="1000080"/>
            <a:ext cx="727164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285840"/>
            <a:ext cx="850068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14200" y="1285920"/>
            <a:ext cx="8643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077520" y="1214280"/>
            <a:ext cx="918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506920" y="1714320"/>
            <a:ext cx="1043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20920" y="1714320"/>
            <a:ext cx="1019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362920" y="2214720"/>
            <a:ext cx="937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435840" y="2571840"/>
            <a:ext cx="1069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ч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9400" y="2571840"/>
            <a:ext cx="11138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кай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293880" y="2571840"/>
            <a:ext cx="13287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гаг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297160" y="3071880"/>
            <a:ext cx="1744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от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364560" y="3500280"/>
            <a:ext cx="12538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у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2120" y="3857760"/>
            <a:ext cx="1324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10880" y="3857760"/>
            <a:ext cx="17431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35640" y="4214880"/>
            <a:ext cx="1197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508120" y="4214880"/>
            <a:ext cx="1307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7365960" y="4286160"/>
            <a:ext cx="14292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едв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935960" y="4714920"/>
            <a:ext cx="11840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ел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79600" y="5143680"/>
            <a:ext cx="1520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шир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38040" y="5715000"/>
            <a:ext cx="47700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ередвигаться по льду и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285840"/>
            <a:ext cx="8500680" cy="82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7120" y="178596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й …             , большое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429160" y="178596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кам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43120" y="2286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286760" y="2214720"/>
            <a:ext cx="13568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929720" y="2786040"/>
            <a:ext cx="9284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85880" y="3286080"/>
            <a:ext cx="28573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полярные м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286000" y="392904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4572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071880" y="4786200"/>
            <a:ext cx="14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42920" y="214200"/>
            <a:ext cx="878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Картинка 4 из 3567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32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Картинка 48 из 3566"/>
          <p:cNvPicPr/>
          <p:nvPr/>
        </p:nvPicPr>
        <p:blipFill>
          <a:blip r:embed="rId2"/>
          <a:stretch/>
        </p:blipFill>
        <p:spPr>
          <a:xfrm>
            <a:off x="3786120" y="2857320"/>
            <a:ext cx="5076360" cy="38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0"/>
            <a:ext cx="6143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14200" y="142920"/>
            <a:ext cx="8643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Картинка 3 из 370"/>
          <p:cNvPicPr/>
          <p:nvPr/>
        </p:nvPicPr>
        <p:blipFill>
          <a:blip r:embed="rId1"/>
          <a:stretch/>
        </p:blipFill>
        <p:spPr>
          <a:xfrm>
            <a:off x="1214280" y="1214280"/>
            <a:ext cx="6500520" cy="542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42920" y="0"/>
            <a:ext cx="5357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14200" y="5857920"/>
            <a:ext cx="8715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Картинка 1 из 2850"/>
          <p:cNvPicPr/>
          <p:nvPr/>
        </p:nvPicPr>
        <p:blipFill>
          <a:blip r:embed="rId1"/>
          <a:stretch/>
        </p:blipFill>
        <p:spPr>
          <a:xfrm>
            <a:off x="214200" y="285840"/>
            <a:ext cx="8643600" cy="54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5 из 246"/>
          <p:cNvPicPr/>
          <p:nvPr/>
        </p:nvPicPr>
        <p:blipFill>
          <a:blip r:embed="rId1"/>
          <a:stretch/>
        </p:blipFill>
        <p:spPr>
          <a:xfrm>
            <a:off x="214200" y="1214280"/>
            <a:ext cx="7566840" cy="4500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14200" y="214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285920" y="6215040"/>
            <a:ext cx="285732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СТРОВ ВРАН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3714840"/>
            <a:ext cx="3500280" cy="28328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Организован в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1976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розовую чайку. 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овцебык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белые гуси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000160" y="285840"/>
            <a:ext cx="521460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8573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8573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8573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28573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28573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28573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4"/>
          <p:cNvSpPr/>
          <p:nvPr/>
        </p:nvSpPr>
        <p:spPr>
          <a:xfrm>
            <a:off x="28573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3" name="Прямоугольник 23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4" name="Прямоугольник 24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5" name="Прямоугольник 25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6" name="Прямоугольник 26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9" name="Прямоугольник 29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0" name="Прямоугольник 30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1" name="Прямоугольник 31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9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00" name="Прямоугольник 40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2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3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4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5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7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9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0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1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2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3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4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5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6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8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9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0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1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2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3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4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5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8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9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0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29" name="Прямоугольник 71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00120" y="214200"/>
            <a:ext cx="642924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785880"/>
            <a:ext cx="4714560" cy="58503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Самое большое озеро в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не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. Река, впадающая в Каспийское мо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3. Река, соединяющая озеро Байкал с Северным Ледовитым океано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4. Самая длинная река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. В список Всемирного наследия внес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ел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785880"/>
            <a:ext cx="3857400" cy="1461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6. Какие озёра в народе называют «Онего-батюшко и Ладога-матуш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ральское и Каспийское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адожское и Онежско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857920" y="3214800"/>
            <a:ext cx="2499840" cy="3075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habphoto.ru/gallery.php?gallery_id=334&amp;mode=jou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ngel-killmysoulkillme.net/2012/02/15-2009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kartinki/geografija/Bezmolvnaja-Arktika/062-Problemy-Arktiki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snews.net/index.phtml?show=article&amp;id=7303&amp;lang=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ota.ru/wallpapers/get/id/1007/resolution/320x4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od-fon.ru/gdefon/allwallpapers/full/257113-newwallpap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ussian-travels.ru/foto2/shyrotka/g_3.php?number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fotografii/geografija/Bezmolvnaja-Arktika/049-Zapovednik-Ostrov-Vrangelja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edovo.narod.ru/RPUACOM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travel.ria.ru/photo/20101217/222973526_2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а 18 из 103413"/>
          <p:cNvPicPr/>
          <p:nvPr/>
        </p:nvPicPr>
        <p:blipFill>
          <a:blip r:embed="rId1"/>
          <a:stretch/>
        </p:blipFill>
        <p:spPr>
          <a:xfrm>
            <a:off x="0" y="0"/>
            <a:ext cx="93006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357120"/>
            <a:ext cx="835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0 из 1034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3571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20 из 103413"/>
          <p:cNvPicPr/>
          <p:nvPr/>
        </p:nvPicPr>
        <p:blipFill>
          <a:blip r:embed="rId1"/>
          <a:stretch/>
        </p:blipFill>
        <p:spPr>
          <a:xfrm>
            <a:off x="0" y="0"/>
            <a:ext cx="4571640" cy="68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786200" y="428760"/>
            <a:ext cx="4000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571840" y="857160"/>
            <a:ext cx="4643280" cy="30157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Что за чудо-чуд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агорелись неб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Ой, горит-пылает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ад сверкающими ль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Кто зажёг огонь чуде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олотой костёр небес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икого за тучей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Это с неба льётся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5929200"/>
            <a:ext cx="378576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ЕВЕР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Картинка 2 из 27750"/>
          <p:cNvPicPr/>
          <p:nvPr/>
        </p:nvPicPr>
        <p:blipFill>
          <a:blip r:embed="rId1"/>
          <a:stretch/>
        </p:blipFill>
        <p:spPr>
          <a:xfrm>
            <a:off x="142920" y="142920"/>
            <a:ext cx="871848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25 из 10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3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4200" y="47862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514368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а 8 из 114602"/>
          <p:cNvPicPr/>
          <p:nvPr/>
        </p:nvPicPr>
        <p:blipFill>
          <a:blip r:embed="rId1"/>
          <a:stretch/>
        </p:blipFill>
        <p:spPr>
          <a:xfrm>
            <a:off x="285840" y="285840"/>
            <a:ext cx="8447040" cy="47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1272</Words>
  <Paragraphs>269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31:12Z</dcterms:created>
  <dc:creator>user</dc:creator>
  <dc:description/>
  <dc:language>en-US</dc:language>
  <cp:lastModifiedBy>LEGION2</cp:lastModifiedBy>
  <dcterms:modified xsi:type="dcterms:W3CDTF">2015-04-28T07:17:0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