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C881C-2CB4-4121-AC96-0BAC3E28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" Target="../slides/slide20.xml"/><Relationship Id="rId1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14CA6F-5427-4C19-9265-0C29A1A7B0C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09F940-B333-424D-83E6-C0C89743774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5539F-485A-4CB5-84F2-CC46297F2C8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E39E99-20B0-4CB8-9774-416A1C11A97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7ED8A5-CDEC-49B5-BEEA-620B2D52BEB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крытой …             , большое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802B4-5348-4AEA-A4FF-50A9D46FF31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1C1CC5-0310-4148-B02D-C9327308A9C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D727F9-DD59-4F78-AD2B-3E2AECA257C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FFEABB-B4A1-4FCC-8269-B0B98E03AA9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 ВРАНГ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зовую чайку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вцеб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лые гу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7B9793-D0A9-4313-9F6F-20567A4D553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49A386-D01F-44FD-BC29-B49A186C602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мое большое озеро в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неж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спий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Река, впадающая в Каспийское мор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Река, соединяющая озеро Байкал с Северным Ледовитым океано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4. Самая длинная река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В список Всемирного наследия внес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Какие озёра в народе называют «Онего-батюшко и Ладога-матушк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льское и Каспийское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адожское и Онежско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0966D1-F3A5-4F3B-8DF5-EC6CAF3DE0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khabphoto.ru/gallery.php?gallery_id=334&amp;mode=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angel-killmysoulkillme.net/2012/02/15-20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900igr.net/kartinki/geografija/Bezmolvnaja-Arktika/062-Problemy-Arktiki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rsnews.net/index.phtml?show=article&amp;id=7303&amp;lang=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ota.ru/wallpapers/get/id/1007/resolution/320x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good-fon.ru/gdefon/allwallpapers/full/257113-newwallpap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russian-travels.ru/foto2/shyrotka/g_3.php?numbe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http://900igr.net/fotografii/geografija/Bezmolvnaja-Arktika/049-Zapovednik-Ostrov-Vrangelj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http://my-sedovo.narod.ru/RPUAC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http://travel.ria.ru/photo/20101217/222973526_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A161B3-DD4C-4C02-8093-764A026A70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8195EF-11FD-401A-BD57-850185CFA0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8E8337-83C1-41B4-B7DB-6D8BDAC2D03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BA8A3-D223-45C5-92A3-8E31EF11013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F72993-F2C3-469C-A6AA-922E3AC70F4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Е С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64E308-A83F-4C86-B3CC-922DAB5E8FC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A25950-AC9E-4872-B6CA-0C47C4A7021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3269F-30AD-4249-961C-73EA6B51537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236-99A7-4A0D-B606-8722404E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6DB-4C26-4BC6-A5BC-819671C1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01D-E345-448C-BAF6-BFB6B50B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E3E-3A0A-4801-A96F-146F8519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10B-1B9D-4BA8-A22B-54D4A026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FE9-B73A-4712-B5EB-7D6F36E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DC7F-D0FF-4611-8D7F-19A7C2F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C89-1ECF-4734-BA1A-6CE293D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7750-6EAD-465D-8647-B237237E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11F6-616A-437B-BC9A-BEA35E7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A011-4F77-4A9B-BEFE-45E23A2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5FD-407F-406B-9D79-B9913A1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D3C-DADD-4755-895A-C08ED84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55D-D2D5-438E-8B88-62E5D51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04BB-3F81-4CE3-9E07-7A4B2B1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5CB3-9AC2-4742-AE9E-FBEB799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976-5228-493C-8853-BB0EEDFF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50F-E5D8-42F9-9817-EBA71BC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2BD-7BF1-4302-B307-279C25D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345-4C1F-4BF1-9E14-62EFE8D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2B8-750B-40F0-BBF3-90EFCA6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A7D-C6AD-42C7-8CDE-5EE80DD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17B-3091-411E-9F98-5018EDD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8DE-5091-456E-A68F-4626C1F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5FBC9A-731A-4D79-81B0-45D8878FD0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8B495F-6878-42D3-A333-2E8F3000588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.kinopoisk.ru/im/kadr/5/7/7/kinopoisk.ru-Arctic-Tale-57752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 из 103413"/>
          <p:cNvPicPr/>
          <p:nvPr/>
        </p:nvPicPr>
        <p:blipFill>
          <a:blip r:embed="rId1"/>
          <a:stretch/>
        </p:blipFill>
        <p:spPr>
          <a:xfrm>
            <a:off x="0" y="0"/>
            <a:ext cx="916092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57280" y="142920"/>
            <a:ext cx="4071600" cy="3639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4929120"/>
            <a:ext cx="6071760" cy="9126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42960" y="1643040"/>
            <a:ext cx="8000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2 из 155823"/>
          <p:cNvPicPr/>
          <p:nvPr/>
        </p:nvPicPr>
        <p:blipFill>
          <a:blip r:embed="rId1"/>
          <a:stretch/>
        </p:blipFill>
        <p:spPr>
          <a:xfrm>
            <a:off x="1928880" y="571320"/>
            <a:ext cx="5398200" cy="35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Картинка 14 из 103413"/>
          <p:cNvPicPr/>
          <p:nvPr/>
        </p:nvPicPr>
        <p:blipFill>
          <a:blip r:embed="rId2"/>
          <a:stretch/>
        </p:blipFill>
        <p:spPr>
          <a:xfrm>
            <a:off x="214200" y="3714840"/>
            <a:ext cx="38574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42920" y="142920"/>
            <a:ext cx="87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а 53 из 246"/>
          <p:cNvPicPr/>
          <p:nvPr/>
        </p:nvPicPr>
        <p:blipFill>
          <a:blip r:embed="rId3"/>
          <a:stretch/>
        </p:blipFill>
        <p:spPr>
          <a:xfrm>
            <a:off x="4605480" y="3786120"/>
            <a:ext cx="4310640" cy="281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20 из 2954"/>
          <p:cNvPicPr/>
          <p:nvPr/>
        </p:nvPicPr>
        <p:blipFill>
          <a:blip r:embed="rId1"/>
          <a:stretch/>
        </p:blipFill>
        <p:spPr>
          <a:xfrm>
            <a:off x="214200" y="1285920"/>
            <a:ext cx="5071680" cy="380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инка 6 из 2954"/>
          <p:cNvPicPr/>
          <p:nvPr/>
        </p:nvPicPr>
        <p:blipFill>
          <a:blip r:embed="rId2"/>
          <a:stretch/>
        </p:blipFill>
        <p:spPr>
          <a:xfrm>
            <a:off x="3857760" y="3286080"/>
            <a:ext cx="507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142920"/>
            <a:ext cx="8857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dekatop.com/wp-content/uploads/2011/04/animal_07.jpg"/>
          <p:cNvPicPr/>
          <p:nvPr/>
        </p:nvPicPr>
        <p:blipFill>
          <a:blip r:embed="rId1"/>
          <a:stretch/>
        </p:blipFill>
        <p:spPr>
          <a:xfrm>
            <a:off x="785880" y="1000080"/>
            <a:ext cx="727164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285840"/>
            <a:ext cx="850068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14200" y="1285920"/>
            <a:ext cx="8643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077520" y="1214280"/>
            <a:ext cx="918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506920" y="1714320"/>
            <a:ext cx="1043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20920" y="1714320"/>
            <a:ext cx="1019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362920" y="2214720"/>
            <a:ext cx="937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435840" y="2571840"/>
            <a:ext cx="1069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ч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9400" y="2571840"/>
            <a:ext cx="11138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кай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293880" y="2571840"/>
            <a:ext cx="13287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гаг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297160" y="3071880"/>
            <a:ext cx="1744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от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364560" y="3500280"/>
            <a:ext cx="12538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у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2120" y="3857760"/>
            <a:ext cx="1324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10880" y="3857760"/>
            <a:ext cx="17431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35640" y="4214880"/>
            <a:ext cx="1197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508120" y="4214880"/>
            <a:ext cx="1307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7365960" y="4286160"/>
            <a:ext cx="14292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едв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935960" y="4714920"/>
            <a:ext cx="11840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ел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79600" y="5143680"/>
            <a:ext cx="1520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шир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38040" y="5715000"/>
            <a:ext cx="47700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ередвигаться по льду и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285840"/>
            <a:ext cx="8500680" cy="82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7120" y="178596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й …             , большое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429160" y="178596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кам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43120" y="2286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286760" y="2214720"/>
            <a:ext cx="13568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929720" y="2786040"/>
            <a:ext cx="9284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85880" y="3286080"/>
            <a:ext cx="28573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полярные м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286000" y="392904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4572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071880" y="4786200"/>
            <a:ext cx="14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42920" y="214200"/>
            <a:ext cx="878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Картинка 4 из 3567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32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Картинка 48 из 3566"/>
          <p:cNvPicPr/>
          <p:nvPr/>
        </p:nvPicPr>
        <p:blipFill>
          <a:blip r:embed="rId2"/>
          <a:stretch/>
        </p:blipFill>
        <p:spPr>
          <a:xfrm>
            <a:off x="3786120" y="2857320"/>
            <a:ext cx="5076360" cy="38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0"/>
            <a:ext cx="6143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14200" y="142920"/>
            <a:ext cx="8643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Картинка 3 из 370"/>
          <p:cNvPicPr/>
          <p:nvPr/>
        </p:nvPicPr>
        <p:blipFill>
          <a:blip r:embed="rId1"/>
          <a:stretch/>
        </p:blipFill>
        <p:spPr>
          <a:xfrm>
            <a:off x="1214280" y="1214280"/>
            <a:ext cx="6500520" cy="542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42920" y="0"/>
            <a:ext cx="5357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14200" y="5857920"/>
            <a:ext cx="8715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Картинка 1 из 2850"/>
          <p:cNvPicPr/>
          <p:nvPr/>
        </p:nvPicPr>
        <p:blipFill>
          <a:blip r:embed="rId1"/>
          <a:stretch/>
        </p:blipFill>
        <p:spPr>
          <a:xfrm>
            <a:off x="214200" y="285840"/>
            <a:ext cx="8643600" cy="54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5 из 246"/>
          <p:cNvPicPr/>
          <p:nvPr/>
        </p:nvPicPr>
        <p:blipFill>
          <a:blip r:embed="rId1"/>
          <a:stretch/>
        </p:blipFill>
        <p:spPr>
          <a:xfrm>
            <a:off x="214200" y="1214280"/>
            <a:ext cx="7566840" cy="4500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14200" y="214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285920" y="6215040"/>
            <a:ext cx="285732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СТРОВ ВРАН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3714840"/>
            <a:ext cx="3500280" cy="28328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Организован в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1976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розовую чайку. 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овцебык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белые гуси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000160" y="285840"/>
            <a:ext cx="521460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8573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8573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8573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28573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28573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28573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4"/>
          <p:cNvSpPr/>
          <p:nvPr/>
        </p:nvSpPr>
        <p:spPr>
          <a:xfrm>
            <a:off x="28573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3" name="Прямоугольник 23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4" name="Прямоугольник 24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5" name="Прямоугольник 25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6" name="Прямоугольник 26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9" name="Прямоугольник 29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0" name="Прямоугольник 30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1" name="Прямоугольник 31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9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00" name="Прямоугольник 40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2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3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4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5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7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9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0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1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2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3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4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5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6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8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9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0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1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2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3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4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5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8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9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0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29" name="Прямоугольник 71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00120" y="214200"/>
            <a:ext cx="642924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785880"/>
            <a:ext cx="4714560" cy="58503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Самое большое озеро в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не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. Река, впадающая в Каспийское мо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3. Река, соединяющая озеро Байкал с Северным Ледовитым океано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4. Самая длинная река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. В список Всемирного наследия внес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ел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785880"/>
            <a:ext cx="3857400" cy="1461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6. Какие озёра в народе называют «Онего-батюшко и Ладога-матуш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ральское и Каспийское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адожское и Онежско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857920" y="3214800"/>
            <a:ext cx="2499840" cy="3075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habphoto.ru/gallery.php?gallery_id=334&amp;mode=jou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ngel-killmysoulkillme.net/2012/02/15-2009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kartinki/geografija/Bezmolvnaja-Arktika/062-Problemy-Arktiki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snews.net/index.phtml?show=article&amp;id=7303&amp;lang=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ota.ru/wallpapers/get/id/1007/resolution/320x4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od-fon.ru/gdefon/allwallpapers/full/257113-newwallpap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ussian-travels.ru/foto2/shyrotka/g_3.php?number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fotografii/geografija/Bezmolvnaja-Arktika/049-Zapovednik-Ostrov-Vrangelja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edovo.narod.ru/RPUACOM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travel.ria.ru/photo/20101217/222973526_2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а 18 из 103413"/>
          <p:cNvPicPr/>
          <p:nvPr/>
        </p:nvPicPr>
        <p:blipFill>
          <a:blip r:embed="rId1"/>
          <a:stretch/>
        </p:blipFill>
        <p:spPr>
          <a:xfrm>
            <a:off x="0" y="0"/>
            <a:ext cx="93006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357120"/>
            <a:ext cx="835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0 из 1034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3571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20 из 103413"/>
          <p:cNvPicPr/>
          <p:nvPr/>
        </p:nvPicPr>
        <p:blipFill>
          <a:blip r:embed="rId1"/>
          <a:stretch/>
        </p:blipFill>
        <p:spPr>
          <a:xfrm>
            <a:off x="0" y="0"/>
            <a:ext cx="4571640" cy="68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786200" y="428760"/>
            <a:ext cx="4000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571840" y="857160"/>
            <a:ext cx="4643280" cy="30157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Что за чудо-чуд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агорелись неб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Ой, горит-пылает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ад сверкающими ль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Кто зажёг огонь чуде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олотой костёр небес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икого за тучей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Это с неба льётся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5929200"/>
            <a:ext cx="378576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ЕВЕР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Картинка 2 из 27750"/>
          <p:cNvPicPr/>
          <p:nvPr/>
        </p:nvPicPr>
        <p:blipFill>
          <a:blip r:embed="rId1"/>
          <a:stretch/>
        </p:blipFill>
        <p:spPr>
          <a:xfrm>
            <a:off x="142920" y="142920"/>
            <a:ext cx="871848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25 из 10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3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4200" y="47862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514368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а 8 из 114602"/>
          <p:cNvPicPr/>
          <p:nvPr/>
        </p:nvPicPr>
        <p:blipFill>
          <a:blip r:embed="rId1"/>
          <a:stretch/>
        </p:blipFill>
        <p:spPr>
          <a:xfrm>
            <a:off x="285840" y="285840"/>
            <a:ext cx="8447040" cy="47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1272</Words>
  <Paragraphs>269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31:12Z</dcterms:created>
  <dc:creator>user</dc:creator>
  <dc:description/>
  <dc:language>en-US</dc:language>
  <cp:lastModifiedBy>LEGION2</cp:lastModifiedBy>
  <dcterms:modified xsi:type="dcterms:W3CDTF">2015-04-28T07:17:0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