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FBFC7F-08F2-4F18-A56B-86E4C050A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khabphoto.ru/gallery.php?gallery_id=334&amp;mode=journal" TargetMode="External"/><Relationship Id="rId2" Type="http://schemas.openxmlformats.org/officeDocument/2006/relationships/hyperlink" Target="http://www.angel-killmysoulkillme.net/2012/02/15-2009.html" TargetMode="External"/><Relationship Id="rId3" Type="http://schemas.openxmlformats.org/officeDocument/2006/relationships/hyperlink" Target="http://900igr.net/kartinki/geografija/Bezmolvnaja-Arktika/062-Problemy-Arktiki.html" TargetMode="External"/><Relationship Id="rId4" Type="http://schemas.openxmlformats.org/officeDocument/2006/relationships/hyperlink" Target="http://rsnews.net/index.phtml?show=article&amp;id=7303&amp;lang=RUS" TargetMode="External"/><Relationship Id="rId5" Type="http://schemas.openxmlformats.org/officeDocument/2006/relationships/hyperlink" Target="http://www.mota.ru/wallpapers/get/id/1007/resolution/320x480" TargetMode="External"/><Relationship Id="rId6" Type="http://schemas.openxmlformats.org/officeDocument/2006/relationships/hyperlink" Target="http://good-fon.ru/gdefon/allwallpapers/full/257113-newwallpapers" TargetMode="External"/><Relationship Id="rId7" Type="http://schemas.openxmlformats.org/officeDocument/2006/relationships/hyperlink" Target="http://www.russian-travels.ru/foto2/shyrotka/g_3.php?number=3" TargetMode="External"/><Relationship Id="rId8" Type="http://schemas.openxmlformats.org/officeDocument/2006/relationships/hyperlink" Target="http://900igr.net/fotografii/geografija/Bezmolvnaja-Arktika/049-Zapovednik-Ostrov-Vrangelja.html" TargetMode="External"/><Relationship Id="rId9" Type="http://schemas.openxmlformats.org/officeDocument/2006/relationships/hyperlink" Target="http://my-sedovo.narod.ru/RPUACOM.html" TargetMode="External"/><Relationship Id="rId10" Type="http://schemas.openxmlformats.org/officeDocument/2006/relationships/hyperlink" Target="http://travel.ria.ru/photo/20101217/222973526_2.html" TargetMode="External"/><Relationship Id="rId11" Type="http://schemas.openxmlformats.org/officeDocument/2006/relationships/slide" Target="../slides/slide20.xml"/><Relationship Id="rId1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Book Antiqua"/>
              </a:rPr>
              <a:t>АРКТ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942642-9B11-42B8-98CF-33CBEB70EC0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жам и тюленям не даёт замёрзнуть толстый слой подкожного ж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5CBB8C-0BC6-46E5-959C-7393C940A96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калистых берегах – птичьи база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есь гнездится множество морских птиц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порики, кайры, тупики, чайки, г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334913-7ED3-42C3-9592-F661BBBCD96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дах северных морей, где проходят тёплые течения, обитает великолепное животное – гренландский к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CD182B-D18E-4008-B310-3E11299A29F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ЖИВОТНОМ МИРЕ АР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Животных арктической зоны кормит ….         Морскими водорослями питаются …      , а ими - …. Основная пища и животных – это …      На скалистых берегах собираются …         , …          и …            , здесь они выводят …                 . Птиц с необычными клювами называют ….           . Все звери – прекрасные …           . От холода их защищает …                 .         Это …           и ….          . На тюленей охотятся …           У них длинная  густая шерсть …           цвета                 и …               лапы, чтобы удобнее был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7BD2D8-0FED-4882-951F-C074E94F247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РАСТИТЕЛЬ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МИРЕ АР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На островах прямо на голых ….       встречаются ….                     , они очень … Также приспособились к жизни на камнях …  и ….                        . В толще воды,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покрытой …             , большое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1216AE-FA07-403A-870D-0A40F7E43C6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не является коренным жителем Арктики, но она всегда привлекала людей своей загадочностью. На островах и во льдах Северного Ледовитого океана работают научные ста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B5B6FA-8E7D-4E5E-ACED-7FBAFC58C8B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ложен северный морской путь, так идут караваны 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4EF114-7A19-44D1-84DE-F782CB8883D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и занимаются рыболовством, охо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1490B5-AA09-490E-B360-8F17B5B7CE9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рана редких животных, ограничение рыбной ловли, создание запов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ТРОВ ВРАНГ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рганизован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году. На остров прилетает большое количество птиц для гнездовья. Здесь можно встретить редкую птицу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зовую чайку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острове обитает самое крупное из копытных животных Арктики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вцебы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Это единственное место, где гнездя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елые гус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094664-A58E-436B-B611-41A91D5DDA4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A0A785-7407-4866-AE40-DB8D49CDFA5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ПРОВЕРИМ 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Самое большое озеро в Росс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неж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Бай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Каспий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. Река, впадающая в Каспийское мор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Д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3. Река, соединяющая озеро Байкал с Северным Ледовитым океано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Ени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4. Самая длинная река Росс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5. В список Всемирного наследия внес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Бел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зеро Бай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6. Какие озёра в народе называют «Онего-батюшко и Ладога-матушка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Аральское и Каспийское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адожское и Онежское оз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36F513-786B-482B-A8F3-FE581F2B9A6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ww.khabphoto.ru/gallery.php?gallery_id=334&amp;mode=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www.angel-killmysoulkillme.net/2012/02/15-200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http://900igr.net/kartinki/geografija/Bezmolvnaja-Arktika/062-Problemy-Arktiki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http://rsnews.net/index.phtml?show=article&amp;id=7303&amp;lang=R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http://www.mota.ru/wallpapers/get/id/1007/resolution/320x4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http://good-fon.ru/gdefon/allwallpapers/full/257113-newwallpap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http://www.russian-travels.ru/foto2/shyrotka/g_3.php?number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http://900igr.net/fotografii/geografija/Bezmolvnaja-Arktika/049-Zapovednik-Ostrov-Vrangelja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http://my-sedovo.narod.ru/RPUACOM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http://travel.ria.ru/photo/20101217/222973526_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7F0EBD-727B-42B2-A5E7-E68357EB1F6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ительны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5AB598-E902-46BE-B09D-00C86AEF5FB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Т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центральная часть Северного Ледовитого океана с островами и прилегающими побережьями матер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10D34B-0CE4-4C17-A75A-BCF30402B83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этой полярной области очень разнообразен. Холодные порывистые ветры гуляют по безмолвным снежным просторам. Здесь долгая и холодная зима и короткое холодное ле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5B0C34-B294-4AAC-ACB0-98816F58D9C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ми пустынями называют огромное пространство Севера, где только льды да снега. Всё белым-бело до боли в глаз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рктике несколько месяцев не заходит солнце – продолжается полярный день. Зимой наступает полярная ночь: темным-темно и совсем холод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8ECBDB-40B6-4B45-BBF3-6D21599DCD1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ВЕРОЕ СИ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7BC29F-747C-489C-92AA-F729685A376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кан Арктики – белый медведь – сутками бродит по снежной пустыне в поисках добы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ярные медведи – самые сильные и крупные животные Арктики, на них никто не напада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215E6C-6E25-41BC-9B76-AC2A5C82672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ромные белые медведи имеют великолепный нюх и могут очень быстро бегать по льду, преследуя жертву. Он так силён, что может убить человека одним ударом ла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AAD578-A09B-4516-BFC8-53661D4AE2A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C25-8421-47C3-8149-6FD3F44B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24F-38A8-49F2-BE73-0450EA0D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AA5-A7D9-48F8-8835-92F306DE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11E-73E6-4730-8856-08B5DA86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F3E3-6596-4B50-A050-C359C0C6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744B-8D75-42B3-889B-09524C14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6A36-81C9-4F06-8CF0-AAEFD8B7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27A8-5024-4A67-8F53-CCA91B2C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573B-EE13-4713-8637-A3F25399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C058-DAAE-41FF-B108-59409253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955E-5F40-4F52-8157-6E5985A5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E26-CE4A-4D3B-BD8C-16A64A76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3A69-252C-4503-BAE8-57C8A18B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48AF-49C1-4B95-96D9-7A2AEB8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6A2D-599E-4CBB-939C-24F00C63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E7D8-2F00-40BF-92EB-38E2E61E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C362-D072-4C75-95A9-2A52C490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EBD-71E9-4E71-99E6-0C7311E5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DE0-AA5B-4788-B11E-43017D6B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15F-2AA9-40D1-ADFE-9AA56D2D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7C5-3465-45BC-A0B7-3E8E7B6A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017-AEFB-4D88-9A57-5F627A05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C86-7D53-4B66-B8F5-8EB71AE7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B63-C591-49C6-826C-99E683ED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826F1D-0C54-47A4-ABA5-3274B4EA2CB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3AB71F-89E8-4D26-8024-A722EA1B95D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khabphoto.ru/gallery.php?gallery_id=334&amp;mode=journal" TargetMode="External"/><Relationship Id="rId2" Type="http://schemas.openxmlformats.org/officeDocument/2006/relationships/hyperlink" Target="http://www.angel-killmysoulkillme.net/2012/02/15-2009.html" TargetMode="External"/><Relationship Id="rId3" Type="http://schemas.openxmlformats.org/officeDocument/2006/relationships/hyperlink" Target="http://900igr.net/kartinki/geografija/Bezmolvnaja-Arktika/062-Problemy-Arktiki.html" TargetMode="External"/><Relationship Id="rId4" Type="http://schemas.openxmlformats.org/officeDocument/2006/relationships/hyperlink" Target="http://rsnews.net/index.phtml?show=article&amp;id=7303&amp;lang=RUS" TargetMode="External"/><Relationship Id="rId5" Type="http://schemas.openxmlformats.org/officeDocument/2006/relationships/hyperlink" Target="http://www.mota.ru/wallpapers/get/id/1007/resolution/320x480" TargetMode="External"/><Relationship Id="rId6" Type="http://schemas.openxmlformats.org/officeDocument/2006/relationships/hyperlink" Target="http://good-fon.ru/gdefon/allwallpapers/full/257113-newwallpapers" TargetMode="External"/><Relationship Id="rId7" Type="http://schemas.openxmlformats.org/officeDocument/2006/relationships/hyperlink" Target="http://www.russian-travels.ru/foto2/shyrotka/g_3.php?number=3" TargetMode="External"/><Relationship Id="rId8" Type="http://schemas.openxmlformats.org/officeDocument/2006/relationships/hyperlink" Target="http://900igr.net/fotografii/geografija/Bezmolvnaja-Arktika/049-Zapovednik-Ostrov-Vrangelja.html" TargetMode="External"/><Relationship Id="rId9" Type="http://schemas.openxmlformats.org/officeDocument/2006/relationships/hyperlink" Target="http://my-sedovo.narod.ru/RPUACOM.html" TargetMode="External"/><Relationship Id="rId10" Type="http://schemas.openxmlformats.org/officeDocument/2006/relationships/hyperlink" Target="http://travel.ria.ru/photo/20101217/222973526_2.html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.kinopoisk.ru/im/kadr/5/7/7/kinopoisk.ru-Arctic-Tale-57752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Картинка 3 из 103413"/>
          <p:cNvPicPr/>
          <p:nvPr/>
        </p:nvPicPr>
        <p:blipFill>
          <a:blip r:embed="rId1"/>
          <a:stretch/>
        </p:blipFill>
        <p:spPr>
          <a:xfrm>
            <a:off x="0" y="0"/>
            <a:ext cx="916092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2357280" y="142920"/>
            <a:ext cx="4071600" cy="36396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Подозё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714320" y="4929120"/>
            <a:ext cx="6071760" cy="91260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: Щавелё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42960" y="1643040"/>
            <a:ext cx="800064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1500" spc="-1" strike="noStrike">
                <a:solidFill>
                  <a:srgbClr val="002060"/>
                </a:solidFill>
                <a:latin typeface="Book Antiqua"/>
              </a:rPr>
              <a:t>АРКТИК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артинка 2 из 155823"/>
          <p:cNvPicPr/>
          <p:nvPr/>
        </p:nvPicPr>
        <p:blipFill>
          <a:blip r:embed="rId1"/>
          <a:stretch/>
        </p:blipFill>
        <p:spPr>
          <a:xfrm>
            <a:off x="1928880" y="571320"/>
            <a:ext cx="5398200" cy="359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Картинка 14 из 103413"/>
          <p:cNvPicPr/>
          <p:nvPr/>
        </p:nvPicPr>
        <p:blipFill>
          <a:blip r:embed="rId2"/>
          <a:stretch/>
        </p:blipFill>
        <p:spPr>
          <a:xfrm>
            <a:off x="214200" y="3714840"/>
            <a:ext cx="3857400" cy="288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42920" y="142920"/>
            <a:ext cx="87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ржам и тюленям не даёт замёрзнуть толстый слой подкожного ж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Картинка 53 из 246"/>
          <p:cNvPicPr/>
          <p:nvPr/>
        </p:nvPicPr>
        <p:blipFill>
          <a:blip r:embed="rId3"/>
          <a:stretch/>
        </p:blipFill>
        <p:spPr>
          <a:xfrm>
            <a:off x="4605480" y="3786120"/>
            <a:ext cx="4310640" cy="281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85840" y="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алистых берегах – птичьи база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гнездится множество морских птиц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рики, кайры, тупики, чайки, г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Картинка 20 из 2954"/>
          <p:cNvPicPr/>
          <p:nvPr/>
        </p:nvPicPr>
        <p:blipFill>
          <a:blip r:embed="rId1"/>
          <a:stretch/>
        </p:blipFill>
        <p:spPr>
          <a:xfrm>
            <a:off x="214200" y="1285920"/>
            <a:ext cx="5071680" cy="3803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Картинка 6 из 2954"/>
          <p:cNvPicPr/>
          <p:nvPr/>
        </p:nvPicPr>
        <p:blipFill>
          <a:blip r:embed="rId2"/>
          <a:stretch/>
        </p:blipFill>
        <p:spPr>
          <a:xfrm>
            <a:off x="3857760" y="3286080"/>
            <a:ext cx="5076360" cy="338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0" y="142920"/>
            <a:ext cx="8857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одах северных морей, где проходят тёплые течения, обитает великолепное животное – гренландский к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dekatop.com/wp-content/uploads/2011/04/animal_07.jpg"/>
          <p:cNvPicPr/>
          <p:nvPr/>
        </p:nvPicPr>
        <p:blipFill>
          <a:blip r:embed="rId1"/>
          <a:stretch/>
        </p:blipFill>
        <p:spPr>
          <a:xfrm>
            <a:off x="785880" y="1000080"/>
            <a:ext cx="7271640" cy="55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85840" y="285840"/>
            <a:ext cx="850068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ЖИВОТНОМ МИРЕ АР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14200" y="1285920"/>
            <a:ext cx="864360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отных арктической зоны кормит ….         Морскими водорослями питаются …      , а ими - …. Основная пища и животных – это …      На скалистых берегах собираются …         , …          и …            , здесь они выводят …                 . Птиц с необычными клювами называют ….           . Все звери – прекрасные …           . От холода их защищает …                 .         Это …           и ….          . На тюленей охотятся …           У них длинная  густая шерсть …           цвета                 и …               лапы, чтобы удобнее бы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6077520" y="1214280"/>
            <a:ext cx="9187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506920" y="1714320"/>
            <a:ext cx="10436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а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7720920" y="1714320"/>
            <a:ext cx="10191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5362920" y="2214720"/>
            <a:ext cx="9370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3435840" y="2571840"/>
            <a:ext cx="10695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ча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49400" y="2571840"/>
            <a:ext cx="11138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кай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6293880" y="2571840"/>
            <a:ext cx="13287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гага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2297160" y="3071880"/>
            <a:ext cx="17445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ото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3364560" y="3500280"/>
            <a:ext cx="12538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туп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222120" y="3857760"/>
            <a:ext cx="13240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лов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510880" y="3857760"/>
            <a:ext cx="17431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935640" y="4214880"/>
            <a:ext cx="11977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о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508120" y="4214880"/>
            <a:ext cx="13071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тю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7365960" y="4286160"/>
            <a:ext cx="142920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едв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4935960" y="4714920"/>
            <a:ext cx="11840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ел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579600" y="5143680"/>
            <a:ext cx="15206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широ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338040" y="5715000"/>
            <a:ext cx="477000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ередвигаться по льду и сн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85840" y="285840"/>
            <a:ext cx="8500680" cy="8211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РАСТИТЕ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МИРЕ АР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357120" y="1785960"/>
            <a:ext cx="8429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островах прямо на голых ….       встречаются ….                     , они очень … Также приспособились к жизни на камнях …  и ….                        . В толще воды,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рытой …             , большое кол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429160" y="1785960"/>
            <a:ext cx="16426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камн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643120" y="2286000"/>
            <a:ext cx="25714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лишай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286760" y="2214720"/>
            <a:ext cx="135684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м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7929720" y="2786040"/>
            <a:ext cx="92844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785880" y="3286080"/>
            <a:ext cx="285732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полярные м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286000" y="3929040"/>
            <a:ext cx="16426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ль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28760" y="4572000"/>
            <a:ext cx="25714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водорос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3071880" y="4786200"/>
            <a:ext cx="14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42920" y="214200"/>
            <a:ext cx="8786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не является коренным жителем Арктики, но она всегда привлекала людей своей загадочностью. На островах и во льдах Северного Ледовитого океана работают научные стан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Картинка 4 из 3567"/>
          <p:cNvPicPr/>
          <p:nvPr/>
        </p:nvPicPr>
        <p:blipFill>
          <a:blip r:embed="rId1"/>
          <a:stretch/>
        </p:blipFill>
        <p:spPr>
          <a:xfrm>
            <a:off x="285840" y="1500120"/>
            <a:ext cx="4357440" cy="3261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Картинка 48 из 3566"/>
          <p:cNvPicPr/>
          <p:nvPr/>
        </p:nvPicPr>
        <p:blipFill>
          <a:blip r:embed="rId2"/>
          <a:stretch/>
        </p:blipFill>
        <p:spPr>
          <a:xfrm>
            <a:off x="3786120" y="2857320"/>
            <a:ext cx="5076360" cy="38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214200" y="0"/>
            <a:ext cx="6143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14200" y="142920"/>
            <a:ext cx="86436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ложен северный морской путь, так идут караваны с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Картинка 3 из 370"/>
          <p:cNvPicPr/>
          <p:nvPr/>
        </p:nvPicPr>
        <p:blipFill>
          <a:blip r:embed="rId1"/>
          <a:stretch/>
        </p:blipFill>
        <p:spPr>
          <a:xfrm>
            <a:off x="1214280" y="1214280"/>
            <a:ext cx="6500520" cy="542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42920" y="0"/>
            <a:ext cx="5357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214200" y="5857920"/>
            <a:ext cx="8715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 занимаются рыболовством, ох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Картинка 1 из 2850"/>
          <p:cNvPicPr/>
          <p:nvPr/>
        </p:nvPicPr>
        <p:blipFill>
          <a:blip r:embed="rId1"/>
          <a:stretch/>
        </p:blipFill>
        <p:spPr>
          <a:xfrm>
            <a:off x="214200" y="285840"/>
            <a:ext cx="8643600" cy="54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Картинка 15 из 246"/>
          <p:cNvPicPr/>
          <p:nvPr/>
        </p:nvPicPr>
        <p:blipFill>
          <a:blip r:embed="rId1"/>
          <a:stretch/>
        </p:blipFill>
        <p:spPr>
          <a:xfrm>
            <a:off x="214200" y="1214280"/>
            <a:ext cx="7566840" cy="45003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14200" y="214200"/>
            <a:ext cx="8572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а редких животных, ограничение рыбной ловли, создание запове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285920" y="6215040"/>
            <a:ext cx="2857320" cy="3639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ОСТРОВ ВРАН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357880" y="3714840"/>
            <a:ext cx="3500280" cy="28328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Организован в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1976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 году. На остров прилетает большое количество птиц для гнездовья. Здесь можно встретить редкую птицу –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розовую чайку. 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На острове обитает самое крупное из копытных животных Арктики –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овцебык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. Это единственное место, где гнездятся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белые гуси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000160" y="285840"/>
            <a:ext cx="521460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8573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28573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28573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28573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7"/>
          <p:cNvSpPr/>
          <p:nvPr/>
        </p:nvSpPr>
        <p:spPr>
          <a:xfrm>
            <a:off x="28573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28573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9"/>
          <p:cNvSpPr/>
          <p:nvPr/>
        </p:nvSpPr>
        <p:spPr>
          <a:xfrm>
            <a:off x="235728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0" name="Прямоугольник 10"/>
          <p:cNvSpPr/>
          <p:nvPr/>
        </p:nvSpPr>
        <p:spPr>
          <a:xfrm>
            <a:off x="435780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385776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2" name="Прямоугольник 12"/>
          <p:cNvSpPr/>
          <p:nvPr/>
        </p:nvSpPr>
        <p:spPr>
          <a:xfrm>
            <a:off x="33577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3" name="Прямоугольник 13"/>
          <p:cNvSpPr/>
          <p:nvPr/>
        </p:nvSpPr>
        <p:spPr>
          <a:xfrm>
            <a:off x="235728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4"/>
          <p:cNvSpPr/>
          <p:nvPr/>
        </p:nvSpPr>
        <p:spPr>
          <a:xfrm>
            <a:off x="28573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185724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6"/>
          <p:cNvSpPr/>
          <p:nvPr/>
        </p:nvSpPr>
        <p:spPr>
          <a:xfrm>
            <a:off x="23572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7"/>
          <p:cNvSpPr/>
          <p:nvPr/>
        </p:nvSpPr>
        <p:spPr>
          <a:xfrm>
            <a:off x="53578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8" name="Прямоугольник 18"/>
          <p:cNvSpPr/>
          <p:nvPr/>
        </p:nvSpPr>
        <p:spPr>
          <a:xfrm>
            <a:off x="235728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9"/>
          <p:cNvSpPr/>
          <p:nvPr/>
        </p:nvSpPr>
        <p:spPr>
          <a:xfrm>
            <a:off x="485784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0" name="Прямоугольник 20"/>
          <p:cNvSpPr/>
          <p:nvPr/>
        </p:nvSpPr>
        <p:spPr>
          <a:xfrm>
            <a:off x="435780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1" name="Прямоугольник 21"/>
          <p:cNvSpPr/>
          <p:nvPr/>
        </p:nvSpPr>
        <p:spPr>
          <a:xfrm>
            <a:off x="38577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2" name="Прямоугольник 22"/>
          <p:cNvSpPr/>
          <p:nvPr/>
        </p:nvSpPr>
        <p:spPr>
          <a:xfrm>
            <a:off x="33577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3" name="Прямоугольник 23"/>
          <p:cNvSpPr/>
          <p:nvPr/>
        </p:nvSpPr>
        <p:spPr>
          <a:xfrm>
            <a:off x="385776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4" name="Прямоугольник 24"/>
          <p:cNvSpPr/>
          <p:nvPr/>
        </p:nvSpPr>
        <p:spPr>
          <a:xfrm>
            <a:off x="33577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5" name="Прямоугольник 25"/>
          <p:cNvSpPr/>
          <p:nvPr/>
        </p:nvSpPr>
        <p:spPr>
          <a:xfrm>
            <a:off x="435780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6" name="Прямоугольник 26"/>
          <p:cNvSpPr/>
          <p:nvPr/>
        </p:nvSpPr>
        <p:spPr>
          <a:xfrm>
            <a:off x="385776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7" name="Прямоугольник 27"/>
          <p:cNvSpPr/>
          <p:nvPr/>
        </p:nvSpPr>
        <p:spPr>
          <a:xfrm>
            <a:off x="33577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8" name="Прямоугольник 28"/>
          <p:cNvSpPr/>
          <p:nvPr/>
        </p:nvSpPr>
        <p:spPr>
          <a:xfrm>
            <a:off x="63579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9" name="Прямоугольник 29"/>
          <p:cNvSpPr/>
          <p:nvPr/>
        </p:nvSpPr>
        <p:spPr>
          <a:xfrm>
            <a:off x="58579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0" name="Прямоугольник 30"/>
          <p:cNvSpPr/>
          <p:nvPr/>
        </p:nvSpPr>
        <p:spPr>
          <a:xfrm>
            <a:off x="485784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1" name="Прямоугольник 31"/>
          <p:cNvSpPr/>
          <p:nvPr/>
        </p:nvSpPr>
        <p:spPr>
          <a:xfrm>
            <a:off x="435780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2" name="Прямоугольник 32"/>
          <p:cNvSpPr/>
          <p:nvPr/>
        </p:nvSpPr>
        <p:spPr>
          <a:xfrm>
            <a:off x="385776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3" name="Прямоугольник 33"/>
          <p:cNvSpPr/>
          <p:nvPr/>
        </p:nvSpPr>
        <p:spPr>
          <a:xfrm>
            <a:off x="33577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4" name="Прямоугольник 34"/>
          <p:cNvSpPr/>
          <p:nvPr/>
        </p:nvSpPr>
        <p:spPr>
          <a:xfrm>
            <a:off x="435780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5" name="Прямоугольник 35"/>
          <p:cNvSpPr/>
          <p:nvPr/>
        </p:nvSpPr>
        <p:spPr>
          <a:xfrm>
            <a:off x="385776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6" name="Прямоугольник 36"/>
          <p:cNvSpPr/>
          <p:nvPr/>
        </p:nvSpPr>
        <p:spPr>
          <a:xfrm>
            <a:off x="33577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7" name="Прямоугольник 37"/>
          <p:cNvSpPr/>
          <p:nvPr/>
        </p:nvSpPr>
        <p:spPr>
          <a:xfrm>
            <a:off x="485784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8" name="Прямоугольник 38"/>
          <p:cNvSpPr/>
          <p:nvPr/>
        </p:nvSpPr>
        <p:spPr>
          <a:xfrm>
            <a:off x="235728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9"/>
          <p:cNvSpPr/>
          <p:nvPr/>
        </p:nvSpPr>
        <p:spPr>
          <a:xfrm>
            <a:off x="535788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00" name="Прямоугольник 40"/>
          <p:cNvSpPr/>
          <p:nvPr/>
        </p:nvSpPr>
        <p:spPr>
          <a:xfrm>
            <a:off x="235728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1"/>
          <p:cNvSpPr/>
          <p:nvPr/>
        </p:nvSpPr>
        <p:spPr>
          <a:xfrm>
            <a:off x="185724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2"/>
          <p:cNvSpPr/>
          <p:nvPr/>
        </p:nvSpPr>
        <p:spPr>
          <a:xfrm>
            <a:off x="33577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3"/>
          <p:cNvSpPr/>
          <p:nvPr/>
        </p:nvSpPr>
        <p:spPr>
          <a:xfrm>
            <a:off x="385776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4"/>
          <p:cNvSpPr/>
          <p:nvPr/>
        </p:nvSpPr>
        <p:spPr>
          <a:xfrm>
            <a:off x="435780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5"/>
          <p:cNvSpPr/>
          <p:nvPr/>
        </p:nvSpPr>
        <p:spPr>
          <a:xfrm>
            <a:off x="33577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6"/>
          <p:cNvSpPr/>
          <p:nvPr/>
        </p:nvSpPr>
        <p:spPr>
          <a:xfrm>
            <a:off x="385776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7"/>
          <p:cNvSpPr/>
          <p:nvPr/>
        </p:nvSpPr>
        <p:spPr>
          <a:xfrm>
            <a:off x="435780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8"/>
          <p:cNvSpPr/>
          <p:nvPr/>
        </p:nvSpPr>
        <p:spPr>
          <a:xfrm>
            <a:off x="38577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9"/>
          <p:cNvSpPr/>
          <p:nvPr/>
        </p:nvSpPr>
        <p:spPr>
          <a:xfrm>
            <a:off x="435780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0"/>
          <p:cNvSpPr/>
          <p:nvPr/>
        </p:nvSpPr>
        <p:spPr>
          <a:xfrm>
            <a:off x="485784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51"/>
          <p:cNvSpPr/>
          <p:nvPr/>
        </p:nvSpPr>
        <p:spPr>
          <a:xfrm>
            <a:off x="485784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2"/>
          <p:cNvSpPr/>
          <p:nvPr/>
        </p:nvSpPr>
        <p:spPr>
          <a:xfrm>
            <a:off x="485784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3"/>
          <p:cNvSpPr/>
          <p:nvPr/>
        </p:nvSpPr>
        <p:spPr>
          <a:xfrm>
            <a:off x="435780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4"/>
          <p:cNvSpPr/>
          <p:nvPr/>
        </p:nvSpPr>
        <p:spPr>
          <a:xfrm>
            <a:off x="535788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5"/>
          <p:cNvSpPr/>
          <p:nvPr/>
        </p:nvSpPr>
        <p:spPr>
          <a:xfrm>
            <a:off x="23572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6"/>
          <p:cNvSpPr/>
          <p:nvPr/>
        </p:nvSpPr>
        <p:spPr>
          <a:xfrm>
            <a:off x="33577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7"/>
          <p:cNvSpPr/>
          <p:nvPr/>
        </p:nvSpPr>
        <p:spPr>
          <a:xfrm>
            <a:off x="53578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8"/>
          <p:cNvSpPr/>
          <p:nvPr/>
        </p:nvSpPr>
        <p:spPr>
          <a:xfrm>
            <a:off x="58579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9"/>
          <p:cNvSpPr/>
          <p:nvPr/>
        </p:nvSpPr>
        <p:spPr>
          <a:xfrm>
            <a:off x="63579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0"/>
          <p:cNvSpPr/>
          <p:nvPr/>
        </p:nvSpPr>
        <p:spPr>
          <a:xfrm>
            <a:off x="385776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61"/>
          <p:cNvSpPr/>
          <p:nvPr/>
        </p:nvSpPr>
        <p:spPr>
          <a:xfrm>
            <a:off x="33577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2"/>
          <p:cNvSpPr/>
          <p:nvPr/>
        </p:nvSpPr>
        <p:spPr>
          <a:xfrm>
            <a:off x="435780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3"/>
          <p:cNvSpPr/>
          <p:nvPr/>
        </p:nvSpPr>
        <p:spPr>
          <a:xfrm>
            <a:off x="385776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4"/>
          <p:cNvSpPr/>
          <p:nvPr/>
        </p:nvSpPr>
        <p:spPr>
          <a:xfrm>
            <a:off x="33577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5"/>
          <p:cNvSpPr/>
          <p:nvPr/>
        </p:nvSpPr>
        <p:spPr>
          <a:xfrm>
            <a:off x="235728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8"/>
          <p:cNvSpPr/>
          <p:nvPr/>
        </p:nvSpPr>
        <p:spPr>
          <a:xfrm>
            <a:off x="33577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9"/>
          <p:cNvSpPr/>
          <p:nvPr/>
        </p:nvSpPr>
        <p:spPr>
          <a:xfrm>
            <a:off x="385776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70"/>
          <p:cNvSpPr/>
          <p:nvPr/>
        </p:nvSpPr>
        <p:spPr>
          <a:xfrm>
            <a:off x="33577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29" name="Прямоугольник 71"/>
          <p:cNvSpPr/>
          <p:nvPr/>
        </p:nvSpPr>
        <p:spPr>
          <a:xfrm>
            <a:off x="33577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500120" y="214200"/>
            <a:ext cx="642924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ПРОВЕРИМ 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14200" y="785880"/>
            <a:ext cx="4714560" cy="58503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Самое большое озеро в Росси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неж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Каспий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2. Река, впадающая в Каспийское мор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В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К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3. Река, соединяющая озеро Байкал с Северным Ледовитым океано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Ен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4. Самая длинная река Росси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В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5. В список Всемирного наследия внес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Бел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зеро 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72040" y="785880"/>
            <a:ext cx="3857400" cy="1461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6. Какие озёра в народе называют «Онего-батюшко и Ладога-матуш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Аральское и Каспийское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адожское и Онежское озё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857920" y="3214800"/>
            <a:ext cx="2499840" cy="30758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habphoto.ru/gallery.php?gallery_id=334&amp;mode=jour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ngel-killmysoulkillme.net/2012/02/15-2009.ht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900igr.net/kartinki/geografija/Bezmolvnaja-Arktika/062-Problemy-Arktiki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snews.net/index.phtml?show=article&amp;id=7303&amp;lang=R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mota.ru/wallpapers/get/id/1007/resolution/320x48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good-fon.ru/gdefon/allwallpapers/full/257113-newwallpap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russian-travels.ru/foto2/shyrotka/g_3.php?number=3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900igr.net/fotografii/geografija/Bezmolvnaja-Arktika/049-Zapovednik-Ostrov-Vrangelja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-sedovo.narod.ru/RPUACOM.ht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travel.ria.ru/photo/20101217/222973526_2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ительный ми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тный ми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Картинка 18 из 103413"/>
          <p:cNvPicPr/>
          <p:nvPr/>
        </p:nvPicPr>
        <p:blipFill>
          <a:blip r:embed="rId1"/>
          <a:stretch/>
        </p:blipFill>
        <p:spPr>
          <a:xfrm>
            <a:off x="0" y="0"/>
            <a:ext cx="930060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357120" y="357120"/>
            <a:ext cx="835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Т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центральная часть Северного Ледовитого океана с островами и прилегающими побережьями мате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Картинка 10 из 10341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57120" y="357120"/>
            <a:ext cx="82864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имат этой полярной области очень разнообразен. Холодные порывистые ветры гуляют по безмолвным снежным просторам. Здесь долгая и холодная зима и короткое холодное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Картинка 20 из 103413"/>
          <p:cNvPicPr/>
          <p:nvPr/>
        </p:nvPicPr>
        <p:blipFill>
          <a:blip r:embed="rId1"/>
          <a:stretch/>
        </p:blipFill>
        <p:spPr>
          <a:xfrm>
            <a:off x="0" y="0"/>
            <a:ext cx="4571640" cy="6874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4786200" y="428760"/>
            <a:ext cx="4000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ыми пустынями называют огромное пространство Севера, где только льды да снега. Всё белым-бело до боли в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рктике несколько месяцев не заходит солнце – продолжается полярный день. Зимой наступает полярная ночь: темным-темно и совсем хол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571840" y="857160"/>
            <a:ext cx="4643280" cy="301572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Что за чудо-чуде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Загорелись небес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Ой, горит-пылает пла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Над сверкающими льд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Кто зажёг огонь чудес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Золотой костёр небес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Никого за тучей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Это с неба льётся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85840" y="5929200"/>
            <a:ext cx="378576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СЕВЕРОЕ С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Картинка 2 из 27750"/>
          <p:cNvPicPr/>
          <p:nvPr/>
        </p:nvPicPr>
        <p:blipFill>
          <a:blip r:embed="rId1"/>
          <a:stretch/>
        </p:blipFill>
        <p:spPr>
          <a:xfrm>
            <a:off x="142920" y="142920"/>
            <a:ext cx="871848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артинка 25 из 103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6344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14200" y="4786200"/>
            <a:ext cx="87152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кан Арктики – белый медведь – сутками бродит по снежной пустыне в поисках добы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ярные медведи – самые сильные и крупные животные Арктики, на них никто не напад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85840" y="514368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омные белые медведи имеют великолепный нюх и могут очень быстро бегать по льду, преследуя жертву. Он так силён, что может убить человека одним ударом лап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Картинка 8 из 114602"/>
          <p:cNvPicPr/>
          <p:nvPr/>
        </p:nvPicPr>
        <p:blipFill>
          <a:blip r:embed="rId1"/>
          <a:stretch/>
        </p:blipFill>
        <p:spPr>
          <a:xfrm>
            <a:off x="285840" y="285840"/>
            <a:ext cx="8447040" cy="478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  <Words>1272</Words>
  <Paragraphs>269</Paragraphs>
  <Company>школ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31:12Z</dcterms:created>
  <dc:creator>user</dc:creator>
  <dc:description/>
  <dc:language>en-US</dc:language>
  <cp:lastModifiedBy>LEGION2</cp:lastModifiedBy>
  <dcterms:modified xsi:type="dcterms:W3CDTF">2015-04-28T07:17:08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