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_rels/item1.xml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EFCE78-73DF-44C4-B65D-A2666C670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К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ла: ученица 3 класса «Б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ль Маргари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A82668-8E3D-424E-9C4B-E7A5B9079BF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Зоотехники готовят питательные и долго хранящиеся корма для сельскохозяйственных животных                    (такие как сило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CBB7B4-B035-49EA-AAC2-A6D46A0FE1B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Фармацевты изготавливают разнообразные антибиотики, вакцины, ферменты, витамины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CEE9DA-11CE-4FDB-904D-6507940A9C0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живут на человеке и в человеке. Больше всего бактерий проживает в кишечнике, где они трудятся на благо человека. Одни помогают переваривать пищу, другие вырабатывают витамины, третьи убивают вредные микроб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D86CF1-1ECD-4862-943A-BCC74A550BB3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Опасность для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вызывают различные инфекционные заболе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2CA3AF-282A-48FC-841E-FF94DE2E9AAE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Опасность для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Приводят к порче продуктов пит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молочнокислые бактерии сквашивают свежее моло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8F0C1D-D5B1-42D9-9CAE-8B73476BCA7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Опасность для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Приводят к порче продуктов пит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дрожжи приводят к брожению и закисанию соков и пл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9B9358-F664-4C69-97BB-5B6CB610831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Опасность для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Продукты покрываются плесен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27074D-26FE-47C2-8CF5-F739647536D3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бы обезопасить себя от вредных бактерий и подружиться с полезными нуж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- </a:t>
            </a: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мыть руки перед едой и после возвращения домой откуда бы то ни был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мыть овощи и фрук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следить за сроками годности продук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в период эпидемий ограничивать контакт с возможными носителями 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4C6A11-4638-4110-BFE4-266B5443E768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ЛИТЕРАТУРА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vnssr.my1.ru/news/ljudi_protiv_bakterij_mediki_proigryvajut/2011-06-19-2343 </a:t>
            </a:r>
            <a:br>
              <a:rPr sz="1200"/>
            </a:b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://</a:t>
            </a: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pavlonews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info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news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categ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_4/31166.</a:t>
            </a: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ml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http://arbyz.com/post.php?cat=22&amp;mir=9319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zeftera.ru/tag/rany/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home-edu.ru/user/uatml/00000540/rot/tolstyj.htm?page=print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http://www.zakvaska.in.ua/posts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sutno.ru/2009-11-14-19-27-29/870-recipe-for-yeast-dough.html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ed3.ru/vlogenie/10/11.php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zahystroslyn.com.ua/ru/tag/ximiya/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findmapplaces.com/9393423_силосные+ямы/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vedomosti.ru/newsline/2009/10/05/2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pressfoto.ru/photo.html?p_id=191024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oman.mobus.com/sec/mednews?order=popular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povary.com/page/63/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cosmoisida.ru/zdorove/190.html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vostok.spb.ru/catalog64/models65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batfx.com/lofiversion/index.php/t1103.html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adlingercys.livejournal.com/140521.html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sml52.ru/sml/fiziko-mehanicheskie-svoystva/antiseptichnost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phtiziatr.ru/news/?pag=114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newsland.ru/index/news/cat/37/ord/9/tag/0/page/264/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8a.ru/print/23532.php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ribalych.ru/2010/11/22/obshhie-svedeniya-o-bakteriyax/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allwomens.ru/5541-kakie-byvayut-poleznye-bakterii.html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knowbiology.ru/mikroorganizmi/poleznye--bakterii.html</a:t>
            </a:r>
            <a:br>
              <a:rPr sz="1050"/>
            </a:b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A9DF7D-CB16-47C3-B2D7-D9473B57FAE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- мельчайшие, микроскопической величины организмы, принадлежащие к отдельному царству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По форме различают бактерии шаровидные и палочкови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ECDB82-CACE-47D3-93A0-2C0604815889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бывают неподвижные и подвижные  (активно передвигающиеся при помощи жгутик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22667D-39DB-4B02-8A79-203227A46967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быва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000000"/>
                </a:solidFill>
                <a:latin typeface="+mn-lt"/>
              </a:rPr>
              <a:t>полезны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000000"/>
                </a:solidFill>
                <a:latin typeface="+mn-lt"/>
              </a:rPr>
              <a:t>опасны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C8B67F-DB93-4F5D-B5CE-8AEF804351B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круговорот веществ происходит с участием бактерий: если бы эти маленькие труженики однажды исчезли, планета очень быстро оказалась бы завалена остатками отмерших растений и погибших животны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4A816F-5248-4F89-AEE5-ABCB364A88F7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Скисание молока в разнообразные кисломолочные продук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6AB665-7BDC-4B5B-91B3-37554EDF986E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сделали хлеб из дрожжевого теста пышным, лучше пропекаем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43DFB7-6AED-42A6-AE44-5FC78B95F314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ез бактерий не было бы маринованных овощ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E2B1ED-9E04-4031-9FA1-B1113517E795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Агрономы используют бактериальные препараты для борьбы с болезнями и вредителями культурных рас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A5B38A-B14E-4CB9-BEB6-37FBC2A047F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07FC-9F69-4293-8BDF-B875F119B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2FC5-585F-421A-A613-2BFFAD66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B53E-D60B-47E3-9408-057D1DAF9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32AF-3E2D-4BDF-BB7B-E1EA8D2BC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989A-8146-41EB-AAC8-33766C2A3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08A4-A8AE-473E-BFA2-C13646A1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CDB3-A7D4-468B-860A-0030E6CB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7D60-051E-427C-A4A8-97C87AE7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EDE4-2982-4F26-9D03-BEB12213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16C4-7427-4EDD-8BDD-7D3DA247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FDB4-9666-4DE1-A5DE-940AB967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5D3A-4F6D-49B0-9664-58610DF0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2120-1EEA-4978-A97E-BDCCDD3E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B7C2-8FB4-4553-A350-DE97B841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F247-9FA2-4784-AF8C-9B5AA463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74FD-CD93-4100-89FE-6CE8A406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6388-48D7-4A5A-B3DF-75E0C527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7310E-4170-43AE-9BB4-EA3DE916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BA572-5AE9-4B00-8AAF-E733AAFB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DE727-A9D5-4434-B7EE-A8C34CB0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291C7-929F-4093-A3ED-14BCBEA7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A4CD1-3327-411B-A758-C32575B1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6288-E64B-403A-A90F-7F33FD0F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09DF2-AC8A-4855-824C-53C2902E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E4A9F-46E9-41B8-8F04-424C9C37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E80F7-EA15-4F68-91F3-A66CDECD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BD906-19F2-4713-929E-A14DF27A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FA88F-3B33-486C-8B6B-5FDC2171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4ED35-ED70-40B1-9AF5-A84989D3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DAD3F-5379-4A65-9160-CB333A37D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E8E03-C911-43A0-8A6D-CC765FF59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CC2EA-4785-47DD-A7DC-3C6789F3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7D74E-7969-488B-A6AC-4E0CE322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0409-16ED-40AF-9B33-6259A1B7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EE5A9-ED21-45D4-AAAB-A352EF49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1A8A9-77F4-4460-ABF4-5EF26402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63B06-7739-4CDC-AD19-2762AF86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B8265-3321-4F03-8752-AB6AD572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62CF9-A0B0-4AD5-9727-8F58FC25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F59C9-6988-483F-A37A-78A239EB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C5B1C-CFBF-47A7-B357-FE53AAE7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40471-2577-4663-8F66-F5275AE8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147B5-16F3-47DB-A82A-757032B05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C631-75BB-43BB-A3BF-2A94D35B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0F60-1301-4F58-A2D6-BEB1B28A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F15C-CE05-4C71-83E6-30DE3EF4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ACE7-ED67-4488-801C-310B846B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00FB-0914-449F-BB9E-CEF99F1C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3640" y="1500120"/>
            <a:ext cx="8496720" cy="20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chemeClr val="accent6">
                    <a:lumMod val="75000"/>
                  </a:schemeClr>
                </a:solidFill>
                <a:latin typeface="Franklin Gothic Heavy"/>
              </a:rPr>
              <a:t>ОБРАЗЕЦ   ЗАГОЛОВКА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DBE3D4-F044-40AB-92D5-836781DB8BB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Franklin Gothic Demi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1FB462-9B0F-4598-ADEA-D234CF65CC0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Franklin Gothic Dem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8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FC27B8-EDA4-4226-BC9A-B16B1B990E6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Franklin Gothic Dem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0F1075-32A0-4227-9233-17D6DA598E2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ibalych.ru/wp-content/uploads/2010/11/Mychota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3640" y="1500120"/>
            <a:ext cx="8496720" cy="20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chemeClr val="accent6">
                    <a:lumMod val="75000"/>
                  </a:schemeClr>
                </a:solidFill>
                <a:latin typeface="Franklin Gothic Heavy"/>
              </a:rPr>
              <a:t>БАКТЕРИИ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500200" y="5500800"/>
            <a:ext cx="6400440" cy="120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6">
                    <a:lumMod val="20000"/>
                    <a:lumOff val="80000"/>
                  </a:schemeClr>
                </a:solidFill>
                <a:latin typeface="Calibri"/>
              </a:rPr>
              <a:t>Выполнила: ученица 3 класса «Б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6">
                    <a:lumMod val="20000"/>
                    <a:lumOff val="80000"/>
                  </a:schemeClr>
                </a:solidFill>
                <a:latin typeface="Calibri"/>
              </a:rPr>
              <a:t>              </a:t>
            </a:r>
            <a:r>
              <a:rPr b="1" lang="ru-RU" sz="2800" spc="-1" strike="noStrike">
                <a:solidFill>
                  <a:schemeClr val="accent6">
                    <a:lumMod val="20000"/>
                    <a:lumOff val="80000"/>
                  </a:schemeClr>
                </a:solidFill>
                <a:latin typeface="Calibri"/>
              </a:rPr>
              <a:t>Биль Маргар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57232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оотехники готовят питательные и долго хранящиеся корма для сельскохозяйственных животных                    (такие как силос)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8" name="Содержимое 6" descr="silosnie-yami_397509.jpg"/>
          <p:cNvPicPr/>
          <p:nvPr/>
        </p:nvPicPr>
        <p:blipFill>
          <a:blip r:embed="rId1"/>
          <a:stretch/>
        </p:blipFill>
        <p:spPr>
          <a:xfrm>
            <a:off x="1785960" y="2214720"/>
            <a:ext cx="5730840" cy="428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57232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Фармацевты изготавливают разнообразные антибиотики, вакцины, ферменты, витамины...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1" name="Содержимое 5" descr="436905_53390411.jpg"/>
          <p:cNvPicPr/>
          <p:nvPr/>
        </p:nvPicPr>
        <p:blipFill>
          <a:blip r:embed="rId1"/>
          <a:stretch/>
        </p:blipFill>
        <p:spPr>
          <a:xfrm>
            <a:off x="2286000" y="2143080"/>
            <a:ext cx="5111280" cy="424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392868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актерии живут на человеке и в человеке. Больше всего бактерий проживает в кишечнике, где они трудятся на благо человека. Одни помогают переваривать пищу, другие вырабатывают витамины, третьи убивают вредные микробы. 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4" name="Содержимое 6" descr="stock-photo-viruses-54416914.jpg"/>
          <p:cNvPicPr/>
          <p:nvPr/>
        </p:nvPicPr>
        <p:blipFill>
          <a:blip r:embed="rId1"/>
          <a:stretch/>
        </p:blipFill>
        <p:spPr>
          <a:xfrm>
            <a:off x="4357800" y="1428840"/>
            <a:ext cx="4453560" cy="45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асность для чело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857232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актерии вызывают различные инфекционные заболевания.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7" name="Содержимое 5" descr="difteriya.jpg"/>
          <p:cNvPicPr/>
          <p:nvPr/>
        </p:nvPicPr>
        <p:blipFill>
          <a:blip r:embed="rId1"/>
          <a:stretch/>
        </p:blipFill>
        <p:spPr>
          <a:xfrm>
            <a:off x="1643040" y="2000160"/>
            <a:ext cx="5878800" cy="43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асность для чело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871524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иводят к порче продуктов питания: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олочнокислые бактерии сквашивают свежее молоко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0" name="Содержимое 6" descr="P8174944.jpg"/>
          <p:cNvPicPr/>
          <p:nvPr/>
        </p:nvPicPr>
        <p:blipFill>
          <a:blip r:embed="rId1"/>
          <a:stretch/>
        </p:blipFill>
        <p:spPr>
          <a:xfrm>
            <a:off x="2643120" y="2090520"/>
            <a:ext cx="3357360" cy="447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асность для чело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871524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иводят к порче продуктов питания: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рожжи приводят к брожению и закисанию соков и плодов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3" name="Содержимое 5" descr="609.jpg"/>
          <p:cNvPicPr/>
          <p:nvPr/>
        </p:nvPicPr>
        <p:blipFill>
          <a:blip r:embed="rId1"/>
          <a:stretch/>
        </p:blipFill>
        <p:spPr>
          <a:xfrm>
            <a:off x="2000160" y="2428920"/>
            <a:ext cx="5357520" cy="409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асность для чело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871524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дукты покрываются плесенью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6" name="Содержимое 6" descr="Botrytis_cinerea_1_JS20040705.jpg"/>
          <p:cNvPicPr/>
          <p:nvPr/>
        </p:nvPicPr>
        <p:blipFill>
          <a:blip r:embed="rId1"/>
          <a:stretch/>
        </p:blipFill>
        <p:spPr>
          <a:xfrm>
            <a:off x="2214720" y="1714320"/>
            <a:ext cx="5111280" cy="427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C:\Users\Дом\Pictures\22229.jpg"/>
          <p:cNvPicPr/>
          <p:nvPr/>
        </p:nvPicPr>
        <p:blipFill>
          <a:blip r:embed="rId1"/>
          <a:stretch/>
        </p:blipFill>
        <p:spPr>
          <a:xfrm>
            <a:off x="4714920" y="3286080"/>
            <a:ext cx="4214520" cy="3396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Users\Дом\Pictures\iCADGUW4A.jpg"/>
          <p:cNvPicPr/>
          <p:nvPr/>
        </p:nvPicPr>
        <p:blipFill>
          <a:blip r:embed="rId2"/>
          <a:stretch/>
        </p:blipFill>
        <p:spPr>
          <a:xfrm>
            <a:off x="214200" y="3500280"/>
            <a:ext cx="2999880" cy="29998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320" y="71424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Franklin Gothic Demi"/>
              </a:rPr>
              <a:t>Чтобы обезопасить себя от вредных бактерий и подружиться с полезными нужно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28400" y="1357200"/>
            <a:ext cx="871524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- </a:t>
            </a: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мыть руки перед едой и после возвращения домой откуда бы то ни было;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e46c0a"/>
              </a:buClr>
              <a:buFont typeface="Arial"/>
              <a:buChar char="-"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мыть овощи и фрукты;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e46c0a"/>
              </a:buClr>
              <a:buFont typeface="Arial"/>
              <a:buChar char="-"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следить за сроками годности продуктов;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e46c0a"/>
              </a:buClr>
              <a:buFont typeface="Arial"/>
              <a:buChar char="-"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в период эпидемий ограничивать контакт с возможными носителями инфекции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1" name="Picture 3" descr="C:\Users\Дом\Pictures\Beauty-Kitchen-6.jpg"/>
          <p:cNvPicPr/>
          <p:nvPr/>
        </p:nvPicPr>
        <p:blipFill>
          <a:blip r:embed="rId3"/>
          <a:stretch/>
        </p:blipFill>
        <p:spPr>
          <a:xfrm>
            <a:off x="1785960" y="4000680"/>
            <a:ext cx="3762000" cy="250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357760" cy="60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ЛИТЕРАТУРА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vnssr.my1.ru/news/ljudi_protiv_bakterij_mediki_proigryvajut/2011-06-19-2343 </a:t>
            </a:r>
            <a:br>
              <a:rPr sz="1600"/>
            </a:b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://</a:t>
            </a: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pavlonews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.</a:t>
            </a: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info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/</a:t>
            </a: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news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/</a:t>
            </a: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categ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_4/31166.</a:t>
            </a: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ml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 http://arbyz.com/post.php?cat=22&amp;mir=9319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zeftera.ru/tag/rany/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home-edu.ru/user/uatml/00000540/rot/tolstyj.htm?page=print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 http://www.zakvaska.in.ua/posts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sutno.ru/2009-11-14-19-27-29/870-recipe-for-yeast-dough.html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ed3.ru/vlogenie/10/11.php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zahystroslyn.com.ua/ru/tag/ximiya/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findmapplaces.com/9393423_силосные+ямы/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vedomosti.ru/newsline/2009/10/05/2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pressfoto.ru/photo.html?p_id=191024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oman.mobus.com/sec/mednews?order=popular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povary.com/page/63/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cosmoisida.ru/zdorove/190.html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vostok.spb.ru/catalog64/models65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batfx.com/lofiversion/index.php/t1103.html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adlingercys.livejournal.com/140521.html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sml52.ru/sml/fiziko-mehanicheskie-svoystva/antiseptichnost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phtiziatr.ru/news/?pag=114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newsland.ru/index/news/cat/37/ord/9/tag/0/page/264/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8a.ru/print/23532.php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ribalych.ru/2010/11/22/obshhie-svedeniya-o-bakteriyax/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allwomens.ru/5541-kakie-byvayut-poleznye-bakterii.html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knowbiology.ru/mikroorganizmi/poleznye--bakterii.html</a:t>
            </a:r>
            <a:br>
              <a:rPr sz="1200"/>
            </a:br>
            <a:br>
              <a:rPr sz="1400"/>
            </a:b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400600" cy="20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ктерии - мельчайшие, микроскопической величины организмы, принадлежащие к отдельному царству.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42960" y="200016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 форме различают бактерии шаровидные и палочковидные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8" name="Содержимое 6" descr="бактери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5880" y="3500280"/>
            <a:ext cx="3857400" cy="2561760"/>
          </a:xfrm>
          <a:prstGeom prst="rect">
            <a:avLst/>
          </a:prstGeom>
          <a:ln w="9525">
            <a:noFill/>
          </a:ln>
        </p:spPr>
      </p:pic>
      <p:pic>
        <p:nvPicPr>
          <p:cNvPr id="179" name="Рисунок 7" descr="Полезные  бактерии"/>
          <p:cNvPicPr/>
          <p:nvPr/>
        </p:nvPicPr>
        <p:blipFill>
          <a:blip r:embed="rId3"/>
          <a:stretch/>
        </p:blipFill>
        <p:spPr>
          <a:xfrm>
            <a:off x="5286240" y="3143160"/>
            <a:ext cx="3329640" cy="332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240" cy="136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ктерии бывают неподвижные и подвижные  (активно передвигающиеся при помощи жгутиков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Содержимое 6" descr="fee22c7023124124e303f817cce6e148_nfee22c7023124124e303f817cce6e148.jpg"/>
          <p:cNvPicPr/>
          <p:nvPr/>
        </p:nvPicPr>
        <p:blipFill>
          <a:blip r:embed="rId1"/>
          <a:stretch/>
        </p:blipFill>
        <p:spPr>
          <a:xfrm>
            <a:off x="457200" y="2570760"/>
            <a:ext cx="4039920" cy="3159000"/>
          </a:xfrm>
          <a:prstGeom prst="rect">
            <a:avLst/>
          </a:prstGeom>
          <a:ln w="0">
            <a:noFill/>
          </a:ln>
        </p:spPr>
      </p:pic>
      <p:pic>
        <p:nvPicPr>
          <p:cNvPr id="182" name="Содержимое 9" descr="ecoli.jpg"/>
          <p:cNvPicPr/>
          <p:nvPr/>
        </p:nvPicPr>
        <p:blipFill>
          <a:blip r:embed="rId2"/>
          <a:stretch/>
        </p:blipFill>
        <p:spPr>
          <a:xfrm>
            <a:off x="5044680" y="2174760"/>
            <a:ext cx="3241800" cy="395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804348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актерии бывают: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320" y="85716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олезные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3280" y="85716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пасные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6" name="Содержимое 10" descr="1363-Meyveler.jpg"/>
          <p:cNvPicPr/>
          <p:nvPr/>
        </p:nvPicPr>
        <p:blipFill>
          <a:blip r:embed="rId1"/>
          <a:stretch/>
        </p:blipFill>
        <p:spPr>
          <a:xfrm>
            <a:off x="214200" y="1500120"/>
            <a:ext cx="4029480" cy="3022200"/>
          </a:xfrm>
          <a:prstGeom prst="rect">
            <a:avLst/>
          </a:prstGeom>
          <a:ln w="0">
            <a:noFill/>
          </a:ln>
        </p:spPr>
      </p:pic>
      <p:pic>
        <p:nvPicPr>
          <p:cNvPr id="187" name="Содержимое 6" descr="i.jpg"/>
          <p:cNvPicPr/>
          <p:nvPr/>
        </p:nvPicPr>
        <p:blipFill>
          <a:blip r:embed="rId2"/>
          <a:stretch/>
        </p:blipFill>
        <p:spPr>
          <a:xfrm>
            <a:off x="857160" y="3000240"/>
            <a:ext cx="2857320" cy="3428640"/>
          </a:xfrm>
          <a:prstGeom prst="rect">
            <a:avLst/>
          </a:prstGeom>
          <a:ln w="0">
            <a:noFill/>
          </a:ln>
        </p:spPr>
      </p:pic>
      <p:pic>
        <p:nvPicPr>
          <p:cNvPr id="188" name="Содержимое 13" descr="genericwarning.jpg"/>
          <p:cNvPicPr/>
          <p:nvPr/>
        </p:nvPicPr>
        <p:blipFill>
          <a:blip r:embed="rId3"/>
          <a:stretch/>
        </p:blipFill>
        <p:spPr>
          <a:xfrm>
            <a:off x="4714920" y="1500120"/>
            <a:ext cx="4041360" cy="3542760"/>
          </a:xfrm>
          <a:prstGeom prst="rect">
            <a:avLst/>
          </a:prstGeom>
          <a:ln w="0">
            <a:noFill/>
          </a:ln>
        </p:spPr>
      </p:pic>
      <p:pic>
        <p:nvPicPr>
          <p:cNvPr id="189" name="Содержимое 7" descr="iCAW8CVZS.jpg"/>
          <p:cNvPicPr/>
          <p:nvPr/>
        </p:nvPicPr>
        <p:blipFill>
          <a:blip r:embed="rId4"/>
          <a:stretch/>
        </p:blipFill>
        <p:spPr>
          <a:xfrm>
            <a:off x="4572000" y="3071880"/>
            <a:ext cx="4041360" cy="30445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4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Содержимое 4" descr="4desktop_ru_Klenoviy_listok_1152_4814.jpg"/>
          <p:cNvPicPr/>
          <p:nvPr/>
        </p:nvPicPr>
        <p:blipFill>
          <a:blip r:embed="rId1"/>
          <a:stretch/>
        </p:blipFill>
        <p:spPr>
          <a:xfrm>
            <a:off x="2143080" y="2643120"/>
            <a:ext cx="5111280" cy="38332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429400" cy="199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руговорот веществ происходит с участием бактерий: если бы эти маленькие труженики однажды исчезли, планета очень быстро оказалась бы завалена остатками отмерших растений и погибших животных. 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429400" cy="199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кисание молока в разнообразные кисломолочные продукты. 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5" name="Содержимое 8" descr="main_big.jpg"/>
          <p:cNvPicPr/>
          <p:nvPr/>
        </p:nvPicPr>
        <p:blipFill>
          <a:blip r:embed="rId1"/>
          <a:stretch/>
        </p:blipFill>
        <p:spPr>
          <a:xfrm>
            <a:off x="1750320" y="1998720"/>
            <a:ext cx="6257520" cy="391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42940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актерии сделали хлеб из дрожжевого теста пышным, лучше пропекаемым.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8" name="Содержимое 7" descr="bread-dough-rising2.jpg"/>
          <p:cNvPicPr/>
          <p:nvPr/>
        </p:nvPicPr>
        <p:blipFill>
          <a:blip r:embed="rId1"/>
          <a:stretch/>
        </p:blipFill>
        <p:spPr>
          <a:xfrm>
            <a:off x="500040" y="1857240"/>
            <a:ext cx="4000320" cy="2999880"/>
          </a:xfrm>
          <a:prstGeom prst="rect">
            <a:avLst/>
          </a:prstGeom>
          <a:ln w="0">
            <a:noFill/>
          </a:ln>
        </p:spPr>
      </p:pic>
      <p:pic>
        <p:nvPicPr>
          <p:cNvPr id="199" name="Содержимое 5" descr="3286.jpg"/>
          <p:cNvPicPr/>
          <p:nvPr/>
        </p:nvPicPr>
        <p:blipFill>
          <a:blip r:embed="rId2"/>
          <a:stretch/>
        </p:blipFill>
        <p:spPr>
          <a:xfrm>
            <a:off x="4786200" y="3308760"/>
            <a:ext cx="4196520" cy="327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42940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ез бактерий не было бы маринованных овощей.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2" name="Содержимое 6" descr="getImage171.jpg"/>
          <p:cNvPicPr/>
          <p:nvPr/>
        </p:nvPicPr>
        <p:blipFill>
          <a:blip r:embed="rId1"/>
          <a:stretch/>
        </p:blipFill>
        <p:spPr>
          <a:xfrm>
            <a:off x="2286000" y="1714320"/>
            <a:ext cx="4959720" cy="456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57232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грономы используют бактериальные препараты для борьбы с болезнями и вредителями культурных растений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5" name="Содержимое 5" descr="untitled.bmp"/>
          <p:cNvPicPr/>
          <p:nvPr/>
        </p:nvPicPr>
        <p:blipFill>
          <a:blip r:embed="rId1"/>
          <a:stretch/>
        </p:blipFill>
        <p:spPr>
          <a:xfrm>
            <a:off x="1785960" y="2357280"/>
            <a:ext cx="6103800" cy="39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P102609783_templat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P102609783_templat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P102609783_templat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TP102609783_templat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item1.xml><?xml version="1.0" encoding="utf-8"?>
<?mso-contentType ?>
<FormTemplates xmlns="http://schemas.microsoft.com/sharepoint/v3/contenttype/forms">
  <Display>DocumentLibraryForm</Display>
  <Edit>AssetEditForm</Edit>
  <New>DocumentLibraryForm</New>
</FormTemplates>
</file>

<file path=customXml/itemProps1.xml><?xml version="1.0" encoding="utf-8"?>
<ds:datastoreItem xmlns:ds="http://schemas.openxmlformats.org/officeDocument/2006/customXml" ds:itemID="{EED2AD17-0933-4FEA-80AE-39DDD5107638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TP102609783_template</Template>
  <TotalTime>234</TotalTime>
  <Application>LibreOffice/7.4.7.2$Linux_X86_64 LibreOffice_project/40$Build-2</Application>
  <AppVersion>15.0000</AppVersion>
  <Words>625</Words>
  <Paragraphs>120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6:05:30Z</dcterms:created>
  <dc:creator>Дом</dc:creator>
  <dc:description/>
  <dc:language>en-US</dc:language>
  <cp:lastModifiedBy>LEGION2</cp:lastModifiedBy>
  <dcterms:modified xsi:type="dcterms:W3CDTF">2015-04-28T07:36:08Z</dcterms:modified>
  <cp:revision>41</cp:revision>
  <dc:subject/>
  <dc:title>ЗАГОЛОВОК  ПРЕЗЕНТ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8</vt:r8>
  </property>
  <property fmtid="{D5CDD505-2E9C-101B-9397-08002B2CF9AE}" pid="3" name="PresentationFormat">
    <vt:lpwstr>Екран (4:3)</vt:lpwstr>
  </property>
  <property fmtid="{D5CDD505-2E9C-101B-9397-08002B2CF9AE}" pid="4" name="Slides">
    <vt:r8>18</vt:r8>
  </property>
  <property fmtid="{D5CDD505-2E9C-101B-9397-08002B2CF9AE}" pid="5" name="_TemplateID">
    <vt:lpwstr>TC026097849991</vt:lpwstr>
  </property>
</Properties>
</file>