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28D215-22CE-4065-B9F1-537D8D472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: ученица 3 класса «Б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ь Маргар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4FF0E1-85AE-46F6-AF80-9E5B996B7DF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40329D-B7E2-4D7A-845A-0F043FA5A9B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Фармацевты изготавливают разнообразные антибиотики, вакцины, ферменты, витамины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D14E2A-9116-47C0-82D1-4BA0FD5F36D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38534C-4EE4-41C5-A17A-8E3DBB742CD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вызывают различны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6100A3-A063-40ED-98A3-5F492AA8310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молочнокислые бактерии сквашивают свежее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0246A0-4C4E-496C-B66E-B5D40DFB5F0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дрожжи приводят к брожению и закисанию соков и пл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F8651C-4DCD-4592-9FB2-886C5CD8E55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одукты покрываются плесен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03005A-2A55-47F4-BAA9-B51ABA57B8D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безопасить себя от вредных бактерий и подружиться с полезными ну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руки перед едой и после возвращения домой откуда бы то ни был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овощи и фру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ледить за сроками годности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период эпидемий ограничивать контакт с возможными носителям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03C92E-5716-44A8-B7F1-0595C09D4DB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ИТЕРАТУРА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vnssr.my1.ru/news/ljudi_protiv_bakterij_mediki_proigryvajut/2011-06-19-2343 </a:t>
            </a:r>
            <a:br>
              <a:rPr sz="1200"/>
            </a:b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pavlo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info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categ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_4/31166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ml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arbyz.com/post.php?cat=22&amp;mir=9319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zeftera.ru/tag/rany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home-edu.ru/user/uatml/00000540/rot/tolstyj.htm?page=print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www.zakvaska.in.ua/posts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utno.ru/2009-11-14-19-27-29/870-recipe-for-yeast-dough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ed3.ru/vlogenie/10/11.php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zahystroslyn.com.ua/ru/tag/ximiya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findmapplaces.com/9393423_силосные+ямы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edomosti.ru/newsline/2009/10/05/2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pressfoto.ru/photo.html?p_id=19102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oman.mobus.com/sec/mednews?order=popular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ovary.com/page/63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cosmoisida.ru/zdorove/190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ostok.spb.ru/catalog64/models65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batfx.com/lofiversion/index.php/t1103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adlingercys.livejournal.com/140521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ml52.ru/sml/fiziko-mehanicheskie-svoystva/antiseptichnost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htiziatr.ru/news/?pag=11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newsland.ru/index/news/cat/37/ord/9/tag/0/page/264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8a.ru/print/23532.php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ribalych.ru/2010/11/22/obshhie-svedeniya-o-bakteriyax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allwomens.ru/5541-kakie-byvayut-poleznye-bakterii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knowbiology.ru/mikroorganizmi/poleznye--bakterii.html</a:t>
            </a:r>
            <a:br>
              <a:rPr sz="105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3EE685-A649-49EA-B160-5C23B85C639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о форме различают бактерии шаровидные и палочков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3E2159-C497-40D1-BD30-5DDA5F77AFA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 неподвижные и подвижные  (активно передвигающиеся при помощи жгут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93FF15-9A49-458F-A671-C39FBD68E29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полез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опас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1D154A-11E8-4ABC-8D60-30DBF4485FD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135138-95AF-4F6B-BA7F-F7F6F8A502C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Скисание молока в разнообразные кисломолочные продук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D7497C-95C2-453B-B373-163E453CF48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сделали хлеб из дрожжевого теста пышным, лучше пропекаем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14DF96-BA68-42AE-937D-C64B6211BCB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ез бактерий не было бы маринованных ово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46D246-A6E1-4E14-A7B8-4D616711B2C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7B19CB-DB5B-41F0-8357-B7301BD1C30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C2A-E7F7-4BBA-9CA7-761D6B28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5D1-2F12-47C6-8EAA-DFF486E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BA6-645C-46DC-8023-8D70F66A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4BA-FB4F-40A3-B0AF-8B74AA65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D1D1-9D9F-4A36-B6E1-240F9B99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EFA1-88F9-4209-88E0-07C2A97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B0B1-4D7C-4287-BE56-DEDAB462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B861-6E55-4077-A14A-F1EE5BF0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97CB-47CA-4B05-AFB1-D01DD96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4063-72B8-46CA-80D0-4DB5A866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9895-5AFC-47FD-BC90-351927D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C54-D162-4ECC-BE07-4CA3D41B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1E43-D59C-409D-B26F-755FAF39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9CE0-F2EC-4C7A-9777-A5E2964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4349-38DF-4435-BAD6-31F41E9C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EF67-DFE8-4AD6-8DC6-57564373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29BF-6DE6-4C3F-B05D-6358D4C1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86B4-B7F4-40B7-92AC-3730FEE4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2201-B8C0-440A-BEDC-89C00D6B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E460-F28E-45D5-9EFD-A1EEE65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6C334-D7E7-4760-A3D7-0FC18CC9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EBF80-7F9E-4079-AFE1-B6F51145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63F-E196-4680-9187-64BE6920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1B30-3F02-46C9-9392-41E896C2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973C-9E2A-47A0-A81C-2A4FF3CD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21C0-A694-44DE-8D62-6C479F7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F16E-C2EB-47E3-868E-EE19A5C6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1107-E0A9-47A0-878E-9659C5FA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EC98-4B74-4134-A9F5-D0F00A4F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C09A-AA0B-409C-8929-589F4DBD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771E-7F91-47DC-BA1E-F913CCC4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C3EB-3FED-4DCF-9A46-DEA93A8A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0702-ADEB-42AC-B606-6B62ACC2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C45-97E1-4EAC-B993-6285BD5F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2EA6C-4358-4131-95FF-645E858D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2694-B580-499C-9DF1-8D428DF8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3004-084F-432B-BEBD-771EAA74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D2B3-5815-4769-A771-1FDE98B5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4F651-3469-4C21-ABE3-2C68577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1B16-FAA3-4D90-B099-46844FAB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D917-A73E-4BDA-B841-5E2C1EC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65D7-6DD5-44C1-84C7-B0816DBC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CA53C-18A1-4E7F-9DB7-55F41B9A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426-5A02-4C09-9F49-C7A5F69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14C-5C39-49B4-96CF-3DAB0096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682-87A8-4178-9C9F-A0ED2ED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FAB-78CB-4817-8F15-90EF3DF7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76F-1EB6-4CBB-87C4-794B1157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ОБРАЗЕЦ  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0471AA-978A-442F-91A1-7F99844B585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72AF1F-2B64-456A-8B5B-A581779F7E2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539014-915A-4966-A846-F52601E2CE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03448D-9F73-4ECD-AC8B-7A52FDA7D3D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balych.ru/wp-content/uploads/2010/11/Mycho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БАКТЕР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0200" y="5500800"/>
            <a:ext cx="6400440" cy="12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Выполнила: ученица 3 класса «Б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Биль Маргар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Содержимое 6" descr="silosnie-yami_397509.jpg"/>
          <p:cNvPicPr/>
          <p:nvPr/>
        </p:nvPicPr>
        <p:blipFill>
          <a:blip r:embed="rId1"/>
          <a:stretch/>
        </p:blipFill>
        <p:spPr>
          <a:xfrm>
            <a:off x="1785960" y="2214720"/>
            <a:ext cx="5730840" cy="42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рмацевты изготавливают разнообразные антибиотики, вакцины, ферменты, витамины..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Содержимое 5" descr="436905_53390411.jpg"/>
          <p:cNvPicPr/>
          <p:nvPr/>
        </p:nvPicPr>
        <p:blipFill>
          <a:blip r:embed="rId1"/>
          <a:stretch/>
        </p:blipFill>
        <p:spPr>
          <a:xfrm>
            <a:off x="2286000" y="2143080"/>
            <a:ext cx="5111280" cy="42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392868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Содержимое 6" descr="stock-photo-viruses-54416914.jpg"/>
          <p:cNvPicPr/>
          <p:nvPr/>
        </p:nvPicPr>
        <p:blipFill>
          <a:blip r:embed="rId1"/>
          <a:stretch/>
        </p:blipFill>
        <p:spPr>
          <a:xfrm>
            <a:off x="4357800" y="1428840"/>
            <a:ext cx="445356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вызывают различные инфекционные заболевания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Содержимое 5" descr="difteriya.jpg"/>
          <p:cNvPicPr/>
          <p:nvPr/>
        </p:nvPicPr>
        <p:blipFill>
          <a:blip r:embed="rId1"/>
          <a:stretch/>
        </p:blipFill>
        <p:spPr>
          <a:xfrm>
            <a:off x="1643040" y="2000160"/>
            <a:ext cx="5878800" cy="43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чнокислые бактерии сквашивают свежее молоко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Содержимое 6" descr="P8174944.jpg"/>
          <p:cNvPicPr/>
          <p:nvPr/>
        </p:nvPicPr>
        <p:blipFill>
          <a:blip r:embed="rId1"/>
          <a:stretch/>
        </p:blipFill>
        <p:spPr>
          <a:xfrm>
            <a:off x="2643120" y="209052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жжи приводят к брожению и закисанию соков и плодов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Содержимое 5" descr="609.jpg"/>
          <p:cNvPicPr/>
          <p:nvPr/>
        </p:nvPicPr>
        <p:blipFill>
          <a:blip r:embed="rId1"/>
          <a:stretch/>
        </p:blipFill>
        <p:spPr>
          <a:xfrm>
            <a:off x="2000160" y="2428920"/>
            <a:ext cx="5357520" cy="40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укты покрываются плесенью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Содержимое 6" descr="Botrytis_cinerea_1_JS20040705.jpg"/>
          <p:cNvPicPr/>
          <p:nvPr/>
        </p:nvPicPr>
        <p:blipFill>
          <a:blip r:embed="rId1"/>
          <a:stretch/>
        </p:blipFill>
        <p:spPr>
          <a:xfrm>
            <a:off x="2214720" y="1714320"/>
            <a:ext cx="5111280" cy="427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Дом\Pictures\22229.jpg"/>
          <p:cNvPicPr/>
          <p:nvPr/>
        </p:nvPicPr>
        <p:blipFill>
          <a:blip r:embed="rId1"/>
          <a:stretch/>
        </p:blipFill>
        <p:spPr>
          <a:xfrm>
            <a:off x="4714920" y="3286080"/>
            <a:ext cx="4214520" cy="3396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Дом\Pictures\iCADGUW4A.jpg"/>
          <p:cNvPicPr/>
          <p:nvPr/>
        </p:nvPicPr>
        <p:blipFill>
          <a:blip r:embed="rId2"/>
          <a:stretch/>
        </p:blipFill>
        <p:spPr>
          <a:xfrm>
            <a:off x="214200" y="3500280"/>
            <a:ext cx="2999880" cy="299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Чтобы обезопасить себя от вредных бактерий и подружиться с полезными нужн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руки перед едой и после возвращения домой откуда бы то ни было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овощи и фрукты;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ледить за сроками годности продуктов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период эпидемий ограничивать контакт с возможными носителями инфекци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3" descr="C:\Users\Дом\Pictures\Beauty-Kitchen-6.jpg"/>
          <p:cNvPicPr/>
          <p:nvPr/>
        </p:nvPicPr>
        <p:blipFill>
          <a:blip r:embed="rId3"/>
          <a:stretch/>
        </p:blipFill>
        <p:spPr>
          <a:xfrm>
            <a:off x="1785960" y="4000680"/>
            <a:ext cx="3762000" cy="25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3577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ЛИТЕРАТУРА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vnssr.my1.ru/news/ljudi_protiv_bakterij_mediki_proigryvajut/2011-06-19-2343 </a:t>
            </a:r>
            <a:br>
              <a:rPr sz="1600"/>
            </a:b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:/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pavlo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info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categ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_4/31166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ml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arbyz.com/post.php?cat=22&amp;mir=9319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zeftera.ru/tag/rany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home-edu.ru/user/uatml/00000540/rot/tolstyj.htm?page=print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www.zakvaska.in.ua/posts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utno.ru/2009-11-14-19-27-29/870-recipe-for-yeast-dough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ed3.ru/vlogenie/10/11.php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zahystroslyn.com.ua/ru/tag/ximiya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findmapplaces.com/9393423_силосные+ямы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edomosti.ru/newsline/2009/10/05/2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pressfoto.ru/photo.html?p_id=19102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oman.mobus.com/sec/mednews?order=popular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ovary.com/page/63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cosmoisida.ru/zdorove/190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ostok.spb.ru/catalog64/models65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batfx.com/lofiversion/index.php/t1103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adlingercys.livejournal.com/140521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ml52.ru/sml/fiziko-mehanicheskie-svoystva/antiseptichnost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htiziatr.ru/news/?pag=11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newsland.ru/index/news/cat/37/ord/9/tag/0/page/264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8a.ru/print/23532.php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ribalych.ru/2010/11/22/obshhie-svedeniya-o-bakteriyax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allwomens.ru/5541-kakie-byvayut-poleznye-bakterii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knowbiology.ru/mikroorganizmi/poleznye--bakterii.html</a:t>
            </a:r>
            <a:br>
              <a:rPr sz="1200"/>
            </a:br>
            <a:br>
              <a:rPr sz="14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00600" cy="20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форме различают бактерии шаровидные и палочковид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Содержимое 6" descr="бактер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3857400" cy="2561760"/>
          </a:xfrm>
          <a:prstGeom prst="rect">
            <a:avLst/>
          </a:prstGeom>
          <a:ln w="9525">
            <a:noFill/>
          </a:ln>
        </p:spPr>
      </p:pic>
      <p:pic>
        <p:nvPicPr>
          <p:cNvPr id="179" name="Рисунок 7" descr="Полезные  бактерии"/>
          <p:cNvPicPr/>
          <p:nvPr/>
        </p:nvPicPr>
        <p:blipFill>
          <a:blip r:embed="rId3"/>
          <a:stretch/>
        </p:blipFill>
        <p:spPr>
          <a:xfrm>
            <a:off x="5286240" y="3143160"/>
            <a:ext cx="3329640" cy="332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3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бывают неподвижные и подвижные  (активно передвигающиеся при помощи жгутик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6" descr="fee22c7023124124e303f817cce6e148_nfee22c7023124124e303f817cce6e148.jpg"/>
          <p:cNvPicPr/>
          <p:nvPr/>
        </p:nvPicPr>
        <p:blipFill>
          <a:blip r:embed="rId1"/>
          <a:stretch/>
        </p:blipFill>
        <p:spPr>
          <a:xfrm>
            <a:off x="457200" y="2570760"/>
            <a:ext cx="4039920" cy="3159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9" descr="ecoli.jpg"/>
          <p:cNvPicPr/>
          <p:nvPr/>
        </p:nvPicPr>
        <p:blipFill>
          <a:blip r:embed="rId2"/>
          <a:stretch/>
        </p:blipFill>
        <p:spPr>
          <a:xfrm>
            <a:off x="5044680" y="2174760"/>
            <a:ext cx="3241800" cy="39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4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ктерии бывают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8571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ез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8571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Содержимое 10" descr="1363-Meyveler.jpg"/>
          <p:cNvPicPr/>
          <p:nvPr/>
        </p:nvPicPr>
        <p:blipFill>
          <a:blip r:embed="rId1"/>
          <a:stretch/>
        </p:blipFill>
        <p:spPr>
          <a:xfrm>
            <a:off x="214200" y="1500120"/>
            <a:ext cx="4029480" cy="30222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6" descr="i.jpg"/>
          <p:cNvPicPr/>
          <p:nvPr/>
        </p:nvPicPr>
        <p:blipFill>
          <a:blip r:embed="rId2"/>
          <a:stretch/>
        </p:blipFill>
        <p:spPr>
          <a:xfrm>
            <a:off x="857160" y="3000240"/>
            <a:ext cx="2857320" cy="34286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13" descr="genericwarning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41360" cy="35427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iCAW8CVZS.jpg"/>
          <p:cNvPicPr/>
          <p:nvPr/>
        </p:nvPicPr>
        <p:blipFill>
          <a:blip r:embed="rId4"/>
          <a:stretch/>
        </p:blipFill>
        <p:spPr>
          <a:xfrm>
            <a:off x="4572000" y="3071880"/>
            <a:ext cx="4041360" cy="304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4" descr="4desktop_ru_Klenoviy_listok_1152_4814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исание молока в разнообразные кисломолочные продукт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Содержимое 8" descr="main_big.jpg"/>
          <p:cNvPicPr/>
          <p:nvPr/>
        </p:nvPicPr>
        <p:blipFill>
          <a:blip r:embed="rId1"/>
          <a:stretch/>
        </p:blipFill>
        <p:spPr>
          <a:xfrm>
            <a:off x="1750320" y="1998720"/>
            <a:ext cx="6257520" cy="39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сделали хлеб из дрожжевого теста пышным, лучше пропекаемым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одержимое 7" descr="bread-dough-rising2.jpg"/>
          <p:cNvPicPr/>
          <p:nvPr/>
        </p:nvPicPr>
        <p:blipFill>
          <a:blip r:embed="rId1"/>
          <a:stretch/>
        </p:blipFill>
        <p:spPr>
          <a:xfrm>
            <a:off x="500040" y="1857240"/>
            <a:ext cx="4000320" cy="299988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3286.jpg"/>
          <p:cNvPicPr/>
          <p:nvPr/>
        </p:nvPicPr>
        <p:blipFill>
          <a:blip r:embed="rId2"/>
          <a:stretch/>
        </p:blipFill>
        <p:spPr>
          <a:xfrm>
            <a:off x="4786200" y="3308760"/>
            <a:ext cx="419652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 бактерий не было бы маринованных овощей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" name="Содержимое 6" descr="getImage171.jpg"/>
          <p:cNvPicPr/>
          <p:nvPr/>
        </p:nvPicPr>
        <p:blipFill>
          <a:blip r:embed="rId1"/>
          <a:stretch/>
        </p:blipFill>
        <p:spPr>
          <a:xfrm>
            <a:off x="2286000" y="1714320"/>
            <a:ext cx="4959720" cy="456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одержимое 5" descr="untitled.bmp"/>
          <p:cNvPicPr/>
          <p:nvPr/>
        </p:nvPicPr>
        <p:blipFill>
          <a:blip r:embed="rId1"/>
          <a:stretch/>
        </p:blipFill>
        <p:spPr>
          <a:xfrm>
            <a:off x="1785960" y="2357280"/>
            <a:ext cx="6103800" cy="39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EED2AD17-0933-4FEA-80AE-39DDD5107638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P102609783_template</Template>
  <TotalTime>234</TotalTime>
  <Application>LibreOffice/7.4.7.2$Linux_X86_64 LibreOffice_project/40$Build-2</Application>
  <AppVersion>15.0000</AppVersion>
  <Words>625</Words>
  <Paragraphs>1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05:30Z</dcterms:created>
  <dc:creator>Дом</dc:creator>
  <dc:description/>
  <dc:language>en-US</dc:language>
  <cp:lastModifiedBy>LEGION2</cp:lastModifiedBy>
  <dcterms:modified xsi:type="dcterms:W3CDTF">2015-04-28T07:36:08Z</dcterms:modified>
  <cp:revision>41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  <property fmtid="{D5CDD505-2E9C-101B-9397-08002B2CF9AE}" pid="5" name="_TemplateID">
    <vt:lpwstr>TC026097849991</vt:lpwstr>
  </property>
</Properties>
</file>