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120FFD-7933-4A7D-8177-C590F7FC0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а: ученица 3 класса «Б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ль Маргар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DE75DF-6A61-4AA6-88B1-73ED85BD203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Зоотехники готовят питательные и долго хранящиеся корма для сельскохозяйственных животных                    (такие как сило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159B32-33D8-48D6-80D5-54DDAC34E65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Фармацевты изготавливают разнообразные антибиотики, вакцины, ферменты, витамины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4D56A0-7F32-4684-BDF9-87237868E0D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живут на человеке и в человеке. Больше всего бактерий проживает в кишечнике, где они трудятся на благо человека. Одни помогают переваривать пищу, другие вырабатывают витамины, третьи убивают вредные микро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450286-AA56-43F5-A7F9-F220831F0C9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вызывают различные инфекционные заболе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93F1E9-82C7-4CBD-9796-06BBB7FA310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иводят к порче продуктов пит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молочнокислые бактерии сквашивают свежее моло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72B63A-4257-4D2E-9AE9-C8B1041C99C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иводят к порче продуктов пит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дрожжи приводят к брожению и закисанию соков и пл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5A0C1C-15C0-428D-851C-B623DE412F0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Опасность дл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родукты покрываются плесен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629C38-D8BA-4004-9FD4-871691B589A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обезопасить себя от вредных бактерий и подружиться с полезными нуж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мыть руки перед едой и после возвращения домой откуда бы то ни был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мыть овощи и фрук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следить за сроками годности проду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 период эпидемий ограничивать контакт с возможными носителями 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117E86-8628-4941-BF60-ED3766178EF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ЛИТЕРАТУРА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vnssr.my1.ru/news/ljudi_protiv_bakterij_mediki_proigryvajut/2011-06-19-2343 </a:t>
            </a:r>
            <a:br>
              <a:rPr sz="1200"/>
            </a:b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:/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pavlonews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info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news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categ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_4/31166.</a:t>
            </a:r>
            <a:r>
              <a:rPr b="0" lang="en-US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ml</a:t>
            </a: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http://arbyz.com/post.php?cat=22&amp;mir=9319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zeftera.ru/tag/rany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home-edu.ru/user/uatml/00000540/rot/tolstyj.htm?page=print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http://www.zakvaska.in.ua/posts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sutno.ru/2009-11-14-19-27-29/870-recipe-for-yeast-dough.html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ed3.ru/vlogenie/10/11.php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zahystroslyn.com.ua/ru/tag/ximiya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findmapplaces.com/9393423_силосные+ямы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vedomosti.ru/newsline/2009/10/05/2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pressfoto.ru/photo.html?p_id=191024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oman.mobus.com/sec/mednews?order=popular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povary.com/page/63/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cosmoisida.ru/zdorove/190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vostok.spb.ru/catalog64/models65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batfx.com/lofiversion/index.php/t1103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adlingercys.livejournal.com/140521.html 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sml52.ru/sml/fiziko-mehanicheskie-svoystva/antiseptichnost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phtiziatr.ru/news/?pag=114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newsland.ru/index/news/cat/37/ord/9/tag/0/page/264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8a.ru/print/23532.php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ribalych.ru/2010/11/22/obshhie-svedeniya-o-bakteriyax/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allwomens.ru/5541-kakie-byvayut-poleznye-bakterii.html</a:t>
            </a:r>
            <a:br>
              <a:rPr sz="1200"/>
            </a:br>
            <a:r>
              <a:rPr b="0" lang="ru-RU" sz="1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http://www.knowbiology.ru/mikroorganizmi/poleznye--bakterii.html</a:t>
            </a:r>
            <a:br>
              <a:rPr sz="105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1A2B0D-AFD6-426C-8E19-84B9ED772FB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- мельчайшие, микроскопической величины организмы, принадлежащие к отдельному царств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По форме различают бактерии шаровидные и палочкови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F80113-3C6E-4F40-8B77-7816AD463B2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бывают неподвижные и подвижные  (активно передвигающиеся при помощи жгути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2D82EB-4715-458B-ACE8-AD5FE49A984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быв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+mn-lt"/>
              </a:rPr>
              <a:t>полез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+mn-lt"/>
              </a:rPr>
              <a:t>опас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CE97EE-22D8-476B-8107-FCC6866FD96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круговорот веществ происходит с участием бактерий: если бы эти маленькие труженики однажды исчезли, планета очень быстро оказалась бы завалена остатками отмерших растений и погибших живот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5C6BFA-7E8E-4EB1-BC83-339650E70B8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Скисание молока в разнообразные кисломолочные продук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0C0128-7987-4971-8F55-2A3D146FADD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актерии сделали хлеб из дрожжевого теста пышным, лучше пропекаем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FDDF05-CAD7-488C-B31B-DD0703B746D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Без бактерий не было бы маринованных ово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DA2AC8-1FDC-4B8C-88E3-DB541AE1046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+mn-lt"/>
              </a:rPr>
              <a:t>Польза от бакте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</a:rPr>
              <a:t>Агрономы используют бактериальные препараты для борьбы с болезнями и вредителями культурных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148811-A113-4514-A4F9-D24B59E413A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005-39DC-4069-B002-0E708897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20D-43E0-4F1E-9575-89A364F5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600-8939-4C6E-82A0-D0D64ECF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588-9CF3-45CE-9552-FA3C7318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5091-0BC2-4D0D-BBEF-064D0A13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426B-A4E7-46A1-822B-F809A8C2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BF5A-76BA-4E5F-BCCB-494042F4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5475-5784-46ED-8739-269AC20F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C7B3-E5E9-4143-97AD-48352912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2162-09EB-4732-8A12-480E32F4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87BE-E22F-4CAA-B026-A06309E7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A15-1EB4-4763-AAE9-DC371946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FDC7-14F0-4F19-8105-27815578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443E-E0BA-48C1-A159-F6EEEBFD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2D38-F15B-4200-BD6D-A15377F1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B5FA-E733-4CB5-8070-0748D588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2E9A-39EA-4497-AEA8-5ED9BCA5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F2E6-0128-408E-9132-9FF9E17B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479DC-5EE3-461C-A650-11E415F5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18721-E0EE-4CDF-AD8F-88154F20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B6E87-53BA-4325-BC42-ABECA34E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A3BB-1FB5-4EAB-B49C-6C34F8CC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E95-8187-4C7A-B093-F3857060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B9818-8EAA-4AC1-BFE6-253687BB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77E14-4E5F-43D4-A1C9-8E6FE82A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E7671-6BDE-44E1-BDD8-D0D6210D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64508-B79A-4507-9F79-C9A86968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2CE19-F344-4119-A186-9722133C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5A966-ED8E-4C88-B0BE-5208B9C9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6FB72-7354-4140-8DB8-9D7F80B7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5CE0A-1D7A-434E-A3D5-730F6EA9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5BB30-9095-45B7-85CB-B6A02E7C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5BC39-BEBA-40F5-9AA4-FA1FB99E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23D-906C-4432-B8D0-310CCD29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88F50-466C-49E4-B722-04B706A3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D1920-6CA0-4012-9803-35741490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53B51-E855-4227-937C-9BD62BE2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EC006-D59E-411B-A544-B965810E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13919-D676-4E7B-AC24-5F06CC05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32ADE-AD4E-46B9-9E15-60831186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916EA-F998-4CCC-88EC-460630C5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ED6C7-828E-43E1-81A3-BE1222F7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B7828-204D-41D6-B423-58EBA23A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2CC-F069-4B74-AB3D-B3210728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B1C-2861-4A93-AD7C-9CE2649E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16F6-371D-4284-8594-88679ADC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37E-059A-4F96-9B78-BE932D39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001-4DB0-4A3F-AD5E-F74862B1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1500120"/>
            <a:ext cx="8496720" cy="20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chemeClr val="accent6">
                    <a:lumMod val="75000"/>
                  </a:schemeClr>
                </a:solidFill>
                <a:latin typeface="Franklin Gothic Heavy"/>
              </a:rPr>
              <a:t>ОБРАЗЕЦ   ЗАГОЛОВКА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15B979-34EB-40B2-9F89-ADDFA9408A7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052ABE-1CA0-440C-B94D-95C5E229076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978233-D6AD-4EE4-BF6A-C6FD5020331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Franklin Gothic Dem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8B0F3F-1A26-4BC9-A09D-7FEFC290E0F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ibalych.ru/wp-content/uploads/2010/11/Mychota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1500120"/>
            <a:ext cx="8496720" cy="20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chemeClr val="accent6">
                    <a:lumMod val="75000"/>
                  </a:schemeClr>
                </a:solidFill>
                <a:latin typeface="Franklin Gothic Heavy"/>
              </a:rPr>
              <a:t>БАКТЕРИИ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500200" y="5500800"/>
            <a:ext cx="6400440" cy="120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Выполнила: ученица 3 класса «Б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              </a:t>
            </a:r>
            <a:r>
              <a:rPr b="1" lang="ru-RU" sz="2800" spc="-1" strike="noStrike">
                <a:solidFill>
                  <a:schemeClr val="accent6">
                    <a:lumMod val="20000"/>
                    <a:lumOff val="80000"/>
                  </a:schemeClr>
                </a:solidFill>
                <a:latin typeface="Calibri"/>
              </a:rPr>
              <a:t>Биль Маргар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оотехники готовят питательные и долго хранящиеся корма для сельскохозяйственных животных                    (такие как силос)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8" name="Содержимое 6" descr="silosnie-yami_397509.jpg"/>
          <p:cNvPicPr/>
          <p:nvPr/>
        </p:nvPicPr>
        <p:blipFill>
          <a:blip r:embed="rId1"/>
          <a:stretch/>
        </p:blipFill>
        <p:spPr>
          <a:xfrm>
            <a:off x="1785960" y="2214720"/>
            <a:ext cx="5730840" cy="428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армацевты изготавливают разнообразные антибиотики, вакцины, ферменты, витамины..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Содержимое 5" descr="436905_53390411.jpg"/>
          <p:cNvPicPr/>
          <p:nvPr/>
        </p:nvPicPr>
        <p:blipFill>
          <a:blip r:embed="rId1"/>
          <a:stretch/>
        </p:blipFill>
        <p:spPr>
          <a:xfrm>
            <a:off x="2286000" y="2143080"/>
            <a:ext cx="5111280" cy="42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392868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живут на человеке и в человеке. Больше всего бактерий проживает в кишечнике, где они трудятся на благо человека. Одни помогают переваривать пищу, другие вырабатывают витамины, третьи убивают вредные микробы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4" name="Содержимое 6" descr="stock-photo-viruses-54416914.jpg"/>
          <p:cNvPicPr/>
          <p:nvPr/>
        </p:nvPicPr>
        <p:blipFill>
          <a:blip r:embed="rId1"/>
          <a:stretch/>
        </p:blipFill>
        <p:spPr>
          <a:xfrm>
            <a:off x="4357800" y="1428840"/>
            <a:ext cx="4453560" cy="45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вызывают различные инфекционные заболевания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Содержимое 5" descr="difteriya.jpg"/>
          <p:cNvPicPr/>
          <p:nvPr/>
        </p:nvPicPr>
        <p:blipFill>
          <a:blip r:embed="rId1"/>
          <a:stretch/>
        </p:blipFill>
        <p:spPr>
          <a:xfrm>
            <a:off x="1643040" y="2000160"/>
            <a:ext cx="5878800" cy="43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водят к порче продуктов питания: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лочнокислые бактерии сквашивают свежее молоко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0" name="Содержимое 6" descr="P8174944.jpg"/>
          <p:cNvPicPr/>
          <p:nvPr/>
        </p:nvPicPr>
        <p:blipFill>
          <a:blip r:embed="rId1"/>
          <a:stretch/>
        </p:blipFill>
        <p:spPr>
          <a:xfrm>
            <a:off x="2643120" y="2090520"/>
            <a:ext cx="3357360" cy="44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водят к порче продуктов питания: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рожжи приводят к брожению и закисанию соков и плодов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3" name="Содержимое 5" descr="609.jpg"/>
          <p:cNvPicPr/>
          <p:nvPr/>
        </p:nvPicPr>
        <p:blipFill>
          <a:blip r:embed="rId1"/>
          <a:stretch/>
        </p:blipFill>
        <p:spPr>
          <a:xfrm>
            <a:off x="2000160" y="2428920"/>
            <a:ext cx="5357520" cy="40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ь для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дукты покрываются плесенью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6" name="Содержимое 6" descr="Botrytis_cinerea_1_JS20040705.jpg"/>
          <p:cNvPicPr/>
          <p:nvPr/>
        </p:nvPicPr>
        <p:blipFill>
          <a:blip r:embed="rId1"/>
          <a:stretch/>
        </p:blipFill>
        <p:spPr>
          <a:xfrm>
            <a:off x="2214720" y="1714320"/>
            <a:ext cx="5111280" cy="427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C:\Users\Дом\Pictures\22229.jpg"/>
          <p:cNvPicPr/>
          <p:nvPr/>
        </p:nvPicPr>
        <p:blipFill>
          <a:blip r:embed="rId1"/>
          <a:stretch/>
        </p:blipFill>
        <p:spPr>
          <a:xfrm>
            <a:off x="4714920" y="3286080"/>
            <a:ext cx="4214520" cy="3396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Дом\Pictures\iCADGUW4A.jpg"/>
          <p:cNvPicPr/>
          <p:nvPr/>
        </p:nvPicPr>
        <p:blipFill>
          <a:blip r:embed="rId2"/>
          <a:stretch/>
        </p:blipFill>
        <p:spPr>
          <a:xfrm>
            <a:off x="214200" y="3500280"/>
            <a:ext cx="2999880" cy="2999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71424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Franklin Gothic Demi"/>
              </a:rPr>
              <a:t>Чтобы обезопасить себя от вредных бактерий и подружиться с полезными нужно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28400" y="1357200"/>
            <a:ext cx="871524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ыть руки перед едой и после возвращения домой откуда бы то ни было;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ыть овощи и фрукты;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следить за сроками годности продуктов;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 период эпидемий ограничивать контакт с возможными носителями инфекци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1" name="Picture 3" descr="C:\Users\Дом\Pictures\Beauty-Kitchen-6.jpg"/>
          <p:cNvPicPr/>
          <p:nvPr/>
        </p:nvPicPr>
        <p:blipFill>
          <a:blip r:embed="rId3"/>
          <a:stretch/>
        </p:blipFill>
        <p:spPr>
          <a:xfrm>
            <a:off x="1785960" y="4000680"/>
            <a:ext cx="3762000" cy="250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357760" cy="60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ЛИТЕРАТУРА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vnssr.my1.ru/news/ljudi_protiv_bakterij_mediki_proigryvajut/2011-06-19-2343 </a:t>
            </a:r>
            <a:br>
              <a:rPr sz="1600"/>
            </a:b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:/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pavlonews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.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info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news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/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categ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_4/31166.</a:t>
            </a:r>
            <a:r>
              <a:rPr b="1" lang="en-US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ml</a:t>
            </a: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http://arbyz.com/post.php?cat=22&amp;mir=9319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zeftera.ru/tag/rany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home-edu.ru/user/uatml/00000540/rot/tolstyj.htm?page=print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 http://www.zakvaska.in.ua/posts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sutno.ru/2009-11-14-19-27-29/870-recipe-for-yeast-dough.html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ed3.ru/vlogenie/10/11.php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zahystroslyn.com.ua/ru/tag/ximiya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findmapplaces.com/9393423_силосные+ямы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vedomosti.ru/newsline/2009/10/05/2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pressfoto.ru/photo.html?p_id=191024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oman.mobus.com/sec/mednews?order=popular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povary.com/page/63/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cosmoisida.ru/zdorove/190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vostok.spb.ru/catalog64/models65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batfx.com/lofiversion/index.php/t1103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adlingercys.livejournal.com/140521.html 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sml52.ru/sml/fiziko-mehanicheskie-svoystva/antiseptichnost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phtiziatr.ru/news/?pag=114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newsland.ru/index/news/cat/37/ord/9/tag/0/page/264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8a.ru/print/23532.php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ribalych.ru/2010/11/22/obshhie-svedeniya-o-bakteriyax/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allwomens.ru/5541-kakie-byvayut-poleznye-bakterii.html</a:t>
            </a:r>
            <a:br>
              <a:rPr sz="1600"/>
            </a:br>
            <a:r>
              <a:rPr b="1" lang="ru-RU" sz="1600" spc="-1" strike="noStrike">
                <a:solidFill>
                  <a:schemeClr val="accent6">
                    <a:lumMod val="75000"/>
                  </a:schemeClr>
                </a:solidFill>
                <a:latin typeface="Franklin Gothic Demi"/>
              </a:rPr>
              <a:t>http://www.knowbiology.ru/mikroorganizmi/poleznye--bakterii.html</a:t>
            </a:r>
            <a:br>
              <a:rPr sz="1200"/>
            </a:br>
            <a:br>
              <a:rPr sz="1400"/>
            </a:b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400600" cy="20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терии - мельчайшие, микроскопической величины организмы, принадлежащие к отдельному царству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2960" y="200016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 форме различают бактерии шаровидные и палочковид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8" name="Содержимое 6" descr="бактер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3500280"/>
            <a:ext cx="3857400" cy="2561760"/>
          </a:xfrm>
          <a:prstGeom prst="rect">
            <a:avLst/>
          </a:prstGeom>
          <a:ln w="9525">
            <a:noFill/>
          </a:ln>
        </p:spPr>
      </p:pic>
      <p:pic>
        <p:nvPicPr>
          <p:cNvPr id="179" name="Рисунок 7" descr="Полезные  бактерии"/>
          <p:cNvPicPr/>
          <p:nvPr/>
        </p:nvPicPr>
        <p:blipFill>
          <a:blip r:embed="rId3"/>
          <a:stretch/>
        </p:blipFill>
        <p:spPr>
          <a:xfrm>
            <a:off x="5286240" y="3143160"/>
            <a:ext cx="3329640" cy="332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240" cy="136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ктерии бывают неподвижные и подвижные  (активно передвигающиеся при помощи жгутиков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Содержимое 6" descr="fee22c7023124124e303f817cce6e148_nfee22c7023124124e303f817cce6e148.jpg"/>
          <p:cNvPicPr/>
          <p:nvPr/>
        </p:nvPicPr>
        <p:blipFill>
          <a:blip r:embed="rId1"/>
          <a:stretch/>
        </p:blipFill>
        <p:spPr>
          <a:xfrm>
            <a:off x="457200" y="2570760"/>
            <a:ext cx="4039920" cy="315900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9" descr="ecoli.jpg"/>
          <p:cNvPicPr/>
          <p:nvPr/>
        </p:nvPicPr>
        <p:blipFill>
          <a:blip r:embed="rId2"/>
          <a:stretch/>
        </p:blipFill>
        <p:spPr>
          <a:xfrm>
            <a:off x="5044680" y="2174760"/>
            <a:ext cx="3241800" cy="395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04348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ктерии бывают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8571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лез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85716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пасны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Содержимое 10" descr="1363-Meyveler.jpg"/>
          <p:cNvPicPr/>
          <p:nvPr/>
        </p:nvPicPr>
        <p:blipFill>
          <a:blip r:embed="rId1"/>
          <a:stretch/>
        </p:blipFill>
        <p:spPr>
          <a:xfrm>
            <a:off x="214200" y="1500120"/>
            <a:ext cx="4029480" cy="302220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6" descr="i.jpg"/>
          <p:cNvPicPr/>
          <p:nvPr/>
        </p:nvPicPr>
        <p:blipFill>
          <a:blip r:embed="rId2"/>
          <a:stretch/>
        </p:blipFill>
        <p:spPr>
          <a:xfrm>
            <a:off x="857160" y="3000240"/>
            <a:ext cx="2857320" cy="3428640"/>
          </a:xfrm>
          <a:prstGeom prst="rect">
            <a:avLst/>
          </a:prstGeom>
          <a:ln w="0">
            <a:noFill/>
          </a:ln>
        </p:spPr>
      </p:pic>
      <p:pic>
        <p:nvPicPr>
          <p:cNvPr id="188" name="Содержимое 13" descr="genericwarning.jpg"/>
          <p:cNvPicPr/>
          <p:nvPr/>
        </p:nvPicPr>
        <p:blipFill>
          <a:blip r:embed="rId3"/>
          <a:stretch/>
        </p:blipFill>
        <p:spPr>
          <a:xfrm>
            <a:off x="4714920" y="1500120"/>
            <a:ext cx="4041360" cy="354276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7" descr="iCAW8CVZS.jpg"/>
          <p:cNvPicPr/>
          <p:nvPr/>
        </p:nvPicPr>
        <p:blipFill>
          <a:blip r:embed="rId4"/>
          <a:stretch/>
        </p:blipFill>
        <p:spPr>
          <a:xfrm>
            <a:off x="4572000" y="3071880"/>
            <a:ext cx="4041360" cy="3044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Содержимое 4" descr="4desktop_ru_Klenoviy_listok_1152_4814.jpg"/>
          <p:cNvPicPr/>
          <p:nvPr/>
        </p:nvPicPr>
        <p:blipFill>
          <a:blip r:embed="rId1"/>
          <a:stretch/>
        </p:blipFill>
        <p:spPr>
          <a:xfrm>
            <a:off x="2143080" y="2643120"/>
            <a:ext cx="5111280" cy="3833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9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руговорот веществ происходит с участием бактерий: если бы эти маленькие труженики однажды исчезли, планета очень быстро оказалась бы завалена остатками отмерших растений и погибших животных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9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исание молока в разнообразные кисломолочные продукты.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5" name="Содержимое 8" descr="main_big.jpg"/>
          <p:cNvPicPr/>
          <p:nvPr/>
        </p:nvPicPr>
        <p:blipFill>
          <a:blip r:embed="rId1"/>
          <a:stretch/>
        </p:blipFill>
        <p:spPr>
          <a:xfrm>
            <a:off x="1750320" y="1998720"/>
            <a:ext cx="6257520" cy="39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ктерии сделали хлеб из дрожжевого теста пышным, лучше пропекаемым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" name="Содержимое 7" descr="bread-dough-rising2.jpg"/>
          <p:cNvPicPr/>
          <p:nvPr/>
        </p:nvPicPr>
        <p:blipFill>
          <a:blip r:embed="rId1"/>
          <a:stretch/>
        </p:blipFill>
        <p:spPr>
          <a:xfrm>
            <a:off x="500040" y="1857240"/>
            <a:ext cx="4000320" cy="2999880"/>
          </a:xfrm>
          <a:prstGeom prst="rect">
            <a:avLst/>
          </a:prstGeom>
          <a:ln w="0">
            <a:noFill/>
          </a:ln>
        </p:spPr>
      </p:pic>
      <p:pic>
        <p:nvPicPr>
          <p:cNvPr id="199" name="Содержимое 5" descr="3286.jpg"/>
          <p:cNvPicPr/>
          <p:nvPr/>
        </p:nvPicPr>
        <p:blipFill>
          <a:blip r:embed="rId2"/>
          <a:stretch/>
        </p:blipFill>
        <p:spPr>
          <a:xfrm>
            <a:off x="4786200" y="3308760"/>
            <a:ext cx="4196520" cy="327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4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ез бактерий не было бы маринованных овощей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2" name="Содержимое 6" descr="getImage171.jpg"/>
          <p:cNvPicPr/>
          <p:nvPr/>
        </p:nvPicPr>
        <p:blipFill>
          <a:blip r:embed="rId1"/>
          <a:stretch/>
        </p:blipFill>
        <p:spPr>
          <a:xfrm>
            <a:off x="2286000" y="1714320"/>
            <a:ext cx="4959720" cy="456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6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ьза от бактер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572320" cy="16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грономы используют бактериальные препараты для борьбы с болезнями и вредителями культурных растений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Содержимое 5" descr="untitled.bmp"/>
          <p:cNvPicPr/>
          <p:nvPr/>
        </p:nvPicPr>
        <p:blipFill>
          <a:blip r:embed="rId1"/>
          <a:stretch/>
        </p:blipFill>
        <p:spPr>
          <a:xfrm>
            <a:off x="1785960" y="2357280"/>
            <a:ext cx="6103800" cy="39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TP102609783_templat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Props1.xml><?xml version="1.0" encoding="utf-8"?>
<ds:datastoreItem xmlns:ds="http://schemas.openxmlformats.org/officeDocument/2006/customXml" ds:itemID="{EED2AD17-0933-4FEA-80AE-39DDD5107638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TP102609783_template</Template>
  <TotalTime>234</TotalTime>
  <Application>LibreOffice/7.4.7.2$Linux_X86_64 LibreOffice_project/40$Build-2</Application>
  <AppVersion>15.0000</AppVersion>
  <Words>625</Words>
  <Paragraphs>12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6:05:30Z</dcterms:created>
  <dc:creator>Дом</dc:creator>
  <dc:description/>
  <dc:language>en-US</dc:language>
  <cp:lastModifiedBy>LEGION2</cp:lastModifiedBy>
  <dcterms:modified xsi:type="dcterms:W3CDTF">2015-04-28T07:36:08Z</dcterms:modified>
  <cp:revision>41</cp:revision>
  <dc:subject/>
  <dc:title>ЗАГОЛОВОК 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8</vt:r8>
  </property>
  <property fmtid="{D5CDD505-2E9C-101B-9397-08002B2CF9AE}" pid="3" name="PresentationFormat">
    <vt:lpwstr>Екран (4:3)</vt:lpwstr>
  </property>
  <property fmtid="{D5CDD505-2E9C-101B-9397-08002B2CF9AE}" pid="4" name="Slides">
    <vt:r8>18</vt:r8>
  </property>
  <property fmtid="{D5CDD505-2E9C-101B-9397-08002B2CF9AE}" pid="5" name="_TemplateID">
    <vt:lpwstr>TC026097849991</vt:lpwstr>
  </property>
</Properties>
</file>