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_rels/item1.xml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8F9B87-B79C-4E1F-988D-BEAF1100C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а: ученица 3 класса «Б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ль Маргар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F959C1-3368-48EE-9520-E16EAAC2DD8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Зоотехники готовят питательные и долго хранящиеся корма для сельскохозяйственных животных                    (такие как сило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52C1B5-6C9C-4F8C-9E39-DE62D8B126A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Фармацевты изготавливают разнообразные антибиотики, вакцины, ферменты, витамины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40D92F-9FBE-483D-8CC1-8547802AFC2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живут на человеке и в человеке. Больше всего бактерий проживает в кишечнике, где они трудятся на благо человека. Одни помогают переваривать пищу, другие вырабатывают витамины, третьи убивают вредные микро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76FD36-105B-42BD-8B18-78DB7253DAD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вызывают различные инфекционные заболе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B8A89E-027C-475B-A54F-10D13F1C544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иводят к порче продуктов пит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молочнокислые бактерии сквашивают свежее моло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E5CD58-9474-474C-9BFD-55425446E78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иводят к порче продуктов пит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дрожжи приводят к брожению и закисанию соков и пл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045DEE-3F4A-4AF1-835F-58D4CF05029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одукты покрываются плесен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CF82F6-20EE-440F-90C5-0DE6CC1B713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обезопасить себя от вредных бактерий и подружиться с полезными нуж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мыть руки перед едой и после возвращения домой откуда бы то ни был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мыть овощи и фрук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следить за сроками годности проду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 период эпидемий ограничивать контакт с возможными носителями 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1C9F9E-9232-4A77-8705-1788214F027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ЛИТЕРАТУРА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vnssr.my1.ru/news/ljudi_protiv_bakterij_mediki_proigryvajut/2011-06-19-2343 </a:t>
            </a:r>
            <a:br>
              <a:rPr sz="1200"/>
            </a:b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:/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pavlonews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info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news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categ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_4/31166.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ml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http://arbyz.com/post.php?cat=22&amp;mir=9319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zeftera.ru/tag/rany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home-edu.ru/user/uatml/00000540/rot/tolstyj.htm?page=print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http://www.zakvaska.in.ua/posts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sutno.ru/2009-11-14-19-27-29/870-recipe-for-yeast-dough.html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ed3.ru/vlogenie/10/11.php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zahystroslyn.com.ua/ru/tag/ximiya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findmapplaces.com/9393423_силосные+ямы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vedomosti.ru/newsline/2009/10/05/2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pressfoto.ru/photo.html?p_id=191024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oman.mobus.com/sec/mednews?order=popular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povary.com/page/63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cosmoisida.ru/zdorove/190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vostok.spb.ru/catalog64/models65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batfx.com/lofiversion/index.php/t1103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adlingercys.livejournal.com/140521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sml52.ru/sml/fiziko-mehanicheskie-svoystva/antiseptichnost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phtiziatr.ru/news/?pag=114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newsland.ru/index/news/cat/37/ord/9/tag/0/page/264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8a.ru/print/23532.php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ribalych.ru/2010/11/22/obshhie-svedeniya-o-bakteriyax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allwomens.ru/5541-kakie-byvayut-poleznye-bakterii.html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knowbiology.ru/mikroorganizmi/poleznye--bakterii.html</a:t>
            </a:r>
            <a:br>
              <a:rPr sz="105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322745-2DCC-47E5-816B-4C3AE50F7F0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- мельчайшие, микроскопической величины организмы, принадлежащие к отдельному царств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о форме различают бактерии шаровидные и палочкови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9BF7FB-1428-43D7-AD49-65E162D5D09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бывают неподвижные и подвижные  (активно передвигающиеся при помощи жгути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351844-2830-4877-9D0B-DF369F1506E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быв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+mn-lt"/>
              </a:rPr>
              <a:t>полез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+mn-lt"/>
              </a:rPr>
              <a:t>опас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A1F2B9-E6FF-4900-9A48-F96FC3BC7DC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круговорот веществ происходит с участием бактерий: если бы эти маленькие труженики однажды исчезли, планета очень быстро оказалась бы завалена остатками отмерших растений и погибших живот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E5BF0C-94A5-49A0-BA10-C5D2CA283B4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Скисание молока в разнообразные кисломолочные продук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ECB937-0DBB-4247-B139-31EA7782403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сделали хлеб из дрожжевого теста пышным, лучше пропекаем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B8A3B0-B700-47C8-93F9-3B27F2E9052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ез бактерий не было бы маринованных ово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A21C34-1A35-4BBD-B323-DD80F1EDCC6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Агрономы используют бактериальные препараты для борьбы с болезнями и вредителями культурных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5A3824-F6FE-42F2-891B-3AB8EE1F6B6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429C-857D-456C-A66E-31ACCC1C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1B9-1FDF-4237-9EA8-6518CBFF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8AF-6415-4572-94F6-E262F666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21A0-4B1A-4A06-A7C8-D91276D3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AF98-0CD8-4D8E-AFFE-E6D07A98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E4A0-BEF4-491D-A510-207DB708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6CEE-A616-43E7-B6DE-870D3C83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F170-941E-4196-98A5-47E09567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AF59-7CEB-4D64-AD95-C6C90583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60F9-2065-4DC0-9276-553112EA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7BFE-EF54-4070-85AC-4F5BE33A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3B4-BC7D-4AC1-B560-9AD1C437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C78B-A7C7-42DA-879B-0ADFD7B3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C5C0-467B-4A16-A299-20FF352E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90EC-153F-4A51-8047-E0461143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2884-425E-4F00-9F13-B684BA72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E243-4F7C-462C-A3E0-191866C0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43D80-4C4F-4E6B-A0A0-1E4F580A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3099D-3030-402D-96AE-55D446A6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0F523-5A70-45B6-AB48-08E9A17D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47D17-130D-4760-BE87-59D1DAC4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3B797-747E-4383-BCAC-0A2EB22D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89E-F9E4-47BC-B32D-E9A1CAA2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EA8F4-5F89-4D92-869D-12FD8FAA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2A34-BEAF-46DE-BCFD-3EBC1C5C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10449-371A-48D5-BEA7-480630D5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7CA3A-2A71-42D9-B2F7-1267958B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11CD6-D8DC-4777-AF08-48D92C15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9FE66-534E-47B6-803A-336C64B0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EEE36-2685-4701-B90D-C4F94A9A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D4A5A-6206-4D94-9DBD-7362774E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386AC-8E03-46B0-ACB5-7F37BF52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AE78B-74A5-4AED-B680-840E8449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E593-E336-49A5-9B67-2B0A1277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75B53-5239-4529-8348-1C277A48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EE29A-1483-460E-BB68-0D97B56E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CC8FB-9387-4627-9BBF-6410AE6B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7D2E8-2158-4BFF-BC9C-8D2C3246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AFEC2-25C8-4CF9-B2D4-C7F1F9AE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D7FDB-36F4-4B84-8550-975C95B3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53C52-0F7E-4B91-AD43-793FA1F4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4B37F-7DD2-407F-A6F0-85677885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DBB63-CE03-4F51-ABE4-011F2488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D8BE-3016-4465-82FF-06A678EB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613-8E42-414D-B6F2-790375CB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67C7-CDAE-4CB9-9492-78F77175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42C-75A7-466F-B02D-6FF9C137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1B1-82B5-4866-A7A7-AD6031F6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1500120"/>
            <a:ext cx="8496720" cy="20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chemeClr val="accent6">
                    <a:lumMod val="75000"/>
                  </a:schemeClr>
                </a:solidFill>
                <a:latin typeface="Franklin Gothic Heavy"/>
              </a:rPr>
              <a:t>ОБРАЗЕЦ   ЗАГОЛОВКА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2254E6-DB72-4BB0-8D2F-D04876057B4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AEC7CA-F212-4681-973B-2419C92A739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63A656-5DFB-4732-8271-C73B0435FF0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6F954A-D23D-46C7-B2A9-92E3CB2964C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ibalych.ru/wp-content/uploads/2010/11/Mychota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1500120"/>
            <a:ext cx="8496720" cy="20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chemeClr val="accent6">
                    <a:lumMod val="75000"/>
                  </a:schemeClr>
                </a:solidFill>
                <a:latin typeface="Franklin Gothic Heavy"/>
              </a:rPr>
              <a:t>БАКТЕРИИ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500200" y="5500800"/>
            <a:ext cx="6400440" cy="120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Выполнила: ученица 3 класса «Б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              </a:t>
            </a: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Биль Маргар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оотехники готовят питательные и долго хранящиеся корма для сельскохозяйственных животных                    (такие как силос)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8" name="Содержимое 6" descr="silosnie-yami_397509.jpg"/>
          <p:cNvPicPr/>
          <p:nvPr/>
        </p:nvPicPr>
        <p:blipFill>
          <a:blip r:embed="rId1"/>
          <a:stretch/>
        </p:blipFill>
        <p:spPr>
          <a:xfrm>
            <a:off x="1785960" y="2214720"/>
            <a:ext cx="5730840" cy="428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армацевты изготавливают разнообразные антибиотики, вакцины, ферменты, витамины..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Содержимое 5" descr="436905_53390411.jpg"/>
          <p:cNvPicPr/>
          <p:nvPr/>
        </p:nvPicPr>
        <p:blipFill>
          <a:blip r:embed="rId1"/>
          <a:stretch/>
        </p:blipFill>
        <p:spPr>
          <a:xfrm>
            <a:off x="2286000" y="2143080"/>
            <a:ext cx="5111280" cy="42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392868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живут на человеке и в человеке. Больше всего бактерий проживает в кишечнике, где они трудятся на благо человека. Одни помогают переваривать пищу, другие вырабатывают витамины, третьи убивают вредные микробы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4" name="Содержимое 6" descr="stock-photo-viruses-54416914.jpg"/>
          <p:cNvPicPr/>
          <p:nvPr/>
        </p:nvPicPr>
        <p:blipFill>
          <a:blip r:embed="rId1"/>
          <a:stretch/>
        </p:blipFill>
        <p:spPr>
          <a:xfrm>
            <a:off x="4357800" y="1428840"/>
            <a:ext cx="4453560" cy="45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вызывают различные инфекционные заболевания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Содержимое 5" descr="difteriya.jpg"/>
          <p:cNvPicPr/>
          <p:nvPr/>
        </p:nvPicPr>
        <p:blipFill>
          <a:blip r:embed="rId1"/>
          <a:stretch/>
        </p:blipFill>
        <p:spPr>
          <a:xfrm>
            <a:off x="1643040" y="2000160"/>
            <a:ext cx="5878800" cy="43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водят к порче продуктов питания: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олочнокислые бактерии сквашивают свежее молоко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0" name="Содержимое 6" descr="P8174944.jpg"/>
          <p:cNvPicPr/>
          <p:nvPr/>
        </p:nvPicPr>
        <p:blipFill>
          <a:blip r:embed="rId1"/>
          <a:stretch/>
        </p:blipFill>
        <p:spPr>
          <a:xfrm>
            <a:off x="2643120" y="2090520"/>
            <a:ext cx="3357360" cy="44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водят к порче продуктов питания: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рожжи приводят к брожению и закисанию соков и плодов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3" name="Содержимое 5" descr="609.jpg"/>
          <p:cNvPicPr/>
          <p:nvPr/>
        </p:nvPicPr>
        <p:blipFill>
          <a:blip r:embed="rId1"/>
          <a:stretch/>
        </p:blipFill>
        <p:spPr>
          <a:xfrm>
            <a:off x="2000160" y="2428920"/>
            <a:ext cx="5357520" cy="40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дукты покрываются плесенью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6" name="Содержимое 6" descr="Botrytis_cinerea_1_JS20040705.jpg"/>
          <p:cNvPicPr/>
          <p:nvPr/>
        </p:nvPicPr>
        <p:blipFill>
          <a:blip r:embed="rId1"/>
          <a:stretch/>
        </p:blipFill>
        <p:spPr>
          <a:xfrm>
            <a:off x="2214720" y="1714320"/>
            <a:ext cx="5111280" cy="427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C:\Users\Дом\Pictures\22229.jpg"/>
          <p:cNvPicPr/>
          <p:nvPr/>
        </p:nvPicPr>
        <p:blipFill>
          <a:blip r:embed="rId1"/>
          <a:stretch/>
        </p:blipFill>
        <p:spPr>
          <a:xfrm>
            <a:off x="4714920" y="3286080"/>
            <a:ext cx="4214520" cy="3396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Дом\Pictures\iCADGUW4A.jpg"/>
          <p:cNvPicPr/>
          <p:nvPr/>
        </p:nvPicPr>
        <p:blipFill>
          <a:blip r:embed="rId2"/>
          <a:stretch/>
        </p:blipFill>
        <p:spPr>
          <a:xfrm>
            <a:off x="214200" y="3500280"/>
            <a:ext cx="2999880" cy="2999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71424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Franklin Gothic Demi"/>
              </a:rPr>
              <a:t>Чтобы обезопасить себя от вредных бактерий и подружиться с полезными нужно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28400" y="135720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ыть руки перед едой и после возвращения домой откуда бы то ни было;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ыть овощи и фрукты;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следить за сроками годности продуктов;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в период эпидемий ограничивать контакт с возможными носителями инфекци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1" name="Picture 3" descr="C:\Users\Дом\Pictures\Beauty-Kitchen-6.jpg"/>
          <p:cNvPicPr/>
          <p:nvPr/>
        </p:nvPicPr>
        <p:blipFill>
          <a:blip r:embed="rId3"/>
          <a:stretch/>
        </p:blipFill>
        <p:spPr>
          <a:xfrm>
            <a:off x="1785960" y="4000680"/>
            <a:ext cx="3762000" cy="250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357760" cy="60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ЛИТЕРАТУРА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vnssr.my1.ru/news/ljudi_protiv_bakterij_mediki_proigryvajut/2011-06-19-2343 </a:t>
            </a:r>
            <a:br>
              <a:rPr sz="1600"/>
            </a:b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:/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pavlonews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.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info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news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categ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_4/31166.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ml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http://arbyz.com/post.php?cat=22&amp;mir=9319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zeftera.ru/tag/rany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home-edu.ru/user/uatml/00000540/rot/tolstyj.htm?page=print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http://www.zakvaska.in.ua/posts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sutno.ru/2009-11-14-19-27-29/870-recipe-for-yeast-dough.html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ed3.ru/vlogenie/10/11.php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zahystroslyn.com.ua/ru/tag/ximiya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findmapplaces.com/9393423_силосные+ямы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vedomosti.ru/newsline/2009/10/05/2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pressfoto.ru/photo.html?p_id=191024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oman.mobus.com/sec/mednews?order=popular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povary.com/page/63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cosmoisida.ru/zdorove/190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vostok.spb.ru/catalog64/models65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batfx.com/lofiversion/index.php/t1103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adlingercys.livejournal.com/140521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sml52.ru/sml/fiziko-mehanicheskie-svoystva/antiseptichnost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phtiziatr.ru/news/?pag=114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newsland.ru/index/news/cat/37/ord/9/tag/0/page/264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8a.ru/print/23532.php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ribalych.ru/2010/11/22/obshhie-svedeniya-o-bakteriyax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allwomens.ru/5541-kakie-byvayut-poleznye-bakterii.html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knowbiology.ru/mikroorganizmi/poleznye--bakterii.html</a:t>
            </a:r>
            <a:br>
              <a:rPr sz="1200"/>
            </a:br>
            <a:br>
              <a:rPr sz="1400"/>
            </a:b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400600" cy="20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терии - мельчайшие, микроскопической величины организмы, принадлежащие к отдельному царству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2960" y="200016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 форме различают бактерии шаровидные и палочковид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8" name="Содержимое 6" descr="бактер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3500280"/>
            <a:ext cx="3857400" cy="2561760"/>
          </a:xfrm>
          <a:prstGeom prst="rect">
            <a:avLst/>
          </a:prstGeom>
          <a:ln w="9525">
            <a:noFill/>
          </a:ln>
        </p:spPr>
      </p:pic>
      <p:pic>
        <p:nvPicPr>
          <p:cNvPr id="179" name="Рисунок 7" descr="Полезные  бактерии"/>
          <p:cNvPicPr/>
          <p:nvPr/>
        </p:nvPicPr>
        <p:blipFill>
          <a:blip r:embed="rId3"/>
          <a:stretch/>
        </p:blipFill>
        <p:spPr>
          <a:xfrm>
            <a:off x="5286240" y="3143160"/>
            <a:ext cx="3329640" cy="332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240" cy="136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терии бывают неподвижные и подвижные  (активно передвигающиеся при помощи жгутиков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Содержимое 6" descr="fee22c7023124124e303f817cce6e148_nfee22c7023124124e303f817cce6e148.jpg"/>
          <p:cNvPicPr/>
          <p:nvPr/>
        </p:nvPicPr>
        <p:blipFill>
          <a:blip r:embed="rId1"/>
          <a:stretch/>
        </p:blipFill>
        <p:spPr>
          <a:xfrm>
            <a:off x="457200" y="2570760"/>
            <a:ext cx="4039920" cy="315900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9" descr="ecoli.jpg"/>
          <p:cNvPicPr/>
          <p:nvPr/>
        </p:nvPicPr>
        <p:blipFill>
          <a:blip r:embed="rId2"/>
          <a:stretch/>
        </p:blipFill>
        <p:spPr>
          <a:xfrm>
            <a:off x="5044680" y="2174760"/>
            <a:ext cx="3241800" cy="395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04348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ктерии бывают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8571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лез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85716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пас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Содержимое 10" descr="1363-Meyveler.jpg"/>
          <p:cNvPicPr/>
          <p:nvPr/>
        </p:nvPicPr>
        <p:blipFill>
          <a:blip r:embed="rId1"/>
          <a:stretch/>
        </p:blipFill>
        <p:spPr>
          <a:xfrm>
            <a:off x="214200" y="1500120"/>
            <a:ext cx="4029480" cy="302220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6" descr="i.jpg"/>
          <p:cNvPicPr/>
          <p:nvPr/>
        </p:nvPicPr>
        <p:blipFill>
          <a:blip r:embed="rId2"/>
          <a:stretch/>
        </p:blipFill>
        <p:spPr>
          <a:xfrm>
            <a:off x="857160" y="3000240"/>
            <a:ext cx="2857320" cy="3428640"/>
          </a:xfrm>
          <a:prstGeom prst="rect">
            <a:avLst/>
          </a:prstGeom>
          <a:ln w="0">
            <a:noFill/>
          </a:ln>
        </p:spPr>
      </p:pic>
      <p:pic>
        <p:nvPicPr>
          <p:cNvPr id="188" name="Содержимое 13" descr="genericwarning.jpg"/>
          <p:cNvPicPr/>
          <p:nvPr/>
        </p:nvPicPr>
        <p:blipFill>
          <a:blip r:embed="rId3"/>
          <a:stretch/>
        </p:blipFill>
        <p:spPr>
          <a:xfrm>
            <a:off x="4714920" y="1500120"/>
            <a:ext cx="4041360" cy="354276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7" descr="iCAW8CVZS.jpg"/>
          <p:cNvPicPr/>
          <p:nvPr/>
        </p:nvPicPr>
        <p:blipFill>
          <a:blip r:embed="rId4"/>
          <a:stretch/>
        </p:blipFill>
        <p:spPr>
          <a:xfrm>
            <a:off x="4572000" y="3071880"/>
            <a:ext cx="4041360" cy="3044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Содержимое 4" descr="4desktop_ru_Klenoviy_listok_1152_4814.jpg"/>
          <p:cNvPicPr/>
          <p:nvPr/>
        </p:nvPicPr>
        <p:blipFill>
          <a:blip r:embed="rId1"/>
          <a:stretch/>
        </p:blipFill>
        <p:spPr>
          <a:xfrm>
            <a:off x="2143080" y="2643120"/>
            <a:ext cx="5111280" cy="3833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9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руговорот веществ происходит с участием бактерий: если бы эти маленькие труженики однажды исчезли, планета очень быстро оказалась бы завалена остатками отмерших растений и погибших животных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9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исание молока в разнообразные кисломолочные продукты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5" name="Содержимое 8" descr="main_big.jpg"/>
          <p:cNvPicPr/>
          <p:nvPr/>
        </p:nvPicPr>
        <p:blipFill>
          <a:blip r:embed="rId1"/>
          <a:stretch/>
        </p:blipFill>
        <p:spPr>
          <a:xfrm>
            <a:off x="1750320" y="1998720"/>
            <a:ext cx="6257520" cy="39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сделали хлеб из дрожжевого теста пышным, лучше пропекаемым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" name="Содержимое 7" descr="bread-dough-rising2.jpg"/>
          <p:cNvPicPr/>
          <p:nvPr/>
        </p:nvPicPr>
        <p:blipFill>
          <a:blip r:embed="rId1"/>
          <a:stretch/>
        </p:blipFill>
        <p:spPr>
          <a:xfrm>
            <a:off x="500040" y="1857240"/>
            <a:ext cx="4000320" cy="2999880"/>
          </a:xfrm>
          <a:prstGeom prst="rect">
            <a:avLst/>
          </a:prstGeom>
          <a:ln w="0">
            <a:noFill/>
          </a:ln>
        </p:spPr>
      </p:pic>
      <p:pic>
        <p:nvPicPr>
          <p:cNvPr id="199" name="Содержимое 5" descr="3286.jpg"/>
          <p:cNvPicPr/>
          <p:nvPr/>
        </p:nvPicPr>
        <p:blipFill>
          <a:blip r:embed="rId2"/>
          <a:stretch/>
        </p:blipFill>
        <p:spPr>
          <a:xfrm>
            <a:off x="4786200" y="3308760"/>
            <a:ext cx="4196520" cy="327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ез бактерий не было бы маринованных овощей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2" name="Содержимое 6" descr="getImage171.jpg"/>
          <p:cNvPicPr/>
          <p:nvPr/>
        </p:nvPicPr>
        <p:blipFill>
          <a:blip r:embed="rId1"/>
          <a:stretch/>
        </p:blipFill>
        <p:spPr>
          <a:xfrm>
            <a:off x="2286000" y="1714320"/>
            <a:ext cx="4959720" cy="456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грономы используют бактериальные препараты для борьбы с болезнями и вредителями культурных растений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Содержимое 5" descr="untitled.bmp"/>
          <p:cNvPicPr/>
          <p:nvPr/>
        </p:nvPicPr>
        <p:blipFill>
          <a:blip r:embed="rId1"/>
          <a:stretch/>
        </p:blipFill>
        <p:spPr>
          <a:xfrm>
            <a:off x="1785960" y="2357280"/>
            <a:ext cx="6103800" cy="39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Props1.xml><?xml version="1.0" encoding="utf-8"?>
<ds:datastoreItem xmlns:ds="http://schemas.openxmlformats.org/officeDocument/2006/customXml" ds:itemID="{EED2AD17-0933-4FEA-80AE-39DDD5107638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TP102609783_template</Template>
  <TotalTime>234</TotalTime>
  <Application>LibreOffice/7.4.7.2$Linux_X86_64 LibreOffice_project/40$Build-2</Application>
  <AppVersion>15.0000</AppVersion>
  <Words>625</Words>
  <Paragraphs>12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6:05:30Z</dcterms:created>
  <dc:creator>Дом</dc:creator>
  <dc:description/>
  <dc:language>en-US</dc:language>
  <cp:lastModifiedBy>LEGION2</cp:lastModifiedBy>
  <dcterms:modified xsi:type="dcterms:W3CDTF">2015-04-28T07:36:08Z</dcterms:modified>
  <cp:revision>41</cp:revision>
  <dc:subject/>
  <dc:title>ЗАГОЛОВОК 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8</vt:r8>
  </property>
  <property fmtid="{D5CDD505-2E9C-101B-9397-08002B2CF9AE}" pid="3" name="PresentationFormat">
    <vt:lpwstr>Екран (4:3)</vt:lpwstr>
  </property>
  <property fmtid="{D5CDD505-2E9C-101B-9397-08002B2CF9AE}" pid="4" name="Slides">
    <vt:r8>18</vt:r8>
  </property>
  <property fmtid="{D5CDD505-2E9C-101B-9397-08002B2CF9AE}" pid="5" name="_TemplateID">
    <vt:lpwstr>TC026097849991</vt:lpwstr>
  </property>
</Properties>
</file>