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0.gif" ContentType="image/gif"/>
  <Override PartName="/ppt/media/image13.png" ContentType="image/png"/>
  <Override PartName="/ppt/media/image34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9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28.jpeg" ContentType="image/jpeg"/>
  <Override PartName="/ppt/media/image51.jpeg" ContentType="image/jpeg"/>
  <Override PartName="/ppt/media/image11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9D81-F092-4372-90B2-08733B0904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DisneyPark"/>
              </a:rPr>
              <a:t>Декоративные</a:t>
            </a:r>
            <a:r>
              <a:rPr b="1" lang="en-US" sz="1200" spc="-1" strike="noStrike">
                <a:solidFill>
                  <a:srgbClr val="ffffff"/>
                </a:solidFill>
                <a:latin typeface="DisneyPark"/>
              </a:rPr>
              <a:t> </a:t>
            </a:r>
            <a:r>
              <a:rPr b="1" lang="uk-UA" sz="1200" spc="-1" strike="noStrike">
                <a:solidFill>
                  <a:srgbClr val="ffffff"/>
                </a:solidFill>
                <a:latin typeface="DisneyPark"/>
              </a:rPr>
              <a:t>соб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8AC6-6A8D-4B95-9782-4A929BED0A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Йоркширский те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Йоркширский терьер обладает длинной шерстью - длина, которой намного превышает высоту самого йо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Йоркширский терьер очень аристократичен, уверен, горд. Прекрасно подходит людям, желающим иметь отзывчивого друга; малый рост не помеха. А, кроме того, йоркшир очень сообразителен и обожает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2C2C-1F1F-4CEF-A814-203091AEAC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Heinrich Text"/>
              </a:rPr>
              <a:t>Фотогалере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Йоркширкский терьер</a:t>
            </a:r>
            <a:r>
              <a:rPr b="0" lang="en-US" sz="1200" spc="-1" strike="noStrike">
                <a:solidFill>
                  <a:srgbClr val="6113fd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1EAF-7737-4377-9F37-130E0EC014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1D40-766F-4B13-980F-0EB20D030C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Heinrich Text"/>
              </a:rPr>
              <a:t>Фотогалере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77E9-23D1-4C98-AFE5-1BB96983DA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Афганская борзая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70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 20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6FA5-A21B-402B-AF52-D42C4CE088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Афганская борзая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Афганская борзая – порода охотничьих собак, которых в последние годы всё чаще используют, компаньонов. Изысканный аристократический внешний вид, дружелюбие, преданность хозяину и членам семьи, легкость содержания в городских условиях делают афганов прекрасной семейной собакой. Требует постоянного общения с людьми, длительных прогулок и игр. Рабочие качества борзой сохран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21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5 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C1AC-30D7-4019-9EF7-71B18400E5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0E6A-B854-4508-A450-DBA04C115A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альтийская болонка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Мальтийская болонка - древняя порода декоративных собак, используемых в качестве компаньонов. В Западную Европу эти собаки были завезены из Средиземноморья участниками крестовых походов и до сих пор сохраняют популярность как домашние любимцы. Весёлые, жизнерадостные, игривые, они бывают раздражительными и капризными. Не всегда адекватны в компании маленьких детей - могут и укус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5373-9EB7-4C93-9468-E4D639838E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опс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32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 8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2DC7-4B68-45D6-8154-72DC26597E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Мопс — это маленькая, очень обаятельная декоративная собачка, которую издавна держала знать. Собака с живым, веселым и при этом, уравновешенным характером, благородная и привязчивая к хозяину, но с возрастом может стать ворчуном, особенно с посторонними. 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Первые упоминания о короткомордых собачках встречаются в рукописях Древнего Востока задолго до нашей э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Йоркширский терьер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 15 с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3 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ECFA-F3CC-48AF-9C8A-1DAB5B6C21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EDE6-3E58-43EF-857D-C7D3DC15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0F06-CAD8-4BDC-9EFA-DC9AA87C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1E84-E1A0-409F-AFB7-59F8D08B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719-9A32-49D2-AB51-59A3AA44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403-8C82-468C-B647-4B56C3CC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761-E7DC-41C4-BDF5-3BA7AE4A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C76-E929-4101-AE35-303E221A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B20-128B-4654-B2F4-2D2EFD55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283-FDEE-4298-A2EE-CFEDD0ED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B805-B47B-4FF2-814C-5FAF2900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FE5A-6037-43A8-9AD7-0CC1AB39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66A-7834-4011-9C09-356B9343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ED04-86B5-49DA-9A2F-FD2FA91B6D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0.gif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image" Target="../media/image36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10.gif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9.xml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5.xml"/><Relationship Id="rId8" Type="http://schemas.openxmlformats.org/officeDocument/2006/relationships/image" Target="../media/image1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" Target="slide2.xml"/><Relationship Id="rId7" Type="http://schemas.openxmlformats.org/officeDocument/2006/relationships/image" Target="../media/image10.gif"/><Relationship Id="rId8" Type="http://schemas.openxmlformats.org/officeDocument/2006/relationships/image" Target="../media/image11.jpeg"/><Relationship Id="rId9" Type="http://schemas.openxmlformats.org/officeDocument/2006/relationships/slide" Target="slide4.xml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slide" Target="slide3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" Target="slide2.xml"/><Relationship Id="rId8" Type="http://schemas.openxmlformats.org/officeDocument/2006/relationships/image" Target="../media/image10.gif"/><Relationship Id="rId9" Type="http://schemas.openxmlformats.org/officeDocument/2006/relationships/slide" Target="slide6.xml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12.png"/><Relationship Id="rId6" Type="http://schemas.openxmlformats.org/officeDocument/2006/relationships/slide" Target="slide5.xml"/><Relationship Id="rId7" Type="http://schemas.openxmlformats.org/officeDocument/2006/relationships/image" Target="../media/image13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" Target="slide2.xml"/><Relationship Id="rId6" Type="http://schemas.openxmlformats.org/officeDocument/2006/relationships/image" Target="../media/image10.gif"/><Relationship Id="rId7" Type="http://schemas.openxmlformats.org/officeDocument/2006/relationships/slide" Target="slide8.xml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12.png"/><Relationship Id="rId6" Type="http://schemas.openxmlformats.org/officeDocument/2006/relationships/slide" Target="slide7.xml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" Target="slide2.xml"/><Relationship Id="rId6" Type="http://schemas.openxmlformats.org/officeDocument/2006/relationships/image" Target="../media/image10.gif"/><Relationship Id="rId7" Type="http://schemas.openxmlformats.org/officeDocument/2006/relationships/slide" Target="slide10.xml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cee"/>
            </a:gs>
            <a:gs pos="100000">
              <a:srgbClr val="61b8e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09480" y="-100080"/>
            <a:ext cx="79948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DisneyPark"/>
              </a:rPr>
              <a:t>Декоративные</a:t>
            </a:r>
            <a:endParaRPr b="1" lang="en-US" sz="40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DisneyPark"/>
              <a:ea typeface="DisneyPark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2556000" y="5229360"/>
            <a:ext cx="3959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DisneyPark"/>
              </a:rPr>
              <a:t>собаки</a:t>
            </a:r>
            <a:endParaRPr b="1" lang="en-US" sz="40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DisneyPark"/>
              <a:ea typeface="DisneyPark"/>
            </a:endParaRPr>
          </a:p>
        </p:txBody>
      </p:sp>
      <p:pic>
        <p:nvPicPr>
          <p:cNvPr id="50" name="Picture 4" descr="i"/>
          <p:cNvPicPr/>
          <p:nvPr/>
        </p:nvPicPr>
        <p:blipFill>
          <a:blip r:embed="rId1"/>
          <a:stretch/>
        </p:blipFill>
        <p:spPr>
          <a:xfrm>
            <a:off x="3276720" y="1844640"/>
            <a:ext cx="2724120" cy="3240000"/>
          </a:xfrm>
          <a:prstGeom prst="rect">
            <a:avLst/>
          </a:prstGeom>
          <a:ln w="76320">
            <a:solidFill>
              <a:srgbClr val="4b4bc3"/>
            </a:solidFill>
            <a:miter/>
          </a:ln>
        </p:spPr>
      </p:pic>
      <p:sp>
        <p:nvSpPr>
          <p:cNvPr id="51" name="Oval 5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2" name="Oval 6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3" name="Oval 7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4" name="Oval 8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 advTm="10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14"/>
          <p:cNvSpPr txBox="1"/>
          <p:nvPr/>
        </p:nvSpPr>
        <p:spPr>
          <a:xfrm>
            <a:off x="755640" y="692280"/>
            <a:ext cx="784872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cbb1"/>
                    </a:gs>
                    <a:gs pos="50000">
                      <a:srgbClr val="ffffff"/>
                    </a:gs>
                    <a:gs pos="100000">
                      <a:srgbClr val="ffcbb1"/>
                    </a:gs>
                  </a:gsLst>
                  <a:lin ang="0"/>
                </a:gradFill>
                <a:latin typeface="Medieval"/>
              </a:rPr>
              <a:t>Йоркширский терьер</a:t>
            </a:r>
            <a:endParaRPr b="0" lang="en-US" sz="54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cbb1"/>
                  </a:gs>
                  <a:gs pos="50000">
                    <a:srgbClr val="ffffff"/>
                  </a:gs>
                  <a:gs pos="100000">
                    <a:srgbClr val="ffcbb1"/>
                  </a:gs>
                </a:gsLst>
                <a:lin ang="0"/>
              </a:gradFill>
              <a:latin typeface="Medieval"/>
              <a:ea typeface="Mediev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788000" y="1660320"/>
            <a:ext cx="3959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Йоркширский терьер обладает длинной шерстью - длина, которой намного превышает высоту самого йорка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Йоркширский терьер очень аристократичен, уверен, горд. Прекрасно подходит людям, желающим иметь отзывчивого друга; малый рост не помеха. А, кроме того, йоркшир очень сообразителен и обожает детей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42" name="Picture 9" descr="737b2efa610e"/>
          <p:cNvPicPr/>
          <p:nvPr/>
        </p:nvPicPr>
        <p:blipFill>
          <a:blip r:embed="rId1"/>
          <a:stretch/>
        </p:blipFill>
        <p:spPr>
          <a:xfrm>
            <a:off x="1373040" y="1557360"/>
            <a:ext cx="3025800" cy="22701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43" name="Picture 4" descr="Йоркширский терьер"/>
          <p:cNvPicPr/>
          <p:nvPr/>
        </p:nvPicPr>
        <p:blipFill>
          <a:blip r:embed="rId2"/>
          <a:stretch/>
        </p:blipFill>
        <p:spPr>
          <a:xfrm>
            <a:off x="423720" y="4149720"/>
            <a:ext cx="3168720" cy="23763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44" name="Picture 12" descr="post-29-1101925933"/>
          <p:cNvPicPr/>
          <p:nvPr/>
        </p:nvPicPr>
        <p:blipFill>
          <a:blip r:embed="rId3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pu-em-bt3416-01"/>
          <p:cNvPicPr/>
          <p:nvPr/>
        </p:nvPicPr>
        <p:blipFill>
          <a:blip r:embed="rId4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pu-em-bt3416-01"/>
          <p:cNvPicPr/>
          <p:nvPr/>
        </p:nvPicPr>
        <p:blipFill>
          <a:blip r:embed="rId5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efc"/>
            </a:gs>
            <a:gs pos="100000">
              <a:srgbClr val="5d82f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10"/>
          <p:cNvSpPr txBox="1"/>
          <p:nvPr/>
        </p:nvSpPr>
        <p:spPr>
          <a:xfrm>
            <a:off x="3708360" y="5661000"/>
            <a:ext cx="162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опс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1979640" y="4572000"/>
            <a:ext cx="525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0" name="WordArt 10"/>
          <p:cNvSpPr txBox="1"/>
          <p:nvPr/>
        </p:nvSpPr>
        <p:spPr>
          <a:xfrm>
            <a:off x="1403280" y="3357720"/>
            <a:ext cx="63327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1187280" y="2278080"/>
            <a:ext cx="684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2" name="WordArt 8"/>
          <p:cNvSpPr txBox="1"/>
          <p:nvPr/>
        </p:nvSpPr>
        <p:spPr>
          <a:xfrm>
            <a:off x="1547640" y="847800"/>
            <a:ext cx="6164280" cy="1622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28440">
                  <a:solidFill>
                    <a:srgbClr val="0033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einrich Text"/>
              </a:rPr>
              <a:t>Фотогалерея</a:t>
            </a:r>
            <a:endParaRPr b="0" lang="en-US" sz="9600" spc="1" strike="noStrike">
              <a:ln w="28440">
                <a:solidFill>
                  <a:srgbClr val="0033cc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einrich Text"/>
              <a:ea typeface="Heinrich Text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093080" y="119700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DisneyPar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58" name="Picture 22" descr="pu-em-bt3416-01"/>
          <p:cNvPicPr/>
          <p:nvPr/>
        </p:nvPicPr>
        <p:blipFill>
          <a:blip r:embed="rId3"/>
          <a:stretch/>
        </p:blipFill>
        <p:spPr>
          <a:xfrm>
            <a:off x="3995640" y="1066680"/>
            <a:ext cx="893880" cy="14065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edg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0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6e43"/>
            </a:gs>
            <a:gs pos="5000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2e900690b1f0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539640" y="476280"/>
            <a:ext cx="3616560" cy="25653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1" name="Picture 5" descr="1202837590_tamara_f1x600"/>
          <p:cNvPicPr/>
          <p:nvPr/>
        </p:nvPicPr>
        <p:blipFill>
          <a:blip r:embed="rId2">
            <a:lum bright="8000"/>
          </a:blip>
          <a:srcRect l="0" t="4701" r="995" b="10953"/>
          <a:stretch/>
        </p:blipFill>
        <p:spPr>
          <a:xfrm>
            <a:off x="4859280" y="477720"/>
            <a:ext cx="3024360" cy="25923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2" name="Picture 8" descr="314224602f61"/>
          <p:cNvPicPr/>
          <p:nvPr/>
        </p:nvPicPr>
        <p:blipFill>
          <a:blip r:embed="rId3">
            <a:lum bright="8000"/>
          </a:blip>
          <a:srcRect l="0" t="0" r="0" b="9942"/>
          <a:stretch/>
        </p:blipFill>
        <p:spPr>
          <a:xfrm>
            <a:off x="541440" y="3726000"/>
            <a:ext cx="3612960" cy="26445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3" name="Picture 9" descr="bab31a64c634"/>
          <p:cNvPicPr/>
          <p:nvPr/>
        </p:nvPicPr>
        <p:blipFill>
          <a:blip r:embed="rId4">
            <a:lum bright="8000"/>
          </a:blip>
          <a:srcRect l="6750" t="0" r="4606" b="-1543"/>
          <a:stretch/>
        </p:blipFill>
        <p:spPr>
          <a:xfrm>
            <a:off x="4861080" y="3727440"/>
            <a:ext cx="3022560" cy="26542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4" name="Picture 6" descr="CABR99CQ"/>
          <p:cNvPicPr/>
          <p:nvPr/>
        </p:nvPicPr>
        <p:blipFill>
          <a:blip r:embed="rId5"/>
          <a:stretch/>
        </p:blipFill>
        <p:spPr>
          <a:xfrm>
            <a:off x="3708360" y="2525760"/>
            <a:ext cx="1581120" cy="169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post-29-1101925933"/>
          <p:cNvPicPr/>
          <p:nvPr/>
        </p:nvPicPr>
        <p:blipFill>
          <a:blip r:embed="rId6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heel spokes="8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77f9577b33ff"/>
          <p:cNvPicPr/>
          <p:nvPr/>
        </p:nvPicPr>
        <p:blipFill>
          <a:blip r:embed="rId1"/>
          <a:srcRect l="7429" t="4189" r="10116" b="2348"/>
          <a:stretch/>
        </p:blipFill>
        <p:spPr>
          <a:xfrm rot="1308600">
            <a:off x="5248080" y="3927600"/>
            <a:ext cx="3095640" cy="226224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68" name="Picture 7" descr="1126732506-689"/>
          <p:cNvPicPr/>
          <p:nvPr/>
        </p:nvPicPr>
        <p:blipFill>
          <a:blip r:embed="rId2"/>
          <a:stretch/>
        </p:blipFill>
        <p:spPr>
          <a:xfrm rot="20303400">
            <a:off x="448920" y="3957120"/>
            <a:ext cx="3070080" cy="230220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69" name="Picture 9" descr="m105"/>
          <p:cNvPicPr/>
          <p:nvPr/>
        </p:nvPicPr>
        <p:blipFill>
          <a:blip r:embed="rId3"/>
          <a:srcRect l="11132" t="9941" r="10852" b="10866"/>
          <a:stretch/>
        </p:blipFill>
        <p:spPr>
          <a:xfrm rot="20429400">
            <a:off x="5292720" y="555120"/>
            <a:ext cx="3043080" cy="236880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0" name="Picture 10" descr="71718_800_600"/>
          <p:cNvPicPr/>
          <p:nvPr/>
        </p:nvPicPr>
        <p:blipFill>
          <a:blip r:embed="rId4"/>
          <a:srcRect l="4372" t="3312" r="3993" b="4975"/>
          <a:stretch/>
        </p:blipFill>
        <p:spPr>
          <a:xfrm rot="1266000">
            <a:off x="394920" y="574560"/>
            <a:ext cx="3130560" cy="234972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1" name="Picture 11" descr="10c979437e15"/>
          <p:cNvPicPr/>
          <p:nvPr/>
        </p:nvPicPr>
        <p:blipFill>
          <a:blip r:embed="rId5"/>
          <a:srcRect l="0" t="5140" r="-1067" b="5307"/>
          <a:stretch/>
        </p:blipFill>
        <p:spPr>
          <a:xfrm>
            <a:off x="3267000" y="2276640"/>
            <a:ext cx="2241720" cy="237636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2" name="Picture 12" descr="post-29-1101925933"/>
          <p:cNvPicPr/>
          <p:nvPr/>
        </p:nvPicPr>
        <p:blipFill>
          <a:blip r:embed="rId6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>
    <p:split dir="out" orient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63cb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image00006"/>
          <p:cNvPicPr/>
          <p:nvPr/>
        </p:nvPicPr>
        <p:blipFill>
          <a:blip r:embed="rId1"/>
          <a:srcRect l="0" t="6532" r="-1620" b="7887"/>
          <a:stretch/>
        </p:blipFill>
        <p:spPr>
          <a:xfrm rot="20366400">
            <a:off x="585720" y="476280"/>
            <a:ext cx="2330640" cy="2951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5" name="Picture 7" descr="mes_4242"/>
          <p:cNvPicPr/>
          <p:nvPr/>
        </p:nvPicPr>
        <p:blipFill>
          <a:blip r:embed="rId2"/>
          <a:srcRect l="0" t="0" r="5295" b="25565"/>
          <a:stretch/>
        </p:blipFill>
        <p:spPr>
          <a:xfrm>
            <a:off x="1116000" y="4076640"/>
            <a:ext cx="2016000" cy="2546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6" name="Picture 10" descr="%C8%E7%EE%E1%F0%E0%E6%E5%ED%E8%E5%20693(3)"/>
          <p:cNvPicPr/>
          <p:nvPr/>
        </p:nvPicPr>
        <p:blipFill>
          <a:blip r:embed="rId3"/>
          <a:srcRect l="17718" t="2084" r="7382" b="3960"/>
          <a:stretch/>
        </p:blipFill>
        <p:spPr>
          <a:xfrm rot="1456800">
            <a:off x="6153120" y="468000"/>
            <a:ext cx="2379600" cy="30225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7" name="Picture 11" descr="мопс3"/>
          <p:cNvPicPr/>
          <p:nvPr/>
        </p:nvPicPr>
        <p:blipFill>
          <a:blip r:embed="rId4"/>
          <a:srcRect l="13276" t="0" r="12058" b="927"/>
          <a:stretch/>
        </p:blipFill>
        <p:spPr>
          <a:xfrm>
            <a:off x="5724360" y="4076640"/>
            <a:ext cx="2108520" cy="2519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8" name="Picture 12" descr="153"/>
          <p:cNvPicPr/>
          <p:nvPr/>
        </p:nvPicPr>
        <p:blipFill>
          <a:blip r:embed="rId5"/>
          <a:srcRect l="0" t="0" r="0" b="9295"/>
          <a:stretch/>
        </p:blipFill>
        <p:spPr>
          <a:xfrm>
            <a:off x="2941560" y="2133720"/>
            <a:ext cx="2951280" cy="21063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9" name="Picture 15" descr="pu-em-bt2394-01"/>
          <p:cNvPicPr/>
          <p:nvPr/>
        </p:nvPicPr>
        <p:blipFill>
          <a:blip r:embed="rId6"/>
          <a:stretch/>
        </p:blipFill>
        <p:spPr>
          <a:xfrm>
            <a:off x="3741840" y="330120"/>
            <a:ext cx="1369800" cy="132552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80" name="Picture 16" descr="pu-em-i1169-01"/>
          <p:cNvPicPr/>
          <p:nvPr/>
        </p:nvPicPr>
        <p:blipFill>
          <a:blip r:embed="rId7"/>
          <a:stretch/>
        </p:blipFill>
        <p:spPr>
          <a:xfrm>
            <a:off x="3743280" y="4672080"/>
            <a:ext cx="1405080" cy="17096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81" name="Picture 22" descr="post-29-1101925933"/>
          <p:cNvPicPr/>
          <p:nvPr/>
        </p:nvPicPr>
        <p:blipFill>
          <a:blip r:embed="rId8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31"/>
            </a:gs>
            <a:gs pos="100000">
              <a:srgbClr val="fbb94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127"/>
          <p:cNvPicPr/>
          <p:nvPr/>
        </p:nvPicPr>
        <p:blipFill>
          <a:blip r:embed="rId1">
            <a:lum contrast="30000"/>
          </a:blip>
          <a:stretch/>
        </p:blipFill>
        <p:spPr>
          <a:xfrm rot="714600">
            <a:off x="5227560" y="3933720"/>
            <a:ext cx="2811600" cy="22320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4" name="Picture 5" descr="706e93dc6ecd"/>
          <p:cNvPicPr/>
          <p:nvPr/>
        </p:nvPicPr>
        <p:blipFill>
          <a:blip r:embed="rId2"/>
          <a:srcRect l="6063" t="0" r="0" b="0"/>
          <a:stretch/>
        </p:blipFill>
        <p:spPr>
          <a:xfrm rot="734400">
            <a:off x="6477120" y="475920"/>
            <a:ext cx="2233440" cy="316872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5" name="Picture 8" descr="dbdfaad6bf74"/>
          <p:cNvPicPr/>
          <p:nvPr/>
        </p:nvPicPr>
        <p:blipFill>
          <a:blip r:embed="rId3"/>
          <a:stretch/>
        </p:blipFill>
        <p:spPr>
          <a:xfrm rot="20748000">
            <a:off x="480960" y="476280"/>
            <a:ext cx="2263680" cy="32130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6" name="Picture 11" descr="afb2"/>
          <p:cNvPicPr/>
          <p:nvPr/>
        </p:nvPicPr>
        <p:blipFill>
          <a:blip r:embed="rId4"/>
          <a:srcRect l="6026" t="0" r="-73" b="4605"/>
          <a:stretch/>
        </p:blipFill>
        <p:spPr>
          <a:xfrm>
            <a:off x="3470400" y="189000"/>
            <a:ext cx="2253960" cy="316872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7" name="Picture 12" descr="post-29-1101925933"/>
          <p:cNvPicPr/>
          <p:nvPr/>
        </p:nvPicPr>
        <p:blipFill>
          <a:blip r:embed="rId5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460914778"/>
          <p:cNvPicPr/>
          <p:nvPr/>
        </p:nvPicPr>
        <p:blipFill>
          <a:blip r:embed="rId6"/>
          <a:srcRect l="0" t="6000" r="4777" b="2542"/>
          <a:stretch/>
        </p:blipFill>
        <p:spPr>
          <a:xfrm rot="20716200">
            <a:off x="1247400" y="4005360"/>
            <a:ext cx="2933640" cy="225576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edg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efc"/>
            </a:gs>
            <a:gs pos="100000">
              <a:srgbClr val="5d82f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10"/>
          <p:cNvSpPr txBox="1"/>
          <p:nvPr/>
        </p:nvSpPr>
        <p:spPr>
          <a:xfrm>
            <a:off x="2649600" y="4653000"/>
            <a:ext cx="143964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опс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pic>
        <p:nvPicPr>
          <p:cNvPr id="57" name="Picture 12" descr="афган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6320" y="1484280"/>
            <a:ext cx="1366920" cy="1216080"/>
          </a:xfrm>
          <a:prstGeom prst="rect">
            <a:avLst/>
          </a:prstGeom>
          <a:ln w="57240">
            <a:solidFill>
              <a:srgbClr val="2200b0"/>
            </a:solidFill>
            <a:miter/>
          </a:ln>
        </p:spPr>
      </p:pic>
      <p:pic>
        <p:nvPicPr>
          <p:cNvPr id="58" name="Picture 13" descr="CAQZSL2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08720" y="2995560"/>
            <a:ext cx="1028880" cy="1440000"/>
          </a:xfrm>
          <a:prstGeom prst="rect">
            <a:avLst/>
          </a:prstGeom>
          <a:ln w="57240">
            <a:solidFill>
              <a:srgbClr val="342ab4"/>
            </a:solidFill>
            <a:miter/>
          </a:ln>
        </p:spPr>
      </p:pic>
      <p:pic>
        <p:nvPicPr>
          <p:cNvPr id="59" name="Picture 14" descr="мопс3">
            <a:hlinkClick r:id="rId5" action="ppaction://hlinksldjump"/>
          </p:cNvPr>
          <p:cNvPicPr/>
          <p:nvPr/>
        </p:nvPicPr>
        <p:blipFill>
          <a:blip r:embed="rId6"/>
          <a:srcRect l="8365" t="0" r="8365" b="5987"/>
          <a:stretch/>
        </p:blipFill>
        <p:spPr>
          <a:xfrm>
            <a:off x="757080" y="4437000"/>
            <a:ext cx="1295640" cy="1103400"/>
          </a:xfrm>
          <a:prstGeom prst="rect">
            <a:avLst/>
          </a:prstGeom>
          <a:ln w="57240">
            <a:solidFill>
              <a:srgbClr val="4b2fc3"/>
            </a:solidFill>
            <a:miter/>
          </a:ln>
        </p:spPr>
      </p:pic>
      <p:pic>
        <p:nvPicPr>
          <p:cNvPr id="60" name="Picture 15" descr="i">
            <a:hlinkClick r:id="rId7" action="ppaction://hlinksldjump"/>
          </p:cNvPr>
          <p:cNvPicPr/>
          <p:nvPr/>
        </p:nvPicPr>
        <p:blipFill>
          <a:blip r:embed="rId8"/>
          <a:srcRect l="0" t="7000" r="6461" b="10865"/>
          <a:stretch/>
        </p:blipFill>
        <p:spPr>
          <a:xfrm>
            <a:off x="7302600" y="258840"/>
            <a:ext cx="1035000" cy="1081080"/>
          </a:xfrm>
          <a:prstGeom prst="rect">
            <a:avLst/>
          </a:prstGeom>
          <a:ln w="57240">
            <a:solidFill>
              <a:srgbClr val="0000bc"/>
            </a:solidFill>
            <a:miter/>
          </a:ln>
        </p:spPr>
      </p:pic>
      <p:sp>
        <p:nvSpPr>
          <p:cNvPr id="61" name="WordArt 10"/>
          <p:cNvSpPr txBox="1"/>
          <p:nvPr/>
        </p:nvSpPr>
        <p:spPr>
          <a:xfrm>
            <a:off x="2649600" y="1628640"/>
            <a:ext cx="403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2" name="WordArt 10"/>
          <p:cNvSpPr txBox="1"/>
          <p:nvPr/>
        </p:nvSpPr>
        <p:spPr>
          <a:xfrm>
            <a:off x="704880" y="260280"/>
            <a:ext cx="597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684360" y="3068640"/>
            <a:ext cx="59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4" name="WordArt 38"/>
          <p:cNvSpPr txBox="1"/>
          <p:nvPr/>
        </p:nvSpPr>
        <p:spPr>
          <a:xfrm>
            <a:off x="2700360" y="5734080"/>
            <a:ext cx="424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5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8440">
                  <a:solidFill>
                    <a:srgbClr val="0033cc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Heinrich Text"/>
              </a:rPr>
              <a:t>Фотогалерея</a:t>
            </a:r>
            <a:endParaRPr b="0" lang="en-US" sz="4400" spc="1" strike="noStrike">
              <a:ln w="28440">
                <a:solidFill>
                  <a:srgbClr val="0033cc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Heinrich Text"/>
              <a:ea typeface="Heinrich Text"/>
            </a:endParaRPr>
          </a:p>
        </p:txBody>
      </p:sp>
      <p:sp>
        <p:nvSpPr>
          <p:cNvPr id="65" name="Oval 44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6" name="Oval 45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7" name="Oval 46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8" name="Oval 47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5d"/>
            </a:gs>
            <a:gs pos="100000">
              <a:srgbClr val="fcc1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5219640" y="4869000"/>
            <a:ext cx="165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72" name="Picture 14" descr="79d1b206047f"/>
          <p:cNvPicPr/>
          <p:nvPr/>
        </p:nvPicPr>
        <p:blipFill>
          <a:blip r:embed="rId1"/>
          <a:srcRect l="0" t="6851" r="1393" b="6851"/>
          <a:stretch/>
        </p:blipFill>
        <p:spPr>
          <a:xfrm>
            <a:off x="6681960" y="1628640"/>
            <a:ext cx="1635120" cy="2016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73" name="Picture 15" descr="img75990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395280" y="1628640"/>
            <a:ext cx="2665440" cy="19987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74" name="Picture 16" descr="601fc82127ab"/>
          <p:cNvPicPr/>
          <p:nvPr/>
        </p:nvPicPr>
        <p:blipFill>
          <a:blip r:embed="rId3"/>
          <a:stretch/>
        </p:blipFill>
        <p:spPr>
          <a:xfrm>
            <a:off x="395280" y="4149720"/>
            <a:ext cx="2664000" cy="199548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75" name="WordArt 17"/>
          <p:cNvSpPr txBox="1"/>
          <p:nvPr/>
        </p:nvSpPr>
        <p:spPr>
          <a:xfrm>
            <a:off x="684360" y="692280"/>
            <a:ext cx="784836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edieval"/>
              </a:rPr>
              <a:t>Афганская борзая</a:t>
            </a:r>
            <a:endParaRPr b="0" lang="en-US" sz="5400" spc="1" strike="noStrike">
              <a:ln w="1908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edieval"/>
              <a:ea typeface="Mediev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4211640" y="4221000"/>
            <a:ext cx="266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924360" y="429264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70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 20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78" name="Picture 13" descr="post-29-110192593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Afghan_Hound"/>
          <p:cNvPicPr/>
          <p:nvPr/>
        </p:nvPicPr>
        <p:blipFill>
          <a:blip r:embed="rId8">
            <a:lum bright="14000"/>
          </a:blip>
          <a:stretch/>
        </p:blipFill>
        <p:spPr>
          <a:xfrm>
            <a:off x="3708360" y="1628640"/>
            <a:ext cx="2232000" cy="2016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80" name="Picture 18" descr="pu-em-bt3416-0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pu-em-bt3416-01"/>
          <p:cNvPicPr/>
          <p:nvPr/>
        </p:nvPicPr>
        <p:blipFill>
          <a:blip r:embed="rId11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7f231"/>
            </a:gs>
            <a:gs pos="100000">
              <a:srgbClr val="fbb94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4140360" y="1733400"/>
            <a:ext cx="4319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Афганская борзая – порода охотничьих собак, которых в последние годы всё чаще используют, компаньонов. Изысканный аристократический внешний вид, дружелюбие, преданность хозяину и членам семьи, легкость содержания в городских условиях делают афганов прекрасной семейной собакой. Требует постоянного общения с людьми, длительных прогулок и игр. Рабочие качества борзой сохранены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84" name="Picture 8" descr="18"/>
          <p:cNvPicPr/>
          <p:nvPr/>
        </p:nvPicPr>
        <p:blipFill>
          <a:blip r:embed="rId1"/>
          <a:stretch/>
        </p:blipFill>
        <p:spPr>
          <a:xfrm>
            <a:off x="1044720" y="1479600"/>
            <a:ext cx="2735280" cy="21654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85" name="Picture 10" descr="афган"/>
          <p:cNvPicPr/>
          <p:nvPr/>
        </p:nvPicPr>
        <p:blipFill>
          <a:blip r:embed="rId2"/>
          <a:stretch/>
        </p:blipFill>
        <p:spPr>
          <a:xfrm>
            <a:off x="395280" y="4076640"/>
            <a:ext cx="2808360" cy="2355840"/>
          </a:xfrm>
          <a:prstGeom prst="rect">
            <a:avLst/>
          </a:prstGeom>
          <a:ln w="57240">
            <a:solidFill>
              <a:srgbClr val="da8200"/>
            </a:solidFill>
            <a:miter/>
          </a:ln>
        </p:spPr>
      </p:pic>
      <p:pic>
        <p:nvPicPr>
          <p:cNvPr id="86" name="Picture 10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7"/>
          <p:cNvSpPr txBox="1"/>
          <p:nvPr/>
        </p:nvSpPr>
        <p:spPr>
          <a:xfrm>
            <a:off x="684360" y="692280"/>
            <a:ext cx="784836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Medieval"/>
              </a:rPr>
              <a:t>Афганская борзая</a:t>
            </a:r>
            <a:endParaRPr b="0" lang="en-US" sz="5400" spc="1" strike="noStrike">
              <a:ln w="19080">
                <a:solidFill>
                  <a:srgbClr val="8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Medieval"/>
              <a:ea typeface="Medieval"/>
            </a:endParaRPr>
          </a:p>
        </p:txBody>
      </p:sp>
      <p:pic>
        <p:nvPicPr>
          <p:cNvPr id="88" name="Picture 12" descr="pu-em-bt3416-01"/>
          <p:cNvPicPr/>
          <p:nvPr/>
        </p:nvPicPr>
        <p:blipFill>
          <a:blip r:embed="rId7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pu-em-bt3416-01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мальтийская болонка"/>
          <p:cNvPicPr/>
          <p:nvPr/>
        </p:nvPicPr>
        <p:blipFill>
          <a:blip r:embed="rId1"/>
          <a:stretch/>
        </p:blipFill>
        <p:spPr>
          <a:xfrm>
            <a:off x="3844800" y="1413000"/>
            <a:ext cx="1730520" cy="18716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2" name="Picture 6" descr="i"/>
          <p:cNvPicPr/>
          <p:nvPr/>
        </p:nvPicPr>
        <p:blipFill>
          <a:blip r:embed="rId2"/>
          <a:stretch/>
        </p:blipFill>
        <p:spPr>
          <a:xfrm rot="21030000">
            <a:off x="1042920" y="4220640"/>
            <a:ext cx="1697040" cy="20178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93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995640" y="429264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21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5 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754200" y="692280"/>
            <a:ext cx="792144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cc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edieval"/>
              </a:rPr>
              <a:t>Мальтийская болонка</a:t>
            </a:r>
            <a:endParaRPr b="0" lang="en-US" sz="5400" spc="1" strike="noStrike">
              <a:ln w="19080">
                <a:solidFill>
                  <a:srgbClr val="cc33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edieval"/>
              <a:ea typeface="Medieval"/>
            </a:endParaRPr>
          </a:p>
        </p:txBody>
      </p:sp>
      <p:pic>
        <p:nvPicPr>
          <p:cNvPr id="96" name="Picture 11" descr="bab31a64c634"/>
          <p:cNvPicPr/>
          <p:nvPr/>
        </p:nvPicPr>
        <p:blipFill>
          <a:blip r:embed="rId5">
            <a:lum bright="8000"/>
          </a:blip>
          <a:stretch/>
        </p:blipFill>
        <p:spPr>
          <a:xfrm rot="21016200">
            <a:off x="568440" y="1625400"/>
            <a:ext cx="2511360" cy="18842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7" name="Picture 12" descr="314224602f61"/>
          <p:cNvPicPr/>
          <p:nvPr/>
        </p:nvPicPr>
        <p:blipFill>
          <a:blip r:embed="rId6">
            <a:lum bright="8000"/>
          </a:blip>
          <a:stretch/>
        </p:blipFill>
        <p:spPr>
          <a:xfrm rot="424200">
            <a:off x="6340320" y="1557360"/>
            <a:ext cx="2552760" cy="18986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8" name="Picture 24" descr="post-29-110192593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pu-em-bt3416-0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9" descr="pu-em-bt3416-01"/>
          <p:cNvPicPr/>
          <p:nvPr/>
        </p:nvPicPr>
        <p:blipFill>
          <a:blip r:embed="rId11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diamond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96e43"/>
            </a:gs>
            <a:gs pos="5000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3922560" y="1773360"/>
            <a:ext cx="475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Мальтийская болонка - древняя порода декоративных собак, используемых в качестве компаньонов. В Западную Европу эти собаки были завезены из Средиземноморья участниками крестовых походов и до сих пор сохраняют популярность как домашние любимцы. Весёлые, жизнерадостные, игривые, они бывают раздражительными и капризными. Не всегда адекватны в компании маленьких детей - могут и укусить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03" name="Picture 8" descr="мб"/>
          <p:cNvPicPr/>
          <p:nvPr/>
        </p:nvPicPr>
        <p:blipFill>
          <a:blip r:embed="rId1"/>
          <a:stretch/>
        </p:blipFill>
        <p:spPr>
          <a:xfrm>
            <a:off x="1403280" y="1339920"/>
            <a:ext cx="2305080" cy="23050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04" name="Picture 7" descr="normal_hanito2"/>
          <p:cNvPicPr/>
          <p:nvPr/>
        </p:nvPicPr>
        <p:blipFill>
          <a:blip r:embed="rId2"/>
          <a:stretch/>
        </p:blipFill>
        <p:spPr>
          <a:xfrm>
            <a:off x="468360" y="3284640"/>
            <a:ext cx="2286000" cy="32400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05" name="Picture 12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pu-em-bt3416-01"/>
          <p:cNvPicPr/>
          <p:nvPr/>
        </p:nvPicPr>
        <p:blipFill>
          <a:blip r:embed="rId5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pu-em-bt3416-0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08" name="WordArt 9"/>
          <p:cNvSpPr txBox="1"/>
          <p:nvPr/>
        </p:nvSpPr>
        <p:spPr>
          <a:xfrm>
            <a:off x="754200" y="692280"/>
            <a:ext cx="792144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cc33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Medieval"/>
              </a:rPr>
              <a:t>Мальтийская болонка</a:t>
            </a:r>
            <a:endParaRPr b="0" lang="en-US" sz="5400" spc="1" strike="noStrike">
              <a:ln w="19080">
                <a:solidFill>
                  <a:srgbClr val="cc33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Medieval"/>
              <a:ea typeface="Mediev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diamond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cb97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851280" y="429264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32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 8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12" name="Picture 12" descr="f_2641989"/>
          <p:cNvPicPr/>
          <p:nvPr/>
        </p:nvPicPr>
        <p:blipFill>
          <a:blip r:embed="rId1"/>
          <a:srcRect l="0" t="0" r="19935" b="994"/>
          <a:stretch/>
        </p:blipFill>
        <p:spPr>
          <a:xfrm>
            <a:off x="395280" y="1671480"/>
            <a:ext cx="2305080" cy="19018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113" name="WordArt 14"/>
          <p:cNvSpPr txBox="1"/>
          <p:nvPr/>
        </p:nvSpPr>
        <p:spPr>
          <a:xfrm>
            <a:off x="3059280" y="765000"/>
            <a:ext cx="233964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72d0a1"/>
                    </a:gs>
                    <a:gs pos="100000">
                      <a:srgbClr val="ccffcc"/>
                    </a:gs>
                  </a:gsLst>
                  <a:lin ang="5400000"/>
                </a:gradFill>
                <a:latin typeface="Medieval"/>
              </a:rPr>
              <a:t>Мопс</a:t>
            </a:r>
            <a:endParaRPr b="0" lang="en-US" sz="2800" spc="1" strike="noStrike">
              <a:ln w="1908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50000">
                    <a:srgbClr val="72d0a1"/>
                  </a:gs>
                  <a:gs pos="100000">
                    <a:srgbClr val="ccffcc"/>
                  </a:gs>
                </a:gsLst>
                <a:lin ang="5400000"/>
              </a:gradFill>
              <a:latin typeface="Medieval"/>
              <a:ea typeface="Medieval"/>
            </a:endParaRPr>
          </a:p>
        </p:txBody>
      </p:sp>
      <p:pic>
        <p:nvPicPr>
          <p:cNvPr id="114" name="Picture 15" descr="82bb81e2e790"/>
          <p:cNvPicPr/>
          <p:nvPr/>
        </p:nvPicPr>
        <p:blipFill>
          <a:blip r:embed="rId2"/>
          <a:srcRect l="12213" t="0" r="2758" b="1787"/>
          <a:stretch/>
        </p:blipFill>
        <p:spPr>
          <a:xfrm>
            <a:off x="395280" y="4292640"/>
            <a:ext cx="2303640" cy="18730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5" name="Picture 16" descr="mops-bg-left"/>
          <p:cNvPicPr/>
          <p:nvPr/>
        </p:nvPicPr>
        <p:blipFill>
          <a:blip r:embed="rId3"/>
          <a:srcRect l="5737" t="0" r="-56" b="2802"/>
          <a:stretch/>
        </p:blipFill>
        <p:spPr>
          <a:xfrm>
            <a:off x="6227640" y="1628640"/>
            <a:ext cx="2303640" cy="19288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6" name="Picture 17" descr="domiano"/>
          <p:cNvPicPr/>
          <p:nvPr/>
        </p:nvPicPr>
        <p:blipFill>
          <a:blip r:embed="rId4"/>
          <a:stretch/>
        </p:blipFill>
        <p:spPr>
          <a:xfrm>
            <a:off x="3276720" y="1652760"/>
            <a:ext cx="2303280" cy="19206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7" name="Picture 13" descr="post-29-110192593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pu-em-bt3416-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pu-em-bt3416-01"/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plus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63cb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f_2641989"/>
          <p:cNvPicPr/>
          <p:nvPr/>
        </p:nvPicPr>
        <p:blipFill>
          <a:blip r:embed="rId1"/>
          <a:stretch/>
        </p:blipFill>
        <p:spPr>
          <a:xfrm>
            <a:off x="539640" y="1555920"/>
            <a:ext cx="3240360" cy="21603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22" name="Rectangle 7"/>
          <p:cNvSpPr/>
          <p:nvPr/>
        </p:nvSpPr>
        <p:spPr>
          <a:xfrm>
            <a:off x="4427640" y="1347480"/>
            <a:ext cx="4106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Мопс — это маленькая, очень обаятельная декоративная собачка, которую издавна держала знать. Собака с живым, веселым и при этом, уравновешенным характером, благородная и привязчивая к хозяину, но с возрастом может стать ворчуном, особенно с посторонними. 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Первые упоминания о короткомордых собачках встречаются в рукописях Древнего Востока задолго до нашей эры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23" name="Picture 9" descr="\\Inf13\мои документы\Иванов Артём\Декоративные собаки\Декоративные собаки\Новая папка (3)\мопс3.jpg"/>
          <p:cNvPicPr/>
          <p:nvPr/>
        </p:nvPicPr>
        <p:blipFill>
          <a:blip r:embed="rId2"/>
          <a:srcRect l="2196" t="0" r="0" b="0"/>
          <a:stretch/>
        </p:blipFill>
        <p:spPr>
          <a:xfrm>
            <a:off x="539640" y="4105440"/>
            <a:ext cx="3240360" cy="24192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24" name="WordArt 14"/>
          <p:cNvSpPr txBox="1"/>
          <p:nvPr/>
        </p:nvSpPr>
        <p:spPr>
          <a:xfrm>
            <a:off x="3059280" y="765000"/>
            <a:ext cx="233964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72d0a1"/>
                    </a:gs>
                    <a:gs pos="100000">
                      <a:srgbClr val="ccffcc"/>
                    </a:gs>
                  </a:gsLst>
                  <a:lin ang="5400000"/>
                </a:gradFill>
                <a:latin typeface="Medieval"/>
              </a:rPr>
              <a:t>Мопс</a:t>
            </a:r>
            <a:endParaRPr b="0" lang="en-US" sz="2800" spc="1" strike="noStrike">
              <a:ln w="1908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50000">
                    <a:srgbClr val="72d0a1"/>
                  </a:gs>
                  <a:gs pos="100000">
                    <a:srgbClr val="ccffcc"/>
                  </a:gs>
                </a:gsLst>
                <a:lin ang="5400000"/>
              </a:gradFill>
              <a:latin typeface="Medieval"/>
              <a:ea typeface="Medieval"/>
            </a:endParaRPr>
          </a:p>
        </p:txBody>
      </p:sp>
      <p:pic>
        <p:nvPicPr>
          <p:cNvPr id="125" name="Picture 13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u-em-bt3416-01"/>
          <p:cNvPicPr/>
          <p:nvPr/>
        </p:nvPicPr>
        <p:blipFill>
          <a:blip r:embed="rId5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u-em-bt3416-0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plus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eoeaer"/>
          <p:cNvPicPr/>
          <p:nvPr/>
        </p:nvPicPr>
        <p:blipFill>
          <a:blip r:embed="rId1"/>
          <a:stretch/>
        </p:blipFill>
        <p:spPr>
          <a:xfrm>
            <a:off x="3635280" y="1628640"/>
            <a:ext cx="1943280" cy="19432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0" name="Picture 8" descr="yo51"/>
          <p:cNvPicPr/>
          <p:nvPr/>
        </p:nvPicPr>
        <p:blipFill>
          <a:blip r:embed="rId2"/>
          <a:stretch/>
        </p:blipFill>
        <p:spPr>
          <a:xfrm>
            <a:off x="826920" y="4149720"/>
            <a:ext cx="2016360" cy="20160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1" name="Picture 9" descr="york20z"/>
          <p:cNvPicPr/>
          <p:nvPr/>
        </p:nvPicPr>
        <p:blipFill>
          <a:blip r:embed="rId3"/>
          <a:srcRect l="19749" t="6551" r="11055" b="7685"/>
          <a:stretch/>
        </p:blipFill>
        <p:spPr>
          <a:xfrm>
            <a:off x="826920" y="1628640"/>
            <a:ext cx="2014560" cy="19414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132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3924360" y="4292640"/>
            <a:ext cx="36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ысота в холке    15 см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ес                      3 кг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34" name="Picture 17" descr="081021_193838_613"/>
          <p:cNvPicPr/>
          <p:nvPr/>
        </p:nvPicPr>
        <p:blipFill>
          <a:blip r:embed="rId4"/>
          <a:stretch/>
        </p:blipFill>
        <p:spPr>
          <a:xfrm>
            <a:off x="6396120" y="1628640"/>
            <a:ext cx="1847880" cy="19447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5" name="Picture 23" descr="post-29-110192593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4" descr="pu-em-bt3416-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pu-em-bt3416-01"/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38" name="WordArt 14"/>
          <p:cNvSpPr txBox="1"/>
          <p:nvPr/>
        </p:nvSpPr>
        <p:spPr>
          <a:xfrm>
            <a:off x="755640" y="692280"/>
            <a:ext cx="784872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cbb1"/>
                    </a:gs>
                    <a:gs pos="50000">
                      <a:srgbClr val="ffffff"/>
                    </a:gs>
                    <a:gs pos="100000">
                      <a:srgbClr val="ffcbb1"/>
                    </a:gs>
                  </a:gsLst>
                  <a:lin ang="0"/>
                </a:gradFill>
                <a:latin typeface="Medieval"/>
              </a:rPr>
              <a:t>Йоркширский терьер</a:t>
            </a:r>
            <a:endParaRPr b="0" lang="en-US" sz="54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cbb1"/>
                  </a:gs>
                  <a:gs pos="50000">
                    <a:srgbClr val="ffffff"/>
                  </a:gs>
                  <a:gs pos="100000">
                    <a:srgbClr val="ffcbb1"/>
                  </a:gs>
                </a:gsLst>
                <a:lin ang="0"/>
              </a:gradFill>
              <a:latin typeface="Medieval"/>
              <a:ea typeface="Mediev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9:00:02Z</dcterms:created>
  <dc:creator>guest</dc:creator>
  <dc:description/>
  <dc:language>en-US</dc:language>
  <cp:lastModifiedBy>LEGION2</cp:lastModifiedBy>
  <dcterms:modified xsi:type="dcterms:W3CDTF">2015-04-28T08:09:21Z</dcterms:modified>
  <cp:revision>63</cp:revision>
  <dc:subject/>
  <dc:title>Слайд 1</dc:title>
</cp:coreProperties>
</file>