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968D-AB00-43A2-B1E1-7E836E36A8A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cc9900"/>
                </a:solidFill>
                <a:latin typeface="Impact"/>
              </a:rPr>
              <a:t>История развития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Широко распростирает химия руки свои  в д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ческие… Куда не посмотрим, куда 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лянемся, везде обращаются пред  очами  на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пехи ее прилежания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. В. Ломон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CD87-21DC-4011-8B24-CF5A2D1D7740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"/>
              </a:rPr>
              <a:t>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mic"/>
              </a:rPr>
              <a:t>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то наука,  которая существовала уже за 3-4 тыс. лет до нашей эры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3206A-898C-476D-A467-14AD03837E08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Греческий философ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Демокрит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(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V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в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Все тела состоят из мельчайших, невидимых, неделимых и вечно движущихся частиц-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7777"/>
                </a:solidFill>
                <a:latin typeface="Calibri"/>
              </a:rPr>
              <a:t>Греческий философ Аристотель (</a:t>
            </a:r>
            <a:r>
              <a:rPr b="0" lang="en-US" sz="1200" spc="-1" strike="noStrike">
                <a:solidFill>
                  <a:srgbClr val="777777"/>
                </a:solidFill>
                <a:latin typeface="Calibri"/>
              </a:rPr>
              <a:t>IV</a:t>
            </a:r>
            <a:r>
              <a:rPr b="0" lang="ru-RU" sz="1200" spc="-1" strike="noStrike">
                <a:solidFill>
                  <a:srgbClr val="777777"/>
                </a:solidFill>
                <a:latin typeface="Calibri"/>
              </a:rPr>
              <a:t> в. до н. э. 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… </a:t>
            </a: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в основе окружающей природы лежит вечная ПЕРВОМАТ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DDC80-B956-40A1-B3E6-78E983DBDD15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лхим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это  темная, дьявольская нау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B0E9-238C-4AC9-8CDD-37ED2C3490A8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Он создал первый университет. Он лучше сказать, сам был первым нашим университе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Calibri"/>
              </a:rPr>
              <a:t>А. С.Пушкин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ru-RU" sz="1600" spc="-1" strike="noStrike">
                <a:solidFill>
                  <a:srgbClr val="1f497d"/>
                </a:solidFill>
                <a:latin typeface="Calibri"/>
              </a:rPr>
              <a:t>1748 г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сформулировал важнейший закон химии – закон сохранения массы вещества в химических реакц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77777"/>
                </a:solidFill>
                <a:latin typeface="Calibri"/>
              </a:rPr>
              <a:t>Масса веществ,  вступивших в реакцию, равна массе веществ, получившихся в результате 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2730-39E5-44FE-B21D-0D7F8709E26B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7777"/>
                </a:solidFill>
                <a:latin typeface="Calibri"/>
              </a:rPr>
              <a:t>А. М. Бутлеров химик орга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В </a:t>
            </a:r>
            <a:r>
              <a:rPr b="1" lang="ru-RU" sz="1400" spc="-1" strike="noStrike">
                <a:solidFill>
                  <a:srgbClr val="4d4d4d"/>
                </a:solidFill>
                <a:latin typeface="Calibri"/>
              </a:rPr>
              <a:t>1861 г</a:t>
            </a: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. создал – теорию строения органических ве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Систематизировать органические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Создания полимерных матери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4E39-C6A5-4A33-8EF5-88A3430B4891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d4d4d"/>
                </a:solidFill>
                <a:latin typeface="Calibri"/>
              </a:rPr>
              <a:t>В 1869 г. открыл основополагающий закон химии – Периодически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DA6E-D6C8-4213-9F38-7D979A61698B}" type="slidenum">
              <a:rPr b="0" lang="uk-UA" sz="12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E4EF-4305-4D16-9659-16D2EC4D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0103-3970-40CC-91DB-B09A0B81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8C6F-CDD2-413A-B94B-FADBF5ACE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B3FE-7699-453F-B101-B9EE5DCE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379A-D7EF-428B-B8CB-24A8CD368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D4A82-1888-4705-8096-175D6078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AC32-8949-4FEE-B849-57132AEB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78D18-DE42-4FC2-9E95-F972CC7C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6355-73A3-467E-92EF-D4780780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9CD8-0521-430A-8B10-4847EE6A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C9458-B23D-4438-B314-BECEBDC82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2113-7509-4091-B4AD-9AB3E775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83BE-EA93-4237-B1E2-37690B2D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24196-CAD1-442C-91DE-6D7317DE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E5489-3D53-4F67-B976-FC3C7F98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DE53-2A7D-4C9D-876B-FEBD6E30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34B5-98BD-4E7D-88C5-15C767A2A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44D7-3564-4A2C-8A19-CE3EB79D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1F60-37B7-4872-988F-61F4C4552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EF9C-C7A9-45AD-927A-9C673AA2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D2CC-54F3-4626-98CF-DFFCEAA0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8760-7445-493A-BAFD-3387F805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8159-0799-4455-8DDF-659AF87F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355A-08AD-40AE-A373-EACFF6E3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Rectangle 3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Line 31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C537-1D0B-470D-8C08-40576E38A5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d58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Group 5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2" name="Rectangle 6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3" name="Rectangle 7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4" name="Rectangle 8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Rectangle 9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Rectangle 18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Rectangle 19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6a6340"/>
                </a:gs>
                <a:gs pos="100000">
                  <a:srgbClr val="e5d58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Freeform 25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Freeform 26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Freeform 29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Freeform 30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Freeform 31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a6340"/>
                </a:gs>
                <a:gs pos="50000">
                  <a:srgbClr val="e5d58a"/>
                </a:gs>
                <a:gs pos="100000">
                  <a:srgbClr val="6a63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Rectangle 32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Line 33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Line 34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2" name="Rectangle 36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3" name="Group 37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4" name="Group 38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5" name="Group 39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6" name="Rectangle 40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Rectangle 41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AutoShape 42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a6340"/>
                      </a:gs>
                      <a:gs pos="100000">
                        <a:srgbClr val="e5d58a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AutoShape 43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36520 w 1631880"/>
                      <a:gd name="textAreaRight" fmla="*/ 1395360 w 1631880"/>
                      <a:gd name="textAreaTop" fmla="*/ 42840 h 295200"/>
                      <a:gd name="textAreaBottom" fmla="*/ 25236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645" y="21600"/>
                        </a:lnTo>
                        <a:lnTo>
                          <a:pt x="18955" y="21600"/>
                        </a:lnTo>
                        <a:lnTo>
                          <a:pt x="21600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a634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0" name="Rectangle 44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Oval 45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Oval 46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Oval 47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Group 48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5" name="Arc 49"/>
                <p:cNvSpPr/>
                <p:nvPr/>
              </p:nvSpPr>
              <p:spPr>
                <a:xfrm>
                  <a:off x="135900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</a:path>
                    <a:path stroke="0" w="21600" h="432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33529"/>
                        <a:pt x="11929" y="43199"/>
                        <a:pt x="0" y="432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Arc 50"/>
                <p:cNvSpPr/>
                <p:nvPr/>
              </p:nvSpPr>
              <p:spPr>
                <a:xfrm>
                  <a:off x="1312920" y="2236680"/>
                  <a:ext cx="54000" cy="457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</a:path>
                    <a:path stroke="0" w="21600" h="43200">
                      <a:moveTo>
                        <a:pt x="21600" y="43200"/>
                      </a:moveTo>
                      <a:cubicBezTo>
                        <a:pt x="9670" y="43200"/>
                        <a:pt x="0" y="33529"/>
                        <a:pt x="0" y="21600"/>
                      </a:cubicBezTo>
                      <a:cubicBezTo>
                        <a:pt x="-1" y="9670"/>
                        <a:pt x="9670" y="0"/>
                        <a:pt x="21599" y="0"/>
                      </a:cubicBezTo>
                      <a:lnTo>
                        <a:pt x="21600" y="21600"/>
                      </a:lnTo>
                      <a:lnTo>
                        <a:pt x="21600" y="4320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6340"/>
                    </a:gs>
                    <a:gs pos="100000">
                      <a:srgbClr val="e5d58a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AutoShape 51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a6340"/>
                    </a:gs>
                    <a:gs pos="5000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Freeform 52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Freeform 53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Oval 54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a6340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66FA-004C-4A32-B4CD-0A15E74A88B0}" type="slidenum">
              <a:rPr b="0" lang="ru-RU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4"/>
          <p:cNvSpPr txBox="1"/>
          <p:nvPr/>
        </p:nvSpPr>
        <p:spPr>
          <a:xfrm>
            <a:off x="1763640" y="476280"/>
            <a:ext cx="6985080" cy="100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cc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тория развития хим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cc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2264400" y="2421000"/>
            <a:ext cx="6878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«Широко распростирает химия руки свои  в дела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человеческие… Куда не посмотрим, куда не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оглянемся, везде обращаются пред  очами  нашими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успехи ее прилежания»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00"/>
                </a:solidFill>
                <a:latin typeface="Times New Roman"/>
              </a:rPr>
              <a:t>М. В. Ломоносов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500120" y="1523520"/>
            <a:ext cx="667224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00"/>
                </a:solidFill>
                <a:latin typeface="comic"/>
              </a:rPr>
              <a:t>Химия</a:t>
            </a: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00"/>
                </a:solidFill>
                <a:latin typeface="comic"/>
              </a:rPr>
              <a:t>   </a:t>
            </a:r>
            <a:r>
              <a:rPr b="1" lang="ru-RU" sz="3600" spc="-1" strike="noStrike">
                <a:solidFill>
                  <a:srgbClr val="333300"/>
                </a:solidFill>
                <a:latin typeface="comic"/>
              </a:rPr>
              <a:t>-</a:t>
            </a:r>
            <a:r>
              <a:rPr b="1" lang="ru-RU" sz="3600" spc="-1" strike="noStrike">
                <a:solidFill>
                  <a:srgbClr val="333300"/>
                </a:solidFill>
                <a:latin typeface="Arial"/>
              </a:rPr>
              <a:t> это наука,  которая существовала уже за 3-4 тыс. лет до нашей эры.</a:t>
            </a:r>
            <a:br>
              <a:rPr sz="3600"/>
            </a:br>
            <a:endParaRPr b="1" lang="en-US" sz="36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3" name="Picture 4" descr="пирамида1"/>
          <p:cNvPicPr/>
          <p:nvPr/>
        </p:nvPicPr>
        <p:blipFill>
          <a:blip r:embed="rId1"/>
          <a:stretch/>
        </p:blipFill>
        <p:spPr>
          <a:xfrm>
            <a:off x="6012000" y="333360"/>
            <a:ext cx="2592360" cy="20606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демокрит"/>
          <p:cNvPicPr/>
          <p:nvPr/>
        </p:nvPicPr>
        <p:blipFill>
          <a:blip r:embed="rId1"/>
          <a:stretch/>
        </p:blipFill>
        <p:spPr>
          <a:xfrm>
            <a:off x="6300720" y="836640"/>
            <a:ext cx="2530440" cy="2087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аристотель"/>
          <p:cNvPicPr/>
          <p:nvPr/>
        </p:nvPicPr>
        <p:blipFill>
          <a:blip r:embed="rId2"/>
          <a:stretch/>
        </p:blipFill>
        <p:spPr>
          <a:xfrm>
            <a:off x="380880" y="3581280"/>
            <a:ext cx="2721240" cy="30225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4"/>
          <p:cNvSpPr/>
          <p:nvPr/>
        </p:nvSpPr>
        <p:spPr>
          <a:xfrm>
            <a:off x="1332000" y="333360"/>
            <a:ext cx="53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еческий философ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Демокр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. до н.э.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116000" y="1700280"/>
            <a:ext cx="518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69696"/>
                </a:solidFill>
                <a:latin typeface="Times New Roman"/>
              </a:rPr>
              <a:t>Все тела состоят из мельчайших, невидимых, неделимых и вечно движущихся частиц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ТОМОВ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3505320" y="358128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Греческий философ Аристотель (</a:t>
            </a:r>
            <a:r>
              <a:rPr b="0" lang="en-US" sz="2400" spc="-1" strike="noStrike">
                <a:solidFill>
                  <a:srgbClr val="777777"/>
                </a:solidFill>
                <a:latin typeface="Times New Roman"/>
              </a:rPr>
              <a:t>IV</a:t>
            </a: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 в. до н. э. )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3429000" y="47242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3733920" y="46483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4d4d"/>
                </a:solidFill>
                <a:latin typeface="Times New Roman"/>
              </a:rPr>
              <a:t>… </a:t>
            </a:r>
            <a:r>
              <a:rPr b="1" lang="ru-RU" sz="2400" spc="-1" strike="noStrike">
                <a:solidFill>
                  <a:srgbClr val="4d4d4d"/>
                </a:solidFill>
                <a:latin typeface="Times New Roman"/>
              </a:rPr>
              <a:t>в основе окружающей природы лежит вечная ПЕРВОМАТЕРИЯ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80880" y="304920"/>
            <a:ext cx="838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00"/>
                </a:solidFill>
                <a:latin typeface="Times New Roman"/>
              </a:rPr>
              <a:t>Алхимия </a:t>
            </a:r>
            <a:r>
              <a:rPr b="1" lang="ru-RU" sz="2400" spc="-1" strike="noStrike">
                <a:solidFill>
                  <a:srgbClr val="333300"/>
                </a:solidFill>
                <a:latin typeface="Times New Roman"/>
              </a:rPr>
              <a:t>–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это  темная, дьявольская наука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666880" y="144792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69696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e5d58a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e5d58a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3333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333300"/>
                </a:solidFill>
                <a:latin typeface="Times New Roman"/>
              </a:rPr>
              <a:t>философский камень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3886200" y="320040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длинить жизнь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858000" y="2590920"/>
            <a:ext cx="198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сцелить болезни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4267080" y="4876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ЕССМЕРТИЕ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8" name="AutoShape 10"/>
          <p:cNvSpPr/>
          <p:nvPr/>
        </p:nvSpPr>
        <p:spPr>
          <a:xfrm flipV="1">
            <a:off x="2590920" y="1675800"/>
            <a:ext cx="723960" cy="228600"/>
          </a:xfrm>
          <a:custGeom>
            <a:avLst/>
            <a:gdLst>
              <a:gd name="textAreaLeft" fmla="*/ 90360 w 723960"/>
              <a:gd name="textAreaRight" fmla="*/ 633600 w 723960"/>
              <a:gd name="textAreaTop" fmla="*/ 56880 h 228600"/>
              <a:gd name="textAreaBottom" fmla="*/ 1713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3333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609480" y="1523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AutoShape 13"/>
          <p:cNvSpPr/>
          <p:nvPr/>
        </p:nvSpPr>
        <p:spPr>
          <a:xfrm>
            <a:off x="4495680" y="2133720"/>
            <a:ext cx="228600" cy="976320"/>
          </a:xfrm>
          <a:prstGeom prst="downArrow">
            <a:avLst>
              <a:gd name="adj1" fmla="val 50000"/>
              <a:gd name="adj2" fmla="val 106772"/>
            </a:avLst>
          </a:prstGeom>
          <a:solidFill>
            <a:srgbClr val="0000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AutoShape 14"/>
          <p:cNvSpPr/>
          <p:nvPr/>
        </p:nvSpPr>
        <p:spPr>
          <a:xfrm>
            <a:off x="6095880" y="2286000"/>
            <a:ext cx="304920" cy="2514600"/>
          </a:xfrm>
          <a:prstGeom prst="downArrow">
            <a:avLst>
              <a:gd name="adj1" fmla="val 50000"/>
              <a:gd name="adj2" fmla="val 206169"/>
            </a:avLst>
          </a:prstGeom>
          <a:solidFill>
            <a:srgbClr val="0000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AutoShape 15"/>
          <p:cNvSpPr/>
          <p:nvPr/>
        </p:nvSpPr>
        <p:spPr>
          <a:xfrm>
            <a:off x="7620120" y="198108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000000"/>
          </a:solidFill>
          <a:ln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ломоносов"/>
          <p:cNvPicPr/>
          <p:nvPr/>
        </p:nvPicPr>
        <p:blipFill>
          <a:blip r:embed="rId1"/>
          <a:stretch/>
        </p:blipFill>
        <p:spPr>
          <a:xfrm>
            <a:off x="1258920" y="1484280"/>
            <a:ext cx="2219400" cy="28591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3809880" y="609480"/>
            <a:ext cx="4876920" cy="138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 создал первый университет. Он лучше сказать, сам был первым нашим университетом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. С.Пушкин.</a:t>
            </a:r>
            <a:endParaRPr b="0" lang="en-US" sz="2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962520" y="2514600"/>
            <a:ext cx="4572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748 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формулировал важнейший закон химии – закон сохранения массы вещества в химических реакциях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295280" y="479736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7777"/>
                </a:solidFill>
                <a:latin typeface="Times New Roman"/>
              </a:rPr>
              <a:t>Масса веществ,  вступивших в реакцию, равна массе веществ, получившихся в результате ее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бутлеров"/>
          <p:cNvPicPr/>
          <p:nvPr/>
        </p:nvPicPr>
        <p:blipFill>
          <a:blip r:embed="rId1"/>
          <a:stretch/>
        </p:blipFill>
        <p:spPr>
          <a:xfrm>
            <a:off x="5618160" y="533520"/>
            <a:ext cx="2936880" cy="40384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3"/>
          <p:cNvSpPr/>
          <p:nvPr/>
        </p:nvSpPr>
        <p:spPr>
          <a:xfrm>
            <a:off x="1258920" y="62064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А. М. Бутлеров химик органик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900000" y="1557360"/>
            <a:ext cx="4800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В </a:t>
            </a:r>
            <a:r>
              <a:rPr b="1" lang="ru-RU" sz="3200" spc="-1" strike="noStrike">
                <a:solidFill>
                  <a:srgbClr val="4d4d4d"/>
                </a:solidFill>
                <a:latin typeface="Times New Roman"/>
              </a:rPr>
              <a:t>1861 г</a:t>
            </a: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. создал – теорию строения органических веществ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971640" y="350028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Систематизировать органические вещества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1835280" y="5013360"/>
            <a:ext cx="4190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Создания полимерных материалов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менделеев"/>
          <p:cNvPicPr/>
          <p:nvPr/>
        </p:nvPicPr>
        <p:blipFill>
          <a:blip r:embed="rId1"/>
          <a:stretch/>
        </p:blipFill>
        <p:spPr>
          <a:xfrm>
            <a:off x="5562720" y="2362320"/>
            <a:ext cx="3030480" cy="400032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914400" y="58672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77777"/>
                </a:solidFill>
                <a:latin typeface="Times New Roman"/>
              </a:rPr>
              <a:t>Д. И. Менделеев русский химик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219320" y="54936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d4d4d"/>
                </a:solidFill>
                <a:latin typeface="Times New Roman"/>
              </a:rPr>
              <a:t>В 1869 г. открыл основополагающий закон химии – Периодический закон.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8" name="Picture 5" descr="таблица"/>
          <p:cNvPicPr/>
          <p:nvPr/>
        </p:nvPicPr>
        <p:blipFill>
          <a:blip r:embed="rId2"/>
          <a:stretch/>
        </p:blipFill>
        <p:spPr>
          <a:xfrm>
            <a:off x="826920" y="1989000"/>
            <a:ext cx="4724640" cy="354348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73392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333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3T17:34:23Z</dcterms:created>
  <dc:creator> Слюсарь А.П.</dc:creator>
  <dc:description/>
  <dc:language>en-US</dc:language>
  <cp:lastModifiedBy>LEGION</cp:lastModifiedBy>
  <dcterms:modified xsi:type="dcterms:W3CDTF">2015-05-01T09:27:37Z</dcterms:modified>
  <cp:revision>4</cp:revision>
  <dc:subject/>
  <dc:title>Законы хим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4140</vt:lpwstr>
  </property>
</Properties>
</file>