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7900-E8B7-417B-9B08-22E2484D7D3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Impact"/>
              </a:rPr>
              <a:t>История развития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Широко распростирает химия руки свои  в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ие… Куда не посмотрим, куда 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лянемся, везде обращаются пред  очами  на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пехи ее прилежан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В. Ломон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464E-07C6-4F99-9171-2F27DBE41A6A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"/>
              </a:rPr>
              <a:t>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mic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о наука,  которая существовала уже за 3-4 тыс. лет до нашей эр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F006-0017-40A4-8979-7198420C20B8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Греческий философ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Демокрит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(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в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Все тела состоят из мельчайших, невидимых, неделимых и вечно движущихся частиц-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7777"/>
                </a:solidFill>
                <a:latin typeface="Calibri"/>
              </a:rPr>
              <a:t>Греческий философ Аристотель (</a:t>
            </a:r>
            <a:r>
              <a:rPr b="0" lang="en-US" sz="1200" spc="-1" strike="noStrike">
                <a:solidFill>
                  <a:srgbClr val="777777"/>
                </a:solidFill>
                <a:latin typeface="Calibri"/>
              </a:rPr>
              <a:t>IV</a:t>
            </a:r>
            <a:r>
              <a:rPr b="0" lang="ru-RU" sz="1200" spc="-1" strike="noStrike">
                <a:solidFill>
                  <a:srgbClr val="777777"/>
                </a:solidFill>
                <a:latin typeface="Calibri"/>
              </a:rPr>
              <a:t> в. до н. э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… </a:t>
            </a: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в основе окружающей природы лежит вечная ПЕРВОМАТ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E364-2307-44A8-BE0B-DDA9581A7932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лхим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это  темная, дьявольская на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93C8-B3F8-4AC8-8FCD-6921DABB20A7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Он создал первый университет. Он лучше сказать, сам был первым нашим университе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А. С.Пушкин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1748 г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сформулировал важнейший закон химии – закон сохранения массы вещества в химических реак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7777"/>
                </a:solidFill>
                <a:latin typeface="Calibri"/>
              </a:rPr>
              <a:t>Масса веществ,  вступивших в реакцию, равна массе веществ, получившихся в результате 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0846-8C0D-4675-9792-15C5F6E405D7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7777"/>
                </a:solidFill>
                <a:latin typeface="Calibri"/>
              </a:rPr>
              <a:t>А. М. Бутлеров химик орга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В </a:t>
            </a:r>
            <a:r>
              <a:rPr b="1" lang="ru-RU" sz="1400" spc="-1" strike="noStrike">
                <a:solidFill>
                  <a:srgbClr val="4d4d4d"/>
                </a:solidFill>
                <a:latin typeface="Calibri"/>
              </a:rPr>
              <a:t>1861 г</a:t>
            </a: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. создал – теорию строения органически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Систематизировать 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Создания полимерных матери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7C5D-7B67-45A9-914A-FEC81A38B226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В 1869 г. открыл основополагающий закон химии – Периодически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3C94-8C69-42B9-9F95-16D95622DC2D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18CA-89A6-426B-BD2C-F86C5B18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23C1-F581-4971-AA44-E99FFCCB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0A6D-5DBB-483C-BEB0-7C530A80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68C1-71E3-498A-8151-357647CF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6959-D58D-4DE2-B341-E505BD8D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9A7D-5C12-43C6-88D5-0A68B510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C1D8-08D1-4728-BAED-37335D90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87AD-BFB2-4E4C-BCCA-06483BD8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BE26-3E0A-4133-A06C-89C0771D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FF0E-C3B5-48D3-9C14-CF3341EB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6BB6-8B54-4935-A8C8-F5AB811A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7345-CE19-4ED3-B5E5-99BD4E6E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5F4C-345F-4E25-8262-658C4476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BC5E-6C8C-4527-8804-2A4AF90D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97F5-25A9-45B4-AF81-B3E4D699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012B-3B75-4077-A656-F8B4BA71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241A-B5D7-402C-B8BC-49B6DF10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0CC4-5FFA-44B4-A1AF-8737BB8E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6D7C-27FA-41AD-9CE4-8F00A857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735A-178C-4669-A17F-4785A661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4B66-A651-4233-8EC8-6DFF415B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4BF7-1549-4E12-9CDB-09F7609E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9C6B-D670-4A52-BFC3-44AB6543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8611-E489-489D-AC1B-7BC61C55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3F82-7040-46B1-9E63-1E8A74CFBB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2992-7A46-4137-82E2-501C334B869A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4"/>
          <p:cNvSpPr txBox="1"/>
          <p:nvPr/>
        </p:nvSpPr>
        <p:spPr>
          <a:xfrm>
            <a:off x="1763640" y="476280"/>
            <a:ext cx="698508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я развития хим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264400" y="2421000"/>
            <a:ext cx="6878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«Широко распростирает химия руки свои  в дел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человеческие… Куда не посмотрим, куда не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оглянемся, везде обращаются пред  очами  нашими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успехи ее прилежания»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М. В. Ломоносов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00120" y="1523520"/>
            <a:ext cx="6672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comic"/>
              </a:rPr>
              <a:t>Химия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comic"/>
              </a:rPr>
              <a:t>   </a:t>
            </a:r>
            <a:r>
              <a:rPr b="1" lang="ru-RU" sz="3600" spc="-1" strike="noStrike">
                <a:solidFill>
                  <a:srgbClr val="333300"/>
                </a:solidFill>
                <a:latin typeface="comic"/>
              </a:rPr>
              <a:t>-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это наука,  которая существовала уже за 3-4 тыс. лет до нашей эры.</a:t>
            </a:r>
            <a:br>
              <a:rPr sz="3600"/>
            </a:b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3" name="Picture 4" descr="пирамида1"/>
          <p:cNvPicPr/>
          <p:nvPr/>
        </p:nvPicPr>
        <p:blipFill>
          <a:blip r:embed="rId1"/>
          <a:stretch/>
        </p:blipFill>
        <p:spPr>
          <a:xfrm>
            <a:off x="6012000" y="333360"/>
            <a:ext cx="2592360" cy="20606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демокрит"/>
          <p:cNvPicPr/>
          <p:nvPr/>
        </p:nvPicPr>
        <p:blipFill>
          <a:blip r:embed="rId1"/>
          <a:stretch/>
        </p:blipFill>
        <p:spPr>
          <a:xfrm>
            <a:off x="6300720" y="836640"/>
            <a:ext cx="2530440" cy="2087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аристотель"/>
          <p:cNvPicPr/>
          <p:nvPr/>
        </p:nvPicPr>
        <p:blipFill>
          <a:blip r:embed="rId2"/>
          <a:stretch/>
        </p:blipFill>
        <p:spPr>
          <a:xfrm>
            <a:off x="380880" y="3581280"/>
            <a:ext cx="2721240" cy="3022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1332000" y="333360"/>
            <a:ext cx="53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еческий философ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мокр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. до н.э.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116000" y="1700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9696"/>
                </a:solidFill>
                <a:latin typeface="Times New Roman"/>
              </a:rPr>
              <a:t>Все тела состоят из мельчайших, невидимых, неделимых и вечно движущихся частиц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ТОМОВ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505320" y="35812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Греческий философ Аристотель (</a:t>
            </a:r>
            <a:r>
              <a:rPr b="0" lang="en-US" sz="2400" spc="-1" strike="noStrike">
                <a:solidFill>
                  <a:srgbClr val="777777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 в. до н. э. 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3429000" y="47242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3733920" y="46483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Times New Roman"/>
              </a:rPr>
              <a:t>… </a:t>
            </a:r>
            <a:r>
              <a:rPr b="1" lang="ru-RU" sz="2400" spc="-1" strike="noStrike">
                <a:solidFill>
                  <a:srgbClr val="4d4d4d"/>
                </a:solidFill>
                <a:latin typeface="Times New Roman"/>
              </a:rPr>
              <a:t>в основе окружающей природы лежит вечная ПЕРВОМАТЕРИЯ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80880" y="3049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Алхимия 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 темная, дьявольская наука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666880" y="1447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e5d58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5d58a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философский камень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886200" y="320040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линить жизнь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858000" y="259092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целить болезни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4267080" y="4876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ЕССМЕРТИЕ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AutoShape 10"/>
          <p:cNvSpPr/>
          <p:nvPr/>
        </p:nvSpPr>
        <p:spPr>
          <a:xfrm flipV="1">
            <a:off x="2590920" y="1675800"/>
            <a:ext cx="723960" cy="228600"/>
          </a:xfrm>
          <a:custGeom>
            <a:avLst/>
            <a:gdLst>
              <a:gd name="textAreaLeft" fmla="*/ 90360 w 723960"/>
              <a:gd name="textAreaRight" fmla="*/ 633600 w 723960"/>
              <a:gd name="textAreaTop" fmla="*/ 56880 h 228600"/>
              <a:gd name="textAreaBottom" fmla="*/ 1713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609480" y="1523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4495680" y="2133720"/>
            <a:ext cx="228600" cy="976320"/>
          </a:xfrm>
          <a:prstGeom prst="downArrow">
            <a:avLst>
              <a:gd name="adj1" fmla="val 50000"/>
              <a:gd name="adj2" fmla="val 106772"/>
            </a:avLst>
          </a:prstGeom>
          <a:solidFill>
            <a:srgbClr val="0000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6095880" y="2286000"/>
            <a:ext cx="304920" cy="2514600"/>
          </a:xfrm>
          <a:prstGeom prst="downArrow">
            <a:avLst>
              <a:gd name="adj1" fmla="val 50000"/>
              <a:gd name="adj2" fmla="val 206169"/>
            </a:avLst>
          </a:prstGeom>
          <a:solidFill>
            <a:srgbClr val="0000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7620120" y="198108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0000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ломоносов"/>
          <p:cNvPicPr/>
          <p:nvPr/>
        </p:nvPicPr>
        <p:blipFill>
          <a:blip r:embed="rId1"/>
          <a:stretch/>
        </p:blipFill>
        <p:spPr>
          <a:xfrm>
            <a:off x="1258920" y="1484280"/>
            <a:ext cx="2219400" cy="28591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3809880" y="609480"/>
            <a:ext cx="4876920" cy="13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 создал первый университет. Он лучше сказать, сам был первым нашим университетом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. С.Пушкин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962520" y="2514600"/>
            <a:ext cx="4572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748 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формулировал важнейший закон химии – закон сохранения массы вещества в химических реакциях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295280" y="47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7777"/>
                </a:solidFill>
                <a:latin typeface="Times New Roman"/>
              </a:rPr>
              <a:t>Масса веществ,  вступивших в реакцию, равна массе веществ, получившихся в результате ее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бутлеров"/>
          <p:cNvPicPr/>
          <p:nvPr/>
        </p:nvPicPr>
        <p:blipFill>
          <a:blip r:embed="rId1"/>
          <a:stretch/>
        </p:blipFill>
        <p:spPr>
          <a:xfrm>
            <a:off x="5618160" y="533520"/>
            <a:ext cx="2936880" cy="40384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1258920" y="62064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А. М. Бутлеров химик органик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900000" y="1557360"/>
            <a:ext cx="48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В </a:t>
            </a:r>
            <a:r>
              <a:rPr b="1" lang="ru-RU" sz="3200" spc="-1" strike="noStrike">
                <a:solidFill>
                  <a:srgbClr val="4d4d4d"/>
                </a:solidFill>
                <a:latin typeface="Times New Roman"/>
              </a:rPr>
              <a:t>1861 г</a:t>
            </a: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. создал – теорию строения органических веществ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971640" y="350028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Систематизировать органические вещества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835280" y="501336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Создания полимерных материалов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менделеев"/>
          <p:cNvPicPr/>
          <p:nvPr/>
        </p:nvPicPr>
        <p:blipFill>
          <a:blip r:embed="rId1"/>
          <a:stretch/>
        </p:blipFill>
        <p:spPr>
          <a:xfrm>
            <a:off x="5562720" y="2362320"/>
            <a:ext cx="3030480" cy="40003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914400" y="58672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Д. И. Менделеев русский химик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219320" y="54936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В 1869 г. открыл основополагающий закон химии – Периодический закон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8" name="Picture 5" descr="таблица"/>
          <p:cNvPicPr/>
          <p:nvPr/>
        </p:nvPicPr>
        <p:blipFill>
          <a:blip r:embed="rId2"/>
          <a:stretch/>
        </p:blipFill>
        <p:spPr>
          <a:xfrm>
            <a:off x="826920" y="1989000"/>
            <a:ext cx="4724640" cy="354348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17:34:23Z</dcterms:created>
  <dc:creator> Слюсарь А.П.</dc:creator>
  <dc:description/>
  <dc:language>en-US</dc:language>
  <cp:lastModifiedBy>LEGION</cp:lastModifiedBy>
  <dcterms:modified xsi:type="dcterms:W3CDTF">2015-05-01T09:27:37Z</dcterms:modified>
  <cp:revision>4</cp:revision>
  <dc:subject/>
  <dc:title>Законы хим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4140</vt:lpwstr>
  </property>
</Properties>
</file>