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40EE-8062-4334-87E2-188DECC11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СОЦИАЛЬНАЯ ФИЛОСО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B4C-4E76-407E-B1DE-BFB056C3E2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EB0F-2EE7-483E-83F8-0998AFE94B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417-35C1-408D-996D-F9DB85AE9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ческие этапы познания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8D53-0362-4807-8021-BDC15AAC5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улин В.С. Социальная философия: Учебник для вузов. 2-е изд. М.: ФАИР-ПРЕСС, 1999. 5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ьюи Дж. Общество и его проблемы. М.: Идея-Пресс, 2002. 160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сонс Т. Понятие социаль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ффлер А. Футурошок. Спб.: Лань, 1997. 464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к С. Духовные основы об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6DE-4D65-4935-81C9-0F00B10F2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у общ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даментальные закономерности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 общественного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функционирования общественной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DBEC-8C74-4B76-8F2C-178F0630CE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DA2B-C91F-4854-B821-B4E572ADF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ост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уем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особность развивать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управляе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FE79-BCAF-449C-B895-7E68657771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3BCE-7E70-4779-8B94-0D2FCE3624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3117-C9A7-4399-80A7-78B9440226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DA5-67D7-46B0-88DC-CC83B0172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AFD-3FB7-4E27-955B-E161A445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B99-7ACD-4A7E-AA50-01C40B8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52A-9A5A-4FAD-AA15-C22DEF4B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760-E673-4353-A9F8-EDC5A5A6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E67-AC2A-41E9-BBAE-124BDA34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A126-4AD3-44D4-BE4F-164979D5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380E-E878-42FC-BA2B-B368F18E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B92-8F70-4EEF-AFF3-8995DBC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C01-E198-4B04-B3CE-C79AC6A7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D0FC-937C-4BE4-8AD8-04A3A602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46C-A8FA-4CDD-9D65-036CE03C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9D7-FC87-41CA-9619-3F053A4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9374-E903-4E83-82ED-45983A9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9C4D-5B9F-40CF-A333-5A7E146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9372-EFB2-4C7D-AAEF-E83615A3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10A5-D05A-4C01-B21E-F7086FC7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D4C-E407-474F-8C33-62490A57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E0A-900B-4766-8D64-9E82511F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E74-5420-47D8-B853-008FCDA6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9D7-BDDB-4650-8B7A-7C0D7594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2A2-EC46-4613-B7A2-BC0FDE0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35E-ED97-4E80-B3EA-A3BA16E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B50-23FC-4A24-A5CB-9B0DC6F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977-4895-41F8-A033-38951ED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F44E-C487-4B34-90CE-AFACFF13FD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994E-87A9-44B8-B214-50DC5086D6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e1a1a"/>
                </a:solidFill>
                <a:latin typeface="Times New Roman"/>
              </a:rPr>
              <a:t>ДЕ 6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1a1a"/>
                </a:solidFill>
                <a:latin typeface="Tahoma"/>
              </a:rPr>
              <a:t>СОЦИАЛЬНАЯ ФИЛОСОФ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85800" y="228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Социальное развит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Object 3"/>
          <p:cNvGraphicFramePr/>
          <p:nvPr/>
        </p:nvGraphicFramePr>
        <p:xfrm>
          <a:off x="457200" y="1295280"/>
          <a:ext cx="822960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сторические этапы познания общества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09480" y="5105520"/>
            <a:ext cx="19814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есиод (8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фей (8-7 в д.н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ерекид (7-6 в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9520" y="3809880"/>
            <a:ext cx="2438280" cy="28195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крат (470-399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тон (428-348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истотель (384-322 д.н.э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киавелли Н.(1469-15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нтескье(1689-175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 Т.(1477-15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етле Л.(1796-187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5562720" y="2209680"/>
            <a:ext cx="2895480" cy="4343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 О. (1798-18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нсер Г. (1820-19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кс К. (1818-18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А. (1868-19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бер М. (1864-19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юркгейм (1858-19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стер У. (1841-19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д Г. (1843-19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ето В. (1848-19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окин П. (1889-196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валевский М. (1851-19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ид Г. (1863-19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сонс Т. (19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ртон Р.К.(19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рендорв Ф.Р. (19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зарсфельд П.Ф. (19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85800" y="41148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лигиоз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ф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18040" y="2743200"/>
            <a:ext cx="15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ософск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608800" y="1600200"/>
            <a:ext cx="26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циональный (науч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Тема 17.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de1a1a"/>
                </a:solidFill>
                <a:latin typeface="Times New Roman"/>
              </a:rPr>
              <a:t>Общество как объект познания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ифика социального позн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й аппарат социальной философ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торические этапы познания 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Литератур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рулин В.С. Социальная философия: Учебник для вузов. 2-е изд. М.: ФАИР-ПРЕСС, 1999. 5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ьюи Дж. Общество и его проблемы. М.: Идея-Пресс, 2002. 160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мджян К.Х. Социум. Общество. История: Учебное пособие для студентов и аспирантов. М.: Наука, 1994. 239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сонс Т. Понятие социаль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ппер К. Нищета историциз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ффлер А. Футурошок. Спб.: Лань, 1997. 464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ранк С. Духовные основы об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перс К. Схема мировой истор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оциальная философия изучает: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ность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исхождение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уктуру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даментальные закономерности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спективы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и функционирования общественной систе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- форма разумно организованной, культурной жизни и деятельности людей, объединенных общими потребностями, интересами и целями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3399"/>
                </a:solidFill>
                <a:latin typeface="Times New Roman"/>
              </a:rPr>
              <a:t>Характеристики общества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162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ост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организуем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намич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ность развив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ономер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оуправляем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99"/>
                </a:solidFill>
                <a:latin typeface="Times New Roman"/>
              </a:rPr>
              <a:t>Специфика социального познания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0" y="1752480"/>
            <a:ext cx="3809880" cy="21337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теоретическ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о наиболее об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омерностях и тенденция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 социа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й, функцион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азвития общ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4343400" y="1676520"/>
            <a:ext cx="4800600" cy="236196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философия изуча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ы, согласно котор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бществе складываю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ые, больш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отнош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этими группами, 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язи и роль в общест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4724280"/>
            <a:ext cx="8915400" cy="18288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амом объекте социального познания изначально присутствует и его су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жность, многообразие и разнокачественность общественной жизни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йствуют социальные и индивидуальные силы, материальные и идеальны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е и субъективные факторы, сознательные и бессознательные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167652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А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191120" y="1523880"/>
            <a:ext cx="0" cy="3200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 flipH="1">
            <a:off x="4419720" y="3733920"/>
            <a:ext cx="838080" cy="99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3200400" y="3886200"/>
            <a:ext cx="68580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6240" y="-228600"/>
            <a:ext cx="8897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br>
              <a:rPr sz="3200"/>
            </a:br>
            <a:r>
              <a:rPr b="0" i="1" lang="ru-RU" sz="3200" spc="-1" strike="noStrike">
                <a:solidFill>
                  <a:srgbClr val="de1a1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3399"/>
                </a:solidFill>
                <a:latin typeface="Times New Roman"/>
              </a:rPr>
              <a:t>Понятийный аппарат социальной философии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952880" y="365760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11430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35"/>
          <p:cNvGraphicFramePr/>
          <p:nvPr/>
        </p:nvGraphicFramePr>
        <p:xfrm>
          <a:off x="1219320" y="1600200"/>
          <a:ext cx="739116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911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Общественные отнош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048120" y="1676520"/>
            <a:ext cx="281916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0880" y="2590920"/>
            <a:ext cx="2514600" cy="685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019920" y="2514600"/>
            <a:ext cx="2438280" cy="60948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0" y="3429000"/>
            <a:ext cx="3124080" cy="7621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943600" y="3352680"/>
            <a:ext cx="2590920" cy="8384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дст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228600" y="4572000"/>
            <a:ext cx="3581280" cy="22860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матер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ономических отноше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людьми в процесс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движения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укта от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потреб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486400" y="4724280"/>
            <a:ext cx="3429000" cy="1828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осударственно -правов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 (государств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формы обществен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нания (политик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о, мораль, религ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, философ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2209320" y="2133720"/>
            <a:ext cx="8384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5867280" y="2057400"/>
            <a:ext cx="12193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2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3"/>
          <p:cNvSpPr/>
          <p:nvPr/>
        </p:nvSpPr>
        <p:spPr>
          <a:xfrm>
            <a:off x="7238880" y="31240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137160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5"/>
          <p:cNvSpPr/>
          <p:nvPr/>
        </p:nvSpPr>
        <p:spPr>
          <a:xfrm>
            <a:off x="7391520" y="41911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23:12:51Z</dcterms:created>
  <dc:creator>‚€ЉЂ</dc:creator>
  <dc:description/>
  <dc:language>en-US</dc:language>
  <cp:lastModifiedBy>LEGION</cp:lastModifiedBy>
  <dcterms:modified xsi:type="dcterms:W3CDTF">2014-11-11T08:04:15Z</dcterms:modified>
  <cp:revision>27</cp:revision>
  <dc:subject/>
  <dc:title>РАЗДЕЛ 4</dc:title>
</cp:coreProperties>
</file>