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7858-00F9-4A95-A992-EA930BEA5F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ДЕ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СОЦИАЛЬНАЯ ФИЛОСО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977E-D530-4524-89AE-ACD91F1261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Социальное развит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C690-3D0C-455B-8B2E-E04498B3F9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Исторические этапы познания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BCC4-FBF5-45FE-942F-1658E6EF6A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1a1a"/>
                </a:solidFill>
                <a:latin typeface="Times New Roman"/>
              </a:rPr>
              <a:t>Тема 17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de1a1a"/>
                </a:solidFill>
                <a:latin typeface="Times New Roman"/>
              </a:rPr>
              <a:t>Общество как объект позн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ка социального п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йный аппарат социальной философ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ческие этапы познания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11BB-F316-438D-BD93-D1909D02A1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улин В.С. Социальная философия: Учебник для вузов. 2-е изд. М.: ФАИР-ПРЕСС, 1999. 560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ьюи Дж. Общество и его проблемы. М.: Идея-Пресс, 2002. 160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мджян К.Х. Социум. Общество. История: Учебное пособие для студентов и аспирантов. М.: Наука, 1994. 239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сонс Т. Понятие социаль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ффлер А. Футурошок. Спб.: Лань, 1997. 464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к С. Духовные основы об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317B-14CE-411D-A7A1-4AB4DBFFE9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Социальная философия изучае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у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даментальные закономерности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 общественного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функционирования обще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BCBE-87EA-4BD8-B8E6-FEC56733FF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Обществ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орма разумно организованной, культурной жизни и деятельности людей, объединенных общими потребностями, интересами и цел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F1F9-6C1B-43D7-B170-981A9BA566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Характеристики обще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ост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организу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ность развивать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управляе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0AE7-81CC-46A3-BB97-C01C044E04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Специфика социального п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ED9D-189E-4241-A62C-A15A58C10E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Понятийный аппарат социальной философ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B49F-D7DD-487C-A030-AAFA45B84F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F92C-F076-4332-977F-E8C3FE173B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228-04E8-45D3-8E09-ECDCDB76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4586-339C-4D69-9103-A653B7B0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1D3-F65A-43F4-9E49-BE0B143D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FC2-58BC-4B43-B5F6-AB56A17E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34A9-6658-4E61-8772-0FE4E887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BD63-DA44-424D-87E2-B787672A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3213-62DD-484D-B630-4EC3C558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FD9D-A5B3-4BBD-AE83-E15782BE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80B5-2064-4E6A-98AF-EF1F8924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27F5-FAD9-4BCA-A483-62F0A920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C119-DCCD-4EEA-A1F6-5D2672EC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AAE-3ACF-4770-A459-9657937C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79BC-968F-488E-B6BA-5A7ACDAE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5F25-043C-4BE8-A3F4-D5CBE2B8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3992-B784-4C77-B873-53A700D7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F72C-2209-43DE-AE58-A9904DA7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0840-2055-4F9E-ABC6-3F1AFEEA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14D-B747-485E-A1AF-E85B8409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6E8-CC4A-4504-99A3-48EEB179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5A0-A719-49B1-80BF-6B353007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C4B-6295-4616-8948-BEF12BEC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F02-CE04-4218-8090-3900FCB0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717-4F47-4C16-990F-4C2D90FB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4EE-7661-4D77-81C5-7F5B315C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476D-9DCE-4566-9F19-2AA4DE962E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76C3-520E-4B4A-B5E3-EF79BBE72C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e1a1a"/>
                </a:solidFill>
                <a:latin typeface="Times New Roman"/>
              </a:rPr>
              <a:t>ДЕ 6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e1a1a"/>
                </a:solidFill>
                <a:latin typeface="Tahoma"/>
              </a:rPr>
              <a:t>СОЦИАЛЬНАЯ ФИЛОСОФ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685800" y="2286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Социальное развит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Object 3"/>
          <p:cNvGraphicFramePr/>
          <p:nvPr/>
        </p:nvGraphicFramePr>
        <p:xfrm>
          <a:off x="457200" y="1295280"/>
          <a:ext cx="822960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22960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сторические этапы познания общества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09480" y="5105520"/>
            <a:ext cx="198144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сиод (8 в д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фей (8-7 в д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рекид (7-6 в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2819520" y="3809880"/>
            <a:ext cx="2438280" cy="28195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крат (470-399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атон (428-348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ристотель (384-322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киавелли Н.(1469-15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нтескье(1689-175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 Т.(1477-15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етле Л.(1796-187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5562720" y="2209680"/>
            <a:ext cx="2895480" cy="4343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т О. (1798-18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енсер Г. (1820-19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кс К. (1818-18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бер А. (1868-19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бер М. (1864-19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юркгейм (1858-19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стер У. (1841-19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рд Г. (1843-19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ето В. (1848-192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рокин П. (1889-196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валевский М. (1851-19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ид Г. (1863-19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сонс Т. (19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ртон Р.К.(19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рендорв Ф.Р. (19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зарсфельд П.Ф. (19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685800" y="4114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лигиоз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218040" y="2743200"/>
            <a:ext cx="150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лософск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5608800" y="1600200"/>
            <a:ext cx="26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циональный (науч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e1a1a"/>
                </a:solidFill>
                <a:latin typeface="Times New Roman"/>
              </a:rPr>
              <a:t>Тема 17.</a:t>
            </a:r>
            <a:r>
              <a:rPr b="0" i="1" lang="ru-RU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e1a1a"/>
                </a:solidFill>
                <a:latin typeface="Times New Roman"/>
              </a:rPr>
              <a:t>Общество как объект познания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ецифика социального позн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ятийный аппарат социальной философ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торические этапы познания об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Литература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рулин В.С. Социальная философия: Учебник для вузов. 2-е изд. М.: ФАИР-ПРЕСС, 1999. 560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ьюи Дж. Общество и его проблемы. М.: Идея-Пресс, 2002. 160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мджян К.Х. Социум. Общество. История: Учебное пособие для студентов и аспирантов. М.: Наука, 1994. 239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сонс Т. Понятие социаль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ппер К. Нищета историц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ффлер А. Футурошок. Спб.: Лань, 1997. 464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ранк С. Духовные основы об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сперс К. Схема мировой истор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Times New Roman"/>
              </a:rPr>
              <a:t>Социальная философия изучает: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ность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исхождение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уктуру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даментальные закономерности разви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ы общественного разви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мерности функционирования общественной сист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Общество</a:t>
            </a:r>
            <a:br>
              <a:rPr sz="4400"/>
            </a:b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- форма разумно организованной, культурной жизни и деятельности людей, объединенных общими потребностями, интересами и целями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Характеристики общества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94920" y="1295280"/>
            <a:ext cx="7162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ост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организуем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намич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ь развиватьс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мер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управляе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Times New Roman"/>
              </a:rPr>
              <a:t>Специфика социального познания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1752480"/>
            <a:ext cx="3809880" cy="21337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то система теоретическ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 о наиболее общ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мерностях и тенденция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я социаль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ений, функционир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развития об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4"/>
          <p:cNvSpPr/>
          <p:nvPr/>
        </p:nvSpPr>
        <p:spPr>
          <a:xfrm>
            <a:off x="4343400" y="1676520"/>
            <a:ext cx="4800600" cy="236196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философия изуч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ы, согласно которы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бществе складываю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ойчивые, больш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ы людей, отно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этими группами, 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зи и роль в общест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4724280"/>
            <a:ext cx="8915400" cy="18288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амом объекте социального познания изначально присутствует и его су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жность, многообразие и разнокачественность общественной жизн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йствуют социальные и индивидуальные силы, материальные и идеальны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ые и субъективные факторы, сознательные и бессознательные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ны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3809880" y="2819520"/>
            <a:ext cx="5335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16765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ТА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4191120" y="1523880"/>
            <a:ext cx="0" cy="3200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 flipH="1">
            <a:off x="4419720" y="3733920"/>
            <a:ext cx="838080" cy="990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3200400" y="3886200"/>
            <a:ext cx="68580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-228600"/>
            <a:ext cx="88977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e1a1a"/>
                </a:solidFill>
                <a:latin typeface="Times New Roman"/>
              </a:rPr>
              <a:t>	</a:t>
            </a:r>
            <a:br>
              <a:rPr sz="3200"/>
            </a:br>
            <a:r>
              <a:rPr b="0" i="1" lang="ru-RU" sz="3200" spc="-1" strike="noStrike">
                <a:solidFill>
                  <a:srgbClr val="de1a1a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3399"/>
                </a:solidFill>
                <a:latin typeface="Times New Roman"/>
              </a:rPr>
              <a:t>Понятийный аппарат социальной философии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952880" y="36576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1143000" y="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35"/>
          <p:cNvGraphicFramePr/>
          <p:nvPr/>
        </p:nvGraphicFramePr>
        <p:xfrm>
          <a:off x="1219320" y="1600200"/>
          <a:ext cx="739116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739116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68580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Общественные отнош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048120" y="1676520"/>
            <a:ext cx="2819160" cy="685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380880" y="2590920"/>
            <a:ext cx="2514600" cy="685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6019920" y="2514600"/>
            <a:ext cx="2438280" cy="6094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0" y="3429000"/>
            <a:ext cx="3124080" cy="76212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з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943600" y="3352680"/>
            <a:ext cx="2590920" cy="8384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ст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228600" y="4572000"/>
            <a:ext cx="3581280" cy="22860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матер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номических отноше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людьми в процесс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ого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движения обще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укта от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5486400" y="4724280"/>
            <a:ext cx="3429000" cy="1828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Государственно -правов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я (государство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формы обще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нания (политик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о, мораль, религ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кусство, философ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2209320" y="2133720"/>
            <a:ext cx="83844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5867280" y="2057400"/>
            <a:ext cx="12193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2"/>
          <p:cNvSpPr/>
          <p:nvPr/>
        </p:nvSpPr>
        <p:spPr>
          <a:xfrm>
            <a:off x="1447920" y="320040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3"/>
          <p:cNvSpPr/>
          <p:nvPr/>
        </p:nvSpPr>
        <p:spPr>
          <a:xfrm>
            <a:off x="7238880" y="31240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137160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5"/>
          <p:cNvSpPr/>
          <p:nvPr/>
        </p:nvSpPr>
        <p:spPr>
          <a:xfrm>
            <a:off x="7391520" y="419112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23:12:51Z</dcterms:created>
  <dc:creator>‚€ЉЂ</dc:creator>
  <dc:description/>
  <dc:language>en-US</dc:language>
  <cp:lastModifiedBy>LEGION</cp:lastModifiedBy>
  <dcterms:modified xsi:type="dcterms:W3CDTF">2014-11-11T08:04:15Z</dcterms:modified>
  <cp:revision>27</cp:revision>
  <dc:subject/>
  <dc:title>РАЗДЕЛ 4</dc:title>
</cp:coreProperties>
</file>