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6D91-12F9-475C-AF26-66F9054BCA1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и час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40AC-915B-4E05-A29B-DC565B27332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оение яд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всех атомов 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лементарный заряд +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с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,675*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2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аряд ядра равен нулю, масс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,675*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2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название протонов и нейтронов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укло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нуклонами действует короткодействующие силы притяжения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дерные си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ло 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ядре обозначается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совпадает 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ковым номеро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а в таблице Менделе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яд ядро равен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e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ло 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ядре обозначается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е число нейтронов и 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ядре обознач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совым числом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=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+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значение яд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Calibri"/>
              </a:rPr>
              <a:t>Z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гд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означение химического эле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11Н – ядро атом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дорода (прото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59FD-3F4F-4598-AD43-1351BF200E2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т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называются атомы, имеющ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аковый заряд ядра , но различ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с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се изотопы одного и того же элемента облад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аковыми химическими свойств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, но могут отличать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иоактив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йтер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ит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ются изотопами водорода (тритий радиоактиве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B63B-22E8-45B1-8646-3212330FCF5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отоп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дор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отоп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дор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4CD1-16E0-4DEE-8346-115579760BF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изотоп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 мече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о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иология, физиология, медицина, промышленность, археология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чники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луч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«кобальтовая пушка» изотопом 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7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6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корение мут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искусственного отбора (в сельском хозяйств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1F15-021D-4B10-A4F6-5CD2B4E9662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наблюдения и регистрации элементарных част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5821-19E8-49BC-B2E5-565F28C1FEA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четчик Гейге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прибора основано на явлен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арной иониз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аза: пролетающая заряженная частица ионизирует молекулы газа образовавшиеся электроны ускоряются электрическим полем внутри счетчика до энергий необходимых для ударной ионизации. Регистрирует электроны 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нты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только факт пролета част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0ED1-C52A-4372-A283-6B48563ECB5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ера Вильс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прибора основано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денсации перенасыщен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оды или спирта) на ионах , образующихся вдоль траектории полета заряженной частицы. Поместив камеру Вильсона в однородное магнитное поле и измерив радиус кривизны трека (следа пролетевшей частицы), можно определить удельный заряд частицы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траектории заряжен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A8E9-F63E-42AD-BF5B-0067F27CD01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зырьковая кам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основано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ние пузырьков пара в перегретой жидк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жидком водороде или пропане) на ионах , возникающих вдоль траектории полета заряженной частицы. Преимущество пузырьковой камеры перед камерой Вильсона : большая плотность рабочего вещества (можно наблюдать серию превращений частиц)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 траектории заряжен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5E2F-F504-4D6B-ADC8-DA017F8C3B3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од толстослойных фотоэмульс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тся ионизирующее действие заряженных частиц на фотоэмульсию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редкие я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02B6-893B-4067-94ED-E7BA1BA023E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B1B9-E823-40A1-94C4-B726C7BD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B3EA-C7AF-45B0-A3AD-1FB3E571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0AD9-2222-4976-A106-9C83A11F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D6B3-FA46-414A-BF11-C5F0F9E6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5500-4E11-45DA-988A-BE9A6C1A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F63F-20BB-4C67-9EAD-F04EBCB7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C753-0C69-4727-A55E-BDEB32C1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ACE3-6608-47F7-9401-3A783A20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A35D-8E96-4027-9763-6A17F8D1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DFE5-C201-40F3-A7CD-2152B8B0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1686-1811-4662-8438-779CEFAA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8E75-49CF-489C-870F-AF2A0F6F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6261-2B57-4B02-9BA5-DBD928FB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301B-3B28-477C-8393-CD2FEA4D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B0F0-D3BC-441B-B34E-06097FC5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12CD-860C-421B-935C-A04B7374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8074-C29D-4A4A-9678-371A515C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5285-B430-4A3F-B9CB-9B66EE98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90D5-C28F-4124-B0D3-5300DE5D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3773-E634-45FA-A2AB-8EC94CD3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37A1-120A-41D0-B99D-30A859FA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D746-7D8B-446F-A0A9-CD4BD200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1266-B87B-43F9-9642-13EA3BE2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DFE7-7ADE-454C-B42E-F0EE6D7B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C854-1286-4EBE-A1F9-7D23A1C05F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2A96-1811-4193-A3D2-9342F0DA6B3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Ядра и частицы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79280" y="333360"/>
          <a:ext cx="8713800" cy="628956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2905200"/>
              </a:tblGrid>
              <a:tr h="311652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оение яд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дра всех атомов из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т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элементарный заряд +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,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сса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=1,675*10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27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г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йтр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заряд ядра равен нулю, масса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=1,675*10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27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г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е название протонов и нейтронов –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уклоны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жду нуклонами действует короткодействующие силы притяжения –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дерные сил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ло прот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в ядре обозначается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 и совпадает с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рядковым номером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лемента в таблице Менделеев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ряд ядро равен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e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ло нейтр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в ядре обозначается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е число нейтронов и прот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в ядре обозначается 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и называется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ссовым числом: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=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+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76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означение ядер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0" i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Z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 где 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обозначение химического элемент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пример 11Н – ядро атома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орода (протон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зотопы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ак называются атомы, имеющие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динаковый заряд ядра , но различную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асс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Все изотопы одного и того же элемента обладают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динаковыми химическими свойствам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, но могут отличаться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диоактивность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пример, 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ейтер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ит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являются изотопами водорода (тритий радиоактиве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8920" y="2565360"/>
            <a:ext cx="554508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томы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отоп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одород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67280" y="5949720"/>
            <a:ext cx="4535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др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отоп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одород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5" descr="Атомы изотопов водорода"/>
          <p:cNvPicPr/>
          <p:nvPr/>
        </p:nvPicPr>
        <p:blipFill>
          <a:blip r:embed="rId1"/>
          <a:stretch/>
        </p:blipFill>
        <p:spPr>
          <a:xfrm>
            <a:off x="179280" y="0"/>
            <a:ext cx="6193080" cy="2446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Ядра изотопов водорода"/>
          <p:cNvPicPr/>
          <p:nvPr/>
        </p:nvPicPr>
        <p:blipFill>
          <a:blip r:embed="rId2"/>
          <a:stretch/>
        </p:blipFill>
        <p:spPr>
          <a:xfrm>
            <a:off x="4140360" y="3068640"/>
            <a:ext cx="4465440" cy="27828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именение изотопов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тод мечены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том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биология, физиология, медицина, промышленность, археология 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сточники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луче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«кобальтовая пушка» изотопом 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7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6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скорение мутац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для искусственного отбора (в сельском хозяйстве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8280360" cy="22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етоды наблюдения и регистрации элементарных частиц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ec94"/>
                </a:solidFill>
                <a:latin typeface="Times New Roman"/>
              </a:rPr>
              <a:t>Счетчик Гейгера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прибора основано на явлени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дарной ионизац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аза: пролетающая заряженная частица ионизирует молекулы газа образовавшиеся электроны ускоряются электрическим полем внутри счетчика до энергий необходимых для ударной ионизации. Регистрирует электроны и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ванты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только факт пролета частиц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3840" cy="162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Безымянный"/>
          <p:cNvPicPr/>
          <p:nvPr/>
        </p:nvPicPr>
        <p:blipFill>
          <a:blip r:embed="rId1"/>
          <a:stretch/>
        </p:blipFill>
        <p:spPr>
          <a:xfrm>
            <a:off x="395280" y="189000"/>
            <a:ext cx="5311800" cy="2963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Безымянный1"/>
          <p:cNvPicPr/>
          <p:nvPr/>
        </p:nvPicPr>
        <p:blipFill>
          <a:blip r:embed="rId2"/>
          <a:stretch/>
        </p:blipFill>
        <p:spPr>
          <a:xfrm>
            <a:off x="5003640" y="2781360"/>
            <a:ext cx="3792600" cy="341316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Камера Вильсона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прибора основано н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нденсации перенасыщенног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а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воды или спирта) на ионах , образующихся вдоль траектории полета заряженной частицы. Поместив камеру Вильсона в однородное магнитное поле и измерив радиус кривизны трека (следа пролетевшей частицы), можно определить удельный заряд частицы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траектории заряженных частиц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st001_57"/>
          <p:cNvPicPr/>
          <p:nvPr/>
        </p:nvPicPr>
        <p:blipFill>
          <a:blip r:embed="rId1"/>
          <a:stretch/>
        </p:blipFill>
        <p:spPr>
          <a:xfrm>
            <a:off x="539640" y="333360"/>
            <a:ext cx="4680000" cy="3135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Безымянный11"/>
          <p:cNvPicPr/>
          <p:nvPr/>
        </p:nvPicPr>
        <p:blipFill>
          <a:blip r:embed="rId2"/>
          <a:stretch/>
        </p:blipFill>
        <p:spPr>
          <a:xfrm>
            <a:off x="5148360" y="1916280"/>
            <a:ext cx="3440160" cy="42652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узырьковая камер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основано н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разование пузырьков пара в перегретой жидкост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жидком водороде или пропане) на ионах , возникающих вдоль траектории полета заряженной частицы. Преимущество пузырьковой камеры перед камерой Вильсона : большая плотность рабочего вещества (можно наблюдать серию превращений частиц)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 траектории заряженных частиц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Безымянный2"/>
          <p:cNvPicPr/>
          <p:nvPr/>
        </p:nvPicPr>
        <p:blipFill>
          <a:blip r:embed="rId1"/>
          <a:stretch/>
        </p:blipFill>
        <p:spPr>
          <a:xfrm>
            <a:off x="1332000" y="836640"/>
            <a:ext cx="6613560" cy="44085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етод толстослойных фотоэмульсий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ользуется ионизирующее действие заряженных частиц на фотоэмульсию.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редкие явл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30:39Z</dcterms:created>
  <dc:creator>Гость</dc:creator>
  <dc:description/>
  <dc:language>en-US</dc:language>
  <cp:lastModifiedBy>LEGION</cp:lastModifiedBy>
  <dcterms:modified xsi:type="dcterms:W3CDTF">2015-05-01T09:28:06Z</dcterms:modified>
  <cp:revision>14</cp:revision>
  <dc:subject/>
  <dc:title>Заряжённые частиц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2000000000001024140</vt:lpwstr>
  </property>
</Properties>
</file>