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4176-3962-46DC-9F73-4BF8ACFC13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и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8BBC-3B1A-40E5-A889-4E0AF3FE372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оение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всех атомов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лементарный заряд +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ряд ядра равен нулю, 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название протонов и нейтронов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кло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нуклонами действует короткодействующие силы притяжения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дерные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овпадает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ковым номер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 в таблице 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яд ядро равен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е число нейтронов 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овым числом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=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+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значение яд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означение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11Н – ядро ато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орода (прот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E535-3D76-4ABB-A021-7E406AD1C36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ются атомы, имеющ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й заряд ядра , но различ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се изотопы одного и того же элемента облад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ми химическими свой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но могут отличать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актив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и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ются изотопами водорода (тритий радиоактив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FE98-8389-4B56-BE9E-3A91EC06DE0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8BE6-C7BE-449C-84AB-0BF271BF28C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зото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мече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иология, физиология, медицина, промышленность, археология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луч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кобальтовая пушка» изотопом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7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корение мут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искусственного отбора (в сельском хозяйст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9B00-630F-40F5-847B-68BCD018FB8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наблюдения и регистрации элементарны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764A-2AC3-45E8-92C7-78F513D98AE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четчик Гейге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явле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ной ион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н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олько факт пролета час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14A0-9093-4F55-9D6D-32CEA1BA2BC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а Вильс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денсации перенасыщ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6963-6EEA-430B-A8B5-B9B1A023B98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зырьковая 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 пузырьков пара в перегретой жид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2242-F0EE-4D02-A658-7507CA701CF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 толстослойных фотоэмуль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ионизирующее действие заряженных частиц на фотоэмульсию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редки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050B-9511-470F-B139-4D66C48F29F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93C-E874-4042-B4F7-414808A8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A29-D9F5-4063-B040-5CAF19E6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C75-D931-4525-BADF-2BC881EB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E40-F1B7-4480-B0E2-18DB437A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2FA3-F6C8-4595-A196-34261173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4E1E-1CDC-4322-81AD-E01356BB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7563-AE82-4A67-8385-8C5BA779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DAAC-6CAF-4B99-9477-BA41F0CE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C320-9BC1-48E3-A96F-AD3053C7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CD27-E005-45B2-A8FC-933D88B9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E5BF-1D3E-4D16-8B51-D64F0CDE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AD4-66F9-4948-9D65-7B6AF000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E25C-35F3-4FE7-A123-69CDF391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C390-5D2D-43C7-B06C-1FD21D92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9EC6-77AC-4796-B32A-1B09FA0A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D4D6-922D-47D6-AF4E-407BE818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4E44-0412-491B-891C-FFA2E039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A74-166C-4A69-BE3C-95222370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F6E-D35C-435C-95A8-A2FEAAEB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05C-DE73-42AF-8BED-3F3064FC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068-EC78-4E1D-A054-3CB05624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F19-A47A-4DF8-9087-C72731B7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90B-318C-4B47-902F-C8265C0E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5C4E-FD9A-40FA-AA4C-E36FBF23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FC25-BA5B-4938-870D-020E2F255B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0E0B-A3E2-4162-B8B1-E3AF82C63B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Ядра и частиц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333360"/>
          <a:ext cx="8713800" cy="62895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3116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оение яд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ра всех атомов из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элементарный заряд +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заряд ядра равен нулю, 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название протонов и нейтронов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кло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 нуклонами действует короткодействующие силы притяжения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ерные сил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и совпадает с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рядковым номером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мента в таблице Менделее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яд ядро равен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число нейтронов и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называется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овым числом: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=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+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значение яде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где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бозначение химического элемен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имер 11Н – ядро атома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рода (прото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отоп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 называются атомы, имеющ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й заряд ядра , но различн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сс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Все изотопы одного и того же элемента обладаю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ми химическими свойств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, но могут отличать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оактив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йтер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т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являются изотопами водорода (тритий радиоактив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5545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ом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5949720"/>
            <a:ext cx="453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др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Атомы изотопов водорода"/>
          <p:cNvPicPr/>
          <p:nvPr/>
        </p:nvPicPr>
        <p:blipFill>
          <a:blip r:embed="rId1"/>
          <a:stretch/>
        </p:blipFill>
        <p:spPr>
          <a:xfrm>
            <a:off x="179280" y="0"/>
            <a:ext cx="6193080" cy="244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Ядра изотопов водорода"/>
          <p:cNvPicPr/>
          <p:nvPr/>
        </p:nvPicPr>
        <p:blipFill>
          <a:blip r:embed="rId2"/>
          <a:stretch/>
        </p:blipFill>
        <p:spPr>
          <a:xfrm>
            <a:off x="4140360" y="3068640"/>
            <a:ext cx="4465440" cy="2782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нение изотопов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 мече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том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биология, физиология, медицина, промышленность, археология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чник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луч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«кобальтовая пушка» изотопом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корение мутац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искусственного отбора (в сельском хозяйств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280360" cy="22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тоды наблюдения и регистрации элементарных част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Счетчик Гейгера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явлени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арной иониз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нт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олько факт пролета част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3840" cy="162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Безымянный"/>
          <p:cNvPicPr/>
          <p:nvPr/>
        </p:nvPicPr>
        <p:blipFill>
          <a:blip r:embed="rId1"/>
          <a:stretch/>
        </p:blipFill>
        <p:spPr>
          <a:xfrm>
            <a:off x="395280" y="189000"/>
            <a:ext cx="5311800" cy="296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Безымянный1"/>
          <p:cNvPicPr/>
          <p:nvPr/>
        </p:nvPicPr>
        <p:blipFill>
          <a:blip r:embed="rId2"/>
          <a:stretch/>
        </p:blipFill>
        <p:spPr>
          <a:xfrm>
            <a:off x="5003640" y="2781360"/>
            <a:ext cx="3792600" cy="34131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мера Вильсо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денсации перенасыщенн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st001_57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13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Безымянный11"/>
          <p:cNvPicPr/>
          <p:nvPr/>
        </p:nvPicPr>
        <p:blipFill>
          <a:blip r:embed="rId2"/>
          <a:stretch/>
        </p:blipFill>
        <p:spPr>
          <a:xfrm>
            <a:off x="5148360" y="1916280"/>
            <a:ext cx="3440160" cy="4265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узырьковая каме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пузырьков пара в перегретой жидк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Безымянный2"/>
          <p:cNvPicPr/>
          <p:nvPr/>
        </p:nvPicPr>
        <p:blipFill>
          <a:blip r:embed="rId1"/>
          <a:stretch/>
        </p:blipFill>
        <p:spPr>
          <a:xfrm>
            <a:off x="1332000" y="836640"/>
            <a:ext cx="6613560" cy="4408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 толстослойных фотоэмульси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тся ионизирующее действие заряженных частиц на фотоэмульсию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редкие я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0:39Z</dcterms:created>
  <dc:creator>Гость</dc:creator>
  <dc:description/>
  <dc:language>en-US</dc:language>
  <cp:lastModifiedBy>LEGION</cp:lastModifiedBy>
  <dcterms:modified xsi:type="dcterms:W3CDTF">2015-05-01T09:28:06Z</dcterms:modified>
  <cp:revision>14</cp:revision>
  <dc:subject/>
  <dc:title>Заряжённые час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