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move the slide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4CD1C-78B5-4EDD-B34E-0125934A8879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дра и частиц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0BCA7-4400-4BF9-A52A-2796E66F378F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троение яд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дра всех атомов из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отоно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элементарный заряд +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е,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сса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</a:rPr>
              <a:t>p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1,675*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Calibri"/>
              </a:rPr>
              <a:t>-27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г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ейтроно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заряд ядра равен нулю, масса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1,675*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Calibri"/>
              </a:rPr>
              <a:t>-27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г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ее название протонов и нейтронов –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уклон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 нуклонами действует короткодействующие силы притяжения –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ядерные сил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Число протоно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 ядре обозначается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и совпадает с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рядковым номером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емента в таблице Менделее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ряд ядро равен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Ze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Число нейтроно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 ядре обозначается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бщее число нейтронов и протоно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 ядре обозначается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 называется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ассовым числом: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А=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Z+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бозначение ядер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i="1" lang="en-US" sz="1200" spc="-1" strike="noStrike" baseline="-25000">
                <a:solidFill>
                  <a:srgbClr val="000000"/>
                </a:solidFill>
                <a:latin typeface="Calibri"/>
              </a:rPr>
              <a:t>A</a:t>
            </a:r>
            <a:r>
              <a:rPr b="0" i="1" lang="en-US" sz="1200" spc="-1" strike="noStrike" baseline="30000">
                <a:solidFill>
                  <a:srgbClr val="000000"/>
                </a:solidFill>
                <a:latin typeface="Calibri"/>
              </a:rPr>
              <a:t>Z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где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Х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обозначение химического элемен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имер 11Н – ядро атома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одорода (протон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52011-39EC-417D-B54E-5456D8BC4B57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отоп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к называются атомы, имеющие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динаковый заряд ядра , но различную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ассу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Все изотопы одного и того же элемента обладают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динаковыми химическими свойствам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, но могут отличаться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адиоактивность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имер, </a:t>
            </a:r>
            <a:r>
              <a:rPr b="0" lang="ru-RU" sz="12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1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-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ейтери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0" lang="ru-RU" sz="12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12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-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рити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являются изотопами водорода (тритий радиоактивен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8A52A-D415-4E4C-8C8A-EF2484F675EC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томы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зотопо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одород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дра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зотопо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одород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9E790-B12C-47FE-BDA6-83E941C5363B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нение изотоп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етод меченых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атомо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биология, физиология, медицина, промышленность, археология 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сточники </a:t>
            </a:r>
            <a:r>
              <a:rPr b="1" i="1" lang="en-US" sz="1200" spc="-1" strike="noStrike">
                <a:solidFill>
                  <a:srgbClr val="000000"/>
                </a:solidFill>
                <a:latin typeface="Calibri"/>
              </a:rPr>
              <a:t>y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луче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«кобальтовая пушка» изотопом </a:t>
            </a:r>
            <a:r>
              <a:rPr b="0" lang="ru-RU" sz="1200" spc="-1" strike="noStrike" baseline="-25000">
                <a:solidFill>
                  <a:srgbClr val="000000"/>
                </a:solidFill>
                <a:latin typeface="Calibri"/>
              </a:rPr>
              <a:t>27</a:t>
            </a:r>
            <a:r>
              <a:rPr b="0" lang="ru-RU" sz="1200" spc="-1" strike="noStrike" baseline="30000">
                <a:solidFill>
                  <a:srgbClr val="000000"/>
                </a:solidFill>
                <a:latin typeface="Calibri"/>
              </a:rPr>
              <a:t>60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скорение мутаци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для искусственного отбора (в сельском хозяйстве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E9B70-77E7-40A7-A2E2-6F92B3D1B0D2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наблюдения и регистрации элементарных части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50199-55FA-4A2F-B552-B6067A30A745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четчик Гейгер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йствие прибора основано на явлении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дарной ионизаци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газа: пролетающая заряженная частица ионизирует молекулы газа образовавшиеся электроны ускоряются электрическим полем внутри счетчика до энергий необходимых для ударной ионизации. Регистрирует электроны и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Calibri"/>
              </a:rPr>
              <a:t>y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ванты.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зволяет регистрировать только факт пролета частиц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3A7E9-FB2F-469C-83C2-EFEAF83AA199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мера Вильсо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йствие прибора основано на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онденсации перенасыщенного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ар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воды или спирта) на ионах , образующихся вдоль траектории полета заряженной частицы. Поместив камеру Вильсона в однородное магнитное поле и измерив радиус кривизны трека (следа пролетевшей частицы), можно определить удельный заряд частицы.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зволяет регистрировать траектории заряженных частиц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754C2-7911-4EF1-A4E1-B2134966FC6A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узырьковая каме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йствие основано на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бразование пузырьков пара в перегретой жидкост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жидком водороде или пропане) на ионах , возникающих вдоль траектории полета заряженной частицы. Преимущество пузырьковой камеры перед камерой Вильсона : большая плотность рабочего вещества (можно наблюдать серию превращений частиц).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зволяет регистрировать  траектории заряженных частиц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76A96-E405-456D-9DC6-EB4986EC670E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Метод толстослойных фотоэмульсий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уется ионизирующее действие заряженных частиц на фотоэмульсию.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зволяет регистрировать редкие яв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2949E-A620-4D9F-9670-8A3ACEB87F45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27A53-7054-4EA3-9FDE-CF30BC2A7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4D1AE-AE9B-4B0E-935F-02510348D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7B226-238D-4547-A00D-9C88F7DD5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EB43B-2682-484F-9BEA-50F81BDA2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6B2F5-44D0-4F8B-A4E2-B9DF65CBF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5B010-A9B1-4E0C-A04A-E2E88C2E3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6B5A6-11D0-40FA-BDA5-5836BB28A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CB337-74B2-4D75-BC12-06A70DABA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751BE-CF6C-48AC-ABA6-8CFECC69E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311E4-D3CD-4CDE-8C18-1CB3F1A74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90BD6-CF31-4166-B5FF-359B32690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E99AA-22BD-44B9-850A-9AB2DDF15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1669E-0632-4E09-82B5-0D4B6C54F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E49F3-74E1-4735-9F51-24EFF3033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62884-9FB7-4800-B050-60CF21577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2E063-2D7C-44E6-A2B5-023429E68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C6575-A6CC-4F0C-B96D-4610793E6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A1993-C7D0-4280-8BA1-11CC97344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5E411-73B0-4673-802C-662B2AD5A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271FD-9E24-42C4-B0E0-898A59C64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C69B1-07DA-4F8E-A000-3CAE95AEE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A221D-C54F-4EEF-921C-843BE87E8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62EAC-49E0-497F-9012-2248BCB02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5FC39-EB09-4D09-BA1A-59B0845D2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6C2C8-348E-45AA-BF91-3789EEA3B01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BA02C-6852-4D59-86FD-579B58455924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eec94"/>
                </a:solidFill>
                <a:latin typeface="Times New Roman"/>
              </a:rPr>
              <a:t>Ядра и частицы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5000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4" name=""/>
          <p:cNvGraphicFramePr/>
          <p:nvPr/>
        </p:nvGraphicFramePr>
        <p:xfrm>
          <a:off x="179280" y="333360"/>
          <a:ext cx="8713800" cy="6289560"/>
        </p:xfrm>
        <a:graphic>
          <a:graphicData uri="http://schemas.openxmlformats.org/drawingml/2006/table">
            <a:tbl>
              <a:tblPr/>
              <a:tblGrid>
                <a:gridCol w="2905200"/>
                <a:gridCol w="2903400"/>
                <a:gridCol w="2905200"/>
              </a:tblGrid>
              <a:tr h="3116520">
                <a:tc gridSpan="3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троение ядр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Ядра всех атомов из 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ротонов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элементарный заряд +</a:t>
                      </a:r>
                      <a:r>
                        <a:rPr b="0" i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е,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масса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</a:t>
                      </a:r>
                      <a:r>
                        <a:rPr b="0" lang="en-US" sz="2000" spc="-1" strike="noStrike" baseline="-25000">
                          <a:solidFill>
                            <a:srgbClr val="ffffff"/>
                          </a:solidFill>
                          <a:latin typeface="Times New Roman"/>
                        </a:rPr>
                        <a:t>p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=1,675*10</a:t>
                      </a:r>
                      <a:r>
                        <a:rPr b="0" lang="en-US" sz="2000" spc="-1" strike="noStrike" baseline="30000">
                          <a:solidFill>
                            <a:srgbClr val="ffffff"/>
                          </a:solidFill>
                          <a:latin typeface="Times New Roman"/>
                        </a:rPr>
                        <a:t>-27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кг)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ейтронов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(заряд ядра равен нулю, масса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</a:t>
                      </a:r>
                      <a:r>
                        <a:rPr b="0" lang="en-US" sz="2000" spc="-1" strike="noStrike" baseline="-25000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=1,675*10</a:t>
                      </a:r>
                      <a:r>
                        <a:rPr b="0" lang="en-US" sz="2000" spc="-1" strike="noStrike" baseline="30000">
                          <a:solidFill>
                            <a:srgbClr val="ffffff"/>
                          </a:solidFill>
                          <a:latin typeface="Times New Roman"/>
                        </a:rPr>
                        <a:t>-27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кг)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Общее название протонов и нейтронов – 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уклоны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Между нуклонами действует короткодействующие силы притяжения – 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ядерные силы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66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Число протонов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в ядре обозначается </a:t>
                      </a: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Z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, и совпадает с 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орядковым номером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элемента в таблице Менделеева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Заряд ядро равен </a:t>
                      </a: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Ze</a:t>
                      </a:r>
                      <a:r>
                        <a:rPr b="0" i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Число нейтронов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в ядре обозначается </a:t>
                      </a: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Общее число нейтронов и протонов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в ядре обозначается </a:t>
                      </a:r>
                      <a:r>
                        <a:rPr b="0" i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и называется 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массовым числом: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0" i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А=</a:t>
                      </a: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Z+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06760">
                <a:tc gridSpan="3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Обозначение ядер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: </a:t>
                      </a:r>
                      <a:r>
                        <a:rPr b="0" i="1" lang="en-US" sz="2000" spc="-1" strike="noStrike" baseline="-25000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r>
                        <a:rPr b="0" i="1" lang="en-US" sz="2000" spc="-1" strike="noStrike" baseline="30000">
                          <a:solidFill>
                            <a:srgbClr val="ffffff"/>
                          </a:solidFill>
                          <a:latin typeface="Times New Roman"/>
                        </a:rPr>
                        <a:t>Z</a:t>
                      </a: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X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, где </a:t>
                      </a:r>
                      <a:r>
                        <a:rPr b="0" i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Х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обозначение химического элемента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апример 11Н – ядро атома 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одорода (протон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5000"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Изотопы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Так называются атомы, имеющие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одинаковый заряд ядра , но различную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массу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. Все изотопы одного и того же элемента обладают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одинаковыми химическими свойствами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, но могут отличаться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радиоактивностью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апример, </a:t>
            </a:r>
            <a:r>
              <a:rPr b="0" lang="ru-RU" sz="2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ru-RU" sz="2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-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дейтерий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и </a:t>
            </a:r>
            <a:r>
              <a:rPr b="0" lang="ru-RU" sz="2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ru-RU" sz="28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-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тритий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являются изотопами водорода (тритий радиоактивен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5000"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178920" y="2565360"/>
            <a:ext cx="5545080" cy="82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Атомы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изотопов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водорода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067280" y="5949720"/>
            <a:ext cx="453528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Ядра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изотопов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водорода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1" name="Picture 5" descr="Атомы изотопов водорода"/>
          <p:cNvPicPr/>
          <p:nvPr/>
        </p:nvPicPr>
        <p:blipFill>
          <a:blip r:embed="rId1"/>
          <a:stretch/>
        </p:blipFill>
        <p:spPr>
          <a:xfrm>
            <a:off x="179280" y="0"/>
            <a:ext cx="6193080" cy="24462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4" descr="Ядра изотопов водорода"/>
          <p:cNvPicPr/>
          <p:nvPr/>
        </p:nvPicPr>
        <p:blipFill>
          <a:blip r:embed="rId2"/>
          <a:stretch/>
        </p:blipFill>
        <p:spPr>
          <a:xfrm>
            <a:off x="4140360" y="3068640"/>
            <a:ext cx="4465440" cy="2782800"/>
          </a:xfrm>
          <a:prstGeom prst="rect">
            <a:avLst/>
          </a:prstGeom>
          <a:ln w="0">
            <a:noFill/>
          </a:ln>
        </p:spPr>
      </p:pic>
      <p:sp>
        <p:nvSpPr>
          <p:cNvPr id="1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5000"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Применение изотопов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85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Метод меченых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атомов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(биология, физиология, медицина, промышленность, археология 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Источники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- лучей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(«кобальтовая пушка» изотопом </a:t>
            </a:r>
            <a:r>
              <a:rPr b="0" lang="ru-RU" sz="2800" spc="-1" strike="noStrike" baseline="-25000">
                <a:solidFill>
                  <a:srgbClr val="ffffff"/>
                </a:solidFill>
                <a:latin typeface="Times New Roman"/>
              </a:rPr>
              <a:t>27</a:t>
            </a:r>
            <a:r>
              <a:rPr b="0" lang="ru-RU" sz="2800" spc="-1" strike="noStrike" baseline="30000">
                <a:solidFill>
                  <a:srgbClr val="ffffff"/>
                </a:solidFill>
                <a:latin typeface="Times New Roman"/>
              </a:rPr>
              <a:t>60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о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Ускорение мутаций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для искусственного отбора (в сельском хозяйстве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5000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000" y="1268280"/>
            <a:ext cx="8280360" cy="222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Методы наблюдения и регистрации элементарных частиц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5000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eec94"/>
                </a:solidFill>
                <a:latin typeface="Times New Roman"/>
              </a:rPr>
              <a:t>Счетчик Гейгера</a:t>
            </a: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.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Действие прибора основано на явлении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ударной ионизации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газа: пролетающая заряженная частица ионизирует молекулы газа образовавшиеся электроны ускоряются электрическим полем внутри счетчика до энергий необходимых для ударной ионизации. Регистрирует электроны и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y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–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ванты.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Позволяет регистрировать только факт пролета частицы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123840" cy="162000"/>
          </a:xfrm>
          <a:prstGeom prst="rect">
            <a:avLst/>
          </a:prstGeom>
          <a:ln w="0">
            <a:noFill/>
          </a:ln>
        </p:spPr>
      </p:pic>
      <p:sp>
        <p:nvSpPr>
          <p:cNvPr id="135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5000"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7" descr="Безымянный"/>
          <p:cNvPicPr/>
          <p:nvPr/>
        </p:nvPicPr>
        <p:blipFill>
          <a:blip r:embed="rId1"/>
          <a:stretch/>
        </p:blipFill>
        <p:spPr>
          <a:xfrm>
            <a:off x="395280" y="189000"/>
            <a:ext cx="5311800" cy="29638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8" descr="Безымянный1"/>
          <p:cNvPicPr/>
          <p:nvPr/>
        </p:nvPicPr>
        <p:blipFill>
          <a:blip r:embed="rId2"/>
          <a:stretch/>
        </p:blipFill>
        <p:spPr>
          <a:xfrm>
            <a:off x="5003640" y="2781360"/>
            <a:ext cx="3792600" cy="3413160"/>
          </a:xfrm>
          <a:prstGeom prst="rect">
            <a:avLst/>
          </a:prstGeom>
          <a:ln w="0">
            <a:noFill/>
          </a:ln>
        </p:spPr>
      </p:pic>
      <p:sp>
        <p:nvSpPr>
          <p:cNvPr id="13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5000"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eec94"/>
                </a:solidFill>
                <a:latin typeface="Times New Roman"/>
              </a:rPr>
              <a:t>Камера Вильсона</a:t>
            </a: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Действие прибора основано на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конденсации перенасыщенного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пара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(воды или спирта) на ионах , образующихся вдоль траектории полета заряженной частицы. Поместив камеру Вильсона в однородное магнитное поле и измерив радиус кривизны трека (следа пролетевшей частицы), можно определить удельный заряд частицы.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Позволяет регистрировать траектории заряженных частиц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5000"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5" descr="st001_57"/>
          <p:cNvPicPr/>
          <p:nvPr/>
        </p:nvPicPr>
        <p:blipFill>
          <a:blip r:embed="rId1"/>
          <a:stretch/>
        </p:blipFill>
        <p:spPr>
          <a:xfrm>
            <a:off x="539640" y="333360"/>
            <a:ext cx="4680000" cy="313524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7" descr="Безымянный11"/>
          <p:cNvPicPr/>
          <p:nvPr/>
        </p:nvPicPr>
        <p:blipFill>
          <a:blip r:embed="rId2"/>
          <a:stretch/>
        </p:blipFill>
        <p:spPr>
          <a:xfrm>
            <a:off x="5148360" y="1916280"/>
            <a:ext cx="3440160" cy="4265280"/>
          </a:xfrm>
          <a:prstGeom prst="rect">
            <a:avLst/>
          </a:prstGeom>
          <a:ln w="0">
            <a:noFill/>
          </a:ln>
        </p:spPr>
      </p:pic>
      <p:sp>
        <p:nvSpPr>
          <p:cNvPr id="1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5000"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Пузырьковая камера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Действие основано на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образование пузырьков пара в перегретой жидкости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(жидком водороде или пропане) на ионах , возникающих вдоль траектории полета заряженной частицы. Преимущество пузырьковой камеры перед камерой Вильсона : большая плотность рабочего вещества (можно наблюдать серию превращений частиц).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Позволяет регистрировать  траектории заряженных частиц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5000"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5" descr="Безымянный2"/>
          <p:cNvPicPr/>
          <p:nvPr/>
        </p:nvPicPr>
        <p:blipFill>
          <a:blip r:embed="rId1"/>
          <a:stretch/>
        </p:blipFill>
        <p:spPr>
          <a:xfrm>
            <a:off x="1332000" y="836640"/>
            <a:ext cx="6613560" cy="4408560"/>
          </a:xfrm>
          <a:prstGeom prst="rect">
            <a:avLst/>
          </a:prstGeom>
          <a:ln w="0">
            <a:noFill/>
          </a:ln>
        </p:spPr>
      </p:pic>
      <p:sp>
        <p:nvSpPr>
          <p:cNvPr id="1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5000"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Метод толстослойных фотоэмульсий.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Используется ионизирующее действие заряженных частиц на фотоэмульсию.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Позволяет регистрировать редкие явления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5000"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10:30:39Z</dcterms:created>
  <dc:creator>Гость</dc:creator>
  <dc:description/>
  <dc:language>en-US</dc:language>
  <cp:lastModifiedBy>LEGION</cp:lastModifiedBy>
  <dcterms:modified xsi:type="dcterms:W3CDTF">2015-05-01T09:28:06Z</dcterms:modified>
  <cp:revision>14</cp:revision>
  <dc:subject/>
  <dc:title>Заряжённые частицы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7802000000000001024140</vt:lpwstr>
  </property>
</Properties>
</file>