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64A-09EE-4BFA-BA37-3A19EC06C6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и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C741-B4B7-48FB-8C22-5F67F049020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оение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всех атомов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лементарный заряд +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ряд ядра равен нулю, 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название протонов и нейтронов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кло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нуклонами действует короткодействующие силы притяжения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дерные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овпадает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ковым номе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 в таблице 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яд ядро равен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е число нейтронов 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овым числом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=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+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значение яд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означение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11Н – ядро ато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орода (прот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0323-0124-4E08-B495-258FBFAF35B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ся атомы, имеющ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й заряд ядра , но различ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се изотопы одного и того же элемента облад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ми химическими свой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но могут отличать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актив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ются изотопами водорода (тритий радиоактив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2BD0-03A0-4D38-8127-DFE4D768A3E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CB86-87C6-43AF-8B2F-67F3C6F42F4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зото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мече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иология, физиология, медицина, промышленность, археология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луч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кобальтовая пушка» изотопом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7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корение мут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искусственного отбора (в сельском хозяйст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2DEB-A61A-4211-980A-314EF9AA951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наблюдения и регистрации элементарны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6989-6BA2-4BB0-8BBA-FD21A5548A3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четчик Гейг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явле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ной ион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н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олько факт пролета час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8A3E-5C16-44E5-8BBC-886EE771975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а Вильс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денсации перенасыщ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5D8C-A4B8-4E1F-8E49-ADC290CBCC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зырьковая 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 пузырьков пара в перегретой жид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EE97-2656-4D68-B837-881D45897DE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 толстослойных фотоэмуль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ионизирующее действие заряженных частиц на фотоэмульсию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редки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55A4-A2D6-48A1-988E-CDEF09D1F78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240-8912-4C86-B251-7A67F56B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01C-9E81-43AA-B775-B5154115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71E-7519-4EF8-8329-BCBCEBFD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39E-C5C9-4205-AEEC-3B06ACDB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AE8F-8DA2-47B7-9575-038B9AFE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ABB-EC87-460E-A691-90151398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609-A291-4A66-AFA8-86A62E4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E15A-3B70-4544-BC3E-59E743DF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08B6-8FCA-468A-8DAC-C8F1B96A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338A-DC2B-4B8C-93ED-DBD5F53C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2513-0F04-49F0-974D-0F65FD94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3D3-6CC6-47E6-B65D-9C1B6C1B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C8E9-326C-492E-AD7A-922201ED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F93D-C34D-4E1F-B0E1-B03DA11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2DE8-7E32-4F57-8802-3609B0BC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DC70-F4FE-4ADE-BAEC-A4433662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102D-0242-4B8D-BF94-A6AA914C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0E4-4340-473E-9BAD-A4BAA832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8F3-84FD-4BB9-88C9-01EBEABF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DD2-2AA4-48E9-BB0A-DBFEF40F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017-73C1-45BE-BB37-00CA387C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4B0-8073-45ED-A576-8CD662D1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5DE-39E3-4E57-A6B9-AEA7E7F0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09F-44B9-4EB9-B524-3B00A5D4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ADA7-A5F4-47AC-89F9-5DA79EF415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C03E-17C0-44A4-8649-50049785BB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дра и частиц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333360"/>
          <a:ext cx="8713800" cy="62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116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ен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ра всех атомов из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элементарный заряд +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заряд ядра равен нулю, 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название протонов и нейтронов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кл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 нуклонами действует короткодействующие силы притяжения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ерные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и совпадает с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рядковым номером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 в таблице Менделее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яд ядро равен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число нейтронов и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называется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овым числом: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=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+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значение яде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где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бозначение химического элемен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имер 11Н – ядро атома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рода (прото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отоп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 называются атомы, име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й заряд ядра , но различн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с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се изотопы одного и того же элемента облад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ми химическими свойств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, но могут отличать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оактив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йтер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т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вляются изотопами водорода (тритий радиоактив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554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ом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5949720"/>
            <a:ext cx="453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д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Атомы изотопов водорода"/>
          <p:cNvPicPr/>
          <p:nvPr/>
        </p:nvPicPr>
        <p:blipFill>
          <a:blip r:embed="rId1"/>
          <a:stretch/>
        </p:blipFill>
        <p:spPr>
          <a:xfrm>
            <a:off x="179280" y="0"/>
            <a:ext cx="6193080" cy="24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Ядра изотопов водорода"/>
          <p:cNvPicPr/>
          <p:nvPr/>
        </p:nvPicPr>
        <p:blipFill>
          <a:blip r:embed="rId2"/>
          <a:stretch/>
        </p:blipFill>
        <p:spPr>
          <a:xfrm>
            <a:off x="4140360" y="3068640"/>
            <a:ext cx="4465440" cy="2782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изотоп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 мече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том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иология, физиология, медицина, промышленность, археология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чни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луч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«кобальтовая пушка» изотопом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корение мутац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искусственного отбора (в сельском хозяйств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22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наблюдения и регистрации элементарных част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Счетчик Гейгер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явлен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ой иониз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нт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олько факт пролета час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3840" cy="16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311800" cy="296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Безымянный1"/>
          <p:cNvPicPr/>
          <p:nvPr/>
        </p:nvPicPr>
        <p:blipFill>
          <a:blip r:embed="rId2"/>
          <a:stretch/>
        </p:blipFill>
        <p:spPr>
          <a:xfrm>
            <a:off x="5003640" y="2781360"/>
            <a:ext cx="3792600" cy="34131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мера Вильсо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денсации перенасыщен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t001_57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13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Безымянный11"/>
          <p:cNvPicPr/>
          <p:nvPr/>
        </p:nvPicPr>
        <p:blipFill>
          <a:blip r:embed="rId2"/>
          <a:stretch/>
        </p:blipFill>
        <p:spPr>
          <a:xfrm>
            <a:off x="5148360" y="1916280"/>
            <a:ext cx="3440160" cy="4265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узырьковая каме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пузырьков пара в перегретой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Безымянный2"/>
          <p:cNvPicPr/>
          <p:nvPr/>
        </p:nvPicPr>
        <p:blipFill>
          <a:blip r:embed="rId1"/>
          <a:stretch/>
        </p:blipFill>
        <p:spPr>
          <a:xfrm>
            <a:off x="1332000" y="836640"/>
            <a:ext cx="6613560" cy="4408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 толстослойных фотоэмульс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ионизирующее действие заряженных частиц на фотоэмульсию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редкие я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0:39Z</dcterms:created>
  <dc:creator>Гость</dc:creator>
  <dc:description/>
  <dc:language>en-US</dc:language>
  <cp:lastModifiedBy>LEGION</cp:lastModifiedBy>
  <dcterms:modified xsi:type="dcterms:W3CDTF">2015-05-01T09:28:06Z</dcterms:modified>
  <cp:revision>14</cp:revision>
  <dc:subject/>
  <dc:title>Заряжённые час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