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95D-6EB4-42DD-BC0B-FE1505FF04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е от песчинок до планет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лементов состоит единых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И.Менделее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BFC4-031A-4B29-BD5F-2DA9C5F2526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имеет очень малые размеры, порядка долей нано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нм = 10-9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числен объем, приходящийся на один 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/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радиус атома железа составляет 0,13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7989-9926-4253-87E3-228D1ED1E80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2EF0-A283-436B-84E7-EDB1A96CB60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ное ядр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F473-81B0-4DC6-B08A-33319E187D1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5EB-F486-4D5C-9CE6-E20D5576D25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CE16-52D9-45FE-BEEF-3A87DD652B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электрона в ат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оя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ED5E-C5A7-47C4-8194-90DBB37A62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5AD6-BD56-45B9-A755-F3F45D0068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остав атома элемента но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ариант                      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                         1)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  2)19 (К,  К,  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                        3)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B668-8F51-4878-919B-D2FC10F010D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ыберите элемент в ПСХЭ и запишите его 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Запишите атомный номер элемен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массовое число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пишите знач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низу и значение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верху у знака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Определите состав ат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пишите 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делайте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=11-5=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(5р,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атома бора состоит из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ят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шест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электронная оболочка- из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яти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1C43-5352-4EEA-981D-8E4A5094B78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ткройте ОК «Химия, 8 кл.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омпонент «Курсы»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кладка «Учебни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абриелян О.С., глава 1, основные сведения о строении ато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Состав атома. Тренаж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ыполните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8B7D-1C82-404D-8A1D-F34D9AFBE3D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томы химических элемен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 о строени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сложности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ного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овочны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E712-6BE2-49CF-BC41-03FCAE97113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кр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460–371 гг. н.э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E4AB-2F43-4724-9265-F73AF932FCE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оносов Михаил Васильеви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(1711–176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90D6-C6E3-429A-99A4-C47DE89FAFF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ьтон Джон (1766–1844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B88C-F7F3-424F-B335-596902EEAE3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сон Джон Падж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92–1975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8807-B836-4F87-8678-FDEE1721A78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ерфорд Эрнс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71–1937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9C43-F9F8-400F-B18B-1E4A0A868ED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7d18"/>
                </a:solidFill>
                <a:latin typeface="Calibri"/>
              </a:rPr>
              <a:t>Атом</a:t>
            </a: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8A1D-5490-4CB0-BA10-34E9E37798B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7D2-FC8C-46EA-9A2E-0BB4D0F198D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7E0-3581-4C04-8D5D-F59BC364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E73-2558-4A6D-BA88-5FFCA91C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B8A-EC93-420E-8C70-01D24588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60D-DA75-4863-BAC5-9F48A92F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262C-3555-4084-8C4E-30DB54C1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7215-6F5B-4D73-9ECA-0F18017E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D020-7C37-4189-A72D-3C402BE8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A06F-B800-4F4E-9947-4FA8CEB9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5664-1D59-45DD-880B-5D1DD31D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27BD-5C8C-4155-A54A-F67A2C06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EBE4-A599-4629-BEAB-0A04CCFC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55B-A73E-4D3B-8E02-485957E0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00FA-84DA-4C42-B25E-954DACF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D5F9-81E9-4C40-B934-91B8945B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2364-FBCD-4886-B0AB-09F04F73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AAC4-4DD8-4139-81B1-0EF83797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C448-8625-4D20-AC45-897B91DC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B439-1826-4D95-9A9D-095C44E6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1BCB-CC2F-4C36-A0C2-5BFEFD5C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A8AB-831F-4394-9287-89EC8E63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170B-3823-4FC7-857F-6C84F687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3103-0F5E-40A5-948E-50FDD9D2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840-3533-4017-B4E0-9892F5F6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2C0E-4E17-45D3-A588-DBE03B7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A87D-DCF5-4F25-B5D0-8E19A053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FA09-7DCA-44CB-9535-E4B6E284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E124-FFF7-4435-BAA7-2DFE79B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14FD-3B48-43C7-BE83-E1CCB71C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51F7-CFB8-434F-89D8-59BB2267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5783D-C5AF-42F8-93AB-9B7D2A06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24133-E10D-4F69-A6A4-F229A719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852A4-8093-4525-8C9C-70F34128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E62C-B485-4F06-91E5-DE66A127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DB3-E413-44FA-BEA5-87532999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D0B6E-3B50-4725-98BD-D81CD10A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EEDD-9051-4C47-89E9-E2A38238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2AD2-87B3-4093-891F-7BFEE5EA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4B4F-0B9B-4EBD-B55C-C23628AA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E9A7-1926-4A23-94D8-9227B199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5510-6365-4877-8A69-5EEDB7F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7989D-DB91-4405-AE02-69196E9D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4EA5-E65D-46F0-BD29-5F639AE3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46A8-C843-46D1-9453-C075E3D5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9307E-FB89-43AD-85AD-C50A864E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8FA-CD51-47D0-A23E-3039EB6A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B2840-BA41-4222-950A-805A32D3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BB72D-CF60-437D-9FF9-0430DC12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28826-4829-4014-A76B-B5D35615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12B57-4ED2-4410-BFC4-9C77AB97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12F9A-6CAC-423B-A0BF-6F6E92AA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EA4C2-CA82-4496-88E5-E981608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DBDD-D72B-4119-AAF1-BDAAC3C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B89D1-AB0D-46DE-A65D-0443E31E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411FD-094E-48BA-BCDB-C813E8B4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0569F-C2CB-4D2A-BD5A-ED7CFF6D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0F1-6CA5-4831-9AC1-4EF51D71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F7AA-080B-4D39-8A3E-7109D324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4C43-E389-4B3D-9FC6-3E7446D8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CDCC2-E818-4645-A5BE-B5D98EA6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28965-1FC3-462C-9093-C849BF28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A2B91-6891-4549-B81E-CC9EFE30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21756-ECCD-4C55-958C-E15BF03D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17587-ADD4-448E-A22F-C8F7D8EA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9D181-E54F-4340-A9E2-82E34F32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4131C-864A-4B0A-8B06-D883DCD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A9009-5796-44F3-8067-E99714E2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02A-12A3-4559-8881-0F525D3F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1E31-C0AC-42A7-8C22-C3DF84D7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52E8E-9052-46CA-B0F6-C555DDBF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AD3D3-D20C-4932-936A-29E65294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5B9-2106-48B3-8B8F-EDB92B9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613-DAA5-4158-BA01-24ACCE5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F0F2-F026-4CB5-B640-B29FF54C696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8C42-0443-43D4-A7C0-80708B5B0D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CB8-808F-48AA-88AE-D5B203B23B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9D77-C7FA-4DED-A3C1-52877F6CAE3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19BA-4205-495C-8664-6264F93B8C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09CF-A0E1-4BC5-9CA6-087435BC57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Все от песчинок до планет-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элементов состоит единых…»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.И.Менделее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4" name="Picture 4" descr="resEF7CBCC1-0A01-000A-01FB-2220216C35BC"/>
          <p:cNvPicPr/>
          <p:nvPr/>
        </p:nvPicPr>
        <p:blipFill>
          <a:blip r:embed="rId1"/>
          <a:stretch/>
        </p:blipFill>
        <p:spPr>
          <a:xfrm>
            <a:off x="826920" y="1974960"/>
            <a:ext cx="7417080" cy="44784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мер атом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том имеет очень малые размеры, порядка долей нано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 нм = 10-9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вычислен объем, приходящийся на один а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о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/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ример, радиус атома железа составляет 0,13 н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томное ядро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276720" y="189000"/>
            <a:ext cx="27352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2421000"/>
          <a:ext cx="7993080" cy="3887640"/>
        </p:xfrm>
        <a:graphic>
          <a:graphicData uri="http://schemas.openxmlformats.org/drawingml/2006/table">
            <a:tbl>
              <a:tblPr/>
              <a:tblGrid>
                <a:gridCol w="2035440"/>
                <a:gridCol w="1939680"/>
                <a:gridCol w="40179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Велич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Обозначе­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Количественные соотнош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Массовое число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 = Z + 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прот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нейтр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Электроны</a:t>
            </a:r>
            <a:br>
              <a:rPr sz="32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электрона в атом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роятност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24000" y="1121040"/>
            <a:ext cx="850716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199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ОМНИТЕ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8" name="DefaultOcx" descr=""/>
          <p:cNvPicPr/>
          <p:nvPr/>
        </p:nvPicPr>
        <p:blipFill>
          <a:blip r:embed="rId1"/>
          <a:stretch/>
        </p:blipFill>
        <p:spPr>
          <a:xfrm>
            <a:off x="-4578480" y="261000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 состав атома элемента но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вариант                      2 вариа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                          1)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   2)19 (К,  К,  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5                        3)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Выберите элемент в ПСХЭ и запишите его зна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Запишите атомный номер элемент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его массовое число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Запишите значе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низу и значение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верху у знака эле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Определите состав атом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прот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ней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Запишите состав ато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.Сделайте вы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=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е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=11-5=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(5р, 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Ядро атома бора состоит из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пяти прот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шести нейтр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электронная оболочка- из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пяти 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ние №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Откройте ОК «Химия, 8 кл.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компонент «Курсы»;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закладка «Учебники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Габриелян О.С., глава 1, основные сведения о строении атом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Состав атома. Тренаже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выполните тес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омы химических элемент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е сведения о строении атом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азательства сложности строения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ного яд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ровочные з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resEF7CBE1C-0A01-000A-00CC-C626666AB273"/>
          <p:cNvPicPr/>
          <p:nvPr/>
        </p:nvPicPr>
        <p:blipFill>
          <a:blip r:embed="rId1"/>
          <a:stretch/>
        </p:blipFill>
        <p:spPr>
          <a:xfrm>
            <a:off x="611280" y="765000"/>
            <a:ext cx="8281800" cy="590400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8"/>
          <p:cNvSpPr/>
          <p:nvPr/>
        </p:nvSpPr>
        <p:spPr>
          <a:xfrm>
            <a:off x="1692360" y="1628640"/>
            <a:ext cx="2173320" cy="2087640"/>
          </a:xfrm>
          <a:custGeom>
            <a:avLst/>
            <a:gdLst>
              <a:gd name="textAreaLeft" fmla="*/ 290880 w 2173320"/>
              <a:gd name="textAreaRight" fmla="*/ 1882440 w 217332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5003640" y="1052640"/>
            <a:ext cx="878040" cy="1574640"/>
          </a:xfrm>
          <a:custGeom>
            <a:avLst/>
            <a:gdLst>
              <a:gd name="textAreaLeft" fmla="*/ 117360 w 878040"/>
              <a:gd name="textAreaRight" fmla="*/ 760680 w 8780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5580000" y="4869000"/>
            <a:ext cx="1152720" cy="57600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5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21560" y="970920"/>
            <a:ext cx="73018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емокрит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460–371 гг. н.э.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8" descr="res6563BF91-BED0-4064-8121-4F0CCE66DA3A"/>
          <p:cNvPicPr/>
          <p:nvPr/>
        </p:nvPicPr>
        <p:blipFill>
          <a:blip r:embed="rId1"/>
          <a:stretch/>
        </p:blipFill>
        <p:spPr>
          <a:xfrm>
            <a:off x="826920" y="23493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50320" y="1038960"/>
            <a:ext cx="6877800" cy="80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Ломоносов Михаил Васильевич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(1711–1765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16360" y="2565000"/>
            <a:ext cx="3919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Picture 9" descr="res682B98E1-067C-4EFF-B78D-08D8042B6B82"/>
          <p:cNvPicPr/>
          <p:nvPr/>
        </p:nvPicPr>
        <p:blipFill>
          <a:blip r:embed="rId1"/>
          <a:stretch/>
        </p:blipFill>
        <p:spPr>
          <a:xfrm>
            <a:off x="971640" y="2421000"/>
            <a:ext cx="3240000" cy="36003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льтон Джон (1766–1844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95280" y="2361960"/>
            <a:ext cx="4535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Picture 6" descr="resBF03F592-A2F8-492D-8AF3-BEF90CF76D76"/>
          <p:cNvPicPr/>
          <p:nvPr/>
        </p:nvPicPr>
        <p:blipFill>
          <a:blip r:embed="rId1"/>
          <a:stretch/>
        </p:blipFill>
        <p:spPr>
          <a:xfrm>
            <a:off x="1042920" y="2766960"/>
            <a:ext cx="2952720" cy="296712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омсон Джон Падже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92–1975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140360" y="2349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8" descr="res02BB57E3-D321-4A2E-8C82-D4F3F2FC87C1"/>
          <p:cNvPicPr/>
          <p:nvPr/>
        </p:nvPicPr>
        <p:blipFill>
          <a:blip r:embed="rId1"/>
          <a:stretch/>
        </p:blipFill>
        <p:spPr>
          <a:xfrm>
            <a:off x="826920" y="2421000"/>
            <a:ext cx="3240360" cy="33843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08640" y="956160"/>
            <a:ext cx="6814080" cy="88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езерфорд Эрнс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71–1937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140360" y="2394000"/>
            <a:ext cx="475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Picture 9" descr="resED23752C-71C7-4157-9B86-577FD0589B1E"/>
          <p:cNvPicPr/>
          <p:nvPr/>
        </p:nvPicPr>
        <p:blipFill>
          <a:blip r:embed="rId1"/>
          <a:stretch/>
        </p:blipFill>
        <p:spPr>
          <a:xfrm>
            <a:off x="900000" y="2421000"/>
            <a:ext cx="3024360" cy="32400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179280" y="1474560"/>
            <a:ext cx="87138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384800" y="649440"/>
            <a:ext cx="411876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47d18"/>
                </a:solidFill>
                <a:latin typeface="Arial"/>
              </a:rPr>
              <a:t>Атом</a:t>
            </a:r>
            <a:br>
              <a:rPr sz="3200"/>
            </a:b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1" name="Picture 10" descr="resEF7CBD0E-0A01-000A-014B-6B89448ABFA7"/>
          <p:cNvPicPr/>
          <p:nvPr/>
        </p:nvPicPr>
        <p:blipFill>
          <a:blip r:embed="rId1"/>
          <a:stretch/>
        </p:blipFill>
        <p:spPr>
          <a:xfrm>
            <a:off x="179280" y="476280"/>
            <a:ext cx="3529080" cy="244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79280" y="1557360"/>
            <a:ext cx="8640000" cy="4780800"/>
            <a:chOff x="179280" y="1557360"/>
            <a:chExt cx="8640000" cy="4780800"/>
          </a:xfrm>
        </p:grpSpPr>
        <p:cxnSp>
          <p:nvCxnSpPr>
            <p:cNvPr id="305" name="_s1028"/>
            <p:cNvCxnSpPr>
              <a:stCxn id="306" idx="0"/>
              <a:endCxn id="307" idx="2"/>
            </p:cNvCxnSpPr>
            <p:nvPr/>
          </p:nvCxnSpPr>
          <p:spPr>
            <a:xfrm flipV="1">
              <a:off x="7522560" y="4560840"/>
              <a:ext cx="3960" cy="56880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08" name="_s1029"/>
            <p:cNvCxnSpPr>
              <a:stCxn id="309" idx="0"/>
              <a:endCxn id="310" idx="2"/>
            </p:cNvCxnSpPr>
            <p:nvPr/>
          </p:nvCxnSpPr>
          <p:spPr>
            <a:xfrm flipV="1" rot="16200000">
              <a:off x="3456720" y="4088520"/>
              <a:ext cx="568800" cy="151272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1" name="_s1030"/>
            <p:cNvCxnSpPr>
              <a:stCxn id="312" idx="0"/>
              <a:endCxn id="310" idx="2"/>
            </p:cNvCxnSpPr>
            <p:nvPr/>
          </p:nvCxnSpPr>
          <p:spPr>
            <a:xfrm flipH="1" flipV="1" rot="5400000">
              <a:off x="1945800" y="4089960"/>
              <a:ext cx="568800" cy="151020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3" name="_s1031"/>
            <p:cNvCxnSpPr>
              <a:stCxn id="307" idx="0"/>
              <a:endCxn id="314" idx="2"/>
            </p:cNvCxnSpPr>
            <p:nvPr/>
          </p:nvCxnSpPr>
          <p:spPr>
            <a:xfrm flipV="1" rot="16200000">
              <a:off x="6105600" y="1915560"/>
              <a:ext cx="565200" cy="226980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5" name="_s1032"/>
            <p:cNvCxnSpPr>
              <a:stCxn id="310" idx="0"/>
              <a:endCxn id="314" idx="2"/>
            </p:cNvCxnSpPr>
            <p:nvPr/>
          </p:nvCxnSpPr>
          <p:spPr>
            <a:xfrm flipH="1" flipV="1" rot="5400000">
              <a:off x="3836520" y="1915920"/>
              <a:ext cx="565200" cy="226908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314" name="_s1033"/>
            <p:cNvSpPr/>
            <p:nvPr/>
          </p:nvSpPr>
          <p:spPr>
            <a:xfrm>
              <a:off x="3957120" y="15573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cc99ff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200" spc="-1" strike="noStrike">
                  <a:solidFill>
                    <a:srgbClr val="003366"/>
                  </a:solidFill>
                  <a:latin typeface="Tahoma"/>
                </a:rPr>
                <a:t>атом</a:t>
              </a:r>
              <a:endParaRPr b="0" lang="en-US" sz="9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_s1034"/>
            <p:cNvSpPr/>
            <p:nvPr/>
          </p:nvSpPr>
          <p:spPr>
            <a:xfrm>
              <a:off x="168876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66"/>
                  </a:solidFill>
                  <a:latin typeface="Tahoma"/>
                </a:rPr>
                <a:t>ядро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_s1035"/>
            <p:cNvSpPr/>
            <p:nvPr/>
          </p:nvSpPr>
          <p:spPr>
            <a:xfrm>
              <a:off x="622620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электронная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оболочка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_s1036"/>
            <p:cNvSpPr/>
            <p:nvPr/>
          </p:nvSpPr>
          <p:spPr>
            <a:xfrm>
              <a:off x="179280" y="5142960"/>
              <a:ext cx="25894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прот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_s1037"/>
            <p:cNvSpPr/>
            <p:nvPr/>
          </p:nvSpPr>
          <p:spPr>
            <a:xfrm>
              <a:off x="320112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ней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_s1038"/>
            <p:cNvSpPr/>
            <p:nvPr/>
          </p:nvSpPr>
          <p:spPr>
            <a:xfrm>
              <a:off x="622620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элек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26:55Z</dcterms:created>
  <dc:creator>Дмитрий Сергеевич</dc:creator>
  <dc:description/>
  <dc:language>en-US</dc:language>
  <cp:lastModifiedBy>LEGION</cp:lastModifiedBy>
  <dcterms:modified xsi:type="dcterms:W3CDTF">2015-05-01T09:28:49Z</dcterms:modified>
  <cp:revision>13</cp:revision>
  <dc:subject/>
  <dc:title>Состав ато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