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44BD-5A3E-4162-9C51-2E7395A152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е от песчинок до планет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лементов состоит единых…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.И.Менделее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37AE-3699-46AA-A767-1EB24C12887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р атом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имеет очень малые размеры, порядка долей наноме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нм = 10-9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атомов в твердом или жидком веществе можно рассчитать, зная плотность вещества r, из которой может быть найден молярный объем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 =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/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ычислен объем, приходящийся на один 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 =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/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радиус атома железа составляет 0,13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74E5-3CBB-474F-8343-E47AC451DB5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В то же время содержание нейтронов в ядрах одного и того же элемента может быть перем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массы атомов одного элемента могут быть различными. Эти различные виды атомов одного химического элемента называются изотопами (от "изо" – равный и "топос" – место), так как они занимают одно место в таблице Д. И. Менделеева, поскольку принадлежат одному элеме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ные в таблице Д. И. Менделеева атомные массы элементов – это средние атомные массы природной смеси изотопов данного элемента с учетом их относительного содержания в природе, поэтому они могут отличаться от целых чис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ним, что атомная единица массы – это 1/12 массы атома углерода, причем того его изотопа, в ядре которого находится 6 протонов и 6 ней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B849-4674-4886-9906-7FF04C48914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омное ядр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вся масса атома (более 99,95%) сосредоточена в очень малом объеме – в ядре атома, находящемся в его центре. Диаметр ядра, если считать его шарообразным, составляет приблизительно одну стотысячную часть от диаметр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атомов имеют сложное строение. Они состоят из двух видов частиц с почти одинаковой массой, практически равной 1 а. е. м., электронейтральных нейтронов и положительно заряженных протонов, причем положительный заряд протона – наименьший существующий в природе электрический заряд, т. е. элементарный, который далее неделим. Заряд протона принимают за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ядра атомов заряжены положительно, их заряд численно равен числу протонов, а массы ядер, следовательно и массы атомов, выраженные в атомных единицах массы, близки к целым чис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473C-7C49-445E-AB97-F5AE7832D76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47d18"/>
                </a:solidFill>
                <a:latin typeface="Verdana"/>
                <a:ea typeface="Arial"/>
              </a:rPr>
              <a:t>Яд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5B65-4FC6-4CE2-8DD5-B2BE8B8F476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ы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ещества электронейтральны. Атомы – составные части вещества, следовательно, атомы в целом должны быть нейтральны. В состав атома, кроме положительно заряженного ядра, входят отрицательно заряженные частицы – элект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ический заряд электрона (отрицательный) численно равен заряду протона (положительному). Ясно поэтому, что в нейтральном атоме число электронов равно числу протонов в его ядре. Таким образом, атом состоит из очень маленького, но тяжелого положительно заряженного ядра, в состав которого входят протоны и нейтроны. Около ядра движутся еще меньшие отрицательно заряженные электроны. (Масса электрона равна приблизительно 1/2000 а. е. м., т. е. электрон приблизительно в 2000 раз легче протона или нейтрон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B0E7-D8EE-4D8A-9477-AE4655E441B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электрона в ато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ы в атоме не могут быть неподвижными. Если бы электрон был неподвижным, то под действием силы притяжения к положительно заряженному ядру он немедленно упал бы на ядро. Но электрон и не вращается вокруг ядра. Движение электрона, как и других частиц субатомных размеров (т. е. размеров, меньших атомных), описывается законами квантовой меха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квантовой механики, которым подчиняется движение электрона, указывают (причем точно) вероятность его нахождения в том или другом месте пространства. В одних местах его можно обнаружить чаще, и мы говорим о больш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оя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го нахождения в них, в других – реже, значит, имеется меньшая вероятность застать его там, в третьих он не бывает никогда, тогда говорят о нулевой вероя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 говорят о повышенной или пониженной электронной плотности в разных областях пространства около атомного я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лектроне, движущемся в этой области пространства, будем говорить, что он "находится на этой орбитали". Согласно законам квантовой механики на одной орбитали может находиться не более двух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BED7-4E15-44F1-905B-D0DCEB11173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61DB-4843-4B46-8120-2D39DF61669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ние №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состав атома элемента но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вариант                      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                         1)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  2)19 (К,  К,  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                        3)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077A-5A99-4A3C-A5A0-5F130634954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ыберите элемент в ПСХЭ и запишите его 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Запишите атомный номер элемен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го массовое число 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Запишите знач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ва внизу и значение 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ва вверху у знака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Определите состав ато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т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ней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Запишите состав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Сделайте 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=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)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е)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=11-5=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(5р,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о атома бора состоит из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ят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шест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электронная оболочка- из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яти 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64FF-02C1-41B6-B1ED-0E9D91F7F10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Откройте ОК «Химия, 8 кл.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омпонент «Курсы»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закладка «Учебни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абриелян О.С., глава 1, основные сведения о строении ато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Состав атома. Тренаж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ыполните 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3B73-31EC-4E9B-BD85-B4D075A3943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томы химических элемент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 о строени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а сложности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ного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ровочны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6564-FE84-4963-B42B-41F6C61BC81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мокри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460–371 гг. н.э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, философ-материалист. Ученик Левкиппа. Родился в Абдере (Фрак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Демокрита по всем отраслям науки того времени создали ему славу крупнейшего представителя древней атомистики. Признавал вечность материи и считал, что она состоит из бесконечного числа мельчайших неделимых частиц – атомов, различное сочетание которых образует бесчисленное множество разнообразных вещей и их свойств. Утверждал, что атомы движутся под влиянием господства необхо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F5D3-3030-4783-BF71-979A477CDFF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моносов Михаил Васильевич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(1711–1765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й ученый, с 1745 г. академик Петербургской АН. Изложил в 1741–1750 гг. основы атомно-корпускулярного учения; выдвинул в 1744–1748 гг. кинетическую теорию теплоты; обосновал в 1747–1752 гг. необходимость привлечения физики для объяснения химических явл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5488-2959-49A6-AD16-FA4B68D51B2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льтон Джон (1766–1844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мик и физик, с 1822 г. член Лондонского королевского общества. Родился в Иглсфилде (Кумберленд). Образование получил самостоятельно. В период с 1781 по 1793 гг. учитель математики в школе в Кендале, с 1793 г. преподавал физику и математику в Новом колледже в Манчес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EDD2-A986-4575-B899-A99FD1BAC27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мсон Джон Падже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892–1975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физик, в 1930 г. член Лондонского королевского общества. Родился в Кембридже. В 1914 г. окончил Кембриджский университет, там же работал в 1919–1922 гг. В 1922–1930 гг. – профессор Абердинского университета (Шотландия), в 1952–1962 гг. возглавлял один из колледжей в Кембрид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относятся к атомной и ядерной физике, квантовой механике, аэродинамике, электрическим разрядам в газах. В 1927 г. открыл явление дифракции электронов. Осуществил исследования по геометрии электронограмм, теории рассе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ражден медалями Д. Юза в 1939 г., Королевской в 1949 г., М. Фарадея в 1960 г. Лауреат Нобелевской премии в 1937 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658D-DDA0-4F4D-8AFA-3C672EED906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ерфорд Эрнс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871–1937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физик, с 1903 г. член Лондонского королевского общества, его президент в 1925–1930 гг. Родился в Спринг-Броуве (ныне Брайтуотер) в Новой Зеландии. В 1894 г. окончил Кентерберийский колледж Новозеландского университета в Крайстчерче. В 1895–1898 гг. работал в Кавендишской лаборатории Кембриджского университета под руководством физика Дж. Дж. Томсона, 1898–1907 гг. профессор Мак-Гиллского университета в Монреале (Канада), в 1907–1919 гг. Манчестерского университета. С 1919 г. профессор Кембриджского университета и директор Кавендишской лабора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учения о радиоактивности, ядерной физики и представлений о строении ато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AB9C-A78D-424B-A110-972A6D53127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7d18"/>
                </a:solidFill>
                <a:latin typeface="Calibri"/>
              </a:rPr>
              <a:t>Атом</a:t>
            </a: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именьшая электронейтральная частица химического элемента, являющаяся носителем его св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1085-9BE6-448E-BCAE-9AE6C7EFCD4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271E-64AC-45D0-8909-E2D31BC5CE6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841-44E9-40A5-A7CF-ABD6C8F4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EF0-2D6E-4469-A314-E58596E1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999-CA1F-4366-94A6-85D9A681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DE0-003D-40B2-9877-4C56C1A9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2B73-67A8-4CD9-9725-DFE26E51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CBB3-90EE-473D-B425-9C972260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D0C1-5059-41AD-A92D-90005579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A16C-4764-4928-B025-AAD1FC39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978A-FDF2-4C71-9D54-40A0C28E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9966-8827-4D4A-8F3D-2D16F77F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B68A-12CA-4CBD-92C9-9BC1023B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6FD-735C-4F38-823F-862B6CE0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52B5-C295-43E5-B0FA-D9F24229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6C7B-E7A8-4C02-A862-84DDA31A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DB71-21E9-4BB5-8A40-8D6CAD79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EC7D-C9A4-4AAD-B765-AA81B66E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3E73-1AC1-4983-9403-D46F3EED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89FD9-95F0-4F37-A38B-0C1E780D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1F278-63B4-41CD-BA31-EDD55710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E8EDF-60B9-4AC1-B913-ECB6C6FC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45ABD-A864-40D9-ADC6-F1E764BA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887F-2E5F-4094-8822-B6CE8EAA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3306-CCED-40D7-8D30-9E637FF9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CF2C6-621C-4098-86A8-EC335E72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72EE2-E27D-46BD-BD57-7882C58C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FFC3D-C3AF-4DF2-BBD7-70C8F5CE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04775-1002-4895-83BC-7547D8F8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36E70-9CF2-4114-AAE3-3C0B00B7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D8176-10AA-46E1-A5AB-72DFB77D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3F32-99FE-4AFE-899E-2E5051C2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DA34C-9ADC-4C4E-B4AE-94193DD5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2D660-4CCF-4F79-B3CB-95CA96CE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B00B-90C7-4FCE-A13A-DA08E53C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BD7-D43C-47F8-AA82-0A22B321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E9BAF-F571-46B3-A508-2B2503CD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9F56D-4205-431C-8CC0-9988B5CD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E457A-08DF-4B28-A88B-527B954B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40B8F-58A2-4F76-AEE9-EC8C72B7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C5FC6-3AFF-4FA2-B2CD-5EA80F15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034BB-D9E1-41BA-B6DD-0406CD1A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DB35A-0710-43FB-8C82-C84B89F3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A0D10-557F-41D6-9B0C-68FF0ED0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C591D-4E8C-4279-9919-71BC9D73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467D3-07AE-4DD1-B74B-0FB2312E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751-E445-4189-965B-FF1BCADD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A71D5-09AA-477B-9CE0-38DDD638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00F9F-2D4B-440B-A1C0-87ACA624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D7C84-5D9D-481C-8BD6-86758F8D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D76CE-710F-48BF-BDED-F274E639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35647-FBDD-48A3-B1EA-B0EC18CE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57023-4105-48BE-B4D3-75FEB771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25FC7-E862-4369-8A9C-C7AC396A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E9802-9A1F-4071-BE7B-E2EAB515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B273A-4721-492B-9B89-8829F497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BED8D-6BD4-4DD4-BEA6-33CCBF85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CB4-1D3E-436C-944C-3D4B4A19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5087-6EFF-43DE-A6D3-0819758B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DAA24-8E1E-477B-9488-A5A6894F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99427-1F3C-44D7-BF27-91FD1426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8D0B3-D7BC-495F-AD2C-67BFFFAC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1A13F-F54D-40F0-8758-CD2981DA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DEB0A-0837-4D26-BB48-8BB4A94E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40769-200D-495F-9581-8BE44086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8A241-7823-4C86-A591-009E9691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1EB45-1768-4BF5-9990-DAC5AC85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14487-965E-4D10-B12D-1579B9E8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F72-FFF0-4EF5-BA4C-FFC1AC14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DD264-3042-4E4D-9650-2BF467AA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F600C-C7D8-4564-B3BD-E92C13B2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70746-A5FA-4684-8551-75F3AD20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FBB-65C2-441C-928D-279F4268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079-53B3-40D6-BBBD-239F0E98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4642-436E-40A9-9339-75C793E1A6F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5DD0-91A2-4B2D-AD3B-28280005DAA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8CBF-1627-4329-A673-215DB5C809C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8255-BF7A-4D0F-AC2B-55F1A3F0AAC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EB68-885A-4168-BF85-4A5724423B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12DE-E146-4CDF-9673-14D581FDA83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Все от песчинок до планет-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з элементов состоит единых…»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Д.И.Менделее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4" name="Picture 4" descr="resEF7CBCC1-0A01-000A-01FB-2220216C35BC"/>
          <p:cNvPicPr/>
          <p:nvPr/>
        </p:nvPicPr>
        <p:blipFill>
          <a:blip r:embed="rId1"/>
          <a:stretch/>
        </p:blipFill>
        <p:spPr>
          <a:xfrm>
            <a:off x="826920" y="1974960"/>
            <a:ext cx="7417080" cy="44784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мер атомов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том имеет очень малые размеры, порядка долей нанометр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 нм = 10-9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ы атомов в твердом или жидком веществе можно рассчитать, зная плотность вещества r, из которой может быть найден молярный объем веще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 =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/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 вычислен объем, приходящийся на один ат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том =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/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пример, радиус атома железа составляет 0,13 н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став ато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В то же время содержание нейтронов в ядрах одного и того же элемента может быть переменны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едовательно, массы атомов одного элемента могут быть различными. Эти различные виды атомов одного химического элемента называются изотопами (от "изо" – равный и "топос" – место), так как они занимают одно место в таблице Д. И. Менделеева, поскольку принадлежат одному элемен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веденные в таблице Д. И. Менделеева атомные массы элементов – это средние атомные массы природной смеси изотопов данного элемента с учетом их относительного содержания в природе, поэтому они могут отличаться от целых чисе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помним, что атомная единица массы – это 1/12 массы атома углерода, причем того его изотопа, в ядре которого находится 6 протонов и 6 нейтро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томное ядро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ктически вся масса атома (более 99,95%) сосредоточена в очень малом объеме – в ядре атома, находящемся в его центре. Диаметр ядра, если считать его шарообразным, составляет приблизительно одну стотысячную часть от диаметра атом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дра атомов имеют сложное строение. Они состоят из двух видов частиц с почти одинаковой массой, практически равной 1 а. е. м., электронейтральных нейтронов и положительно заряженных протонов, причем положительный заряд протона – наименьший существующий в природе электрический заряд, т. е. элементарный, который далее неделим. Заряд протона принимают за 1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ким образом, ядра атомов заряжены положительно, их заряд численно равен числу протонов, а массы ядер, следовательно и массы атомов, выраженные в атомных единицах массы, близки к целым числа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276720" y="189000"/>
            <a:ext cx="27352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47d18"/>
                </a:solidFill>
                <a:latin typeface="Verdana"/>
                <a:ea typeface="Arial"/>
              </a:rPr>
              <a:t>Ядро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900000" y="2421000"/>
          <a:ext cx="7993080" cy="3887640"/>
        </p:xfrm>
        <a:graphic>
          <a:graphicData uri="http://schemas.openxmlformats.org/drawingml/2006/table">
            <a:tbl>
              <a:tblPr/>
              <a:tblGrid>
                <a:gridCol w="2035440"/>
                <a:gridCol w="1939680"/>
                <a:gridCol w="401796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Величин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Обозначе­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Количественные соотношен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Массовое число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A = Z + 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Число протон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Z = 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Число нейтрон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 = 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Электроны</a:t>
            </a:r>
            <a:br>
              <a:rPr sz="3200"/>
            </a:b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се вещества электронейтральны. Атомы – составные части вещества, следовательно, атомы в целом должны быть нейтральны. В состав атома, кроме положительно заряженного ядра, входят отрицательно заряженные частицы – электрон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лектрический заряд электрона (отрицательный) численно равен заряду протона (положительному). Ясно поэтому, что в нейтральном атоме число электронов равно числу протонов в его ядре. Таким образом, атом состоит из очень маленького, но тяжелого положительно заряженного ядра, в состав которого входят протоны и нейтроны. Около ядра движутся еще меньшие отрицательно заряженные электроны. (Масса электрона равна приблизительно 1/2000 а. е. м., т. е. электрон приблизительно в 2000 раз легче протона или нейтрона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5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вижение электрона в атом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Электроны в атоме не могут быть неподвижными. Если бы электрон был неподвижным, то под действием силы притяжения к положительно заряженному ядру он немедленно упал бы на ядро. Но электрон и не вращается вокруг ядра. Движение электрона, как и других частиц субатомных размеров (т. е. размеров, меньших атомных), описывается законами квантовой механик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коны квантовой механики, которым подчиняется движение электрона, указывают (причем точно) вероятность его нахождения в том или другом месте пространства. В одних местах его можно обнаружить чаще, и мы говорим о большей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ероятност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его нахождения в них, в других – реже, значит, имеется меньшая вероятность застать его там, в третьих он не бывает никогда, тогда говорят о нулевой вероятност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ответственно говорят о повышенной или пониженной электронной плотности в разных областях пространства около атомного ядр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 электроне, движущемся в этой области пространства, будем говорить, что он "находится на этой орбитали". Согласно законам квантовой механики на одной орбитали может находиться не более двух электрон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1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24000" y="1121040"/>
            <a:ext cx="850716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133200" bIns="13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81992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ПОМНИТЕ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8" name="DefaultOcx" descr=""/>
          <p:cNvPicPr/>
          <p:nvPr/>
        </p:nvPicPr>
        <p:blipFill>
          <a:blip r:embed="rId1"/>
          <a:stretch/>
        </p:blipFill>
        <p:spPr>
          <a:xfrm>
            <a:off x="-4578480" y="261000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дание №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 состав атома элемента номер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вариант                      2 вариа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                          1)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    2)19 (К,  К,  К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5                        3)5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лгорит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Выберите элемент в ПСХЭ и запишите его зна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Запишите атомный номер элемент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его массовое число </a:t>
            </a:r>
            <a:r>
              <a:rPr b="0" lang="ru-RU" sz="1600" spc="-1" strike="noStrike">
                <a:solidFill>
                  <a:srgbClr val="009900"/>
                </a:solidFill>
                <a:latin typeface="Verdana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Запишите значение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лева внизу и значение </a:t>
            </a:r>
            <a:r>
              <a:rPr b="0" lang="ru-RU" sz="1600" spc="-1" strike="noStrike">
                <a:solidFill>
                  <a:srgbClr val="0099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лева вверху у знака элемен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Определите состав атом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прот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36699"/>
                </a:solidFill>
                <a:latin typeface="Verdana"/>
              </a:rPr>
              <a:t>элек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1600" spc="-1" strike="noStrike">
                <a:solidFill>
                  <a:srgbClr val="9900ff"/>
                </a:solidFill>
                <a:latin typeface="Verdana"/>
              </a:rPr>
              <a:t>ней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.Запишите состав атом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6.Сделайте выв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ор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=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)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е)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=11-5=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(5р, 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Ядро атома бора состоит из </a:t>
            </a: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пяти прот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1600" spc="-1" strike="noStrike">
                <a:solidFill>
                  <a:srgbClr val="9900ff"/>
                </a:solidFill>
                <a:latin typeface="Verdana"/>
              </a:rPr>
              <a:t>шести нейтр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а электронная оболочка- из </a:t>
            </a:r>
            <a:r>
              <a:rPr b="0" lang="ru-RU" sz="1600" spc="-1" strike="noStrike">
                <a:solidFill>
                  <a:srgbClr val="336699"/>
                </a:solidFill>
                <a:latin typeface="Verdana"/>
              </a:rPr>
              <a:t>пяти элек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дание №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Откройте ОК «Химия, 8 кл.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компонент «Курсы»;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закладка «Учебники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Габриелян О.С., глава 1, основные сведения о строении атом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Состав атома. Тренажер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.выполните тес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томы химических элементов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ные сведения о строении атомо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азательства сложности строения ато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ав ато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ав атомного яд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енировочные зад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6" descr="resEF7CBE1C-0A01-000A-00CC-C626666AB273"/>
          <p:cNvPicPr/>
          <p:nvPr/>
        </p:nvPicPr>
        <p:blipFill>
          <a:blip r:embed="rId1"/>
          <a:stretch/>
        </p:blipFill>
        <p:spPr>
          <a:xfrm>
            <a:off x="611280" y="765000"/>
            <a:ext cx="8281800" cy="590400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8"/>
          <p:cNvSpPr/>
          <p:nvPr/>
        </p:nvSpPr>
        <p:spPr>
          <a:xfrm>
            <a:off x="1692360" y="1628640"/>
            <a:ext cx="2173320" cy="2087640"/>
          </a:xfrm>
          <a:custGeom>
            <a:avLst/>
            <a:gdLst>
              <a:gd name="textAreaLeft" fmla="*/ 290880 w 2173320"/>
              <a:gd name="textAreaRight" fmla="*/ 1882440 w 217332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5003640" y="1052640"/>
            <a:ext cx="878040" cy="1574640"/>
          </a:xfrm>
          <a:custGeom>
            <a:avLst/>
            <a:gdLst>
              <a:gd name="textAreaLeft" fmla="*/ 117360 w 878040"/>
              <a:gd name="textAreaRight" fmla="*/ 760680 w 878040"/>
              <a:gd name="textAreaTop" fmla="*/ 275400 h 1574640"/>
              <a:gd name="textAreaBottom" fmla="*/ 1141560 h 157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5580000" y="4869000"/>
            <a:ext cx="1152720" cy="57600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150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321560" y="970920"/>
            <a:ext cx="73018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Демокрит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460–371 гг. н.э.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ревнегреческий ученый, философ-материалист. Ученик Левкиппа. Родился в Абдере (Фракия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чинения Демокрита по всем отраслям науки того времени создали ему славу крупнейшего представителя древней атомистики. Признавал вечность материи и считал, что она состоит из бесконечного числа мельчайших неделимых частиц – атомов, различное сочетание которых образует бесчисленное множество разнообразных вещей и их свойств. Утверждал, что атомы движутся под влиянием господства необходим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Picture 8" descr="res6563BF91-BED0-4064-8121-4F0CCE66DA3A"/>
          <p:cNvPicPr/>
          <p:nvPr/>
        </p:nvPicPr>
        <p:blipFill>
          <a:blip r:embed="rId1"/>
          <a:stretch/>
        </p:blipFill>
        <p:spPr>
          <a:xfrm>
            <a:off x="826920" y="2349360"/>
            <a:ext cx="3457800" cy="360072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000" autoRev="1" fill="hold"/>
                                        <p:tgtEl>
                                          <p:spTgt spid="2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750320" y="1038960"/>
            <a:ext cx="6877800" cy="80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Ломоносов Михаил Васильевич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           (1711–1765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716360" y="2565000"/>
            <a:ext cx="3919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усский ученый, с 1745 г. академик Петербургской АН. Изложил в 1741–1750 гг. основы атомно-корпускулярного учения; выдвинул в 1744–1748 гг. кинетическую теорию теплоты; обосновал в 1747–1752 гг. необходимость привлечения физики для объяснения химических явлени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Picture 9" descr="res682B98E1-067C-4EFF-B78D-08D8042B6B82"/>
          <p:cNvPicPr/>
          <p:nvPr/>
        </p:nvPicPr>
        <p:blipFill>
          <a:blip r:embed="rId1"/>
          <a:stretch/>
        </p:blipFill>
        <p:spPr>
          <a:xfrm>
            <a:off x="971640" y="2421000"/>
            <a:ext cx="3240000" cy="36003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0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альтон Джон (1766–1844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95280" y="2361960"/>
            <a:ext cx="4535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нглийский химик и физик, с 1822 г. член Лондонского королевского общества. Родился в Иглсфилде (Кумберленд). Образование получил самостоятельно. В период с 1781 по 1793 гг. учитель математики в школе в Кендале, с 1793 г. преподавал физику и математику в Новом колледже в Манчестер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9" name="Picture 6" descr="resBF03F592-A2F8-492D-8AF3-BEF90CF76D76"/>
          <p:cNvPicPr/>
          <p:nvPr/>
        </p:nvPicPr>
        <p:blipFill>
          <a:blip r:embed="rId1"/>
          <a:stretch/>
        </p:blipFill>
        <p:spPr>
          <a:xfrm>
            <a:off x="1042920" y="2766960"/>
            <a:ext cx="2952720" cy="2967120"/>
          </a:xfrm>
          <a:prstGeom prst="rect">
            <a:avLst/>
          </a:prstGeom>
          <a:ln w="0">
            <a:noFill/>
          </a:ln>
        </p:spPr>
      </p:pic>
      <p:sp>
        <p:nvSpPr>
          <p:cNvPr id="2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омсон Джон Паджет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(1892–1975)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140360" y="2349000"/>
            <a:ext cx="475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глийский физик, в 1930 г. член Лондонского королевского общества. Родился в Кембридже. В 1914 г. окончил Кембриджский университет, там же работал в 1919–1922 гг. В 1922–1930 гг. – профессор Абердинского университета (Шотландия), в 1952–1962 гг. возглавлял один из колледжей в Кембридж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боты относятся к атомной и ядерной физике, квантовой механике, аэродинамике, электрическим разрядам в газах. В 1927 г. открыл явление дифракции электронов. Осуществил исследования по геометрии электронограмм, теории рассея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гражден медалями Д. Юза в 1939 г., Королевской в 1949 г., М. Фарадея в 1960 г. Лауреат Нобелевской премии в 1937 г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3" name="Picture 8" descr="res02BB57E3-D321-4A2E-8C82-D4F3F2FC87C1"/>
          <p:cNvPicPr/>
          <p:nvPr/>
        </p:nvPicPr>
        <p:blipFill>
          <a:blip r:embed="rId1"/>
          <a:stretch/>
        </p:blipFill>
        <p:spPr>
          <a:xfrm>
            <a:off x="826920" y="2421000"/>
            <a:ext cx="3240360" cy="33843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00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08640" y="956160"/>
            <a:ext cx="6814080" cy="88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Резерфорд Эрнст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(1871–1937)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140360" y="2394000"/>
            <a:ext cx="475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глийский физик, с 1903 г. член Лондонского королевского общества, его президент в 1925–1930 гг. Родился в Спринг-Броуве (ныне Брайтуотер) в Новой Зеландии. В 1894 г. окончил Кентерберийский колледж Новозеландского университета в Крайстчерче. В 1895–1898 гг. работал в Кавендишской лаборатории Кембриджского университета под руководством физика Дж. Дж. Томсона, 1898–1907 гг. профессор Мак-Гиллского университета в Монреале (Канада), в 1907–1919 гг. Манчестерского университета. С 1919 г. профессор Кембриджского университета и директор Кавендишской лаборатор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дин из основателей учения о радиоактивности, ядерной физики и представлений о строении атом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7" name="Picture 9" descr="resED23752C-71C7-4157-9B86-577FD0589B1E"/>
          <p:cNvPicPr/>
          <p:nvPr/>
        </p:nvPicPr>
        <p:blipFill>
          <a:blip r:embed="rId1"/>
          <a:stretch/>
        </p:blipFill>
        <p:spPr>
          <a:xfrm>
            <a:off x="900000" y="2421000"/>
            <a:ext cx="3024360" cy="32400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0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179280" y="1474560"/>
            <a:ext cx="871380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7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       </a:t>
            </a:r>
            <a:r>
              <a:rPr b="0" lang="ru-RU" sz="4800" spc="-1" strike="noStrike">
                <a:solidFill>
                  <a:srgbClr val="003366"/>
                </a:solidFill>
                <a:latin typeface="Arial"/>
                <a:ea typeface="Arial"/>
              </a:rPr>
              <a:t>Наименьшая электронейтральная частица химического элемента, являющаяся носителем его свойств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384800" y="649440"/>
            <a:ext cx="4118760" cy="138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47d18"/>
                </a:solidFill>
                <a:latin typeface="Arial"/>
              </a:rPr>
              <a:t>Атом</a:t>
            </a:r>
            <a:br>
              <a:rPr sz="3200"/>
            </a:b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1" name="Picture 10" descr="resEF7CBD0E-0A01-000A-014B-6B89448ABFA7"/>
          <p:cNvPicPr/>
          <p:nvPr/>
        </p:nvPicPr>
        <p:blipFill>
          <a:blip r:embed="rId1"/>
          <a:stretch/>
        </p:blipFill>
        <p:spPr>
          <a:xfrm>
            <a:off x="179280" y="476280"/>
            <a:ext cx="3529080" cy="244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Состав атома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04" name="Organization Chart 6"/>
          <p:cNvGrpSpPr/>
          <p:nvPr/>
        </p:nvGrpSpPr>
        <p:grpSpPr>
          <a:xfrm>
            <a:off x="179280" y="1557360"/>
            <a:ext cx="8640000" cy="4780800"/>
            <a:chOff x="179280" y="1557360"/>
            <a:chExt cx="8640000" cy="4780800"/>
          </a:xfrm>
        </p:grpSpPr>
        <p:cxnSp>
          <p:nvCxnSpPr>
            <p:cNvPr id="305" name="_s1028"/>
            <p:cNvCxnSpPr>
              <a:stCxn id="306" idx="0"/>
              <a:endCxn id="307" idx="2"/>
            </p:cNvCxnSpPr>
            <p:nvPr/>
          </p:nvCxnSpPr>
          <p:spPr>
            <a:xfrm flipV="1">
              <a:off x="7522560" y="4560840"/>
              <a:ext cx="3960" cy="568800"/>
            </a:xfrm>
            <a:prstGeom prst="bentConnector2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08" name="_s1029"/>
            <p:cNvCxnSpPr>
              <a:stCxn id="309" idx="0"/>
              <a:endCxn id="310" idx="2"/>
            </p:cNvCxnSpPr>
            <p:nvPr/>
          </p:nvCxnSpPr>
          <p:spPr>
            <a:xfrm flipV="1" rot="16200000">
              <a:off x="3456720" y="4088520"/>
              <a:ext cx="568800" cy="1512720"/>
            </a:xfrm>
            <a:prstGeom prst="bentConnector3">
              <a:avLst>
                <a:gd name="adj1" fmla="val 2096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1" name="_s1030"/>
            <p:cNvCxnSpPr>
              <a:stCxn id="312" idx="0"/>
              <a:endCxn id="310" idx="2"/>
            </p:cNvCxnSpPr>
            <p:nvPr/>
          </p:nvCxnSpPr>
          <p:spPr>
            <a:xfrm flipH="1" flipV="1" rot="5400000">
              <a:off x="1945800" y="4089960"/>
              <a:ext cx="568800" cy="1510200"/>
            </a:xfrm>
            <a:prstGeom prst="bentConnector3">
              <a:avLst>
                <a:gd name="adj1" fmla="val 2096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3" name="_s1031"/>
            <p:cNvCxnSpPr>
              <a:stCxn id="307" idx="0"/>
              <a:endCxn id="314" idx="2"/>
            </p:cNvCxnSpPr>
            <p:nvPr/>
          </p:nvCxnSpPr>
          <p:spPr>
            <a:xfrm flipV="1" rot="16200000">
              <a:off x="6105600" y="1915560"/>
              <a:ext cx="565200" cy="2269800"/>
            </a:xfrm>
            <a:prstGeom prst="bentConnector3">
              <a:avLst>
                <a:gd name="adj1" fmla="val 2103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5" name="_s1032"/>
            <p:cNvCxnSpPr>
              <a:stCxn id="310" idx="0"/>
              <a:endCxn id="314" idx="2"/>
            </p:cNvCxnSpPr>
            <p:nvPr/>
          </p:nvCxnSpPr>
          <p:spPr>
            <a:xfrm flipH="1" flipV="1" rot="5400000">
              <a:off x="3836520" y="1915920"/>
              <a:ext cx="565200" cy="2269080"/>
            </a:xfrm>
            <a:prstGeom prst="bentConnector3">
              <a:avLst>
                <a:gd name="adj1" fmla="val 21032"/>
              </a:avLst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314" name="_s1033"/>
            <p:cNvSpPr/>
            <p:nvPr/>
          </p:nvSpPr>
          <p:spPr>
            <a:xfrm>
              <a:off x="3957120" y="15573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cc99ff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200" spc="-1" strike="noStrike">
                  <a:solidFill>
                    <a:srgbClr val="003366"/>
                  </a:solidFill>
                  <a:latin typeface="Tahoma"/>
                </a:rPr>
                <a:t>атом</a:t>
              </a:r>
              <a:endParaRPr b="0" lang="en-US" sz="9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_s1034"/>
            <p:cNvSpPr/>
            <p:nvPr/>
          </p:nvSpPr>
          <p:spPr>
            <a:xfrm>
              <a:off x="1688760" y="33501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99cc99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366"/>
                  </a:solidFill>
                  <a:latin typeface="Tahoma"/>
                </a:rPr>
                <a:t>ядро</a:t>
              </a:r>
              <a:endParaRPr b="0" lang="en-US" sz="3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_s1035"/>
            <p:cNvSpPr/>
            <p:nvPr/>
          </p:nvSpPr>
          <p:spPr>
            <a:xfrm>
              <a:off x="6226200" y="33501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99cc99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3366"/>
                  </a:solidFill>
                  <a:latin typeface="Tahoma"/>
                </a:rPr>
                <a:t>электронная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3366"/>
                  </a:solidFill>
                  <a:latin typeface="Tahoma"/>
                </a:rPr>
                <a:t>оболочка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_s1036"/>
            <p:cNvSpPr/>
            <p:nvPr/>
          </p:nvSpPr>
          <p:spPr>
            <a:xfrm>
              <a:off x="179280" y="5142960"/>
              <a:ext cx="25894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прот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_s1037"/>
            <p:cNvSpPr/>
            <p:nvPr/>
          </p:nvSpPr>
          <p:spPr>
            <a:xfrm>
              <a:off x="3201120" y="51429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нейтр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_s1038"/>
            <p:cNvSpPr/>
            <p:nvPr/>
          </p:nvSpPr>
          <p:spPr>
            <a:xfrm>
              <a:off x="6226200" y="51429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электр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26:55Z</dcterms:created>
  <dc:creator>Дмитрий Сергеевич</dc:creator>
  <dc:description/>
  <dc:language>en-US</dc:language>
  <cp:lastModifiedBy>LEGION</cp:lastModifiedBy>
  <dcterms:modified xsi:type="dcterms:W3CDTF">2015-05-01T09:28:49Z</dcterms:modified>
  <cp:revision>13</cp:revision>
  <dc:subject/>
  <dc:title>Состав ато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