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400D-E65A-4976-AC0A-09BADB3F78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е от песчинок до планет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лементов состоит единых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И.Менделее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DA10-77EF-4F25-AFBA-67CCCAE08E3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имеет очень малые размеры, порядка долей нано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нм = 10-9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числен объем, приходящийся на один 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/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радиус атома железа составляет 0,13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45CD-345A-419A-801A-F4D6BD5B654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8CC4-0806-4B02-96C3-15D1A8D239B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ное ядр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C3C9-243C-4D14-B5F3-C633855FF7C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9802-E054-4FEC-9A8E-3983EC48DC8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4707-BB0C-4557-812E-7AF9DBC40CF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электрона в ат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оя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E30E-5278-4C60-ADC6-DB95F3D17CB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7CEC-F8AB-45C8-B20E-1CA1C01407E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остав атома элемента но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ариант                      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                         1)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  2)19 (К,  К,  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                        3)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E64E-D364-466D-B80F-26C03406DF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ыберите элемент в ПСХЭ и запишите его 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Запишите атомный номер элемен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массовое число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пишите знач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низу и значение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верху у знака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Определите состав ат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пишите 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делайте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=11-5=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(5р,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атома бора состоит из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ят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шест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электронная оболочка- из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яти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5FA7-87FC-4B28-8FD1-2D9FAFDA572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ткройте ОК «Химия, 8 кл.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омпонент «Курсы»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кладка «Учебни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абриелян О.С., глава 1, основные сведения о строении ато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Состав атома. Тренаж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ыполните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6986-7871-4E05-9B29-54AE9C8DBF6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томы химических элемен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 о строени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сложности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ного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овочны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9123-DE6D-4BEE-A11C-970684FCAD7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кр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460–371 гг. н.э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68D1-3442-4CA3-8412-8EA3B6A0649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оносов Михаил Васильеви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(1711–176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20F9-9D13-45C3-8C5F-0398E7C31F7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ьтон Джон (1766–1844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AFF9-950D-4942-8B23-40BE568CB2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сон Джон Падж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92–1975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DCD4-49FC-49DF-958E-FD7AEB65B03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ерфорд Эрнс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71–1937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C00-869C-4F43-8328-9F4553B1204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7d18"/>
                </a:solidFill>
                <a:latin typeface="Calibri"/>
              </a:rPr>
              <a:t>Атом</a:t>
            </a: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52ED-5464-4F29-A07A-EF843F04A92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DDB9-F125-4174-A0B5-368DD7227C8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40B-6E17-4E76-871D-E84C07C0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047-80EF-4AF7-85AB-B4A9601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781-D3C4-4D7A-B706-EDFF7ACC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DC4-9C69-4ACE-A37C-0F5FC2E2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B03E-6012-4E5F-8488-A0827501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E925-35D4-4F55-91CE-589CA539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1341-0961-43EE-839A-43867442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B7AA-BB59-498D-9FA8-DF91056E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C123-580D-4381-BC64-454876F4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6FC9-CB8D-4326-B516-447E9AE5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142C-A28F-44B0-BD66-88D2784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241-C518-4C33-A6C5-C5C1F5C4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83F1-38FB-4FE8-98C7-7B8A627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C163-E403-4A20-A54E-F2F422D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2FCC-F08C-4165-87EB-42E48D5D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30D2-DAA6-4C01-8364-804FFF8B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A974-AB27-480E-A2AF-29CCC0D1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646D-62EE-4027-BFC5-0358DA5D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9569-DE03-49E8-A420-32A53DFB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DB3B-59DE-4CC0-AECD-BE186DFA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015C-4F5F-482F-AEB0-E496C799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CB1F-25E1-4A0F-9D42-8E2DA517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793-A19C-4700-B749-2243C105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28AF-631A-4A47-AEF4-701FFDA1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5F356-3081-4E58-8FD2-BB1E5E19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512F-6D1A-4E2A-86F7-C624A85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5504-CC71-4ED7-865D-ACEE9F0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2799-D0B1-42E3-8FDF-F717CC1D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A80F-6CC6-4337-83CC-70331257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8245-5E00-4D8D-A439-A2091983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E5DC-3604-4054-8ED2-D6839476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9D31-640E-4479-A7BB-AC52847A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B4D7-C3A2-4B99-BEB0-B7AEA38A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BCA-F145-485C-AECC-C88776EE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2D91-0DFA-4C3A-B16B-7EA3CB1B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A07F6-747F-4917-89F4-C4D6E135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3264-186A-45E3-B6E3-1949EBD1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D742-43A7-4B55-A185-49E5609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57234-9422-4D58-9618-4300433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0A62-430E-432B-886D-A9F3A75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9E2B3-BC63-40E1-998B-C262DB77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D2CC5-CCAC-4C92-AEBA-3F631D52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1F26-ECED-442E-B697-3AF6832F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691F-3DEE-45AE-9085-9F5B9739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4BD-149F-4598-A0EB-8E215349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F5E6-ED8F-4CC8-AEE7-0467713C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401F-B4BB-4AB1-BCFE-88FC3D1C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11CB-A796-4006-80F5-E2674BE9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7FED7-EC83-4A1B-B273-796C040C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C4E9-75B3-49FD-9067-FA4F702D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E7C0-80E4-4945-B450-B2A0914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01251-4AF3-4C71-8534-DA64E34E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DC641-E312-4095-B83D-CE611E72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846A2-699A-4EDA-8688-7DCBE0F6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2C0D2-9871-4599-8374-DF2900E3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7DF-32FD-45E7-BABF-1D398A18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9D7D-F738-4633-8A6F-23310AFA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804D-4298-4C1A-9CEB-9012CF40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BD924-6DBB-4FB7-B305-0C98DAFE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CAFF-2887-4B08-8657-09ABBEE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3CCD8-221E-4615-8885-65ABD9B3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3C06-A19F-46AA-9DA2-DA517EE8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AD93-14A5-429D-A874-62E6499F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C93B8-B451-4A29-BA7D-2754080D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F38F-E254-4F7B-A02D-E4C633B7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C4197-73D3-4652-AD43-F589DAC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573-ABCA-4769-B5AA-89954B1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008C5-B09A-4ABB-8545-CC10AF55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06F15-27AA-4647-8182-03204E9F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4694-D3B1-4B0C-BC99-A6455EC5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A9E-294B-4C7E-86F9-B13683ED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17F-7EF6-4D82-8519-A1ADD83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838F-1BE2-4CCD-B765-287BC9E2003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1E7-B1A8-47D9-8C72-19E0787244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EE89-5265-4D36-9D08-C41155C60E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93A-8955-42DB-9493-D3FED410526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662-3CBB-4319-BC78-9B330CD1F9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435A-7CF3-4467-AF29-D0F76309F8B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Все от песчинок до планет-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элементов состоит единых…»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.И.Менделее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4" name="Picture 4" descr="resEF7CBCC1-0A01-000A-01FB-2220216C35BC"/>
          <p:cNvPicPr/>
          <p:nvPr/>
        </p:nvPicPr>
        <p:blipFill>
          <a:blip r:embed="rId1"/>
          <a:stretch/>
        </p:blipFill>
        <p:spPr>
          <a:xfrm>
            <a:off x="826920" y="1974960"/>
            <a:ext cx="7417080" cy="44784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мер атом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том имеет очень малые размеры, порядка долей нано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 нм = 10-9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вычислен объем, приходящийся на один а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о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/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ример, радиус атома железа составляет 0,13 н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томное ядро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276720" y="189000"/>
            <a:ext cx="27352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2421000"/>
          <a:ext cx="7993080" cy="3887640"/>
        </p:xfrm>
        <a:graphic>
          <a:graphicData uri="http://schemas.openxmlformats.org/drawingml/2006/table">
            <a:tbl>
              <a:tblPr/>
              <a:tblGrid>
                <a:gridCol w="2035440"/>
                <a:gridCol w="1939680"/>
                <a:gridCol w="40179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Велич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Обозначе­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Количественные соотнош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Массовое число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 = Z + 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прот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нейтр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Электроны</a:t>
            </a:r>
            <a:br>
              <a:rPr sz="32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электрона в атом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роятност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24000" y="1121040"/>
            <a:ext cx="850716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199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ОМНИТЕ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8" name="DefaultOcx" descr=""/>
          <p:cNvPicPr/>
          <p:nvPr/>
        </p:nvPicPr>
        <p:blipFill>
          <a:blip r:embed="rId1"/>
          <a:stretch/>
        </p:blipFill>
        <p:spPr>
          <a:xfrm>
            <a:off x="-4578480" y="261000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 состав атома элемента но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вариант                      2 вариа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                          1)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   2)19 (К,  К,  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5                        3)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Выберите элемент в ПСХЭ и запишите его зна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Запишите атомный номер элемент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его массовое число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Запишите значе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низу и значение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верху у знака эле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Определите состав атом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прот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ней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Запишите состав ато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.Сделайте вы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=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е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=11-5=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(5р, 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Ядро атома бора состоит из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пяти прот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шести нейтр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электронная оболочка- из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пяти 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ние №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Откройте ОК «Химия, 8 кл.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компонент «Курсы»;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закладка «Учебники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Габриелян О.С., глава 1, основные сведения о строении атом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Состав атома. Тренаже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выполните тес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омы химических элемент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е сведения о строении атом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азательства сложности строения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ного яд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ровочные з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resEF7CBE1C-0A01-000A-00CC-C626666AB273"/>
          <p:cNvPicPr/>
          <p:nvPr/>
        </p:nvPicPr>
        <p:blipFill>
          <a:blip r:embed="rId1"/>
          <a:stretch/>
        </p:blipFill>
        <p:spPr>
          <a:xfrm>
            <a:off x="611280" y="765000"/>
            <a:ext cx="8281800" cy="590400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8"/>
          <p:cNvSpPr/>
          <p:nvPr/>
        </p:nvSpPr>
        <p:spPr>
          <a:xfrm>
            <a:off x="1692360" y="1628640"/>
            <a:ext cx="2173320" cy="2087640"/>
          </a:xfrm>
          <a:custGeom>
            <a:avLst/>
            <a:gdLst>
              <a:gd name="textAreaLeft" fmla="*/ 290880 w 2173320"/>
              <a:gd name="textAreaRight" fmla="*/ 1882440 w 217332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5003640" y="1052640"/>
            <a:ext cx="878040" cy="1574640"/>
          </a:xfrm>
          <a:custGeom>
            <a:avLst/>
            <a:gdLst>
              <a:gd name="textAreaLeft" fmla="*/ 117360 w 878040"/>
              <a:gd name="textAreaRight" fmla="*/ 760680 w 8780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5580000" y="4869000"/>
            <a:ext cx="1152720" cy="57600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5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21560" y="970920"/>
            <a:ext cx="73018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емокрит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460–371 гг. н.э.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8" descr="res6563BF91-BED0-4064-8121-4F0CCE66DA3A"/>
          <p:cNvPicPr/>
          <p:nvPr/>
        </p:nvPicPr>
        <p:blipFill>
          <a:blip r:embed="rId1"/>
          <a:stretch/>
        </p:blipFill>
        <p:spPr>
          <a:xfrm>
            <a:off x="826920" y="23493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50320" y="1038960"/>
            <a:ext cx="6877800" cy="80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Ломоносов Михаил Васильевич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(1711–1765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16360" y="2565000"/>
            <a:ext cx="3919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Picture 9" descr="res682B98E1-067C-4EFF-B78D-08D8042B6B82"/>
          <p:cNvPicPr/>
          <p:nvPr/>
        </p:nvPicPr>
        <p:blipFill>
          <a:blip r:embed="rId1"/>
          <a:stretch/>
        </p:blipFill>
        <p:spPr>
          <a:xfrm>
            <a:off x="971640" y="2421000"/>
            <a:ext cx="3240000" cy="36003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льтон Джон (1766–1844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95280" y="2361960"/>
            <a:ext cx="4535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Picture 6" descr="resBF03F592-A2F8-492D-8AF3-BEF90CF76D76"/>
          <p:cNvPicPr/>
          <p:nvPr/>
        </p:nvPicPr>
        <p:blipFill>
          <a:blip r:embed="rId1"/>
          <a:stretch/>
        </p:blipFill>
        <p:spPr>
          <a:xfrm>
            <a:off x="1042920" y="2766960"/>
            <a:ext cx="2952720" cy="296712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омсон Джон Падже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92–1975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140360" y="2349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8" descr="res02BB57E3-D321-4A2E-8C82-D4F3F2FC87C1"/>
          <p:cNvPicPr/>
          <p:nvPr/>
        </p:nvPicPr>
        <p:blipFill>
          <a:blip r:embed="rId1"/>
          <a:stretch/>
        </p:blipFill>
        <p:spPr>
          <a:xfrm>
            <a:off x="826920" y="2421000"/>
            <a:ext cx="3240360" cy="33843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08640" y="956160"/>
            <a:ext cx="6814080" cy="88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езерфорд Эрнс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71–1937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140360" y="2394000"/>
            <a:ext cx="475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Picture 9" descr="resED23752C-71C7-4157-9B86-577FD0589B1E"/>
          <p:cNvPicPr/>
          <p:nvPr/>
        </p:nvPicPr>
        <p:blipFill>
          <a:blip r:embed="rId1"/>
          <a:stretch/>
        </p:blipFill>
        <p:spPr>
          <a:xfrm>
            <a:off x="900000" y="2421000"/>
            <a:ext cx="3024360" cy="32400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179280" y="1474560"/>
            <a:ext cx="87138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384800" y="649440"/>
            <a:ext cx="411876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47d18"/>
                </a:solidFill>
                <a:latin typeface="Arial"/>
              </a:rPr>
              <a:t>Атом</a:t>
            </a:r>
            <a:br>
              <a:rPr sz="3200"/>
            </a:b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1" name="Picture 10" descr="resEF7CBD0E-0A01-000A-014B-6B89448ABFA7"/>
          <p:cNvPicPr/>
          <p:nvPr/>
        </p:nvPicPr>
        <p:blipFill>
          <a:blip r:embed="rId1"/>
          <a:stretch/>
        </p:blipFill>
        <p:spPr>
          <a:xfrm>
            <a:off x="179280" y="476280"/>
            <a:ext cx="3529080" cy="244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79280" y="1557360"/>
            <a:ext cx="8640000" cy="4780800"/>
            <a:chOff x="179280" y="1557360"/>
            <a:chExt cx="8640000" cy="4780800"/>
          </a:xfrm>
        </p:grpSpPr>
        <p:cxnSp>
          <p:nvCxnSpPr>
            <p:cNvPr id="305" name="_s1028"/>
            <p:cNvCxnSpPr>
              <a:stCxn id="306" idx="0"/>
              <a:endCxn id="307" idx="2"/>
            </p:cNvCxnSpPr>
            <p:nvPr/>
          </p:nvCxnSpPr>
          <p:spPr>
            <a:xfrm flipV="1">
              <a:off x="7522560" y="4560840"/>
              <a:ext cx="3960" cy="56880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08" name="_s1029"/>
            <p:cNvCxnSpPr>
              <a:stCxn id="309" idx="0"/>
              <a:endCxn id="310" idx="2"/>
            </p:cNvCxnSpPr>
            <p:nvPr/>
          </p:nvCxnSpPr>
          <p:spPr>
            <a:xfrm flipV="1" rot="16200000">
              <a:off x="3456720" y="4088520"/>
              <a:ext cx="568800" cy="151272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1" name="_s1030"/>
            <p:cNvCxnSpPr>
              <a:stCxn id="312" idx="0"/>
              <a:endCxn id="310" idx="2"/>
            </p:cNvCxnSpPr>
            <p:nvPr/>
          </p:nvCxnSpPr>
          <p:spPr>
            <a:xfrm flipH="1" flipV="1" rot="5400000">
              <a:off x="1945800" y="4089960"/>
              <a:ext cx="568800" cy="151020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3" name="_s1031"/>
            <p:cNvCxnSpPr>
              <a:stCxn id="307" idx="0"/>
              <a:endCxn id="314" idx="2"/>
            </p:cNvCxnSpPr>
            <p:nvPr/>
          </p:nvCxnSpPr>
          <p:spPr>
            <a:xfrm flipV="1" rot="16200000">
              <a:off x="6105600" y="1915560"/>
              <a:ext cx="565200" cy="226980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5" name="_s1032"/>
            <p:cNvCxnSpPr>
              <a:stCxn id="310" idx="0"/>
              <a:endCxn id="314" idx="2"/>
            </p:cNvCxnSpPr>
            <p:nvPr/>
          </p:nvCxnSpPr>
          <p:spPr>
            <a:xfrm flipH="1" flipV="1" rot="5400000">
              <a:off x="3836520" y="1915920"/>
              <a:ext cx="565200" cy="226908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314" name="_s1033"/>
            <p:cNvSpPr/>
            <p:nvPr/>
          </p:nvSpPr>
          <p:spPr>
            <a:xfrm>
              <a:off x="3957120" y="15573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cc99ff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200" spc="-1" strike="noStrike">
                  <a:solidFill>
                    <a:srgbClr val="003366"/>
                  </a:solidFill>
                  <a:latin typeface="Tahoma"/>
                </a:rPr>
                <a:t>атом</a:t>
              </a:r>
              <a:endParaRPr b="0" lang="en-US" sz="9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_s1034"/>
            <p:cNvSpPr/>
            <p:nvPr/>
          </p:nvSpPr>
          <p:spPr>
            <a:xfrm>
              <a:off x="168876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66"/>
                  </a:solidFill>
                  <a:latin typeface="Tahoma"/>
                </a:rPr>
                <a:t>ядро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_s1035"/>
            <p:cNvSpPr/>
            <p:nvPr/>
          </p:nvSpPr>
          <p:spPr>
            <a:xfrm>
              <a:off x="622620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электронная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оболочка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_s1036"/>
            <p:cNvSpPr/>
            <p:nvPr/>
          </p:nvSpPr>
          <p:spPr>
            <a:xfrm>
              <a:off x="179280" y="5142960"/>
              <a:ext cx="25894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прот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_s1037"/>
            <p:cNvSpPr/>
            <p:nvPr/>
          </p:nvSpPr>
          <p:spPr>
            <a:xfrm>
              <a:off x="320112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ней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_s1038"/>
            <p:cNvSpPr/>
            <p:nvPr/>
          </p:nvSpPr>
          <p:spPr>
            <a:xfrm>
              <a:off x="622620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элек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26:55Z</dcterms:created>
  <dc:creator>Дмитрий Сергеевич</dc:creator>
  <dc:description/>
  <dc:language>en-US</dc:language>
  <cp:lastModifiedBy>LEGION</cp:lastModifiedBy>
  <dcterms:modified xsi:type="dcterms:W3CDTF">2015-05-01T09:28:49Z</dcterms:modified>
  <cp:revision>13</cp:revision>
  <dc:subject/>
  <dc:title>Состав ато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