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379B-7AC9-4EA7-8736-A810B6FE96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е от песчинок до планет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элементов состоит единых…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.И.Менделее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180C-71B7-4527-A0C1-F6B262A0FCA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мер атомо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 имеет очень малые размеры, порядка долей наноме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 нм = 10-9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ы атомов в твердом или жидком веществе можно рассчитать, зная плотность вещества r, из которой может быть найден молярный объем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 =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/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ычислен объем, приходящийся на один а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ом =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/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радиус атома железа составляет 0,13 н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953F-2694-4EEB-9E6A-7D1C69A6E6C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 атом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звестные химические элементы приведены в таблице Д. И. Менделеева. В ней они располагаются в порядке возрастания зарядов их атомных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каждый атом электронейтрален, то число протонов в ядре атома равно числу электронов в этом же ато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самым порядковый номер элемента в таблице Менделеева указывает число электронов в атоме и равное ему число протонов в яд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адлежность атома тому или иному химическому элементу определяется зарядом его ядра. Поэтому число протонов, составляющих заряд ядра, у атомов одного и того же химического элемента строго определенное. В то же время содержание нейтронов в ядрах одного и того же элемента может быть переме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массы атомов одного элемента могут быть различными. Эти различные виды атомов одного химического элемента называются изотопами (от "изо" – равный и "топос" – место), так как они занимают одно место в таблице Д. И. Менделеева, поскольку принадлежат одному элеме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ные в таблице Д. И. Менделеева атомные массы элементов – это средние атомные массы природной смеси изотопов данного элемента с учетом их относительного содержания в природе, поэтому они могут отличаться от целых чис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омним, что атомная единица массы – это 1/12 массы атома углерода, причем того его изотопа, в ядре которого находится 6 протонов и 6 ней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5BB3-2E59-45D1-8DD2-E562A49A05C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томное ядр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 вся масса атома (более 99,95%) сосредоточена в очень малом объеме – в ядре атома, находящемся в его центре. Диаметр ядра, если считать его шарообразным, составляет приблизительно одну стотысячную часть от диаметра ат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атомов имеют сложное строение. Они состоят из двух видов частиц с почти одинаковой массой, практически равной 1 а. е. м., электронейтральных нейтронов и положительно заряженных протонов, причем положительный заряд протона – наименьший существующий в природе электрический заряд, т. е. элементарный, который далее неделим. Заряд протона принимают за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ядра атомов заряжены положительно, их заряд численно равен числу протонов, а массы ядер, следовательно и массы атомов, выраженные в атомных единицах массы, близки к целым чис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2473-EA6E-48B2-A73F-757BF0E496C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47d18"/>
                </a:solidFill>
                <a:latin typeface="Verdana"/>
                <a:ea typeface="Arial"/>
              </a:rPr>
              <a:t>Яд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6AB0-AEDB-4F40-B242-A1EF5EAD7FD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ктроны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вещества электронейтральны. Атомы – составные части вещества, следовательно, атомы в целом должны быть нейтральны. В состав атома, кроме положительно заряженного ядра, входят отрицательно заряженные частицы – электр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ический заряд электрона (отрицательный) численно равен заряду протона (положительному). Ясно поэтому, что в нейтральном атоме число электронов равно числу протонов в его ядре. Таким образом, атом состоит из очень маленького, но тяжелого положительно заряженного ядра, в состав которого входят протоны и нейтроны. Около ядра движутся еще меньшие отрицательно заряженные электроны. (Масса электрона равна приблизительно 1/2000 а. е. м., т. е. электрон приблизительно в 2000 раз легче протона или нейтрона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E56C-C315-4EAF-8A03-A99E94DE737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электрона в ато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ы в атоме не могут быть неподвижными. Если бы электрон был неподвижным, то под действием силы притяжения к положительно заряженному ядру он немедленно упал бы на ядро. Но электрон и не вращается вокруг ядра. Движение электрона, как и других частиц субатомных размеров (т. е. размеров, меньших атомных), описывается законами квантовой меха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квантовой механики, которым подчиняется движение электрона, указывают (причем точно) вероятность его нахождения в том или другом месте пространства. В одних местах его можно обнаружить чаще, и мы говорим о больш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роят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го нахождения в них, в других – реже, значит, имеется меньшая вероятность застать его там, в третьих он не бывает никогда, тогда говорят о нулевой вероят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 говорят о повышенной или пониженной электронной плотности в разных областях пространства около атомного я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электроне, движущемся в этой области пространства, будем говорить, что он "находится на этой орбитали". Согласно законам квантовой механики на одной орбитали может находиться не более двух элек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348C-DF2F-40BC-9B47-F0AA1B949AF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МНИТ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се известные химические элементы приведены в таблице Д. И. Менделеева. В ней они располагаются в порядке возрастания зарядов их атомных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скольку каждый атом электронейтрален, то число протонов в ядре атома равно числу электронов в этом же ато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Тем самым порядковый номер элемента в таблице Менделеева указывает число электронов в атоме и равное ему число протонов в яд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ринадлежность атома тому или иному химическому элементу определяется зарядом его ядра. Поэтому число протонов, составляющих заряд ядра, у атомов одного и того же химического элемента строго определенн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9CE0-45FA-4A69-9AC5-9B6116F47DE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дание №1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 состав атома элемента но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вариант                      2 вари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                         1)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A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A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   2)19 (К,  К,  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5                        3)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1967-A7D7-48B8-B9D9-D151DD360AE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Выберите элемент в ПСХЭ и запишите его зн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Запишите атомный номер элемен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го массовое число 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Запишите значе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ева внизу и значение 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ева вверху у знака эле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Определите состав ато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от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элек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ней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Запишите состав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Сделайте 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=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)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е)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=11-5=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(5р, 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о атома бора состоит из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яти 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шести 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электронная оболочка- из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яти элек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1C55-1DA9-41E1-A5C5-440142FC9A1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Откройте ОК «Химия, 8 кл.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компонент «Курсы»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закладка «Учебник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Габриелян О.С., глава 1, основные сведения о строении ато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Состав атома. Тренаж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выполните т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0249-DFFD-457E-9337-5B2C8411366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томы химических элементо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держа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сведения о строении ато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тельства сложности строения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атомного яд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ровочные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F73C-4F12-4447-A37D-53499DEF3B0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мокри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460–371 гг. н.э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греческий ученый, философ-материалист. Ученик Левкиппа. Родился в Абдере (Фрак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инения Демокрита по всем отраслям науки того времени создали ему славу крупнейшего представителя древней атомистики. Признавал вечность материи и считал, что она состоит из бесконечного числа мельчайших неделимых частиц – атомов, различное сочетание которых образует бесчисленное множество разнообразных вещей и их свойств. Утверждал, что атомы движутся под влиянием господства необход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ADAE-EA86-46B6-95F7-3DF8A810559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омоносов Михаил Васильевич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(1711–1765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ий ученый, с 1745 г. академик Петербургской АН. Изложил в 1741–1750 гг. основы атомно-корпускулярного учения; выдвинул в 1744–1748 гг. кинетическую теорию теплоты; обосновал в 1747–1752 гг. необходимость привлечения физики для объяснения химических явл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6189-E4F4-4A2A-AEF7-7001E726CAE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льтон Джон (1766–1844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химик и физик, с 1822 г. член Лондонского королевского общества. Родился в Иглсфилде (Кумберленд). Образование получил самостоятельно. В период с 1781 по 1793 гг. учитель математики в школе в Кендале, с 1793 г. преподавал физику и математику в Новом колледже в Манчес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84F6-DDC9-4C6A-9315-B03755582E5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мсон Джон Паджет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1892–1975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физик, в 1930 г. член Лондонского королевского общества. Родился в Кембридже. В 1914 г. окончил Кембриджский университет, там же работал в 1919–1922 гг. В 1922–1930 гг. – профессор Абердинского университета (Шотландия), в 1952–1962 гг. возглавлял один из колледжей в Кембрид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относятся к атомной и ядерной физике, квантовой механике, аэродинамике, электрическим разрядам в газах. В 1927 г. открыл явление дифракции электронов. Осуществил исследования по геометрии электронограмм, теории рассея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ражден медалями Д. Юза в 1939 г., Королевской в 1949 г., М. Фарадея в 1960 г. Лауреат Нобелевской премии в 1937 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2345-83E2-4F74-9607-EAA559A67CA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ерфорд Эрнст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1871–1937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физик, с 1903 г. член Лондонского королевского общества, его президент в 1925–1930 гг. Родился в Спринг-Броуве (ныне Брайтуотер) в Новой Зеландии. В 1894 г. окончил Кентерберийский колледж Новозеландского университета в Крайстчерче. В 1895–1898 гг. работал в Кавендишской лаборатории Кембриджского университета под руководством физика Дж. Дж. Томсона, 1898–1907 гг. профессор Мак-Гиллского университета в Монреале (Канада), в 1907–1919 гг. Манчестерского университета. С 1919 г. профессор Кембриджского университета и директор Кавендишской лабора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основателей учения о радиоактивности, ядерной физики и представлений о строении ато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A37A-AA6D-4C99-913B-ADC154470F8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7d18"/>
                </a:solidFill>
                <a:latin typeface="Calibri"/>
              </a:rPr>
              <a:t>Атом</a:t>
            </a:r>
            <a:br>
              <a:rPr sz="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именьшая электронейтральная частица химического элемента, являющаяся носителем его сво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F136-7D87-4E52-927B-991FCC5FD56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атом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399B-8B51-492F-8A4E-F42D43F7A71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5EFA-E6CB-46D1-9185-8D5EF42B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E8E-520B-494F-BF96-5B5737A4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4B46-0B54-431A-B90B-CD931894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669C-3EDF-4933-BA8F-77E53464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C8CF-70D8-476A-AF69-1EA678B8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61AE-B6AE-426E-B2D2-2D7749F1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F0FD-2134-410A-B2C0-A42715ED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8E08-D03A-4409-9A9E-3E757C81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3527-6996-4E1C-A088-DCE1EAA5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834D-DA98-43FF-AA36-332FA03D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A929-5EDB-4DBF-BF0A-D7F0A44C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AEAD-62AF-46E1-8ABA-83E295E1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A4C2-88C8-4F28-A104-8051A757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C30D-1949-46D1-90B1-7D5CBE58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5441-E06E-4C36-97E1-B2F2087C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5BA5-949D-4318-8E57-F34E6A94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67A9-E8F7-44EC-B7D8-72AE0B85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8DEAD-E7FD-4CB3-B837-30AF9133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073BA-F664-4F65-98CD-BA6F82A8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9BAC6-8967-429B-B9F5-86FB527B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08DF8-D7ED-4B91-8723-D3A13B3B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98A4D-9A6B-4BE9-A056-ED909E10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53FD-B214-4610-801B-F2147413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E2C72-65A0-46D8-B2AD-98F31F2D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1D0FA-860D-4C37-839C-0E1005ED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4190B-613C-4B94-A060-76EA17CB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33F10-79D5-4CDE-B7C7-350A9087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86BA5-B8A2-4F93-BC10-F421138F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D65F2-BB4E-480B-A503-3E9C64E7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8E755-5AF0-4215-B655-9341658E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67239-2A63-47B4-9C4A-1ABF8921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C15E5-3E62-4DA6-9804-DDBC164B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B14C1-2277-485F-AB6C-FB530499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77DF-D2A9-4E04-846D-9DD639E7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17191-A89F-482B-8128-5FCADA8D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389ED-0909-442D-BA54-DC579D50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D32D7-1D2D-4A11-AA35-D18ED07C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2B254-07EF-41C8-A23C-B60EC250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15779-D582-42A0-900F-CE00296A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E6EA2-15AD-4E9E-902E-7E4F0BBB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74524-7118-4C3C-A9DD-9E460F78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15E30-0ED0-4AE9-B103-46F5389C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A2473-ABD8-4AE6-9805-4FC8CEF5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2F511-75C9-4CB5-A6E9-F372F8CE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5093-DD07-4988-A0F0-DF0D788C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5310B-B406-4B92-ABB7-5940692A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0EB47-139E-47D0-869F-72C130E1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01E02-2AA8-4ECF-88D7-65CB4274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FE205-E6D0-44C3-8437-2A69288B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399AB-DFD6-4819-9AAB-8E41E9F5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19B81-76EF-42A5-BA88-6E029458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4F2A0-BA35-4F5E-A877-FE9D77F6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8CDEE-50B8-4F21-A9FC-B130A463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85A1B-86CC-4CCF-8230-FAFFA826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28FD2-95EF-4ED0-A2C6-B516FB8B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3BB-52BF-4074-86FA-1BA38F79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E917E-9C91-4464-8D8F-56CEF17F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AF6BF-3DD2-4E0A-B7EC-312266D6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F1F47-7235-454E-BE59-387247C5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8B5FE-4937-4E6B-9D78-A17EE6DB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AD7F7-186B-4EAD-A4D8-FE850A9F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B3890-7386-45F4-BCDB-DFD69F46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4C84B-1AD6-42CD-8BC5-A7DED3CE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B15D8-114C-449D-94A8-9A769131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D4DEC-4F5A-42C1-98F8-28E5A778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0CEAD-804C-4402-BC43-06F818E5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FF2E-42A9-45E0-92C4-8E68A108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FE7CE-9D55-4B59-8106-F73E3C3C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620FF-FE14-4653-BCD9-889C8BD5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4BC8A-09E0-4ABB-B36C-1149273A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8D69-6FD3-4D85-9EC4-6FCB65A3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DBE0-9E1D-4E41-86BA-3B4F0121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592A-F28C-4BAB-8DFA-C3B19DF49C3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09BB-C21F-4174-9EB8-48B81584830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76E8-0E20-44D8-BC2E-5357B69A699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E0AD-060B-49CE-94F6-EC2825F6B58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8BEE-51A1-4C5A-9303-22B3CCF4CBF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9FD9-330B-4B35-838A-E78536D58FE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Все от песчинок до планет-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з элементов состоит единых…»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     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Д.И.Менделеев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4" name="Picture 4" descr="resEF7CBCC1-0A01-000A-01FB-2220216C35BC"/>
          <p:cNvPicPr/>
          <p:nvPr/>
        </p:nvPicPr>
        <p:blipFill>
          <a:blip r:embed="rId1"/>
          <a:stretch/>
        </p:blipFill>
        <p:spPr>
          <a:xfrm>
            <a:off x="826920" y="1974960"/>
            <a:ext cx="7417080" cy="447840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змер атомов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том имеет очень малые размеры, порядка долей нанометр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1 нм = 10-9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меры атомов в твердом или жидком веществе можно рассчитать, зная плотность вещества r, из которой может быть найден молярный объем вещест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 =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/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 вычислен объем, приходящийся на один ат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                               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том =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/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пример, радиус атома железа составляет 0,13 н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став атом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се известные химические элементы приведены в таблице Д. И. Менделеева. В ней они располагаются в порядке возрастания зарядов их атомных ядер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скольку каждый атом электронейтрален, то число протонов в ядре атома равно числу электронов в этом же атом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 самым порядковый номер элемента в таблице Менделеева указывает число электронов в атоме и равное ему число протонов в ядре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надлежность атома тому или иному химическому элементу определяется зарядом его ядра. Поэтому число протонов, составляющих заряд ядра, у атомов одного и того же химического элемента строго определенное. В то же время содержание нейтронов в ядрах одного и того же элемента может быть переменны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ледовательно, массы атомов одного элемента могут быть различными. Эти различные виды атомов одного химического элемента называются изотопами (от "изо" – равный и "топос" – место), так как они занимают одно место в таблице Д. И. Менделеева, поскольку принадлежат одному элементу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веденные в таблице Д. И. Менделеева атомные массы элементов – это средние атомные массы природной смеси изотопов данного элемента с учетом их относительного содержания в природе, поэтому они могут отличаться от целых чисе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помним, что атомная единица массы – это 1/12 массы атома углерода, причем того его изотопа, в ядре которого находится 6 протонов и 6 нейтрон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Атомное ядро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актически вся масса атома (более 99,95%) сосредоточена в очень малом объеме – в ядре атома, находящемся в его центре. Диаметр ядра, если считать его шарообразным, составляет приблизительно одну стотысячную часть от диаметра атом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дра атомов имеют сложное строение. Они состоят из двух видов частиц с почти одинаковой массой, практически равной 1 а. е. м., электронейтральных нейтронов и положительно заряженных протонов, причем положительный заряд протона – наименьший существующий в природе электрический заряд, т. е. элементарный, который далее неделим. Заряд протона принимают за 1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ким образом, ядра атомов заряжены положительно, их заряд численно равен числу протонов, а массы ядер, следовательно и массы атомов, выраженные в атомных единицах массы, близки к целым числа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276720" y="189000"/>
            <a:ext cx="273528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47d18"/>
                </a:solidFill>
                <a:latin typeface="Verdana"/>
                <a:ea typeface="Arial"/>
              </a:rPr>
              <a:t>Ядро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900000" y="2421000"/>
          <a:ext cx="7993080" cy="3887640"/>
        </p:xfrm>
        <a:graphic>
          <a:graphicData uri="http://schemas.openxmlformats.org/drawingml/2006/table">
            <a:tbl>
              <a:tblPr/>
              <a:tblGrid>
                <a:gridCol w="2035440"/>
                <a:gridCol w="1939680"/>
                <a:gridCol w="4017960"/>
              </a:tblGrid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Verdana"/>
                          <a:ea typeface="Arial"/>
                        </a:rPr>
                        <a:t>Величин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7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Verdana"/>
                          <a:ea typeface="Arial"/>
                        </a:rPr>
                        <a:t>Обозначе­ни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7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Verdana"/>
                          <a:ea typeface="Arial"/>
                        </a:rPr>
                        <a:t>Количественные соотношени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7f9fa"/>
                    </a:solidFill>
                  </a:tcPr>
                </a:tc>
              </a:tr>
              <a:tr h="110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Массовое число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A = Z + 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Число протонов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Z = </a:t>
                      </a: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Symbol"/>
                          <a:ea typeface="Symbol"/>
                        </a:rPr>
                        <a:t></a:t>
                      </a: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Число нейтронов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N = </a:t>
                      </a: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Symbol"/>
                          <a:ea typeface="Symbol"/>
                        </a:rPr>
                        <a:t></a:t>
                      </a: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15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Электроны</a:t>
            </a:r>
            <a:br>
              <a:rPr sz="3200"/>
            </a:b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се вещества электронейтральны. Атомы – составные части вещества, следовательно, атомы в целом должны быть нейтральны. В состав атома, кроме положительно заряженного ядра, входят отрицательно заряженные частицы – электроны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лектрический заряд электрона (отрицательный) численно равен заряду протона (положительному). Ясно поэтому, что в нейтральном атоме число электронов равно числу протонов в его ядре. Таким образом, атом состоит из очень маленького, но тяжелого положительно заряженного ядра, в состав которого входят протоны и нейтроны. Около ядра движутся еще меньшие отрицательно заряженные электроны. (Масса электрона равна приблизительно 1/2000 а. е. м., т. е. электрон приблизительно в 2000 раз легче протона или нейтрона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5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вижение электрона в атом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Электроны в атоме не могут быть неподвижными. Если бы электрон был неподвижным, то под действием силы притяжения к положительно заряженному ядру он немедленно упал бы на ядро. Но электрон и не вращается вокруг ядра. Движение электрона, как и других частиц субатомных размеров (т. е. размеров, меньших атомных), описывается законами квантовой механик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Законы квантовой механики, которым подчиняется движение электрона, указывают (причем точно) вероятность его нахождения в том или другом месте пространства. В одних местах его можно обнаружить чаще, и мы говорим о большей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ероятности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его нахождения в них, в других – реже, значит, имеется меньшая вероятность застать его там, в третьих он не бывает никогда, тогда говорят о нулевой вероятности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оответственно говорят о повышенной или пониженной электронной плотности в разных областях пространства около атомного ядр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б электроне, движущемся в этой области пространства, будем говорить, что он "находится на этой орбитали". Согласно законам квантовой механики на одной орбитали может находиться не более двух электрон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31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5"/>
          <p:cNvSpPr/>
          <p:nvPr/>
        </p:nvSpPr>
        <p:spPr>
          <a:xfrm>
            <a:off x="324000" y="1121040"/>
            <a:ext cx="8507160" cy="53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133200" bIns="13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Все известные химические элементы приведены в таблице Д. И. Менделеева. В ней они располагаются в порядке возрастания зарядов их атомных ядер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Поскольку каждый атом электронейтрален, то число протонов в ядре атома равно числу электронов в этом же атом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Тем самым порядковый номер элемента в таблице Менделеева указывает число электронов в атоме и равное ему число протонов в ядре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Принадлежность атома тому или иному химическому элементу определяется зарядом его ядра. Поэтому число протонов, составляющих заряд ядра, у атомов одного и того же химического элемента строго определенное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81992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ПОМНИТЕ 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8" name="DefaultOcx" descr=""/>
          <p:cNvPicPr/>
          <p:nvPr/>
        </p:nvPicPr>
        <p:blipFill>
          <a:blip r:embed="rId1"/>
          <a:stretch/>
        </p:blipFill>
        <p:spPr>
          <a:xfrm>
            <a:off x="-4578480" y="261000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Задание №1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ределите состав атома элемента номер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вариант                      2 вариан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6                          1)1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8 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Ar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Ar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)    2)19 (К,  К,  К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5                        3)5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лгоритм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.Выберите элемент в ПСХЭ и запишите его зна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Запишите атомный номер элемент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Verdana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 его массовое число </a:t>
            </a:r>
            <a:r>
              <a:rPr b="0" lang="ru-RU" sz="1600" spc="-1" strike="noStrike">
                <a:solidFill>
                  <a:srgbClr val="009900"/>
                </a:solidFill>
                <a:latin typeface="Verdana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.Запишите значение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Verdana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слева внизу и значение </a:t>
            </a:r>
            <a:r>
              <a:rPr b="0" lang="ru-RU" sz="1600" spc="-1" strike="noStrike">
                <a:solidFill>
                  <a:srgbClr val="009900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слева вверху у знака элемен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.Определите состав атом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исло 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протон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исло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336699"/>
                </a:solidFill>
                <a:latin typeface="Verdana"/>
              </a:rPr>
              <a:t>электрон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исло </a:t>
            </a:r>
            <a:r>
              <a:rPr b="0" lang="ru-RU" sz="1600" spc="-1" strike="noStrike">
                <a:solidFill>
                  <a:srgbClr val="9900ff"/>
                </a:solidFill>
                <a:latin typeface="Verdana"/>
              </a:rPr>
              <a:t>нейтрон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.Запишите состав атом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6.Сделайте вывод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ор 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=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=1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)=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е)=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=11-5=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(5р, 6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)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Ядро атома бора состоит из </a:t>
            </a:r>
            <a:r>
              <a:rPr b="0" lang="ru-RU" sz="1600" spc="-1" strike="noStrike">
                <a:solidFill>
                  <a:srgbClr val="cc0000"/>
                </a:solidFill>
                <a:latin typeface="Verdana"/>
              </a:rPr>
              <a:t>пяти протонов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1600" spc="-1" strike="noStrike">
                <a:solidFill>
                  <a:srgbClr val="9900ff"/>
                </a:solidFill>
                <a:latin typeface="Verdana"/>
              </a:rPr>
              <a:t>шести нейтронов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а электронная оболочка- из </a:t>
            </a:r>
            <a:r>
              <a:rPr b="0" lang="ru-RU" sz="1600" spc="-1" strike="noStrike">
                <a:solidFill>
                  <a:srgbClr val="336699"/>
                </a:solidFill>
                <a:latin typeface="Verdana"/>
              </a:rPr>
              <a:t>пяти электрон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дание №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Откройте ОК «Химия, 8 кл.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компонент «Курсы»;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закладка «Учебники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Габриелян О.С., глава 1, основные сведения о строении атом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5.Состав атома. Тренажер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6.выполните тест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томы химических элементов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держание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новные сведения о строении атомов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казательства сложности строения ато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став ато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став атомного яд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ренировочные зад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итерату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6" descr="resEF7CBE1C-0A01-000A-00CC-C626666AB273"/>
          <p:cNvPicPr/>
          <p:nvPr/>
        </p:nvPicPr>
        <p:blipFill>
          <a:blip r:embed="rId1"/>
          <a:stretch/>
        </p:blipFill>
        <p:spPr>
          <a:xfrm>
            <a:off x="611280" y="765000"/>
            <a:ext cx="8281800" cy="5904000"/>
          </a:xfrm>
          <a:prstGeom prst="rect">
            <a:avLst/>
          </a:prstGeom>
          <a:ln w="0">
            <a:noFill/>
          </a:ln>
        </p:spPr>
      </p:pic>
      <p:sp>
        <p:nvSpPr>
          <p:cNvPr id="350" name="AutoShape 8"/>
          <p:cNvSpPr/>
          <p:nvPr/>
        </p:nvSpPr>
        <p:spPr>
          <a:xfrm>
            <a:off x="1692360" y="1628640"/>
            <a:ext cx="2173320" cy="2087640"/>
          </a:xfrm>
          <a:custGeom>
            <a:avLst/>
            <a:gdLst>
              <a:gd name="textAreaLeft" fmla="*/ 290880 w 2173320"/>
              <a:gd name="textAreaRight" fmla="*/ 1882440 w 217332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AutoShape 13"/>
          <p:cNvSpPr/>
          <p:nvPr/>
        </p:nvSpPr>
        <p:spPr>
          <a:xfrm>
            <a:off x="5003640" y="1052640"/>
            <a:ext cx="878040" cy="1574640"/>
          </a:xfrm>
          <a:custGeom>
            <a:avLst/>
            <a:gdLst>
              <a:gd name="textAreaLeft" fmla="*/ 117360 w 878040"/>
              <a:gd name="textAreaRight" fmla="*/ 760680 w 878040"/>
              <a:gd name="textAreaTop" fmla="*/ 275400 h 1574640"/>
              <a:gd name="textAreaBottom" fmla="*/ 1141560 h 157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AutoShape 14"/>
          <p:cNvSpPr/>
          <p:nvPr/>
        </p:nvSpPr>
        <p:spPr>
          <a:xfrm>
            <a:off x="5580000" y="4869000"/>
            <a:ext cx="1152720" cy="576000"/>
          </a:xfrm>
          <a:custGeom>
            <a:avLst/>
            <a:gdLst>
              <a:gd name="textAreaLeft" fmla="*/ 201600 w 1152720"/>
              <a:gd name="textAreaRight" fmla="*/ 835920 w 115272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5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3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1500" autoRev="1" fill="hold"/>
                                        <p:tgtEl>
                                          <p:spTgt spid="3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4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321560" y="970920"/>
            <a:ext cx="7301880" cy="87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Демокрит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(460–371 гг. н.э.)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Древнегреческий ученый, философ-материалист. Ученик Левкиппа. Родился в Абдере (Фракия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очинения Демокрита по всем отраслям науки того времени создали ему славу крупнейшего представителя древней атомистики. Признавал вечность материи и считал, что она состоит из бесконечного числа мельчайших неделимых частиц – атомов, различное сочетание которых образует бесчисленное множество разнообразных вещей и их свойств. Утверждал, что атомы движутся под влиянием господства необходим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1" name="Picture 8" descr="res6563BF91-BED0-4064-8121-4F0CCE66DA3A"/>
          <p:cNvPicPr/>
          <p:nvPr/>
        </p:nvPicPr>
        <p:blipFill>
          <a:blip r:embed="rId1"/>
          <a:stretch/>
        </p:blipFill>
        <p:spPr>
          <a:xfrm>
            <a:off x="826920" y="2349360"/>
            <a:ext cx="3457800" cy="360072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1000" autoRev="1" fill="hold"/>
                                        <p:tgtEl>
                                          <p:spTgt spid="2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750320" y="1038960"/>
            <a:ext cx="6877800" cy="80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Ломоносов Михаил Васильевич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            (1711–1765)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716360" y="2565000"/>
            <a:ext cx="39196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усский ученый, с 1745 г. академик Петербургской АН. Изложил в 1741–1750 гг. основы атомно-корпускулярного учения; выдвинул в 1744–1748 гг. кинетическую теорию теплоты; обосновал в 1747–1752 гг. необходимость привлечения физики для объяснения химических явлений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5" name="Picture 9" descr="res682B98E1-067C-4EFF-B78D-08D8042B6B82"/>
          <p:cNvPicPr/>
          <p:nvPr/>
        </p:nvPicPr>
        <p:blipFill>
          <a:blip r:embed="rId1"/>
          <a:stretch/>
        </p:blipFill>
        <p:spPr>
          <a:xfrm>
            <a:off x="971640" y="2421000"/>
            <a:ext cx="3240000" cy="360036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1000" autoRev="1" fill="hold"/>
                                        <p:tgtEl>
                                          <p:spTgt spid="2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альтон Джон (1766–1844)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995280" y="2361960"/>
            <a:ext cx="4535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нглийский химик и физик, с 1822 г. член Лондонского королевского общества. Родился в Иглсфилде (Кумберленд). Образование получил самостоятельно. В период с 1781 по 1793 гг. учитель математики в школе в Кендале, с 1793 г. преподавал физику и математику в Новом колледже в Манчестере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9" name="Picture 6" descr="resBF03F592-A2F8-492D-8AF3-BEF90CF76D76"/>
          <p:cNvPicPr/>
          <p:nvPr/>
        </p:nvPicPr>
        <p:blipFill>
          <a:blip r:embed="rId1"/>
          <a:stretch/>
        </p:blipFill>
        <p:spPr>
          <a:xfrm>
            <a:off x="1042920" y="2766960"/>
            <a:ext cx="2952720" cy="2967120"/>
          </a:xfrm>
          <a:prstGeom prst="rect">
            <a:avLst/>
          </a:prstGeom>
          <a:ln w="0">
            <a:noFill/>
          </a:ln>
        </p:spPr>
      </p:pic>
      <p:sp>
        <p:nvSpPr>
          <p:cNvPr id="29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Томсон Джон Паджет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(1892–1975)</a:t>
            </a:r>
            <a:br>
              <a:rPr sz="18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140360" y="2349000"/>
            <a:ext cx="4752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глийский физик, в 1930 г. член Лондонского королевского общества. Родился в Кембридже. В 1914 г. окончил Кембриджский университет, там же работал в 1919–1922 гг. В 1922–1930 гг. – профессор Абердинского университета (Шотландия), в 1952–1962 гг. возглавлял один из колледжей в Кембридж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боты относятся к атомной и ядерной физике, квантовой механике, аэродинамике, электрическим разрядам в газах. В 1927 г. открыл явление дифракции электронов. Осуществил исследования по геометрии электронограмм, теории рассея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гражден медалями Д. Юза в 1939 г., Королевской в 1949 г., М. Фарадея в 1960 г. Лауреат Нобелевской премии в 1937 г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3" name="Picture 8" descr="res02BB57E3-D321-4A2E-8C82-D4F3F2FC87C1"/>
          <p:cNvPicPr/>
          <p:nvPr/>
        </p:nvPicPr>
        <p:blipFill>
          <a:blip r:embed="rId1"/>
          <a:stretch/>
        </p:blipFill>
        <p:spPr>
          <a:xfrm>
            <a:off x="826920" y="2421000"/>
            <a:ext cx="3240360" cy="338436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000" autoRev="1" fill="hold"/>
                                        <p:tgtEl>
                                          <p:spTgt spid="2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808640" y="956160"/>
            <a:ext cx="6814080" cy="88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Резерфорд Эрнст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(1871–1937)</a:t>
            </a:r>
            <a:br>
              <a:rPr sz="18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140360" y="2394000"/>
            <a:ext cx="4752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глийский физик, с 1903 г. член Лондонского королевского общества, его президент в 1925–1930 гг. Родился в Спринг-Броуве (ныне Брайтуотер) в Новой Зеландии. В 1894 г. окончил Кентерберийский колледж Новозеландского университета в Крайстчерче. В 1895–1898 гг. работал в Кавендишской лаборатории Кембриджского университета под руководством физика Дж. Дж. Томсона, 1898–1907 гг. профессор Мак-Гиллского университета в Монреале (Канада), в 1907–1919 гг. Манчестерского университета. С 1919 г. профессор Кембриджского университета и директор Кавендишской лаборатори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дин из основателей учения о радиоактивности, ядерной физики и представлений о строении атомов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7" name="Picture 9" descr="resED23752C-71C7-4157-9B86-577FD0589B1E"/>
          <p:cNvPicPr/>
          <p:nvPr/>
        </p:nvPicPr>
        <p:blipFill>
          <a:blip r:embed="rId1"/>
          <a:stretch/>
        </p:blipFill>
        <p:spPr>
          <a:xfrm>
            <a:off x="900000" y="2421000"/>
            <a:ext cx="3024360" cy="324000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1000" autoRev="1" fill="hold"/>
                                        <p:tgtEl>
                                          <p:spTgt spid="2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179280" y="1474560"/>
            <a:ext cx="871380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7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  <a:ea typeface="Arial"/>
              </a:rPr>
              <a:t>                          </a:t>
            </a:r>
            <a:r>
              <a:rPr b="0" lang="ru-RU" sz="4800" spc="-1" strike="noStrike">
                <a:solidFill>
                  <a:srgbClr val="003366"/>
                </a:solidFill>
                <a:latin typeface="Arial"/>
                <a:ea typeface="Arial"/>
              </a:rPr>
              <a:t>Наименьшая электронейтральная частица химического элемента, являющаяся носителем его свойств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384800" y="649440"/>
            <a:ext cx="4118760" cy="138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47d18"/>
                </a:solidFill>
                <a:latin typeface="Arial"/>
              </a:rPr>
              <a:t>Атом</a:t>
            </a:r>
            <a:br>
              <a:rPr sz="3200"/>
            </a:b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1" name="Picture 10" descr="resEF7CBD0E-0A01-000A-014B-6B89448ABFA7"/>
          <p:cNvPicPr/>
          <p:nvPr/>
        </p:nvPicPr>
        <p:blipFill>
          <a:blip r:embed="rId1"/>
          <a:stretch/>
        </p:blipFill>
        <p:spPr>
          <a:xfrm>
            <a:off x="179280" y="476280"/>
            <a:ext cx="3529080" cy="244800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Состав атома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04" name="Organization Chart 6"/>
          <p:cNvGrpSpPr/>
          <p:nvPr/>
        </p:nvGrpSpPr>
        <p:grpSpPr>
          <a:xfrm>
            <a:off x="179280" y="1557360"/>
            <a:ext cx="8640000" cy="4780800"/>
            <a:chOff x="179280" y="1557360"/>
            <a:chExt cx="8640000" cy="4780800"/>
          </a:xfrm>
        </p:grpSpPr>
        <p:cxnSp>
          <p:nvCxnSpPr>
            <p:cNvPr id="305" name="_s1028"/>
            <p:cNvCxnSpPr>
              <a:stCxn id="306" idx="0"/>
              <a:endCxn id="307" idx="2"/>
            </p:cNvCxnSpPr>
            <p:nvPr/>
          </p:nvCxnSpPr>
          <p:spPr>
            <a:xfrm flipV="1">
              <a:off x="7522560" y="4560840"/>
              <a:ext cx="3960" cy="568800"/>
            </a:xfrm>
            <a:prstGeom prst="bentConnector2">
              <a:avLst/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308" name="_s1029"/>
            <p:cNvCxnSpPr>
              <a:stCxn id="309" idx="0"/>
              <a:endCxn id="310" idx="2"/>
            </p:cNvCxnSpPr>
            <p:nvPr/>
          </p:nvCxnSpPr>
          <p:spPr>
            <a:xfrm flipV="1" rot="16200000">
              <a:off x="3456720" y="4088520"/>
              <a:ext cx="568800" cy="1512720"/>
            </a:xfrm>
            <a:prstGeom prst="bentConnector3">
              <a:avLst>
                <a:gd name="adj1" fmla="val 20962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311" name="_s1030"/>
            <p:cNvCxnSpPr>
              <a:stCxn id="312" idx="0"/>
              <a:endCxn id="310" idx="2"/>
            </p:cNvCxnSpPr>
            <p:nvPr/>
          </p:nvCxnSpPr>
          <p:spPr>
            <a:xfrm flipH="1" flipV="1" rot="5400000">
              <a:off x="1945800" y="4089960"/>
              <a:ext cx="568800" cy="1510200"/>
            </a:xfrm>
            <a:prstGeom prst="bentConnector3">
              <a:avLst>
                <a:gd name="adj1" fmla="val 20962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313" name="_s1031"/>
            <p:cNvCxnSpPr>
              <a:stCxn id="307" idx="0"/>
              <a:endCxn id="314" idx="2"/>
            </p:cNvCxnSpPr>
            <p:nvPr/>
          </p:nvCxnSpPr>
          <p:spPr>
            <a:xfrm flipV="1" rot="16200000">
              <a:off x="6105600" y="1915560"/>
              <a:ext cx="565200" cy="2269800"/>
            </a:xfrm>
            <a:prstGeom prst="bentConnector3">
              <a:avLst>
                <a:gd name="adj1" fmla="val 21032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315" name="_s1032"/>
            <p:cNvCxnSpPr>
              <a:stCxn id="310" idx="0"/>
              <a:endCxn id="314" idx="2"/>
            </p:cNvCxnSpPr>
            <p:nvPr/>
          </p:nvCxnSpPr>
          <p:spPr>
            <a:xfrm flipH="1" flipV="1" rot="5400000">
              <a:off x="3836520" y="1915920"/>
              <a:ext cx="565200" cy="2269080"/>
            </a:xfrm>
            <a:prstGeom prst="bentConnector3">
              <a:avLst>
                <a:gd name="adj1" fmla="val 21032"/>
              </a:avLst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314" name="_s1033"/>
            <p:cNvSpPr/>
            <p:nvPr/>
          </p:nvSpPr>
          <p:spPr>
            <a:xfrm>
              <a:off x="3957120" y="15573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cc99ff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200" spc="-1" strike="noStrike">
                  <a:solidFill>
                    <a:srgbClr val="003366"/>
                  </a:solidFill>
                  <a:latin typeface="Tahoma"/>
                </a:rPr>
                <a:t>атом</a:t>
              </a:r>
              <a:endParaRPr b="0" lang="en-US" sz="9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0" name="_s1034"/>
            <p:cNvSpPr/>
            <p:nvPr/>
          </p:nvSpPr>
          <p:spPr>
            <a:xfrm>
              <a:off x="1688760" y="33501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99cc99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366"/>
                  </a:solidFill>
                  <a:latin typeface="Tahoma"/>
                </a:rPr>
                <a:t>ядро</a:t>
              </a:r>
              <a:endParaRPr b="0" lang="en-US" sz="3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_s1035"/>
            <p:cNvSpPr/>
            <p:nvPr/>
          </p:nvSpPr>
          <p:spPr>
            <a:xfrm>
              <a:off x="6226200" y="33501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99cc99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3366"/>
                  </a:solidFill>
                  <a:latin typeface="Tahoma"/>
                </a:rPr>
                <a:t>электронная</a:t>
              </a:r>
              <a:endParaRPr b="0" lang="en-US" sz="27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3366"/>
                  </a:solidFill>
                  <a:latin typeface="Tahoma"/>
                </a:rPr>
                <a:t>оболочка</a:t>
              </a:r>
              <a:endParaRPr b="0" lang="en-US" sz="2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_s1036"/>
            <p:cNvSpPr/>
            <p:nvPr/>
          </p:nvSpPr>
          <p:spPr>
            <a:xfrm>
              <a:off x="179280" y="5142960"/>
              <a:ext cx="2589480" cy="1195200"/>
            </a:xfrm>
            <a:prstGeom prst="bracketPair">
              <a:avLst>
                <a:gd name="adj" fmla="val 0"/>
              </a:avLst>
            </a:prstGeom>
            <a:solidFill>
              <a:srgbClr val="003366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протоны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9" name="_s1037"/>
            <p:cNvSpPr/>
            <p:nvPr/>
          </p:nvSpPr>
          <p:spPr>
            <a:xfrm>
              <a:off x="3201120" y="51429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003366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нейтроны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6" name="_s1038"/>
            <p:cNvSpPr/>
            <p:nvPr/>
          </p:nvSpPr>
          <p:spPr>
            <a:xfrm>
              <a:off x="6226200" y="51429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003366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электроны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5:26:55Z</dcterms:created>
  <dc:creator>Дмитрий Сергеевич</dc:creator>
  <dc:description/>
  <dc:language>en-US</dc:language>
  <cp:lastModifiedBy>LEGION</cp:lastModifiedBy>
  <dcterms:modified xsi:type="dcterms:W3CDTF">2015-05-01T09:28:49Z</dcterms:modified>
  <cp:revision>13</cp:revision>
  <dc:subject/>
  <dc:title>Состав ато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3000000000001024140</vt:lpwstr>
  </property>
</Properties>
</file>