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7EE34-5BF4-4FCA-8694-A50CB574997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диный государственный экзамен по ХИМИИ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консультация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.П. Костенко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ректор ГОУ РК «ИПК РО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 НМ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FD6B9-D91B-45CB-9940-637029298B8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ение атом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оставьте электронную формулу химического элемента № 1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FDAA5-F313-402B-82A6-C4AEE967A6D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ение атом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Элемент № 17 называется хлор и имеет химический символ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C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Элемент хлор находится в третьем период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Внешним энергетическим уровнем в атоме хлора является уровень под номером 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Элемент хлор находится в группе номер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I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Хлор входит в подгруппу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 На внешнем электронном уровне атома хлора имеется 7 электрон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. Заряд ядра атома элемента хлора равен +17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. На трёх энергетических уровнях атома хлора располагаются 17 электрон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. На первом энергетическом уровне атома хлора располагаются 2 электро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. Первый электронный уровень любого атома периодической системы, кроме атома водорода, можно представить так: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1s</a:t>
            </a:r>
            <a:r>
              <a:rPr b="1" lang="en-US" sz="1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CF297-720B-490E-9A1F-A4FEA85D612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ение атом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1. На втором энергетическом уровне атома хлора находится 8 электрон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7 - (2 + 7) = 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2. На втором энергетическом уровне имеются два подуровня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и р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3. Число электронов в атоме хлора на втором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s -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подуровне равняется 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4. Число электронов в атоме хлора на втором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 - подуровне равняется 6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 - 2 = 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5. Число электронов находящихся на одной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 -орбитали не может быть больше чем 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6. На втором энергетическом уровне в атоме хлора имеется три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 - орбитали, расположенных перпендикулярно друг-друг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7. Расположение электронов на втором энергетическом уровне можно записать так: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2s</a:t>
            </a:r>
            <a:r>
              <a:rPr b="1" lang="en-US" sz="1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2p</a:t>
            </a:r>
            <a:r>
              <a:rPr b="1" lang="en-US" sz="1200" spc="-1" strike="noStrike" baseline="30000">
                <a:solidFill>
                  <a:srgbClr val="000000"/>
                </a:solidFill>
                <a:latin typeface="Calibri"/>
              </a:rPr>
              <a:t>6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. Если прибавить эту запись к ранее сделанной записи первого энергетического уровня, то получитс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1s</a:t>
            </a:r>
            <a:r>
              <a:rPr b="1" lang="en-US" sz="1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2s</a:t>
            </a:r>
            <a:r>
              <a:rPr b="1" lang="en-US" sz="1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2p</a:t>
            </a:r>
            <a:r>
              <a:rPr b="1" lang="en-US" sz="1200" spc="-1" strike="noStrike" baseline="30000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9389C-8A62-4AB5-87EC-2BF995B31C8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ение атом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8. На третьем энергетическом уровне в атоме хлора имеется три подуровня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s,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,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d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. Из них заполняется семью электронами только два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s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 р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, d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- подуровень остаётся пусты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9. Расположение электронов на третьем энергетическом уровне можно записать так: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3s</a:t>
            </a:r>
            <a:r>
              <a:rPr b="1" lang="en-US" sz="1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3p</a:t>
            </a:r>
            <a:r>
              <a:rPr b="1" lang="en-US" sz="1200" spc="-1" strike="noStrike" baseline="30000">
                <a:solidFill>
                  <a:srgbClr val="000000"/>
                </a:solidFill>
                <a:latin typeface="Calibri"/>
              </a:rPr>
              <a:t>5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. Если добавить эту запись к ранее сделанной записи первого и второго энергетического уровней, то получится электронная формула атома хлор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1s</a:t>
            </a:r>
            <a:r>
              <a:rPr b="1" lang="en-US" sz="1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2s</a:t>
            </a:r>
            <a:r>
              <a:rPr b="1" lang="en-US" sz="1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2p</a:t>
            </a:r>
            <a:r>
              <a:rPr b="1" lang="en-US" sz="1200" spc="-1" strike="noStrike" baseline="30000">
                <a:solidFill>
                  <a:srgbClr val="000000"/>
                </a:solidFill>
                <a:latin typeface="Calibri"/>
              </a:rPr>
              <a:t>6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3s</a:t>
            </a:r>
            <a:r>
              <a:rPr b="1" lang="en-US" sz="1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3p</a:t>
            </a:r>
            <a:r>
              <a:rPr b="1" lang="en-US" sz="1200" spc="-1" strike="noStrike" baseline="30000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вет: электронная формула атома хлора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1s</a:t>
            </a:r>
            <a:r>
              <a:rPr b="1" lang="en-US" sz="1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2s</a:t>
            </a:r>
            <a:r>
              <a:rPr b="1" lang="en-US" sz="1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2p</a:t>
            </a:r>
            <a:r>
              <a:rPr b="1" lang="en-US" sz="1200" spc="-1" strike="noStrike" baseline="30000">
                <a:solidFill>
                  <a:srgbClr val="000000"/>
                </a:solidFill>
                <a:latin typeface="Calibri"/>
              </a:rPr>
              <a:t>6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3s</a:t>
            </a:r>
            <a:r>
              <a:rPr b="1" lang="en-US" sz="1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3p</a:t>
            </a:r>
            <a:r>
              <a:rPr b="1" lang="en-US" sz="1200" spc="-1" strike="noStrike" baseline="30000">
                <a:solidFill>
                  <a:srgbClr val="000000"/>
                </a:solidFill>
                <a:latin typeface="Calibri"/>
              </a:rPr>
              <a:t>5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7DA03-2207-420F-991D-0E246FE270D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ение атом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лектронная формула иона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</a:t>
            </a:r>
            <a:r>
              <a:rPr b="1" lang="en-US" sz="1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1)…</a:t>
            </a:r>
            <a:r>
              <a:rPr b="1" lang="ru-RU" sz="1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)….</a:t>
            </a:r>
            <a:r>
              <a:rPr b="1" lang="ru-RU" sz="1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)…</a:t>
            </a:r>
            <a:r>
              <a:rPr b="1" lang="ru-RU" sz="1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4)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9C800-F74A-48D7-996C-17585600F48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ение атом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ектронная формула атома брома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alibri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1s</a:t>
            </a:r>
            <a:r>
              <a:rPr b="0" lang="en-US" sz="1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s</a:t>
            </a:r>
            <a:r>
              <a:rPr b="0" lang="en-US" sz="1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p</a:t>
            </a:r>
            <a:r>
              <a:rPr b="0" lang="en-US" sz="1200" spc="-1" strike="noStrike" baseline="30000">
                <a:solidFill>
                  <a:srgbClr val="000000"/>
                </a:solidFill>
                <a:latin typeface="Calibri"/>
              </a:rPr>
              <a:t>6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s</a:t>
            </a:r>
            <a:r>
              <a:rPr b="0" lang="en-US" sz="1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p</a:t>
            </a:r>
            <a:r>
              <a:rPr b="0" lang="en-US" sz="1200" spc="-1" strike="noStrike" baseline="30000">
                <a:solidFill>
                  <a:srgbClr val="000000"/>
                </a:solidFill>
                <a:latin typeface="Calibri"/>
              </a:rPr>
              <a:t>6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d</a:t>
            </a:r>
            <a:r>
              <a:rPr b="0" lang="en-US" sz="1200" spc="-1" strike="noStrike" baseline="30000">
                <a:solidFill>
                  <a:srgbClr val="000000"/>
                </a:solidFill>
                <a:latin typeface="Calibri"/>
              </a:rPr>
              <a:t>10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s</a:t>
            </a:r>
            <a:r>
              <a:rPr b="0" lang="en-US" sz="1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Calibri"/>
              </a:rPr>
              <a:t>4p</a:t>
            </a:r>
            <a:r>
              <a:rPr b="1" lang="en-US" sz="1200" spc="-1" strike="noStrike" u="sng" baseline="30000">
                <a:solidFill>
                  <a:srgbClr val="000000"/>
                </a:solidFill>
                <a:uFillTx/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тома брома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alibri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вращается в ион брома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400" spc="-1" strike="noStrike" baseline="30000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рисоединяя 1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ектронная формула иона брома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</a:t>
            </a:r>
            <a:r>
              <a:rPr b="0" lang="ru-RU" sz="1400" spc="-1" strike="noStrike" baseline="30000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1s</a:t>
            </a:r>
            <a:r>
              <a:rPr b="0" lang="en-US" sz="1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s</a:t>
            </a:r>
            <a:r>
              <a:rPr b="0" lang="en-US" sz="1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p</a:t>
            </a:r>
            <a:r>
              <a:rPr b="0" lang="en-US" sz="1200" spc="-1" strike="noStrike" baseline="30000">
                <a:solidFill>
                  <a:srgbClr val="000000"/>
                </a:solidFill>
                <a:latin typeface="Calibri"/>
              </a:rPr>
              <a:t>6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s</a:t>
            </a:r>
            <a:r>
              <a:rPr b="0" lang="en-US" sz="1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p</a:t>
            </a:r>
            <a:r>
              <a:rPr b="0" lang="en-US" sz="1200" spc="-1" strike="noStrike" baseline="30000">
                <a:solidFill>
                  <a:srgbClr val="000000"/>
                </a:solidFill>
                <a:latin typeface="Calibri"/>
              </a:rPr>
              <a:t>6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d</a:t>
            </a:r>
            <a:r>
              <a:rPr b="0" lang="en-US" sz="1200" spc="-1" strike="noStrike" baseline="30000">
                <a:solidFill>
                  <a:srgbClr val="000000"/>
                </a:solidFill>
                <a:latin typeface="Calibri"/>
              </a:rPr>
              <a:t>10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s</a:t>
            </a:r>
            <a:r>
              <a:rPr b="0" lang="en-US" sz="1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Calibri"/>
              </a:rPr>
              <a:t>4p</a:t>
            </a:r>
            <a:r>
              <a:rPr b="1" lang="en-US" sz="1200" spc="-1" strike="noStrike" u="sng" baseline="30000">
                <a:solidFill>
                  <a:srgbClr val="000000"/>
                </a:solidFill>
                <a:uFillTx/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4FE30-4812-4885-A9EB-51871767831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оение ато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том металла имеет электронную конфигурацию 1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i="1" lang="ru-RU" sz="1200" spc="-1" strike="noStrike" baseline="30000">
                <a:solidFill>
                  <a:srgbClr val="000000"/>
                </a:solidFill>
                <a:latin typeface="Calibri"/>
              </a:rPr>
              <a:t>2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2s</a:t>
            </a:r>
            <a:r>
              <a:rPr b="0" i="1" lang="ru-RU" sz="1200" spc="-1" strike="noStrike" baseline="30000">
                <a:solidFill>
                  <a:srgbClr val="000000"/>
                </a:solidFill>
                <a:latin typeface="Calibri"/>
              </a:rPr>
              <a:t>2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2p</a:t>
            </a:r>
            <a:r>
              <a:rPr b="0" i="1" lang="ru-RU" sz="1200" spc="-1" strike="noStrike" baseline="30000">
                <a:solidFill>
                  <a:srgbClr val="000000"/>
                </a:solidFill>
                <a:latin typeface="Calibri"/>
              </a:rPr>
              <a:t>6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3s</a:t>
            </a:r>
            <a:r>
              <a:rPr b="0" i="1" lang="ru-RU" sz="1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, формула оксида, гидроксида и сульфата этого элемен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1)ЭО; Э(ОН)</a:t>
            </a:r>
            <a:r>
              <a:rPr b="0" lang="ru-RU" sz="11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;Э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SO</a:t>
            </a:r>
            <a:r>
              <a:rPr b="0" lang="en-US" sz="1100" spc="-1" strike="noStrike" baseline="-25000">
                <a:solidFill>
                  <a:srgbClr val="000000"/>
                </a:solidFill>
                <a:latin typeface="Calibri"/>
              </a:rPr>
              <a:t>4 </a:t>
            </a:r>
            <a:r>
              <a:rPr b="0" lang="en-US" sz="1100" spc="-1" strike="noStrike" baseline="-25000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2)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Э</a:t>
            </a:r>
            <a:r>
              <a:rPr b="0" lang="en-US" sz="11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О; ЭОН;Э</a:t>
            </a:r>
            <a:r>
              <a:rPr b="0" lang="ru-RU" sz="11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SO</a:t>
            </a:r>
            <a:r>
              <a:rPr b="0" lang="en-US" sz="1100" spc="-1" strike="noStrike" baseline="-25000">
                <a:solidFill>
                  <a:srgbClr val="000000"/>
                </a:solidFill>
                <a:latin typeface="Calibri"/>
              </a:rPr>
              <a:t>4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)ЭО; ЭОН;Э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SO</a:t>
            </a:r>
            <a:r>
              <a:rPr b="0" lang="en-US" sz="11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)Э</a:t>
            </a:r>
            <a:r>
              <a:rPr b="0" lang="en-US" sz="1100" spc="-1" strike="noStrike" baseline="-25000">
                <a:solidFill>
                  <a:srgbClr val="000000"/>
                </a:solidFill>
                <a:latin typeface="Calibri"/>
              </a:rPr>
              <a:t> 2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О</a:t>
            </a:r>
            <a:r>
              <a:rPr b="0" lang="en-US" sz="1100" spc="-1" strike="noStrike" baseline="-25000">
                <a:solidFill>
                  <a:srgbClr val="000000"/>
                </a:solidFill>
                <a:latin typeface="Calibri"/>
              </a:rPr>
              <a:t> 2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; Э(ОН)</a:t>
            </a:r>
            <a:r>
              <a:rPr b="0" lang="ru-RU" sz="11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;Э</a:t>
            </a:r>
            <a:r>
              <a:rPr b="0" lang="en-US" sz="1100" spc="-1" strike="noStrike" baseline="-25000">
                <a:solidFill>
                  <a:srgbClr val="000000"/>
                </a:solidFill>
                <a:latin typeface="Calibri"/>
              </a:rPr>
              <a:t> 2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SO</a:t>
            </a:r>
            <a:r>
              <a:rPr b="0" lang="en-US" sz="1100" spc="-1" strike="noStrike" baseline="-25000">
                <a:solidFill>
                  <a:srgbClr val="000000"/>
                </a:solidFill>
                <a:latin typeface="Calibri"/>
              </a:rPr>
              <a:t>4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330F9-8645-42E8-BAC9-3B17D53CC6E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оение ато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i="1" lang="ru-RU" sz="1200" spc="-1" strike="noStrike" baseline="30000">
                <a:solidFill>
                  <a:srgbClr val="000000"/>
                </a:solidFill>
                <a:latin typeface="Calibri"/>
              </a:rPr>
              <a:t>2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2s</a:t>
            </a:r>
            <a:r>
              <a:rPr b="0" i="1" lang="ru-RU" sz="1200" spc="-1" strike="noStrike" baseline="30000">
                <a:solidFill>
                  <a:srgbClr val="000000"/>
                </a:solidFill>
                <a:latin typeface="Calibri"/>
              </a:rPr>
              <a:t>2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2p</a:t>
            </a:r>
            <a:r>
              <a:rPr b="0" i="1" lang="ru-RU" sz="1200" spc="-1" strike="noStrike" baseline="30000">
                <a:solidFill>
                  <a:srgbClr val="000000"/>
                </a:solidFill>
                <a:latin typeface="Calibri"/>
              </a:rPr>
              <a:t>6 </a:t>
            </a: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3s</a:t>
            </a:r>
            <a:r>
              <a:rPr b="1" i="1" lang="ru-RU" sz="1200" spc="-1" strike="noStrike" u="sng" baseline="30000">
                <a:solidFill>
                  <a:srgbClr val="000000"/>
                </a:solidFill>
                <a:uFillTx/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Э</a:t>
            </a:r>
            <a:r>
              <a:rPr b="1" i="1" lang="ru-RU" sz="1800" spc="-1" strike="noStrike" baseline="30000">
                <a:solidFill>
                  <a:srgbClr val="000000"/>
                </a:solidFill>
                <a:latin typeface="Calibri"/>
              </a:rPr>
              <a:t>+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)Э</a:t>
            </a:r>
            <a:r>
              <a:rPr b="1" i="1" lang="ru-RU" sz="1800" spc="-1" strike="noStrike" baseline="30000">
                <a:solidFill>
                  <a:srgbClr val="ff0000"/>
                </a:solidFill>
                <a:latin typeface="Calibri"/>
              </a:rPr>
              <a:t>+2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</a:t>
            </a:r>
            <a:r>
              <a:rPr b="1" i="1" lang="ru-RU" sz="1800" spc="-1" strike="noStrike" baseline="30000">
                <a:solidFill>
                  <a:srgbClr val="000000"/>
                </a:solidFill>
                <a:latin typeface="Calibri"/>
              </a:rPr>
              <a:t>-2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; Э</a:t>
            </a:r>
            <a:r>
              <a:rPr b="1" i="1" lang="ru-RU" sz="1800" spc="-1" strike="noStrike" baseline="30000">
                <a:solidFill>
                  <a:srgbClr val="ff0000"/>
                </a:solidFill>
                <a:latin typeface="Calibri"/>
              </a:rPr>
              <a:t>+2</a:t>
            </a:r>
            <a:r>
              <a:rPr b="1" i="1" lang="ru-RU" sz="1800" spc="-1" strike="noStrike" baseline="30000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(ОН)</a:t>
            </a:r>
            <a:r>
              <a:rPr b="1" lang="ru-RU" sz="3200" spc="-1" strike="noStrike" baseline="30000">
                <a:solidFill>
                  <a:srgbClr val="000000"/>
                </a:solidFill>
                <a:latin typeface="Calibri"/>
              </a:rPr>
              <a:t>-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;Э</a:t>
            </a:r>
            <a:r>
              <a:rPr b="1" i="1" lang="ru-RU" sz="1800" spc="-1" strike="noStrike" baseline="30000">
                <a:solidFill>
                  <a:srgbClr val="ff0000"/>
                </a:solidFill>
                <a:latin typeface="Calibri"/>
              </a:rPr>
              <a:t>+2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1" lang="ru-RU" sz="1800" spc="-1" strike="noStrike" baseline="30000">
                <a:solidFill>
                  <a:srgbClr val="000000"/>
                </a:solidFill>
                <a:latin typeface="Calibri"/>
              </a:rPr>
              <a:t>-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D2335-1C67-4F18-86C6-B4D9B12582F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МИЧЕСКАЯ СВЯЗЬ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ние :Укажите соединение с ионной связь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Cl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F490F-F848-474E-A5AD-05BED7BA654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ислительно-восстановительные процес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уя метод электронного баланса, составьте уравнение реакци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… + KOH → KN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K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ите окислитель и восстановите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BF51C-B69B-4EFE-B725-37B305FAE7E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ременные представления о строении атомов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ономерности изменения химических свойств элементов и их соединений по периодам и группам периодической системы химических элементов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.И. Менделеева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мическая связь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AAE14-739B-4A9F-BCAF-A2252537114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ислительно-восстановительные процес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Cr</a:t>
            </a:r>
            <a:r>
              <a:rPr b="0" lang="pt-BR" sz="1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pt-BR" sz="14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+ </a:t>
            </a: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KNO</a:t>
            </a:r>
            <a:r>
              <a:rPr b="1" lang="pt-BR" sz="14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+ KOH → KNO</a:t>
            </a:r>
            <a:r>
              <a:rPr b="0" lang="pt-BR" sz="1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+ K</a:t>
            </a:r>
            <a:r>
              <a:rPr b="0" lang="pt-BR" sz="1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CrO</a:t>
            </a:r>
            <a:r>
              <a:rPr b="0" lang="pt-BR" sz="14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+ </a:t>
            </a: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1" lang="pt-BR" sz="1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1066F-910B-4F86-A425-070C8967D6A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кислительно-восстановительные процес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 Составлен электронный баланс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+5 + 2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ē → N</a:t>
            </a:r>
            <a:r>
              <a:rPr b="0" i="1" lang="en-US" sz="1200" spc="-1" strike="noStrike" baseline="30000">
                <a:solidFill>
                  <a:srgbClr val="000000"/>
                </a:solidFill>
                <a:latin typeface="Calibri"/>
              </a:rPr>
              <a:t>+3</a:t>
            </a:r>
            <a:r>
              <a:rPr b="0" i="1" lang="ru-RU" sz="1200" spc="-1" strike="noStrike" baseline="30000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Cr+3– 6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ē → 2Cr</a:t>
            </a:r>
            <a:r>
              <a:rPr b="0" i="1" lang="en-US" sz="1200" spc="-1" strike="noStrike" baseline="30000">
                <a:solidFill>
                  <a:srgbClr val="000000"/>
                </a:solidFill>
                <a:latin typeface="Calibri"/>
              </a:rPr>
              <a:t>+6</a:t>
            </a:r>
            <a:r>
              <a:rPr b="0" i="1" lang="ru-RU" sz="1200" spc="-1" strike="noStrike" baseline="30000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17785-04FB-46F1-AA1D-82C030C42B9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ислительно-восстановительные процес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100" spc="-1" strike="noStrike">
                <a:solidFill>
                  <a:srgbClr val="000000"/>
                </a:solidFill>
                <a:latin typeface="Calibri"/>
              </a:rPr>
              <a:t>Cr</a:t>
            </a:r>
            <a:r>
              <a:rPr b="1" lang="pt-BR" sz="11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pt-BR" sz="11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lang="pt-BR" sz="11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1" lang="pt-BR" sz="1100" spc="-1" strike="noStrike">
                <a:solidFill>
                  <a:srgbClr val="000000"/>
                </a:solidFill>
                <a:latin typeface="Calibri"/>
              </a:rPr>
              <a:t> + 3KNO</a:t>
            </a:r>
            <a:r>
              <a:rPr b="1" lang="pt-BR" sz="11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1" lang="pt-BR" sz="1100" spc="-1" strike="noStrike">
                <a:solidFill>
                  <a:srgbClr val="000000"/>
                </a:solidFill>
                <a:latin typeface="Calibri"/>
              </a:rPr>
              <a:t>+ 4KOH → 3KNO</a:t>
            </a:r>
            <a:r>
              <a:rPr b="1" lang="pt-BR" sz="11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pt-BR" sz="1100" spc="-1" strike="noStrike">
                <a:solidFill>
                  <a:srgbClr val="000000"/>
                </a:solidFill>
                <a:latin typeface="Calibri"/>
              </a:rPr>
              <a:t>+ 2K</a:t>
            </a:r>
            <a:r>
              <a:rPr b="1" lang="pt-BR" sz="11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pt-BR" sz="1100" spc="-1" strike="noStrike">
                <a:solidFill>
                  <a:srgbClr val="000000"/>
                </a:solidFill>
                <a:latin typeface="Calibri"/>
              </a:rPr>
              <a:t>CrO</a:t>
            </a:r>
            <a:r>
              <a:rPr b="1" lang="pt-BR" sz="11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1" lang="pt-BR" sz="1100" spc="-1" strike="noStrike">
                <a:solidFill>
                  <a:srgbClr val="000000"/>
                </a:solidFill>
                <a:latin typeface="Calibri"/>
              </a:rPr>
              <a:t> + 2H</a:t>
            </a:r>
            <a:r>
              <a:rPr b="1" lang="pt-BR" sz="11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pt-BR" sz="11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ром в степени окисления +3 являет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сстановителем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зот в степени окисления +5 (или нитрат калия за счет азота в степени окисления +5) – окислител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D4FBC-4AB1-4130-9A78-B888D090FC5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ение ато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Задание А1: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нейтронов в ядре атома изотопа углерода с относительной атомной массой равной 1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4;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12;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6;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EA46E-9377-41BF-A5D9-F96AC3DAA51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ение ато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том (от греч. atomos - неделимый) - наименьшая химическая частица, состоящая из массивного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ожительно заряженного ядра и движущихся в электрическом поле ядра отрицательно заряженных электрон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D33B3-3D3E-40B5-A792-62F069E65E1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томные частицы и их свой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том состоит из трёх видов частиц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ектрон -  (е) -  заряд отрицательный,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=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1,6 </a:t>
            </a:r>
            <a:r>
              <a:rPr b="1" lang="ru-RU" sz="1200" spc="-1" strike="noStrike" baseline="30000">
                <a:solidFill>
                  <a:srgbClr val="000000"/>
                </a:solidFill>
                <a:latin typeface="Calibri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10</a:t>
            </a:r>
            <a:r>
              <a:rPr b="0" lang="ru-RU" sz="1200" spc="-1" strike="noStrike" baseline="30000">
                <a:solidFill>
                  <a:srgbClr val="000000"/>
                </a:solidFill>
                <a:latin typeface="Calibri"/>
              </a:rPr>
              <a:t>-19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. Масса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ru-RU" sz="1200" spc="-1" strike="noStrike" baseline="-25000">
                <a:solidFill>
                  <a:srgbClr val="000000"/>
                </a:solidFill>
                <a:latin typeface="Calibri"/>
              </a:rPr>
              <a:t>е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=9,1</a:t>
            </a:r>
            <a:r>
              <a:rPr b="1" lang="ru-RU" sz="1200" spc="-1" strike="noStrike" baseline="16000">
                <a:solidFill>
                  <a:srgbClr val="000000"/>
                </a:solidFill>
                <a:latin typeface="Calibri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r>
              <a:rPr b="0" lang="ru-RU" sz="1200" spc="-1" strike="noStrike" baseline="50000">
                <a:solidFill>
                  <a:srgbClr val="000000"/>
                </a:solidFill>
                <a:latin typeface="Calibri"/>
              </a:rPr>
              <a:t>-31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тон – (р)-  заряд положительный                  .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1,6 </a:t>
            </a:r>
            <a:r>
              <a:rPr b="1" lang="ru-RU" sz="1200" spc="-1" strike="noStrike" baseline="30000">
                <a:solidFill>
                  <a:srgbClr val="000000"/>
                </a:solidFill>
                <a:latin typeface="Calibri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10</a:t>
            </a:r>
            <a:r>
              <a:rPr b="0" lang="ru-RU" sz="1200" spc="-1" strike="noStrike" baseline="30000">
                <a:solidFill>
                  <a:srgbClr val="000000"/>
                </a:solidFill>
                <a:latin typeface="Calibri"/>
              </a:rPr>
              <a:t>-19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,  Масса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ru-RU" sz="1200" spc="-1" strike="noStrike" baseline="-25000">
                <a:solidFill>
                  <a:srgbClr val="000000"/>
                </a:solidFill>
                <a:latin typeface="Calibri"/>
              </a:rPr>
              <a:t>р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= 1840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ru-RU" sz="1200" spc="-1" strike="noStrike" baseline="-25000">
                <a:solidFill>
                  <a:srgbClr val="000000"/>
                </a:solidFill>
                <a:latin typeface="Calibri"/>
              </a:rPr>
              <a:t>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йтрон –(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)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 не заряжен,                              .                      Масса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</a:rPr>
              <a:t>n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≈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ru-RU" sz="1200" spc="-1" strike="noStrike" baseline="-25000">
                <a:solidFill>
                  <a:srgbClr val="000000"/>
                </a:solidFill>
                <a:latin typeface="Calibri"/>
              </a:rPr>
              <a:t>р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B5E77-CA5D-4DEC-9F21-F157482FB52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ение атом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дро атома - образование из протонов и нейтронов, находящееся в центральной части атома. Содержит в себе весь положительный  заряд и большую часть массы атома (&gt;99,95%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ичество протонов в ядре, которое равно порядковому номеру элемента в Периодической системе Д.И.Менделеева и поэтому называется атомным номером элемента, определяет благодаря электронейтральности атома число электронов, а следовательно, электронное строение и определяемые им химические свойства элемен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ичество нейтронов в ядрах атомов одного элемента может различаться; такие атомы называются изотопами этого элемен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57F2E-F48F-4CDE-8E59-E519950F09E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олнение электронной оболоч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ED636-BB8B-4CAC-ADF2-6C2028E18F5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ение атом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Задание А1: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число нейтронов в ядре атома изотопа углерода с относительной атомной массой равной 1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) 4;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2)12;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3)6;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4)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112A8-E595-42BF-9064-C7691B5597E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ение ато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дро любого химического элемента состоит из нуклон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Относительная масса одного нуклона равна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Масса ядра изотопа углерода составляет 12 атомных единиц массы, следовательно, в составе его ядра 12 нуклон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В ядре химического элемента имеется два вида нуклонов, одни имеют заряд +1, другие 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Элементарная частица, имеющая массу 1 и заряд +1, называется прото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 В ядре атома изотопа углерода </a:t>
            </a:r>
            <a:r>
              <a:rPr b="1" lang="en-US" sz="1200" spc="-1" strike="noStrike" baseline="30000">
                <a:solidFill>
                  <a:srgbClr val="000000"/>
                </a:solidFill>
                <a:latin typeface="Calibri"/>
              </a:rPr>
              <a:t>12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 находится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6 протон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. Элементарная частица, имеющая массу 1 и заряд 0, называется нейтро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. Определим число нейтронов в ядре изотопа углерода </a:t>
            </a:r>
            <a:r>
              <a:rPr b="1" lang="en-US" sz="1200" spc="-1" strike="noStrike" baseline="30000">
                <a:solidFill>
                  <a:srgbClr val="000000"/>
                </a:solidFill>
                <a:latin typeface="Calibri"/>
              </a:rPr>
              <a:t>12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. С этой целью из числа нуклонов вычтем число протон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исло нейтронов = число нуклонов - число протон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ядре атома изотопа углерода </a:t>
            </a:r>
            <a:r>
              <a:rPr b="1" lang="en-US" sz="1200" spc="-1" strike="noStrike" baseline="30000">
                <a:solidFill>
                  <a:srgbClr val="000000"/>
                </a:solidFill>
                <a:latin typeface="Calibri"/>
              </a:rPr>
              <a:t>12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 находится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ейтрон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вет: в составе ядра изотопа углерода </a:t>
            </a:r>
            <a:r>
              <a:rPr b="1" lang="en-US" sz="1200" spc="-1" strike="noStrike" baseline="30000">
                <a:solidFill>
                  <a:srgbClr val="000000"/>
                </a:solidFill>
                <a:latin typeface="Calibri"/>
              </a:rPr>
              <a:t>12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 имеется 6 протонов и 6 нейтрон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1243C-51C2-4790-B573-44C897F923F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86479-9003-4C53-AF05-E412A67FA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232E4-E811-4444-A633-E0D08DE86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9E671-121B-4722-AEA8-C4CC62838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42036-C546-46D7-A6E2-55E33742B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3C248-A92A-41D7-9C80-6241C6BD3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04E56-B978-40B9-B789-4E6A9BBBD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0605F-A7BF-4D55-907B-A8636EF9E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84A67-D41A-4F95-874B-1DDF4784B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DC93C-35E9-4154-9F24-09CDAAEAA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B63DE-C94E-43A2-9705-10C88158F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7FB88-AE34-45E9-9AA0-B4FA71C13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C4D6F-E70C-437E-B702-617D628B4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8E4E8-DE54-4B3A-9F3B-127340A59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7AF2F-C938-4E77-AC51-20C594EA3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00003-2FB6-4C57-8B99-3A8EA954E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C4FE0-FB81-410F-8F4F-38DE5A585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AE3D8-ED59-4797-A1FE-6CA5671F1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1F7E0-693B-48BC-9D00-206C30A69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798F0-961F-447A-B593-E6566C967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0EC8E-F93A-420E-BB9D-5FD45D506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A0A19-4C8C-49C7-86D5-27805A25C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6624D-A197-4E19-9425-BDCA980C1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5CC99-8B00-4C2E-AC70-C094E0B14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87DA8-8A56-4DAC-B1CF-2858068DE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ECB5D-A059-4A77-8382-AB49D1B770E7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01498-8530-4B24-890C-BF4F7B658D72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251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диный государственный экзамен по ХИМИИ </a:t>
            </a: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консультация </a:t>
            </a: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2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4642920"/>
            <a:ext cx="6400800" cy="99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.П. Костенко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ректор ГОУ РК «ИПК РО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 НМР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ение атом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оставьте электронную формулу химического элемента № 1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ение атом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0004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. Элемент № 17 называется хлор и имеет химический символ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l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2. Элемент хлор находится в третьем период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3. Внешним энергетическим уровнем в атоме хлора является уровень под номером 3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4. Элемент хлор находится в группе номер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II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5. Хлор входит в подгруппу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6. На внешнем электронном уровне атома хлора имеется 7 электронов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7. Заряд ядра атома элемента хлора равен +17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8. На трёх энергетических уровнях атома хлора располагаются 17 электронов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9. На первом энергетическом уровне атома хлора располагаются 2 электрон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0. Первый электронный уровень любого атома периодической системы, кроме атома водорода, можно представить так: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1s</a:t>
            </a:r>
            <a:r>
              <a:rPr b="1" lang="en-US" sz="18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ение атом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285480" y="1071720"/>
            <a:ext cx="864396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1. На втором энергетическом уровне атома хлора находится 8 электронов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7 - (2 + 7) = 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2. На втором энергетическом уровне имеются два подуровн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и р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3. Число электронов в атоме хлора на втором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 -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подуровне равняется 2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4. Число электронов в атоме хлора на втором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р - подуровне равняется 6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8 - 2 = 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5. Число электронов находящихся на одной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р -орбитали не может быть больше чем 2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6. На втором энергетическом уровне в атоме хлора имеется три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р - орбитали, расположенных перпендикулярно друг-другу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7. Расположение электронов на втором энергетическом уровне можно записать так: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2s</a:t>
            </a:r>
            <a:r>
              <a:rPr b="1" lang="en-US" sz="18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2p</a:t>
            </a:r>
            <a:r>
              <a:rPr b="1" lang="en-US" sz="1800" spc="-1" strike="noStrike" baseline="30000">
                <a:solidFill>
                  <a:srgbClr val="000000"/>
                </a:solidFill>
                <a:latin typeface="Calibri"/>
              </a:rPr>
              <a:t>6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. Если прибавить эту запись к ранее сделанной записи первого энергетического уровня, то получится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1s</a:t>
            </a:r>
            <a:r>
              <a:rPr b="1" lang="en-US" sz="18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2s</a:t>
            </a:r>
            <a:r>
              <a:rPr b="1" lang="en-US" sz="18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2p</a:t>
            </a:r>
            <a:r>
              <a:rPr b="1" lang="en-US" sz="1800" spc="-1" strike="noStrike" baseline="30000">
                <a:solidFill>
                  <a:srgbClr val="000000"/>
                </a:solidFill>
                <a:latin typeface="Calibri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ение атом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8. На третьем энергетическом уровне в атоме хлора имеется три подуровня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,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р,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d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. Из них заполняется семью электронами только два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s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и р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, d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- подуровень остаётся пустым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9. Расположение электронов на третьем энергетическом уровне можно записать так: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3s</a:t>
            </a:r>
            <a:r>
              <a:rPr b="1" lang="en-US" sz="2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3p</a:t>
            </a:r>
            <a:r>
              <a:rPr b="1" lang="en-US" sz="2000" spc="-1" strike="noStrike" baseline="30000">
                <a:solidFill>
                  <a:srgbClr val="000000"/>
                </a:solidFill>
                <a:latin typeface="Calibri"/>
              </a:rPr>
              <a:t>5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. Если добавить эту запись к ранее сделанной записи первого и второго энергетического уровней, то получится электронная формула атома хлора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1s</a:t>
            </a:r>
            <a:r>
              <a:rPr b="1" lang="en-US" sz="2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2s</a:t>
            </a:r>
            <a:r>
              <a:rPr b="1" lang="en-US" sz="2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2p</a:t>
            </a:r>
            <a:r>
              <a:rPr b="1" lang="en-US" sz="2000" spc="-1" strike="noStrike" baseline="30000">
                <a:solidFill>
                  <a:srgbClr val="000000"/>
                </a:solidFill>
                <a:latin typeface="Calibri"/>
              </a:rPr>
              <a:t>6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3s</a:t>
            </a:r>
            <a:r>
              <a:rPr b="1" lang="en-US" sz="2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3p</a:t>
            </a:r>
            <a:r>
              <a:rPr b="1" lang="en-US" sz="2000" spc="-1" strike="noStrike" baseline="30000">
                <a:solidFill>
                  <a:srgbClr val="000000"/>
                </a:solidFill>
                <a:latin typeface="Calibri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твет: электронная формула атома хлора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1s</a:t>
            </a:r>
            <a:r>
              <a:rPr b="1" lang="en-US" sz="2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2s</a:t>
            </a:r>
            <a:r>
              <a:rPr b="1" lang="en-US" sz="2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2p</a:t>
            </a:r>
            <a:r>
              <a:rPr b="1" lang="en-US" sz="2000" spc="-1" strike="noStrike" baseline="30000">
                <a:solidFill>
                  <a:srgbClr val="000000"/>
                </a:solidFill>
                <a:latin typeface="Calibri"/>
              </a:rPr>
              <a:t>6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3s</a:t>
            </a:r>
            <a:r>
              <a:rPr b="1" lang="en-US" sz="2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3p</a:t>
            </a:r>
            <a:r>
              <a:rPr b="1" lang="en-US" sz="2000" spc="-1" strike="noStrike" baseline="30000">
                <a:solidFill>
                  <a:srgbClr val="000000"/>
                </a:solidFill>
                <a:latin typeface="Calibri"/>
              </a:rPr>
              <a:t>5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ение атом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лектронная формула иона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1)…</a:t>
            </a:r>
            <a:r>
              <a:rPr b="1" lang="ru-RU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)….</a:t>
            </a:r>
            <a:r>
              <a:rPr b="1" lang="ru-RU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)…</a:t>
            </a:r>
            <a:r>
              <a:rPr b="1" lang="ru-RU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4)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ение атом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электронная формула атома брома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alibri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1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d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4p</a:t>
            </a:r>
            <a:r>
              <a:rPr b="1" lang="en-US" sz="3200" spc="-1" strike="noStrike" u="sng" baseline="30000">
                <a:solidFill>
                  <a:srgbClr val="000000"/>
                </a:solidFill>
                <a:uFillTx/>
                <a:latin typeface="Calibri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тома брома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alibri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евращается в ион брома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600" spc="-1" strike="noStrike" baseline="30000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присоединяя 1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электронная формула иона брома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</a:t>
            </a:r>
            <a:r>
              <a:rPr b="0" lang="ru-RU" sz="3600" spc="-1" strike="noStrike" baseline="30000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1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d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4p</a:t>
            </a:r>
            <a:r>
              <a:rPr b="1" lang="en-US" sz="3200" spc="-1" strike="noStrike" u="sng" baseline="30000">
                <a:solidFill>
                  <a:srgbClr val="000000"/>
                </a:solidFill>
                <a:uFillTx/>
                <a:latin typeface="Calibri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троение атом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том металла имеет электронную конфигурацию 1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i="1" lang="ru-RU" sz="3200" spc="-1" strike="noStrike" baseline="30000">
                <a:solidFill>
                  <a:srgbClr val="000000"/>
                </a:solidFill>
                <a:latin typeface="Calibri"/>
              </a:rPr>
              <a:t>2 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2s</a:t>
            </a:r>
            <a:r>
              <a:rPr b="0" i="1" lang="ru-RU" sz="3200" spc="-1" strike="noStrike" baseline="30000">
                <a:solidFill>
                  <a:srgbClr val="000000"/>
                </a:solidFill>
                <a:latin typeface="Calibri"/>
              </a:rPr>
              <a:t>2 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2p</a:t>
            </a:r>
            <a:r>
              <a:rPr b="0" i="1" lang="ru-RU" sz="3200" spc="-1" strike="noStrike" baseline="30000">
                <a:solidFill>
                  <a:srgbClr val="000000"/>
                </a:solidFill>
                <a:latin typeface="Calibri"/>
              </a:rPr>
              <a:t>6 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3s</a:t>
            </a:r>
            <a:r>
              <a:rPr b="0" i="1" lang="ru-RU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, формула оксида, гидроксида и сульфата этого элемен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)ЭО; Э(ОН)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;Э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4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)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Э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; ЭОН;Э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4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)ЭО; ЭОН;Э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)Э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 2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 2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; Э(ОН)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;Э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 2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4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троение атом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i="1" lang="ru-RU" sz="3200" spc="-1" strike="noStrike" baseline="30000">
                <a:solidFill>
                  <a:srgbClr val="000000"/>
                </a:solidFill>
                <a:latin typeface="Calibri"/>
              </a:rPr>
              <a:t>2 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2s</a:t>
            </a:r>
            <a:r>
              <a:rPr b="0" i="1" lang="ru-RU" sz="3200" spc="-1" strike="noStrike" baseline="30000">
                <a:solidFill>
                  <a:srgbClr val="000000"/>
                </a:solidFill>
                <a:latin typeface="Calibri"/>
              </a:rPr>
              <a:t>2 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2p</a:t>
            </a:r>
            <a:r>
              <a:rPr b="0" i="1" lang="ru-RU" sz="3200" spc="-1" strike="noStrike" baseline="30000">
                <a:solidFill>
                  <a:srgbClr val="000000"/>
                </a:solidFill>
                <a:latin typeface="Calibri"/>
              </a:rPr>
              <a:t>6 </a:t>
            </a: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3s</a:t>
            </a:r>
            <a:r>
              <a:rPr b="1" i="1" lang="ru-RU" sz="3200" spc="-1" strike="noStrike" u="sng" baseline="30000">
                <a:solidFill>
                  <a:srgbClr val="000000"/>
                </a:solidFill>
                <a:uFillTx/>
                <a:latin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Э</a:t>
            </a:r>
            <a:r>
              <a:rPr b="1" i="1" lang="ru-RU" sz="4400" spc="-1" strike="noStrike" baseline="30000">
                <a:solidFill>
                  <a:srgbClr val="000000"/>
                </a:solidFill>
                <a:latin typeface="Calibri"/>
              </a:rPr>
              <a:t>+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1)Э</a:t>
            </a:r>
            <a:r>
              <a:rPr b="1" i="1" lang="ru-RU" sz="4400" spc="-1" strike="noStrike" baseline="30000">
                <a:solidFill>
                  <a:srgbClr val="ff0000"/>
                </a:solidFill>
                <a:latin typeface="Calibri"/>
              </a:rPr>
              <a:t>+2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</a:t>
            </a:r>
            <a:r>
              <a:rPr b="1" i="1" lang="ru-RU" sz="4400" spc="-1" strike="noStrike" baseline="30000">
                <a:solidFill>
                  <a:srgbClr val="000000"/>
                </a:solidFill>
                <a:latin typeface="Calibri"/>
              </a:rPr>
              <a:t>-2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; Э</a:t>
            </a:r>
            <a:r>
              <a:rPr b="1" i="1" lang="ru-RU" sz="4400" spc="-1" strike="noStrike" baseline="30000">
                <a:solidFill>
                  <a:srgbClr val="ff0000"/>
                </a:solidFill>
                <a:latin typeface="Calibri"/>
              </a:rPr>
              <a:t>+2</a:t>
            </a:r>
            <a:r>
              <a:rPr b="1" i="1" lang="ru-RU" sz="4400" spc="-1" strike="noStrike" baseline="30000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(ОН)</a:t>
            </a:r>
            <a:r>
              <a:rPr b="1" lang="ru-RU" sz="6600" spc="-1" strike="noStrike" baseline="30000">
                <a:solidFill>
                  <a:srgbClr val="000000"/>
                </a:solidFill>
                <a:latin typeface="Calibri"/>
              </a:rPr>
              <a:t>-</a:t>
            </a:r>
            <a:r>
              <a:rPr b="0" lang="ru-RU" sz="4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;Э</a:t>
            </a:r>
            <a:r>
              <a:rPr b="1" i="1" lang="ru-RU" sz="4400" spc="-1" strike="noStrike" baseline="30000">
                <a:solidFill>
                  <a:srgbClr val="ff0000"/>
                </a:solidFill>
                <a:latin typeface="Calibri"/>
              </a:rPr>
              <a:t>+2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1" lang="ru-RU" sz="4400" spc="-1" strike="noStrike" baseline="30000">
                <a:solidFill>
                  <a:srgbClr val="000000"/>
                </a:solidFill>
                <a:latin typeface="Calibri"/>
              </a:rPr>
              <a:t>-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МИЧЕСКАЯ СВЯЗЬ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ние :Укажите соединение с ионной связью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C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ислительно-восстановительные процесс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уя метод электронного баланса, составьте уравнение реакции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… + KOH → KN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K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ите окислитель и восстановител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Ы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ременные представления о строении атомов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ономерности изменения химических свойств элементов и их соединений по периодам и группам периодической системы химических элементов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.И. Менделеева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мическая связь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ислительно-восстановительные процесс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Calibri"/>
              </a:rPr>
              <a:t>Cr</a:t>
            </a:r>
            <a:r>
              <a:rPr b="0" lang="pt-BR" sz="36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pt-BR" sz="36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pt-BR" sz="36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pt-BR" sz="3600" spc="-1" strike="noStrike">
                <a:solidFill>
                  <a:srgbClr val="000000"/>
                </a:solidFill>
                <a:latin typeface="Calibri"/>
              </a:rPr>
              <a:t> + </a:t>
            </a:r>
            <a:r>
              <a:rPr b="1" lang="pt-BR" sz="3600" spc="-1" strike="noStrike">
                <a:solidFill>
                  <a:srgbClr val="000000"/>
                </a:solidFill>
                <a:latin typeface="Calibri"/>
              </a:rPr>
              <a:t>KNO</a:t>
            </a:r>
            <a:r>
              <a:rPr b="1" lang="pt-BR" sz="36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pt-BR" sz="3600" spc="-1" strike="noStrike">
                <a:solidFill>
                  <a:srgbClr val="000000"/>
                </a:solidFill>
                <a:latin typeface="Calibri"/>
              </a:rPr>
              <a:t>+ KOH → KNO</a:t>
            </a:r>
            <a:r>
              <a:rPr b="0" lang="pt-BR" sz="36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pt-BR" sz="3600" spc="-1" strike="noStrike">
                <a:solidFill>
                  <a:srgbClr val="000000"/>
                </a:solidFill>
                <a:latin typeface="Calibri"/>
              </a:rPr>
              <a:t>+ K</a:t>
            </a:r>
            <a:r>
              <a:rPr b="0" lang="pt-BR" sz="36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pt-BR" sz="3600" spc="-1" strike="noStrike">
                <a:solidFill>
                  <a:srgbClr val="000000"/>
                </a:solidFill>
                <a:latin typeface="Calibri"/>
              </a:rPr>
              <a:t>CrO</a:t>
            </a:r>
            <a:r>
              <a:rPr b="0" lang="pt-BR" sz="36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pt-BR" sz="3600" spc="-1" strike="noStrike">
                <a:solidFill>
                  <a:srgbClr val="000000"/>
                </a:solidFill>
                <a:latin typeface="Calibri"/>
              </a:rPr>
              <a:t> + </a:t>
            </a:r>
            <a:r>
              <a:rPr b="1" lang="pt-BR" sz="36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1" lang="pt-BR" sz="36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pt-BR" sz="36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Окислительно-восстановительные процесс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) Составлен электронный баланс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+5 + 2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ē → N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Calibri"/>
              </a:rPr>
              <a:t>+3</a:t>
            </a:r>
            <a:r>
              <a:rPr b="0" i="1" lang="ru-RU" sz="3200" spc="-1" strike="noStrike" baseline="30000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Cr+3– 6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ē → 2Cr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Calibri"/>
              </a:rPr>
              <a:t>+6</a:t>
            </a:r>
            <a:r>
              <a:rPr b="0" i="1" lang="ru-RU" sz="3200" spc="-1" strike="noStrike" baseline="30000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Прямая соединительная линия 4"/>
          <p:cNvSpPr/>
          <p:nvPr/>
        </p:nvSpPr>
        <p:spPr>
          <a:xfrm flipH="1">
            <a:off x="6000840" y="1785960"/>
            <a:ext cx="1440" cy="71280"/>
          </a:xfrm>
          <a:prstGeom prst="line">
            <a:avLst/>
          </a:prstGeom>
          <a:ln w="9360">
            <a:solidFill>
              <a:srgbClr val="fd82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6"/>
          <p:cNvSpPr/>
          <p:nvPr/>
        </p:nvSpPr>
        <p:spPr>
          <a:xfrm flipH="1">
            <a:off x="4071960" y="2357280"/>
            <a:ext cx="1440" cy="7146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ислительно-восстановительные процесс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alibri"/>
              </a:rPr>
              <a:t>Cr</a:t>
            </a:r>
            <a:r>
              <a:rPr b="1" lang="pt-BR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pt-BR" sz="2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lang="pt-BR" sz="28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1" lang="pt-BR" sz="2800" spc="-1" strike="noStrike">
                <a:solidFill>
                  <a:srgbClr val="000000"/>
                </a:solidFill>
                <a:latin typeface="Calibri"/>
              </a:rPr>
              <a:t> + 3KNO</a:t>
            </a:r>
            <a:r>
              <a:rPr b="1" lang="pt-BR" sz="28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1" lang="pt-BR" sz="2800" spc="-1" strike="noStrike">
                <a:solidFill>
                  <a:srgbClr val="000000"/>
                </a:solidFill>
                <a:latin typeface="Calibri"/>
              </a:rPr>
              <a:t>+ 4KOH → 3KNO</a:t>
            </a:r>
            <a:r>
              <a:rPr b="1" lang="pt-BR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pt-BR" sz="2800" spc="-1" strike="noStrike">
                <a:solidFill>
                  <a:srgbClr val="000000"/>
                </a:solidFill>
                <a:latin typeface="Calibri"/>
              </a:rPr>
              <a:t>+ 2K</a:t>
            </a:r>
            <a:r>
              <a:rPr b="1" lang="pt-BR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pt-BR" sz="2800" spc="-1" strike="noStrike">
                <a:solidFill>
                  <a:srgbClr val="000000"/>
                </a:solidFill>
                <a:latin typeface="Calibri"/>
              </a:rPr>
              <a:t>CrO</a:t>
            </a:r>
            <a:r>
              <a:rPr b="1" lang="pt-BR" sz="28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1" lang="pt-BR" sz="2800" spc="-1" strike="noStrike">
                <a:solidFill>
                  <a:srgbClr val="000000"/>
                </a:solidFill>
                <a:latin typeface="Calibri"/>
              </a:rPr>
              <a:t> + 2H</a:t>
            </a:r>
            <a:r>
              <a:rPr b="1" lang="pt-BR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pt-BR" sz="28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хром в степени окисления +3 являетс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осстановителем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зот в степени окисления +5 (или нитрат калия за счет азота в степени окисления +5) – окислителе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ение атом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Задание А1: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нейтронов в ядре атома изотопа углерода с относительной атомной массой равной 12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4;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12;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6;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ение атом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том (от греч. atomos - неделимый) - наименьшая химическая частица, состоящая из массивного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ожительно заряженного ядра и движущихся в электрическом поле ядра отрицательно заряженных электрон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Атомные частицы и их свойств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том состоит из трёх видов частиц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Электрон -  (е) -  заряд отрицательный,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q=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1,6 </a:t>
            </a:r>
            <a:r>
              <a:rPr b="1" lang="ru-RU" sz="2400" spc="-1" strike="noStrike" baseline="30000">
                <a:solidFill>
                  <a:srgbClr val="000000"/>
                </a:solidFill>
                <a:latin typeface="Calibri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10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alibri"/>
              </a:rPr>
              <a:t>-19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л. Масса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alibri"/>
              </a:rPr>
              <a:t>е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=9,1</a:t>
            </a:r>
            <a:r>
              <a:rPr b="1" lang="ru-RU" sz="2400" spc="-1" strike="noStrike" baseline="16000">
                <a:solidFill>
                  <a:srgbClr val="000000"/>
                </a:solidFill>
                <a:latin typeface="Calibri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0</a:t>
            </a:r>
            <a:r>
              <a:rPr b="0" lang="ru-RU" sz="2400" spc="-1" strike="noStrike" baseline="50000">
                <a:solidFill>
                  <a:srgbClr val="000000"/>
                </a:solidFill>
                <a:latin typeface="Calibri"/>
              </a:rPr>
              <a:t>-31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г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отон – (р)-  заряд положительный                  . 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q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1,6 </a:t>
            </a:r>
            <a:r>
              <a:rPr b="1" lang="ru-RU" sz="2400" spc="-1" strike="noStrike" baseline="30000">
                <a:solidFill>
                  <a:srgbClr val="000000"/>
                </a:solidFill>
                <a:latin typeface="Calibri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10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alibri"/>
              </a:rPr>
              <a:t>-19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л,  Масса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alibri"/>
              </a:rPr>
              <a:t>р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= 1840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alibri"/>
              </a:rPr>
              <a:t>е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ейтрон –(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)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 не заряжен,                              .                      Масса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≈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alibri"/>
              </a:rPr>
              <a:t>р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21" descr=""/>
          <p:cNvPicPr/>
          <p:nvPr/>
        </p:nvPicPr>
        <p:blipFill>
          <a:blip r:embed="rId1"/>
          <a:stretch/>
        </p:blipFill>
        <p:spPr>
          <a:xfrm>
            <a:off x="7391520" y="2895480"/>
            <a:ext cx="441360" cy="4572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2" descr=""/>
          <p:cNvPicPr/>
          <p:nvPr/>
        </p:nvPicPr>
        <p:blipFill>
          <a:blip r:embed="rId2"/>
          <a:stretch/>
        </p:blipFill>
        <p:spPr>
          <a:xfrm>
            <a:off x="7086600" y="3581280"/>
            <a:ext cx="1295280" cy="12686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23" descr=""/>
          <p:cNvPicPr/>
          <p:nvPr/>
        </p:nvPicPr>
        <p:blipFill>
          <a:blip r:embed="rId3"/>
          <a:stretch/>
        </p:blipFill>
        <p:spPr>
          <a:xfrm>
            <a:off x="7086600" y="4876920"/>
            <a:ext cx="1295280" cy="1268280"/>
          </a:xfrm>
          <a:prstGeom prst="rect">
            <a:avLst/>
          </a:prstGeom>
          <a:ln w="0">
            <a:noFill/>
          </a:ln>
        </p:spPr>
      </p:pic>
      <p:sp>
        <p:nvSpPr>
          <p:cNvPr id="10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3800"/>
                            </p:stCondLst>
                            <p:childTnLst>
                              <p:par>
                                <p:cTn id="11" nodeType="afterEffect" fill="hold" presetClass="entr" presetID="2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5800"/>
                            </p:stCondLst>
                            <p:childTnLst>
                              <p:par>
                                <p:cTn id="2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13400"/>
                            </p:stCondLst>
                            <p:childTnLst>
                              <p:par>
                                <p:cTn id="3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15400"/>
                            </p:stCondLst>
                            <p:childTnLst>
                              <p:par>
                                <p:cTn id="5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19300"/>
                            </p:stCondLst>
                            <p:childTnLst>
                              <p:par>
                                <p:cTn id="5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23000"/>
                            </p:stCondLst>
                            <p:childTnLst>
                              <p:par>
                                <p:cTn id="6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25000"/>
                            </p:stCondLst>
                            <p:childTnLst>
                              <p:par>
                                <p:cTn id="8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ение атом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дро атома - образование из протонов и нейтронов, находящееся в центральной части атома. Содержит в себе весь положительный  заряд и большую часть массы атома (&gt;99,95%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ичество протонов в ядре, которое равно порядковому номеру элемента в Периодической системе Д.И.Менделеева и поэтому называется атомным номером элемента, определяет благодаря электронейтральности атома число электронов, а следовательно, электронное строение и определяемые им химические свойства элемент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ичество нейтронов в ядрах атомов одного элемента может различаться; такие атомы называются изотопами этого элемент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олнение электронной оболочк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457200" y="1600200"/>
          <a:ext cx="8229600" cy="3040200"/>
        </p:xfrm>
        <a:graphic>
          <a:graphicData uri="http://schemas.openxmlformats.org/drawingml/2006/table">
            <a:tbl>
              <a:tblPr/>
              <a:tblGrid>
                <a:gridCol w="3543480"/>
                <a:gridCol w="714240"/>
                <a:gridCol w="1000080"/>
                <a:gridCol w="1214280"/>
                <a:gridCol w="1757520"/>
              </a:tblGrid>
              <a:tr h="97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омер энергетического уровня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</a:tr>
              <a:tr h="785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ипы А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,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,p,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,p,d,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642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исло А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3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3,5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639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ксимальное число электронов на данном уровн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</a:tbl>
          </a:graphicData>
        </a:graphic>
      </p:graphicFrame>
      <p:sp>
        <p:nvSpPr>
          <p:cNvPr id="11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ение атом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Задание А1: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число нейтронов в ядре атома изотопа углерода с относительной атомной массой равной 12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1) 4;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2)12;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3)6;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4)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ение атом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Ядро любого химического элемента состоит из нуклонов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2. Относительная масса одного нуклона равна 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3. Масса ядра изотопа углерода составляет 12 атомных единиц массы, следовательно, в составе его ядра 12 нуклонов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4. В ядре химического элемента имеется два вида нуклонов, одни имеют заряд +1, другие 0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5. Элементарная частица, имеющая массу 1 и заряд +1, называется протон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6. В ядре атома изотопа углерода </a:t>
            </a:r>
            <a:r>
              <a:rPr b="1" lang="en-US" sz="1600" spc="-1" strike="noStrike" baseline="30000">
                <a:solidFill>
                  <a:srgbClr val="000000"/>
                </a:solidFill>
                <a:latin typeface="Calibri"/>
              </a:rPr>
              <a:t>12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С находитс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6 протонов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7. Элементарная частица, имеющая массу 1 и заряд 0, называется нейтрон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8. Определим число нейтронов в ядре изотопа углерода </a:t>
            </a:r>
            <a:r>
              <a:rPr b="1" lang="en-US" sz="1600" spc="-1" strike="noStrike" baseline="30000">
                <a:solidFill>
                  <a:srgbClr val="000000"/>
                </a:solidFill>
                <a:latin typeface="Calibri"/>
              </a:rPr>
              <a:t>12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С. С этой целью из числа нуклонов вычтем число протонов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Число нейтронов = число нуклонов - число протонов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 ядре атома изотопа углерода </a:t>
            </a:r>
            <a:r>
              <a:rPr b="1" lang="en-US" sz="1600" spc="-1" strike="noStrike" baseline="30000">
                <a:solidFill>
                  <a:srgbClr val="000000"/>
                </a:solidFill>
                <a:latin typeface="Calibri"/>
              </a:rPr>
              <a:t>12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С находитс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нейтронов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твет: в составе ядра изотопа углерода </a:t>
            </a:r>
            <a:r>
              <a:rPr b="1" lang="en-US" sz="1600" spc="-1" strike="noStrike" baseline="30000">
                <a:solidFill>
                  <a:srgbClr val="000000"/>
                </a:solidFill>
                <a:latin typeface="Calibri"/>
              </a:rPr>
              <a:t>12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С имеется 6 протонов и 6 нейтронов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3T18:43:43Z</dcterms:created>
  <dc:creator>Charly Root</dc:creator>
  <dc:description/>
  <dc:language>en-US</dc:language>
  <cp:lastModifiedBy>LEGION</cp:lastModifiedBy>
  <dcterms:modified xsi:type="dcterms:W3CDTF">2015-05-01T09:31:30Z</dcterms:modified>
  <cp:revision>28</cp:revision>
  <dc:subject/>
  <dc:title>Слайд 1</dc:title>
</cp:coreProperties>
</file>