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778D-0D00-4BBC-92E8-E390956AF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4845-4386-410F-9AB4-8B0B056165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F06C-E915-44EC-9360-B50915496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B84C-081D-4E01-8A33-DF1E5902D4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75E1-04A1-4E73-B365-08EDC22E5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E686-8DE2-4B8A-B81F-BFDAFA859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2B7C-47A4-4F7D-8C6D-469A1895F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60DB-111B-4651-873C-B217FEB19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19CB-2A3F-4B63-AA7F-067979D98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D38D-08C0-4996-84E0-3278C32CA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59D2-D81D-4981-97E5-480E11160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B63E-12F6-4375-8D34-8804FB82D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A4F0-482B-4234-BC9D-4CE228E699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6716-2814-4E02-81CB-0CD2A164D1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411C-372E-43CE-87C9-2EC9598D3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D80F-9CF2-49C4-BC86-3CAC22547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86CE-F3EF-4267-AE78-135B73AD3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323E-5A06-46A6-9465-920BCAC12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12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7B91-97FA-43BF-9529-A4477F716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3521-2215-4207-884D-8451FB383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9357-8CCF-486C-8A7E-8E560D2C3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0323-C2FC-4F70-B811-64010B153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2F91-A36D-4509-BA42-5FA03FEE0F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4B0-E784-4036-B7A6-F6A27CC6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493-01AB-4E26-89C6-AEECF6D5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198-2DD8-47AC-AC40-A194ECDC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0AB-3362-4D5B-8BAC-D7CC409D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0839-B54E-4927-BD24-B14BC108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E0D6-A85A-4F95-B489-CED5E4BC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4B1E-930C-4210-BC32-83283A83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6426-40BC-4A5F-BB19-318A981D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70C3-D7E1-443F-B125-7899BEE9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10CC-0EAB-4251-B08B-10B0DF33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E9C8-C64C-48AF-BEC8-E7A5AE2D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B1C-B616-43E9-8B72-A21861BD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3AE5-CC6F-4BB3-9756-F83198F3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79E5-7CAA-413B-ABC9-22F47D1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550E-80D1-4133-9FAA-ED1772DD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30AC-5F9D-41D0-B811-A6C0DFC2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C5BE-2625-4184-935D-0AAE759E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06C-4EDD-4C7F-BD60-5EBA4FA3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B2C-43DF-427A-A67B-12DF6FDA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DBE-8CAD-4889-9AAE-D492334A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8BF-ADF5-450D-AB3E-00E76307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9C0-E35F-4B85-A524-99D02200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FF2-D06A-424C-8052-8F59195A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4A7-48EC-4706-AF14-D5876D37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8966-A67B-4A21-A98C-1B2AA9A8C9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9249-7A04-4A00-BF86-F520884711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6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 flipH="1">
            <a:off x="6000840" y="1785960"/>
            <a:ext cx="1440" cy="71280"/>
          </a:xfrm>
          <a:prstGeom prst="line">
            <a:avLst/>
          </a:prstGeom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 flipH="1">
            <a:off x="4071960" y="2357280"/>
            <a:ext cx="1440" cy="7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24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44136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295280" cy="126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295280" cy="1268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3040200"/>
        </p:xfrm>
        <a:graphic>
          <a:graphicData uri="http://schemas.openxmlformats.org/drawingml/2006/table">
            <a:tbl>
              <a:tblPr/>
              <a:tblGrid>
                <a:gridCol w="3543480"/>
                <a:gridCol w="714240"/>
                <a:gridCol w="1000080"/>
                <a:gridCol w="1214280"/>
                <a:gridCol w="175752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энергетического уровн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ое число электронов на данном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8:43:43Z</dcterms:created>
  <dc:creator>Charly Root</dc:creator>
  <dc:description/>
  <dc:language>en-US</dc:language>
  <cp:lastModifiedBy>LEGION</cp:lastModifiedBy>
  <dcterms:modified xsi:type="dcterms:W3CDTF">2015-05-01T09:31:30Z</dcterms:modified>
  <cp:revision>28</cp:revision>
  <dc:subject/>
  <dc:title>Слайд 1</dc:title>
</cp:coreProperties>
</file>